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597-5434-4C9B-B331-085336551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510E-C2B7-4EFE-90DE-443C0419C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7B6-8AA9-4AFC-975B-E067362D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446-9429-43F4-BC8A-91DB91D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BBC-D3E3-4FD9-B897-33EBE18E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C10-21DB-498D-9B05-95E13CCA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B58F-9068-4753-9807-0C88EE5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6A2-4497-435D-B756-A413A876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AB71-0609-4257-BCD4-D94F992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24E9-86F3-47A4-B85F-EB35E8A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E371-3E5D-47D9-A84A-9A3B8A8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D8F-EDF0-43BE-AD53-C5150043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460-A962-48D3-9DC7-9104357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8A1-2F7E-45A2-9E18-A4A00CA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9CC9-CC6F-48AF-8ED5-ED0854C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8E7D-FF09-43A2-8FF2-FC79644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2646-3F28-4A87-8330-DDEF2EF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A69-3A62-449A-855A-0D630D91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A40-DB64-446D-BAA8-D103978D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3FDC6-3E87-4674-81E0-5AA990CC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E788F-A282-4CFA-80F0-6D38B55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755A0-A192-4C63-AE2B-8AE80D3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7823E-1650-406D-8450-13BB37FF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93B88-E8CD-40CC-B573-75266B96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F34-ED9D-427A-8964-EDD0AEC2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53D29-B66A-46D1-BF41-2CEFA5E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A4633-6845-470B-8190-751C795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ACF76-E99B-413F-9D18-F9DD8C9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18901-D834-4424-8C07-36BFDBB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8752-B84B-416C-99BB-A39D425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F438B-6974-47C2-86AD-8845C26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18AB3-24A2-4A36-BF6B-2988AE30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59776-C0E8-4C3F-AE6F-C5E1AC0A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C19B-6431-48CC-82C5-5301AC7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6215-459A-4E70-B5F1-D40CE080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99-4D0A-43BB-859B-C657372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A1AC-24B5-46BC-B379-C8ACED57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55CD-C416-49F4-902F-619C3002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6D0D-8A56-42A1-B551-47E5045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D217-41BD-4A37-A250-85BDBE0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CC5C-5FE3-4EB7-8145-DDE5442D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4767-1107-48AF-806F-F3BF80E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626B-18FC-41F0-88A1-36C59CFB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6C45-1558-4711-815E-D80F40BC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46B1-77F5-462C-84B4-5CAE26AE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67D3F-7EC6-4222-9579-9122D59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50D-847C-4F3E-A94B-7FEA590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DA6D5-BF98-41EA-80AA-3122A5F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FC7B-BCE4-442D-8F8D-DD28D00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FAC95-7A9E-4450-B00F-383CE490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31116-A2AC-488E-8D0C-57BD76E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FB357-01A2-4A36-8DA4-15F10C4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F9068-18E3-468D-B7C2-8E3DD76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5A535-F386-403A-B6C8-FB7BEFD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F78DB-2341-4440-9909-CC05FC0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36484-8A16-46F1-801C-99F2DFC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698FB-7B8B-4F87-A0C9-A33E879B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B41-1B2D-4BCB-9E64-8C0B6276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359E0-A06E-45F1-B115-E735930D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D1AA3-8C6B-4017-8123-F4804E55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53605-E42F-4BB1-B0A4-0E7E51F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66B02-16B6-400D-8919-B88168A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9F91E-E5C1-4B2F-B994-2688D66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8DBCF-2344-4325-AC02-799613D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83B93-7595-4433-851E-E2318B2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EF9B6-57B6-49A9-BF57-E3349EF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18FD8-803C-4B44-8F88-A683F6E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BA0BA-D051-4135-9F5B-A96FE90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102-64D4-498B-B430-9159849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36B5D-FB03-4BDB-A408-5C19F36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A7A19-02CA-4EB4-92BC-E4A23C4E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6B75D-00D0-48EB-8CAD-65D55EBF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52590-3E06-42D7-A5CA-116A5D63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24B7F-0062-4FDB-9A39-1E1B796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A2F23-E20F-4B49-90AA-07D003BC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7722C-8B84-4CB5-BD74-0FAA0531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E38F3-C37F-4647-98B3-36E1586A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487A9-D193-438F-9F93-DBFE03ED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7EED6-22E4-409A-9207-5347FF0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439-EDFC-4122-938B-5FE648B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84380-64F7-43E4-BB35-9B35DF1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08460-C329-4F7E-A27A-D044D83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43805-6BDA-4AC5-8C44-BF2A95E2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1EEC4-22CD-4581-9060-E5546F8D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32FEF-9633-42BC-8841-75075057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7F3-676B-425C-B974-11C5352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5E9-B525-4DD1-947A-6E5BE45A71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C3BA-8AD3-4A4D-9306-16DE770A61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787-32BE-4718-B581-3B3F579641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996-3FA0-4839-946B-86C0500212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FBD-6E10-45F8-A588-77AEAE2B56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E4C3-1E2D-4385-B432-FA31BC4C41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864-8085-470B-89F4-FC41B9DF6E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93840" y="1133640"/>
            <a:ext cx="6334200" cy="190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786360" y="5643720"/>
            <a:ext cx="167148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ИЗОТЕРМИЧЕСКИ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6760" y="4571640"/>
            <a:ext cx="74725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газа данной массы произведение давления газа на его объем постоянно, если температура газа не меняе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785880" y="2357280"/>
                <a:ext cx="2000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Прямоугольник 5"/>
          <p:cNvSpPr/>
          <p:nvPr/>
        </p:nvSpPr>
        <p:spPr>
          <a:xfrm>
            <a:off x="2857680" y="271476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Уравнение состояния идеального газ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571680" y="3571920"/>
                <a:ext cx="3071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Прямоугольник 7"/>
          <p:cNvSpPr/>
          <p:nvPr/>
        </p:nvSpPr>
        <p:spPr>
          <a:xfrm>
            <a:off x="3786120" y="3786120"/>
            <a:ext cx="27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Бойля-Мариот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714240" y="142884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Процесс изменения состояния термодинамической системы при постоянном температуре  называют изотермически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он экспериментально получен 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662 г. Р. Бой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676 г. Э. Мариотт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5214960" y="2714760"/>
            <a:ext cx="2500200" cy="3187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0" name="Прямоугольник 4"/>
          <p:cNvSpPr/>
          <p:nvPr/>
        </p:nvSpPr>
        <p:spPr>
          <a:xfrm>
            <a:off x="5883120" y="61437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 Бойл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ИЗОТЕРМИЧЕСКИ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D:\!BACKUP\Валюшка\!Сайты\Картинки для презентации\izotermicheskii_process.gif"/>
          <p:cNvPicPr/>
          <p:nvPr/>
        </p:nvPicPr>
        <p:blipFill>
          <a:blip r:embed="rId1"/>
          <a:stretch/>
        </p:blipFill>
        <p:spPr>
          <a:xfrm>
            <a:off x="214200" y="1857240"/>
            <a:ext cx="8220240" cy="33577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642960" y="571500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График уравнения изотермического процесса называет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изотерм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6259f"/>
                </a:solidFill>
                <a:latin typeface="Century Schoolbook"/>
              </a:rPr>
              <a:t>ИЗОХОРНЫЙ ПРОЦЕСС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400" y="121428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Процесс изменения состояния термодинамической системы при постоянном объеме называют изохорны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000080" y="2286000"/>
                <a:ext cx="1643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Прямоугольник 5"/>
          <p:cNvSpPr/>
          <p:nvPr/>
        </p:nvSpPr>
        <p:spPr>
          <a:xfrm>
            <a:off x="3133080" y="25718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Шар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7 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429160" y="3357720"/>
            <a:ext cx="2428920" cy="28875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9" name="Прямоугольник 7"/>
          <p:cNvSpPr/>
          <p:nvPr/>
        </p:nvSpPr>
        <p:spPr>
          <a:xfrm>
            <a:off x="357120" y="43578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ля газа данной массы газа отношение  давления газа к температуре величина постоянная, если объём газа не меняет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ИЗОХОРНЫЙ ПРОЦЕ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7686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фик уравнения изохор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охор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C:\Documents and Settings\Людмила\Рабочий стол\Безымянный.bmp"/>
          <p:cNvPicPr/>
          <p:nvPr/>
        </p:nvPicPr>
        <p:blipFill>
          <a:blip r:embed="rId1"/>
          <a:stretch/>
        </p:blipFill>
        <p:spPr>
          <a:xfrm>
            <a:off x="357120" y="2571840"/>
            <a:ext cx="8209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b566"/>
                </a:solidFill>
                <a:latin typeface="Century Schoolbook"/>
              </a:rPr>
              <a:t>ИЗОБАРНЫЙ ПРОЦЕСС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35684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Процесс изменения состояния термодинамической системы при постоянном давлении называют изобарны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1285920" y="2214720"/>
                <a:ext cx="1571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Прямоугольник 4"/>
          <p:cNvSpPr/>
          <p:nvPr/>
        </p:nvSpPr>
        <p:spPr>
          <a:xfrm>
            <a:off x="3100320" y="25002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Закон Гей-Люсса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2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5857920" y="3143160"/>
            <a:ext cx="2357280" cy="28180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88" name="Прямоугольник 6"/>
          <p:cNvSpPr/>
          <p:nvPr/>
        </p:nvSpPr>
        <p:spPr>
          <a:xfrm>
            <a:off x="714240" y="378612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газа данной массы отношение объема к температуре постоянно, если давление газа не меняетс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00b050"/>
                </a:solidFill>
                <a:latin typeface="Century Schoolbook"/>
              </a:rPr>
              <a:t>ИЗОБАРНЫЙ ПРОЦЕ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8400" y="1356840"/>
            <a:ext cx="79009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фик уравнения изобар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обар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3" descr="C:\Documents and Settings\Людмила\Рабочий стол\hg.bmp"/>
          <p:cNvPicPr/>
          <p:nvPr/>
        </p:nvPicPr>
        <p:blipFill>
          <a:blip r:embed="rId1"/>
          <a:stretch/>
        </p:blipFill>
        <p:spPr>
          <a:xfrm>
            <a:off x="428760" y="2571840"/>
            <a:ext cx="8199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5:11:57Z</dcterms:created>
  <dc:creator>Евдокимова Людмила</dc:creator>
  <dc:description/>
  <dc:language>en-US</dc:language>
  <cp:lastModifiedBy>Евдокимова Людмила</cp:lastModifiedBy>
  <dcterms:modified xsi:type="dcterms:W3CDTF">2013-01-16T16:26:53Z</dcterms:modified>
  <cp:revision>8</cp:revision>
  <dc:subject/>
  <dc:title> Изопроцессы в газах</dc:title>
</cp:coreProperties>
</file>