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C67-4D6F-4F57-B6A4-70BE6A1098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1451-D538-43BF-85FB-4DD74F22B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601-0D1B-42BA-BDE0-1C78F551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685-50FD-4EEF-97FD-31B83750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6A2-36E4-4D9E-994D-354FD5C1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AEA-2750-4816-A286-77FCD928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31B0-AC09-4C8B-8EF4-0DEF18DD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CDA6-0644-446C-9410-229B2DD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1909-9866-41B0-ACC1-B3A9BE9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25A6-FA8B-468E-BFE6-81F1F405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C1D-A6A1-46D5-994B-AA9A1484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1148-2F0A-464B-BB84-55505AE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0B6-FDEA-49F2-904D-92A9137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389-82FE-4DE9-9FC8-2D7714BD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09C9-7B7F-49AA-80BA-8BD8A10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85D1-01A8-490C-B23C-2281246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703-42B4-4B5A-9C49-181A84F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61C8-8D99-4DEB-92AC-35DBABA0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A2F-89F4-4362-A326-1C0873C3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2B99-4C78-4EB3-8763-1896AFC0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D2D95-3AA7-4407-924D-B6225E11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3961A-8067-4BE4-998D-2C4CB9E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FE565-68F6-4523-A58A-B77C5C48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D545F-AF5C-4795-92C4-D1EC069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D0D-16A4-4DCA-8C33-D04FA596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80B02-570E-4B02-95B2-9BFBDC57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13258-E9A6-4868-8AE7-1C97402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17D7F-120B-4173-8532-36A9E05F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A68D1-31DD-4285-9347-1BC7A33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8453-01F5-4D7D-A296-162C986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8F11D-7735-4DF1-84F9-9CAB8F40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11867-5D4E-4B3C-B048-14416C30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2053-D37B-4440-B2E7-E6DB6552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2039-D2FA-4BDC-AFEA-26BCC99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5A20-ABE6-4A13-820D-22557B3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9B4-F937-488B-831D-9BBA7E59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A500-2059-4894-9574-9979C6A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773B-8674-4673-934D-62DBB34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CA46-722F-4F7D-89F7-D49A86A0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6AF6-030E-48D8-94C6-AFC89EE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C09B-4E40-4CE7-B4FD-E448DDD7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5C55-7BF6-418C-A1E1-EA731AF0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B1FBA-2664-4590-B48B-C60B366D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416D-0D25-47BA-AC01-8667278B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434F-0395-48A5-99C6-397427E0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C616C-CEE8-4E6E-94F9-C5AB4AE7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0C9-5477-4686-B29D-D9477EFC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1FF28-A5D8-4260-B355-36D504F9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20B1B-01B0-45EB-9EDD-B918191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67284-3D28-42D5-BE7F-F00DD33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1C94D-917F-41AF-B06B-3007D11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AC316-920F-4553-A43D-569A145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C3B91-EF74-4535-A556-0CF9EF7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D955-E4F9-4583-A1BD-17EFE5C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C2410-4446-4361-8654-6A7B8E6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F44EC-C5C1-4D2F-A85C-A52DE00A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60A69-B4DB-4A85-9EDF-17A31E3B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6B2-0657-4866-9807-34537812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FB8DF-1BA0-4D7D-99AC-1FFF7590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F201E-9BAB-424C-9BDE-38AEB0E0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A404F-607D-477F-A6D9-DC40581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A8C81-BE44-4FF5-BAB3-917978B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6F8D8-BDF9-4D1F-9E8A-1367CB59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B1AFB-6039-460D-8B61-386CA1F8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60479-409C-450C-9A69-7524390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3CA61-E4DC-4078-92F9-35BDE0B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4695A-E152-4342-9695-D1B80EC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B7DE0-3EF1-434D-98EC-782DD8C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AEF-6C00-4A95-B93B-B21FE93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937DE-1837-4FD5-8840-E046B101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AC3C7-9C8A-4623-AAB2-6E449839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C08B0-8470-4E21-A2E7-68C8F077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A950F-0781-4752-8A94-CC6FDD82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0CF0A-BE2F-4530-9298-67570AA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B7D95-C36B-4DEE-92F6-0D1A468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45E09-9632-41E5-9E32-103BBCE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9FB9F-C3AF-44C9-A752-1509AB91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E05FC-9B05-4416-B1C0-7C5B777C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6E5B1-355A-440C-BE84-4CFC2F3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CF5-76F7-49DF-8C30-AD8AC00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1D575-A7BC-4AE6-947E-147F40E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FCA07-FD4F-4F13-AAD3-312E94F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5FAAA-856F-48A0-8691-CEDA9B2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079AE-AC4A-498A-AF70-C9149ED6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0BC42-3A8A-4B26-9650-47DA7C03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8A0-9D6A-47AE-AFAC-8E0DD87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58B-E4CF-4A61-8F07-390CE48AD2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1801-E834-4F69-9CDF-0E3D6D11D3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B57-194E-4326-8C40-CDECBA5CA2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ECD1-19F1-4A55-B7F4-CF4089F6FD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FF7B-24A8-4616-BB59-CDFE8571D0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AEC5-2208-4922-8E32-A1197C13F9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4D3-1657-447A-9C62-374FC3EED6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93840" y="1133640"/>
            <a:ext cx="6334200" cy="190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786360" y="5643720"/>
            <a:ext cx="167148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ИЗОТЕРМИЧЕСКИ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6760" y="4571640"/>
            <a:ext cx="74725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газа данной массы произведение давления газа на его объем постоянно, если температура газа не меняе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785880" y="2357280"/>
                <a:ext cx="2000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Прямоугольник 5"/>
          <p:cNvSpPr/>
          <p:nvPr/>
        </p:nvSpPr>
        <p:spPr>
          <a:xfrm>
            <a:off x="2857680" y="271476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Уравнение состояния идеального газ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571680" y="3571920"/>
                <a:ext cx="3071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Прямоугольник 7"/>
          <p:cNvSpPr/>
          <p:nvPr/>
        </p:nvSpPr>
        <p:spPr>
          <a:xfrm>
            <a:off x="3786120" y="3786120"/>
            <a:ext cx="27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Бойля-Мариот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714240" y="142884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Процесс изменения состояния термодинамической системы при постоянном температуре  называют изотермически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он экспериментально получен 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662 г. Р. Бой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676 г. Э. Мариотт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5214960" y="2714760"/>
            <a:ext cx="2500200" cy="3187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0" name="Прямоугольник 4"/>
          <p:cNvSpPr/>
          <p:nvPr/>
        </p:nvSpPr>
        <p:spPr>
          <a:xfrm>
            <a:off x="5883120" y="61437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 Бойл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ИЗОТЕРМИЧЕСКИ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D:\!BACKUP\Валюшка\!Сайты\Картинки для презентации\izotermicheskii_process.gif"/>
          <p:cNvPicPr/>
          <p:nvPr/>
        </p:nvPicPr>
        <p:blipFill>
          <a:blip r:embed="rId1"/>
          <a:stretch/>
        </p:blipFill>
        <p:spPr>
          <a:xfrm>
            <a:off x="214200" y="1857240"/>
            <a:ext cx="8220240" cy="33577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642960" y="571500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График уравнения изотермического процесса называет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изотерм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6259f"/>
                </a:solidFill>
                <a:latin typeface="Century Schoolbook"/>
              </a:rPr>
              <a:t>ИЗОХОРНЫЙ ПРОЦЕСС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400" y="121428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Процесс изменения состояния термодинамической системы при постоянном объеме называют изохорны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000080" y="2286000"/>
                <a:ext cx="1643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Прямоугольник 5"/>
          <p:cNvSpPr/>
          <p:nvPr/>
        </p:nvSpPr>
        <p:spPr>
          <a:xfrm>
            <a:off x="3133080" y="25718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Шар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7 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429160" y="3357720"/>
            <a:ext cx="2428920" cy="28875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9" name="Прямоугольник 7"/>
          <p:cNvSpPr/>
          <p:nvPr/>
        </p:nvSpPr>
        <p:spPr>
          <a:xfrm>
            <a:off x="357120" y="43578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ля газа данной массы газа отношение  давления газа к температуре величина постоянная, если объём газа не меняет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ИЗОХОРНЫЙ ПРОЦЕ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7686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фик уравнения изохор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охор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C:\Documents and Settings\Людмила\Рабочий стол\Безымянный.bmp"/>
          <p:cNvPicPr/>
          <p:nvPr/>
        </p:nvPicPr>
        <p:blipFill>
          <a:blip r:embed="rId1"/>
          <a:stretch/>
        </p:blipFill>
        <p:spPr>
          <a:xfrm>
            <a:off x="357120" y="2571840"/>
            <a:ext cx="8209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b566"/>
                </a:solidFill>
                <a:latin typeface="Century Schoolbook"/>
              </a:rPr>
              <a:t>ИЗОБАРНЫ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35684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Процесс изменения состояния термодинамической системы при постоянном давлении называют изобарны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1285920" y="2214720"/>
                <a:ext cx="1571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Прямоугольник 4"/>
          <p:cNvSpPr/>
          <p:nvPr/>
        </p:nvSpPr>
        <p:spPr>
          <a:xfrm>
            <a:off x="3100320" y="25002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Гей-Люсса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2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5857920" y="3143160"/>
            <a:ext cx="2357280" cy="28180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88" name="Прямоугольник 6"/>
          <p:cNvSpPr/>
          <p:nvPr/>
        </p:nvSpPr>
        <p:spPr>
          <a:xfrm>
            <a:off x="714240" y="378612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газа данной массы отношение объема к температуре постоянно, если давление газа не меняетс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00b050"/>
                </a:solidFill>
                <a:latin typeface="Century Schoolbook"/>
              </a:rPr>
              <a:t>ИЗОБАРНЫЙ ПРОЦЕ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8400" y="1356840"/>
            <a:ext cx="79009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фик уравнения изобар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обар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3" descr="C:\Documents and Settings\Людмила\Рабочий стол\hg.bmp"/>
          <p:cNvPicPr/>
          <p:nvPr/>
        </p:nvPicPr>
        <p:blipFill>
          <a:blip r:embed="rId1"/>
          <a:stretch/>
        </p:blipFill>
        <p:spPr>
          <a:xfrm>
            <a:off x="428760" y="2571840"/>
            <a:ext cx="8199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5:11:57Z</dcterms:created>
  <dc:creator>Евдокимова Людмила</dc:creator>
  <dc:description/>
  <dc:language>en-US</dc:language>
  <cp:lastModifiedBy>Евдокимова Людмила</cp:lastModifiedBy>
  <dcterms:modified xsi:type="dcterms:W3CDTF">2013-01-16T16:26:53Z</dcterms:modified>
  <cp:revision>8</cp:revision>
  <dc:subject/>
  <dc:title> Изопроцессы в газах</dc:title>
</cp:coreProperties>
</file>