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8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00D-1604-4592-ADF5-DC3307D5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83D-3474-4E47-8856-B0B8E332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9EB-0ACC-4EA8-8238-C99502FE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170-18B4-43FB-BE60-64777A4A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F87-3786-4644-96BD-EFAFB366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EB2-A31B-4AD3-B951-6E60F423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089-E468-4D93-9A70-A2ABCDBF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8B0-D3CC-4723-B220-E67BB36D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BCD-29C3-4ADC-81C7-7B4CEAF4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5F7-2345-4839-8136-FB65FB2E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AAD-18C8-42C9-82D7-DDE89B4A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6F7-9F44-4EA9-837F-23A5DA19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D9E4-BC34-4149-9AB0-E90FE3F6E5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ила трения.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Трение в природе и техник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{855A69FD-20A3-4C06-B70B-E3CDF23F6E00}"/>
          <p:cNvPicPr/>
          <p:nvPr/>
        </p:nvPicPr>
        <p:blipFill>
          <a:blip r:embed="rId1"/>
          <a:stretch/>
        </p:blipFill>
        <p:spPr>
          <a:xfrm>
            <a:off x="1692360" y="1989000"/>
            <a:ext cx="640872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змерение силы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187280" y="6021360"/>
            <a:ext cx="64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мотрим на видеозаписи, как это дел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Измерение силы трения.mpg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329440" cy="3997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пыты Леонардо да Вин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3280" y="1773000"/>
            <a:ext cx="576108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ёных издавна интересовало, от чего зависит сила трения. Леонардо да Винчи в 1500 году исследовал зависимость силы трения от материала, из которого изготовлены тела, от величины нагрузки на эти тела, от степени гладкости или шероховатости их поверхнос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l_204"/>
          <p:cNvPicPr/>
          <p:nvPr/>
        </p:nvPicPr>
        <p:blipFill>
          <a:blip r:embed="rId1"/>
          <a:stretch/>
        </p:blipFill>
        <p:spPr>
          <a:xfrm>
            <a:off x="468360" y="1844640"/>
            <a:ext cx="288612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равнение сил трения скольжения, качения и веса тел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9280" y="5618520"/>
            <a:ext cx="88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&gt;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тр. пок &gt;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тр. ск &gt;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тр. ка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41"/>
          <p:cNvPicPr/>
          <p:nvPr/>
        </p:nvPicPr>
        <p:blipFill>
          <a:blip r:embed="rId1"/>
          <a:stretch/>
        </p:blipFill>
        <p:spPr>
          <a:xfrm>
            <a:off x="1692360" y="1844640"/>
            <a:ext cx="5472000" cy="3562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зучение зависимости силы трения скольжения от рода трущихся поверхнос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32360" y="2349360"/>
            <a:ext cx="396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ила трения зависит от свойств соприкасающихся тел (от рода поверхносте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42"/>
          <p:cNvPicPr/>
          <p:nvPr/>
        </p:nvPicPr>
        <p:blipFill>
          <a:blip r:embed="rId1"/>
          <a:stretch/>
        </p:blipFill>
        <p:spPr>
          <a:xfrm>
            <a:off x="755640" y="2349360"/>
            <a:ext cx="4032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зучение зависимости силы трения скольжения от давления и независимости от площади трущихся поверхнос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324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ила трения зависит от силы давления и не зависит от площадей трущихся поверхнос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43"/>
          <p:cNvPicPr/>
          <p:nvPr/>
        </p:nvPicPr>
        <p:blipFill>
          <a:blip r:embed="rId1"/>
          <a:stretch/>
        </p:blipFill>
        <p:spPr>
          <a:xfrm>
            <a:off x="4068720" y="2781360"/>
            <a:ext cx="3816360" cy="317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6372360" y="2060640"/>
            <a:ext cx="165564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060640"/>
            <a:ext cx="151308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рение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лезно или вредно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26920" y="198900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ил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72360" y="1989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лаб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1547640" y="1628640"/>
            <a:ext cx="144000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5867280" y="1628640"/>
            <a:ext cx="144144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4360" y="3284640"/>
            <a:ext cx="2879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ить шероховат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ить нагруз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003640" y="2852640"/>
            <a:ext cx="388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аз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шипники: шариковые и роликов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душная под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оль силы трения при ходьб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864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тсутствии трения покоя ни люди, ни животные не могли бы ходить по зем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pol_vredn"/>
          <p:cNvPicPr/>
          <p:nvPr/>
        </p:nvPicPr>
        <p:blipFill>
          <a:blip r:embed="rId1"/>
          <a:stretch/>
        </p:blipFill>
        <p:spPr>
          <a:xfrm>
            <a:off x="4356000" y="1916280"/>
            <a:ext cx="388800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вижение по скользкой поверх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916280"/>
            <a:ext cx="3610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одить по льду нелегко, т.к. трение, возникающее между поверхностью льда и подошвой обуви, ма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ак можно облегчить хождение по скользкой поверхно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321080" cy="402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аз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40000" y="198108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наличии смазки соприкасаются не сами поверхности тел, а ее соседние слои. Трение между слоями жидкости слабее, чем между твердыми поверхност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Res" descr="resA004AAAC-925D-47C8-B8A1-998399C22D9B"/>
          <p:cNvPicPr/>
          <p:nvPr/>
        </p:nvPicPr>
        <p:blipFill>
          <a:blip r:embed="rId1"/>
          <a:srcRect l="15118" t="0" r="7559" b="0"/>
          <a:stretch/>
        </p:blipFill>
        <p:spPr>
          <a:xfrm>
            <a:off x="324000" y="1628640"/>
            <a:ext cx="33112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шип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4720" y="1980720"/>
            <a:ext cx="44020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утреннее кольцо подшипника насаживают на вал, который при вращении не скользит, а катится на шариках или ролик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Res" descr="resBB484AC2-1991-4A93-A221-03523F58AD7F"/>
          <p:cNvPicPr/>
          <p:nvPr/>
        </p:nvPicPr>
        <p:blipFill>
          <a:blip r:embed="rId1"/>
          <a:stretch/>
        </p:blipFill>
        <p:spPr>
          <a:xfrm>
            <a:off x="324000" y="3933720"/>
            <a:ext cx="3382920" cy="2706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Res" descr="res76FD9522-0216-497E-8871-7954DABEE93E"/>
          <p:cNvPicPr/>
          <p:nvPr/>
        </p:nvPicPr>
        <p:blipFill>
          <a:blip r:embed="rId2"/>
          <a:stretch/>
        </p:blipFill>
        <p:spPr>
          <a:xfrm>
            <a:off x="611280" y="1557360"/>
            <a:ext cx="2808360" cy="2246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Явление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9780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действие, возникающее в месте соприкосновения тел и препятствующее их относительному движению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трение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а характеризующую это взаимодействие силу –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илой тр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{076151A0-4225-43CA-9CD8-EE6DE999C966}"/>
          <p:cNvPicPr/>
          <p:nvPr/>
        </p:nvPicPr>
        <p:blipFill>
          <a:blip r:embed="rId1"/>
          <a:stretch/>
        </p:blipFill>
        <p:spPr>
          <a:xfrm>
            <a:off x="4716360" y="3060720"/>
            <a:ext cx="4103640" cy="2239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здушная подуш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7280" y="1981080"/>
            <a:ext cx="46195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душная подушка – область повышенного давления воздуха между основанием машины и опорной поверхностью, которая препятствует их непосредственному контак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V3583i"/>
          <p:cNvPicPr/>
          <p:nvPr/>
        </p:nvPicPr>
        <p:blipFill>
          <a:blip r:embed="rId1"/>
          <a:stretch/>
        </p:blipFill>
        <p:spPr>
          <a:xfrm>
            <a:off x="971640" y="2205000"/>
            <a:ext cx="258768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84360" y="5734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рабль на воздушной подуш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Admin\Рабочий стол\579492133.gif"/>
          <p:cNvPicPr/>
          <p:nvPr/>
        </p:nvPicPr>
        <p:blipFill>
          <a:blip r:embed="rId1"/>
          <a:stretch/>
        </p:blipFill>
        <p:spPr>
          <a:xfrm>
            <a:off x="-181080" y="-171360"/>
            <a:ext cx="9649080" cy="68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ила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5364000" y="1773360"/>
            <a:ext cx="36212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ла, возникающая при движении одного тела по поверхности другого, приложения к движущемуся телу и направленная против движения, называется силой тр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9" descr="01"/>
          <p:cNvPicPr/>
          <p:nvPr/>
        </p:nvPicPr>
        <p:blipFill>
          <a:blip r:embed="rId1"/>
          <a:stretch/>
        </p:blipFill>
        <p:spPr>
          <a:xfrm>
            <a:off x="395280" y="2146320"/>
            <a:ext cx="4608360" cy="3370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6877080" y="2276640"/>
            <a:ext cx="1657440" cy="93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492360" y="2205000"/>
            <a:ext cx="208944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11280" y="2205000"/>
            <a:ext cx="136836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2205000"/>
            <a:ext cx="14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ко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348000" y="227664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коль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659640" y="220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11"/>
          <p:cNvSpPr/>
          <p:nvPr/>
        </p:nvSpPr>
        <p:spPr>
          <a:xfrm flipH="1">
            <a:off x="1186920" y="1484280"/>
            <a:ext cx="2808360" cy="64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427640" y="1484280"/>
            <a:ext cx="0" cy="72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4932360" y="1484280"/>
            <a:ext cx="2952720" cy="792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1"/>
          <a:srcRect l="14441" t="0" r="0" b="0"/>
          <a:stretch/>
        </p:blipFill>
        <p:spPr>
          <a:xfrm>
            <a:off x="179280" y="5157720"/>
            <a:ext cx="257976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2"/>
          <a:srcRect l="6589" t="0" r="0" b="0"/>
          <a:stretch/>
        </p:blipFill>
        <p:spPr>
          <a:xfrm>
            <a:off x="6156360" y="5157720"/>
            <a:ext cx="278928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3"/>
          <a:srcRect l="2630" t="0" r="2630" b="0"/>
          <a:stretch/>
        </p:blipFill>
        <p:spPr>
          <a:xfrm>
            <a:off x="3059280" y="5084640"/>
            <a:ext cx="2895480" cy="1354320"/>
          </a:xfrm>
          <a:prstGeom prst="rect">
            <a:avLst/>
          </a:prstGeom>
          <a:ln w="0">
            <a:noFill/>
          </a:ln>
        </p:spPr>
      </p:pic>
      <p:sp>
        <p:nvSpPr>
          <p:cNvPr id="62" name="Line 18"/>
          <p:cNvSpPr/>
          <p:nvPr/>
        </p:nvSpPr>
        <p:spPr>
          <a:xfrm>
            <a:off x="755640" y="6381720"/>
            <a:ext cx="720720" cy="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19" descr="4BC55034"/>
          <p:cNvPicPr/>
          <p:nvPr/>
        </p:nvPicPr>
        <p:blipFill>
          <a:blip r:embed="rId4"/>
          <a:srcRect l="0" t="24387" r="61258" b="53346"/>
          <a:stretch/>
        </p:blipFill>
        <p:spPr>
          <a:xfrm>
            <a:off x="3348000" y="3708360"/>
            <a:ext cx="2424240" cy="101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4BC55034"/>
          <p:cNvPicPr/>
          <p:nvPr/>
        </p:nvPicPr>
        <p:blipFill>
          <a:blip r:embed="rId5"/>
          <a:srcRect l="61258" t="24387" r="0" b="53346"/>
          <a:stretch/>
        </p:blipFill>
        <p:spPr>
          <a:xfrm>
            <a:off x="179280" y="3651120"/>
            <a:ext cx="2376720" cy="107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4BC55034"/>
          <p:cNvPicPr/>
          <p:nvPr/>
        </p:nvPicPr>
        <p:blipFill>
          <a:blip r:embed="rId6"/>
          <a:srcRect l="37697" t="22862" r="35341" b="53346"/>
          <a:stretch/>
        </p:blipFill>
        <p:spPr>
          <a:xfrm>
            <a:off x="6732720" y="3638520"/>
            <a:ext cx="2028600" cy="108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ение поко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41440" y="1936800"/>
            <a:ext cx="453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ла трения покоя препятствует относительному смещению соприкасающихся тел. Она растет вместе с силой, стремящейся сдвинуть тело с ме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5416560" y="1916280"/>
            <a:ext cx="268452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ение сколь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ла, возникающая при движении одного тела по поверхности другого и направленная в сторону, противоположную движению, называется силой трения сколь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{C83940E7-A174-497D-8D92-94B9A69FDAC5}"/>
          <p:cNvPicPr/>
          <p:nvPr/>
        </p:nvPicPr>
        <p:blipFill>
          <a:blip r:embed="rId1"/>
          <a:stretch/>
        </p:blipFill>
        <p:spPr>
          <a:xfrm>
            <a:off x="4427640" y="2637000"/>
            <a:ext cx="4356000" cy="24843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ение кач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{A7096625-E40B-422B-BBD5-706842603821}"/>
          <p:cNvPicPr/>
          <p:nvPr/>
        </p:nvPicPr>
        <p:blipFill>
          <a:blip r:embed="rId1"/>
          <a:stretch/>
        </p:blipFill>
        <p:spPr>
          <a:xfrm>
            <a:off x="684360" y="1773360"/>
            <a:ext cx="2860560" cy="431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067280" y="1773360"/>
            <a:ext cx="46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тело катится по поверхности другого тела, то возникающее в месте их контакта трение называют трением качения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bmp1c26_01_01_c"/>
          <p:cNvPicPr/>
          <p:nvPr/>
        </p:nvPicPr>
        <p:blipFill>
          <a:blip r:embed="rId2"/>
          <a:stretch/>
        </p:blipFill>
        <p:spPr>
          <a:xfrm>
            <a:off x="6659640" y="4363920"/>
            <a:ext cx="2241360" cy="2241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равнение силы трения скольжения и силы трения кач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31640" y="2133720"/>
            <a:ext cx="554364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одинаковых нагрузках сила трения качения значительно мен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2EE0A9F6"/>
          <p:cNvPicPr/>
          <p:nvPr/>
        </p:nvPicPr>
        <p:blipFill>
          <a:blip r:embed="rId1"/>
          <a:stretch/>
        </p:blipFill>
        <p:spPr>
          <a:xfrm>
            <a:off x="433440" y="2205000"/>
            <a:ext cx="2409840" cy="410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F74E0174"/>
          <p:cNvPicPr/>
          <p:nvPr/>
        </p:nvPicPr>
        <p:blipFill>
          <a:blip r:embed="rId2"/>
          <a:stretch/>
        </p:blipFill>
        <p:spPr>
          <a:xfrm>
            <a:off x="3564000" y="4092480"/>
            <a:ext cx="4608360" cy="2289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чины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3280" y="198108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Шероховатость поверхностей соприкасающихся т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Молекулярное притяжение, действующее в местах контакта трущихся т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5" descr="242B4A64"/>
          <p:cNvPicPr/>
          <p:nvPr/>
        </p:nvPicPr>
        <p:blipFill>
          <a:blip r:embed="rId1"/>
          <a:stretch/>
        </p:blipFill>
        <p:spPr>
          <a:xfrm>
            <a:off x="826920" y="2060640"/>
            <a:ext cx="2737080" cy="133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i?id=106602&amp;tov=5"/>
          <p:cNvPicPr/>
          <p:nvPr/>
        </p:nvPicPr>
        <p:blipFill>
          <a:blip r:embed="rId2"/>
          <a:stretch/>
        </p:blipFill>
        <p:spPr>
          <a:xfrm>
            <a:off x="1114560" y="3789360"/>
            <a:ext cx="2089080" cy="189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6:41:41Z</dcterms:created>
  <dc:creator>user</dc:creator>
  <dc:description/>
  <dc:language>en-US</dc:language>
  <cp:lastModifiedBy>User</cp:lastModifiedBy>
  <dcterms:modified xsi:type="dcterms:W3CDTF">2006-12-31T20:45:16Z</dcterms:modified>
  <cp:revision>56</cp:revision>
  <dc:subject/>
  <dc:title>Сила трения. Трение в природе и технике. </dc:title>
</cp:coreProperties>
</file>