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B76-4CEB-4B39-B568-630A2E1C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89C-7DD4-49DE-976B-16E8B92A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9F6-30B6-4D65-851E-A4B3F2C7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3B8-0D9C-4215-8C40-11B3370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262-24C1-4A7F-855C-8326972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C10-CC12-49BC-9D50-17351B1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851-A9B7-4427-AC0E-3C69D01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4AD-1F97-43C3-ACD5-7E35A36C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84F-85B6-4C7F-88ED-8C9A2E60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64E-0511-4A07-BAD2-92C01D8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509-ABEA-4363-9045-34FF6EB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550-560B-4353-888F-798FA66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ABC-5C5C-46CD-89D4-DC324FF0E3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ила трения.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рение в природе и техник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{855A69FD-20A3-4C06-B70B-E3CDF23F6E00}"/>
          <p:cNvPicPr/>
          <p:nvPr/>
        </p:nvPicPr>
        <p:blipFill>
          <a:blip r:embed="rId1"/>
          <a:stretch/>
        </p:blipFill>
        <p:spPr>
          <a:xfrm>
            <a:off x="1692360" y="1989000"/>
            <a:ext cx="64087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мерение сил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87280" y="602136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мотрим на видеозаписи, как это дел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Измерение силы трения.mpg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ыты Леонардо да Вин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3280" y="1773000"/>
            <a:ext cx="57610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ёных издавна интересовало, от чего зависит сила трения. Леонардо да Винчи в 1500 году исследовал зависимость силы трения от материала, из которого изготовлены тела, от величины нагрузки на эти тела, от степени гладкости или шероховатости их поверхн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l_204"/>
          <p:cNvPicPr/>
          <p:nvPr/>
        </p:nvPicPr>
        <p:blipFill>
          <a:blip r:embed="rId1"/>
          <a:stretch/>
        </p:blipFill>
        <p:spPr>
          <a:xfrm>
            <a:off x="468360" y="1844640"/>
            <a:ext cx="288612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ение сил трения скольжения, качения и веса тел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9280" y="5618520"/>
            <a:ext cx="88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по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с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ка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41"/>
          <p:cNvPicPr/>
          <p:nvPr/>
        </p:nvPicPr>
        <p:blipFill>
          <a:blip r:embed="rId1"/>
          <a:stretch/>
        </p:blipFill>
        <p:spPr>
          <a:xfrm>
            <a:off x="1692360" y="1844640"/>
            <a:ext cx="5472000" cy="3562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рода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32360" y="2349360"/>
            <a:ext cx="396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ила трения зависит от свойств соприкасающихся тел (от рода поверхносте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42"/>
          <p:cNvPicPr/>
          <p:nvPr/>
        </p:nvPicPr>
        <p:blipFill>
          <a:blip r:embed="rId1"/>
          <a:stretch/>
        </p:blipFill>
        <p:spPr>
          <a:xfrm>
            <a:off x="755640" y="2349360"/>
            <a:ext cx="4032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давления и независимости от площади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324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ила трения зависит от силы давления и не зависит от площадей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43"/>
          <p:cNvPicPr/>
          <p:nvPr/>
        </p:nvPicPr>
        <p:blipFill>
          <a:blip r:embed="rId1"/>
          <a:stretch/>
        </p:blipFill>
        <p:spPr>
          <a:xfrm>
            <a:off x="4068720" y="2781360"/>
            <a:ext cx="3816360" cy="317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6372360" y="2060640"/>
            <a:ext cx="16556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060640"/>
            <a:ext cx="1513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рение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лезно или вредно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6920" y="198900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ил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72360" y="1989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лаб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1547640" y="1628640"/>
            <a:ext cx="1440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867280" y="1628640"/>
            <a:ext cx="14414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4360" y="3284640"/>
            <a:ext cx="287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ить шероховат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ить нагруз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003640" y="2852640"/>
            <a:ext cx="388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шипники: шариковые и ролик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душная по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оль силы трения при ходьб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8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тсутствии трения покоя ни люди, ни животные не могли бы ходить по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pol_vredn"/>
          <p:cNvPicPr/>
          <p:nvPr/>
        </p:nvPicPr>
        <p:blipFill>
          <a:blip r:embed="rId1"/>
          <a:stretch/>
        </p:blipFill>
        <p:spPr>
          <a:xfrm>
            <a:off x="4356000" y="1916280"/>
            <a:ext cx="38880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вижение по скользкой поверх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916280"/>
            <a:ext cx="3610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дить по льду нелегко, т.к. трение, возникающее между поверхностью льда и подошвой обуви, м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 можно облегчить хождение по скользкой поверхно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321080" cy="402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аз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40000" y="198108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наличии смазки соприкасаются не сами поверхности тел, а ее соседние слои. Трение между слоями жидкости слабее, чем между твердыми поверхност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Res" descr="resA004AAAC-925D-47C8-B8A1-998399C22D9B"/>
          <p:cNvPicPr/>
          <p:nvPr/>
        </p:nvPicPr>
        <p:blipFill>
          <a:blip r:embed="rId1"/>
          <a:srcRect l="15118" t="0" r="7559" b="0"/>
          <a:stretch/>
        </p:blipFill>
        <p:spPr>
          <a:xfrm>
            <a:off x="324000" y="1628640"/>
            <a:ext cx="33112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шип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4020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кольцо подшипника насаживают на вал, который при вращении не скользит, а катится на шариках или роли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Res" descr="resBB484AC2-1991-4A93-A221-03523F58AD7F"/>
          <p:cNvPicPr/>
          <p:nvPr/>
        </p:nvPicPr>
        <p:blipFill>
          <a:blip r:embed="rId1"/>
          <a:stretch/>
        </p:blipFill>
        <p:spPr>
          <a:xfrm>
            <a:off x="324000" y="3933720"/>
            <a:ext cx="3382920" cy="270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Res" descr="res76FD9522-0216-497E-8871-7954DABEE93E"/>
          <p:cNvPicPr/>
          <p:nvPr/>
        </p:nvPicPr>
        <p:blipFill>
          <a:blip r:embed="rId2"/>
          <a:stretch/>
        </p:blipFill>
        <p:spPr>
          <a:xfrm>
            <a:off x="611280" y="155736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Явление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9780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действие, возникающее в месте соприкосновения тел и препятствующее их относительному движению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рени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 характеризующую это взаимодействие силу –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илой тр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{076151A0-4225-43CA-9CD8-EE6DE999C966}"/>
          <p:cNvPicPr/>
          <p:nvPr/>
        </p:nvPicPr>
        <p:blipFill>
          <a:blip r:embed="rId1"/>
          <a:stretch/>
        </p:blipFill>
        <p:spPr>
          <a:xfrm>
            <a:off x="4716360" y="3060720"/>
            <a:ext cx="410364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здушная подуш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7280" y="1981080"/>
            <a:ext cx="46195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душная подушка – область повышенного давления воздуха между основанием машины и опорной поверхностью, которая препятствует их непосредственному контак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V3583i"/>
          <p:cNvPicPr/>
          <p:nvPr/>
        </p:nvPicPr>
        <p:blipFill>
          <a:blip r:embed="rId1"/>
          <a:stretch/>
        </p:blipFill>
        <p:spPr>
          <a:xfrm>
            <a:off x="971640" y="2205000"/>
            <a:ext cx="258768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84360" y="5734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рабль на воздушной подуш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Admin\Рабочий стол\579492133.gif"/>
          <p:cNvPicPr/>
          <p:nvPr/>
        </p:nvPicPr>
        <p:blipFill>
          <a:blip r:embed="rId1"/>
          <a:stretch/>
        </p:blipFill>
        <p:spPr>
          <a:xfrm>
            <a:off x="-181080" y="-171360"/>
            <a:ext cx="964908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ла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364000" y="1773360"/>
            <a:ext cx="3621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, приложения к движущемуся телу и направленная против движения, называется силой т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9" descr="01"/>
          <p:cNvPicPr/>
          <p:nvPr/>
        </p:nvPicPr>
        <p:blipFill>
          <a:blip r:embed="rId1"/>
          <a:stretch/>
        </p:blipFill>
        <p:spPr>
          <a:xfrm>
            <a:off x="395280" y="2146320"/>
            <a:ext cx="4608360" cy="3370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6877080" y="2276640"/>
            <a:ext cx="165744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492360" y="2205000"/>
            <a:ext cx="208944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11280" y="2205000"/>
            <a:ext cx="136836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22050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о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348000" y="227664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оль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59640" y="220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1186920" y="1484280"/>
            <a:ext cx="2808360" cy="64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427640" y="148428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932360" y="1484280"/>
            <a:ext cx="295272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1"/>
          <a:srcRect l="14441" t="0" r="0" b="0"/>
          <a:stretch/>
        </p:blipFill>
        <p:spPr>
          <a:xfrm>
            <a:off x="179280" y="5157720"/>
            <a:ext cx="257976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2"/>
          <a:srcRect l="6589" t="0" r="0" b="0"/>
          <a:stretch/>
        </p:blipFill>
        <p:spPr>
          <a:xfrm>
            <a:off x="6156360" y="5157720"/>
            <a:ext cx="278928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3"/>
          <a:srcRect l="2630" t="0" r="2630" b="0"/>
          <a:stretch/>
        </p:blipFill>
        <p:spPr>
          <a:xfrm>
            <a:off x="3059280" y="5084640"/>
            <a:ext cx="2895480" cy="1354320"/>
          </a:xfrm>
          <a:prstGeom prst="rect">
            <a:avLst/>
          </a:prstGeom>
          <a:ln w="0">
            <a:noFill/>
          </a:ln>
        </p:spPr>
      </p:pic>
      <p:sp>
        <p:nvSpPr>
          <p:cNvPr id="62" name="Line 18"/>
          <p:cNvSpPr/>
          <p:nvPr/>
        </p:nvSpPr>
        <p:spPr>
          <a:xfrm>
            <a:off x="755640" y="638172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19" descr="4BC55034"/>
          <p:cNvPicPr/>
          <p:nvPr/>
        </p:nvPicPr>
        <p:blipFill>
          <a:blip r:embed="rId4"/>
          <a:srcRect l="0" t="24387" r="61258" b="53346"/>
          <a:stretch/>
        </p:blipFill>
        <p:spPr>
          <a:xfrm>
            <a:off x="3348000" y="3708360"/>
            <a:ext cx="2424240" cy="101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4BC55034"/>
          <p:cNvPicPr/>
          <p:nvPr/>
        </p:nvPicPr>
        <p:blipFill>
          <a:blip r:embed="rId5"/>
          <a:srcRect l="61258" t="24387" r="0" b="53346"/>
          <a:stretch/>
        </p:blipFill>
        <p:spPr>
          <a:xfrm>
            <a:off x="179280" y="3651120"/>
            <a:ext cx="2376720" cy="10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4BC55034"/>
          <p:cNvPicPr/>
          <p:nvPr/>
        </p:nvPicPr>
        <p:blipFill>
          <a:blip r:embed="rId6"/>
          <a:srcRect l="37697" t="22862" r="35341" b="53346"/>
          <a:stretch/>
        </p:blipFill>
        <p:spPr>
          <a:xfrm>
            <a:off x="6732720" y="3638520"/>
            <a:ext cx="202860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поко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41440" y="1936800"/>
            <a:ext cx="45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 трения покоя препятствует относительному смещению соприкасающихся тел. Она растет вместе с силой, стремящейся сдвинуть тело с м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416560" y="1916280"/>
            <a:ext cx="268452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сколь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 и направленная в сторону, противоположную движению, называется силой трения сколь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{C83940E7-A174-497D-8D92-94B9A69FDAC5}"/>
          <p:cNvPicPr/>
          <p:nvPr/>
        </p:nvPicPr>
        <p:blipFill>
          <a:blip r:embed="rId1"/>
          <a:stretch/>
        </p:blipFill>
        <p:spPr>
          <a:xfrm>
            <a:off x="4427640" y="2637000"/>
            <a:ext cx="435600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ка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{A7096625-E40B-422B-BBD5-706842603821}"/>
          <p:cNvPicPr/>
          <p:nvPr/>
        </p:nvPicPr>
        <p:blipFill>
          <a:blip r:embed="rId1"/>
          <a:stretch/>
        </p:blipFill>
        <p:spPr>
          <a:xfrm>
            <a:off x="684360" y="1773360"/>
            <a:ext cx="2860560" cy="431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067280" y="177336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тело катится по поверхности другого тела, то возникающее в месте их контакта трение называют трением кач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bmp1c26_01_01_c"/>
          <p:cNvPicPr/>
          <p:nvPr/>
        </p:nvPicPr>
        <p:blipFill>
          <a:blip r:embed="rId2"/>
          <a:stretch/>
        </p:blipFill>
        <p:spPr>
          <a:xfrm>
            <a:off x="6659640" y="4363920"/>
            <a:ext cx="2241360" cy="2241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ение силы трения скольжения и силы трения кач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31640" y="2133720"/>
            <a:ext cx="55436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одинаковых нагрузках сила трения качения значительно мен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2EE0A9F6"/>
          <p:cNvPicPr/>
          <p:nvPr/>
        </p:nvPicPr>
        <p:blipFill>
          <a:blip r:embed="rId1"/>
          <a:stretch/>
        </p:blipFill>
        <p:spPr>
          <a:xfrm>
            <a:off x="433440" y="2205000"/>
            <a:ext cx="2409840" cy="41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74E0174"/>
          <p:cNvPicPr/>
          <p:nvPr/>
        </p:nvPicPr>
        <p:blipFill>
          <a:blip r:embed="rId2"/>
          <a:stretch/>
        </p:blipFill>
        <p:spPr>
          <a:xfrm>
            <a:off x="3564000" y="4092480"/>
            <a:ext cx="460836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чин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Шероховатость поверхностей соприкасающихся т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Молекулярное притяжение, действующее в местах контакта трущихся т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242B4A64"/>
          <p:cNvPicPr/>
          <p:nvPr/>
        </p:nvPicPr>
        <p:blipFill>
          <a:blip r:embed="rId1"/>
          <a:stretch/>
        </p:blipFill>
        <p:spPr>
          <a:xfrm>
            <a:off x="826920" y="2060640"/>
            <a:ext cx="2737080" cy="133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?id=106602&amp;tov=5"/>
          <p:cNvPicPr/>
          <p:nvPr/>
        </p:nvPicPr>
        <p:blipFill>
          <a:blip r:embed="rId2"/>
          <a:stretch/>
        </p:blipFill>
        <p:spPr>
          <a:xfrm>
            <a:off x="1114560" y="3789360"/>
            <a:ext cx="2089080" cy="189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6:41:41Z</dcterms:created>
  <dc:creator>user</dc:creator>
  <dc:description/>
  <dc:language>en-US</dc:language>
  <cp:lastModifiedBy>User</cp:lastModifiedBy>
  <dcterms:modified xsi:type="dcterms:W3CDTF">2006-12-31T20:45:16Z</dcterms:modified>
  <cp:revision>56</cp:revision>
  <dc:subject/>
  <dc:title>Сила трения. Трение в природе и технике. </dc:title>
</cp:coreProperties>
</file>