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png" ContentType="image/png"/>
  <Override PartName="/ppt/media/image10.jpeg" ContentType="image/jpeg"/>
  <Override PartName="/ppt/media/image8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.jpeg" ContentType="image/jpeg"/>
  <Override PartName="/ppt/media/image2.jpeg" ContentType="image/jpeg"/>
  <Override PartName="/ppt/media/image9.jpeg" ContentType="image/jpeg"/>
  <Override PartName="/ppt/media/image14.jpeg" ContentType="image/jpeg"/>
  <Override PartName="/ppt/media/image5.gif" ContentType="image/gif"/>
  <Override PartName="/ppt/media/image7.jpeg" ContentType="image/jpeg"/>
  <Override PartName="/ppt/media/image6.wmf" ContentType="image/x-wmf"/>
  <Override PartName="/ppt/media/image11.png" ContentType="image/pn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D07E-8FB5-4988-AE20-539BC3D411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EBB6-7F83-4546-A9BE-137FCCA802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1BEB-1613-46FB-8EEA-2EC2CEBC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112A-6146-491D-A6AE-3162F79B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B3F1-4456-407F-A14E-455C548CC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EABC-AB5B-4980-8696-2FD16E28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0C7B-DF57-47D5-802F-AF6FC29A0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858A-FE33-4979-8899-048D11B0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4057-3040-4052-8366-DDA7AF18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0F36-F778-4D3A-9EDB-25B51E0A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4EB9-077F-499D-A5D7-FF145534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99D8-5F3F-48E1-9FED-4A576C5A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F2E0-3C7D-4059-AAF3-01EAFE5C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05AF-4DDC-457F-8EC3-29AEE655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C909-F6E8-44AF-9888-484FBAB9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B8A1-CD73-4330-82A6-7C46B7B7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E271-657F-49DB-8BE5-9C1A70CD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49C0-F51E-4815-9145-A5DE53781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41D1-73BF-4AE6-89EC-7D450E97B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76F36-9BB8-4B92-B28F-98E7C7F5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E2331-EEB1-4827-BECC-607FBE8B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F0D23-25F6-4660-B7AA-CEA2F49E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32B7A-9207-4237-AC15-5A706A79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3DEFE-4119-4BE2-9D6C-CC8C7030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3B81-5199-469B-840F-D8077150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51528-15A8-4C64-9236-310E48C3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EA8F8-C280-4935-A261-80E0E8F3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5A7A9-F456-4496-8720-E3E4FDCA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4EC7C-5644-4792-AFA0-4D196547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37F61-5802-4572-B028-6A0C50E8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F2EBE-EACE-4F4E-90F4-35A18234E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BEBDD-B0A3-4947-B400-47EFE2519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39CE-CC40-4C7F-9A84-75C859B6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D2A1-F451-43B4-84EF-81E26B08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3EE7-48FA-43C2-AC4D-98CF1BD7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B75A-F95A-41CE-9F2F-8384FA2A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DCD4-7EF9-4B40-9958-5EEB76E0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0AC1-3F90-40D2-ACF5-06396DEE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98D9-AC87-43E3-A852-CF47D2D6D0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A367-CF05-4DE2-9FF4-6C70B1474A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B5AF-86F1-4EF8-8D3A-A6DA40AFD7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4920" y="1905120"/>
            <a:ext cx="72392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ектная работа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КАК ИЗМЕРЯЛИ НА РУСИ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19520" y="3276720"/>
            <a:ext cx="594360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: ученик 5 класса МБОУ «Бик-Утеевская ООШ Буинского района Р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йруллин Дан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6095880" y="160200"/>
            <a:ext cx="2862360" cy="24004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рши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аршин = 1/3 сажени = 4 четверти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вершков = 28 дюймов = 0,7112 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шин упоминается в литературных источниках с середины XVI века. Происхождение наименования "Аршин" точно не установлено. Обычно его производят от наименования турецкой меры длины «аршин» (27,9 дюйма = 70,9 см), или от персидского «арши» — мера длины. На аршин обычно наносили деления в верш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рш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1400" y="13716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Вопро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то так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шинни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?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лочной торговец (тканями)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Что эт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шинничать?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ниматься торговлею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Что означает выражен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рить на свой аршин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удить о ком-либо, чем-либо со своей личной точки зр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ть на свой вкус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Что означает выражен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рить общим аршином»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ассматривать кого-либо, что-либо как обычное явл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о кого говоря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 аршин проглотил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ак говорят о человеке, который держится неестествен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, «по струнке»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474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- средняя длина человеческого шага, 71 с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ились сведения об использовании шага для определения расстояния между городами  в Древней Греции, Древнем Риме, Египте, Персии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ерили шаг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ами отмерялось расстояние, на которое должны были сходиться противники во время дуэ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с расстояния в 10 шагов на Черной речке под Петербургом 27 января 1837 г. на дуэли Дантес стрелял в А.С. Пушкина и ранил его смертель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J0076129"/>
          <p:cNvPicPr/>
          <p:nvPr/>
        </p:nvPicPr>
        <p:blipFill>
          <a:blip r:embed="rId1"/>
          <a:stretch/>
        </p:blipFill>
        <p:spPr>
          <a:xfrm>
            <a:off x="6629400" y="380880"/>
            <a:ext cx="188280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яд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14400" y="137124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дь – расстояние между концами вытянутых большого и указательного пальц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пядь = 18 - 19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а также «большая пядь» — расстояние между кончиком большого и среднего пальцев. Кроме того, использовался так называемый «пядень с кувырком» («пядь с кутыркой») — пядь с прибавкой двух или трё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тавов указательного паль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6324480" y="4576680"/>
            <a:ext cx="207324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яд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дь в качестве народной меры употреблялась очень долго, ею измеряли, например, иконы или толщину снежного покрова ещё в XVII ве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Что означае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емь пядей во лбу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изнак рослости, совершеннолетия)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Что означае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и пяди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и отдать, ни взять, ни уступить даже самой малой части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http://mentemirova.my1.ru/imej/dlina.jpg"/>
          <p:cNvPicPr/>
          <p:nvPr/>
        </p:nvPicPr>
        <p:blipFill>
          <a:blip r:embed="rId1"/>
          <a:stretch/>
        </p:blipFill>
        <p:spPr>
          <a:xfrm>
            <a:off x="5146560" y="-685800"/>
            <a:ext cx="38102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ttp://kolizej.at.ua/_fr/3/3048668.png"/>
          <p:cNvPicPr/>
          <p:nvPr/>
        </p:nvPicPr>
        <p:blipFill>
          <a:blip r:embed="rId1"/>
          <a:stretch/>
        </p:blipFill>
        <p:spPr>
          <a:xfrm>
            <a:off x="6553080" y="284040"/>
            <a:ext cx="4773600" cy="3305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оть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600200"/>
            <a:ext cx="83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оть – расстояние от локтевого сгиба  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а вытянутого среднего  паль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локоть = 46 - 47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 Это интерес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 известна официальная новгородская мера — иванский локоть. Фрагмент натуральной меры был найден в Великом Новгороде во время археологических работ в 1955 году. Это был стержень из можжевельника с круглым сечением и ровно обрезанными концами. Характерно, что его поверхность была заполирована до блеска в результате долгого употреб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шо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52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шо́к -  длина основной фаланги указательного паль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ершок = 1⁄48 сажени = 1⁄16 аршина = 1⁄4 пя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,75 дюйма = 4,445 см= 44,45 мм = 1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 Интересные фа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мпьютерной технике, есть размер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е проще измерять вершками, нежели дюйм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5 дюйма = 2 вершка, 5,25 дюйма = 3 вершка. Юнит (современная единица ширины и высоты корпусов электронного оборудования) в точности равен русскому вершку. Для наглядного сравнения: стандартные размеры дискет: 3,5 и 5,25 дюйма — равны 2 и 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юнитам соответств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 rot="4395600">
            <a:off x="7109640" y="1726200"/>
            <a:ext cx="144756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3160" y="304920"/>
            <a:ext cx="830556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Вопро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 каком человеке можно сказат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т горшка два вершка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вершка – это около девяти сантиметров: 4,45 ∙ 2 = 8,9 см. Людей такого роста не бывает. В чем же разгадка? Дело в том, что при указании роста человека раньше счет велся после двух аршин, то есть после 142,24 сантиметров. Значит, от горшка два вершка – это чуть больше полутора метров: 142,24 + 8,9 = 151,14 (см)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ой рост у Герасима из «Му-Му» И.С. Тургенев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…дворник Герасим, мужчина двенадцати вершков роста…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еревести 12 вершков в метры, то мы получим примерно полметра. В данном случае речь идёт именно о двенадцати вершках сверх двух аршин — то есть примерно                 196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я   -     ширина пшеничного зерна, примерно 2,54 мм. Эта мера использовалась для измерения диаметра горловины в стеклянной части лампы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й единицей обозначают и калибр, т.е. диаметр канала в стволе огнестрельного оружия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Вопрос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уда пришло название "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линейная винтовка»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ьший диаметр пули, снаряда выражается в           линиях  или в миллиметрах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юда название для винтовки калибра 7,62 м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,54 х 3=7,62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6629400" y="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нные меры длины можно встретить в произведениях русских поэтов и писа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52280" y="2438280"/>
            <a:ext cx="9144000" cy="37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лушь и снег.... На встречу м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с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оса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адаются одне...» А.С.Пушкин,  «Зимняя   дорог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 игрушечку-конь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ом только в тр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ш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пине с двумя горб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ши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ыми ушами», П.П.Ершов ,«Конек горбунок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: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кольных учебниках, литературных произведениях,  в обыденной жизни часто встречаются слова, обозначающие единицы измерения Древней Руси,  но я не знаю значения этих слов, поэтому не всегда правильно понимаю смысл прочитан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676160" y="5280120"/>
            <a:ext cx="60195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нные меры длины можно встретить в произведениях русских поэтов и писа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мом Россию не поня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ши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 общим не измерить» — Ф. И. Тютче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ына Бог им дал в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ши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— А. С. Пушкин, «Сказка о царе Салтане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ебе ж шитья пойде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ши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где деньги, Зин?»   В. С. Высоцкий, «Диалог у телевизора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, самоварники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шинни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жаловаться?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 В. Гоголь, «Ревизор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нные меры длины можно встретить в произведениях русских поэтов и писа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з числа всей её челяди самым замечательным лицом был дворник Герасим, мужчина двенадцат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шк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оста, сложенный богатырём…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 С. Тургенев «Муму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Этот младший сын, мужчи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шк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венадцати и силы непомерной…»   Ф. М. Достоевск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ратья Карамазовы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овицы и погово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а (ростом) в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ую сажен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чи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ая сажень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плечах косая сажень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утру с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жен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полдень 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ден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к вечеру через поле хватает (тень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рст до небес и все лес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с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росла (как Коломенская верст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ем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с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иселя хлеб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от дела на недельку, а оно от тебя 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жен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ть 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жен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квозь земл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дка разгадка да сем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с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купец на сво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ши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ри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й, будт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шин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лоти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д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 лб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 с ноготок, а борода с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ото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горшка дв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ш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уже указч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но к полену -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жен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743200" y="1752120"/>
            <a:ext cx="6019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ожно смело сказать, что пользоваться старинными  мерами длины было  бы весьма и весьма неудобно. Но в процессе работы узнавал много нового о старинных мерах длины, расширил свой кругозор, научился работать с интернет сайтами: из огромного количества материала отбирал важное и необходимое для своего проек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а и 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6668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лковый словарь русского языка С.И.Ожег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варь юного математика. – М.: Педагогика, 1985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http://1september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http:/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kiped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219320" y="-360"/>
            <a:ext cx="914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http://hranive.ru/wp-content/uploads/2012/10/0_81e20_c39f430d_XL.jpeg"/>
          <p:cNvPicPr/>
          <p:nvPr/>
        </p:nvPicPr>
        <p:blipFill>
          <a:blip r:embed="rId1"/>
          <a:stretch/>
        </p:blipFill>
        <p:spPr>
          <a:xfrm>
            <a:off x="2790720" y="-152280"/>
            <a:ext cx="6353280" cy="7010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http://hranive.ru/wp-content/uploads/2012/10/0_81e20_c39f430d_XL.jpeg"/>
          <p:cNvPicPr/>
          <p:nvPr/>
        </p:nvPicPr>
        <p:blipFill>
          <a:blip r:embed="rId2"/>
          <a:stretch/>
        </p:blipFill>
        <p:spPr>
          <a:xfrm>
            <a:off x="2943360" y="0"/>
            <a:ext cx="635292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моих исследован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Собрать информац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Изучить собранный матери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Оформить собранный материал в виде   през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Использовать собранный материал  как справочный материал на занятиях по математики, истории, смежных дисциплин для расширения кругоз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мера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8960" y="1371240"/>
            <a:ext cx="7467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Единица измер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вадратные меры. Меры длины. Меры в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Граница, предел проявления чего–нибуд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Знать меру. Чувство меры. Без ме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очень)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верх ме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слишком)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мер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как раз)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какой мер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наскольк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Средство для осуществления чего–нибудь, мероприят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ры предосторожности. Решительные меры. Принять нужные м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Старая русская единица ёмкости сыпучих тел, а также сосуд для измерения 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ра ов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лковый словарь С.И. Ожег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j0254415"/>
          <p:cNvPicPr/>
          <p:nvPr/>
        </p:nvPicPr>
        <p:blipFill>
          <a:blip r:embed="rId1"/>
          <a:stretch/>
        </p:blipFill>
        <p:spPr>
          <a:xfrm>
            <a:off x="6095880" y="1935000"/>
            <a:ext cx="2057400" cy="259092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4"/>
          <p:cNvSpPr/>
          <p:nvPr/>
        </p:nvSpPr>
        <p:spPr>
          <a:xfrm>
            <a:off x="1523880" y="1676520"/>
            <a:ext cx="3886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ревности, мерой длины и веса всегда был человек: на сколько он протянет руку, сколько сможет поднять на плечи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1896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ерст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54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версты неоднократно менялась в зависимости 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а сажен, входивших в неё (от 500 до 750), и велич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жени. Были вёрсты: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в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ею измеряли рассто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ути) — и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ев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ею меряли земельные учас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J0160590"/>
          <p:cNvPicPr/>
          <p:nvPr/>
        </p:nvPicPr>
        <p:blipFill>
          <a:blip r:embed="rId1"/>
          <a:stretch/>
        </p:blipFill>
        <p:spPr>
          <a:xfrm>
            <a:off x="6248520" y="228600"/>
            <a:ext cx="2246040" cy="17524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152280" y="3657600"/>
            <a:ext cx="8686800" cy="2715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?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Что означает поговорка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 семь верст киселя хлебать»?       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хать, идти далеко без особой надоб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Что означает выражение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рить версты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одить на большое расстоя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Про кого говорят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ломенская верста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называют человека очень высокого роста, верзи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ломенская верста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895120" y="1447560"/>
            <a:ext cx="586764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дмосковном селе Коломенском находилась летняя резиденция царя Алексея Михайловича.   Дорога туда была оживленной, широкой и  считалась главной в государстве. А уж когда поставили огромные верстовые столбы, каких в России еще не бывало, слава этой дороги возросла еще бо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калистый народ не преминул воспользоваться новинкой и окрестил долговязого человека коломенской верст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до сих пор и величает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d31_3"/>
          <p:cNvPicPr/>
          <p:nvPr/>
        </p:nvPicPr>
        <p:blipFill>
          <a:blip r:embed="rId1"/>
          <a:stretch/>
        </p:blipFill>
        <p:spPr>
          <a:xfrm>
            <a:off x="609480" y="1676520"/>
            <a:ext cx="2238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ильяс\Documents\дист обучение\kPRrMzvFlHc.jpg"/>
          <p:cNvPicPr/>
          <p:nvPr/>
        </p:nvPicPr>
        <p:blipFill>
          <a:blip r:embed="rId1"/>
          <a:stretch/>
        </p:blipFill>
        <p:spPr>
          <a:xfrm>
            <a:off x="152280" y="2286000"/>
            <a:ext cx="8839440" cy="44956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ж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304920" y="990720"/>
            <a:ext cx="883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жень  первоначально означало расстояние от конца пальцев одной руки до конца пальцев другой. Само слово «сажень» происходит от глагола «сягать» (доставать до чего-либо, хватать, достигат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ревней Руси применялась не одна, а множество разных сажен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ж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ая сажен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стояние от подошвы левой ног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онца большого пальца вытянутой вверх правой р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ховая сажен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стояние  между кончиками пальце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инутых р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28600" y="3360600"/>
            <a:ext cx="4876920" cy="3141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?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кого говоря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плечах косая      сажень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человеке - богатыре, велика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C:\Users\ильяс\Documents\дист обучение\62bfee614f97.jpg"/>
          <p:cNvPicPr/>
          <p:nvPr/>
        </p:nvPicPr>
        <p:blipFill>
          <a:blip r:embed="rId2"/>
          <a:stretch/>
        </p:blipFill>
        <p:spPr>
          <a:xfrm>
            <a:off x="5715000" y="2971800"/>
            <a:ext cx="28209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ильяс</cp:lastModifiedBy>
  <dcterms:modified xsi:type="dcterms:W3CDTF">2013-03-17T16:33:07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