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6.wmf" ContentType="image/x-wmf"/>
  <Override PartName="/ppt/media/image11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1830-54D6-4D70-B8A6-50E1D4237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2E2C-4401-4D59-A585-B2F5FFF40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31F-CCDA-4206-991C-E1506A91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CC6-8976-4FC0-A034-0185F44E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1A0-0425-46F4-8A00-4C2E2F05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CAC-5D25-493C-A1E3-2C5A80BC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3EDD-4323-43CE-93ED-5E547FDB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BBE-E9AA-464F-B7C4-5E313A8E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F535-E21A-4281-86B8-D488B891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250B-2F43-42B0-8937-92635B8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6E8F-93CB-42A7-98B7-D82F2B14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A212-6970-43DD-BE6D-1C80D2DC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877B-39FF-4729-9687-414B838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EBC-F348-4644-BD96-6DFE87A3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9DA8-9D40-49CA-AE90-308B6AE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AFD-BB50-4378-A7DF-2DAA0CB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1DD0-9F62-4BB9-AE5D-252FA4C3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71C1-847D-4ADF-AC96-D112CD38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01B0-04BE-4127-AF92-8B2B6C76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1757-3519-4DC1-8965-57F01CDC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36C1-EFBF-4F6E-9368-BB9B16D3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129E-B847-4255-BA14-90D1CC2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3977-C9A8-4539-A979-65BFBD3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877D-4E15-4218-9E20-4789D611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DE9-9FE8-44F9-8CEB-F190A04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7050-FBEA-4EE3-BA1D-A9177156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8B27-64CB-4CB0-9639-B3D5804A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7E99-A1BA-4FB8-A542-1F6E0A0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0466-65ED-4322-A5BA-5C7F94F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1639-1401-4447-9D9D-DB58516E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1938-0A55-473C-BB48-A019C50D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C441-7E0C-4414-B59C-6D26708B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342-934B-4AD3-883A-316AFCBF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93E-343A-45FD-9BF6-B1F24FDF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BBA-E675-453C-9DA7-3421E2FF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215-E461-4D4D-875A-B3B69F8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D85-89C5-4ACF-A46B-DC6F881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A13-14B3-4A07-BB96-0814112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905-B77A-4B37-B26C-044BC1755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9A31-0CE2-46EF-BD04-AC01AC22D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7929-4284-41E0-91BF-47F12046D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90512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ная работ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К ИЗМЕРЯЛИ НА РУС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520" y="3276720"/>
            <a:ext cx="5943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ученик 5 класса МБОУ «Бик-Утеевская ООШ Буинского района Р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йруллин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095880" y="160200"/>
            <a:ext cx="2862360" cy="2400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ш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ршин = 1/3 сажени = 4 четверти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вершков = 28 дюймов = 0,7112 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 упоминается в литературных источниках с середины XVI века. Происхождение наименования "Аршин" точно не установлено. Обычно его производят от наименования турецкой меры длины «аршин» (27,9 дюйма = 70,9 см), или от персидского «арши» — мера длины. На аршин обычно наносили деления в вер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140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то так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лочной торговец (тканями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э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ничать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ниматься торговле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означает выраж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рить на свой аршин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дить о ком-либо, чем-либо со своей личной точки зр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 на свой вкус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то означает выраж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рить общим аршином»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сматривать кого-либо, что-либо как обычное я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 кого говоря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аршин проглотил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 говорят о человеке, который держится неесте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, «по струнке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474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- средняя длина человеческого шага, 71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лись сведения об использовании шага для определения расстояния между городами  в Древней Греции, Древнем Риме, Египте, Персии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ерили шаг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ами отмерялось расстояние, на которое должны были сходиться противники во время дуэ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с расстояния в 10 шагов на Черной речке под Петербургом 27 января 1837 г. на дуэли Дантес стрелял в А.С. Пушкина и ранил его смер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J0076129"/>
          <p:cNvPicPr/>
          <p:nvPr/>
        </p:nvPicPr>
        <p:blipFill>
          <a:blip r:embed="rId1"/>
          <a:stretch/>
        </p:blipFill>
        <p:spPr>
          <a:xfrm>
            <a:off x="6629400" y="380880"/>
            <a:ext cx="1882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д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4400" y="137124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ь – расстояние между концами вытянутых большого и указательного паль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ядь = 18 - 19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а также «большая пядь» — расстояние между кончиком большого и среднего пальцев. Кроме того, использовался так называемый «пядень с кувырком» («пядь с кутыркой») — пядь с прибавкой двух или трё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ов указательного па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0732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д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ь в качестве народной меры употреблялась очень долго, ею измеряли, например, иконы или толщину снежного покрова ещё в XVII 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означа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ь пядей во лбу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знак рослости, совершеннолетия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означа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 пяди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и отдать, ни взять, ни уступить даже самой малой части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://mentemirova.my1.ru/imej/dlina.jpg"/>
          <p:cNvPicPr/>
          <p:nvPr/>
        </p:nvPicPr>
        <p:blipFill>
          <a:blip r:embed="rId1"/>
          <a:stretch/>
        </p:blipFill>
        <p:spPr>
          <a:xfrm>
            <a:off x="5146560" y="-68580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kolizej.at.ua/_fr/3/3048668.png"/>
          <p:cNvPicPr/>
          <p:nvPr/>
        </p:nvPicPr>
        <p:blipFill>
          <a:blip r:embed="rId1"/>
          <a:stretch/>
        </p:blipFill>
        <p:spPr>
          <a:xfrm>
            <a:off x="6553080" y="284040"/>
            <a:ext cx="4773600" cy="3305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от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60020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оть – расстояние от локтевого сгиба 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а вытянутого среднего  па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окоть = 46 - 47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известна официальная новгородская мера — иванский локоть. Фрагмент натуральной меры был найден в Великом Новгороде во время археологических работ в 1955 году. Это был стержень из можжевельника с круглым сечением и ровно обрезанными концами. Характерно, что его поверхность была заполирована до блеска в результате долгого употреб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о́к -  длина основной фаланги указательного паль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ершок = 1⁄48 сажени = 1⁄16 аршина = 1⁄4 пя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75 дюйма = 4,445 см= 44,45 мм = 1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пьютерной технике, есть разме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проще измерять вершками, нежели дюйм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дюйма = 2 вершка, 5,25 дюйма = 3 вершка. Юнит (современная единица ширины и высоты корпусов электронного оборудования) в точности равен русскому вершку. Для наглядного сравнения: стандартные размеры дискет: 3,5 и 5,25 дюйма — равны 2 и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юнита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 rot="4395600">
            <a:off x="7109640" y="1726200"/>
            <a:ext cx="14475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160" y="304920"/>
            <a:ext cx="830556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каком человеке можно сказ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 горшка два верш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вершка – это около девяти сантиметров: 4,45 ∙ 2 = 8,9 см. Людей такого роста не бывает. В чем же разгадка? Дело в том, что при указании роста человека раньше счет велся после двух аршин, то есть после 142,24 сантиметров. Значит, от горшка два вершка – это чуть больше полутора метров: 142,24 + 8,9 = 151,14 (см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рост у Герасима из «Му-Му» И.С. Тургене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дворник Герасим, мужчина двенадцати вершков роста…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евести 12 вершков в метры, то мы получим примерно полметра. В данном случае речь идёт именно о двенадцати вершках сверх двух аршин — то есть примерно                 196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  -     ширина пшеничного зерна, примерно 2,54 мм. Эта мера использовалась для измерения диаметра горловины в стеклянной части ламп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единицей обозначают и калибр, т.е. диаметр канала в стволе огнестрельного оружи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Вопрос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пришло название "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линейная винтовка»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диаметр пули, снаряда выражается в           линиях  или в миллиметра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название для винтовки калибра 7,62 м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54 х 3=7,62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629400" y="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меры длины можно встретить в произведениях русских поэтов и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2280" y="2438280"/>
            <a:ext cx="91440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лушь и снег.... На встречу м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ос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ются одне...» А.С.Пушкин,  «Зимняя   дорог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 игрушечку-ко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ом только в тр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пине с двумя гор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ми ушами», П.П.Ершов ,«Конек горбун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ых учебниках, литературных произведениях,  в обыденной жизни часто встречаются слова, обозначающие единицы измерения Древней Руси,  но я не знаю значения этих слов, поэтому не всегда правильно понимаю смысл прочита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76160" y="5280120"/>
            <a:ext cx="601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меры длины можно встретить в произведениях русских поэтов и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ом Россию не пон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 общим не измерить» — Ф. И. Тютч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ына Бог им дал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— А. С. Пушкин, «Сказка о царе Салтан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бе ж шитья пойд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где деньги, Зин?»   В. С. Высоцкий, «Диалог у телевизор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, самоварники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н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жаловаться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В. Гоголь, «Ревизор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меры длины можно встретить в произведениях русских поэтов и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 числа всей её челяди самым замечательным лицом был дворник Герасим, мужчина двенадца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ста, сложенный богатырём…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С. Тургенев «Муму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от младший сын, мужч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енадцати и силы непомерной…»   Ф. М. Достое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атья Карамазов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а (ростом) 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ую 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я сажен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плечах косая саж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утру с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полдень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 вечеру через поле хватает (т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ст до небес и все лес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осла (как Коломенская верс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ем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селя хлеб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от дела на недельку, а оно от тебя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возь зем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 разгадка да сем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купец на св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, будт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лот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лб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с ноготок, а борода с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от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горшка дв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же указч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но к полену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743200" y="175212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жно смело сказать, что пользоваться старинными  мерами длины было  бы весьма и весьма неудобно. Но в процессе работы узнавал много нового о старинных мерах длины, расширил свой кругозор, научился работать с интернет сайтами: из огромного количества материала отбирал важное и необходимое для своего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ковый словарь русского языка С.И.Ожег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рь юного математика. – М.: Педагогика, 1985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1september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19320" y="-360"/>
            <a:ext cx="914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http://hranive.ru/wp-content/uploads/2012/10/0_81e20_c39f430d_XL.jpeg"/>
          <p:cNvPicPr/>
          <p:nvPr/>
        </p:nvPicPr>
        <p:blipFill>
          <a:blip r:embed="rId1"/>
          <a:stretch/>
        </p:blipFill>
        <p:spPr>
          <a:xfrm>
            <a:off x="2790720" y="-152280"/>
            <a:ext cx="6353280" cy="7010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hranive.ru/wp-content/uploads/2012/10/0_81e20_c39f430d_XL.jpeg"/>
          <p:cNvPicPr/>
          <p:nvPr/>
        </p:nvPicPr>
        <p:blipFill>
          <a:blip r:embed="rId2"/>
          <a:stretch/>
        </p:blipFill>
        <p:spPr>
          <a:xfrm>
            <a:off x="2943360" y="0"/>
            <a:ext cx="6352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моих исследов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обрать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зучить собранный матери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формить собранный материал в виде  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Использовать собранный материал  как справочный материал на занятиях по математики, истории, смежных дисциплин для расширения кругоз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мер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8960" y="1371240"/>
            <a:ext cx="746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диница изме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вадратные меры. Меры длины. Меры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Граница, предел проявления чего–нибу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нать меру. Чувство меры. Без м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чень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верх м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лишком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мер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ак раз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какой ме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аскольк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редство для осуществления чего–нибудь, мероприя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ы предосторожности. Решительные меры. Принять нуж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тарая русская единица ёмкости сыпучих тел, а также сосуд для измерения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а ов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лковый словарь С.И. Оже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j0254415"/>
          <p:cNvPicPr/>
          <p:nvPr/>
        </p:nvPicPr>
        <p:blipFill>
          <a:blip r:embed="rId1"/>
          <a:stretch/>
        </p:blipFill>
        <p:spPr>
          <a:xfrm>
            <a:off x="6095880" y="1935000"/>
            <a:ext cx="205740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523880" y="1676520"/>
            <a:ext cx="388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евности, мерой длины и веса всегда был человек: на сколько он протянет руку, сколько сможет поднять на плеч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18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ерс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4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версты неоднократно менялась в зависимости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сажен, входивших в неё (от 500 до 750), и вел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и. Были вёрсты: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ею измеряли рас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ути) — 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е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ею меряли земельные учас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J0160590"/>
          <p:cNvPicPr/>
          <p:nvPr/>
        </p:nvPicPr>
        <p:blipFill>
          <a:blip r:embed="rId1"/>
          <a:stretch/>
        </p:blipFill>
        <p:spPr>
          <a:xfrm>
            <a:off x="6248520" y="228600"/>
            <a:ext cx="2246040" cy="175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52280" y="3657600"/>
            <a:ext cx="8686800" cy="271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означает поговорка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 семь верст киселя хлебать»?       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, идти далеко без особой надоб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означает выраж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рить версты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одить на большое расстоя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ро кого говорят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оменская верст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зывают человека очень высокого роста, верз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оменская верста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95120" y="1447560"/>
            <a:ext cx="58676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московном селе Коломенском находилась летняя резиденция царя Алексея Михайловича.   Дорога туда была оживленной, широкой и  считалась главной в государстве. А уж когда поставили огромные верстовые столбы, каких в России еще не бывало, слава этой дороги возросла еще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калистый народ не преминул воспользоваться новинкой и окрестил долговязого человека коломенской верс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до сих пор и величает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31_3"/>
          <p:cNvPicPr/>
          <p:nvPr/>
        </p:nvPicPr>
        <p:blipFill>
          <a:blip r:embed="rId1"/>
          <a:stretch/>
        </p:blipFill>
        <p:spPr>
          <a:xfrm>
            <a:off x="609480" y="167652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ильяс\Documents\дист обучение\kPRrMzvFlHc.jpg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4495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04920" y="99072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жень  первоначально означало расстояние от конца пальцев одной руки до конца пальцев другой. Само слово «сажень» происходит от глагола «сягать» (доставать до чего-либо, хватать, достиг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ревней Руси применялась не одна, а множество разных сажен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я саж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от подошвы левой ног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большого пальца вытянутой вверх правой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овая саж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 между кончикам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тых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28600" y="3360600"/>
            <a:ext cx="4876920" cy="314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кого говоря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плечах косая      сажен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ловеке - богатыре, велик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ильяс\Documents\дист обучение\62bfee614f97.jpg"/>
          <p:cNvPicPr/>
          <p:nvPr/>
        </p:nvPicPr>
        <p:blipFill>
          <a:blip r:embed="rId2"/>
          <a:stretch/>
        </p:blipFill>
        <p:spPr>
          <a:xfrm>
            <a:off x="5715000" y="2971800"/>
            <a:ext cx="2820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ильяс</cp:lastModifiedBy>
  <dcterms:modified xsi:type="dcterms:W3CDTF">2013-03-17T16:33:0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