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13.png" ContentType="image/png"/>
  <Override PartName="/ppt/media/image22.png" ContentType="image/png"/>
  <Override PartName="/ppt/media/camera.wav" ContentType="audio/x-wav"/>
  <Override PartName="/ppt/media/image46.png" ContentType="image/png"/>
  <Override PartName="/ppt/media/image6.png" ContentType="image/png"/>
  <Override PartName="/ppt/media/image36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7.png" ContentType="image/png"/>
  <Override PartName="/ppt/media/image39.png" ContentType="image/png"/>
  <Override PartName="/ppt/media/image41.png" ContentType="image/png"/>
  <Override PartName="/ppt/media/image50.png" ContentType="image/png"/>
  <Override PartName="/ppt/media/image51.png" ContentType="image/png"/>
  <Override PartName="/ppt/media/image12.png" ContentType="image/png"/>
  <Override PartName="/ppt/media/image49.png" ContentType="image/png"/>
  <Override PartName="/ppt/media/image40.png" ContentType="image/png"/>
  <Override PartName="/ppt/media/image48.png" ContentType="image/png"/>
  <Override PartName="/ppt/media/image9.jpeg" ContentType="image/jpeg"/>
  <Override PartName="/ppt/media/image8.jpeg" ContentType="image/jpeg"/>
  <Override PartName="/ppt/media/image38.png" ContentType="image/png"/>
  <Override PartName="/ppt/media/image52.png" ContentType="image/png"/>
  <Override PartName="/ppt/media/image53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7.png" ContentType="image/png"/>
  <Override PartName="/ppt/media/image7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33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0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8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54B0-1842-4D5C-8ECF-996D5EC1A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E671-D029-406B-A4F0-84075FB9F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95C4-9C0F-4823-812F-16DA6FB45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FC3D-D706-41E6-917D-874B0047A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A3CF-8EE1-49E5-8C80-D20ECD7B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B2D7-342A-42A6-A769-36C9474D7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96B9-118D-4371-9FBB-B12A1A40B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222E-57D1-4F0B-ABB3-B100F960D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82CB-9C4B-4503-8DC3-834A03125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FB20-8A6F-478B-9D25-7DA5B56E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95FF-D96B-4BBB-B77A-F59381DF4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CD48-503F-4A8D-8174-5E2A29FC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0A39-748C-4F6C-92FB-98EA153B8C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4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5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11.jpe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80773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Arial Black"/>
              </a:rPr>
              <a:t>Урок 10</a:t>
            </a:r>
            <a:br>
              <a:rPr sz="9600"/>
            </a:b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819160"/>
            <a:ext cx="64008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ЧС геологического происхождения. Контрольное тестировани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 rot="5400000">
            <a:off x="-2705400" y="2933640"/>
            <a:ext cx="6629400" cy="1219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7 клас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ransition spd="med">
    <p:dissolve/>
    <p:sndAc>
      <p:stSnd>
        <p:snd r:embed="rId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720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Ла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епе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горячие газ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ары вод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бломки горных пор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400040" y="380880"/>
            <a:ext cx="6343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cc"/>
                  </a:solidFill>
                  <a:prstDash val="lgDash"/>
                  <a:miter/>
                </a:ln>
                <a:solidFill>
                  <a:srgbClr val="000000"/>
                </a:solidFill>
                <a:latin typeface="Arial Black"/>
              </a:rPr>
              <a:t>Поражающие факторы.</a:t>
            </a:r>
            <a:endParaRPr b="1" lang="en-US" sz="1800" spc="1" strike="noStrike">
              <a:ln w="9360">
                <a:solidFill>
                  <a:srgbClr val="ff33cc"/>
                </a:solidFill>
                <a:prstDash val="lgDash"/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97560" y="1676520"/>
            <a:ext cx="410832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2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276720" y="3200400"/>
            <a:ext cx="2590560" cy="9144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 Б П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-77760"/>
            <a:ext cx="2286000" cy="9169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щитить чувствительные прибо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43200" y="0"/>
            <a:ext cx="3962520" cy="36828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крыть резервуары с вод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6248520"/>
            <a:ext cx="4648320" cy="6426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ыходить и периодически сбрасывать пепел с крыш и деревь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86600" y="609480"/>
            <a:ext cx="2057400" cy="6426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правиться в укры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  <p:sndAc>
      <p:stSnd>
        <p:snd r:embed="rId2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52280" y="1905120"/>
            <a:ext cx="2971800" cy="642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дары движущихся горных м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248520" y="1600200"/>
            <a:ext cx="2743200" cy="11912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валивание или заливание горными массами того или иного простран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124080" y="3448080"/>
            <a:ext cx="3048120" cy="13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ражающие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акторы.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dissolve/>
    <p:sndAc>
      <p:stSnd>
        <p:snd r:embed="rId2" name="camera.wav"/>
      </p:stSnd>
    </p:sndAc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304920"/>
            <a:ext cx="78487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ействия при угрозе схода  лавины, обвала, оползня</a:t>
            </a:r>
            <a:endParaRPr b="1" lang="en-US" sz="28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05320" y="2743200"/>
            <a:ext cx="2057400" cy="7333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инести имущество со двора и балкона в до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5000" y="3765600"/>
            <a:ext cx="1143000" cy="7333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Закрыть окна, две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867280" y="2438280"/>
            <a:ext cx="3276720" cy="5202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Укрыть ценное имущество от влаг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62720" y="6400800"/>
            <a:ext cx="3581280" cy="5202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тключить газ, воду, электричество, погасить огонь в печ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76720" y="4952880"/>
            <a:ext cx="3429000" cy="5202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ынести из дома химически опасные веще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2819520"/>
            <a:ext cx="3048120" cy="3070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ослушать информац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057400" y="5334120"/>
            <a:ext cx="1219320" cy="5202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окинуть помещ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3627360"/>
            <a:ext cx="2895480" cy="11188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ействовать по обстановке и уходить в безопасное мес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  <p:sndAc>
      <p:stSnd>
        <p:snd r:embed="rId2" name="camera.wav"/>
      </p:stSnd>
    </p:sndAc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47840" y="571680"/>
            <a:ext cx="7858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Оползень            Обвал            Лавина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1600200"/>
            <a:ext cx="2666880" cy="4900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кользящее смещение масс горных пород вниз по склону под влиянием силы тяжести. Возникают вследствие подмыва склона, переувлажнения (особенно при наличии чередования водоупорных и водоносных пород), сейсмических толч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24480" y="1600200"/>
            <a:ext cx="2362320" cy="4626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асса снега, падающая или соскальзывающая с крутых склонов гор, аналогично обвалу. Скорость движения в среднем 20-30 м/с. Падение лавины сопровождается образованием воздушной волны, производящей наибольшие разруш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29000" y="1371600"/>
            <a:ext cx="2666880" cy="283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рыв и катастрофическое падение больших масс горных пород, их опрокидывание, дробление и скатывание на крутых и обрывистых склон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  <p:sndAc>
      <p:stSnd>
        <p:snd r:embed="rId1" name="camera.wav"/>
      </p:stSnd>
    </p:sndAc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57200" y="3276720"/>
            <a:ext cx="2666880" cy="642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ыстро покинуть зд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43600" y="3276720"/>
            <a:ext cx="2666880" cy="642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редвигаться по возможности ввер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5180040"/>
            <a:ext cx="3276720" cy="9169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ействовать по обстановке и уходить в безопасное ме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  <p:sndAc>
      <p:stSnd>
        <p:snd r:embed="rId2" name="camera.wav"/>
      </p:stSnd>
    </p:sndAc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600200"/>
            <a:ext cx="800100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естирова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med" advTm="65000">
    <p:dissolve/>
    <p:sndAc>
      <p:stSnd>
        <p:snd r:embed="rId1" name="camera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981080" y="271440"/>
            <a:ext cx="6553440" cy="1042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053000" y="2984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514600" y="1600200"/>
            <a:ext cx="6058080" cy="10605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2514600" y="2743200"/>
            <a:ext cx="6191280" cy="10224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2514600" y="4038480"/>
            <a:ext cx="6191280" cy="1208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2514600" y="5410080"/>
            <a:ext cx="6124680" cy="1143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449720" y="16765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3400" y="28195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49720" y="44956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49720" y="55627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5000">
    <p:dissolve/>
    <p:sndAc>
      <p:stSnd>
        <p:snd r:embed="rId6" name="camera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5000">
    <p:dissolve/>
    <p:sndAc>
      <p:stSnd>
        <p:snd r:embed="rId1" name="camera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981080" y="271440"/>
            <a:ext cx="6553440" cy="10429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053000" y="2984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514600" y="1600200"/>
            <a:ext cx="6058080" cy="10605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2514600" y="2743200"/>
            <a:ext cx="6191280" cy="10224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2514600" y="4038480"/>
            <a:ext cx="6191280" cy="12081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2514600" y="5410080"/>
            <a:ext cx="6124680" cy="1143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449720" y="16765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73400" y="28195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449720" y="44956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49720" y="55627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14600" y="2743200"/>
            <a:ext cx="6172200" cy="3809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5000">
    <p:dissolve/>
    <p:sndAc>
      <p:stSnd>
        <p:snd r:embed="rId6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762120" y="1600200"/>
            <a:ext cx="769608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дготовка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стированию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dissolve/>
    <p:sndAc>
      <p:stSnd>
        <p:snd r:embed="rId1" name="camera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020000" cy="9050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01160" cy="7700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57200" y="2590920"/>
            <a:ext cx="8248680" cy="9525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457200" y="3733920"/>
            <a:ext cx="8191440" cy="1476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457200" y="5410080"/>
            <a:ext cx="8210520" cy="9907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990720" y="1676520"/>
            <a:ext cx="18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2590920"/>
            <a:ext cx="46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-7560" y="38098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00" y="53341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00" y="169704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5000">
    <p:dissolve/>
    <p:sndAc>
      <p:stSnd>
        <p:snd r:embed="rId6" name="camera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5000">
    <p:dissolve/>
    <p:sndAc>
      <p:stSnd>
        <p:snd r:embed="rId1" name="camera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676520" y="380880"/>
            <a:ext cx="7019640" cy="9050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752480" y="1600200"/>
            <a:ext cx="6905880" cy="7700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1828800" y="2590920"/>
            <a:ext cx="6877080" cy="9525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1828800" y="3733920"/>
            <a:ext cx="6819840" cy="14763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1752480" y="5410080"/>
            <a:ext cx="6915240" cy="9907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053000" y="4507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1676520"/>
            <a:ext cx="18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219320" y="2514600"/>
            <a:ext cx="46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221120" y="38098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44800" y="53341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52480" y="5410080"/>
            <a:ext cx="6934320" cy="1067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52480" y="1600200"/>
            <a:ext cx="7010640" cy="19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5000">
    <p:dissolve/>
    <p:sndAc>
      <p:stSnd>
        <p:snd r:embed="rId6" name="camera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438280" y="304920"/>
            <a:ext cx="6257880" cy="10825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7476840" cy="8874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1219320" y="2819520"/>
            <a:ext cx="7429320" cy="927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1219320" y="3886200"/>
            <a:ext cx="7410240" cy="9097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1371600" y="5029200"/>
            <a:ext cx="7267680" cy="981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976680" y="2984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5320" y="160020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35320" y="28954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5320" y="39625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33520" y="5029200"/>
            <a:ext cx="45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5000">
    <p:dissolve/>
    <p:sndAc>
      <p:stSnd>
        <p:snd r:embed="rId6" name="camera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5000">
    <p:dissolve/>
    <p:sndAc>
      <p:stSnd>
        <p:snd r:embed="rId1" name="camera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438280" y="304920"/>
            <a:ext cx="6257880" cy="10825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7476840" cy="8874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1219320" y="2819520"/>
            <a:ext cx="7429320" cy="9270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1219320" y="3886200"/>
            <a:ext cx="7410240" cy="9097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371600" y="5029200"/>
            <a:ext cx="7267680" cy="9810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976680" y="2984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5320" y="160020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35320" y="28954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35320" y="39625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5029200"/>
            <a:ext cx="45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219320" y="2819520"/>
            <a:ext cx="7467480" cy="19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5000">
    <p:dissolve/>
    <p:sndAc>
      <p:stSnd>
        <p:snd r:embed="rId6" name="camera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144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1371600" y="1600200"/>
            <a:ext cx="7772400" cy="13273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1371600" y="3200400"/>
            <a:ext cx="7772400" cy="11192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1447920" y="4495680"/>
            <a:ext cx="7696080" cy="9129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5"/>
          <a:stretch/>
        </p:blipFill>
        <p:spPr>
          <a:xfrm>
            <a:off x="1371600" y="5562720"/>
            <a:ext cx="7772400" cy="1062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595800" y="19749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5320" y="342900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95800" y="44895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1640" y="55627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5000">
    <p:dissolve/>
    <p:sndAc>
      <p:stSnd>
        <p:snd r:embed="rId6" name="camera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5000">
    <p:dissolve/>
    <p:sndAc>
      <p:stSnd>
        <p:snd r:embed="rId1" name="camera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14144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4191120" y="1600200"/>
            <a:ext cx="4467240" cy="13273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4600440" cy="11192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4114800" y="4495680"/>
            <a:ext cx="4581360" cy="9129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4267080" y="5562720"/>
            <a:ext cx="4467240" cy="10620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59000" y="5335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95800" y="19749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35320" y="342900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95800" y="44895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11640" y="55627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962520" y="1600200"/>
            <a:ext cx="4724280" cy="2743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038480" y="5562720"/>
            <a:ext cx="464832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5000">
    <p:dissolve/>
    <p:sndAc>
      <p:stSnd>
        <p:snd r:embed="rId6" name="camera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ичиной землетрясений может стат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троительство очистных сооружений в зонах тектонических разлом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олновые колебания в скальных породах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двиг в скальных породах земной коры, разлом, вдоль которого один скальный массив с огромной силой трется о другой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5000">
    <p:dissolve/>
    <p:sndAc>
      <p:stSnd>
        <p:snd r:embed="rId1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6176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 rot="21473400">
            <a:off x="531720" y="-10800"/>
            <a:ext cx="86108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Меры по уменьшению потерь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от землетрясен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spd="med">
    <p:dissolve/>
    <p:sndAc>
      <p:stSnd>
        <p:snd r:embed="rId2" name="camera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5000">
    <p:dissolve/>
    <p:sndAc>
      <p:stSnd>
        <p:snd r:embed="rId1" name="camera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ичиной землетрясений может стат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троительство очистных сооружений в зонах тектонических разлом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олновые колебания в скальных породах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двиг в скальных породах земной коры, разлом, вдоль которого один скальный массив с огромной силой трется о другой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066680" y="1523880"/>
            <a:ext cx="7620120" cy="243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5000">
    <p:dissolve/>
    <p:sndAc>
      <p:stSnd>
        <p:snd r:embed="rId1" name="camera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. Признаками приближающегося землетрясения могут быть следующие явле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олубоватое свечение внутренней поверхности домов, искрение близко расположенных (но не соприкасающихся) электрических проводов, запах газа в районах, где раньше этого не отмечалось, вспышки в виде рассеянного света зарниц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зкое изменение погодных условий, самовоспламенение и самовозгорание горючих веществ и материалов, выпадение обильных осадков в виде дождя или снег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роткое замыкание электросети, непонятный гул, качание люстры и дрожание стекол на окн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5000">
    <p:dissolve/>
    <p:sndAc>
      <p:stSnd>
        <p:snd r:embed="rId1" name="camera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5000">
    <p:dissolve/>
    <p:sndAc>
      <p:stSnd>
        <p:snd r:embed="rId1" name="camera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. Признаками приближающегося землетрясения могут быть следующие явле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олубоватое свечение внутренней поверхности домов, искрение близко расположенных (но не соприкасающихся) электрических проводов, запах газа в районах, где раньше этого не отмечалось, вспышки в виде рассеянного света зарниц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зкое изменение погодных условий, самовоспламенение и самовозгорание горючих веществ и материалов, выпадение обильных осадков в виде дождя или снег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роткое замыкание электросети, непонятный гул, качание люстры и дрожание стекол на окн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90720" y="3657600"/>
            <a:ext cx="7619760" cy="2209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5000">
    <p:dissolve/>
    <p:sndAc>
      <p:stSnd>
        <p:snd r:embed="rId1" name="camera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метьте недостающие на схеме наиболее безопасные места при землетряс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832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0" y="838080"/>
            <a:ext cx="9448920" cy="71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еста, близкие 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центру комн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Проёмы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питаль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нутренн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енах, ниш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Углы,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разован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питальными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нутренни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ен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Места у колонн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 балка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рка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Места под прочны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олами и ряд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 кроват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Места рядом с кроватями и стол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3124080" y="3171960"/>
            <a:ext cx="2438640" cy="1242720"/>
          </a:xfrm>
          <a:prstGeom prst="rect">
            <a:avLst/>
          </a:prstGeom>
          <a:ln w="0">
            <a:noFill/>
          </a:ln>
        </p:spPr>
      </p:pic>
    </p:spTree>
  </p:cSld>
  <p:transition spd="med" advTm="65000">
    <p:dissolve/>
    <p:sndAc>
      <p:stSnd>
        <p:snd r:embed="rId3" name="camera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5000">
    <p:dissolve/>
    <p:sndAc>
      <p:stSnd>
        <p:snd r:embed="rId1" name="camera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1265400"/>
            <a:ext cx="9144000" cy="55800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193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365040" y="1535040"/>
            <a:ext cx="7974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еста, близкие к центру комн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ёмы в капительных внутренних стенах, ниш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глы, образованные капитальными внутренними стен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еста у колонн и под балками карка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еста под прочными столами и рядом с кроват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еста рядом с кроватями и стол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80880" y="1600200"/>
            <a:ext cx="51055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880" y="6172200"/>
            <a:ext cx="53341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5000">
    <p:dissolve/>
    <p:sndAc>
      <p:stSnd>
        <p:snd r:embed="rId3" name="camera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метьте недостающие на схеме необходимые действия человека, проживающего в сейсмоопасном районе, для снижения ущерба от землетряс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1536840"/>
            <a:ext cx="9144000" cy="532116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0" y="1676520"/>
            <a:ext cx="2057400" cy="1447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иче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дприним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 надо, э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дач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пециалис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315200" y="1600200"/>
            <a:ext cx="175248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Заране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знакомить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 пла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вакуа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з з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828800" y="3276720"/>
            <a:ext cx="289548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Заранее подготов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обходимые вещ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ля эваку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800600" y="3200400"/>
            <a:ext cx="251460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Определи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иболе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езопасные места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варти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4952880"/>
            <a:ext cx="9144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 Не загромождать вещами вход в квартиру, коридоры, лестничные площад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5000">
    <p:dissolve/>
    <p:sndAc>
      <p:stSnd>
        <p:snd r:embed="rId2" name="camera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5000">
    <p:dissolve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452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533520" y="304920"/>
            <a:ext cx="81532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Безопасные мест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dissolve/>
    <p:sndAc>
      <p:stSnd>
        <p:snd r:embed="rId2" name="camera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6765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0" y="1536840"/>
            <a:ext cx="9144000" cy="532116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0" y="2209680"/>
            <a:ext cx="91440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ичего предпринимать на надо, это задача специалис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3200400"/>
            <a:ext cx="91440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Заранее ознакомиться с планом эвакуации из з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4114800"/>
            <a:ext cx="9144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Заранее подготовить необходимые вещи для эваку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4952880"/>
            <a:ext cx="9144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Определить наиболее безопасные места в кварти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5791320"/>
            <a:ext cx="9144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 Не загромождать вещами вход в квартиру, коридоры, лестничные площад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2514600"/>
            <a:ext cx="8001000" cy="0"/>
          </a:xfrm>
          <a:prstGeom prst="line">
            <a:avLst/>
          </a:prstGeom>
          <a:ln w="219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2209680"/>
            <a:ext cx="91440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5000">
    <p:dissolve/>
    <p:sndAc>
      <p:stSnd>
        <p:snd r:embed="rId3" name="camera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80880" y="533160"/>
            <a:ext cx="83059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иболее подходящие места в здании для укрытия при землетрясен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ста под подоконником, внутри шкафов, комодов, гардеробов, углы, образованные внутренними перегородк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ста под прочно закрепленными столами, рядом с кроватями, у колонн, проемы в капитальных внутренних стенах, углы, образованные капитальными внутренними стенами, дверные прое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ентиляционные шахты и короба, балконы и лоджии, места внутри кладовок и встроенных шкаф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5000">
    <p:dissolve/>
    <p:sndAc>
      <p:stSnd>
        <p:snd r:embed="rId1" name="camera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5000">
    <p:dissolve/>
    <p:sndAc>
      <p:stSnd>
        <p:snd r:embed="rId1" name="camera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533160"/>
            <a:ext cx="83059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иболее подходящие места в здании для укрытия при землетрясен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ста под подоконником, внутри шкафов, комодов, гардеробов, углы, образованные внутренними перегородк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ста под прочно закрепленными столами, рядом с кроватями, у колонн, проемы в капитальных внутренних стенах, углы, образованные капитальными внутренними стенами, дверные прое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ентиляционные шахты и короба, балконы и лоджии, места внутри кладовок и встроенных шкаф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990720" y="2286000"/>
            <a:ext cx="7162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914400" y="4648320"/>
            <a:ext cx="762012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5000">
    <p:dissolve/>
    <p:sndAc>
      <p:stSnd>
        <p:snd r:embed="rId1" name="camera.wav"/>
      </p:stSnd>
    </p:sndAc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3520" y="-360"/>
            <a:ext cx="81532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79880" indent="-47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 землетрясении необходимо попытать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9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9880" indent="-4798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бить окна, попытаться быстро покинуть здание и поехать (пойти) домой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9880" indent="-4798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тключить электричество, эвакуироваться из здания, занять место вдали от зданий и линий электропередач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9880" indent="-4798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спокоить домашних животных, быстро занять место на балконе или подальше от капитальных ст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5000">
    <p:dissolve/>
    <p:sndAc>
      <p:stSnd>
        <p:snd r:embed="rId1" name="camera.wav"/>
      </p:stSnd>
    </p:sndAc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5000">
    <p:dissolve/>
    <p:sndAc>
      <p:stSnd>
        <p:snd r:embed="rId1" name="camera.wav"/>
      </p:stSnd>
    </p:sndAc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28240" y="-360"/>
            <a:ext cx="84582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79880" indent="-47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 землетрясении необходимо попытать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9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9880" indent="-4798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бить окна, попытаться быстро покинуть здание и поехать (пойти) домой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9880" indent="-4798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тключить электричество, эвакуироваться из здания, занять место вдали от зданий и линий электропередач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9880" indent="-4798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спокоить домашних животных, быстро занять место на балконе или подальше от капитальных ст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38080" y="1295280"/>
            <a:ext cx="8001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5257800"/>
            <a:ext cx="82296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5000">
    <p:dissolve/>
    <p:sndAc>
      <p:stSnd>
        <p:snd r:embed="rId1" name="camera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 находитесь дома один. Вдруг задрожали стекла и люстра, с полок начала падать посуда и книги. Вы срочн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кроете окна и двери, перейдете в подвальное помещение или защитное сооруже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звоните родителям на работу, чтобы предупредить о происшествии и договориться о месте встреч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ймете место в дверном прое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5000">
    <p:dissolve/>
    <p:sndAc>
      <p:stSnd>
        <p:snd r:embed="rId1" name="camera.wav"/>
      </p:stSnd>
    </p:sndAc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5000">
    <p:dissolve/>
    <p:sndAc>
      <p:stSnd>
        <p:snd r:embed="rId1" name="camera.wav"/>
      </p:stSnd>
    </p:sndAc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 находитесь дома один. Вдруг задрожали стекла и люстра, с полок начала падать посуда и книги. Вы срочн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кроете окна и двери, перейдете в подвальное помещение или защитное сооруже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звоните родителям на работу, чтобы предупредить о происшествии и договориться о месте встреч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ймете место в дверном прое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3520" y="2438280"/>
            <a:ext cx="7924680" cy="3505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5000">
    <p:dissolve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Если вы на улице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1461960"/>
            <a:ext cx="7205760" cy="5381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2" name="camera.wav"/>
      </p:stSnd>
    </p:sndAc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560" y="456840"/>
            <a:ext cx="83818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какой последовательности вы постараетесь действовать, если, находясь дома, неожиданно почувствовали толчки, дребезжание стекла, посуды, а времени, чтобы выбежать из здания, н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крыть окна и двери и занять безопасное место в шкаф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звонить в аварийную службу, отключить электричество, газ, воду, занять место у окн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тключить электричество, газ, воду, отойти от окон и предметов мебели, которые могут упасть, занять безопасное место в проеме две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5000">
    <p:dissolve/>
    <p:sndAc>
      <p:stSnd>
        <p:snd r:embed="rId1" name="camera.wav"/>
      </p:stSnd>
    </p:sndAc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5000">
    <p:dissolve/>
    <p:sndAc>
      <p:stSnd>
        <p:snd r:embed="rId1" name="camera.wav"/>
      </p:stSnd>
    </p:sndAc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523520" y="456840"/>
            <a:ext cx="71629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какой последовательности вы постараетесь действовать, если, находясь дома, неожиданно почувствовали толчки, дребезжание стекла, посуды, а времени, чтобы выбежать из здания, н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крыть окна и двери и занять безопасное место в шкаф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звонить в аварийную службу, отключить электричество, газ, воду, занять место у окн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ключить электричество, газ, воду, отойти от окон и предметов мебели, которые могут упасть, занять безопасное место в проеме двер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447920" y="2362320"/>
            <a:ext cx="731520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5000">
    <p:dissolve/>
    <p:sndAc>
      <p:stSnd>
        <p:snd r:embed="rId1" name="camera.wav"/>
      </p:stSnd>
    </p:sndAc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8390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4560" y="533160"/>
            <a:ext cx="8381880" cy="5638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ы попали под завал в результате землетрясения, нога была придавлена упавшей конструкцией, но освобождена: шевелить пальцами и ступней ноги можете. В помещении есть немного свободного пространства, но выход заблокирован. Какова очередность ваших действ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кажете себе первую помощь, установите подпорки под конструкции над вами, найдете теплые вещи или одеяло, чтобы укрыться, будете кричать, звать на помощь, стучать металлическими предметами по трубам, плита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кажете себе первую помощь и начнете разгребать завал в сторону выхода из помещ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установите подпорки под конструкции над вами, попробуете подойти к оконному проему, если найдете спички, попытаетесь развести небольшой костер, чтобы согреться и осмотреться вокру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5000">
    <p:dissolve/>
    <p:sndAc>
      <p:stSnd>
        <p:snd r:embed="rId1" name="camera.wav"/>
      </p:stSnd>
    </p:sndAc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5000">
    <p:dissolve/>
    <p:sndAc>
      <p:stSnd>
        <p:snd r:embed="rId1" name="camera.wav"/>
      </p:stSnd>
    </p:sndAc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533160"/>
            <a:ext cx="7848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ы попали под завал в результате землетрясе­нии, нога была придавлена упавшей конструкцией, но освобождена: шевелить пальцами и ступней ноги можете. В помещении есть немного свободного пространства, но выход заблокирован. Какова очередность ваших действ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кажете себе первую помощь, установите подпорки под конструкции над вами, найдете теплые ве­щи или одеяло, чтобы укрыться, будете кричать, звать на помощь, стучать металлическими предметами по трубам, плита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кажете себе первую помощь и начнете разгребать завал в сторону выхода из помещ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установите подпорки под конструкции над вами, попробуете подойти к оконному проему, если найдете спички, попытаетесь развести небольшой костер, чтобы согреться и осмотреться вокру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09480" y="3581280"/>
            <a:ext cx="8153640" cy="2743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5000">
    <p:dissolve/>
    <p:sndAc>
      <p:stSnd>
        <p:snd r:embed="rId1" name="camera.wav"/>
      </p:stSnd>
    </p:sndAc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429000" cy="685800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3505320" y="47520"/>
            <a:ext cx="5638680" cy="41436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3505320" y="4114800"/>
            <a:ext cx="5638680" cy="27050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 rot="5400000">
            <a:off x="-1686240" y="3162240"/>
            <a:ext cx="4057920" cy="533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Многие из многих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 advTm="65000">
    <p:dissolve/>
    <p:sndAc>
      <p:stSnd>
        <p:snd r:embed="rId4" name="camera.wav"/>
      </p:stSnd>
    </p:sndAc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5000">
    <p:dissolve/>
    <p:sndAc>
      <p:stSnd>
        <p:snd r:embed="rId1" name="camera.wav"/>
      </p:stSnd>
    </p:sndAc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662440" cy="685800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5715000" y="0"/>
            <a:ext cx="3429000" cy="406728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5715000" y="4114800"/>
            <a:ext cx="3429000" cy="270504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 rot="5400000">
            <a:off x="-1686240" y="3162240"/>
            <a:ext cx="4057920" cy="533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Многие из многих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4"/>
          <a:stretch/>
        </p:blipFill>
        <p:spPr>
          <a:xfrm>
            <a:off x="838080" y="3400560"/>
            <a:ext cx="4686480" cy="345744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5715000" y="0"/>
            <a:ext cx="3429000" cy="13716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715000" y="5486400"/>
            <a:ext cx="3429000" cy="13716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5000">
    <p:dissolve/>
    <p:sndAc>
      <p:stSnd>
        <p:snd r:embed="rId5" name="camera.wav"/>
      </p:stSnd>
    </p:sndAc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18960" y="274680"/>
            <a:ext cx="7467480" cy="17064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сновной способ спасения людей при извержении вулкан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218960" y="2514240"/>
            <a:ext cx="7467480" cy="34290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крытие в специально оборудованных убежища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эвакуац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спользование средств индивидуальной защиты органов дыхания и кож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 rot="5400000">
            <a:off x="-1295280" y="3162240"/>
            <a:ext cx="358128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Один из многих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 advTm="65000">
    <p:dissolve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Если вы в школе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697040"/>
            <a:ext cx="7377120" cy="51609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2" name="camera.wav"/>
      </p:stSnd>
    </p:sndAc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5000">
    <p:dissolve/>
    <p:sndAc>
      <p:stSnd>
        <p:snd r:embed="rId1" name="camera.wav"/>
      </p:stSnd>
    </p:sndAc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18960" y="274680"/>
            <a:ext cx="7467480" cy="17064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сновной способ спасения людей при извержении вулкан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218960" y="2514240"/>
            <a:ext cx="7467480" cy="34290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крытие в специально оборудованных убежища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эвакуац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спользование средств индивидуальной защиты органов дыхания и кож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 rot="5400000">
            <a:off x="-1295280" y="3162240"/>
            <a:ext cx="358128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Один из многих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 advTm="65000">
    <p:dissolve/>
    <p:sndAc>
      <p:stSnd>
        <p:snd r:embed="rId1" name="camera.wav"/>
      </p:stSnd>
    </p:sndAc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20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53" dur="20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20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600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Scale>
                                      <p:cBhvr>
                                        <p:cTn id="16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6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6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6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4778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 извержении вулкана, находясь в непосредственной близости от него, необходим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218960" y="2590560"/>
            <a:ext cx="7467480" cy="327636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бегать в перпендикулярную сторону от движущихся лавовых поток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щитить органы дыхания, следовать в укрыт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крыться за большим камн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 rot="5400000">
            <a:off x="-1295280" y="3162240"/>
            <a:ext cx="358128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Один из многих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 advTm="65000">
    <p:dissolve/>
    <p:sndAc>
      <p:stSnd>
        <p:snd r:embed="rId1" name="camera.wav"/>
      </p:stSnd>
    </p:sndAc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5000">
    <p:dissolve/>
    <p:sndAc>
      <p:stSnd>
        <p:snd r:embed="rId1" name="camera.wav"/>
      </p:stSnd>
    </p:sndAc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4778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 извержении вулкана, находясь в непосредственной близости от него, необходим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218960" y="2590560"/>
            <a:ext cx="7467480" cy="327636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бегать в перпендикулярную сторону от движущихся лавовых поток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щитить органы дыхания, следовать в укрыт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крыться за большим камн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 rot="5400000">
            <a:off x="-1295280" y="3162240"/>
            <a:ext cx="358128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Один из многих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 advTm="65000">
    <p:dissolve/>
    <p:sndAc>
      <p:stSnd>
        <p:snd r:embed="rId1" name="camera.wav"/>
      </p:stSnd>
    </p:sndAc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1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5" dur="1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" dur="10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1" dur="10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5" dur="20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 txBox="1"/>
          <p:nvPr/>
        </p:nvSpPr>
        <p:spPr>
          <a:xfrm rot="5400000">
            <a:off x="-1486800" y="3847320"/>
            <a:ext cx="4116240" cy="533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Один из многих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 advTm="65000">
    <p:dissolve/>
    <p:sndAc>
      <p:stSnd>
        <p:snd r:embed="rId2" name="camera.wav"/>
      </p:stSnd>
    </p:sndAc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5000">
    <p:dissolve/>
    <p:sndAc>
      <p:stSnd>
        <p:snd r:embed="rId1" name="camera.wav"/>
      </p:stSnd>
    </p:sndAc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 rot="5400000">
            <a:off x="-1486800" y="3847320"/>
            <a:ext cx="4116240" cy="533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Один из многих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724280" y="0"/>
            <a:ext cx="4419720" cy="23623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724280" y="2438280"/>
            <a:ext cx="4419720" cy="2133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5000">
    <p:dissolve/>
    <p:sndAc>
      <p:stSnd>
        <p:snd r:embed="rId2" name="camera.wav"/>
      </p:stSnd>
    </p:sndAc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2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6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81280" cy="685800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3657600" y="0"/>
            <a:ext cx="5486400" cy="33526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3"/>
          <a:stretch/>
        </p:blipFill>
        <p:spPr>
          <a:xfrm>
            <a:off x="3657600" y="3276720"/>
            <a:ext cx="5486400" cy="350496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 txBox="1"/>
          <p:nvPr/>
        </p:nvSpPr>
        <p:spPr>
          <a:xfrm rot="5400000">
            <a:off x="-1836720" y="4106880"/>
            <a:ext cx="466416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Многие из многих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 advTm="65000">
    <p:dissolve/>
    <p:sndAc>
      <p:stSnd>
        <p:snd r:embed="rId4" name="camera.wav"/>
      </p:stSnd>
    </p:sndAc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5000">
    <p:dissolve/>
    <p:sndAc>
      <p:stSnd>
        <p:snd r:embed="rId1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ы дома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428840"/>
            <a:ext cx="8077320" cy="5383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2" name="camera.wav"/>
      </p:stSnd>
    </p:sndAc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813280" cy="685800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5800680" y="0"/>
            <a:ext cx="3343320" cy="33526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5819760" y="3352680"/>
            <a:ext cx="3324240" cy="350532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 txBox="1"/>
          <p:nvPr/>
        </p:nvSpPr>
        <p:spPr>
          <a:xfrm rot="5400000">
            <a:off x="-1836720" y="4106880"/>
            <a:ext cx="466416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Многие из многих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791320" y="0"/>
            <a:ext cx="3352680" cy="10666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4"/>
          <a:stretch/>
        </p:blipFill>
        <p:spPr>
          <a:xfrm>
            <a:off x="838080" y="3390840"/>
            <a:ext cx="4695840" cy="3467160"/>
          </a:xfrm>
          <a:prstGeom prst="rect">
            <a:avLst/>
          </a:prstGeom>
          <a:ln w="0">
            <a:noFill/>
          </a:ln>
        </p:spPr>
      </p:pic>
    </p:spTree>
  </p:cSld>
  <p:transition spd="med" advTm="65000">
    <p:dissolve/>
    <p:sndAc>
      <p:stSnd>
        <p:snd r:embed="rId5" name="camera.wav"/>
      </p:stSnd>
    </p:sndAc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09880" cy="685800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3886200" y="571680"/>
            <a:ext cx="5257800" cy="400032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3"/>
          <a:stretch/>
        </p:blipFill>
        <p:spPr>
          <a:xfrm>
            <a:off x="3886200" y="4495680"/>
            <a:ext cx="5257800" cy="1400400"/>
          </a:xfrm>
          <a:prstGeom prst="rect">
            <a:avLst/>
          </a:prstGeom>
          <a:ln w="0">
            <a:noFill/>
          </a:ln>
        </p:spPr>
      </p:pic>
    </p:spTree>
  </p:cSld>
  <p:transition spd="med" advTm="65000">
    <p:dissolve/>
    <p:sndAc>
      <p:stSnd>
        <p:snd r:embed="rId4" name="camera.wav"/>
      </p:stSnd>
    </p:sndAc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5000">
    <p:dissolve/>
    <p:sndAc>
      <p:stSnd>
        <p:snd r:embed="rId1" name="camera.wav"/>
      </p:stSnd>
    </p:sndAc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89640" cy="685800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5562720" y="571680"/>
            <a:ext cx="3581280" cy="400032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3"/>
          <a:stretch/>
        </p:blipFill>
        <p:spPr>
          <a:xfrm>
            <a:off x="5562720" y="4572000"/>
            <a:ext cx="3581280" cy="140004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5562720" y="609480"/>
            <a:ext cx="3581280" cy="1295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4"/>
          <a:stretch/>
        </p:blipFill>
        <p:spPr>
          <a:xfrm>
            <a:off x="1295280" y="3772080"/>
            <a:ext cx="4114800" cy="3085920"/>
          </a:xfrm>
          <a:prstGeom prst="rect">
            <a:avLst/>
          </a:prstGeom>
          <a:ln w="0">
            <a:noFill/>
          </a:ln>
        </p:spPr>
      </p:pic>
    </p:spTree>
  </p:cSld>
  <p:transition spd="med" advTm="65000">
    <p:dissolve/>
    <p:sndAc>
      <p:stSnd>
        <p:snd r:embed="rId5" name="camera.wav"/>
      </p:stSnd>
    </p:sndAc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4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52680" cy="685800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  <p:sp>
        <p:nvSpPr>
          <p:cNvPr id="386" name=""/>
          <p:cNvSpPr txBox="1"/>
          <p:nvPr/>
        </p:nvSpPr>
        <p:spPr>
          <a:xfrm rot="5400000">
            <a:off x="-1424880" y="3985200"/>
            <a:ext cx="452592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Многие из многих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3429000" y="590400"/>
            <a:ext cx="5715000" cy="405792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3429000" y="4572000"/>
            <a:ext cx="5715000" cy="1438200"/>
          </a:xfrm>
          <a:prstGeom prst="rect">
            <a:avLst/>
          </a:prstGeom>
          <a:ln w="0">
            <a:noFill/>
          </a:ln>
        </p:spPr>
      </p:pic>
    </p:spTree>
  </p:cSld>
  <p:transition spd="med" advTm="65000">
    <p:dissolve/>
    <p:sndAc>
      <p:stSnd>
        <p:snd r:embed="rId4" name="camera.wav"/>
      </p:stSnd>
    </p:sndAc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5000">
    <p:dissolve/>
    <p:sndAc>
      <p:stSnd>
        <p:snd r:embed="rId1" name="camera.wav"/>
      </p:stSnd>
    </p:sndAc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807160" cy="685800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  <p:sp>
        <p:nvSpPr>
          <p:cNvPr id="394" name=""/>
          <p:cNvSpPr txBox="1"/>
          <p:nvPr/>
        </p:nvSpPr>
        <p:spPr>
          <a:xfrm rot="5400000">
            <a:off x="-1424880" y="3985200"/>
            <a:ext cx="452592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Многие из многих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5819760" y="590400"/>
            <a:ext cx="3324240" cy="405792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3"/>
          <a:stretch/>
        </p:blipFill>
        <p:spPr>
          <a:xfrm>
            <a:off x="5819760" y="4648320"/>
            <a:ext cx="3324240" cy="143820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5791320" y="609480"/>
            <a:ext cx="3352680" cy="13716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791320" y="4648320"/>
            <a:ext cx="3352680" cy="14475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5000">
    <p:dissolve/>
    <p:sndAc>
      <p:stSnd>
        <p:snd r:embed="rId4" name="camera.wav"/>
      </p:stSnd>
    </p:sndAc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1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5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0" y="792000"/>
            <a:ext cx="9144000" cy="527220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 rot="5400000">
            <a:off x="-1767960" y="3444120"/>
            <a:ext cx="429732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Один из многих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 advTm="65000">
    <p:dissolve/>
    <p:sndAc>
      <p:stSnd>
        <p:snd r:embed="rId2" name="camera.wav"/>
      </p:stSnd>
    </p:sndAc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5000">
    <p:dissolve/>
    <p:sndAc>
      <p:stSnd>
        <p:snd r:embed="rId1" name="camera.wav"/>
      </p:stSnd>
    </p:sndAc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27184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 rot="5400000">
            <a:off x="-1767960" y="3444120"/>
            <a:ext cx="429732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Один из многих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800600" y="762120"/>
            <a:ext cx="4343400" cy="35049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5000">
    <p:dissolve/>
    <p:sndAc>
      <p:stSnd>
        <p:snd r:embed="rId2" name="camera.wav"/>
      </p:stSnd>
    </p:sndAc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77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3" dur="770" fill="hold"/>
                                        <p:tgtEl>
                                          <p:spTgt spid="4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5" dur="77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7" dur="77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839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БП при заблаговременном предупреждении о землетрясе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1471680"/>
            <a:ext cx="9144000" cy="5386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2" name="camera.wav"/>
      </p:stSnd>
    </p:sndAc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0" y="1720800"/>
            <a:ext cx="9144000" cy="3079800"/>
          </a:xfrm>
          <a:prstGeom prst="rect">
            <a:avLst/>
          </a:prstGeom>
          <a:ln w="0">
            <a:noFill/>
          </a:ln>
        </p:spPr>
      </p:pic>
    </p:spTree>
  </p:cSld>
  <p:transition spd="med" advTm="65000">
    <p:dissolve/>
    <p:sndAc>
      <p:stSnd>
        <p:snd r:embed="rId2" name="camera.wav"/>
      </p:stSnd>
    </p:sndAc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5000">
    <p:dissolve/>
    <p:sndAc>
      <p:stSnd>
        <p:snd r:embed="rId1" name="camera.wav"/>
      </p:stSnd>
    </p:sndAc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0" y="1720800"/>
            <a:ext cx="9144000" cy="30798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4876920" y="2286000"/>
            <a:ext cx="3962160" cy="368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полз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5000">
    <p:dissolve/>
    <p:sndAc>
      <p:stSnd>
        <p:snd r:embed="rId2" name="camera.wav"/>
      </p:stSnd>
    </p:sndAc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иболее безопасные места при сходе оползней, обвалов, лавин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6934320" cy="45259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лины между гор с селе- и лавиноопасными участками, большие деревья с толстыми стволами, большие камни, за которыми можно укрыть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клоны гор, где оползневые процессы не очень интенсивны, ущелья и выемки между гор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звышенности, расположенные с противоположной стороны селеопасного направления, склоны гор и возвышенностей, не расположенные к оползневому процесс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 rot="5400000">
            <a:off x="-1767960" y="3444120"/>
            <a:ext cx="429732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Один из многих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 advTm="65000">
    <p:dissolve/>
    <p:sndAc>
      <p:stSnd>
        <p:snd r:embed="rId1" name="camera.wav"/>
      </p:stSnd>
    </p:sndAc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5000">
    <p:dissolve/>
    <p:sndAc>
      <p:stSnd>
        <p:snd r:embed="rId1" name="camera.wav"/>
      </p:stSnd>
    </p:sndAc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иболее безопасные места при сходе оползней, обвалов, лавин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6934320" cy="45259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лины между гор с селе- и лавиноопасными участками, большие деревья с толстыми стволами, большие камни, за которыми можно укрыть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клоны гор, где оползневые процессы не очень интенсивны, ущелья и выемки между гор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звышенности, расположенные с противоположной стороны селеопасного направления, склоны гор и возвышенностей, не расположенные к оползневому процесс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 rot="5400000">
            <a:off x="-1767960" y="3672720"/>
            <a:ext cx="429732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Один из многих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 advTm="65000">
    <p:dissolve/>
    <p:sndAc>
      <p:stSnd>
        <p:snd r:embed="rId1" name="camera.wav"/>
      </p:stSnd>
    </p:sndAc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20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" dur="20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391520" cy="19051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 время прохождения лавиноопасного участка в горах вы с группой туристов увидели внезапный сход снежной лавины. Опасность попадания в лавину велика. Ваши действия: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371600" y="2560320"/>
            <a:ext cx="7315200" cy="42973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 помощи веревок закрепитесь за большие камн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ыстро начнете организованный выход из лавиноопасного мес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зделитесь на несколько групп, каждая из которых начнет самостоятельно спускаться в долину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кроетесь за скалой или ее выступом, ляжете и прижметесь к земле, закрыв голову ру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 rot="5400000">
            <a:off x="-1767960" y="3672720"/>
            <a:ext cx="429732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Один из многих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 advTm="65000">
    <p:dissolve/>
    <p:sndAc>
      <p:stSnd>
        <p:snd r:embed="rId1" name="camera.wav"/>
      </p:stSnd>
    </p:sndAc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5000">
    <p:dissolve/>
    <p:sndAc>
      <p:stSnd>
        <p:snd r:embed="rId1" name="camera.wav"/>
      </p:stSnd>
    </p:sndAc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391520" cy="19051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 время прохождения лавиноопасного участка в горах вы с группой туристов увидели внезапный сход снежной лавины. Опасность попадания в лавину велика. Ваши действия: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371600" y="2560320"/>
            <a:ext cx="7315200" cy="42973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 помощи веревок закрепитесь за большие камн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ыстро начнете организованный выход из лавиноопасного мес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зделитесь на несколько групп, каждая из которых начнет самостоятельно спускаться в долину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кроетесь за скалой или ее выступом, ляжете и прижметесь к земле, закрыв голову ру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 txBox="1"/>
          <p:nvPr/>
        </p:nvSpPr>
        <p:spPr>
          <a:xfrm rot="5400000">
            <a:off x="-1767960" y="3672720"/>
            <a:ext cx="429732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Один из многих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 advTm="65000">
    <p:dissolve/>
    <p:sndAc>
      <p:stSnd>
        <p:snd r:embed="rId1" name="camera.wav"/>
      </p:stSnd>
    </p:sndAc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5" dur="20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7" dur="20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1" dur="2000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3" dur="2000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4000"/>
                            </p:stCondLst>
                            <p:childTnLst>
                              <p:par>
                                <p:cTn id="276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7" dur="2000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9" dur="2000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solidFill>
            <a:srgbClr val="00ffcc"/>
          </a:solidFill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еологическое образование, возникающее над каналами и трещинами в земной коре, по которым на земную поверхность извергаются лава, пепел, горячие газы, пары воды и обломки горных поро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09480" y="380880"/>
            <a:ext cx="80773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Вулкан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dissolve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ом</cp:lastModifiedBy>
  <dcterms:modified xsi:type="dcterms:W3CDTF">2013-10-05T15:19:02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