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7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A6BE-89FE-4F87-92EA-4C0F787A68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0240"/>
            <a:ext cx="81914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EB54-1E6F-48C6-8020-D8407B2F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688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4AFF-8A60-4A0F-8A1B-5ED02C21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120" y="16286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8960" y="16286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02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120" y="40802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8960" y="40802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6B04-6349-44E9-8434-115328D2DF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459A3-3784-44AF-917E-EBE189CC81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4675B-C40F-4610-B82C-40E6AE9F49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F3563-4143-4802-96B9-1C4B553DD7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329D8-3B13-4580-A7FF-35264EDA65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550BF-BE8E-445B-A4B7-1EC867D3B5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57040" y="704880"/>
            <a:ext cx="56386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6CDB5-3E9E-4EFA-85CE-1AF18CA026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964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6BCD2-9E6E-4AB9-82AC-D85638C285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A21E-C632-41B9-90DF-81964638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3688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7EA42-D16B-44E7-B15A-0CDEF2F946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9640" y="4080240"/>
            <a:ext cx="81914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0E19C-4DFA-4F29-B368-D7388BDEAC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9640" y="4080240"/>
            <a:ext cx="81914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43600-3713-4191-9C50-DBDA2CF22F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964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3688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5AC2E-D740-4F87-B229-269B5ADE8F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6286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8960" y="16286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9640" y="40802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40802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8960" y="40802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57CA3-E490-4C3D-8F88-DA8E36D016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86829-1150-4D52-A47A-D787D4C4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47B4-A214-4B8E-84A2-BCC1141C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7609-649E-4549-902A-2CB5781D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040" y="704880"/>
            <a:ext cx="56386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2B06-39CB-4E84-BAE2-D2A67C09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91BC-610F-4EF4-9F39-B8E75119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688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ADB3-FA18-4330-89F9-2574C164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0240"/>
            <a:ext cx="81914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4434-48EA-4EF7-8320-6FAB7F89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573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fb0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191120" y="655308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0d8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1933-A62D-43E2-9790-522A9BFDFFEE}" type="slidenum">
              <a:rPr b="0" lang="en-US" sz="1000" spc="-1" strike="noStrike">
                <a:solidFill>
                  <a:srgbClr val="220d8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0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0d8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12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2171880" y="6270480"/>
            <a:ext cx="229680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380880" y="64609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7DEE-5C83-4001-977B-F583387DE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0d8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fb0e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0d8d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220d8d"/>
                </a:solidFill>
                <a:latin typeface="Verdana"/>
              </a:rPr>
              <a:t>Школьное методическое объединение учителей гуманитарного цикла</a:t>
            </a:r>
            <a:endParaRPr b="1" lang="en-US" sz="28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411280" y="4436640"/>
            <a:ext cx="561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кольный научно-методический семин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362320" y="2666880"/>
            <a:ext cx="67140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162920" y="2806560"/>
            <a:ext cx="635040" cy="546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6093000"/>
            <a:ext cx="8642160" cy="765000"/>
          </a:xfrm>
          <a:prstGeom prst="rect">
            <a:avLst/>
          </a:prstGeom>
          <a:solidFill>
            <a:srgbClr val="ffffff"/>
          </a:solidFill>
          <a:ln w="38160">
            <a:solidFill>
              <a:srgbClr val="e57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0d8d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220d8d"/>
                </a:solidFill>
                <a:latin typeface="Arial"/>
              </a:rPr>
              <a:t>Зиатдинова Татьяна Александровна, руководитель Ш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64000" y="765000"/>
            <a:ext cx="3025800" cy="621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реля 2012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A16E2-EC2B-4C42-8DDC-60F452345F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400" y="704880"/>
            <a:ext cx="633096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ртификат по ИКТ-компетент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Современные образовательные технологии в практической профессиональной дея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зация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тернет – технологии в профессиональной деятельности педагог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иатдинова Т.А., Юрина Т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BB9B-2ED0-439C-87F8-AF4A1332DE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тестац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хтоярова И.М.-  экзамен на подтверждение соответствия занимаемой долж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рина Т.Ю. – подтвердила 1 кв катег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1B63-0A72-4898-9549-31C17CB4DC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лективные курс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19144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 пятёрке шаг за ша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ведение в  язык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ребряный век русск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вайте дар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збука Эконо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ловые качества молодого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новы потребительских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тория в 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удеса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6811A-CA96-4E0C-828A-6212F81E7C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читель год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швинцева М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076640" cy="3057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148360" y="1989000"/>
            <a:ext cx="3682800" cy="38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39C5-C1C6-4C92-B4F7-8526AC0EA4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704880"/>
            <a:ext cx="74880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крытые уроки и внеклассные мероприят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ждение независимой республики Голлан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ь земледельцев и ремесленников в Егип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«Школа 21 век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и препинания при обращ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классное мероприятие «Культура реч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мся писать пись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– соревнование «Крестики-нол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я игра «Англоязычные стран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с речевого этик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классное мероприятие «Срочно нужен переводчик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«Берегите чистоту русского языка, как святыню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Н Культура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с пословиц и поговор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ная гостиная «Лицейское братств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3EFC-886D-407C-9004-86F1567724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191440" cy="46929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-114480"/>
            <a:ext cx="9144000" cy="6972480"/>
            <a:chOff x="0" y="-114480"/>
            <a:chExt cx="9144000" cy="6972480"/>
          </a:xfrm>
        </p:grpSpPr>
        <p:graphicFrame>
          <p:nvGraphicFramePr>
            <p:cNvPr id="123" name="Object 1"/>
            <p:cNvGraphicFramePr/>
            <p:nvPr/>
          </p:nvGraphicFramePr>
          <p:xfrm>
            <a:off x="0" y="-114480"/>
            <a:ext cx="9144000" cy="6972480"/>
          </p:xfrm>
          <a:graphic>
            <a:graphicData uri="http://schemas.openxmlformats.org/presentationml/2006/ole">
              <p:oleObj progId="PowerPoint.Show.12" r:id="rId2" spid="">
                <p:embed/>
                <p:pic>
                  <p:nvPicPr>
                    <p:cNvPr id="124" name="Object 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-114480"/>
                      <a:ext cx="9144000" cy="697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2987640" y="1440"/>
              <a:ext cx="2448000" cy="1512720"/>
            </a:xfrm>
            <a:prstGeom prst="pentagon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ормацион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хноло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E405-283A-40F4-9E71-5023B8424CE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704880"/>
            <a:ext cx="874872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73a8e2">
                  <a:alpha val="12156"/>
                </a:srgbClr>
              </a:gs>
              <a:gs pos="50000">
                <a:srgbClr val="1a72d2"/>
              </a:gs>
              <a:gs pos="100000">
                <a:srgbClr val="73a8e2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76360" y="227664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4fb0e1"/>
              </a:gs>
              <a:gs pos="100000">
                <a:srgbClr val="9bd1e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1989000"/>
            <a:ext cx="4175280" cy="571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серосси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2852640"/>
            <a:ext cx="4248000" cy="569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af4"/>
              </a:gs>
              <a:gs pos="100000">
                <a:srgbClr val="aac856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гион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3716280"/>
            <a:ext cx="4248360" cy="57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уницип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465300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af4"/>
              </a:gs>
              <a:gs pos="100000">
                <a:srgbClr val="aac856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к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3573360"/>
            <a:ext cx="3002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79640" y="321300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ровень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333360"/>
            <a:ext cx="58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Участие членов МО в конкур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различн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6B1F-0CAF-40A7-B8C9-2A8AFFDA6F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704880"/>
            <a:ext cx="87138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астие членов МО совместно с детьми  в конкурсах различного уровня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772080" cy="25048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969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российский открытый заочный конкурс «Интеллект-экспресс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торина «Любимый русский» 5-8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тор роста: Всероссийская дистан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торина «В гостях у Буквозная» 5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российский открытый заочный конкурс «Интеллект-экспресс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торина  «Мир литературы» 7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ждународный конкурс «Русский медвежонок – языкознание для всех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тор роста: Всероссийский дистанцио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иц-турнир «Раз-словечко, два – словечко» 5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ональный конкурс сочинений «Если бы я был президентом» 9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курс сочинений «Загляни в мамины глаз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ая НПК 7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ПК старшеклассников 9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1773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усский язык,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E542-0D41-46F2-B36E-6D21241DB5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765000"/>
            <a:ext cx="874872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рия, общество, прав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816360" cy="25164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01976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лимпиада по основам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танционная мульти-олимпиада - марафон «Цифровая плане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ый игровой конкурс «Золотое рун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йская научная конференция школьников  «Открытие»в г.Ярослав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ая Н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ПК старшекласс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501336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лимпиады по предметам        гуманитарн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1760-C538-4E7F-B83A-279206CD20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глийский язы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969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очный конкурс «Симфония уро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пект урока «Новогодний фейерверк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ый конкурс    «Британский бульдо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танционная олимпиада для 6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роста: Всероссийский дистанционный Блиц-турнир «Еда»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кторина «Рождественское настроение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с переводчик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российская предметная олимпиада по англ языку 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27560" y="1557360"/>
            <a:ext cx="3916440" cy="31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535E-0E70-4BF4-B338-D280159FEC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99640" y="704880"/>
            <a:ext cx="504036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исленность педагогов: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разование педагогов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шее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валификационные категории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ысшая – 1;              первая – 3; вторая –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аж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лее 25 лет – 2; от 15 до 25 лет – 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 5 до 15 лет –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9"/>
          <p:cNvSpPr txBox="1"/>
          <p:nvPr/>
        </p:nvSpPr>
        <p:spPr>
          <a:xfrm>
            <a:off x="1258920" y="620640"/>
            <a:ext cx="678636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e2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тистические данные 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e2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2D03-AA0A-421F-8F4B-A834E3EEB5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704880"/>
            <a:ext cx="70848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орумы и конференц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ум «Образование Приилимья» 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лова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ероссийская пед конфере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Организация образовательного процесса в условиях перехода на новые образов стандарты» -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лова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ероссийская пед конфере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Новые образоват стандарты: проблемы реализации»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лова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йонная  научно-практическая конференция «Информационные технологии в образовании Приилимья»-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иатдинова Т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0825-7BA9-4FC1-ADCD-7E65FEA861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5280" y="1268280"/>
            <a:ext cx="2521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9640" y="1628640"/>
          <a:ext cx="8191440" cy="4861080"/>
        </p:xfrm>
        <a:graphic>
          <a:graphicData uri="http://schemas.openxmlformats.org/drawingml/2006/table">
            <a:tbl>
              <a:tblPr/>
              <a:tblGrid>
                <a:gridCol w="3024360"/>
                <a:gridCol w="1871640"/>
                <a:gridCol w="649080"/>
                <a:gridCol w="960480"/>
                <a:gridCol w="1685880"/>
              </a:tblGrid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российский открытый заочный конкурс «Интеллект-экспресс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торина «Любимый русск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дамина 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уреева По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 Рами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мербаев Са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оса Екате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бышева И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на Т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на Т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ародный конкурс «Русский медвежонок – языкознание для всех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 Рами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мербаев С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регио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муниц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бышева И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ина Т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ародный конкурс    «Британский бульдог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ва Оле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жная В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(муниц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хоменко И.Н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й конкурс сочинений «Если бы я был президентом Росс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бышев Геннад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ы  участия детей в конкурса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85EB-CF0F-4A83-9FA8-08F6B13144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560" y="765000"/>
            <a:ext cx="856944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зультаты участия в олимпиада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268280"/>
            <a:ext cx="2521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628640"/>
          <a:ext cx="8191440" cy="4692600"/>
        </p:xfrm>
        <a:graphic>
          <a:graphicData uri="http://schemas.openxmlformats.org/drawingml/2006/table">
            <a:tbl>
              <a:tblPr/>
              <a:tblGrid>
                <a:gridCol w="1693800"/>
                <a:gridCol w="2637000"/>
                <a:gridCol w="1131840"/>
                <a:gridCol w="1042920"/>
                <a:gridCol w="1685880"/>
              </a:tblGrid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мербаев Алексан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на Т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жехан А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ецкий Александр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кач 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ецкий Алексан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ва Оле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анская Алин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на Т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женко Екате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ушина И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 С.В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аторова Изабе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ошенко Ив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3F94-057C-4713-9B68-B85C31CBD6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191440" cy="4692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6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6177-7A46-457F-A435-C4C7FFA753A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704880"/>
            <a:ext cx="896472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3573360"/>
            <a:ext cx="3240360" cy="2519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3505320"/>
            <a:ext cx="3033720" cy="143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3573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усский язы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«Речевой этикет современного подрост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ecceb"/>
              </a:gs>
              <a:gs pos="100000">
                <a:srgbClr val="4fb0e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5d1ef"/>
              </a:gs>
              <a:gs pos="100000">
                <a:srgbClr val="1a72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059280" y="1557360"/>
            <a:ext cx="2998440" cy="1600920"/>
            <a:chOff x="3059280" y="1557360"/>
            <a:chExt cx="2998440" cy="1600920"/>
          </a:xfrm>
        </p:grpSpPr>
        <p:grpSp>
          <p:nvGrpSpPr>
            <p:cNvPr id="165" name=""/>
            <p:cNvGrpSpPr/>
            <p:nvPr/>
          </p:nvGrpSpPr>
          <p:grpSpPr>
            <a:xfrm>
              <a:off x="3059280" y="1699920"/>
              <a:ext cx="2998440" cy="1458360"/>
              <a:chOff x="3059280" y="1699920"/>
              <a:chExt cx="2998440" cy="1458360"/>
            </a:xfrm>
          </p:grpSpPr>
          <p:sp>
            <p:nvSpPr>
              <p:cNvPr id="166" name=""/>
              <p:cNvSpPr/>
              <p:nvPr/>
            </p:nvSpPr>
            <p:spPr>
              <a:xfrm>
                <a:off x="3092040" y="17463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0c3765"/>
                  </a:gs>
                  <a:gs pos="100000">
                    <a:srgbClr val="1a72d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59280" y="169992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1a72d2"/>
                  </a:gs>
                  <a:gs pos="100000">
                    <a:srgbClr val="98bf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3200760" y="155736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e5730b"/>
                </a:gs>
                <a:gs pos="100000">
                  <a:srgbClr val="69350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35680" y="156492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f4cda9"/>
                </a:gs>
                <a:gs pos="100000">
                  <a:srgbClr val="e5730b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62680" y="157788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e5730b">
                    <a:alpha val="48235"/>
                  </a:srgbClr>
                </a:gs>
                <a:gs pos="100000">
                  <a:srgbClr val="b45a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94440" y="160488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e5730b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724360" y="3573360"/>
            <a:ext cx="274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тор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Современный взгляд на загадки египетских пирами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635280" y="4797360"/>
            <a:ext cx="1692360" cy="1727280"/>
          </a:xfrm>
          <a:prstGeom prst="rect">
            <a:avLst/>
          </a:prstGeom>
          <a:ln w="38160">
            <a:solidFill>
              <a:srgbClr val="e5730b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3419640" y="19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Н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E342-9DEE-4BA7-982C-080E2002B5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704880"/>
            <a:ext cx="874872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73a8e2">
                  <a:alpha val="12156"/>
                </a:srgbClr>
              </a:gs>
              <a:gs pos="50000">
                <a:srgbClr val="1a72d2"/>
              </a:gs>
              <a:gs pos="100000">
                <a:srgbClr val="73a8e2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76360" y="227664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4fb0e1"/>
              </a:gs>
              <a:gs pos="100000">
                <a:srgbClr val="9bd1e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учно-практ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арше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В мир поис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мир нау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мир творче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64000" y="1628640"/>
            <a:ext cx="4174920" cy="571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ерубина де Габриа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айна поэт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40360" y="2349360"/>
            <a:ext cx="4248000" cy="569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af4"/>
              </a:gs>
              <a:gs pos="100000">
                <a:srgbClr val="aac856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илософия смеха через приз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х произве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3068640"/>
            <a:ext cx="4248360" cy="57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ерёза в культуре народов Сиби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37893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af4"/>
              </a:gs>
              <a:gs pos="100000">
                <a:srgbClr val="aac856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иагноз по ног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4365720"/>
            <a:ext cx="4465800" cy="642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блема детской инвали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95640" y="5084640"/>
            <a:ext cx="4753080" cy="573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af4"/>
              </a:gs>
              <a:gs pos="100000">
                <a:srgbClr val="aac856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ворье илимских кресть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5805360"/>
            <a:ext cx="6624720" cy="64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згляд на коррупцию соврем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B091-8D81-4759-BC9C-C3F1982E84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ы НПК  старшекласснико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9640" y="1628640"/>
          <a:ext cx="8191440" cy="4649760"/>
        </p:xfrm>
        <a:graphic>
          <a:graphicData uri="http://schemas.openxmlformats.org/drawingml/2006/table">
            <a:tbl>
              <a:tblPr/>
              <a:tblGrid>
                <a:gridCol w="2592360"/>
                <a:gridCol w="1738440"/>
                <a:gridCol w="1131840"/>
                <a:gridCol w="1042920"/>
                <a:gridCol w="1685880"/>
              </a:tblGrid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убина де Габриак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йна поэте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илова Екате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ософия смеха через призму литературных произве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ова Тама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гноз по ног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лёв Д., Федотов А.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орье илимских кресть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илова Екате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а детской инвалидности 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йлов Алекс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упция и соврем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джибалаев Пол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ёза в культуре и быте народов Сиби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аторова Изабе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5CD2-E5FA-4A83-AD93-AC3772D819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дметная недел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Культура речи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622680" cy="271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2847960" cy="1886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588000" y="3933720"/>
            <a:ext cx="2457720" cy="2146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24000" y="42350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неклассное мероприятие в 9 классах «Берегите чистоту русского языка, как святыню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24440" y="357264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ктивное об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3640" y="5941800"/>
            <a:ext cx="629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сценировка "Стрёмный Онегин"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A76D-B36B-462F-B860-D1ECDF6B9F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 rot="21309600">
            <a:off x="323640" y="404640"/>
            <a:ext cx="3406680" cy="255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 rot="21235800">
            <a:off x="395280" y="3284280"/>
            <a:ext cx="3314880" cy="24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 rot="315600">
            <a:off x="4800240" y="669960"/>
            <a:ext cx="3384720" cy="254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 rot="435000">
            <a:off x="5292720" y="4292640"/>
            <a:ext cx="2943360" cy="2209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9280" y="59500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Срочно нужен переводчик!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8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56000" y="3573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курс речевого этикета 7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A77BC-6F74-48AC-B122-4C8E4F1DE19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мый классный классны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хтоярова И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1037-C801-4073-B7A4-CA5CB9A6CE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704880"/>
            <a:ext cx="835344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методического объедин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24520" y="1773360"/>
            <a:ext cx="3587760" cy="4176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01976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коммуникативной компетенции учителя и учащихся как средство повышения качества образования предметов гуманитарного цик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D7243-A90D-489E-BCD9-D9C0C104E1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8930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68360" y="1700280"/>
            <a:ext cx="4495680" cy="4514400"/>
            <a:chOff x="2268360" y="1700280"/>
            <a:chExt cx="4495680" cy="4514400"/>
          </a:xfrm>
        </p:grpSpPr>
        <p:sp>
          <p:nvSpPr>
            <p:cNvPr id="204" name="Puzzle3"/>
            <p:cNvSpPr/>
            <p:nvPr/>
          </p:nvSpPr>
          <p:spPr>
            <a:xfrm>
              <a:off x="4457880" y="1700280"/>
              <a:ext cx="1766880" cy="2399040"/>
            </a:xfrm>
            <a:prstGeom prst="pie">
              <a:avLst/>
            </a:prstGeom>
            <a:gradFill rotWithShape="0">
              <a:gsLst>
                <a:gs pos="0">
                  <a:srgbClr val="904806"/>
                </a:gs>
                <a:gs pos="100000">
                  <a:srgbClr val="e5730b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uzzle2"/>
            <p:cNvSpPr/>
            <p:nvPr/>
          </p:nvSpPr>
          <p:spPr>
            <a:xfrm>
              <a:off x="3943800" y="3448080"/>
              <a:ext cx="2820240" cy="2184840"/>
            </a:xfrm>
            <a:prstGeom prst="pie">
              <a:avLst/>
            </a:prstGeom>
            <a:gradFill rotWithShape="0">
              <a:gsLst>
                <a:gs pos="0">
                  <a:srgbClr val="aedaf0"/>
                </a:gs>
                <a:gs pos="100000">
                  <a:srgbClr val="4fb0e1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Puzzle4"/>
            <p:cNvSpPr/>
            <p:nvPr/>
          </p:nvSpPr>
          <p:spPr>
            <a:xfrm>
              <a:off x="2851920" y="342108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8b5e6"/>
                </a:gs>
                <a:gs pos="100000">
                  <a:srgbClr val="1a72d2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Puzzle1"/>
            <p:cNvSpPr/>
            <p:nvPr/>
          </p:nvSpPr>
          <p:spPr>
            <a:xfrm>
              <a:off x="2268360" y="2426040"/>
              <a:ext cx="2855520" cy="1665360"/>
            </a:xfrm>
            <a:prstGeom prst="pie">
              <a:avLst/>
            </a:prstGeom>
            <a:gradFill rotWithShape="0">
              <a:gsLst>
                <a:gs pos="0">
                  <a:srgbClr val="4e5c27"/>
                </a:gs>
                <a:gs pos="100000">
                  <a:srgbClr val="aac856"/>
                </a:gs>
              </a:gsLst>
              <a:lin ang="135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24000" y="167652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d8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198900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d8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400536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d8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0360" y="3500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d8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43280" y="1484280"/>
            <a:ext cx="5041800" cy="503280"/>
          </a:xfrm>
          <a:custGeom>
            <a:avLst/>
            <a:gdLst>
              <a:gd name="textAreaLeft" fmla="*/ 882360 w 5041800"/>
              <a:gd name="textAreaRight" fmla="*/ 3655440 w 504180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14343"/>
              </a:gs>
              <a:gs pos="50000">
                <a:srgbClr val="f9bf8b"/>
              </a:gs>
              <a:gs pos="100000">
                <a:srgbClr val="f14343"/>
              </a:gs>
            </a:gsLst>
            <a:lin ang="5400000"/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93080" y="2852640"/>
            <a:ext cx="1439640" cy="647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14343"/>
              </a:gs>
              <a:gs pos="50000">
                <a:srgbClr val="f9bf8b"/>
              </a:gs>
              <a:gs pos="100000">
                <a:srgbClr val="f14343"/>
              </a:gs>
            </a:gsLst>
            <a:lin ang="10800000"/>
          </a:gradFill>
          <a:ln w="25560">
            <a:solidFill>
              <a:srgbClr val="e57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67640" y="5804640"/>
            <a:ext cx="8064360" cy="574920"/>
          </a:xfrm>
          <a:custGeom>
            <a:avLst/>
            <a:gdLst>
              <a:gd name="textAreaLeft" fmla="*/ 1411200 w 8064360"/>
              <a:gd name="textAreaRight" fmla="*/ 5846760 w 8064360"/>
              <a:gd name="textAreaTop" fmla="*/ 77040 h 574920"/>
              <a:gd name="textAreaBottom" fmla="*/ 497880 h 57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14343"/>
              </a:gs>
              <a:gs pos="50000">
                <a:srgbClr val="f9bf8b"/>
              </a:gs>
              <a:gs pos="100000">
                <a:srgbClr val="f14343"/>
              </a:gs>
            </a:gsLst>
            <a:lin ang="5400000"/>
          </a:gradFill>
          <a:ln w="25560">
            <a:solidFill>
              <a:srgbClr val="e57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68360" y="2924280"/>
            <a:ext cx="1439640" cy="720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14343"/>
              </a:gs>
              <a:gs pos="50000">
                <a:srgbClr val="f9bf8b"/>
              </a:gs>
              <a:gs pos="100000">
                <a:srgbClr val="f14343"/>
              </a:gs>
            </a:gsLst>
            <a:lin ang="10800000"/>
          </a:gradFill>
          <a:ln w="25560">
            <a:solidFill>
              <a:srgbClr val="e57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692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аши кабин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19640" y="155736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йонный па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59280" y="3141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8000" y="2565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7640" y="60213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кольный па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941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88000" y="42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4DA8-91FF-497E-8C9A-3455A9E636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203640" y="4292640"/>
            <a:ext cx="4495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иатдинова Татья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340000" y="1700280"/>
            <a:ext cx="5400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a72d2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Спасибо за внимание,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a72d2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a72d2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уважаемые коллеги! 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a72d2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a72d2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Успехов и удачи в работе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a72d2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763640" y="3716280"/>
            <a:ext cx="557280" cy="568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885080" y="2060640"/>
            <a:ext cx="533520" cy="42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FB322-F748-42AA-ADE4-B54CC1197D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5690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1125360"/>
            <a:ext cx="2952720" cy="1224000"/>
          </a:xfrm>
          <a:prstGeom prst="ellipse">
            <a:avLst/>
          </a:prstGeom>
          <a:gradFill rotWithShape="0">
            <a:gsLst>
              <a:gs pos="0">
                <a:srgbClr val="4fb0e1"/>
              </a:gs>
              <a:gs pos="100000">
                <a:srgbClr val="9bd1e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1268280"/>
            <a:ext cx="2521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39640" y="1628640"/>
          <a:ext cx="8191440" cy="4692960"/>
        </p:xfrm>
        <a:graphic>
          <a:graphicData uri="http://schemas.openxmlformats.org/drawingml/2006/table"/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C6FC-6063-49B1-94CB-3C89E6635C5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704880"/>
            <a:ext cx="755964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дачи на 2011-2012 уч год: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условий для свободного самовыражения каждого педагога, для удовлетворения его потребности в саморазвитии, самообразовании и самосовершенствова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в практику работы учителей  гуманитарного цикла современных образовательных технологий, направленных на развитие самостоятельности, творчества, активности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духовного облика и нравственных ориентиров молодого поколения путем активизации внеклассной деятельности по гуманитарным предмет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ение и совершенствование мониторинго-диагностической системы отслеживания сформированности компетенций учителя и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чественное освоение учебно-методических программ по  предметам гуманитарного цикла, обеспечение стабильных результатов в реализации новых государственных образовательных стандартов и в достижении новых образовательных ц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7404-5E34-47ED-A506-F045786209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мы заседаний М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ование раб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ические ресурсы современного урока в достижении нового качества знаний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внеклассной работы как важная составляющая  часть нравственного вос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учителей в режиме развития как условие обеспечения качества образовательн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43BE-A8F2-4A0A-8F9F-3C6E18B264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704880"/>
            <a:ext cx="806436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тодические вопросы, рассматриваемые на заседаниях М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формирования коммуникативной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новыми технологиями в преподавании русского языка и литературы, истории,  обществознания, иностранн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работы со слабоуспевающими учащимися на уро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ы и методы организации внеклассной деятельности учителей МО по предме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137C-95F3-48BF-AA2A-378F421F76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30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тодические вопросы, рассматриваемые на заседаниях М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гвистическое сочинение - показатель коммуникативной компетен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бования стандартов образования к системе качества образовательн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правильно написать Э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результатов пробного ЕГЭ в 11 кл и пробного тестирования в 9 кл. Организация работы над ликвидацией выявленных недостатков и пробелов в знаниях уч-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B32D-3BA5-4DAF-947A-1C3CFFB220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5690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268280"/>
            <a:ext cx="2521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628640"/>
          <a:ext cx="8191440" cy="4276800"/>
        </p:xfrm>
        <a:graphic>
          <a:graphicData uri="http://schemas.openxmlformats.org/drawingml/2006/table">
            <a:tbl>
              <a:tblPr/>
              <a:tblGrid>
                <a:gridCol w="1654200"/>
                <a:gridCol w="653724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 русского языка и лит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оммуникативных навыков и умений на уроках  русск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шарина В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оммуникативных навыков и умений на уроках  лит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ва О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речевой культуры как средство личностного развития школьников на уроках литерату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бышева И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речевой культуры как средство личностного развития школьников на уроках русск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на Т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зовские технологии как средство формирования коммуникативной компетен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 ис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сследовательская работа на уроках и во внеурочное время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винцева М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ые методы обучения на уроках ис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 иностранн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тоярова И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творческого обучения английскому язы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хоменко И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я речевого поведения в англоязычной сред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187280" y="836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Темы по самообразов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FCBF-5913-488E-8CDD-21F2CFCA8E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рсы повышения квалификац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e573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творческого обуч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Бухтоярова И.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573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ключевых ИКТ- компетен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оева О.В.,Чибышева И.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573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построения и содержание интересного урока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оев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573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ка к ГИА по русскому я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бышева И.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6B34-0D18-44DA-9858-523818B388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37:03Z</dcterms:created>
  <dc:creator>О.А.Овчинникова</dc:creator>
  <dc:description/>
  <dc:language>en-US</dc:language>
  <cp:lastModifiedBy>Admin</cp:lastModifiedBy>
  <dcterms:modified xsi:type="dcterms:W3CDTF">2013-03-28T10:34:57Z</dcterms:modified>
  <cp:revision>56</cp:revision>
  <dc:subject/>
  <dc:title>PowerPoint Template</dc:title>
</cp:coreProperties>
</file>