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1C66-72C5-46AD-BCD6-6715B68B0F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7495-F7B5-4BB0-8393-9925000D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4272-7209-41E3-A3A4-7E649336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896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896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3331-32FA-468F-874E-7B3FE04B19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D69FC-4D2F-486C-83AC-53D37FA085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F2C87-C3D1-4DD6-9131-A6706D1759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0C0C1-C06D-4D5F-BDA3-35A08431B8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D8EB6-7E4F-4463-8897-29BDDD778E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8A972-C7AE-420E-8033-45518C49FF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7040" y="704880"/>
            <a:ext cx="56386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FF633-205E-4AEF-AD78-CBB177C9FE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77FBE-DC88-45EB-A4AA-B9F28D9412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D8B9-9501-43E2-B306-B515254C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DF58B-DB4E-4035-B2F1-267160BADF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215E9-DCF8-4FC8-AD56-98FB1175DB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91217-D47E-448D-8428-5EB767C4E3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84EC0-4184-4CA5-920E-1C4C8A7318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8960" y="16286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64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8960" y="4080240"/>
            <a:ext cx="263736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B7BFF-F8FF-44FE-BCDA-8899D68EDB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F98B-9E7E-4D98-819F-89D49B09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9873-1862-4B9D-BCE7-259950B6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369E-A377-462B-935E-750B7B89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704880"/>
            <a:ext cx="56386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C3D2-E2CF-46B6-94F3-248FC136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5B4A-F46C-4655-A258-22988362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6880" y="40802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358A-D775-4F0E-9746-9FDA3659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880" y="1628640"/>
            <a:ext cx="399708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0240"/>
            <a:ext cx="8191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D68F-ED9C-4C6F-9A7B-71D0BB5C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fb0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5308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0d8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73B9-615D-48F0-A97A-3180B063A6CC}" type="slidenum">
              <a:rPr b="0" lang="en-US" sz="1000" spc="-1" strike="noStrike">
                <a:solidFill>
                  <a:srgbClr val="220d8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0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0d8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12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2171880" y="6270480"/>
            <a:ext cx="229680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380880" y="64609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5867-36B2-4E03-9C4E-9B0E6EB09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d8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fb0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0d8d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220d8d"/>
                </a:solidFill>
                <a:latin typeface="Verdana"/>
              </a:rPr>
              <a:t>Школьное методическое объединение учителей гуманитарного цикла</a:t>
            </a:r>
            <a:endParaRPr b="1" lang="en-US" sz="2800" spc="-1" strike="noStrike">
              <a:solidFill>
                <a:srgbClr val="220d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11280" y="4436640"/>
            <a:ext cx="561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кольный научно-методический семин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6714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162920" y="2806560"/>
            <a:ext cx="635040" cy="54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6093000"/>
            <a:ext cx="8642160" cy="765000"/>
          </a:xfrm>
          <a:prstGeom prst="rect">
            <a:avLst/>
          </a:prstGeom>
          <a:solidFill>
            <a:srgbClr val="ffffff"/>
          </a:solidFill>
          <a:ln w="381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0d8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220d8d"/>
                </a:solidFill>
                <a:latin typeface="Arial"/>
              </a:rPr>
              <a:t>Зиатдинова Татьяна Александровна, руководитель Ш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765000"/>
            <a:ext cx="3025800" cy="621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реля 201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7E5D9-3DF3-401A-9F86-2D94D3DB11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704880"/>
            <a:ext cx="633096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тификат по ИКТ-компетен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овременные образовательные технологии в практической профессиональной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тернет – технологии в профессиональной деятельности педагог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атдинова Т.А., Юрина Т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83AD-50A5-42DE-AB9B-08CDEF491A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тест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хтоярова И.М.-  экзамен на подтверждение соответствия занимаемой долж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рина Т.Ю. – подтвердила 1 кв катег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BD17-E2AD-4F97-B47C-180489E532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лективные курс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914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 пятёрке шаг за ша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ведение в  язык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ребряный век рус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йте дар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збука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вые качества молод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новы потребительских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тория в 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удеса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7AC4-6B33-403E-8672-67A85608CF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итель год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швинцева М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076640" cy="3057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68280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6BCE-B468-450E-9A98-337ED33C3E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704880"/>
            <a:ext cx="74880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крытые уроки и внеклассные мероприят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ждение независимой республики Голлан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земледельцев и ремесленников в Егип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«Школа 21 ве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и препинания при обра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классное мероприятие «Культура реч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мся писать пись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– соревнование «Крестики-нол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я игра «Англоязычные стра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речевого этик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классное мероприятие «Срочно нужен переводчик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«Берегите чистоту русского языка, как святыню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Н Культура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пословиц и поговор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ная гостиная «Лицейское братств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3585-CEA3-4FE2-931C-0518C440D4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91440" cy="4692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-114480"/>
            <a:ext cx="9144000" cy="6972480"/>
            <a:chOff x="0" y="-114480"/>
            <a:chExt cx="9144000" cy="6972480"/>
          </a:xfrm>
        </p:grpSpPr>
        <p:graphicFrame>
          <p:nvGraphicFramePr>
            <p:cNvPr id="123" name="Object 1"/>
            <p:cNvGraphicFramePr/>
            <p:nvPr/>
          </p:nvGraphicFramePr>
          <p:xfrm>
            <a:off x="0" y="-114480"/>
            <a:ext cx="9144000" cy="697248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124" name="Object 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-114480"/>
                      <a:ext cx="9144000" cy="697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2987640" y="1440"/>
              <a:ext cx="2448000" cy="1512720"/>
            </a:xfrm>
            <a:prstGeom prst="pentagon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F4E3-C469-4EE3-9251-D0F4E70A348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704880"/>
            <a:ext cx="8748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3a8e2">
                  <a:alpha val="12156"/>
                </a:srgbClr>
              </a:gs>
              <a:gs pos="50000">
                <a:srgbClr val="1a72d2"/>
              </a:gs>
              <a:gs pos="100000">
                <a:srgbClr val="73a8e2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227664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fb0e1"/>
              </a:gs>
              <a:gs pos="100000">
                <a:srgbClr val="9bd1e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1989000"/>
            <a:ext cx="4175280" cy="571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росси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2852640"/>
            <a:ext cx="4248000" cy="569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гион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3716280"/>
            <a:ext cx="424836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уницип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65300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к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3573360"/>
            <a:ext cx="3002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321300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ровень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33360"/>
            <a:ext cx="58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частие членов МО в конкур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азличн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1F36-DA93-4304-8188-D3E493D411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704880"/>
            <a:ext cx="87138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астие членов МО совместно с детьми  в конкурсах различного уровн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772080" cy="2504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969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российский открытый заочный конкурс «Интеллект-экспресс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 «Любимый русский» 5-8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 роста: Всероссийская дистан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 «В гостях у Буквозная» 5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российский открытый заочный конкурс «Интеллект-экспресс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  «Мир литературы» 7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дународный конкурс «Русский медвежонок – языкознание для все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 роста: Всероссийский дистанцио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иц-турнир «Раз-словечко, два – словечко» 5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конкурс сочинений «Если бы я был президентом» 9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курс сочинений «Загляни в мамины глаз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ая НПК 7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ПК старшеклассников 9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773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усский язык,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AE92-A030-48B5-BA07-A189E4B2EB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765000"/>
            <a:ext cx="8748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я, общество, прав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816360" cy="2516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01976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импиада по основам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танционная мульти-олимпиада - марафон «Цифровая план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й игровой конкурс «Золотое ру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ая научная конференция школьников  «Открытие»в г.Ярослав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ая Н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ПК старшекласс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501336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лимпиады по предметам        гуманитар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A72E-EAE4-46F3-B091-3378C4FD35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глийский язы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96908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очный конкурс «Симфония уро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пект урока «Новогодний фейервер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й конкурс    «Британский бульдо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танционная олимпиада для 6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роста: Всероссийский дистанционный Блиц-турнир «Еда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кторина «Рождественское настроение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 переводчик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российская предметная олимпиада по англ языку 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27560" y="1557360"/>
            <a:ext cx="391644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A040-4385-4085-80C4-8280D1737E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704880"/>
            <a:ext cx="504036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исленность педагогов: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разование педагогов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ше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валификационные категории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ысшая – 1;              первая – 3; вторая –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аж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лее 25 лет – 2; от 15 до 25 лет – 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5 до 15 лет –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1258920" y="620640"/>
            <a:ext cx="678636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e2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тистические данные 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e2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E7A1-B6E1-4E82-9483-371AE60F58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704880"/>
            <a:ext cx="70848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умы и конферен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ум «Образование Приилимья»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л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российская пед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Организация образовательного процесса в условиях перехода на новые образов стандарты» -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л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российская пед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Новые образоват стандарты: проблемы реализации»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л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йонная  научно-практическая конференция «Информационные технологии в образовании Приилимья»-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иатдинова Т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5885-AC74-4A5B-8015-974EB3CA5B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640" y="1628640"/>
          <a:ext cx="8191440" cy="4861080"/>
        </p:xfrm>
        <a:graphic>
          <a:graphicData uri="http://schemas.openxmlformats.org/drawingml/2006/table">
            <a:tbl>
              <a:tblPr/>
              <a:tblGrid>
                <a:gridCol w="3024360"/>
                <a:gridCol w="1871640"/>
                <a:gridCol w="649080"/>
                <a:gridCol w="960480"/>
                <a:gridCol w="1685880"/>
              </a:tblGrid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российский открытый заочный конкурс «Интеллект-экспресс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ина «Любимый русск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дамина 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уреева По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 Рам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ербаев Са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оса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бышева И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конкурс «Русский медвежонок – языкознание для все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 Рам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ербаев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реги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муни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бышева И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конкурс    «Британский бульдо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Оле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жная В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(муни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хоменко И.Н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 конкурс сочинений «Если бы я был президентом Росс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бышев Геннад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 участия детей в конкурса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42E8-737B-41E6-9A94-8991529362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560" y="765000"/>
            <a:ext cx="856944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ультаты участия в олимпиада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628640"/>
          <a:ext cx="8191440" cy="4692600"/>
        </p:xfrm>
        <a:graphic>
          <a:graphicData uri="http://schemas.openxmlformats.org/drawingml/2006/table">
            <a:tbl>
              <a:tblPr/>
              <a:tblGrid>
                <a:gridCol w="1693800"/>
                <a:gridCol w="2637000"/>
                <a:gridCol w="1131840"/>
                <a:gridCol w="1042920"/>
                <a:gridCol w="168588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ербаев Алекса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ехан А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ецкий Александр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кач 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ецкий Алекса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Оле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анская Алин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женко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ушина И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аторова Изабе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шенко Ив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035E-FC74-49F1-BC67-AACC41D18A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62748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91440" cy="4692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6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576B-A771-4083-A1C3-F97005E3626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704880"/>
            <a:ext cx="8964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3573360"/>
            <a:ext cx="3240360" cy="2519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505320"/>
            <a:ext cx="3033720" cy="143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573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усский язы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«Речевой этикет современного подрост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ecceb"/>
              </a:gs>
              <a:gs pos="100000">
                <a:srgbClr val="4fb0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5d1ef"/>
              </a:gs>
              <a:gs pos="100000">
                <a:srgbClr val="1a7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059280" y="1557360"/>
            <a:ext cx="2998440" cy="1600920"/>
            <a:chOff x="3059280" y="1557360"/>
            <a:chExt cx="2998440" cy="1600920"/>
          </a:xfrm>
        </p:grpSpPr>
        <p:grpSp>
          <p:nvGrpSpPr>
            <p:cNvPr id="165" name=""/>
            <p:cNvGrpSpPr/>
            <p:nvPr/>
          </p:nvGrpSpPr>
          <p:grpSpPr>
            <a:xfrm>
              <a:off x="3059280" y="1699920"/>
              <a:ext cx="2998440" cy="1458360"/>
              <a:chOff x="3059280" y="1699920"/>
              <a:chExt cx="2998440" cy="1458360"/>
            </a:xfrm>
          </p:grpSpPr>
          <p:sp>
            <p:nvSpPr>
              <p:cNvPr id="166" name=""/>
              <p:cNvSpPr/>
              <p:nvPr/>
            </p:nvSpPr>
            <p:spPr>
              <a:xfrm>
                <a:off x="3092040" y="1746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c3765"/>
                  </a:gs>
                  <a:gs pos="100000">
                    <a:srgbClr val="1a72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59280" y="1699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1a72d2"/>
                  </a:gs>
                  <a:gs pos="100000">
                    <a:srgbClr val="98bf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200760" y="1557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e5730b"/>
                </a:gs>
                <a:gs pos="100000">
                  <a:srgbClr val="69350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35680" y="1564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f4cda9"/>
                </a:gs>
                <a:gs pos="100000">
                  <a:srgbClr val="e5730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62680" y="1577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e5730b">
                    <a:alpha val="48235"/>
                  </a:srgbClr>
                </a:gs>
                <a:gs pos="100000">
                  <a:srgbClr val="b45a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94440" y="1604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e5730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724360" y="3573360"/>
            <a:ext cx="274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тор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Современный взгляд на загадки египетских пирами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635280" y="4797360"/>
            <a:ext cx="1692360" cy="1727280"/>
          </a:xfrm>
          <a:prstGeom prst="rect">
            <a:avLst/>
          </a:prstGeom>
          <a:ln w="38160">
            <a:solidFill>
              <a:srgbClr val="e5730b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41964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0F9C-969C-4757-8678-D227AADBE8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704880"/>
            <a:ext cx="874872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3a8e2">
                  <a:alpha val="12156"/>
                </a:srgbClr>
              </a:gs>
              <a:gs pos="50000">
                <a:srgbClr val="1a72d2"/>
              </a:gs>
              <a:gs pos="100000">
                <a:srgbClr val="73a8e2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227664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fb0e1"/>
              </a:gs>
              <a:gs pos="100000">
                <a:srgbClr val="9bd1e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учно-практ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арше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В мир поис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мир нау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мир твор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1628640"/>
            <a:ext cx="4174920" cy="571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ерубина де Габриа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айна поэт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40360" y="2349360"/>
            <a:ext cx="4248000" cy="569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илософия смеха через приз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3068640"/>
            <a:ext cx="424836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ерёза в культуре народов Сиби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37893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иагноз по ног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4365720"/>
            <a:ext cx="4465800" cy="642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блема детской инвали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5084640"/>
            <a:ext cx="4753080" cy="57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af4"/>
              </a:gs>
              <a:gs pos="100000">
                <a:srgbClr val="aac856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ворье илимских 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5805360"/>
            <a:ext cx="6624720" cy="64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5ef"/>
              </a:gs>
              <a:gs pos="100000">
                <a:srgbClr val="e5730b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згляд на коррупцию соврем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90CB-533C-43CF-B0BD-274E272414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НПК  старшеклассник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1628640"/>
          <a:ext cx="8191440" cy="4649760"/>
        </p:xfrm>
        <a:graphic>
          <a:graphicData uri="http://schemas.openxmlformats.org/drawingml/2006/table">
            <a:tbl>
              <a:tblPr/>
              <a:tblGrid>
                <a:gridCol w="2592360"/>
                <a:gridCol w="1738440"/>
                <a:gridCol w="1131840"/>
                <a:gridCol w="1042920"/>
                <a:gridCol w="1685880"/>
              </a:tblGrid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убина де Габриа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на поэте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лова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ософия смеха через призму литературных произве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ова Там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ноз по ног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лёв Д., Федотов А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орье илимских кресть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лова Екат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 детской инвалидности 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йлов 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упция и соврем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джибалаев По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ёза в культуре и быте народов Сиби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аторова Изабе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CC96-7BC1-4F93-8657-1E6302E248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метная недел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ультура речи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622680" cy="271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2847960" cy="1886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588000" y="3933720"/>
            <a:ext cx="2457720" cy="2146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4000" y="42350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еклассное мероприятие в 9 классах «Берегите чистоту русского языка, как святыню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24440" y="357264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ктивное об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5941800"/>
            <a:ext cx="629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сценировка "Стрёмный Онегин"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E4D2-31A3-4E07-9958-722922524F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21309600">
            <a:off x="323640" y="404640"/>
            <a:ext cx="3406680" cy="255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 rot="21235800">
            <a:off x="395280" y="3284280"/>
            <a:ext cx="3314880" cy="24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 rot="315600">
            <a:off x="4800240" y="669960"/>
            <a:ext cx="3384720" cy="254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 rot="435000">
            <a:off x="5292720" y="4292640"/>
            <a:ext cx="2943360" cy="2209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9280" y="59500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Срочно нужен переводчик!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8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3573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курс речевого этикета 7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470D-AFDF-4038-919C-08FC39D1AD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ый классный классны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хтоярова И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6B8F-501B-4A32-B215-8DBD89F480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704880"/>
            <a:ext cx="835344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методического объедин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4520" y="1773360"/>
            <a:ext cx="3587760" cy="417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01976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коммуникативной компетенции учителя и учащихся как средство повышения качества образования предметов гуманитарного цик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D426-BB39-434F-A460-46766A311F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8930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68360" y="1700280"/>
            <a:ext cx="4495680" cy="4514400"/>
            <a:chOff x="2268360" y="1700280"/>
            <a:chExt cx="4495680" cy="4514400"/>
          </a:xfrm>
        </p:grpSpPr>
        <p:sp>
          <p:nvSpPr>
            <p:cNvPr id="204" name="Puzzle3"/>
            <p:cNvSpPr/>
            <p:nvPr/>
          </p:nvSpPr>
          <p:spPr>
            <a:xfrm>
              <a:off x="4457880" y="1700280"/>
              <a:ext cx="1766880" cy="2399040"/>
            </a:xfrm>
            <a:prstGeom prst="pie">
              <a:avLst/>
            </a:prstGeom>
            <a:gradFill rotWithShape="0">
              <a:gsLst>
                <a:gs pos="0">
                  <a:srgbClr val="904806"/>
                </a:gs>
                <a:gs pos="100000">
                  <a:srgbClr val="e5730b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uzzle2"/>
            <p:cNvSpPr/>
            <p:nvPr/>
          </p:nvSpPr>
          <p:spPr>
            <a:xfrm>
              <a:off x="3943800" y="3448080"/>
              <a:ext cx="2820240" cy="2184840"/>
            </a:xfrm>
            <a:prstGeom prst="pie">
              <a:avLst/>
            </a:prstGeom>
            <a:gradFill rotWithShape="0">
              <a:gsLst>
                <a:gs pos="0">
                  <a:srgbClr val="aedaf0"/>
                </a:gs>
                <a:gs pos="100000">
                  <a:srgbClr val="4fb0e1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Puzzle4"/>
            <p:cNvSpPr/>
            <p:nvPr/>
          </p:nvSpPr>
          <p:spPr>
            <a:xfrm>
              <a:off x="2851920" y="342108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8b5e6"/>
                </a:gs>
                <a:gs pos="100000">
                  <a:srgbClr val="1a72d2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Puzzle1"/>
            <p:cNvSpPr/>
            <p:nvPr/>
          </p:nvSpPr>
          <p:spPr>
            <a:xfrm>
              <a:off x="2268360" y="2426040"/>
              <a:ext cx="2855520" cy="1665360"/>
            </a:xfrm>
            <a:prstGeom prst="pie">
              <a:avLst/>
            </a:prstGeom>
            <a:gradFill rotWithShape="0">
              <a:gsLst>
                <a:gs pos="0">
                  <a:srgbClr val="4e5c27"/>
                </a:gs>
                <a:gs pos="100000">
                  <a:srgbClr val="aac856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24000" y="167652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19890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00536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3500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d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3280" y="1484280"/>
            <a:ext cx="5041800" cy="503280"/>
          </a:xfrm>
          <a:custGeom>
            <a:avLst/>
            <a:gdLst>
              <a:gd name="textAreaLeft" fmla="*/ 882360 w 5041800"/>
              <a:gd name="textAreaRight" fmla="*/ 3655440 w 504180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5400000"/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2852640"/>
            <a:ext cx="143964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10800000"/>
          </a:gradFill>
          <a:ln w="255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67640" y="5804640"/>
            <a:ext cx="8064360" cy="574920"/>
          </a:xfrm>
          <a:custGeom>
            <a:avLst/>
            <a:gdLst>
              <a:gd name="textAreaLeft" fmla="*/ 1411200 w 8064360"/>
              <a:gd name="textAreaRight" fmla="*/ 5846760 w 8064360"/>
              <a:gd name="textAreaTop" fmla="*/ 77040 h 574920"/>
              <a:gd name="textAreaBottom" fmla="*/ 4978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5400000"/>
          </a:gradFill>
          <a:ln w="255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68360" y="2924280"/>
            <a:ext cx="1439640" cy="72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14343"/>
              </a:gs>
              <a:gs pos="50000">
                <a:srgbClr val="f9bf8b"/>
              </a:gs>
              <a:gs pos="100000">
                <a:srgbClr val="f14343"/>
              </a:gs>
            </a:gsLst>
            <a:lin ang="10800000"/>
          </a:gradFill>
          <a:ln w="25560">
            <a:solidFill>
              <a:srgbClr val="e57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692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ши каби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19640" y="155736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йонный 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59280" y="3141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2565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6021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кольный 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941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3A75-A9CF-4808-BE71-EA078A2C52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203640" y="4292640"/>
            <a:ext cx="4495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атдин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40000" y="1700280"/>
            <a:ext cx="5400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72d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Спасибо за внимание,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72d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72d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уважаемые коллеги! 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72d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72d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Успехов и удачи в работе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72d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763640" y="3716280"/>
            <a:ext cx="557280" cy="568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885080" y="2060640"/>
            <a:ext cx="533520" cy="42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DDA64-A65F-412C-B4C0-877895E642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5690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1125360"/>
            <a:ext cx="2952720" cy="1224000"/>
          </a:xfrm>
          <a:prstGeom prst="ellipse">
            <a:avLst/>
          </a:prstGeom>
          <a:gradFill rotWithShape="0">
            <a:gsLst>
              <a:gs pos="0">
                <a:srgbClr val="4fb0e1"/>
              </a:gs>
              <a:gs pos="100000">
                <a:srgbClr val="9bd1e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9640" y="1628640"/>
          <a:ext cx="8191440" cy="4692960"/>
        </p:xfrm>
        <a:graphic>
          <a:graphicData uri="http://schemas.openxmlformats.org/drawingml/2006/table"/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FB40-FA40-40DF-8742-7AB0D2FE38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704880"/>
            <a:ext cx="755964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и на 2011-2012 уч год: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условий для свободного самовыражения каждого педагога, для удовлетворения его потребности в саморазвитии, самообразовании и самосовершенствов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в практику работы учителей  гуманитарного цикла современных образовательных технологий, направленных на развитие самостоятельности, творчества, активност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духовного облика и нравственных ориентиров молодого поколения путем активизации внеклассной деятельности по гуманитарным предме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ение и совершенствование мониторинго-диагностической системы отслеживания сформированности компетенций учителя 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енное освоение учебно-методических программ по  предметам гуманитарного цикла, обеспечение стабильных результатов в реализации новых государственных образовательных стандартов и в достижении новых образовательных ц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0416-1DBF-4DBD-9B96-F2969E14D6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мы заседаний М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ие ресурсы современного урока в достижении нового качества знани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внеклассной работы как важная составляющая  часть нравственного вос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учителей в режиме развития как условие обеспечения качества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6CC9-F540-4DCB-916E-5044E94C5B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704880"/>
            <a:ext cx="806436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ические вопросы, рассматриваемые на заседаниях М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формирования коммуникативной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новыми технологиями в преподавании русского языка и литературы, истории,  обществознания,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работы со слабоуспевающими учащимися на уро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ы и методы организации внеклассной деятельности учителей МО по пред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DA7B-AFCC-4616-8406-3AC8070B9E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30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тодические вопросы, рассматриваемые на заседаниях М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гвистическое сочинение - показатель коммуникативной компете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стандартов образования к системе качества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авильно написать 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0d8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результатов пробного ЕГЭ в 11 кл и пробного тестирования в 9 кл. Организация работы над ликвидацией выявленных недостатков и пробелов в знаниях уч-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FA34-A6EA-40EF-8DED-74FEE951BB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5690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26828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628640"/>
          <a:ext cx="8191440" cy="4276800"/>
        </p:xfrm>
        <a:graphic>
          <a:graphicData uri="http://schemas.openxmlformats.org/drawingml/2006/table">
            <a:tbl>
              <a:tblPr/>
              <a:tblGrid>
                <a:gridCol w="1654200"/>
                <a:gridCol w="653724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русского языка и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атдинова Т.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оммуникативных навыков и умений на уроках  рус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шарина В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оммуникативных навыков и умений на уроках 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ечевой культуры как средство личностного развития школьников на уроках литерату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бышева И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ечевой культуры как средство личностного развития школьников на уроках рус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а Т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зовские технологии как средство формирования коммуникативной компетен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 С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следовательская работа на уроках и во внеурочное время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винцева М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ые методы обучения на уроках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иностранн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тоярова И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творческого обучения английскому язы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хоменко И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я речевого поведения в англоязычной сред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187280" y="836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емы по самообразов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6939-7033-4142-BE6A-82F0B811F9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704880"/>
            <a:ext cx="56386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рсы повышения квалифик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91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творческого обуч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ухтоярова И.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ключевых ИКТ- компете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оева О.В.,Чибышева И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построения и содержание интересного урока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ое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573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к ГИА по русскому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бышева И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0D36-1FCD-4BC3-BD2E-8D399855D4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37:03Z</dcterms:created>
  <dc:creator>О.А.Овчинникова</dc:creator>
  <dc:description/>
  <dc:language>en-US</dc:language>
  <cp:lastModifiedBy>Admin</cp:lastModifiedBy>
  <dcterms:modified xsi:type="dcterms:W3CDTF">2013-03-28T10:34:57Z</dcterms:modified>
  <cp:revision>56</cp:revision>
  <dc:subject/>
  <dc:title>PowerPoint Template</dc:title>
</cp:coreProperties>
</file>