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17.jpeg" ContentType="image/jpeg"/>
  <Override PartName="/ppt/media/image13.wmf" ContentType="image/x-wmf"/>
  <Override PartName="/ppt/media/image9.png" ContentType="image/png"/>
  <Override PartName="/ppt/media/image12.wmf" ContentType="image/x-wmf"/>
  <Override PartName="/ppt/media/image4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.png" ContentType="image/png"/>
  <Override PartName="/ppt/media/image2.jpeg" ContentType="image/jpeg"/>
  <Override PartName="/ppt/media/image7.jpeg" ContentType="image/jpeg"/>
  <Override PartName="/ppt/media/image10.wmf" ContentType="image/x-wmf"/>
  <Override PartName="/ppt/media/image5.wmf" ContentType="image/x-wmf"/>
  <Override PartName="/ppt/media/image6.jpeg" ContentType="image/jpeg"/>
  <Override PartName="/ppt/media/image8.png" ContentType="image/png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BB353-9FE3-4AC7-AFEE-E25BC8058E8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57040" y="627480"/>
            <a:ext cx="56386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191440" cy="22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9640" y="4080240"/>
            <a:ext cx="8191440" cy="22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A72B8-4451-4FD6-A3A8-EDEF225D8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057040" y="627480"/>
            <a:ext cx="56386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3997080" cy="22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36880" y="1628640"/>
            <a:ext cx="3997080" cy="22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9640" y="4080240"/>
            <a:ext cx="3997080" cy="22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36880" y="4080240"/>
            <a:ext cx="3997080" cy="22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BA8CC-A5C9-472F-870E-09B4F54DD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057040" y="627480"/>
            <a:ext cx="56386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2637360" cy="22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09120" y="1628640"/>
            <a:ext cx="2637360" cy="22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8960" y="1628640"/>
            <a:ext cx="2637360" cy="22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9640" y="4080240"/>
            <a:ext cx="2637360" cy="22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09120" y="4080240"/>
            <a:ext cx="2637360" cy="22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8960" y="4080240"/>
            <a:ext cx="2637360" cy="22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6E494-F0CF-4784-9D36-BBB31231C04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097E31-6FF1-4B88-95D3-F31B14A5F9E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057040" y="627480"/>
            <a:ext cx="56386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39640" y="1628640"/>
            <a:ext cx="8191440" cy="469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BA517C-DE53-4D8E-B2BF-7B68F6F630C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057040" y="627480"/>
            <a:ext cx="56386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191440" cy="46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61B3D0-43B5-4D24-A3FF-91CAFB7A91C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057040" y="627480"/>
            <a:ext cx="56386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3997080" cy="46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36880" y="1628640"/>
            <a:ext cx="3997080" cy="46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02A970-B540-4ED7-90C7-A3A73878210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7040" y="627480"/>
            <a:ext cx="56386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00A943-931E-4663-B813-395293F7CAE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057040" y="704880"/>
            <a:ext cx="563868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07D35D-3E11-4302-9271-DC3AEA982A7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057040" y="627480"/>
            <a:ext cx="56386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3997080" cy="22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36880" y="1628640"/>
            <a:ext cx="3997080" cy="46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39640" y="4080240"/>
            <a:ext cx="3997080" cy="22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C7B2EC-2B93-40EF-8D28-10F8D8353DE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057040" y="627480"/>
            <a:ext cx="56386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9640" y="1628640"/>
            <a:ext cx="8191440" cy="469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F6527-CA1B-448D-BAF6-364CC7439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057040" y="627480"/>
            <a:ext cx="56386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3997080" cy="46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36880" y="1628640"/>
            <a:ext cx="3997080" cy="22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36880" y="4080240"/>
            <a:ext cx="3997080" cy="22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EECC66-27F6-4901-8EA9-6D397EB02B3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057040" y="627480"/>
            <a:ext cx="56386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3997080" cy="22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36880" y="1628640"/>
            <a:ext cx="3997080" cy="22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39640" y="4080240"/>
            <a:ext cx="8191440" cy="22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7891EF-B66F-4264-88AA-100454787D8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057040" y="627480"/>
            <a:ext cx="56386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191440" cy="22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39640" y="4080240"/>
            <a:ext cx="8191440" cy="22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DD3052-9736-4CD9-9B9E-A46E53C93F3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057040" y="627480"/>
            <a:ext cx="56386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3997080" cy="22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36880" y="1628640"/>
            <a:ext cx="3997080" cy="22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9640" y="4080240"/>
            <a:ext cx="3997080" cy="22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36880" y="4080240"/>
            <a:ext cx="3997080" cy="22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A20E44-1213-4D93-B5D7-A748D97EF6A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057040" y="627480"/>
            <a:ext cx="56386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2637360" cy="22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628640"/>
            <a:ext cx="2637360" cy="22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8960" y="1628640"/>
            <a:ext cx="2637360" cy="22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39640" y="4080240"/>
            <a:ext cx="2637360" cy="22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4080240"/>
            <a:ext cx="2637360" cy="22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8960" y="4080240"/>
            <a:ext cx="2637360" cy="22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70125F-9607-4FDD-BF63-1F3C68F2F98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057040" y="627480"/>
            <a:ext cx="56386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191440" cy="46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12650-0559-4923-8979-E75EFDCE4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57040" y="627480"/>
            <a:ext cx="56386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3997080" cy="46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36880" y="1628640"/>
            <a:ext cx="3997080" cy="46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9F5E6-D26A-432A-9DD5-258F3B5C0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057040" y="627480"/>
            <a:ext cx="56386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08005-80AB-4FCB-B76C-88D8E7C77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057040" y="704880"/>
            <a:ext cx="563868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BDBC8-1344-441F-A197-F80E48FC3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057040" y="627480"/>
            <a:ext cx="56386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3997080" cy="22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36880" y="1628640"/>
            <a:ext cx="3997080" cy="46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9640" y="4080240"/>
            <a:ext cx="3997080" cy="22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126FF-5307-4AB8-8D63-02D258AFE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57040" y="627480"/>
            <a:ext cx="56386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3997080" cy="46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880" y="1628640"/>
            <a:ext cx="3997080" cy="22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36880" y="4080240"/>
            <a:ext cx="3997080" cy="22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FC587-F1C3-45CA-ADA1-F0FBD889B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57040" y="627480"/>
            <a:ext cx="56386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3997080" cy="22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880" y="1628640"/>
            <a:ext cx="3997080" cy="22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9640" y="4080240"/>
            <a:ext cx="8191440" cy="22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0307A-2F48-4EFF-97A4-2692BD1AB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39640" y="1628640"/>
            <a:ext cx="8191440" cy="46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20d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5730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4fb0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4191120" y="6553080"/>
            <a:ext cx="83808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20d8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E21C7-4377-4B3A-94A9-119BDF269BB5}" type="slidenum">
              <a:rPr b="0" lang="en-US" sz="1000" spc="-1" strike="noStrike">
                <a:solidFill>
                  <a:srgbClr val="220d8d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2057040" y="704880"/>
            <a:ext cx="5638680" cy="4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2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20d8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20d8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1238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ftr" idx="3"/>
          </p:nvPr>
        </p:nvSpPr>
        <p:spPr>
          <a:xfrm>
            <a:off x="2171880" y="6270480"/>
            <a:ext cx="2296800" cy="2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4"/>
          </p:nvPr>
        </p:nvSpPr>
        <p:spPr>
          <a:xfrm>
            <a:off x="380880" y="6460920"/>
            <a:ext cx="4572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2BC63-A88F-4BCB-8B8B-165352457A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title"/>
          </p:nvPr>
        </p:nvSpPr>
        <p:spPr>
          <a:xfrm>
            <a:off x="2742840" y="2438280"/>
            <a:ext cx="4800600" cy="11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0d8d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220d8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4fb0e1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package" Target="../embeddings/oleObject1.pptx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2840" y="2438280"/>
            <a:ext cx="4800600" cy="11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0d8d"/>
                </a:solidFill>
                <a:latin typeface="Verdana"/>
              </a:rPr>
              <a:t>   </a:t>
            </a:r>
            <a:r>
              <a:rPr b="1" lang="ru-RU" sz="2800" spc="-1" strike="noStrike">
                <a:solidFill>
                  <a:srgbClr val="220d8d"/>
                </a:solidFill>
                <a:latin typeface="Verdana"/>
              </a:rPr>
              <a:t>Школьное методическое объединение учителей гуманитарного цикла</a:t>
            </a:r>
            <a:endParaRPr b="1" lang="en-US" sz="2800" spc="-1" strike="noStrike">
              <a:solidFill>
                <a:srgbClr val="220d8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2411280" y="4436640"/>
            <a:ext cx="5616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Школьный научно-методический семина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362320" y="2666880"/>
            <a:ext cx="671400" cy="6858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7162920" y="2806560"/>
            <a:ext cx="635040" cy="5461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50920" y="6093000"/>
            <a:ext cx="8642160" cy="765000"/>
          </a:xfrm>
          <a:prstGeom prst="rect">
            <a:avLst/>
          </a:prstGeom>
          <a:solidFill>
            <a:srgbClr val="ffffff"/>
          </a:solidFill>
          <a:ln w="38160">
            <a:solidFill>
              <a:srgbClr val="e573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20d8d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220d8d"/>
                </a:solidFill>
                <a:latin typeface="Arial"/>
              </a:rPr>
              <a:t>Зиатдинова Татьяна Александровна, руководитель ШМ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364000" y="765000"/>
            <a:ext cx="3025800" cy="621000"/>
          </a:xfrm>
          <a:prstGeom prst="rect">
            <a:avLst/>
          </a:prstGeom>
          <a:solidFill>
            <a:srgbClr val="ffffff"/>
          </a:solidFill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5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преля 2012 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9EE623-84F3-46E3-B2FE-0AC7CAB17AA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057400" y="704880"/>
            <a:ext cx="6330960" cy="4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ертификат по ИКТ-компетентности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191440" cy="46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грамма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«Современные образовательные технологии в практической профессиональной деятельност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ециализация «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Интернет – технологии в профессиональной деятельности педагог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иатдинова Т.А., Юрина Т.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7635B-7647-4887-A49C-FEB17E3A51B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057040" y="704880"/>
            <a:ext cx="5638680" cy="4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ттестация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191440" cy="46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20d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ухтоярова И.М.-  экзамен на подтверждение соответствия занимаемой должнос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20d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Юрина Т.Ю. – подтвердила 1 кв категор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274AB-535D-4035-B4F5-3A1A1C681B7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476280"/>
            <a:ext cx="9144000" cy="93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Элективные курсы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19144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20d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 пятёрке шаг за шаг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20d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ведение в  языкозн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20d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Ритор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20d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еребряный век русской литера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20d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Развивайте дар ре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20d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збука Эконом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20d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Деловые качества молодого чело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20d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сновы потребительских знан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20d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История в лиц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20d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Научно-исследовательская деятельность учащих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20d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Чудеса св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CE4B8-8AEF-4B7D-B773-3D2D482E797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057040" y="704880"/>
            <a:ext cx="5638680" cy="4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Учитель года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191440" cy="46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20d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швинцева М.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95280" y="2781360"/>
            <a:ext cx="4076640" cy="30574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148360" y="1989000"/>
            <a:ext cx="3682800" cy="3816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E4733-A641-40E0-98D6-65097CDE0C6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71640" y="704880"/>
            <a:ext cx="7488000" cy="4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ткрытые уроки и внеклассные мероприятия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191440" cy="46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20d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ождение независимой республики Голланд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20d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изнь земледельцев и ремесленников в Егип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20d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ект «Школа 21 века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20d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наки препинания при обраще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20d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неклассное мероприятие «Культура реч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20d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имся писать пись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20d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рок – соревнование «Крестики-нолик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20d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воя игра «Англоязычные страны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20d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курс речевого этик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20d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неклассное мероприятие «Срочно нужен переводчик!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20d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рок «Берегите чистоту русского языка, как святыню!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20d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ВН Культура реч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20d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курс пословиц и поговоро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20d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итературная гостиная «Лицейское братство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CF86B-AAF0-4EFC-971C-AFC11DFE171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057040" y="627480"/>
            <a:ext cx="56386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8191440" cy="469296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0" y="-114480"/>
            <a:ext cx="9144000" cy="6972480"/>
            <a:chOff x="0" y="-114480"/>
            <a:chExt cx="9144000" cy="6972480"/>
          </a:xfrm>
        </p:grpSpPr>
        <p:graphicFrame>
          <p:nvGraphicFramePr>
            <p:cNvPr id="123" name="Object 1"/>
            <p:cNvGraphicFramePr/>
            <p:nvPr/>
          </p:nvGraphicFramePr>
          <p:xfrm>
            <a:off x="0" y="-114480"/>
            <a:ext cx="9144000" cy="6972480"/>
          </p:xfrm>
          <a:graphic>
            <a:graphicData uri="http://schemas.openxmlformats.org/presentationml/2006/ole">
              <p:oleObj progId="PowerPoint.Show.12" r:id="rId2" spid="">
                <p:embed/>
                <p:pic>
                  <p:nvPicPr>
                    <p:cNvPr id="124" name="Object 1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-114480"/>
                      <a:ext cx="9144000" cy="6972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2987640" y="1440"/>
              <a:ext cx="2448000" cy="1512720"/>
            </a:xfrm>
            <a:prstGeom prst="pentagon">
              <a:avLst/>
            </a:prstGeom>
            <a:solidFill>
              <a:srgbClr val="00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Информационные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технологи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971C9-409F-47C7-9119-2E36389F7C50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95280" y="704880"/>
            <a:ext cx="8748720" cy="4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143000" y="1981080"/>
            <a:ext cx="3833640" cy="3834000"/>
          </a:xfrm>
          <a:prstGeom prst="donut">
            <a:avLst>
              <a:gd name="adj" fmla="val 8861"/>
            </a:avLst>
          </a:prstGeom>
          <a:gradFill rotWithShape="0">
            <a:gsLst>
              <a:gs pos="0">
                <a:srgbClr val="73a8e2">
                  <a:alpha val="12156"/>
                </a:srgbClr>
              </a:gs>
              <a:gs pos="50000">
                <a:srgbClr val="1a72d2"/>
              </a:gs>
              <a:gs pos="100000">
                <a:srgbClr val="73a8e2">
                  <a:alpha val="1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476360" y="2276640"/>
            <a:ext cx="3200400" cy="3200400"/>
          </a:xfrm>
          <a:prstGeom prst="ellipse">
            <a:avLst/>
          </a:prstGeom>
          <a:gradFill rotWithShape="0">
            <a:gsLst>
              <a:gs pos="0">
                <a:srgbClr val="4fb0e1"/>
              </a:gs>
              <a:gs pos="100000">
                <a:srgbClr val="9bd1ed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995640" y="1989000"/>
            <a:ext cx="4175280" cy="5716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cf5ef"/>
              </a:gs>
              <a:gs pos="100000">
                <a:srgbClr val="e5730b"/>
              </a:gs>
            </a:gsLst>
            <a:lin ang="10800000"/>
          </a:gra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сероссий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284720" y="2852640"/>
            <a:ext cx="4248000" cy="569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9faf4"/>
              </a:gs>
              <a:gs pos="100000">
                <a:srgbClr val="aac856"/>
              </a:gs>
            </a:gsLst>
            <a:lin ang="10800000"/>
          </a:gra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региональ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643280" y="3716280"/>
            <a:ext cx="4248360" cy="576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cf5ef"/>
              </a:gs>
              <a:gs pos="100000">
                <a:srgbClr val="e5730b"/>
              </a:gs>
            </a:gsLst>
            <a:lin ang="10800000"/>
          </a:gra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муниципаль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356000" y="4653000"/>
            <a:ext cx="378144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9faf4"/>
              </a:gs>
              <a:gs pos="100000">
                <a:srgbClr val="aac856"/>
              </a:gs>
            </a:gsLst>
            <a:lin ang="10800000"/>
          </a:gra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школь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332000" y="3573360"/>
            <a:ext cx="30020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979640" y="3213000"/>
            <a:ext cx="252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Уровень конкур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619280" y="333360"/>
            <a:ext cx="586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Участие членов МО в конкурс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различного уров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83CAB-6AF5-43C5-81DA-543576CFAAF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8920" y="704880"/>
            <a:ext cx="8713800" cy="4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Участие членов МО совместно с детьми  в конкурсах различного уровня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5003640" y="2637000"/>
            <a:ext cx="3772080" cy="250488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4969080" cy="46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220d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сероссийский открытый заочный конкурс «Интеллект-экспресс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икторина «Любимый русский» 5-8 клас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220d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актор роста: Всероссийская дистанцион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икторина «В гостях у Буквозная» 5 к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220d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сероссийский открытый заочный конкурс «Интеллект-экспресс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икторина  «Мир литературы» 7 к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220d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еждународный конкурс «Русский медвежонок – языкознание для всех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220d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актор роста: Всероссийский дистанционн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лиц-турнир «Раз-словечко, два – словечко» 5 к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220d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гиональный конкурс сочинений «Если бы я был президентом» 9 к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220d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нкурс сочинений «Загляни в мамины глаз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220d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алая НПК 7 к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220d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ПК старшеклассников 9 к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51640" y="1773360"/>
            <a:ext cx="33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Русский язык, литерату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8C88C-3E6D-4205-9D03-BBD768E5EDA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76360" y="765000"/>
            <a:ext cx="8748720" cy="4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стория, общество, право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5148360" y="2349360"/>
            <a:ext cx="3816360" cy="251640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4019760" cy="46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20d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лимпиада по основам нау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20d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истанционная мульти-олимпиада - марафон «Цифровая планет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20d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ждународный игровой конкурс «Золотое руно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20d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оссийская научная конференция школьников  «Открытие»в г.Ярославл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20d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лая НП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20d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ПК старшеклассни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84720" y="5013360"/>
            <a:ext cx="4572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220d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лимпиады по предметам        гуманитарного цик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220d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FF916-8046-4D9B-A498-1E65DB42B12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057040" y="704880"/>
            <a:ext cx="5638680" cy="4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нглийский язык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4969080" cy="46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220d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очный конкурс «Симфония урок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220d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спект урока «Новогодний фейерверк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220d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ждународный конкурс    «Британский бульдог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220d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истанционная олимпиада для 6 клас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220d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актор роста: Всероссийский дистанционный Блиц-турнир «Еда»,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икторина «Рождественское настроение»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220d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курс переводчиков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220d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российская предметная олимпиада по англ языку  для младших школьни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5227560" y="1557360"/>
            <a:ext cx="3916440" cy="3168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DDF1F-9E0C-46DC-A893-6986510699B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99640" y="704880"/>
            <a:ext cx="5040360" cy="4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191440" cy="46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20d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Численность педагогов: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20d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Образование педагогов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ысшее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20d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Квалификационные категории: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высшая – 1;              первая – 3; вторая – 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20d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Стаж: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более 25 лет – 2; от 15 до 25 лет – 5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т 5 до 15 лет – 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WordArt 9"/>
          <p:cNvSpPr txBox="1"/>
          <p:nvPr/>
        </p:nvSpPr>
        <p:spPr>
          <a:xfrm>
            <a:off x="1258920" y="620640"/>
            <a:ext cx="6786360" cy="69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00e2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татистические данные </a:t>
            </a:r>
            <a:endParaRPr b="0" lang="en-US" sz="1800" spc="1" strike="noStrike">
              <a:ln w="9360">
                <a:solidFill>
                  <a:srgbClr val="3366ff"/>
                </a:solidFill>
                <a:miter/>
              </a:ln>
              <a:solidFill>
                <a:srgbClr val="00e2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DB890-2A83-4FC2-A815-87B0D6DA210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11280" y="704880"/>
            <a:ext cx="7084800" cy="4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Форумы и конференции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191440" cy="46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220d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ум «Образование Приилимья» -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Малова С.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20d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сероссийская пед конференц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«Организация образовательного процесса в условиях перехода на новые образов стандарты» -       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Малова С.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20d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сероссийская пед конференц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«Новые образоват стандарты: проблемы реализации»-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Малова С.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20d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Районная  научно-практическая конференция «Информационные технологии в образовании Приилимья»-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Зиатдинова Т.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57CD6-B9B8-41D6-AB46-19E5D5C3317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95280" y="1268280"/>
            <a:ext cx="2521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539640" y="1628640"/>
          <a:ext cx="8191440" cy="4861080"/>
        </p:xfrm>
        <a:graphic>
          <a:graphicData uri="http://schemas.openxmlformats.org/drawingml/2006/table">
            <a:tbl>
              <a:tblPr/>
              <a:tblGrid>
                <a:gridCol w="3024360"/>
                <a:gridCol w="1871640"/>
                <a:gridCol w="649080"/>
                <a:gridCol w="960480"/>
                <a:gridCol w="1685880"/>
              </a:tblGrid>
              <a:tr h="47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кур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ни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ст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российский открытый заочный конкурс «Интеллект-экспресс»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кторина «Любимый русский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рдамина Дарь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гуреева Пол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иатдинов Рами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мербаев Саш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оса Екатер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иатдинова Т.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иатдинова Т.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бышева И.Ф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Юрина Т.Ю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Юрина Т.Ю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ждународный конкурс «Русский медвежонок – языкознание для всех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иатдинов Рами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мербаев Саш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(регион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(муниц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бышева И.Ф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Юрина Т.Ю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ждународный конкурс    «Британский бульдог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ева Оле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режная В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(муниц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рхоменко И.Н.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гиональный конкурс сочинений «Если бы я был президентом России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бышев Геннад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иатдинова Т.А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057040" y="704880"/>
            <a:ext cx="5638680" cy="4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езультаты  участия детей в конкурсах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D4D36-CE79-4B3B-B0CD-7089C044BF8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74560" y="765000"/>
            <a:ext cx="8569440" cy="4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езультаты участия в олимпиадах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95280" y="1268280"/>
            <a:ext cx="2521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539640" y="1628640"/>
          <a:ext cx="8191440" cy="4692600"/>
        </p:xfrm>
        <a:graphic>
          <a:graphicData uri="http://schemas.openxmlformats.org/drawingml/2006/table">
            <a:tbl>
              <a:tblPr/>
              <a:tblGrid>
                <a:gridCol w="1693800"/>
                <a:gridCol w="2637000"/>
                <a:gridCol w="1131840"/>
                <a:gridCol w="1042920"/>
                <a:gridCol w="1685880"/>
              </a:tblGrid>
              <a:tr h="35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м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ни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ст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сский язы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мербаев Александ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Юрина Т.Ю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жехан Але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иатдинова Т.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лецкий Александр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иатдинова Т.А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ркач Дарь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иатдинова Т.А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терату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лецкий Александ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иатдинова Т.А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ева Оле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иатдинова Т.А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чанская Алина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Юрина Т.Ю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вженко Екатер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лова С.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рушина Ир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лова С.В.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ираторова Изабел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лова С.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гошенко Ива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лова С.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6BA69-5AE0-4E29-BFD3-7DE05132C26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057040" y="627480"/>
            <a:ext cx="56386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8191440" cy="46929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8261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33797-74B7-493F-9C34-7722796EEEE2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79280" y="704880"/>
            <a:ext cx="8964720" cy="4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724360" y="3573360"/>
            <a:ext cx="3240360" cy="25196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95280" y="3505320"/>
            <a:ext cx="3033720" cy="14364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39640" y="3573360"/>
            <a:ext cx="280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Русский язык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«Речевой этикет современного подрост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222720" y="340848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8ecceb"/>
              </a:gs>
              <a:gs pos="100000">
                <a:srgbClr val="4fb0e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74400" y="340848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b5d1ef"/>
              </a:gs>
              <a:gs pos="100000">
                <a:srgbClr val="1a72d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3059280" y="1557360"/>
            <a:ext cx="2998440" cy="1600920"/>
            <a:chOff x="3059280" y="1557360"/>
            <a:chExt cx="2998440" cy="1600920"/>
          </a:xfrm>
        </p:grpSpPr>
        <p:grpSp>
          <p:nvGrpSpPr>
            <p:cNvPr id="165" name=""/>
            <p:cNvGrpSpPr/>
            <p:nvPr/>
          </p:nvGrpSpPr>
          <p:grpSpPr>
            <a:xfrm>
              <a:off x="3059280" y="1699920"/>
              <a:ext cx="2998440" cy="1458360"/>
              <a:chOff x="3059280" y="1699920"/>
              <a:chExt cx="2998440" cy="1458360"/>
            </a:xfrm>
          </p:grpSpPr>
          <p:sp>
            <p:nvSpPr>
              <p:cNvPr id="166" name=""/>
              <p:cNvSpPr/>
              <p:nvPr/>
            </p:nvSpPr>
            <p:spPr>
              <a:xfrm>
                <a:off x="3092040" y="174636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0c3765"/>
                  </a:gs>
                  <a:gs pos="100000">
                    <a:srgbClr val="1a72d2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059280" y="1699920"/>
                <a:ext cx="2965680" cy="1411560"/>
              </a:xfrm>
              <a:prstGeom prst="ellipse">
                <a:avLst/>
              </a:prstGeom>
              <a:gradFill rotWithShape="0">
                <a:gsLst>
                  <a:gs pos="0">
                    <a:srgbClr val="1a72d2"/>
                  </a:gs>
                  <a:gs pos="100000">
                    <a:srgbClr val="98bfe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" name=""/>
            <p:cNvSpPr/>
            <p:nvPr/>
          </p:nvSpPr>
          <p:spPr>
            <a:xfrm>
              <a:off x="3200760" y="1557360"/>
              <a:ext cx="2684520" cy="1341360"/>
            </a:xfrm>
            <a:prstGeom prst="ellipse">
              <a:avLst/>
            </a:prstGeom>
            <a:gradFill rotWithShape="0">
              <a:gsLst>
                <a:gs pos="0">
                  <a:srgbClr val="e5730b"/>
                </a:gs>
                <a:gs pos="100000">
                  <a:srgbClr val="69350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235680" y="1564920"/>
              <a:ext cx="2619360" cy="1307880"/>
            </a:xfrm>
            <a:prstGeom prst="ellipse">
              <a:avLst/>
            </a:prstGeom>
            <a:gradFill rotWithShape="0">
              <a:gsLst>
                <a:gs pos="0">
                  <a:srgbClr val="f4cda9"/>
                </a:gs>
                <a:gs pos="100000">
                  <a:srgbClr val="e5730b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262680" y="1577880"/>
              <a:ext cx="2492280" cy="1221840"/>
            </a:xfrm>
            <a:prstGeom prst="ellipse">
              <a:avLst/>
            </a:prstGeom>
            <a:gradFill rotWithShape="0">
              <a:gsLst>
                <a:gs pos="0">
                  <a:srgbClr val="e5730b">
                    <a:alpha val="48235"/>
                  </a:srgbClr>
                </a:gs>
                <a:gs pos="100000">
                  <a:srgbClr val="b45a0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394440" y="1604880"/>
              <a:ext cx="2193840" cy="990000"/>
            </a:xfrm>
            <a:prstGeom prst="ellipse">
              <a:avLst/>
            </a:prstGeom>
            <a:gradFill rotWithShape="0">
              <a:gsLst>
                <a:gs pos="0">
                  <a:srgbClr val="e5730b">
                    <a:alpha val="38039"/>
                  </a:srgbClr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5724360" y="3573360"/>
            <a:ext cx="2741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История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«Современный взгляд на загадки египетских пирамид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3635280" y="4797360"/>
            <a:ext cx="1692360" cy="1727280"/>
          </a:xfrm>
          <a:prstGeom prst="rect">
            <a:avLst/>
          </a:prstGeom>
          <a:ln w="38160">
            <a:solidFill>
              <a:srgbClr val="e5730b"/>
            </a:solidFill>
            <a:miter/>
          </a:ln>
        </p:spPr>
      </p:pic>
      <p:sp>
        <p:nvSpPr>
          <p:cNvPr id="174" name=""/>
          <p:cNvSpPr/>
          <p:nvPr/>
        </p:nvSpPr>
        <p:spPr>
          <a:xfrm>
            <a:off x="3419640" y="191628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НП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98AD1-3CF0-4B95-9C49-D9000DE27D6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95280" y="704880"/>
            <a:ext cx="8748720" cy="4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143000" y="1981080"/>
            <a:ext cx="3833640" cy="3834000"/>
          </a:xfrm>
          <a:prstGeom prst="donut">
            <a:avLst>
              <a:gd name="adj" fmla="val 8861"/>
            </a:avLst>
          </a:prstGeom>
          <a:gradFill rotWithShape="0">
            <a:gsLst>
              <a:gs pos="0">
                <a:srgbClr val="73a8e2">
                  <a:alpha val="12156"/>
                </a:srgbClr>
              </a:gs>
              <a:gs pos="50000">
                <a:srgbClr val="1a72d2"/>
              </a:gs>
              <a:gs pos="100000">
                <a:srgbClr val="73a8e2">
                  <a:alpha val="1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476360" y="2276640"/>
            <a:ext cx="3200400" cy="3200400"/>
          </a:xfrm>
          <a:prstGeom prst="ellipse">
            <a:avLst/>
          </a:prstGeom>
          <a:gradFill rotWithShape="0">
            <a:gsLst>
              <a:gs pos="0">
                <a:srgbClr val="4fb0e1"/>
              </a:gs>
              <a:gs pos="100000">
                <a:srgbClr val="9bd1ed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Научно-практическ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конференц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таршеклассн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«В мир поиск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 мир наук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 мир творчеств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564000" y="1628640"/>
            <a:ext cx="4174920" cy="5716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cf5ef"/>
              </a:gs>
              <a:gs pos="100000">
                <a:srgbClr val="e5730b"/>
              </a:gs>
            </a:gsLst>
            <a:lin ang="10800000"/>
          </a:gra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Черубина де Габриа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Тайна поэтес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140360" y="2349360"/>
            <a:ext cx="4248000" cy="569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9faf4"/>
              </a:gs>
              <a:gs pos="100000">
                <a:srgbClr val="aac856"/>
              </a:gs>
            </a:gsLst>
            <a:lin ang="10800000"/>
          </a:gra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Философия смеха через призм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литературных произведе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716360" y="3068640"/>
            <a:ext cx="4248360" cy="576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cf5ef"/>
              </a:gs>
              <a:gs pos="100000">
                <a:srgbClr val="e5730b"/>
              </a:gs>
            </a:gsLst>
            <a:lin ang="10800000"/>
          </a:gra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Берёза в культуре народов Сибир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716360" y="3789360"/>
            <a:ext cx="378144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9faf4"/>
              </a:gs>
              <a:gs pos="100000">
                <a:srgbClr val="aac856"/>
              </a:gs>
            </a:gsLst>
            <a:lin ang="10800000"/>
          </a:gra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Диагноз по ногтя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572000" y="4365720"/>
            <a:ext cx="4465800" cy="6429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cf5ef"/>
              </a:gs>
              <a:gs pos="100000">
                <a:srgbClr val="e5730b"/>
              </a:gs>
            </a:gsLst>
            <a:lin ang="10800000"/>
          </a:gra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роблема детской инвалид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в Р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995640" y="5084640"/>
            <a:ext cx="4753080" cy="573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9faf4"/>
              </a:gs>
              <a:gs pos="100000">
                <a:srgbClr val="aac856"/>
              </a:gs>
            </a:gsLst>
            <a:lin ang="10800000"/>
          </a:gra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одворье илимских крестья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050920" y="5805360"/>
            <a:ext cx="6624720" cy="64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cf5ef"/>
              </a:gs>
              <a:gs pos="100000">
                <a:srgbClr val="e5730b"/>
              </a:gs>
            </a:gsLst>
            <a:lin ang="10800000"/>
          </a:gra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згляд на коррупцию современ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C0DE8-05D3-411E-BA1B-0C60DEC6F4D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057040" y="704880"/>
            <a:ext cx="5638680" cy="4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езультаты НПК  старшеклассников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539640" y="1628640"/>
          <a:ext cx="8191440" cy="4649760"/>
        </p:xfrm>
        <a:graphic>
          <a:graphicData uri="http://schemas.openxmlformats.org/drawingml/2006/table">
            <a:tbl>
              <a:tblPr/>
              <a:tblGrid>
                <a:gridCol w="2592360"/>
                <a:gridCol w="1738440"/>
                <a:gridCol w="1131840"/>
                <a:gridCol w="1042920"/>
                <a:gridCol w="1685880"/>
              </a:tblGrid>
              <a:tr h="32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ни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ст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рубина де Габриак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айна поэтесс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рилова Екатер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иатдинова Т.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илософия смеха через призму литературных произвед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Юрова Тама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тификат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лова С.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агноз по ногтя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олёв Д., Федотов А.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лова С.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ворье илимских крестья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рилова Екатер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лова С.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блема детской инвалидности в Р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хайлов Алекс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лова С.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ррупция и современ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аджибалаев Пола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тификат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лова С.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рёза в культуре и быте народов Сибир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ираторова Изабел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лова С.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AF82F-8D94-4196-BC88-220EA9181AD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79280" y="333360"/>
            <a:ext cx="5638680" cy="4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едметная неделя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«Культура речи»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3622680" cy="271800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5003640" y="1700280"/>
            <a:ext cx="2847960" cy="188604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6588000" y="3933720"/>
            <a:ext cx="2457720" cy="214632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324000" y="4235040"/>
            <a:ext cx="518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неклассное мероприятие в 9 классах «Берегите чистоту русского языка, как святыню!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924440" y="3572640"/>
            <a:ext cx="26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Активное обсу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763640" y="5941800"/>
            <a:ext cx="6297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инсценировка "Стрёмный Онегин"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59E18-A2AE-4070-A597-19CC5D36069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 rot="21309600">
            <a:off x="323640" y="404640"/>
            <a:ext cx="3406680" cy="2556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 rot="21235800">
            <a:off x="395280" y="3284280"/>
            <a:ext cx="3314880" cy="24858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 rot="315600">
            <a:off x="4800240" y="669960"/>
            <a:ext cx="3384720" cy="254160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4"/>
          <a:stretch/>
        </p:blipFill>
        <p:spPr>
          <a:xfrm rot="435000">
            <a:off x="5292720" y="4292640"/>
            <a:ext cx="2943360" cy="220968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179280" y="5950080"/>
            <a:ext cx="39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«Срочно нужен переводчик!»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8 к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356000" y="357336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онкурс речевого этикета 7 к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A340A-9DB1-4047-BA53-F6387A7928D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057040" y="704880"/>
            <a:ext cx="5638680" cy="4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амый классный классный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191440" cy="46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20d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ухтоярова И.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70ABE-105D-4273-955E-E4102B4C99B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95280" y="704880"/>
            <a:ext cx="8353440" cy="4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ема методического объединения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5024520" y="1773360"/>
            <a:ext cx="3587760" cy="417672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4019760" cy="46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20d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рмирование коммуникативной компетенции учителя и учащихся как средство повышения качества образования предметов гуманитарного цикл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81C04-FB2C-4B58-A6A7-024DB44B91E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50560" y="704880"/>
            <a:ext cx="8893080" cy="4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2268360" y="1700280"/>
            <a:ext cx="4495680" cy="4514400"/>
            <a:chOff x="2268360" y="1700280"/>
            <a:chExt cx="4495680" cy="4514400"/>
          </a:xfrm>
        </p:grpSpPr>
        <p:sp>
          <p:nvSpPr>
            <p:cNvPr id="204" name="Puzzle3"/>
            <p:cNvSpPr/>
            <p:nvPr/>
          </p:nvSpPr>
          <p:spPr>
            <a:xfrm>
              <a:off x="4457880" y="1700280"/>
              <a:ext cx="1766880" cy="2399040"/>
            </a:xfrm>
            <a:prstGeom prst="pie">
              <a:avLst/>
            </a:prstGeom>
            <a:gradFill rotWithShape="0">
              <a:gsLst>
                <a:gs pos="0">
                  <a:srgbClr val="904806"/>
                </a:gs>
                <a:gs pos="100000">
                  <a:srgbClr val="e5730b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  <a:effectLst>
              <a:outerShdw dist="134955" dir="247288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Puzzle2"/>
            <p:cNvSpPr/>
            <p:nvPr/>
          </p:nvSpPr>
          <p:spPr>
            <a:xfrm>
              <a:off x="3943800" y="3448080"/>
              <a:ext cx="2820240" cy="2184840"/>
            </a:xfrm>
            <a:prstGeom prst="pie">
              <a:avLst/>
            </a:prstGeom>
            <a:gradFill rotWithShape="0">
              <a:gsLst>
                <a:gs pos="0">
                  <a:srgbClr val="aedaf0"/>
                </a:gs>
                <a:gs pos="100000">
                  <a:srgbClr val="4fb0e1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  <a:effectLst>
              <a:outerShdw dist="134955" dir="247288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Puzzle4"/>
            <p:cNvSpPr/>
            <p:nvPr/>
          </p:nvSpPr>
          <p:spPr>
            <a:xfrm>
              <a:off x="2851920" y="3421080"/>
              <a:ext cx="1700280" cy="2793600"/>
            </a:xfrm>
            <a:prstGeom prst="pie">
              <a:avLst/>
            </a:prstGeom>
            <a:gradFill rotWithShape="0">
              <a:gsLst>
                <a:gs pos="0">
                  <a:srgbClr val="88b5e6"/>
                </a:gs>
                <a:gs pos="100000">
                  <a:srgbClr val="1a72d2"/>
                </a:gs>
              </a:gsLst>
              <a:lin ang="8100000"/>
            </a:gradFill>
            <a:ln w="57240">
              <a:solidFill>
                <a:srgbClr val="ffffff"/>
              </a:solidFill>
              <a:miter/>
            </a:ln>
            <a:effectLst>
              <a:outerShdw dist="134955" dir="247288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Puzzle1"/>
            <p:cNvSpPr/>
            <p:nvPr/>
          </p:nvSpPr>
          <p:spPr>
            <a:xfrm>
              <a:off x="2268360" y="2426040"/>
              <a:ext cx="2855520" cy="1665360"/>
            </a:xfrm>
            <a:prstGeom prst="pie">
              <a:avLst/>
            </a:prstGeom>
            <a:gradFill rotWithShape="0">
              <a:gsLst>
                <a:gs pos="0">
                  <a:srgbClr val="4e5c27"/>
                </a:gs>
                <a:gs pos="100000">
                  <a:srgbClr val="aac856"/>
                </a:gs>
              </a:gsLst>
              <a:lin ang="13500000"/>
            </a:gradFill>
            <a:ln w="57240">
              <a:solidFill>
                <a:srgbClr val="ffffff"/>
              </a:solidFill>
              <a:miter/>
            </a:ln>
            <a:effectLst>
              <a:outerShdw dist="134955" dir="247288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"/>
          <p:cNvSpPr/>
          <p:nvPr/>
        </p:nvSpPr>
        <p:spPr>
          <a:xfrm>
            <a:off x="324000" y="1676520"/>
            <a:ext cx="455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20d8d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156360" y="1989000"/>
            <a:ext cx="25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20d8d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50920" y="4005360"/>
            <a:ext cx="25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20d8d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940360" y="3500280"/>
            <a:ext cx="30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20d8d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843280" y="1484280"/>
            <a:ext cx="5041800" cy="503280"/>
          </a:xfrm>
          <a:custGeom>
            <a:avLst/>
            <a:gdLst>
              <a:gd name="textAreaLeft" fmla="*/ 882360 w 5041800"/>
              <a:gd name="textAreaRight" fmla="*/ 3655440 w 5041800"/>
              <a:gd name="textAreaTop" fmla="*/ 67320 h 503280"/>
              <a:gd name="textAreaBottom" fmla="*/ 435960 h 50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f14343"/>
              </a:gs>
              <a:gs pos="50000">
                <a:srgbClr val="f9bf8b"/>
              </a:gs>
              <a:gs pos="100000">
                <a:srgbClr val="f14343"/>
              </a:gs>
            </a:gsLst>
            <a:lin ang="5400000"/>
          </a:gra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093080" y="2852640"/>
            <a:ext cx="1439640" cy="64764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14343"/>
              </a:gs>
              <a:gs pos="50000">
                <a:srgbClr val="f9bf8b"/>
              </a:gs>
              <a:gs pos="100000">
                <a:srgbClr val="f14343"/>
              </a:gs>
            </a:gsLst>
            <a:lin ang="10800000"/>
          </a:gradFill>
          <a:ln w="25560">
            <a:solidFill>
              <a:srgbClr val="e573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67640" y="5804640"/>
            <a:ext cx="8064360" cy="574920"/>
          </a:xfrm>
          <a:custGeom>
            <a:avLst/>
            <a:gdLst>
              <a:gd name="textAreaLeft" fmla="*/ 1411200 w 8064360"/>
              <a:gd name="textAreaRight" fmla="*/ 5846760 w 8064360"/>
              <a:gd name="textAreaTop" fmla="*/ 77040 h 574920"/>
              <a:gd name="textAreaBottom" fmla="*/ 497880 h 574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f14343"/>
              </a:gs>
              <a:gs pos="50000">
                <a:srgbClr val="f9bf8b"/>
              </a:gs>
              <a:gs pos="100000">
                <a:srgbClr val="f14343"/>
              </a:gs>
            </a:gsLst>
            <a:lin ang="5400000"/>
          </a:gradFill>
          <a:ln w="25560">
            <a:solidFill>
              <a:srgbClr val="e573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468360" y="2924280"/>
            <a:ext cx="1439640" cy="72072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14343"/>
              </a:gs>
              <a:gs pos="50000">
                <a:srgbClr val="f9bf8b"/>
              </a:gs>
              <a:gs pos="100000">
                <a:srgbClr val="f14343"/>
              </a:gs>
            </a:gsLst>
            <a:lin ang="10800000"/>
          </a:gradFill>
          <a:ln w="25560">
            <a:solidFill>
              <a:srgbClr val="e573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403280" y="692280"/>
            <a:ext cx="69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Наши кабине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419640" y="1557360"/>
            <a:ext cx="38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Районный паспор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059280" y="3141720"/>
            <a:ext cx="165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№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788000" y="2565360"/>
            <a:ext cx="129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№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987640" y="6021360"/>
            <a:ext cx="51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Школьный паспор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276720" y="4941720"/>
            <a:ext cx="107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№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88000" y="422100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№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FC497-0110-4265-B87B-A7418A4DD4E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3203640" y="4292640"/>
            <a:ext cx="44956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иатдинова Татьяна Александ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2340000" y="1700280"/>
            <a:ext cx="5400720" cy="25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1a72d2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71785" dir="2700000" blurRad="0" rotWithShape="0">
                    <a:srgbClr val="c0c0c0">
                      <a:alpha val="50000"/>
                    </a:srgbClr>
                  </a:outerShdw>
                </a:effectLst>
                <a:latin typeface="Verdana"/>
              </a:rPr>
              <a:t>Спасибо за внимание,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1a72d2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71785" dir="2700000" blurRad="0" rotWithShape="0">
                  <a:srgbClr val="c0c0c0">
                    <a:alpha val="50000"/>
                  </a:srgbClr>
                </a:outerShdw>
              </a:effectLst>
              <a:latin typeface="Verdana"/>
              <a:ea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1a72d2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71785" dir="2700000" blurRad="0" rotWithShape="0">
                    <a:srgbClr val="c0c0c0">
                      <a:alpha val="50000"/>
                    </a:srgbClr>
                  </a:outerShdw>
                </a:effectLst>
                <a:latin typeface="Verdana"/>
              </a:rPr>
              <a:t>уважаемые коллеги! 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1a72d2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71785" dir="2700000" blurRad="0" rotWithShape="0">
                  <a:srgbClr val="c0c0c0">
                    <a:alpha val="50000"/>
                  </a:srgbClr>
                </a:outerShdw>
              </a:effectLst>
              <a:latin typeface="Verdana"/>
              <a:ea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1a72d2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71785" dir="2700000" blurRad="0" rotWithShape="0">
                    <a:srgbClr val="c0c0c0">
                      <a:alpha val="50000"/>
                    </a:srgbClr>
                  </a:outerShdw>
                </a:effectLst>
                <a:latin typeface="Verdana"/>
              </a:rPr>
              <a:t>Успехов и удачи в работе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1a72d2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71785" dir="2700000" blurRad="0" rotWithShape="0">
                  <a:srgbClr val="c0c0c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1763640" y="3716280"/>
            <a:ext cx="557280" cy="56844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3"/>
          <a:stretch/>
        </p:blipFill>
        <p:spPr>
          <a:xfrm>
            <a:off x="7885080" y="2060640"/>
            <a:ext cx="533520" cy="426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8DA774-7E95-434B-B849-A1E479BB249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50560" y="704880"/>
            <a:ext cx="8569080" cy="4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79280" y="1125360"/>
            <a:ext cx="2952720" cy="1224000"/>
          </a:xfrm>
          <a:prstGeom prst="ellipse">
            <a:avLst/>
          </a:prstGeom>
          <a:gradFill rotWithShape="0">
            <a:gsLst>
              <a:gs pos="0">
                <a:srgbClr val="4fb0e1"/>
              </a:gs>
              <a:gs pos="100000">
                <a:srgbClr val="9bd1ed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95280" y="1268280"/>
            <a:ext cx="2521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539640" y="1628640"/>
          <a:ext cx="8191440" cy="4692960"/>
        </p:xfrm>
        <a:graphic>
          <a:graphicData uri="http://schemas.openxmlformats.org/drawingml/2006/table"/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C7F4E-CA32-4762-9076-620D520572A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99640" y="704880"/>
            <a:ext cx="7559640" cy="4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Задачи на 2011-2012 уч год: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191440" cy="46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220d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здание условий для свободного самовыражения каждого педагога, для удовлетворения его потребности в саморазвитии, самообразовании и самосовершенствован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220d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недрение в практику работы учителей  гуманитарного цикла современных образовательных технологий, направленных на развитие самостоятельности, творчества, активности учащихс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220d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ирование духовного облика и нравственных ориентиров молодого поколения путем активизации внеклассной деятельности по гуманитарным предмета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220d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должение и совершенствование мониторинго-диагностической системы отслеживания сформированности компетенций учителя и учащихс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220d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чественное освоение учебно-методических программ по  предметам гуманитарного цикла, обеспечение стабильных результатов в реализации новых государственных образовательных стандартов и в достижении новых образовательных це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F4A70-5C4F-4215-80CE-9AD9EA0BA7A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057040" y="704880"/>
            <a:ext cx="5638680" cy="4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емы заседаний МО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191440" cy="46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20d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анирование работ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20d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дагогические ресурсы современного урока в достижении нового качества знаний учащих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20d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рганизация внеклассной работы как важная составляющая  часть нравственного воспит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20d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бота учителей в режиме развития как условие обеспечения качества образовательного процес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51917-D82E-4305-B071-FCA81D2CCE4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000" y="704880"/>
            <a:ext cx="8064360" cy="4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етодические вопросы, рассматриваемые на заседаниях МО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191440" cy="46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20d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тоды формирования коммуникативной компетен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20d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накомство с новыми технологиями в преподавании русского языка и литературы, истории,  обществознания, иностранного язы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20d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рганизация работы со слабоуспевающими учащимися на урок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20d8d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рмы и методы организации внеклассной деятельности учителей МО по предмет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BF7C0-147E-4490-873D-DB0186DA44B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50920" y="691920"/>
            <a:ext cx="8308800" cy="48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етодические вопросы, рассматриваемые на заседаниях МО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191440" cy="46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20d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ингвистическое сочинение - показатель коммуникативной компетент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20d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ебования стандартов образования к системе качества образовательного процес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20d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 правильно написать Эсс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20d8d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нализ результатов пробного ЕГЭ в 11 кл и пробного тестирования в 9 кл. Организация работы над ликвидацией выявленных недостатков и пробелов в знаниях уч-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7A5BE-E8CB-46AC-9547-31D669C89CB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0560" y="704880"/>
            <a:ext cx="8569080" cy="4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5280" y="1268280"/>
            <a:ext cx="2521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468360" y="1628640"/>
          <a:ext cx="8191440" cy="4276800"/>
        </p:xfrm>
        <a:graphic>
          <a:graphicData uri="http://schemas.openxmlformats.org/drawingml/2006/table">
            <a:tbl>
              <a:tblPr/>
              <a:tblGrid>
                <a:gridCol w="1654200"/>
                <a:gridCol w="6537240"/>
              </a:tblGrid>
              <a:tr h="30708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я русского языка и литерату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иатдинова Т.А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витие коммуникативных навыков и умений на уроках  русского язы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шарина В.С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витие коммуникативных навыков и умений на уроках  литерату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ева О.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ирование речевой культуры как средство личностного развития школьников на уроках литературы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бышева И.Ф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ирование речевой культуры как средство личностного развития школьников на уроках русского язы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Юрина Т.Ю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узовские технологии как средство формирования коммуникативной компетен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я истор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лова С.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Исследовательская работа на уроках и во внеурочное время»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швинцева М.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терактивные методы обучения на уроках истор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я иностранного язы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ухтоярова И.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тоды творческого обучения английскому язык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рхоменко И.Н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атегия речевого поведения в англоязычной сред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4" name=""/>
          <p:cNvSpPr/>
          <p:nvPr/>
        </p:nvSpPr>
        <p:spPr>
          <a:xfrm>
            <a:off x="1187280" y="836640"/>
            <a:ext cx="74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Темы по самообразован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0D561-D8C9-49E4-9E48-38E5BC38DEA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057040" y="704880"/>
            <a:ext cx="5638680" cy="4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урсы повышения квалификации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191440" cy="46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e5730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тоды творческого обучения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Бухтоярова И.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e5730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ормирование ключевых ИКТ- компетенц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троева О.В.,Чибышева И.Ф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e5730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пособы построения и содержание интересного урока литера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троева О.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e5730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дготовка к ГИА по русскому язы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Чибышева И.Ф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6E5B5-3D24-4336-9F8A-E1A88DAC877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8:37:03Z</dcterms:created>
  <dc:creator>О.А.Овчинникова</dc:creator>
  <dc:description/>
  <dc:language>en-US</dc:language>
  <cp:lastModifiedBy>Admin</cp:lastModifiedBy>
  <dcterms:modified xsi:type="dcterms:W3CDTF">2013-03-28T10:34:57Z</dcterms:modified>
  <cp:revision>56</cp:revision>
  <dc:subject/>
  <dc:title>PowerPoint Template</dc:title>
</cp:coreProperties>
</file>