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2978-AF06-4727-A68B-13839C76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3C0E-CF77-4E02-B2D1-C9ADB365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734-1423-420F-8834-88919684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FEE0-82AB-4965-BF6C-4F52B4C1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24E8F-4B08-4426-9486-E4D97860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C25D7-59B9-44DD-A9CE-AB4C5B11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1F82C-6391-452A-89EB-3E16D168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561CF-4E6C-40FF-93A8-84B59F9B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37A57-FFE1-4F16-B4D1-F43F6111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973A0-1240-4868-A2BB-A8CB2C76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53736-7404-4B50-9E51-0B1D2588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FC00-D298-48CE-95D6-BDB0E56B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C4CA8-DB80-4DBA-85F1-E6250DBB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7B7EF-01EF-4125-ACF0-EB3C9D5E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7FB06-6C09-481C-88C4-5057AF36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286FB-2DC9-47B3-BA35-6DE67DCB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CF5AB-C0CA-4801-8FBA-D1970901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D8F7-0ED9-450E-839D-0E857011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325B-44A7-43A5-AF77-B50056B6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61D0-5BA8-4A36-9B39-42141BD2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75ED-C18A-46C4-8AB5-40385694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1F7-B626-464D-8532-9F50D675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9F91-DE72-44B4-B493-814771CA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05A9-C40B-4242-94A4-5CA1CEDC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3BC4-663A-4283-AE2C-BCCA9D2E88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FF5C-2336-4BCC-AA93-E07066579FB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5562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итель  презент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иникаева Наталья Анатоль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дагог-психолог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Шумский детский са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914400" y="990720"/>
            <a:ext cx="75438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ПОМОГИТ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i-main-pic" descr="Картинка 4 из 13427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i-main-pic" descr="Картинка 5 из 13427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i-main-pic" descr="Картинка 50 из 13427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0_6955c_e879f9aa_XL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i-main-pic" descr="Картинка 99 из 13427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i-main-pic" descr="Картинка 114 из 13427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1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93680"/>
            <a:ext cx="822960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i-main-pic" descr="Картинка 2 из 13427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15T14:18:5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