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5AB-DEA6-4EB9-A674-96BC9BD7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8DC-0349-41C2-B238-9D0BC33D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A23-7134-4CEB-82BC-8682DFAF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1FC-3210-4A64-A814-E60E5BB5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9D8E5-3B77-4DB5-AB39-21BDA1B5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6C339-AC74-4EBF-A7A4-0888700B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DFFAA-11B9-46A5-AFD7-CEE9E76F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D9FAB-4CDF-45AF-9170-2D2D71CA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722A1-A9B4-4052-A1C4-C75A11C8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8263B-F123-4935-9FAD-2B704629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041FE-AE61-40D4-BA5C-94D6351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617-0AA2-4D1B-AFE0-E92B7EDC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C3805-5F4B-4920-84E0-171CD368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3D24B-DDD7-4429-9BAF-DB2A09DA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12119-0299-4A0E-A6E4-AB466DE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2BAD0-4911-4FAF-97D1-CB6BAF20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7663D-B158-4F02-BF5A-F107D33F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906-4600-4249-B796-F1C344E4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B62-B7EC-461A-9115-9F794BD6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F9E-2ACD-4740-A05D-805366C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C9D-8CB6-4DB9-8B95-FE70A7FA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5B1-C32D-4241-97DC-AF6B34B0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E56-2797-485A-9E86-9B9A9065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992-12C5-4F54-A7E4-665137C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8CA8-2079-437C-867B-068DE0000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2EF-D01B-4619-B955-8A293EC744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ель  презент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никаева Наталья Анатол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дагог-психоло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умский детский с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914400" y="990720"/>
            <a:ext cx="75438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МОГИТ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i-main-pic" descr="Картинка 4 из 13427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i-main-pic" descr="Картинка 5 из 13427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i-main-pic" descr="Картинка 50 из 13427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0_6955c_e879f9aa_XL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i-main-pic" descr="Картинка 99 из 13427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i-main-pic" descr="Картинка 114 из 13427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9368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i-main-pic" descr="Картинка 2 из 13427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5T14:18:5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