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D1CA-4AA5-4BBF-8044-58A6CE6D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F3B-8742-488A-9B3A-535C94FD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5AC-E792-40A8-A8EC-29A0D367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7EE-6F27-424E-9BBC-DF86B9E7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C2DF-0A4A-41BF-9142-FB3581F5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8CD2-C80E-43A5-9DC9-D791F8BC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ADF4-5115-4323-BE4E-C1659020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D49-2160-4133-8F97-1799FC4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57A0-8B52-4CD2-A701-9F387131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F774-DE6D-4371-AEAE-75B7AD4E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7129-3D62-4497-B0C3-F37956B1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AEC-B6A6-4545-81B8-8894AD5C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92CE-5D10-49C3-B125-C734DB5C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6C75-7455-43B0-9474-AAA14AB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562D-7616-4E69-BCBC-9FAE5305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DE2D-E24F-4EE6-90B8-F8E8E947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A104-20E8-4C35-9906-8F99C00D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C72-5F42-4209-9A1E-D7DBA1C9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425-833C-4F6C-BA4F-C036E464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372-4F19-4583-9A65-A6E5220C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6FE-DC15-4A1D-89B8-DBE1A188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E63-6479-45A7-986C-6B0B5D01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932-1127-4CDF-8D6F-660E8FD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A16-74A1-416F-AC9A-3172960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C85-1BF5-48C1-A856-37BB35993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5B0-92B6-42A7-9AEB-0FA413098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b7"/>
                </a:solidFill>
                <a:latin typeface="Arial Black"/>
              </a:rPr>
              <a:t>Народный календарь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довой кру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77120" cy="604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72440" cy="5529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79640" y="808200"/>
            <a:ext cx="7299360" cy="463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54720" cy="6477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4960" y="274680"/>
            <a:ext cx="7961400" cy="521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781600" cy="620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96920"/>
            <a:ext cx="6661440" cy="666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28600" y="838080"/>
            <a:ext cx="967428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24800" cy="5662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97240" y="244440"/>
            <a:ext cx="4583160" cy="5851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7120" y="401760"/>
            <a:ext cx="5708520" cy="5537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na</cp:lastModifiedBy>
  <dcterms:modified xsi:type="dcterms:W3CDTF">2012-09-20T16:53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