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86D8-48D4-4853-B48C-7752779C3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824B-36FF-4A41-BEBF-6FC3A94B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CA63-C0A4-4703-95C3-6C2563087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5243-1F07-4994-91E9-821728831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88B4C-8076-46A0-B112-C4EBE699B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828C-8493-4B47-B5EB-AF9E2720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273E-71B5-409B-8FBD-6C5F7E76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E195-B7C1-4797-AC84-C42E4F62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97B9C-2301-4DD4-842E-74ED0A4C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3578-31D0-4638-B876-ECF824B5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45010-7124-4AE6-9DEF-5CB12E30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A483-9CED-4427-9C8D-81AACD0E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4D52-39B5-48D3-8D21-51BDA2EE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B519-63D3-4F38-AF43-E991BC0D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8132-EF3A-41C3-8C29-A416458F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CFDE0-BEFA-4947-AC13-F4B96C52F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B8B6-1685-4A4D-8488-91AFE3074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0722-76F0-43E1-9920-2CD7419F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7A84-EC5E-4A89-AE6D-F3A3EFD2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99D1-0135-4FD4-8634-3737EEDC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603A-F9E4-4518-82E7-44CD99423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64F8-8FA9-46D9-8E28-112E4DAB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C04C-D5D1-4710-B3F7-08510FDB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1EF5-A579-4958-9C40-6940D199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2543-3D9F-4145-9527-5405D6B8E0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3DF6-1A2F-4C76-91A7-99968486C5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b7"/>
                </a:solidFill>
                <a:latin typeface="Arial Black"/>
              </a:rPr>
              <a:t>Народный календарь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одовой кру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371600" y="152280"/>
            <a:ext cx="6477120" cy="6042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372440" cy="5529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79640" y="808200"/>
            <a:ext cx="7299360" cy="4636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447920" y="228600"/>
            <a:ext cx="6354720" cy="6477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4960" y="274680"/>
            <a:ext cx="7961400" cy="5213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3880" y="152280"/>
            <a:ext cx="6096240" cy="6096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05120" y="380880"/>
            <a:ext cx="5781600" cy="6202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23880" y="196920"/>
            <a:ext cx="6661440" cy="6661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228600" y="838080"/>
            <a:ext cx="9674280" cy="52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7624800" cy="5662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397240" y="244440"/>
            <a:ext cx="4583160" cy="5851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797120" y="401760"/>
            <a:ext cx="5708520" cy="5537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ina</cp:lastModifiedBy>
  <dcterms:modified xsi:type="dcterms:W3CDTF">2012-09-20T16:53:1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