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1BA4-F128-48D9-B95A-75A696C3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9C7-14BD-4453-998A-2ACD0195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AA4-BF72-482F-8905-F631E3D7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846-4393-4985-A969-28E4D6C4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EB55-BA51-4241-B7E6-C883123E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2348-F5EE-4EEC-9633-368D8AC7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7D75-EC80-44D4-8D0E-C9BEE6BD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7515-96EE-41E5-B8C6-F156358E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50A8-6529-47A3-BD3B-89425DF1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5C23-6E31-4438-8938-C5A07E0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2581-24D7-443C-8213-3EC5B70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7FA-FC97-4225-B703-09B273A2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F258-8862-4A1B-89B0-ADEEAA4A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9E75-950A-4C24-951D-68A4B22B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EF1C-6242-4FF1-A6C5-4159E653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49F1-BC3A-4CAA-BA5E-47A33170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FE17-B4BE-495D-8360-F7B9E7EE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9B9-3ABA-497F-9943-ECC3728F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168-64B6-4B66-8B64-7AC6220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C67-2674-417F-8F26-856457B7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106D-C5DA-40A5-AEFB-CA38DD8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FD7-4F66-4D11-AC6E-EB2AAA7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E90-87D4-462E-A0BF-C9DF235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38F-C7D0-4C42-B18C-7A8FC654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18B0-BC9B-4238-A01E-F257C99D91E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9C15-89F9-4EE6-BF6E-96A403841E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700" spc="-1" strike="noStrike">
                <a:solidFill>
                  <a:srgbClr val="ffffcc"/>
                </a:solidFill>
                <a:latin typeface="Arial"/>
              </a:rPr>
              <a:t>Полховский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5700" spc="-1" strike="noStrike">
                <a:solidFill>
                  <a:srgbClr val="ffffcc"/>
                </a:solidFill>
                <a:latin typeface="Arial"/>
              </a:rPr>
              <a:t>Майдан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Майданские таратушк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52680" y="838080"/>
            <a:ext cx="426744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олонки и чаш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естные токари славились умением вытачивать из дерева блюда, солонки и глубокие чаш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26040" y="1984320"/>
            <a:ext cx="3048120" cy="38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лхово-майданская роспис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38560" y="1676520"/>
            <a:ext cx="4105440" cy="3962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1693800"/>
            <a:ext cx="4572000" cy="401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68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68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6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68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48080" y="1062000"/>
            <a:ext cx="4047840" cy="428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Назови элементы и узоры промысл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518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опросы и задани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1.Что такое «таратушки»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2.Где их начали изготавливат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.Какие ещё игрушки там делаю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4.Какую посуду вытачивают умельцы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акими ещё изделиями радуют людей мастера Полховского Майдан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писные шкатул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Очень нравились русским женщинам шкатул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5080" y="1865160"/>
            <a:ext cx="3967200" cy="38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еревянные бус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А к шкатулочкам мастера предлагали расписные бус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3440" y="1832040"/>
            <a:ext cx="4110120" cy="39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вары и чайная посуд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Вещи получались превосходные и нужные в хозяйств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41972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орговля шла бойко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к на нашей улочк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Делают шкатулочки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ружки, толкушки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ретена, игрушки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село-весел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Мастерит все сел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Везем на база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Расписной товар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Покупайте дружно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Что кому нужно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19112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грушки-таратуш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были мастера и о детях: для них –игрушки-таратушк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34340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уколки-матрёш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айдановские матрёшки прославляют красоту и величавость русских женщи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96216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743200" y="685800"/>
            <a:ext cx="4267080" cy="5486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na</cp:lastModifiedBy>
  <dcterms:modified xsi:type="dcterms:W3CDTF">2012-10-14T18:11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