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2EB-FF58-4C2B-9EF3-6F226539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BC2-22E1-4468-AA99-912A80A0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8B3-0AD0-4138-A577-A87FD248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25F-6E82-4D58-8FA5-3E5CC02E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8C29-8D9A-43F4-ACF1-7C620F61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A9A7-8D75-45CC-890F-D3596300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949E-CDBD-4809-84BA-2D6E4420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7888-6EDA-4CFF-B180-A9E29D94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38F-947C-413E-9BB4-9D6CE382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33BF-C529-47E1-B9CD-0AA1E32C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0286-D64B-4940-90DD-931AC9ED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35E-5479-49DB-84FA-5074D3E2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7E93-22AD-48B0-8A49-5D9DB5FB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502E-E5AC-4008-950B-5499A016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9ED1-9F8D-46DE-9B71-5C7D04FF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F2F8-80E5-45CC-9036-B8265B45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F2F7-7852-4DF5-9594-5147CC47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4E0-D5A4-4A6F-9025-A7C0B20B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715-1495-4A8A-9DD1-C4712D4E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4A4-E7B5-4D81-A979-91ECE00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A33-7A5C-4A0E-861F-FCCEC97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378-9460-4394-BF95-63C6B0E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529-725E-418D-93A4-49CB0C8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07E-1818-468C-A291-DB743BB0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6436-4618-4433-A484-B9560292F5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34F-FFAB-48FB-9D9C-9F37EB8EC8D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cc"/>
                </a:solidFill>
                <a:latin typeface="Arial"/>
              </a:rPr>
              <a:t>Полховский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5700" spc="-1" strike="noStrike">
                <a:solidFill>
                  <a:srgbClr val="ffffcc"/>
                </a:solidFill>
                <a:latin typeface="Arial"/>
              </a:rPr>
              <a:t>Майдан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Майданские таратушк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52680" y="838080"/>
            <a:ext cx="426744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олонки и чаш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естные токари славились умением вытачивать из дерева блюда, солонки и глубокие чаш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26040" y="1984320"/>
            <a:ext cx="3048120" cy="380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лхово-майданская роспис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38560" y="1676520"/>
            <a:ext cx="4105440" cy="3962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1693800"/>
            <a:ext cx="4572000" cy="40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68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68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6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48080" y="1062000"/>
            <a:ext cx="404784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зови элементы и узоры промыс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просы и задани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.Что такое «таратушки»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.Где их начали изготавливат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.Какие ещё игрушки там делаю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4.Какую посуду вытачивают умельцы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ими ещё изделиями радуют людей мастера Полховского Майдан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писные шкатул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чень нравились русским женщинам шкатул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5080" y="1865160"/>
            <a:ext cx="3967200" cy="38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еревянные бус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 к шкатулочкам мастера предлагали расписные бус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3440" y="1832040"/>
            <a:ext cx="4110120" cy="39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вары и чайная посуд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ещи получались превосходные и нужные в хозяйств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орговля шла бойко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к на нашей улочк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елают шкатулочки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ружки, толкушки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ретена, игрушки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село-весел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Мастерит все сел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зем на база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асписной това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купайте дружно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Что кому нужно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19112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рушки-таратуш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были мастера и о детях: для них –игрушки-таратуш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43434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уколки-матрёш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айдановские матрёшки прославляют красоту и величавость русских женщи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96216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na</cp:lastModifiedBy>
  <dcterms:modified xsi:type="dcterms:W3CDTF">2012-10-14T18:11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