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0.gif" ContentType="image/gif"/>
  <Override PartName="/ppt/media/image12.jpeg" ContentType="image/jpeg"/>
  <Override PartName="/ppt/media/image9.jpeg" ContentType="image/jpeg"/>
  <Override PartName="/ppt/media/image11.gif" ContentType="image/gif"/>
  <Override PartName="/ppt/media/image6.gif" ContentType="image/gif"/>
  <Override PartName="/ppt/media/image5.jpeg" ContentType="image/jpeg"/>
  <Override PartName="/ppt/media/image4.gif" ContentType="image/gif"/>
  <Override PartName="/ppt/media/image1.jpeg" ContentType="image/jpeg"/>
  <Override PartName="/ppt/media/image23.jpeg" ContentType="image/jpeg"/>
  <Override PartName="/ppt/media/image18.jpeg" ContentType="image/jpeg"/>
  <Override PartName="/ppt/media/image22.gif" ContentType="image/gif"/>
  <Override PartName="/ppt/media/image20.jpeg" ContentType="image/jpeg"/>
  <Override PartName="/ppt/media/image19.jpeg" ContentType="image/jpeg"/>
  <Override PartName="/ppt/media/image21.jpeg" ContentType="image/jpeg"/>
  <Override PartName="/ppt/media/image17.gif" ContentType="image/gif"/>
  <Override PartName="/ppt/media/image15.png" ContentType="image/png"/>
  <Override PartName="/ppt/media/image16.wmf" ContentType="image/x-wmf"/>
  <Override PartName="/ppt/media/image14.jpeg" ContentType="image/jpeg"/>
  <Override PartName="/ppt/media/image7.jpeg" ContentType="image/jpeg"/>
  <Override PartName="/ppt/media/image8.jpeg" ContentType="image/jpeg"/>
  <Override PartName="/ppt/media/image2.gif" ContentType="image/gi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76A9-17C6-46EA-8405-27C3F9F1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59A-5C2C-4B13-867E-D8C3974B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213A-3A40-444C-B339-24C59C79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3B90-BC46-47E3-90AA-9A755393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9E1E-6ECF-409E-910C-6A631476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6E98-35D0-4413-8F4D-339BBC61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2387-4272-484B-82A5-4A06BD3A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8CE9-460E-4064-8065-82D622C6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D0E9-1D5F-4309-8B5D-E0BBD45A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A3CE-4A09-4E76-BAE5-14B20C4A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DAEA-110E-49A1-BF73-1365497E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F35B-864E-404B-8456-0519145C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EBB1-14DB-4162-A635-36AAA218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8177-A9A4-4398-BAA5-49C0A097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7814-EA1A-4084-B9A6-B508753B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D1AA-2E27-4548-8C01-3267B398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DE76-CCC4-4CA2-856F-A4BEFB0D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771A-7313-4F79-B53B-67CC1FF3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56DA-FF15-4086-8AFB-84DDED32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34C9-C1C1-4EFB-984C-2D87C835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FDC9-9BDC-42EF-9205-F5E1671D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171D-ABA3-440A-968D-A9F1B7FF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FF6C-3877-4D82-856C-78147D75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379D-62B1-4615-949C-E854BE29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AFBA-F424-488E-886C-449099AAC5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CC47-E198-49C2-9F7E-604FF7838C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6364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356000" y="3284640"/>
            <a:ext cx="3416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ыполнила учащаяся 7 А класса Герасимова Анастасия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3429000"/>
            <a:ext cx="3024360" cy="2994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755640" y="692280"/>
            <a:ext cx="7128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>
                    <a:alpha val="90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хника лоскутной мазаики</a:t>
            </a:r>
            <a:endParaRPr b="0" lang="en-US" sz="54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>
                  <a:alpha val="90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236000" y="5516640"/>
            <a:ext cx="1195200" cy="1050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332000" y="333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КОУ СОШ №1 с.п. Село Пивань Комсомольского рай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84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384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384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384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Литерату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51847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.Костиков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оскутная техника шитье из полос.- М.,2004-13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Школа и производство 1999\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Батышев С.Я. Трудовая подготовка школьников. – М., 1989. – 197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427640" y="5084640"/>
            <a:ext cx="1125360" cy="1440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580000" y="981000"/>
            <a:ext cx="29955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и исслед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учить свойства тканей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смотреть виды ткн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бор цветовой гам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учится строить схему издел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885080" y="5661000"/>
            <a:ext cx="974880" cy="996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87280" y="62064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364000" y="2060640"/>
            <a:ext cx="2484720" cy="4032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овременное лоскутное шить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34920" y="2017800"/>
            <a:ext cx="531972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оссии традиции лоскутного шитья начали складываться 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еке. Лоскутным шитьем украшаются наволочки, салфетки, прихватки, фартуки,   сумки и т.д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скутная техника -яркое художественное явление ,вобравшее в себя богатые традиции лоскутного ремесла. Изначально все лоскутные изделия создавались вручную-стеганые одеяла, ковры, накид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042920" cy="888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4360" y="2349360"/>
            <a:ext cx="2519280" cy="3456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то нужно для работы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Швейная маши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змерительные инстру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кани и материал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ожниц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итк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тю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тделочные материал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948040" y="3902040"/>
            <a:ext cx="1450800" cy="1987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1500120" cy="2238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547640" y="4797360"/>
            <a:ext cx="895680" cy="1190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812000" y="4365720"/>
            <a:ext cx="952560" cy="1904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Характеристика и выбор ткан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0920" y="2060640"/>
            <a:ext cx="4392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 составу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ьняные, шерстяные, вискозные, синтетическ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 фактур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ягкие, жесткие, прозрачные, непрозрачные, матовые, блестящ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4704" t="2160" r="4187" b="-232"/>
          <a:stretch/>
        </p:blipFill>
        <p:spPr>
          <a:xfrm>
            <a:off x="6300720" y="1052640"/>
            <a:ext cx="2521080" cy="1944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596360" y="515772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39640" y="5300640"/>
            <a:ext cx="4260960" cy="1297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64000" y="3429000"/>
            <a:ext cx="302436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 характеру отделки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ладкокрашеные, с набивным и рельефным рисунком, пестротка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ветовое сочет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15194" r="50853" b="0"/>
          <a:stretch/>
        </p:blipFill>
        <p:spPr>
          <a:xfrm>
            <a:off x="250920" y="2060640"/>
            <a:ext cx="3279600" cy="3313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79640" y="2017800"/>
            <a:ext cx="5175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Гармония цветов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эт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вновесие цветовых пяте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ды цветовых гармони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индивидуаль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националь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географическ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социаль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Гармония родственных цвет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сочетание красок, которые принадлежат к одной цветовой области и не образуют контраст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50920" y="5300640"/>
            <a:ext cx="1230120" cy="1262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740720" y="40464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ехника лоскутного шить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76720" y="2060640"/>
            <a:ext cx="38145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Детали Выкраивают с припуском на шов 0,5-0,7 с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борку лоскутных элементов и блоков выполняют английскими булавка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лосы ткани последовательно стачивают по длинным сторон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 процессе работы необходимо всегда проверять форму элемент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ТО швов выполняют  в процессе работ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149720"/>
            <a:ext cx="1757160" cy="2236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164360" y="2349360"/>
            <a:ext cx="1533600" cy="1490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4000" y="2276640"/>
            <a:ext cx="2904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бщие правила лоскутного шить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лоскутном шитье преобладают орнамен­тальные композиции. Они основаны на комбинировании элементов — лоскутных деталей и организации их в мотивы, раппорты, ритмиче­ские ряды. Как правило, до работы непосредст­венно с текстильным лоскутом композиции решаются в графическом варианте в виде эскиза или нескольких разнообразных эскизов, из ко­торых впоследствии выбирается оптимальный. На стадии эскиза определяются не только об­щее композиционное решение, но и конструк­тивные блоки, входящие в них детали, форма деталей и их количеств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5688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ремление к творчеству и чувство гордости за свое изделие-главное в творческой деятель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оскутное шитье как ремесло не утратило своей прелести и со временем обрело больше поклонников. Работа с лоскутком рождает яркие, красочные издел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227640" y="2205000"/>
            <a:ext cx="259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5:11:26Z</dcterms:created>
  <dc:creator>пользователь</dc:creator>
  <dc:description/>
  <dc:language>en-US</dc:language>
  <cp:lastModifiedBy>Vert</cp:lastModifiedBy>
  <dcterms:modified xsi:type="dcterms:W3CDTF">2014-01-21T08:01:27Z</dcterms:modified>
  <cp:revision>33</cp:revision>
  <dc:subject/>
  <dc:title>Техника лоскутной мозаики </dc:title>
</cp:coreProperties>
</file>