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4.gif" ContentType="image/gif"/>
  <Override PartName="/ppt/media/image1.jpeg" ContentType="image/jpeg"/>
  <Override PartName="/ppt/media/image23.jpeg" ContentType="image/jpeg"/>
  <Override PartName="/ppt/media/image18.jpeg" ContentType="image/jpeg"/>
  <Override PartName="/ppt/media/image22.gif" ContentType="image/gif"/>
  <Override PartName="/ppt/media/image20.jpeg" ContentType="image/jpeg"/>
  <Override PartName="/ppt/media/image19.jpeg" ContentType="image/jpeg"/>
  <Override PartName="/ppt/media/image21.jpeg" ContentType="image/jpeg"/>
  <Override PartName="/ppt/media/image17.gif" ContentType="image/gif"/>
  <Override PartName="/ppt/media/image15.png" ContentType="image/png"/>
  <Override PartName="/ppt/media/image16.wmf" ContentType="image/x-wmf"/>
  <Override PartName="/ppt/media/image14.jpeg" ContentType="image/jpeg"/>
  <Override PartName="/ppt/media/image7.jpeg" ContentType="image/jpeg"/>
  <Override PartName="/ppt/media/image8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686-7027-4D06-AD31-BFFFA962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E48-9875-4908-96FC-5D18517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D4E-64D5-4A3B-B4C0-6AD690C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2EA-3637-4337-9098-705D8510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B96F-7EB5-47E9-93C0-6DDB349E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6B31-57C3-48F4-A3CA-484D51C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1E4-E81D-40A8-901E-0DAFC9D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EB1-145A-4FB1-B061-C57FCFBD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2D2-52D7-49B6-ACAD-246264F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6F47-02A0-4C6C-A22D-AE05D59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42BE-627C-4620-B387-7ED212A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292-7658-4054-BB0A-C59EB90D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0F3C-5214-4601-B411-475893E3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5CF3-AE91-4EFB-A1AB-9D93068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BBC1-D2DF-460A-83AA-8FB5F7C7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EDB-B8F6-45E7-BC85-F171C22B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5934-53F3-4000-A5F2-AF0930AB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0E9-883E-4540-935B-4CFC9D2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76E-9EBF-45A0-9521-58C1A62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2D3-8EB7-4C80-B87F-4833A029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B0A-6D9F-4EBF-A4C3-63B41813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40E-F315-4D87-8C42-42CC851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D5C-5BA4-4A22-A144-6F54922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9E1-AE4C-4500-8B90-908B95D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F293-F332-4539-AB47-6DDE4EA125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9EB5-84E1-4D5A-8452-2AAFB46EFE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356000" y="3284640"/>
            <a:ext cx="3416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полнила учащаяся 7 А класса Герасимова Анастасия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3024360" cy="29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55640" y="692280"/>
            <a:ext cx="712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>
                    <a:alpha val="9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ика лоскутной мазаики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>
                  <a:alpha val="9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36000" y="5516640"/>
            <a:ext cx="1195200" cy="105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32000" y="333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КОУ СОШ №1 с.п. Село Пивань Комсомол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518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.Костико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скутная техника шитье из полос.- М.,2004-13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и производство 1999\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Батышев С.Я. Трудовая подготовка школьников. – М., 1989. – 19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27640" y="5084640"/>
            <a:ext cx="112536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29955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учить свойства ткан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мотреть виды тк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бор цветовой г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учится строить схему издел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85080" y="5661000"/>
            <a:ext cx="974880" cy="996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2060640"/>
            <a:ext cx="248472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ое лоскутное шить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4920" y="2017800"/>
            <a:ext cx="531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оссии традиции лоскутного шитья начали складываться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е. Лоскутным шитьем украшаются наволочки, салфетки, прихватки, фартуки,   сумки и т.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утная техника -яркое художественное явление ,вобравшее в себя богатые традиции лоскутного ремесла. Изначально все лоскутные изделия создавались вручную-стеганые одеяла, ковры, накид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042920" cy="88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251928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нужно для работы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Швейная маш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мерительные инстру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кани и материа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ит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тю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делочные материа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48040" y="3902040"/>
            <a:ext cx="1450800" cy="1987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1500120" cy="223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895680" cy="1190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812000" y="4365720"/>
            <a:ext cx="952560" cy="190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и выбор тка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439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составу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ьняные, шерстяные, вискозные, синтетическ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фактур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гкие, жесткие, прозрачные, непрозрачные, матовые, блестя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704" t="2160" r="4187" b="-232"/>
          <a:stretch/>
        </p:blipFill>
        <p:spPr>
          <a:xfrm>
            <a:off x="6300720" y="1052640"/>
            <a:ext cx="252108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96360" y="5157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4260960" cy="129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64000" y="3429000"/>
            <a:ext cx="3024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 характеру отделки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дкокрашеные, с набивным и рельефным рисунком, пестротка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ветовое сочет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15194" r="50853" b="0"/>
          <a:stretch/>
        </p:blipFill>
        <p:spPr>
          <a:xfrm>
            <a:off x="250920" y="2060640"/>
            <a:ext cx="3279600" cy="3313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79640" y="2017800"/>
            <a:ext cx="5175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армония цветов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новесие цветовых пят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ы цветовых гармо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индивиду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национ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географ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соц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армония родственных цве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сочетание красок, которые принадлежат к одной цветовой области и не образуют контрас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1230120" cy="1262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740720" y="40464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хника лоскутного шить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76720" y="2060640"/>
            <a:ext cx="38145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тали Выкраивают с припуском на шов 0,5-0,7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борку лоскутных элементов и блоков выполняют английскими булав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осы ткани последовательно стачивают по длинным сторон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процессе работы необходимо всегда проверять форму элемен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ТО швов выполняют  в процесс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757160" cy="223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533600" cy="1490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290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бщие правила лоскутного шить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лоскутном шитье преобладают орнамен­тальные композиции. Они основаны на комбинировании элементов — лоскутных деталей и организации их в мотивы, раппорты, ритмиче­ские ряды. Как правило, до работы непосредст­венно с текстильным лоскутом композиции решаются в графическом варианте в виде эскиза или нескольких разнообразных эскизов, из ко­торых впоследствии выбирается оптимальный. На стадии эскиза определяются не только об­щее композиционное решение, но и конструк­тивные блоки, входящие в них детали, форма деталей и их количе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568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емление к творчеству и чувство гордости за свое изделие-главное в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оскутное шитье как ремесло не утратило своей прелести и со временем обрело больше поклонников. Работа с лоскутком рождает яркие, красочные издел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5:11:26Z</dcterms:created>
  <dc:creator>пользователь</dc:creator>
  <dc:description/>
  <dc:language>en-US</dc:language>
  <cp:lastModifiedBy>Vert</cp:lastModifiedBy>
  <dcterms:modified xsi:type="dcterms:W3CDTF">2014-01-21T08:01:27Z</dcterms:modified>
  <cp:revision>33</cp:revision>
  <dc:subject/>
  <dc:title>Техника лоскутной мозаики </dc:title>
</cp:coreProperties>
</file>