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A27-4685-4CAF-BD90-F344A90D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28CE-86F2-4BA0-B5D8-C8A7A52D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67B-0372-413F-904F-5B10D011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450-DBEB-4ACE-8CD4-4E760306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4DC4-FF77-4D66-A561-F862FAC3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2E9-6C1C-4596-A9F8-CFEA5E77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2E71-7A64-437F-898B-32A3E5DE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549-D273-47EB-9F95-389909DF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D8AE-FA94-48D3-92E7-D5D2C137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BC7F-7F75-44A5-A607-5546437E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05B-69FA-435A-88D3-CAEC9964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DE89-5571-4E8A-B8A6-FE152E4D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DAD9-D731-434E-BA43-9F6E27A617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s.baikal.tv/news/nimg/2003_06_30/big/R%20-%20Beshenstvo1257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m46.ru/images/bezop_ezd/034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95320" y="457200"/>
            <a:ext cx="3962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тство «Работа +»</a:t>
            </a:r>
            <a:br>
              <a:rPr sz="54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28954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иентация на выбор проф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знания учащихся о професс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в определении интересов и способ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ть о профессиональных качеств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разницу между понятиями: профессия,     специальность, долж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ести «Формулу професс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маркетолог"/>
          <p:cNvPicPr/>
          <p:nvPr/>
        </p:nvPicPr>
        <p:blipFill>
          <a:blip r:embed="rId1"/>
          <a:stretch/>
        </p:blipFill>
        <p:spPr>
          <a:xfrm>
            <a:off x="533520" y="457200"/>
            <a:ext cx="365760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04920" y="685800"/>
          <a:ext cx="8458200" cy="5349960"/>
        </p:xfrm>
        <a:graphic>
          <a:graphicData uri="http://schemas.openxmlformats.org/drawingml/2006/table">
            <a:tbl>
              <a:tblPr/>
              <a:tblGrid>
                <a:gridCol w="609480"/>
                <a:gridCol w="2590920"/>
                <a:gridCol w="1057320"/>
                <a:gridCol w="1023840"/>
                <a:gridCol w="1025280"/>
                <a:gridCol w="1127160"/>
                <a:gridCol w="1024200"/>
              </a:tblGrid>
              <a:tr h="683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уче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професс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.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 Ром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яев Ег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исов Витал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лов Алекс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рова Ка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 Андр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арова Ю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йманова Екате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 Дмит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иков Ант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ор 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, который проверяет финансовую деятельность компаний, оценивает ее успешность и эффективность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3088[1]"/>
          <p:cNvPicPr/>
          <p:nvPr/>
        </p:nvPicPr>
        <p:blipFill>
          <a:blip r:embed="rId1"/>
          <a:stretch/>
        </p:blipFill>
        <p:spPr>
          <a:xfrm>
            <a:off x="533520" y="2209680"/>
            <a:ext cx="81532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стик - 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, который координирует движение товаров на пути от производства до точек реализации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сти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(от англ.) «снабжение, материально-техническое обеспечение».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логистик"/>
          <p:cNvPicPr/>
          <p:nvPr/>
        </p:nvPicPr>
        <p:blipFill>
          <a:blip r:embed="rId1"/>
          <a:stretch/>
        </p:blipFill>
        <p:spPr>
          <a:xfrm>
            <a:off x="457200" y="2362320"/>
            <a:ext cx="822960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4280" y="685440"/>
            <a:ext cx="42674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чендайзер 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, который следит за тем, как товар его фирмы представлен в крупных магазин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 обходит магазины, дает советы по размещению товара, по оформлению витрин. 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609120"/>
            <a:ext cx="3962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мерчендазер"/>
          <p:cNvPicPr/>
          <p:nvPr/>
        </p:nvPicPr>
        <p:blipFill>
          <a:blip r:embed="rId1"/>
          <a:stretch/>
        </p:blipFill>
        <p:spPr>
          <a:xfrm>
            <a:off x="457200" y="609480"/>
            <a:ext cx="396252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6854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етоло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исследует, прогнозирует и формирует спрос на товары и услуги. Изучает его количественные и качественные характеристики. Определяет пути улучшения потребительских свойств товаров и услуг, перспективы освоения новой продукции и рынков сбы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ут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люди, которые рекламируют товары разными способами, делая их популяр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елт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пециалист, занимающийся операциями купли-продажи или аренды недвижимости, в первую очередь – жилья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елте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(от англ.) «недвижимос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ри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оздаёт цветочные композиции для праздников, свадеб, различных ритуалов, продажи в цветочных салонах, украшения интерьеров, витр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есте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test[1]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иже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постижор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 спецэффек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мастер спецэффектов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6858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 –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лужебное место, занимаемое человеком в организации, связанное с исполнением определенных обязанн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занятий в рамках одной профе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професс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 + М + Н =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знанный выбор проф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оч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все, что мне нравится, к чему лежит душ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г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все, что мне по силам, по способностя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д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все, что нужно для общества, стра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6854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Худший путь, какой только можно выбрать, - это не выбрать никакого пути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амый несчастный из людей тот, для кого в мире не оказалось работы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А.П. Чехов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 к тест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 – 8 треугольник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ип руководителя, хорошие преподаватели . Ярко выражено стремление к лидерству, хорошо разбираются в людях, работают с информ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 треугольник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тветственный исполнитель, хорошие организаторские способности. Профессионально, до мелочей, продумывающий сво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 треуголь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азнообразие интересов и талантов. Склонность к индивидуально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треугольни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тип ученого. Рационален, объективен, легко переключается с одного вида деятельности на дру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треуголь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интерес к искусству и человеку. Тонко чувствует все новое и необыч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треугольни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обретатель, конструктор, художник. Обладает богатым вообра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открытия вы для себя сделал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чувства осталис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нравилос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маркетолог"/>
          <p:cNvPicPr/>
          <p:nvPr/>
        </p:nvPicPr>
        <p:blipFill>
          <a:blip r:embed="rId1"/>
          <a:stretch/>
        </p:blipFill>
        <p:spPr>
          <a:xfrm>
            <a:off x="609480" y="3276720"/>
            <a:ext cx="79250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бы не ошибаться, нужно иметь опыт. Чтобы иметь опыт, нужно ошибаться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маркетолог"/>
          <p:cNvPicPr/>
          <p:nvPr/>
        </p:nvPicPr>
        <p:blipFill>
          <a:blip r:embed="rId1"/>
          <a:stretch/>
        </p:blipFill>
        <p:spPr>
          <a:xfrm>
            <a:off x="457200" y="3733920"/>
            <a:ext cx="82296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вид трудовой деятельност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маркетолог"/>
          <p:cNvPicPr/>
          <p:nvPr/>
        </p:nvPicPr>
        <p:blipFill>
          <a:blip r:embed="rId1"/>
          <a:stretch/>
        </p:blipFill>
        <p:spPr>
          <a:xfrm>
            <a:off x="838080" y="2743200"/>
            <a:ext cx="7467840" cy="36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-приро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Картинка 1 из 43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143000"/>
            <a:ext cx="437040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17lesovodi"/>
          <p:cNvPicPr/>
          <p:nvPr/>
        </p:nvPicPr>
        <p:blipFill>
          <a:blip r:embed="rId3"/>
          <a:stretch/>
        </p:blipFill>
        <p:spPr>
          <a:xfrm>
            <a:off x="4800600" y="1143000"/>
            <a:ext cx="3962520" cy="2590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pochva5"/>
          <p:cNvPicPr/>
          <p:nvPr/>
        </p:nvPicPr>
        <p:blipFill>
          <a:blip r:embed="rId4"/>
          <a:stretch/>
        </p:blipFill>
        <p:spPr>
          <a:xfrm>
            <a:off x="304920" y="4038480"/>
            <a:ext cx="4267080" cy="2438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1280320678_f909f7b26437ba4a92bcdaa5b27c9579_3"/>
          <p:cNvPicPr/>
          <p:nvPr/>
        </p:nvPicPr>
        <p:blipFill>
          <a:blip r:embed="rId5"/>
          <a:stretch/>
        </p:blipFill>
        <p:spPr>
          <a:xfrm>
            <a:off x="4800600" y="4038480"/>
            <a:ext cx="396252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- техни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Картинка 1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066680"/>
            <a:ext cx="4343400" cy="2362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stock-photo-factory-worker-14558311"/>
          <p:cNvPicPr/>
          <p:nvPr/>
        </p:nvPicPr>
        <p:blipFill>
          <a:blip r:embed="rId3"/>
          <a:stretch/>
        </p:blipFill>
        <p:spPr>
          <a:xfrm>
            <a:off x="4724280" y="1066680"/>
            <a:ext cx="4114800" cy="236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279191056_el"/>
          <p:cNvPicPr/>
          <p:nvPr/>
        </p:nvPicPr>
        <p:blipFill>
          <a:blip r:embed="rId4"/>
          <a:stretch/>
        </p:blipFill>
        <p:spPr>
          <a:xfrm>
            <a:off x="152280" y="3733920"/>
            <a:ext cx="4267440" cy="2819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svarka1"/>
          <p:cNvPicPr/>
          <p:nvPr/>
        </p:nvPicPr>
        <p:blipFill>
          <a:blip r:embed="rId5"/>
          <a:stretch/>
        </p:blipFill>
        <p:spPr>
          <a:xfrm>
            <a:off x="4724280" y="3657600"/>
            <a:ext cx="4191120" cy="28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074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- челов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418644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post-89293-1283493430"/>
          <p:cNvPicPr/>
          <p:nvPr/>
        </p:nvPicPr>
        <p:blipFill>
          <a:blip r:embed="rId2"/>
          <a:stretch/>
        </p:blipFill>
        <p:spPr>
          <a:xfrm>
            <a:off x="4800600" y="914400"/>
            <a:ext cx="403704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28826492"/>
          <p:cNvPicPr/>
          <p:nvPr/>
        </p:nvPicPr>
        <p:blipFill>
          <a:blip r:embed="rId3"/>
          <a:stretch/>
        </p:blipFill>
        <p:spPr>
          <a:xfrm>
            <a:off x="152280" y="3657600"/>
            <a:ext cx="4191120" cy="2895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doctor_small"/>
          <p:cNvPicPr/>
          <p:nvPr/>
        </p:nvPicPr>
        <p:blipFill>
          <a:blip r:embed="rId4"/>
          <a:stretch/>
        </p:blipFill>
        <p:spPr>
          <a:xfrm>
            <a:off x="4800600" y="3657600"/>
            <a:ext cx="40370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- знаковая систе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d9bdd310ba07f9dc2b26cdfbe458ec9b_big"/>
          <p:cNvPicPr/>
          <p:nvPr/>
        </p:nvPicPr>
        <p:blipFill>
          <a:blip r:embed="rId1"/>
          <a:stretch/>
        </p:blipFill>
        <p:spPr>
          <a:xfrm>
            <a:off x="152280" y="1066680"/>
            <a:ext cx="4191120" cy="2667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azurov-2-300x218"/>
          <p:cNvPicPr/>
          <p:nvPr/>
        </p:nvPicPr>
        <p:blipFill>
          <a:blip r:embed="rId2"/>
          <a:stretch/>
        </p:blipFill>
        <p:spPr>
          <a:xfrm>
            <a:off x="4800600" y="1066680"/>
            <a:ext cx="411480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alculatriceBGL"/>
          <p:cNvPicPr/>
          <p:nvPr/>
        </p:nvPicPr>
        <p:blipFill>
          <a:blip r:embed="rId3"/>
          <a:stretch/>
        </p:blipFill>
        <p:spPr>
          <a:xfrm>
            <a:off x="152280" y="3886200"/>
            <a:ext cx="4191120" cy="2743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draughtsman"/>
          <p:cNvPicPr/>
          <p:nvPr/>
        </p:nvPicPr>
        <p:blipFill>
          <a:blip r:embed="rId4"/>
          <a:stretch/>
        </p:blipFill>
        <p:spPr>
          <a:xfrm>
            <a:off x="4724280" y="3886200"/>
            <a:ext cx="41911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- художественный об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pv_791066"/>
          <p:cNvPicPr/>
          <p:nvPr/>
        </p:nvPicPr>
        <p:blipFill>
          <a:blip r:embed="rId1"/>
          <a:stretch/>
        </p:blipFill>
        <p:spPr>
          <a:xfrm>
            <a:off x="152280" y="1066680"/>
            <a:ext cx="419112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6e27594ad1fe538854b2766c6ddb9dde"/>
          <p:cNvPicPr/>
          <p:nvPr/>
        </p:nvPicPr>
        <p:blipFill>
          <a:blip r:embed="rId2"/>
          <a:stretch/>
        </p:blipFill>
        <p:spPr>
          <a:xfrm>
            <a:off x="4724280" y="1066680"/>
            <a:ext cx="4191120" cy="2514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12026480"/>
          <p:cNvPicPr/>
          <p:nvPr/>
        </p:nvPicPr>
        <p:blipFill>
          <a:blip r:embed="rId3"/>
          <a:stretch/>
        </p:blipFill>
        <p:spPr>
          <a:xfrm>
            <a:off x="152280" y="3809880"/>
            <a:ext cx="4191120" cy="2752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3464"/>
          <p:cNvPicPr/>
          <p:nvPr/>
        </p:nvPicPr>
        <p:blipFill>
          <a:blip r:embed="rId4"/>
          <a:stretch/>
        </p:blipFill>
        <p:spPr>
          <a:xfrm>
            <a:off x="4724280" y="3809880"/>
            <a:ext cx="41911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4" descr=""/>
          <p:cNvPicPr/>
          <p:nvPr/>
        </p:nvPicPr>
        <p:blipFill>
          <a:blip r:embed="rId1"/>
          <a:stretch/>
        </p:blipFill>
        <p:spPr>
          <a:xfrm>
            <a:off x="-73080" y="615960"/>
            <a:ext cx="9137880" cy="532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ина</dc:creator>
  <dc:description/>
  <dc:language>en-US</dc:language>
  <cp:lastModifiedBy>Admin</cp:lastModifiedBy>
  <dcterms:modified xsi:type="dcterms:W3CDTF">2013-04-30T16:31:41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