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654B-32F1-4B1C-836A-18D618065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93DF-995A-4547-9943-813055AC1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4896-3AA4-4BE6-9FD9-247E5D0AC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27C7-A5B2-4755-8515-81FBF50EB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8307-B569-4F8D-AAEC-1C6D85CC4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F989-5295-40D8-8D07-9AF5876CA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B96F-B048-4B31-AB0A-51061EFCB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099B-44A5-49F2-92B8-36A946573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1E68-3076-402D-91B7-E4AC3021F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C5F3-D870-4BFC-A564-D6B90788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EB8F-1205-4640-8A31-A0F995CD0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14B4-40C8-459F-95DF-ECE27A48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B51D6-7B1A-42A7-9784-6EC4FE4620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as.baikal.tv/news/nimg/2003_06_30/big/R%20-%20Beshenstvo1257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dm46.ru/images/bezop_ezd/034.jpg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495320" y="457200"/>
            <a:ext cx="39625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ентство «Работа +»</a:t>
            </a:r>
            <a:br>
              <a:rPr sz="54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2895480"/>
            <a:ext cx="84582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ль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риентация на выбор профе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ач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ить знания учащихся о профессия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чь в определении интересов и способнос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ировать о профессиональных качеств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ь разницу между понятиями: профессия,     специальность, долж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ести «Формулу професси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маркетолог"/>
          <p:cNvPicPr/>
          <p:nvPr/>
        </p:nvPicPr>
        <p:blipFill>
          <a:blip r:embed="rId1"/>
          <a:stretch/>
        </p:blipFill>
        <p:spPr>
          <a:xfrm>
            <a:off x="533520" y="457200"/>
            <a:ext cx="3657600" cy="23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762120"/>
            <a:ext cx="8763120" cy="533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304920" y="685800"/>
          <a:ext cx="8458200" cy="5349960"/>
        </p:xfrm>
        <a:graphic>
          <a:graphicData uri="http://schemas.openxmlformats.org/drawingml/2006/table">
            <a:tbl>
              <a:tblPr/>
              <a:tblGrid>
                <a:gridCol w="609480"/>
                <a:gridCol w="2590920"/>
                <a:gridCol w="1057320"/>
                <a:gridCol w="1023840"/>
                <a:gridCol w="1025280"/>
                <a:gridCol w="1127160"/>
                <a:gridCol w="1024200"/>
              </a:tblGrid>
              <a:tr h="683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 учен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ы професс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9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.О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ринов Ром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ляев Ег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рисов Витал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рлов Алекс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арова Кар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,5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,5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ов Андр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,5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,5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425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арова Юл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йманова Екатер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45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ов Дмитр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ников Анто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удитор 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ст, который проверяет финансовую деятельность компаний, оценивает ее успешность и эффективность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3088[1]"/>
          <p:cNvPicPr/>
          <p:nvPr/>
        </p:nvPicPr>
        <p:blipFill>
          <a:blip r:embed="rId1"/>
          <a:stretch/>
        </p:blipFill>
        <p:spPr>
          <a:xfrm>
            <a:off x="533520" y="2209680"/>
            <a:ext cx="815328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истик - 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ст, который координирует движение товаров на пути от производства до точек реализации.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истик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(от англ.) «снабжение, материально-техническое обеспечение».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логистик"/>
          <p:cNvPicPr/>
          <p:nvPr/>
        </p:nvPicPr>
        <p:blipFill>
          <a:blip r:embed="rId1"/>
          <a:stretch/>
        </p:blipFill>
        <p:spPr>
          <a:xfrm>
            <a:off x="457200" y="2362320"/>
            <a:ext cx="8229600" cy="41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724280" y="685440"/>
            <a:ext cx="426744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чендайзер 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к, который следит за тем, как товар его фирмы представлен в крупных магазинах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н обходит магазины, дает советы по размещению товара, по оформлению витрин. 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609120"/>
            <a:ext cx="39625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мерчендазер"/>
          <p:cNvPicPr/>
          <p:nvPr/>
        </p:nvPicPr>
        <p:blipFill>
          <a:blip r:embed="rId1"/>
          <a:stretch/>
        </p:blipFill>
        <p:spPr>
          <a:xfrm>
            <a:off x="457200" y="609480"/>
            <a:ext cx="3962520" cy="579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6840" y="68544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кетолог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исследует, прогнозирует и формирует спрос на товары и услуги. Изучает его количественные и качественные характеристики. Определяет пути улучшения потребительских свойств товаров и услуг, перспективы освоения новой продукции и рынков сбы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оуте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это люди, которые рекламируют товары разными способами, делая их популярны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елте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пециалист, занимающийся операциями купли-продажи или аренды недвижимости, в первую очередь – жилья.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елтер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(от англ.) «недвижимость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лорис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создаёт цветочные композиции для праздников, свадеб, различных ритуалов, продажи в цветочных салонах, украшения интерьеров, витр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тесте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test[1]"/>
          <p:cNvPicPr/>
          <p:nvPr/>
        </p:nvPicPr>
        <p:blipFill>
          <a:blip r:embed="rId1"/>
          <a:stretch/>
        </p:blipFill>
        <p:spPr>
          <a:xfrm>
            <a:off x="457200" y="1371600"/>
            <a:ext cx="822960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иже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постижор"/>
          <p:cNvPicPr/>
          <p:nvPr/>
        </p:nvPicPr>
        <p:blipFill>
          <a:blip r:embed="rId1"/>
          <a:stretch/>
        </p:blipFill>
        <p:spPr>
          <a:xfrm>
            <a:off x="380880" y="1371600"/>
            <a:ext cx="838224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ер спецэффект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мастер спецэффектов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6840" y="6858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ость –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служебное место, занимаемое человеком в организации, связанное с исполнением определенных обязанност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ость -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 занятий в рамках одной професс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а професси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 + М + Н =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ознанный выбор профе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Хочу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все, что мне нравится, к чему лежит душ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огу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все, что мне по силам, по способностям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д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все, что нужно для общества, стран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6840" y="68544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Худший путь, какой только можно выбрать, - это не выбрать никакого пути»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Самый несчастный из людей тот, для кого в мире не оказалось работы»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(А.П. Чехов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юч к тест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6 – 8 треугольников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тип руководителя, хорошие преподаватели . Ярко выражено стремление к лидерству, хорошо разбираются в людях, работают с информаци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5 треугольников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ответственный исполнитель, хорошие организаторские способности. Профессионально, до мелочей, продумывающий свою деятель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4 треугольни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разнообразие интересов и талантов. Склонность к индивидуальной рабо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 треугольник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тип ученого. Рационален, объективен, легко переключается с одного вида деятельности на друг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 треугольни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интерес к искусству и человеку. Тонко чувствует все новое и необычн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 треугольник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зобретатель, конструктор, художник. Обладает богатым воображе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едение итого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открытия вы для себя сделал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чувства остались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понравилось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маркетолог"/>
          <p:cNvPicPr/>
          <p:nvPr/>
        </p:nvPicPr>
        <p:blipFill>
          <a:blip r:embed="rId1"/>
          <a:stretch/>
        </p:blipFill>
        <p:spPr>
          <a:xfrm>
            <a:off x="609480" y="3276720"/>
            <a:ext cx="792504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тобы не ошибаться, нужно иметь опыт. Чтобы иметь опыт, нужно ошибаться»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маркетолог"/>
          <p:cNvPicPr/>
          <p:nvPr/>
        </p:nvPicPr>
        <p:blipFill>
          <a:blip r:embed="rId1"/>
          <a:stretch/>
        </p:blipFill>
        <p:spPr>
          <a:xfrm>
            <a:off x="457200" y="3733920"/>
            <a:ext cx="822960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й вид трудовой деятельности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маркетолог"/>
          <p:cNvPicPr/>
          <p:nvPr/>
        </p:nvPicPr>
        <p:blipFill>
          <a:blip r:embed="rId1"/>
          <a:stretch/>
        </p:blipFill>
        <p:spPr>
          <a:xfrm>
            <a:off x="838080" y="2743200"/>
            <a:ext cx="7467840" cy="362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к-природ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Картинка 1 из 436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1143000"/>
            <a:ext cx="4370400" cy="2590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17lesovodi"/>
          <p:cNvPicPr/>
          <p:nvPr/>
        </p:nvPicPr>
        <p:blipFill>
          <a:blip r:embed="rId3"/>
          <a:stretch/>
        </p:blipFill>
        <p:spPr>
          <a:xfrm>
            <a:off x="4800600" y="1143000"/>
            <a:ext cx="3962520" cy="2590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pochva5"/>
          <p:cNvPicPr/>
          <p:nvPr/>
        </p:nvPicPr>
        <p:blipFill>
          <a:blip r:embed="rId4"/>
          <a:stretch/>
        </p:blipFill>
        <p:spPr>
          <a:xfrm>
            <a:off x="304920" y="4038480"/>
            <a:ext cx="4267080" cy="2438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1280320678_f909f7b26437ba4a92bcdaa5b27c9579_3"/>
          <p:cNvPicPr/>
          <p:nvPr/>
        </p:nvPicPr>
        <p:blipFill>
          <a:blip r:embed="rId5"/>
          <a:stretch/>
        </p:blipFill>
        <p:spPr>
          <a:xfrm>
            <a:off x="4800600" y="4038480"/>
            <a:ext cx="3962520" cy="24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к- техника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1920" y="106668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Картинка 12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1066680"/>
            <a:ext cx="4343400" cy="2362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stock-photo-factory-worker-14558311"/>
          <p:cNvPicPr/>
          <p:nvPr/>
        </p:nvPicPr>
        <p:blipFill>
          <a:blip r:embed="rId3"/>
          <a:stretch/>
        </p:blipFill>
        <p:spPr>
          <a:xfrm>
            <a:off x="4724280" y="1066680"/>
            <a:ext cx="4114800" cy="2362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1279191056_el"/>
          <p:cNvPicPr/>
          <p:nvPr/>
        </p:nvPicPr>
        <p:blipFill>
          <a:blip r:embed="rId4"/>
          <a:stretch/>
        </p:blipFill>
        <p:spPr>
          <a:xfrm>
            <a:off x="152280" y="3733920"/>
            <a:ext cx="4267440" cy="2819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svarka1"/>
          <p:cNvPicPr/>
          <p:nvPr/>
        </p:nvPicPr>
        <p:blipFill>
          <a:blip r:embed="rId5"/>
          <a:stretch/>
        </p:blipFill>
        <p:spPr>
          <a:xfrm>
            <a:off x="4724280" y="3657600"/>
            <a:ext cx="4191120" cy="286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074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к- челове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"/>
          <p:cNvPicPr/>
          <p:nvPr/>
        </p:nvPicPr>
        <p:blipFill>
          <a:blip r:embed="rId1"/>
          <a:stretch/>
        </p:blipFill>
        <p:spPr>
          <a:xfrm>
            <a:off x="152280" y="914400"/>
            <a:ext cx="4186440" cy="2514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post-89293-1283493430"/>
          <p:cNvPicPr/>
          <p:nvPr/>
        </p:nvPicPr>
        <p:blipFill>
          <a:blip r:embed="rId2"/>
          <a:stretch/>
        </p:blipFill>
        <p:spPr>
          <a:xfrm>
            <a:off x="4800600" y="914400"/>
            <a:ext cx="4037040" cy="2514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28826492"/>
          <p:cNvPicPr/>
          <p:nvPr/>
        </p:nvPicPr>
        <p:blipFill>
          <a:blip r:embed="rId3"/>
          <a:stretch/>
        </p:blipFill>
        <p:spPr>
          <a:xfrm>
            <a:off x="152280" y="3657600"/>
            <a:ext cx="4191120" cy="2895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doctor_small"/>
          <p:cNvPicPr/>
          <p:nvPr/>
        </p:nvPicPr>
        <p:blipFill>
          <a:blip r:embed="rId4"/>
          <a:stretch/>
        </p:blipFill>
        <p:spPr>
          <a:xfrm>
            <a:off x="4800600" y="3657600"/>
            <a:ext cx="4037040" cy="28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к- знаковая систем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" descr="d9bdd310ba07f9dc2b26cdfbe458ec9b_big"/>
          <p:cNvPicPr/>
          <p:nvPr/>
        </p:nvPicPr>
        <p:blipFill>
          <a:blip r:embed="rId1"/>
          <a:stretch/>
        </p:blipFill>
        <p:spPr>
          <a:xfrm>
            <a:off x="152280" y="1066680"/>
            <a:ext cx="4191120" cy="26672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mazurov-2-300x218"/>
          <p:cNvPicPr/>
          <p:nvPr/>
        </p:nvPicPr>
        <p:blipFill>
          <a:blip r:embed="rId2"/>
          <a:stretch/>
        </p:blipFill>
        <p:spPr>
          <a:xfrm>
            <a:off x="4800600" y="1066680"/>
            <a:ext cx="4114800" cy="2590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calculatriceBGL"/>
          <p:cNvPicPr/>
          <p:nvPr/>
        </p:nvPicPr>
        <p:blipFill>
          <a:blip r:embed="rId3"/>
          <a:stretch/>
        </p:blipFill>
        <p:spPr>
          <a:xfrm>
            <a:off x="152280" y="3886200"/>
            <a:ext cx="4191120" cy="27432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1" descr="draughtsman"/>
          <p:cNvPicPr/>
          <p:nvPr/>
        </p:nvPicPr>
        <p:blipFill>
          <a:blip r:embed="rId4"/>
          <a:stretch/>
        </p:blipFill>
        <p:spPr>
          <a:xfrm>
            <a:off x="4724280" y="3886200"/>
            <a:ext cx="419112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к- художественный обра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9" descr="pv_791066"/>
          <p:cNvPicPr/>
          <p:nvPr/>
        </p:nvPicPr>
        <p:blipFill>
          <a:blip r:embed="rId1"/>
          <a:stretch/>
        </p:blipFill>
        <p:spPr>
          <a:xfrm>
            <a:off x="152280" y="1066680"/>
            <a:ext cx="4191120" cy="2514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6e27594ad1fe538854b2766c6ddb9dde"/>
          <p:cNvPicPr/>
          <p:nvPr/>
        </p:nvPicPr>
        <p:blipFill>
          <a:blip r:embed="rId2"/>
          <a:stretch/>
        </p:blipFill>
        <p:spPr>
          <a:xfrm>
            <a:off x="4724280" y="1066680"/>
            <a:ext cx="4191120" cy="2514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12026480"/>
          <p:cNvPicPr/>
          <p:nvPr/>
        </p:nvPicPr>
        <p:blipFill>
          <a:blip r:embed="rId3"/>
          <a:stretch/>
        </p:blipFill>
        <p:spPr>
          <a:xfrm>
            <a:off x="152280" y="3809880"/>
            <a:ext cx="4191120" cy="2752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1" descr="3464"/>
          <p:cNvPicPr/>
          <p:nvPr/>
        </p:nvPicPr>
        <p:blipFill>
          <a:blip r:embed="rId4"/>
          <a:stretch/>
        </p:blipFill>
        <p:spPr>
          <a:xfrm>
            <a:off x="4724280" y="3809880"/>
            <a:ext cx="419112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762120"/>
            <a:ext cx="8763120" cy="533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Содержимое 4" descr=""/>
          <p:cNvPicPr/>
          <p:nvPr/>
        </p:nvPicPr>
        <p:blipFill>
          <a:blip r:embed="rId1"/>
          <a:stretch/>
        </p:blipFill>
        <p:spPr>
          <a:xfrm>
            <a:off x="-73080" y="615960"/>
            <a:ext cx="9137880" cy="5327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ина</dc:creator>
  <dc:description/>
  <dc:language>en-US</dc:language>
  <cp:lastModifiedBy>Admin</cp:lastModifiedBy>
  <dcterms:modified xsi:type="dcterms:W3CDTF">2013-04-30T16:31:41Z</dcterms:modified>
  <cp:revision>4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