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18.gif" ContentType="image/gif"/>
  <Override PartName="/ppt/media/image4.png" ContentType="image/png"/>
  <Override PartName="/ppt/media/image21.png" ContentType="image/png"/>
  <Override PartName="/ppt/media/image19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2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B229-4B3B-46C2-8045-D62B54DC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EAA-7C9F-4897-AF98-8308DCFD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161-ED87-4D3D-BAB6-2A361F44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DDB2-6F31-40A5-AD4B-5DB73594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E23-7928-4E61-A9C3-317B5B2C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0B77-C7EB-41D3-843A-EFD5DF7B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05FA-A9A2-41B0-BE9B-C6154F2B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3494-5BB2-4CE8-A27B-D8122F0A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DCD3-9651-40A8-978B-2A8FCAD0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AC32-850F-4409-BBB8-6F100AC1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57C-40F9-4713-A592-F292E01B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1B5-560E-4E2A-8261-5655F424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6B40-D749-45D5-BE91-E823652BB9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45840"/>
            <a:ext cx="7772400" cy="13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                     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191919"/>
                </a:solidFill>
                <a:latin typeface="Arial"/>
              </a:rPr>
              <a:t>Тема урока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ru-RU" sz="4000" spc="-1" strike="noStrike">
                <a:solidFill>
                  <a:srgbClr val="191919"/>
                </a:solidFill>
                <a:latin typeface="Arial"/>
              </a:rPr>
              <a:t>БАКТЕРИИ,  </a:t>
            </a:r>
            <a:br>
              <a:rPr sz="4000"/>
            </a:br>
            <a:r>
              <a:rPr b="0" lang="ru-RU" sz="4000" spc="-1" strike="noStrike">
                <a:solidFill>
                  <a:srgbClr val="191919"/>
                </a:solidFill>
                <a:latin typeface="Arial"/>
              </a:rPr>
              <a:t>         ИХ СТРОЕНИЕ И </a:t>
            </a:r>
            <a:br>
              <a:rPr sz="4000"/>
            </a:br>
            <a:r>
              <a:rPr b="0" lang="ru-RU" sz="4000" spc="-1" strike="noStrike">
                <a:solidFill>
                  <a:srgbClr val="191919"/>
                </a:solidFill>
                <a:latin typeface="Arial"/>
              </a:rPr>
              <a:t>       ЖИЗНЕДЕЯТЕЛЬНОСТЬ.                                                                                                                            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                     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                   5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1619280" y="1268280"/>
            <a:ext cx="3929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минки из-за п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имаемся. На стар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 на месте. Вес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ыстрей, быстрей, быстре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м вперёд наклоны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– два – три – четыре – п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ьницу руками крут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лечики разм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м приседать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– два – три – четыре – п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том прыжки на мес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е прыгаем все в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к солнышку потя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в стороны растя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пора уч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прилежно, не лен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5" descr=""/>
          <p:cNvPicPr/>
          <p:nvPr/>
        </p:nvPicPr>
        <p:blipFill>
          <a:blip r:embed="rId1"/>
          <a:stretch/>
        </p:blipFill>
        <p:spPr>
          <a:xfrm>
            <a:off x="1643040" y="285840"/>
            <a:ext cx="5429160" cy="1360440"/>
          </a:xfrm>
          <a:prstGeom prst="rect">
            <a:avLst/>
          </a:prstGeom>
          <a:ln w="0">
            <a:noFill/>
          </a:ln>
        </p:spPr>
      </p:pic>
      <p:pic>
        <p:nvPicPr>
          <p:cNvPr id="68" name="ФОН 2 - копия.mp3" descr=""/>
          <p:cNvPicPr/>
          <p:nvPr/>
        </p:nvPicPr>
        <p:blipFill>
          <a:blip r:embed="rId2"/>
          <a:stretch/>
        </p:blipFill>
        <p:spPr>
          <a:xfrm>
            <a:off x="842976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http://www.smayli.ru/data/smiles/detia-514.gif"/>
          <p:cNvPicPr/>
          <p:nvPr/>
        </p:nvPicPr>
        <p:blipFill>
          <a:blip r:embed="rId3"/>
          <a:stretch/>
        </p:blipFill>
        <p:spPr>
          <a:xfrm>
            <a:off x="5500800" y="3000240"/>
            <a:ext cx="1785960" cy="292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http://www.smayli.ru/data/smiles/detia-815.gif"/>
          <p:cNvPicPr/>
          <p:nvPr/>
        </p:nvPicPr>
        <p:blipFill>
          <a:blip r:embed="rId4"/>
          <a:stretch/>
        </p:blipFill>
        <p:spPr>
          <a:xfrm>
            <a:off x="6858000" y="2428920"/>
            <a:ext cx="2286000" cy="3011400"/>
          </a:xfrm>
          <a:prstGeom prst="rect">
            <a:avLst/>
          </a:prstGeom>
          <a:ln w="0">
            <a:noFill/>
          </a:ln>
        </p:spPr>
      </p:pic>
      <p:pic>
        <p:nvPicPr>
          <p:cNvPr id="71" name="● Музыкальная физминутка - для практики.mp3" descr=""/>
          <p:cNvPicPr/>
          <p:nvPr/>
        </p:nvPicPr>
        <p:blipFill>
          <a:blip r:embed="rId5"/>
          <a:stretch/>
        </p:blipFill>
        <p:spPr>
          <a:xfrm>
            <a:off x="7391520" y="5440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65712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2_38a"/>
          <p:cNvPicPr/>
          <p:nvPr/>
        </p:nvPicPr>
        <p:blipFill>
          <a:blip r:embed="rId1"/>
          <a:stretch/>
        </p:blipFill>
        <p:spPr>
          <a:xfrm>
            <a:off x="1752480" y="1371600"/>
            <a:ext cx="6934320" cy="50292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934560" y="0"/>
            <a:ext cx="598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19"/>
                </a:solidFill>
                <a:latin typeface="Arial"/>
              </a:rPr>
              <a:t>Повторение и закрепление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91919"/>
                </a:solidFill>
                <a:latin typeface="Arial"/>
              </a:rPr>
              <a:t>Дать названия органоидам бакте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701064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1295280" y="25416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вторение и закрепл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1752480" y="914400"/>
            <a:ext cx="6934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вы основные признаки бактер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какие группы делятся бактерии по питан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размножаются бактер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такое спора бактерий и для чего она служ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дведение итогов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омашнее задание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ар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609480" y="990720"/>
            <a:ext cx="83059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ЦЕЛИ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НАКОМИТЬ УЧАЩИХСЯ    ОСОБЕННОСТЯМИ            СТРОЕНИЯ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НИЯ,  РАЗ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РАСПРОСТРАНЕНИЯ БАКТЕР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838080" y="228240"/>
            <a:ext cx="83059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АКТЕР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ОДНОКЛЕТОЧНЫЕ ОРГАНИЗ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ИЗНАКИ БАКТЕР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 ЯД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ДЕРНОЕ ВЕЩЕСТВО В ЦИТОПЛАЗ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ПЛОТНАЯ КЛЕТОЧНАЯ СТЕНКА, ИНОГДА                    ЖГУ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C:\Program Files\Physicon\Open Biology 2.6\content\chapter9\section1\paragraph6\images\09010601.gif"/>
          <p:cNvPicPr/>
          <p:nvPr/>
        </p:nvPicPr>
        <p:blipFill>
          <a:blip r:embed="rId1"/>
          <a:stretch/>
        </p:blipFill>
        <p:spPr>
          <a:xfrm>
            <a:off x="2514600" y="2895480"/>
            <a:ext cx="6172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ение размеров бактерий с толщиной волоса человек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Documents and Settings\User\Рабочий стол\2.bmp"/>
          <p:cNvPicPr/>
          <p:nvPr/>
        </p:nvPicPr>
        <p:blipFill>
          <a:blip r:embed="rId2"/>
          <a:stretch/>
        </p:blipFill>
        <p:spPr>
          <a:xfrm>
            <a:off x="1676520" y="1371600"/>
            <a:ext cx="70102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120" y="1071360"/>
            <a:ext cx="8534520" cy="16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кк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 шаровидны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ацилл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палочковид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ибрион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 изогнутые в виде запя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пирилл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спиралевид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Бактерии"/>
          <p:cNvPicPr/>
          <p:nvPr/>
        </p:nvPicPr>
        <p:blipFill>
          <a:blip r:embed="rId1"/>
          <a:stretch/>
        </p:blipFill>
        <p:spPr>
          <a:xfrm>
            <a:off x="1317600" y="2992320"/>
            <a:ext cx="3809880" cy="3441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Рисунок8"/>
          <p:cNvPicPr/>
          <p:nvPr/>
        </p:nvPicPr>
        <p:blipFill>
          <a:blip r:embed="rId2"/>
          <a:stretch/>
        </p:blipFill>
        <p:spPr>
          <a:xfrm>
            <a:off x="5127480" y="4624560"/>
            <a:ext cx="1841760" cy="1809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Рисунок6"/>
          <p:cNvPicPr/>
          <p:nvPr/>
        </p:nvPicPr>
        <p:blipFill>
          <a:blip r:embed="rId3"/>
          <a:stretch/>
        </p:blipFill>
        <p:spPr>
          <a:xfrm>
            <a:off x="5127480" y="2997360"/>
            <a:ext cx="1730520" cy="180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Рисунок9"/>
          <p:cNvPicPr/>
          <p:nvPr/>
        </p:nvPicPr>
        <p:blipFill>
          <a:blip r:embed="rId4"/>
          <a:stretch/>
        </p:blipFill>
        <p:spPr>
          <a:xfrm>
            <a:off x="6858000" y="2997360"/>
            <a:ext cx="1809720" cy="173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Рисунок10"/>
          <p:cNvPicPr/>
          <p:nvPr/>
        </p:nvPicPr>
        <p:blipFill>
          <a:blip r:embed="rId5"/>
          <a:stretch/>
        </p:blipFill>
        <p:spPr>
          <a:xfrm>
            <a:off x="6858000" y="4743360"/>
            <a:ext cx="1765440" cy="169560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863280" y="609480"/>
            <a:ext cx="51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 бактерий разнообразн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User\Рабочий стол\3.bmp"/>
          <p:cNvPicPr/>
          <p:nvPr/>
        </p:nvPicPr>
        <p:blipFill>
          <a:blip r:embed="rId2"/>
          <a:stretch/>
        </p:blipFill>
        <p:spPr>
          <a:xfrm>
            <a:off x="1752480" y="457200"/>
            <a:ext cx="685800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2689560" y="152280"/>
            <a:ext cx="3591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оение бак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Строение клетки прокариот"/>
          <p:cNvPicPr/>
          <p:nvPr/>
        </p:nvPicPr>
        <p:blipFill>
          <a:blip r:embed="rId1"/>
          <a:stretch/>
        </p:blipFill>
        <p:spPr>
          <a:xfrm>
            <a:off x="1600200" y="1295280"/>
            <a:ext cx="7010280" cy="51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53316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ИТАЮТ  В РАЗНЫХ УСЛОВ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РАЗМНОЖАЮТСЯ ДЕЛ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ПРИ НЕБЛАГОПРИЯТНЫХ УСЛОВИЯХ ОБРАЗУЮТ С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ПИТАЮТСЯ ПО РАЗНОМУ: САПРОТРОФЫ – ОРГАНИЧЕСКИМИ ВЕЩЕСТВАМИ  ИЗ  МЕРТВЫХ   ТЕЛ, ПАРАЗИТЫ – ИХ ЖИВЫХ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Образование спор у бактерий"/>
          <p:cNvPicPr/>
          <p:nvPr/>
        </p:nvPicPr>
        <p:blipFill>
          <a:blip r:embed="rId1"/>
          <a:stretch/>
        </p:blipFill>
        <p:spPr>
          <a:xfrm>
            <a:off x="4495680" y="3048120"/>
            <a:ext cx="4114800" cy="2835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0022"/>
          <p:cNvPicPr/>
          <p:nvPr/>
        </p:nvPicPr>
        <p:blipFill>
          <a:blip r:embed="rId2"/>
          <a:stretch/>
        </p:blipFill>
        <p:spPr>
          <a:xfrm>
            <a:off x="1511280" y="2743200"/>
            <a:ext cx="3014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User\Рабочий стол\4.bmp"/>
          <p:cNvPicPr/>
          <p:nvPr/>
        </p:nvPicPr>
        <p:blipFill>
          <a:blip r:embed="rId2"/>
          <a:stretch/>
        </p:blipFill>
        <p:spPr>
          <a:xfrm>
            <a:off x="1752480" y="407880"/>
            <a:ext cx="6934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ей</dc:creator>
  <dc:description/>
  <dc:language>en-US</dc:language>
  <cp:lastModifiedBy>Алексей</cp:lastModifiedBy>
  <dcterms:modified xsi:type="dcterms:W3CDTF">2014-01-22T18:36:5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