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A3F-C181-4EB3-8D17-0D3A3EA5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218-F90C-4D80-92C4-9A3927C8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8A4-3773-424E-8917-F923E5B0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609-6DB5-43C6-8289-026E33C9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42F-5643-4B38-B425-296C904A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7E5-4273-4B80-B99E-C648D70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895-C3FB-428B-9836-F93140C5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880-F030-4199-9D49-D5702262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4D4-6180-4BEF-ADA0-0EF8CA66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E74-CE38-458C-812E-E6CF217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277-4341-43BE-B399-A1A3C4C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700-FF17-45FF-B162-D381989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E751-D5A8-4789-BB22-CD6803EB3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458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Тема урока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БАКТЕРИИ,  </a:t>
            </a:r>
            <a:br>
              <a:rPr sz="4000"/>
            </a:b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         ИХ СТРОЕНИЕ И </a:t>
            </a:r>
            <a:br>
              <a:rPr sz="4000"/>
            </a:br>
            <a:r>
              <a:rPr b="0" lang="ru-RU" sz="4000" spc="-1" strike="noStrike">
                <a:solidFill>
                  <a:srgbClr val="191919"/>
                </a:solidFill>
                <a:latin typeface="Arial"/>
              </a:rPr>
              <a:t>       ЖИЗНЕДЕЯТЕЛЬНОСТЬ.                                                                   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          5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1619280" y="1268280"/>
            <a:ext cx="3929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инки из-за п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емся. На стар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на месте. Вес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ыстрей, быстрей, быстр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вперёд наклон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два – три – четыре – п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ницу руками крут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лечики раз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приседать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два – три – четыре – п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прыжки на ме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прыгаем все в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к солнышку потя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 стороны растя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ора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илежно, не лен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1643040" y="285840"/>
            <a:ext cx="5429160" cy="1360440"/>
          </a:xfrm>
          <a:prstGeom prst="rect">
            <a:avLst/>
          </a:prstGeom>
          <a:ln w="0">
            <a:noFill/>
          </a:ln>
        </p:spPr>
      </p:pic>
      <p:pic>
        <p:nvPicPr>
          <p:cNvPr id="68" name="ФОН 2 - копия.mp3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www.smayli.ru/data/smiles/detia-514.gif"/>
          <p:cNvPicPr/>
          <p:nvPr/>
        </p:nvPicPr>
        <p:blipFill>
          <a:blip r:embed="rId3"/>
          <a:stretch/>
        </p:blipFill>
        <p:spPr>
          <a:xfrm>
            <a:off x="5500800" y="3000240"/>
            <a:ext cx="1785960" cy="292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www.smayli.ru/data/smiles/detia-815.gif"/>
          <p:cNvPicPr/>
          <p:nvPr/>
        </p:nvPicPr>
        <p:blipFill>
          <a:blip r:embed="rId4"/>
          <a:stretch/>
        </p:blipFill>
        <p:spPr>
          <a:xfrm>
            <a:off x="6858000" y="2428920"/>
            <a:ext cx="2286000" cy="3011400"/>
          </a:xfrm>
          <a:prstGeom prst="rect">
            <a:avLst/>
          </a:prstGeom>
          <a:ln w="0">
            <a:noFill/>
          </a:ln>
        </p:spPr>
      </p:pic>
      <p:pic>
        <p:nvPicPr>
          <p:cNvPr id="71" name="● Музыкальная физминутка - для практики.mp3" descr=""/>
          <p:cNvPicPr/>
          <p:nvPr/>
        </p:nvPicPr>
        <p:blipFill>
          <a:blip r:embed="rId5"/>
          <a:stretch/>
        </p:blipFill>
        <p:spPr>
          <a:xfrm>
            <a:off x="7391520" y="5440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571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2_38a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5029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934560" y="0"/>
            <a:ext cx="598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Arial"/>
              </a:rPr>
              <a:t>Повторение и закрепление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1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Дать названия органоидам бак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70106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295280" y="2541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ение и закрепл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52480" y="914400"/>
            <a:ext cx="6934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вы основные признаки бактер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делятся бактерии по пит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змножаются бактер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спора бактерий и для чего она служ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ведение итогов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машнее задани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ар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609480" y="990720"/>
            <a:ext cx="83059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КОМИТЬ УЧАЩИХСЯ    ОСОБЕННОСТЯМИ            СТРОЕНИЯ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НИЯ,  РАЗ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РАСПРОСТРАНЕНИЯ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38080" y="228240"/>
            <a:ext cx="8305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АКТЕР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ОДНОКЛЕТОЧНЫЕ ОРГАНИЗ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ЗНАКИ БАКТЕР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ДЕРНОЕ ВЕЩЕСТВО В ЦИТО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ПЛОТНАЯ КЛЕТОЧНАЯ СТЕНКА, ИНОГДА                    ЖГУ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:\Program Files\Physicon\Open Biology 2.6\content\chapter9\section1\paragraph6\images\09010601.gif"/>
          <p:cNvPicPr/>
          <p:nvPr/>
        </p:nvPicPr>
        <p:blipFill>
          <a:blip r:embed="rId1"/>
          <a:stretch/>
        </p:blipFill>
        <p:spPr>
          <a:xfrm>
            <a:off x="2514600" y="2895480"/>
            <a:ext cx="6172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 размеров бактерий с толщиной волоса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User\Рабочий стол\2.bmp"/>
          <p:cNvPicPr/>
          <p:nvPr/>
        </p:nvPicPr>
        <p:blipFill>
          <a:blip r:embed="rId2"/>
          <a:stretch/>
        </p:blipFill>
        <p:spPr>
          <a:xfrm>
            <a:off x="1676520" y="1371600"/>
            <a:ext cx="7010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120" y="1071360"/>
            <a:ext cx="853452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кк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 шаровид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ацилл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палочкови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брио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 изогнутые в виде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ирилл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пиралеви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Бактерии"/>
          <p:cNvPicPr/>
          <p:nvPr/>
        </p:nvPicPr>
        <p:blipFill>
          <a:blip r:embed="rId1"/>
          <a:stretch/>
        </p:blipFill>
        <p:spPr>
          <a:xfrm>
            <a:off x="1317600" y="2992320"/>
            <a:ext cx="3809880" cy="344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Рисунок8"/>
          <p:cNvPicPr/>
          <p:nvPr/>
        </p:nvPicPr>
        <p:blipFill>
          <a:blip r:embed="rId2"/>
          <a:stretch/>
        </p:blipFill>
        <p:spPr>
          <a:xfrm>
            <a:off x="5127480" y="4624560"/>
            <a:ext cx="184176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Рисунок6"/>
          <p:cNvPicPr/>
          <p:nvPr/>
        </p:nvPicPr>
        <p:blipFill>
          <a:blip r:embed="rId3"/>
          <a:stretch/>
        </p:blipFill>
        <p:spPr>
          <a:xfrm>
            <a:off x="5127480" y="2997360"/>
            <a:ext cx="1730520" cy="180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Рисунок9"/>
          <p:cNvPicPr/>
          <p:nvPr/>
        </p:nvPicPr>
        <p:blipFill>
          <a:blip r:embed="rId4"/>
          <a:stretch/>
        </p:blipFill>
        <p:spPr>
          <a:xfrm>
            <a:off x="6858000" y="2997360"/>
            <a:ext cx="180972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Рисунок10"/>
          <p:cNvPicPr/>
          <p:nvPr/>
        </p:nvPicPr>
        <p:blipFill>
          <a:blip r:embed="rId5"/>
          <a:stretch/>
        </p:blipFill>
        <p:spPr>
          <a:xfrm>
            <a:off x="6858000" y="4743360"/>
            <a:ext cx="1765440" cy="1695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863280" y="60948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бактерий разнообраз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User\Рабочий стол\3.bmp"/>
          <p:cNvPicPr/>
          <p:nvPr/>
        </p:nvPicPr>
        <p:blipFill>
          <a:blip r:embed="rId2"/>
          <a:stretch/>
        </p:blipFill>
        <p:spPr>
          <a:xfrm>
            <a:off x="1752480" y="457200"/>
            <a:ext cx="6858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2689560" y="152280"/>
            <a:ext cx="359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ение бак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Строение клетки прокариот"/>
          <p:cNvPicPr/>
          <p:nvPr/>
        </p:nvPicPr>
        <p:blipFill>
          <a:blip r:embed="rId1"/>
          <a:stretch/>
        </p:blipFill>
        <p:spPr>
          <a:xfrm>
            <a:off x="1600200" y="1295280"/>
            <a:ext cx="701028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331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ИТАЮТ  В РАЗ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РАЗМНОЖАЮТСЯ ДЕ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РИ НЕБЛАГОПРИЯТНЫХ УСЛОВИЯХ ОБРАЗУЮТ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ПИТАЮТСЯ ПО РАЗНОМУ: САПРОТРОФЫ – ОРГАНИЧЕСКИМИ ВЕЩЕСТВАМИ  ИЗ  МЕРТВЫХ   ТЕЛ, ПАРАЗИТЫ – ИХ ЖИВЫ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Образование спор у бактерий"/>
          <p:cNvPicPr/>
          <p:nvPr/>
        </p:nvPicPr>
        <p:blipFill>
          <a:blip r:embed="rId1"/>
          <a:stretch/>
        </p:blipFill>
        <p:spPr>
          <a:xfrm>
            <a:off x="4495680" y="3048120"/>
            <a:ext cx="4114800" cy="283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0022"/>
          <p:cNvPicPr/>
          <p:nvPr/>
        </p:nvPicPr>
        <p:blipFill>
          <a:blip r:embed="rId2"/>
          <a:stretch/>
        </p:blipFill>
        <p:spPr>
          <a:xfrm>
            <a:off x="1511280" y="2743200"/>
            <a:ext cx="3014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User\Рабочий стол\4.bmp"/>
          <p:cNvPicPr/>
          <p:nvPr/>
        </p:nvPicPr>
        <p:blipFill>
          <a:blip r:embed="rId2"/>
          <a:stretch/>
        </p:blipFill>
        <p:spPr>
          <a:xfrm>
            <a:off x="1752480" y="407880"/>
            <a:ext cx="6934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4-01-22T18:36:5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