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7C2-96C7-4920-835F-AC47711F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14B-52B2-4AC0-A0EE-3B9D17AB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253-4E67-4534-93D4-9584D258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B22-DFF1-4C85-AEB5-9D64B53E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33AA-D6A4-42EC-B481-61EF475D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A313-753F-4B68-8D75-1BDF5791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B819-68A5-4613-9E21-C62C1BF7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9FE2-9CE3-46B1-B656-0DD06A2E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7CAC-0194-427D-ABFE-ECD83460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6D3A-E1B4-4C0A-9F2D-6B5AB73B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9E11-FB4C-409A-A04E-6460A52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B76-CD6D-4C08-A667-04CF40C3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73B8-AA8A-42B4-997C-23DED678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BDB0-0711-4128-BF1D-23ACF8BA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5658-7BE9-4B2A-AD44-B12BAD2C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977E-214D-465B-8721-72CBECDC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DD64-6BBF-47B8-AB8D-AF0E17BA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C02-83FE-42A6-B31C-C7FD90E8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DB6-BE49-4070-BA47-14148353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9F1-08D2-43A9-9C8A-64E26C8D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658-8C92-43EF-B26B-AF6E1B1A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B44-0F21-4002-A8CB-E61FF8FE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71C-09BC-4AEA-B3F1-CFB4004D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8A2-7FDF-497C-87EE-DE52342B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CCB6-8211-4CBE-BD76-565BE72C0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14480" y="203040"/>
            <a:ext cx="1428120" cy="1625400"/>
            <a:chOff x="114480" y="203040"/>
            <a:chExt cx="1428120" cy="1625400"/>
          </a:xfrm>
        </p:grpSpPr>
        <p:sp>
          <p:nvSpPr>
            <p:cNvPr id="4" name=""/>
            <p:cNvSpPr/>
            <p:nvPr/>
          </p:nvSpPr>
          <p:spPr>
            <a:xfrm>
              <a:off x="331920" y="254160"/>
              <a:ext cx="1202040" cy="92412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24000" y="226440"/>
              <a:ext cx="446400" cy="160200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14480" y="254160"/>
              <a:ext cx="1022400" cy="93240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2320" y="590400"/>
              <a:ext cx="1340280" cy="25200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0520" y="254160"/>
              <a:ext cx="1119240" cy="112932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6480" y="408240"/>
              <a:ext cx="621720" cy="82152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39280" y="562320"/>
              <a:ext cx="414360" cy="56448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64920"/>
              <a:ext cx="248760" cy="30780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3240" y="1043640"/>
              <a:ext cx="348840" cy="49428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3240" y="1011600"/>
              <a:ext cx="182880" cy="73152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19960" y="254160"/>
              <a:ext cx="414360" cy="87264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4560" y="459720"/>
              <a:ext cx="829080" cy="87264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49120" y="203040"/>
              <a:ext cx="704520" cy="82152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46640" y="819000"/>
              <a:ext cx="746280" cy="15372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-64440" y="0"/>
            <a:ext cx="6922440" cy="2336040"/>
            <a:chOff x="-64440" y="0"/>
            <a:chExt cx="6922440" cy="233604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" descr=""/>
            <p:cNvPicPr/>
            <p:nvPr/>
          </p:nvPicPr>
          <p:blipFill>
            <a:blip r:embed="rId3"/>
            <a:stretch/>
          </p:blipFill>
          <p:spPr>
            <a:xfrm>
              <a:off x="6064920" y="0"/>
              <a:ext cx="792720" cy="16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4"/>
            <a:stretch/>
          </p:blipFill>
          <p:spPr>
            <a:xfrm rot="930000">
              <a:off x="57240" y="182520"/>
              <a:ext cx="646200" cy="10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08200" cy="8240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4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57240" y="304920"/>
            <a:ext cx="2057040" cy="2640960"/>
            <a:chOff x="-57240" y="304920"/>
            <a:chExt cx="2057040" cy="2640960"/>
          </a:xfrm>
        </p:grpSpPr>
        <p:sp>
          <p:nvSpPr>
            <p:cNvPr id="62" name=""/>
            <p:cNvSpPr/>
            <p:nvPr/>
          </p:nvSpPr>
          <p:spPr>
            <a:xfrm>
              <a:off x="255960" y="388440"/>
              <a:ext cx="1731600" cy="150120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4800" y="343080"/>
              <a:ext cx="642960" cy="260280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57240" y="388440"/>
              <a:ext cx="1472760" cy="151488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80" y="934200"/>
              <a:ext cx="1930320" cy="40968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6200" y="388440"/>
              <a:ext cx="1612080" cy="183492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5240" y="638640"/>
              <a:ext cx="895680" cy="133452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4400" y="888840"/>
              <a:ext cx="597240" cy="91728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4280" y="1055520"/>
              <a:ext cx="358200" cy="50040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1360" y="1670400"/>
              <a:ext cx="502560" cy="80280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1360" y="1618560"/>
              <a:ext cx="263520" cy="118836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90680" y="388440"/>
              <a:ext cx="596880" cy="14176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42120" y="722160"/>
              <a:ext cx="1194120" cy="14176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6800" y="304920"/>
              <a:ext cx="1014840" cy="133452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3200" y="1305720"/>
              <a:ext cx="1074600" cy="2502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>
            <a:off x="5086440" y="6603840"/>
            <a:ext cx="1542960" cy="22352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64440" y="0"/>
            <a:ext cx="6922440" cy="2336040"/>
            <a:chOff x="-64440" y="0"/>
            <a:chExt cx="6922440" cy="2336040"/>
          </a:xfrm>
        </p:grpSpPr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6064920" y="0"/>
              <a:ext cx="792720" cy="16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 rot="930000">
              <a:off x="57240" y="182520"/>
              <a:ext cx="646200" cy="10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808200" cy="824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Ky3uk"/>
          <p:cNvPicPr/>
          <p:nvPr/>
        </p:nvPicPr>
        <p:blipFill>
          <a:blip r:embed="rId7"/>
          <a:stretch/>
        </p:blipFill>
        <p:spPr>
          <a:xfrm>
            <a:off x="914400" y="507960"/>
            <a:ext cx="765000" cy="135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28447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B086-017D-4556-89B9-E63C2A686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rcRect l="53155" t="15130" r="12934" b="45390"/>
          <a:stretch/>
        </p:blipFill>
        <p:spPr>
          <a:xfrm>
            <a:off x="285840" y="1727280"/>
            <a:ext cx="171360" cy="20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594360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1" lang="en-US" sz="2200" spc="-1" strike="noStrike">
                <a:solidFill>
                  <a:srgbClr val="663300"/>
                </a:solidFill>
                <a:latin typeface="Times New Roman"/>
              </a:rPr>
              <a:t>Если у вашего ребенка стопы постоянно холодные на ощупь и мерзнут – значит у него высокая предрасположенность к гриппу и ОР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ните с ребенком заниматься ходьбой босиком, так как это своеобразные сеансы точечного массажа и закал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райтесь, чтобы ребенок занимался дозированным босохождением регулярно, так как настоящий закаливающий эффект обычно наступает лишь при длительных систематических трениров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инайте  закаливание ходьбой босиком с раннего возраста и лучше в теплое время года: сначала с хождения в теплой комнате по ковру или половику, затем – по деревянному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пользуйте специальные резиновые коврики с шиповым рифлением, которые можно приобрести в хозяйственных или спортивных магази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228600"/>
            <a:ext cx="525780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сохождение -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600"/>
            <a:ext cx="6324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 закаливания организма.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5790960" cy="88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ое утро вместе со своим ребенком начинайте зарядку с ходьбы босиком на таком ков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ложите ребенку помассировать стопы ног с помощью скалки или круглой палки, катая их подошвами по нескольку минут в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временно совмещайте этот вид закаливания ребенка с ежедневными ножными ваннами, последовательно снижая температуру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нятии на природе желательно после ходьбы по теплому песку перейти на траву, затем по свежескошенной траве и завершить прогулку на земляной тропинке и в мягкой дорожной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омашних условиях занятия надо начинать с ходьбы по ковру или полу, затем продолжить их на коврике с шиповым рифлением и заканчивать следует на ков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                                        </a:t>
            </a: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руководитель физ. воспит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иричевская Н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1060000">
            <a:off x="1606680" y="5866920"/>
            <a:ext cx="34225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0-06-23T15:08:11Z</dcterms:modified>
  <cp:revision>11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