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E20-B847-402B-87FC-1F00944A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AF7-0660-4D1A-9990-D686788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E78-2A4D-4418-A460-3641D057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870-2641-42DA-9318-EC9400A1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0B8-BA26-400E-8DE1-C36B4CA2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5577-5B43-4D6C-84E5-3C5E9296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0DF1-82F3-4088-A08E-F8D25E28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770-FDF9-4F4F-A963-D1C7931A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39B-686D-4E00-B3BD-F72F212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52DE-4A82-48E2-9A61-15E56B48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77DE-AA9A-40BD-B1E8-016E0E4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9B5-7E33-4508-8097-C4ADC717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A5E0-09D1-4C3E-B643-A4DA5C4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13E2-33D7-47A4-BE3D-AB38BB7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C70D-F773-4246-B080-CA2E2AF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0D05-719D-4339-A0A4-A9DEAC56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6D6-BD4B-46EB-B5D3-556441A9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9A1-9B1F-45E7-9FD4-FAAA9DB0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79C-2D0B-4B09-886B-1C0AF2F5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0F9-BB2E-4562-AD72-97A53CD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8C7-C6E0-4CCD-A0FD-4219275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293-14D1-443F-9ACB-340CEE2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071-17DA-49BB-9BDD-18A9925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3C8-7B36-45FC-B54F-F00E937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891-0C72-47CD-9F96-CA2F5C21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14480" y="203040"/>
            <a:ext cx="1428120" cy="1625400"/>
            <a:chOff x="114480" y="203040"/>
            <a:chExt cx="1428120" cy="1625400"/>
          </a:xfrm>
        </p:grpSpPr>
        <p:sp>
          <p:nvSpPr>
            <p:cNvPr id="4" name=""/>
            <p:cNvSpPr/>
            <p:nvPr/>
          </p:nvSpPr>
          <p:spPr>
            <a:xfrm>
              <a:off x="331920" y="254160"/>
              <a:ext cx="1202040" cy="92412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4000" y="226440"/>
              <a:ext cx="446400" cy="160200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4480" y="254160"/>
              <a:ext cx="1022400" cy="93240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2320" y="590400"/>
              <a:ext cx="1340280" cy="252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0520" y="254160"/>
              <a:ext cx="1119240" cy="112932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6480" y="408240"/>
              <a:ext cx="621720" cy="8215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280" y="562320"/>
              <a:ext cx="414360" cy="5644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64920"/>
              <a:ext cx="248760" cy="307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3240" y="1043640"/>
              <a:ext cx="348840" cy="494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3240" y="1011600"/>
              <a:ext cx="182880" cy="73152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19960" y="254160"/>
              <a:ext cx="414360" cy="872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4560" y="459720"/>
              <a:ext cx="829080" cy="87264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9120" y="203040"/>
              <a:ext cx="704520" cy="82152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46640" y="819000"/>
              <a:ext cx="746280" cy="1537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64440" y="0"/>
            <a:ext cx="6922440" cy="2336040"/>
            <a:chOff x="-64440" y="0"/>
            <a:chExt cx="6922440" cy="233604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6064920" y="0"/>
              <a:ext cx="79272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57240" y="182520"/>
              <a:ext cx="646200" cy="10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08200" cy="8240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57240" y="304920"/>
            <a:ext cx="2057040" cy="2640960"/>
            <a:chOff x="-57240" y="304920"/>
            <a:chExt cx="2057040" cy="2640960"/>
          </a:xfrm>
        </p:grpSpPr>
        <p:sp>
          <p:nvSpPr>
            <p:cNvPr id="62" name=""/>
            <p:cNvSpPr/>
            <p:nvPr/>
          </p:nvSpPr>
          <p:spPr>
            <a:xfrm>
              <a:off x="255960" y="388440"/>
              <a:ext cx="1731600" cy="15012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800" y="343080"/>
              <a:ext cx="642960" cy="260280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57240" y="388440"/>
              <a:ext cx="1472760" cy="15148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0" y="934200"/>
              <a:ext cx="1930320" cy="4096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6200" y="388440"/>
              <a:ext cx="1612080" cy="183492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240" y="638640"/>
              <a:ext cx="895680" cy="13345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4400" y="888840"/>
              <a:ext cx="597240" cy="9172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4280" y="1055520"/>
              <a:ext cx="358200" cy="5004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1360" y="1670400"/>
              <a:ext cx="502560" cy="80280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1360" y="1618560"/>
              <a:ext cx="263520" cy="1188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90680" y="388440"/>
              <a:ext cx="596880" cy="14176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42120" y="722160"/>
              <a:ext cx="1194120" cy="14176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6800" y="304920"/>
              <a:ext cx="1014840" cy="133452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3200" y="1305720"/>
              <a:ext cx="1074600" cy="250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5086440" y="6603840"/>
            <a:ext cx="154296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64440" y="0"/>
            <a:ext cx="6922440" cy="2336040"/>
            <a:chOff x="-64440" y="0"/>
            <a:chExt cx="6922440" cy="233604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6064920" y="0"/>
              <a:ext cx="79272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57240" y="182520"/>
              <a:ext cx="646200" cy="10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08200" cy="82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914400" y="507960"/>
            <a:ext cx="765000" cy="135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28447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740-3697-4855-9712-6631CE86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285840" y="1727280"/>
            <a:ext cx="17136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5943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Если у вашего ребенка стопы постоянно холодные на ощупь и мерзнут – значит у него высокая предрасположенность к гриппу и ОР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ните с ребенком заниматься ходьбой босиком, так как это своеобразные сеансы точечного массажа и 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райтесь, чтобы ребенок занимался дозированным босохождением регулярно, так как настоящий закаливающий эффект обычно наступает лишь при длительных систематических трениров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йте  закаливание ходьбой босиком с раннего возраста и лучше в теплое время года: сначала с хождения в теплой комнате по ковру или половику, затем – по деревян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пользуйте специальные резиновые коврики с шиповым рифлением, которые можно приобрести в хозяйственных или спортивных магази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28600"/>
            <a:ext cx="5257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сохождение -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600"/>
            <a:ext cx="6324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 закаливания организма.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5790960" cy="88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ое утро вместе со своим ребенком начинайте зарядку с ходьбы босиком на таком ков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ложите ребенку помассировать стопы ног с помощью скалки или круглой палки, катая их подошвами по нескольку минут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временно совмещайте этот вид закаливания ребенка с ежедневными ножными ваннами, последовательно снижая температуру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нятии на природе желательно после ходьбы по теплому песку перейти на траву, затем по свежескошенной траве и завершить прогулку на земляной тропинке и в мягкой дорожной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омашних условиях занятия надо начинать с ходьбы по ковру или полу, затем продолжить их на коврике с шиповым рифлением и заканчивать следует на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                                        </a:t>
            </a: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руководитель физ. воспит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иричевская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060000">
            <a:off x="1606680" y="5866920"/>
            <a:ext cx="34225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0-06-23T15:08:11Z</dcterms:modified>
  <cp:revision>1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