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F41D-68D0-49C5-9E95-A68468C58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6DBF-30DF-4020-9249-12B02142F9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E03-0EA1-4390-AC37-88FFEF51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758-18BB-4107-B63C-6DDC42D8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26B-8E9E-4D9B-A27B-1107601E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78F-4AD1-430B-875B-D604888C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64D2-0D11-4CF8-9F30-5B2B7A44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D7AD-F556-49A9-ADBB-732B4DE9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D80D-36B3-4C9D-BB4E-957D4F2D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EB25-F604-40A9-A6BB-2F6A21E8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C06A-A3F6-42F5-89CC-85A3ABEF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C352-6F40-44F4-A03A-246C0539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83EF-EF3D-4FD0-AFAE-98CFC8A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9ED-A776-42FF-B6DC-E2E3441A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1B9F-8883-4F10-8AC5-DD4AA4B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9527-E373-47F9-98A9-5EF97594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FDB3-95F2-4689-9433-D5FA00F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1081-6262-4FF7-B295-101F8A5B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78B-FB00-422B-B547-16990B83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D84-6205-413A-A7C1-338F30BE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494-1929-467A-A5B8-D05F5463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BD8-6059-481F-BFD7-9158B138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A03-C882-4DD3-9786-B0AD1297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E42-CCD4-404E-A8AF-D135961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222-57C7-4E99-8677-4DD2C7B8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486-A4BA-4D2E-BDF1-29900C1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F626-F4FD-4A9E-B88C-CA307F279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A42A-6CBA-497E-A5A7-479928F0C1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356000" y="2602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«Плох тот народ, который не помнит, не ценит и не любит своей истори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В.М. Васнец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0" y="2637000"/>
            <a:ext cx="8820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БУДЕМ ПОМН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835280" y="522936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олетние узники п.Оредеж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вгань Надежда Ивано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и ученицы 5 класса Тихомирова К. и Кулёва 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Домой в Россию!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дин из дней пришли опять американские солдаты и посадили  нас в машины. Долго мы ехали в красивых открытых машинах. Нас привезли на аэродром и  спрос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е хотим ли мы поехать в Амери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Я хочу в Россию, - сказала наша ма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Там нет ничего, одни кусты, -уговаривали н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Хоть кусты, но это наша Родины и я поеду с детьми домой, - ответила им о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Тяжёлые послевоенные дни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езли нас в Ленинград в июле месяце. На телеге мы приехали в свою деревню Бахарины Новгородской области Батецкого района. От нашего дома осталась только крыша и стены. Все ямы, в которых были закопаны вещи, оказались пустыми. Сохранилась только одна икона. Приехали мы летом, огороды у всех посажены. А у нас вообще нет никакой еды. Мама взяла нас, и мы целый год ходили по деревням и просили милостыню. Незнакомые нам люди кормили, кто чем мог, оставляли на ночлег. В школу я пошла только в 9 лет не потому, что не хотела, а потому что надеть было нече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:\Users\Пользователь\Desktop\ДОВГАНЬ Н И\100_5396.JPG"/>
          <p:cNvPicPr/>
          <p:nvPr/>
        </p:nvPicPr>
        <p:blipFill>
          <a:blip r:embed="rId1"/>
          <a:stretch/>
        </p:blipFill>
        <p:spPr>
          <a:xfrm>
            <a:off x="1042920" y="1700280"/>
            <a:ext cx="2749680" cy="3744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971640" y="5589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ма Надежды Ивано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Мирная жизнь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5003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дежда Ивановна с 1970 г. проживает в п. Оредеж. 22 года отработала на шлифовальном станке деревообрабатывающего завода, где делали шахматы, гладильные доски. За добросовестный труд удостоена звания «Ударник Коммунистического труда», «Ветеран Труда», имеет благодарности, дипломы, благодарственные письма, имеет медали и значок «Малолетний уз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C:\Users\Пользователь\Desktop\ДОВГАНЬ Н И\100_5394.JPG"/>
          <p:cNvPicPr/>
          <p:nvPr/>
        </p:nvPicPr>
        <p:blipFill>
          <a:blip r:embed="rId1"/>
          <a:stretch/>
        </p:blipFill>
        <p:spPr>
          <a:xfrm>
            <a:off x="250920" y="177336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Счастливая мать и бабушк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лодное военное детство не сломило дух этой сильной красивой женщины, настоящей труженицы, но сказалось на её здоровье: четыре инсульта, снижается зрение и слу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ти войны умеют ценить жизнь. Надежда Ивановна-мать двоих сыновей, бабушка двух внучек и одного внука, которые радуют своими успех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C:\Users\Пользователь\Desktop\ДОВГАНЬ Н И\100_5377.JPG"/>
          <p:cNvPicPr/>
          <p:nvPr/>
        </p:nvPicPr>
        <p:blipFill>
          <a:blip r:embed="rId1"/>
          <a:stretch/>
        </p:blipFill>
        <p:spPr>
          <a:xfrm>
            <a:off x="1258920" y="404640"/>
            <a:ext cx="6950160" cy="4896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1403280" y="55897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хомирова К.,Довгань Н.И., Довгань В.(внучка), Кулёва 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97964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 марта мы побывали в гостях у Довгань Надежды Иванов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1116000" y="54936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забываемое (воспоминания в стихах и прозе бывших малолетних узников фашизма, проживающих в Луге и Лужском районе). Г.Луга,200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-ресур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то : янде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огонь"/>
          <p:cNvPicPr/>
          <p:nvPr/>
        </p:nvPicPr>
        <p:blipFill>
          <a:blip r:embed="rId1"/>
          <a:stretch/>
        </p:blipFill>
        <p:spPr>
          <a:xfrm>
            <a:off x="0" y="0"/>
            <a:ext cx="9144000" cy="7477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611280" y="1844640"/>
            <a:ext cx="813600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ДЕТИ ВОЙ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0" name="Гвердцители-Тамара-Дети-войны-минус-wwwruminusru(muzofon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37-0530"/>
          <p:cNvPicPr/>
          <p:nvPr/>
        </p:nvPicPr>
        <p:blipFill>
          <a:blip r:embed="rId1"/>
          <a:stretch/>
        </p:blipFill>
        <p:spPr>
          <a:xfrm>
            <a:off x="0" y="0"/>
            <a:ext cx="4500720" cy="301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037-0560"/>
          <p:cNvPicPr/>
          <p:nvPr/>
        </p:nvPicPr>
        <p:blipFill>
          <a:blip r:embed="rId2"/>
          <a:stretch/>
        </p:blipFill>
        <p:spPr>
          <a:xfrm>
            <a:off x="0" y="3141720"/>
            <a:ext cx="4500720" cy="3195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4500720" y="333360"/>
            <a:ext cx="4392360" cy="67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мы не будем памяти переч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вспомним те далёкие года, ког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ала нам на слабенькие пл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громная недетская бе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ыла зима и мёрзлой и метель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ыла судьба у всех людей од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 нас и детства не было отдель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были вместе -  детство и вой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ода идут, но эти дни и но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раз придут во сне тебе и м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хоть мы были маленькими оче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ы тоже победили в той вой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Гвердцители-Тамара-Дети-войны-минус-wwwruminusru(muzofon.com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15728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Война 1941 год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овгородской области, Батецкий район, д.Бахарины жила семья Жоховых. Почти все довоенные семьи были многодетными. Семья Надежды(6 лет) была не исключением. Три брата: Анатолий (1924г.),Борис(1926 г.), Валентин(1941г.) и сестра Тамара(1932г.). Отец Жохов Иван Степанович и мать - Жохова Наталья Ильинич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началась война. Всю семью фашисты выгнали из дома во хлев, а в передней комнате, где была икона, сделали туа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388188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 октябрь месяц. Нас загнали в рабочие вагоны и отправили в Германию.Сколько мы ехали, не помню, но очень долго. Привели в лагерь. Брата я держала держала на ру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жу большую трубу. Из неё шёл чёрный дым. Вокруг ходили большие красивые собаки. Нас разделили: взрослых в одну сторону, а детей -в другу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ма привязала мне на грудь младшего брата и сказала: «Ты должна его держать и никуда не отпускать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друг подошёл старший брат и сказал: «Печка, в которой сжигают детей, сломалась, и нас всех отправят в концлагерь». Всех опять объединили и отправили в другой лаге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02625"/>
          <p:cNvPicPr/>
          <p:nvPr/>
        </p:nvPicPr>
        <p:blipFill>
          <a:blip r:embed="rId1"/>
          <a:stretch/>
        </p:blipFill>
        <p:spPr>
          <a:xfrm>
            <a:off x="1042920" y="189000"/>
            <a:ext cx="6985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11280" y="4221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дети находились в бараке. Нас было очень много. Спали мы на соломе, до самого потолка была колючая проволока. Когда мы  подходили к проволоке, то нас начинало трясти. Мы не понимали, что проволока была под током. Один раз в день приносили бак с варёной капустой, которую мы ели. Больше ничего не дава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ма и два старших брата работали до ночи на заводе. На ночь приходили к нам в лагерь. Один раз она не вернулась. Брат сказал, что маму отправили в другой лагерь, и мы её очень долго не видел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Фашистский лагерь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1" name="Picture 6" descr="813_2138904413_big"/>
          <p:cNvPicPr/>
          <p:nvPr/>
        </p:nvPicPr>
        <p:blipFill>
          <a:blip r:embed="rId1"/>
          <a:stretch/>
        </p:blipFill>
        <p:spPr>
          <a:xfrm>
            <a:off x="971640" y="1052640"/>
            <a:ext cx="7380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Работа в неволе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4626000"/>
            <a:ext cx="838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ом мама пришла и рассказала, что одна украинка, с которой она работала на заводе,  пожаловалась на то, что у неё очень болит рука от тяжёлой работы. А мама посоветовала ей: «Ты, доченька, крути потиш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та немцам рассказала, что эта бабка мне велела не работать на немцев. Вот маму и отправили в другой лагерь. Позже она нам рассказывала, что ей пришлось все сапоги немцам перецеловать, только бы они её отпустили к детя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x_fa9f93ca"/>
          <p:cNvPicPr/>
          <p:nvPr/>
        </p:nvPicPr>
        <p:blipFill>
          <a:blip r:embed="rId1"/>
          <a:stretch/>
        </p:blipFill>
        <p:spPr>
          <a:xfrm>
            <a:off x="1476360" y="1125360"/>
            <a:ext cx="619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Голод, холод, боль и унижение.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557000"/>
            <a:ext cx="3970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ма приносила нам с братом по кусочку хлеба. Видимо, тем, кто работал, давали немного хлеба. И она делилась с нами своим мизерным пайк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этот хлеб не ели, а сосали, чтобы  понять, что во рту был хле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акать в лагере нельзя было никому. Вокруг ходила немка в чёрных сапогах с плёткой в руке. И если кто-нибудь начинал плакать, била плёткой. Я прижму к себе годовалого брата, который ещё ничего не понимал, и, думаю, только б не заплакал. Так мы жили 1 год и 8 меся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x_14806c2e"/>
          <p:cNvPicPr/>
          <p:nvPr/>
        </p:nvPicPr>
        <p:blipFill>
          <a:blip r:embed="rId1"/>
          <a:stretch/>
        </p:blipFill>
        <p:spPr>
          <a:xfrm>
            <a:off x="324000" y="1700280"/>
            <a:ext cx="48956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2 года без молока и хлеба!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21200" y="1600200"/>
            <a:ext cx="51228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 освободили американцы. Мы уже не вставали с соломы от голода. Солдаты разрезали проволоку и велели нам бежать. Помню, что мы долго бежали, а потом  ползли по полю, где росла свёкла. Мы так хотели есть, что дёргали эту свёклу и ели прямо с грязью. Ночью пришли к дому немца по фамилии Баур. Они разрешили нам пожить во дворе, где стояли коровы. Напоили нас молоком и дали белого хлеба. 2 года мы не видели не молока , ни хлеба. Было так вкусно!!!. Этот Баур заставлял нас работать. И я работала в свои 6 лет. Собирала в большую корзину яица. Поднять её я не могла, она была очень тяжёлой. Я могла её только двиг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:\Users\Пользователь\Desktop\ДОВГАНЬ Н И\100_5399.JPG"/>
          <p:cNvPicPr/>
          <p:nvPr/>
        </p:nvPicPr>
        <p:blipFill>
          <a:blip r:embed="rId1"/>
          <a:stretch/>
        </p:blipFill>
        <p:spPr>
          <a:xfrm>
            <a:off x="611280" y="1700280"/>
            <a:ext cx="3552840" cy="2952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684360" y="4869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дежде Ивановне 18 лет. (в центр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6:53:04Z</dcterms:created>
  <dc:creator>Admin</dc:creator>
  <dc:description/>
  <dc:language>en-US</dc:language>
  <cp:lastModifiedBy>андрей</cp:lastModifiedBy>
  <dcterms:modified xsi:type="dcterms:W3CDTF">2013-11-14T10:16:06Z</dcterms:modified>
  <cp:revision>12</cp:revision>
  <dc:subject/>
  <dc:title>Слайд 1</dc:title>
</cp:coreProperties>
</file>