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7511-7C38-4B7A-99F9-9C9637D62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2259-81A3-4949-8A98-4FBD3CF3D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E80-1D39-46BB-AD89-BBCD80BB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2C5-AECA-4C7C-BA56-DE22118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781-FFB4-442D-B39E-ECA6A9DF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52E-92AA-4B33-8D76-A0076CA6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A08-8949-4297-8A4B-C687C370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C903-5E7D-440E-B156-7FCC0BBB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B72F-0363-493B-B0D9-A6CDE91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74C-17DE-4A3B-B1E4-1F3C339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987-715B-4F1F-B5B9-C3BD5D5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6126-5C89-4499-86D3-F20C0F9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82AF-4EA9-4655-B32F-35AEA8C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1B0-8D68-48D1-8EFA-88EE0F5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731-4A85-47C4-B4AA-9CFA0F0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D6C-34BC-44B0-AF88-CB5B98E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2F7C-6C56-4136-B3CE-9C3890F2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01F-39E2-4F51-B79C-4B9F9931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543-3887-4A9F-969D-F02A58C9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59A-BD00-4BE2-8178-A06A2590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A28-FE0E-43BE-858B-04CA16A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AAC-5617-4A8D-AA6D-9337BA4D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41B-3716-419F-8073-A56E563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CEC-0736-452C-8D32-41E73E2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E28-A924-4545-A4A9-BD7FCDC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A5E-5D9D-4CA0-8DFB-FFDBB65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EE2-4B42-4EB3-BFB8-EEEF328C5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DC0-06FF-4407-BD65-E7F0B43C9A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356000" y="260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«Плох тот народ, который не помнит, не ценит и не любит своей истор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В.М. Васне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0" y="2637000"/>
            <a:ext cx="8820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БУДЕМ ПОМН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835280" y="522936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олетние узники п.Оредеж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вгань Надежда Иван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и ученицы 5 класса Тихомирова К. и Кулёва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Домой в Россию!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дин из дней пришли опять американские солдаты и посадили  нас в машины. Долго мы ехали в красивых открытых машинах. Нас привезли на аэродром и  спрос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хотим ли мы поехать в Амери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Я хочу в Россию, - сказала наша м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Там нет ничего, одни кусты, -уговаривали н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Хоть кусты, но это наша Родины и я поеду с детьми домой, - ответила им о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Тяжёлые послевоенные дни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езли нас в Ленинград в июле месяце. На телеге мы приехали в свою деревню Бахарины Новгородской области Батецкого района. От нашего дома осталась только крыша и стены. Все ямы, в которых были закопаны вещи, оказались пустыми. Сохранилась только одна икона. Приехали мы летом, огороды у всех посажены. А у нас вообще нет никакой еды. Мама взяла нас, и мы целый год ходили по деревням и просили милостыню. Незнакомые нам люди кормили, кто чем мог, оставляли на ночлег. В школу я пошла только в 9 лет не потому, что не хотела, а потому что надеть было неч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:\Users\Пользователь\Desktop\ДОВГАНЬ Н И\100_5396.JPG"/>
          <p:cNvPicPr/>
          <p:nvPr/>
        </p:nvPicPr>
        <p:blipFill>
          <a:blip r:embed="rId1"/>
          <a:stretch/>
        </p:blipFill>
        <p:spPr>
          <a:xfrm>
            <a:off x="1042920" y="1700280"/>
            <a:ext cx="2749680" cy="3744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971640" y="5589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Надежды Иван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Мирная жизнь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5003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ежда Ивановна с 1970 г. проживает в п. Оредеж. 22 года отработала на шлифовальном станке деревообрабатывающего завода, где делали шахматы, гладильные доски. За добросовестный труд удостоена звания «Ударник Коммунистического труда», «Ветеран Труда», имеет благодарности, дипломы, благодарственные письма, имеет медали и значок «Малолетний уз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C:\Users\Пользователь\Desktop\ДОВГАНЬ Н И\100_5394.JPG"/>
          <p:cNvPicPr/>
          <p:nvPr/>
        </p:nvPicPr>
        <p:blipFill>
          <a:blip r:embed="rId1"/>
          <a:stretch/>
        </p:blipFill>
        <p:spPr>
          <a:xfrm>
            <a:off x="250920" y="1773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Счастливая мать и бабуш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лодное военное детство не сломило дух этой сильной красивой женщины, настоящей труженицы, но сказалось на её здоровье: четыре инсульта, снижается зрение и слу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ти войны умеют ценить жизнь. Надежда Ивановна-мать двоих сыновей, бабушка двух внучек и одного внука, которые радуют своими успех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:\Users\Пользователь\Desktop\ДОВГАНЬ Н И\100_5377.JPG"/>
          <p:cNvPicPr/>
          <p:nvPr/>
        </p:nvPicPr>
        <p:blipFill>
          <a:blip r:embed="rId1"/>
          <a:stretch/>
        </p:blipFill>
        <p:spPr>
          <a:xfrm>
            <a:off x="1258920" y="404640"/>
            <a:ext cx="6950160" cy="4896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1403280" y="5589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хомирова К.,Довгань Н.И., Довгань В.(внучка), Кулёва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97964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 марта мы побывали в гостях у Довгань Надежды Иванов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1116000" y="54936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забываемое (воспоминания в стихах и прозе бывших малолетних узников фашизма, проживающих в Луге и Лужском районе). Г.Луга,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о : ян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7477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611280" y="1844640"/>
            <a:ext cx="81360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ДЕТИ ВОЙ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0" name="Гвердцители-Тамара-Дети-войны-минус-wwwruminusru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37-0530"/>
          <p:cNvPicPr/>
          <p:nvPr/>
        </p:nvPicPr>
        <p:blipFill>
          <a:blip r:embed="rId1"/>
          <a:stretch/>
        </p:blipFill>
        <p:spPr>
          <a:xfrm>
            <a:off x="0" y="0"/>
            <a:ext cx="4500720" cy="301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037-0560"/>
          <p:cNvPicPr/>
          <p:nvPr/>
        </p:nvPicPr>
        <p:blipFill>
          <a:blip r:embed="rId2"/>
          <a:stretch/>
        </p:blipFill>
        <p:spPr>
          <a:xfrm>
            <a:off x="0" y="3141720"/>
            <a:ext cx="4500720" cy="3195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500720" y="333360"/>
            <a:ext cx="4392360" cy="67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мы не будем памяти переч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спомним те далёкие года, ког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ала нам на слабенькие пл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громная недетская бе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ыла зима и мёрзлой и метель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ыла судьба у всех людей од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нас и детства не было отдель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были вместе -  детство и вой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да идут, но эти дни и но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раз придут во сне тебе и м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хоть мы были маленькими оче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тоже победили в той вой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Гвердцители-Тамара-Дети-войны-минус-wwwruminusru(muzofon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1572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Война 1941 год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овгородской области, Батецкий район, д.Бахарины жила семья Жоховых. Почти все довоенные семьи были многодетными. Семья Надежды(6 лет) была не исключением. Три брата: Анатолий (1924г.),Борис(1926 г.), Валентин(1941г.) и сестра Тамара(1932г.). Отец Жохов Иван Степанович и мать - Жохова Наталья Ильинич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ачалась война. Всю семью фашисты выгнали из дома во хлев, а в передней комнате, где была икона, сделали туа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388188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 октябрь месяц. Нас загнали в рабочие вагоны и отправили в Германию.Сколько мы ехали, не помню, но очень долго. Привели в лагерь. Брата я держала держала на ру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жу большую трубу. Из неё шёл чёрный дым. Вокруг ходили большие красивые собаки. Нас разделили: взрослых в одну сторону, а детей -в друг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ма привязала мне на грудь младшего брата и сказала: «Ты должна его держать и никуда не отпуска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друг подошёл старший брат и сказал: «Печка, в которой сжигают детей, сломалась, и нас всех отправят в концлагерь». Всех опять объединили и отправили в другой лаге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02625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11280" y="4221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дети находились в бараке. Нас было очень много. Спали мы на соломе, до самого потолка была колючая проволока. Когда мы  подходили к проволоке, то нас начинало трясти. Мы не понимали, что проволока была под током. Один раз в день приносили бак с варёной капустой, которую мы ели. Больше ничего не дав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и два старших брата работали до ночи на заводе. На ночь приходили к нам в лагерь. Один раз она не вернулась. Брат сказал, что маму отправили в другой лагерь, и мы её очень долго не видел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Фашистский лагерь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1" name="Picture 6" descr="813_2138904413_big"/>
          <p:cNvPicPr/>
          <p:nvPr/>
        </p:nvPicPr>
        <p:blipFill>
          <a:blip r:embed="rId1"/>
          <a:stretch/>
        </p:blipFill>
        <p:spPr>
          <a:xfrm>
            <a:off x="971640" y="1052640"/>
            <a:ext cx="738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Работа в неволе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4626000"/>
            <a:ext cx="838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 мама пришла и рассказала, что одна украинка, с которой она работала на заводе,  пожаловалась на то, что у неё очень болит рука от тяжёлой работы. А мама посоветовала ей: «Ты, доченька, крути потиш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та немцам рассказала, что эта бабка мне велела не работать на немцев. Вот маму и отправили в другой лагерь. Позже она нам рассказывала, что ей пришлось все сапоги немцам перецеловать, только бы они её отпустили к детя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x_fa9f93ca"/>
          <p:cNvPicPr/>
          <p:nvPr/>
        </p:nvPicPr>
        <p:blipFill>
          <a:blip r:embed="rId1"/>
          <a:stretch/>
        </p:blipFill>
        <p:spPr>
          <a:xfrm>
            <a:off x="1476360" y="1125360"/>
            <a:ext cx="619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Голод, холод, боль и унижение.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557000"/>
            <a:ext cx="3970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приносила нам с братом по кусочку хлеба. Видимо, тем, кто работал, давали немного хлеба. И она делилась с нами своим мизерным пай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этот хлеб не ели, а сосали, чтобы  понять, что во рту был хле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кать в лагере нельзя было никому. Вокруг ходила немка в чёрных сапогах с плёткой в руке. И если кто-нибудь начинал плакать, била плёткой. Я прижму к себе годовалого брата, который ещё ничего не понимал, и, думаю, только б не заплакал. Так мы жили 1 год и 8 меся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x_14806c2e"/>
          <p:cNvPicPr/>
          <p:nvPr/>
        </p:nvPicPr>
        <p:blipFill>
          <a:blip r:embed="rId1"/>
          <a:stretch/>
        </p:blipFill>
        <p:spPr>
          <a:xfrm>
            <a:off x="324000" y="1700280"/>
            <a:ext cx="4895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2 года без молока и хлеба!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1200" y="1600200"/>
            <a:ext cx="51228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 освободили американцы. Мы уже не вставали с соломы от голода. Солдаты разрезали проволоку и велели нам бежать. Помню, что мы долго бежали, а потом  ползли по полю, где росла свёкла. Мы так хотели есть, что дёргали эту свёклу и ели прямо с грязью. Ночью пришли к дому немца по фамилии Баур. Они разрешили нам пожить во дворе, где стояли коровы. Напоили нас молоком и дали белого хлеба. 2 года мы не видели не молока , ни хлеба. Было так вкусно!!!. Этот Баур заставлял нас работать. И я работала в свои 6 лет. Собирала в большую корзину яица. Поднять её я не могла, она была очень тяжёлой. Я могла её только двиг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:\Users\Пользователь\Desktop\ДОВГАНЬ Н И\100_5399.JPG"/>
          <p:cNvPicPr/>
          <p:nvPr/>
        </p:nvPicPr>
        <p:blipFill>
          <a:blip r:embed="rId1"/>
          <a:stretch/>
        </p:blipFill>
        <p:spPr>
          <a:xfrm>
            <a:off x="611280" y="1700280"/>
            <a:ext cx="355284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684360" y="4869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ежде Ивановне 18 лет. (в центр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6:53:04Z</dcterms:created>
  <dc:creator>Admin</dc:creator>
  <dc:description/>
  <dc:language>en-US</dc:language>
  <cp:lastModifiedBy>андрей</cp:lastModifiedBy>
  <dcterms:modified xsi:type="dcterms:W3CDTF">2013-11-14T10:16:06Z</dcterms:modified>
  <cp:revision>12</cp:revision>
  <dc:subject/>
  <dc:title>Слайд 1</dc:title>
</cp:coreProperties>
</file>