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2.gif" ContentType="image/gif"/>
  <Override PartName="/ppt/media/image12.gif" ContentType="image/gif"/>
  <Override PartName="/ppt/media/image7.gif" ContentType="image/gif"/>
  <Override PartName="/ppt/media/image6.jpeg" ContentType="image/jpeg"/>
  <Override PartName="/ppt/media/image10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5.gif" ContentType="image/gif"/>
  <Override PartName="/ppt/media/image15.gif" ContentType="image/gif"/>
  <Override PartName="/ppt/media/image20.png" ContentType="image/png"/>
  <Override PartName="/ppt/media/image18.png" ContentType="image/png"/>
  <Override PartName="/ppt/media/image1.gif" ContentType="image/gif"/>
  <Override PartName="/ppt/media/image11.png" ContentType="image/png"/>
  <Override PartName="/ppt/media/image3.gif" ContentType="image/gif"/>
  <Override PartName="/ppt/media/image4.jpeg" ContentType="image/jpe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993B-0671-43EB-9C9E-0CC66975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837F-A690-44A4-B4E6-49641CB6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77D2-C758-46AA-BF82-FBE1E2CE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ED6D-F217-4276-AB05-5731D061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522D-6BF0-4CA1-87C1-DC9A0F59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3D89-7289-45D7-AED4-E0E6524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ECB4-5E1D-43A6-B6C3-AEA6CCFA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48C3-4582-4894-8556-5F418F83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A8A5-FE9D-41B6-8C57-920E44B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DD1F-2139-4C09-9AFE-1CF77205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FB9F-F7DC-4557-A9E7-A73F2AA6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E0C4-5DC7-483A-8EF3-BEF2927F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CF7D-C6CE-4538-AE4E-571F57D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E556-FC54-481F-B043-92DDB518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7EE7-027F-4E74-84EB-83876577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05CF-6847-4C24-BCFE-CBD5BD36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1EA1-3C37-40AB-BFAC-5A2C2F9B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1F2F-7231-434F-9721-143A0DF2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6C27-FF37-4FE4-A880-B7E67D1C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810E-A0E6-445B-B69E-98E738C4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B1B6-34B7-4558-85C3-0A329C22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8B22-57D2-4EA4-80F7-F0CF9FFA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BC5A-4B93-475E-B6BF-98BB6A75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C758-4ED7-4D47-8336-6A2ED824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3AC3-CED0-47A1-9A4F-47D8047A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684E-7173-463E-BD84-5CB5C95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D417-AAA6-4562-8793-87BAE303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CA40-7A76-4626-9F83-66FA4F4A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D451-6816-48F1-8AED-4B569362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EC45-BA55-471C-A4AD-BB013306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B17F-9F27-4B94-BA7B-23AC2DA2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76DD-7ADF-45BE-A27D-0CB1936E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C333C-F531-4BDF-A6C3-C66F3435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A471-E2D4-421E-932B-46731BC6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776D-543C-4982-A42C-92EE5667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26EE-8685-4CD4-B33F-77F76023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6B0DA-397D-4D1A-B895-7E545781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3299F-AF36-4F82-AE37-FE60FC6F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7D20D-62CA-4545-9755-88C05844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119A-E6E8-44ED-9C2C-015CE686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94806-933D-4590-A799-2F5F9A7B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3E3F0-7230-4967-B106-D393FBB6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063E2-70A3-4D26-B060-E40BEEC1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BD99A-A7FB-4876-9872-DEA6975A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EC26-2D93-4D77-A2E7-754ACBB3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D404E-362E-4F50-8A14-4F5E4942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C3BE-E0A1-43E3-A6C2-0192DEA0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DC815-549C-4A59-A756-B8AEC116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4BFCF-8293-4F71-9648-863312E3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C9F14-E557-4594-B57F-2070BBAE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B1A0-9280-4A0A-BF02-CCE88ED4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165BF-DF09-47EC-81E0-6337021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630A3-9E0E-4C7C-88EF-189EEB99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9356-5476-4BD2-8CF8-1F6D4026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DB9DF-9581-4C56-BA01-C8D9FC79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EB7E-790A-44A4-AA62-27960AEB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CF548-C733-4C85-822A-A775CB10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8025-AF0F-4101-9B90-6368A00B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F3E86-6FF1-4BAB-9745-B65DF2D7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588E5-B3E0-45CB-A296-D7285BEF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21851-E5A5-449B-B85A-6D2E8309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ADE0A-6192-4442-A3A7-D7B30FA7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199C6-B4CF-4773-9869-AE39AC36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CDD9C-4121-4DC7-8B0E-D116FA8E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622BA-70BF-493B-AD06-B74B0C72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6202-61A2-4BF3-8BA2-3963C779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4603-A068-40C5-9076-509FCAA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92871-01C4-4657-A415-405B2467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538F8-7E37-466C-BC0C-615E64FE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2560D-E38C-4FB2-84B8-F5E8FE62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47B7-E043-4C34-8D03-6346852D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9440-181C-4BF9-A45A-67519A3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C9A5-05D5-491F-B16F-AD3B752BF8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8D07-0A22-45EE-BBDB-414FDDDAD2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2643-6EF2-4C92-BD6F-3CB86A754B9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05D5-BCE1-4537-8D21-271A76F6EA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0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D681-C803-44D3-BF4B-7E0EAB3A0E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5D6F-84B0-4252-9F8A-FAC6502E6CA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-презентаци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математике в 6 кла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Длина окружности. 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Площадь кр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МБОУ СОШ №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банова Н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Gresia2[1]"/>
          <p:cNvPicPr/>
          <p:nvPr/>
        </p:nvPicPr>
        <p:blipFill>
          <a:blip r:embed="rId1"/>
          <a:stretch/>
        </p:blipFill>
        <p:spPr>
          <a:xfrm>
            <a:off x="826920" y="1700280"/>
            <a:ext cx="3668760" cy="4227480"/>
          </a:xfrm>
          <a:prstGeom prst="rect">
            <a:avLst/>
          </a:prstGeom>
          <a:ln w="57240">
            <a:solidFill>
              <a:srgbClr val="cccc99"/>
            </a:solidFill>
            <a:miter/>
          </a:ln>
        </p:spPr>
      </p:pic>
      <p:sp>
        <p:nvSpPr>
          <p:cNvPr id="352" name="Text Box 3"/>
          <p:cNvSpPr/>
          <p:nvPr/>
        </p:nvSpPr>
        <p:spPr>
          <a:xfrm>
            <a:off x="826920" y="3333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рхиме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287 до н.э. – 212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4788000" y="1916280"/>
            <a:ext cx="410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ий древнегреческий математик, физик, механик и инженер из города Сирак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684360" y="1628640"/>
            <a:ext cx="8243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Нужно только постара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И запомнить всё, как е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Три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четырнадцать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пятнадцать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евяносто два и шесть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332000" y="549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3,1415926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619280" y="-603360"/>
            <a:ext cx="971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40000" y="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</a:rPr>
              <a:t> ≈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Письменный экспресс-опрос 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по формул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диаметра, зная ради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радиуса, зная длину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длины окружности, зная диаме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площади ко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площади прям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радиуса, зная диаме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длины окружности, зная ради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диаметра, зная длину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площади 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формулу для нахождения площади квад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900000" y="1195560"/>
          <a:ext cx="7101000" cy="5448240"/>
        </p:xfrm>
        <a:graphic>
          <a:graphicData uri="http://schemas.openxmlformats.org/drawingml/2006/table">
            <a:tbl>
              <a:tblPr/>
              <a:tblGrid>
                <a:gridCol w="3660840"/>
                <a:gridCol w="3440160"/>
              </a:tblGrid>
              <a:tr h="766440"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68760" rIns="68760" tIns="0" bIns="0" anchor="t">
                      <a:noAutofit/>
                    </a:bodyPr>
                    <a:p>
                      <a:pPr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8002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68760" rIns="68760" tIns="0" bIns="0" anchor="t">
                      <a:noAutofit/>
                    </a:bodyPr>
                    <a:p>
                      <a:pPr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68760" rIns="68760" tIns="0" bIns="0" anchor="t">
                      <a:noAutofit/>
                    </a:bodyPr>
                    <a:p>
                      <a:pPr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2" name="Object 31"/>
              <p:cNvSpPr txBox="1"/>
              <p:nvPr/>
            </p:nvSpPr>
            <p:spPr>
              <a:xfrm>
                <a:off x="1692360" y="2852640"/>
                <a:ext cx="106524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2"/>
              <p:cNvSpPr txBox="1"/>
              <p:nvPr/>
            </p:nvSpPr>
            <p:spPr>
              <a:xfrm>
                <a:off x="1835280" y="2205000"/>
                <a:ext cx="1006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3"/>
              <p:cNvSpPr txBox="1"/>
              <p:nvPr/>
            </p:nvSpPr>
            <p:spPr>
              <a:xfrm>
                <a:off x="1692360" y="4076640"/>
                <a:ext cx="9795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π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34"/>
              <p:cNvSpPr txBox="1"/>
              <p:nvPr/>
            </p:nvSpPr>
            <p:spPr>
              <a:xfrm>
                <a:off x="1403280" y="5013360"/>
                <a:ext cx="2676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ольц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5"/>
              <p:cNvSpPr txBox="1"/>
              <p:nvPr/>
            </p:nvSpPr>
            <p:spPr>
              <a:xfrm>
                <a:off x="1403280" y="5950080"/>
                <a:ext cx="1785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ямоу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6"/>
              <p:cNvSpPr txBox="1"/>
              <p:nvPr/>
            </p:nvSpPr>
            <p:spPr>
              <a:xfrm>
                <a:off x="5796000" y="1989000"/>
                <a:ext cx="86364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9"/>
              <p:cNvSpPr txBox="1"/>
              <p:nvPr/>
            </p:nvSpPr>
            <p:spPr>
              <a:xfrm>
                <a:off x="5580000" y="3068640"/>
                <a:ext cx="1209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40"/>
              <p:cNvSpPr txBox="1"/>
              <p:nvPr/>
            </p:nvSpPr>
            <p:spPr>
              <a:xfrm>
                <a:off x="5724360" y="3933720"/>
                <a:ext cx="9511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1"/>
              <p:cNvSpPr txBox="1"/>
              <p:nvPr/>
            </p:nvSpPr>
            <p:spPr>
              <a:xfrm>
                <a:off x="5580000" y="5013360"/>
                <a:ext cx="1698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уг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2"/>
              <p:cNvSpPr txBox="1"/>
              <p:nvPr/>
            </p:nvSpPr>
            <p:spPr>
              <a:xfrm>
                <a:off x="5580000" y="5950080"/>
                <a:ext cx="1209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2" name="Rectangle 36"/>
          <p:cNvSpPr/>
          <p:nvPr/>
        </p:nvSpPr>
        <p:spPr>
          <a:xfrm>
            <a:off x="611280" y="260280"/>
            <a:ext cx="8229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Проверка экспресс-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я к урок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Длина окружности. Площадь круга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цы 6 Б класса МБОУ СОШ №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анцовой Екатери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258560" y="1268280"/>
            <a:ext cx="748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й пластине просверлено круглое отверстие. Найдите площадь детали и ее массу, если 1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есит 2 г.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"/>
          <p:cNvPicPr/>
          <p:nvPr/>
        </p:nvPicPr>
        <p:blipFill>
          <a:blip r:embed="rId1"/>
          <a:srcRect l="15301" t="31294" r="30813" b="24413"/>
          <a:stretch/>
        </p:blipFill>
        <p:spPr>
          <a:xfrm>
            <a:off x="2484360" y="3218040"/>
            <a:ext cx="5904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1258920" y="651600"/>
            <a:ext cx="7524720" cy="66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рям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6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=390 (с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руг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75(с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фигур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рям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круг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90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 = 315 (см</a:t>
            </a:r>
            <a:r>
              <a:rPr b="0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31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= 630(г) масса дета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315 см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63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1"/>
          <a:srcRect l="15301" t="36679" r="30813" b="24413"/>
          <a:stretch/>
        </p:blipFill>
        <p:spPr>
          <a:xfrm>
            <a:off x="5435640" y="0"/>
            <a:ext cx="3240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539640" y="1197000"/>
            <a:ext cx="374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жалуйста, помогите определить максимальную длину верёвки, которая необходима, чтобы бурёнка, привязанная к колышку, не выходила за границу круглой лужайки длиной 150м. А то она съест все цветы.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40464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Интеллектуальная викторина - 2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4788000" y="1197000"/>
            <a:ext cx="403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жалуйста, помогите  определить длину кружева, которое потребуется для отделки одной круглой салфетки радиуса 10 см для ресто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61"/>
          <p:cNvPicPr/>
          <p:nvPr/>
        </p:nvPicPr>
        <p:blipFill>
          <a:blip r:embed="rId1"/>
          <a:stretch/>
        </p:blipFill>
        <p:spPr>
          <a:xfrm rot="124200">
            <a:off x="2626920" y="1628640"/>
            <a:ext cx="735120" cy="7668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218" descr="37r3[1]"/>
          <p:cNvPicPr/>
          <p:nvPr/>
        </p:nvPicPr>
        <p:blipFill>
          <a:blip r:embed="rId2"/>
          <a:stretch/>
        </p:blipFill>
        <p:spPr>
          <a:xfrm>
            <a:off x="755640" y="1341360"/>
            <a:ext cx="433440" cy="36828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2262"/>
          <p:cNvGrpSpPr/>
          <p:nvPr/>
        </p:nvGrpSpPr>
        <p:grpSpPr>
          <a:xfrm>
            <a:off x="242640" y="2273400"/>
            <a:ext cx="4868640" cy="3081240"/>
            <a:chOff x="242640" y="2273400"/>
            <a:chExt cx="4868640" cy="3081240"/>
          </a:xfrm>
        </p:grpSpPr>
        <p:grpSp>
          <p:nvGrpSpPr>
            <p:cNvPr id="384" name="Group 2247"/>
            <p:cNvGrpSpPr/>
            <p:nvPr/>
          </p:nvGrpSpPr>
          <p:grpSpPr>
            <a:xfrm>
              <a:off x="4286160" y="3311640"/>
              <a:ext cx="825120" cy="613800"/>
              <a:chOff x="4286160" y="3311640"/>
              <a:chExt cx="825120" cy="613800"/>
            </a:xfrm>
          </p:grpSpPr>
          <p:sp>
            <p:nvSpPr>
              <p:cNvPr id="385" name="plant"/>
              <p:cNvSpPr/>
              <p:nvPr/>
            </p:nvSpPr>
            <p:spPr>
              <a:xfrm>
                <a:off x="4286160" y="3311640"/>
                <a:ext cx="825120" cy="613800"/>
              </a:xfrm>
              <a:custGeom>
                <a:avLst/>
                <a:gdLst>
                  <a:gd name="textAreaLeft" fmla="*/ 271080 w 825120"/>
                  <a:gd name="textAreaRight" fmla="*/ 555840 w 825120"/>
                  <a:gd name="textAreaTop" fmla="*/ 286560 h 613800"/>
                  <a:gd name="textAreaBottom" fmla="*/ 385200 h 613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8" y="9002"/>
                    </a:moveTo>
                    <a:lnTo>
                      <a:pt x="9254" y="8422"/>
                    </a:lnTo>
                    <a:lnTo>
                      <a:pt x="9139" y="7935"/>
                    </a:lnTo>
                    <a:lnTo>
                      <a:pt x="8819" y="7355"/>
                    </a:lnTo>
                    <a:lnTo>
                      <a:pt x="8475" y="6728"/>
                    </a:lnTo>
                    <a:lnTo>
                      <a:pt x="8040" y="6287"/>
                    </a:lnTo>
                    <a:lnTo>
                      <a:pt x="7421" y="5707"/>
                    </a:lnTo>
                    <a:lnTo>
                      <a:pt x="6574" y="5429"/>
                    </a:lnTo>
                    <a:lnTo>
                      <a:pt x="5452" y="5313"/>
                    </a:lnTo>
                    <a:lnTo>
                      <a:pt x="4856" y="5220"/>
                    </a:lnTo>
                    <a:lnTo>
                      <a:pt x="4169" y="5220"/>
                    </a:lnTo>
                    <a:lnTo>
                      <a:pt x="3665" y="5104"/>
                    </a:lnTo>
                    <a:lnTo>
                      <a:pt x="3001" y="4872"/>
                    </a:lnTo>
                    <a:lnTo>
                      <a:pt x="2497" y="4756"/>
                    </a:lnTo>
                    <a:lnTo>
                      <a:pt x="2062" y="4408"/>
                    </a:lnTo>
                    <a:lnTo>
                      <a:pt x="1603" y="4083"/>
                    </a:lnTo>
                    <a:lnTo>
                      <a:pt x="1283" y="3689"/>
                    </a:lnTo>
                    <a:lnTo>
                      <a:pt x="1283" y="4315"/>
                    </a:lnTo>
                    <a:lnTo>
                      <a:pt x="1489" y="5104"/>
                    </a:lnTo>
                    <a:lnTo>
                      <a:pt x="1832" y="6055"/>
                    </a:lnTo>
                    <a:lnTo>
                      <a:pt x="2382" y="6914"/>
                    </a:lnTo>
                    <a:lnTo>
                      <a:pt x="2680" y="7471"/>
                    </a:lnTo>
                    <a:lnTo>
                      <a:pt x="3115" y="7935"/>
                    </a:lnTo>
                    <a:lnTo>
                      <a:pt x="3573" y="8213"/>
                    </a:lnTo>
                    <a:lnTo>
                      <a:pt x="4077" y="8654"/>
                    </a:lnTo>
                    <a:lnTo>
                      <a:pt x="4627" y="9002"/>
                    </a:lnTo>
                    <a:lnTo>
                      <a:pt x="5245" y="9234"/>
                    </a:lnTo>
                    <a:lnTo>
                      <a:pt x="6024" y="9443"/>
                    </a:lnTo>
                    <a:lnTo>
                      <a:pt x="6757" y="9628"/>
                    </a:lnTo>
                    <a:lnTo>
                      <a:pt x="5177" y="10069"/>
                    </a:lnTo>
                    <a:lnTo>
                      <a:pt x="3963" y="10649"/>
                    </a:lnTo>
                    <a:lnTo>
                      <a:pt x="3344" y="11044"/>
                    </a:lnTo>
                    <a:lnTo>
                      <a:pt x="2886" y="11600"/>
                    </a:lnTo>
                    <a:lnTo>
                      <a:pt x="2497" y="12041"/>
                    </a:lnTo>
                    <a:lnTo>
                      <a:pt x="1947" y="12343"/>
                    </a:lnTo>
                    <a:lnTo>
                      <a:pt x="1168" y="12668"/>
                    </a:lnTo>
                    <a:lnTo>
                      <a:pt x="0" y="12900"/>
                    </a:lnTo>
                    <a:lnTo>
                      <a:pt x="435" y="13248"/>
                    </a:lnTo>
                    <a:lnTo>
                      <a:pt x="779" y="13456"/>
                    </a:lnTo>
                    <a:lnTo>
                      <a:pt x="1283" y="13642"/>
                    </a:lnTo>
                    <a:lnTo>
                      <a:pt x="1718" y="13758"/>
                    </a:lnTo>
                    <a:lnTo>
                      <a:pt x="2680" y="13851"/>
                    </a:lnTo>
                    <a:lnTo>
                      <a:pt x="3573" y="13758"/>
                    </a:lnTo>
                    <a:lnTo>
                      <a:pt x="4512" y="13526"/>
                    </a:lnTo>
                    <a:lnTo>
                      <a:pt x="5360" y="13248"/>
                    </a:lnTo>
                    <a:lnTo>
                      <a:pt x="6139" y="12900"/>
                    </a:lnTo>
                    <a:lnTo>
                      <a:pt x="6757" y="12552"/>
                    </a:lnTo>
                    <a:lnTo>
                      <a:pt x="6459" y="13132"/>
                    </a:lnTo>
                    <a:lnTo>
                      <a:pt x="6139" y="13642"/>
                    </a:lnTo>
                    <a:lnTo>
                      <a:pt x="5910" y="14199"/>
                    </a:lnTo>
                    <a:lnTo>
                      <a:pt x="5681" y="14663"/>
                    </a:lnTo>
                    <a:lnTo>
                      <a:pt x="5681" y="15150"/>
                    </a:lnTo>
                    <a:lnTo>
                      <a:pt x="5681" y="15730"/>
                    </a:lnTo>
                    <a:lnTo>
                      <a:pt x="5681" y="16241"/>
                    </a:lnTo>
                    <a:lnTo>
                      <a:pt x="5795" y="16913"/>
                    </a:lnTo>
                    <a:lnTo>
                      <a:pt x="5910" y="17586"/>
                    </a:lnTo>
                    <a:lnTo>
                      <a:pt x="5910" y="18213"/>
                    </a:lnTo>
                    <a:lnTo>
                      <a:pt x="5795" y="18885"/>
                    </a:lnTo>
                    <a:lnTo>
                      <a:pt x="5566" y="19396"/>
                    </a:lnTo>
                    <a:lnTo>
                      <a:pt x="5245" y="19976"/>
                    </a:lnTo>
                    <a:lnTo>
                      <a:pt x="4971" y="20370"/>
                    </a:lnTo>
                    <a:lnTo>
                      <a:pt x="4512" y="20811"/>
                    </a:lnTo>
                    <a:lnTo>
                      <a:pt x="4077" y="21043"/>
                    </a:lnTo>
                    <a:lnTo>
                      <a:pt x="5177" y="20927"/>
                    </a:lnTo>
                    <a:lnTo>
                      <a:pt x="6253" y="20486"/>
                    </a:lnTo>
                    <a:lnTo>
                      <a:pt x="7421" y="19976"/>
                    </a:lnTo>
                    <a:lnTo>
                      <a:pt x="8361" y="19187"/>
                    </a:lnTo>
                    <a:lnTo>
                      <a:pt x="8819" y="18769"/>
                    </a:lnTo>
                    <a:lnTo>
                      <a:pt x="9139" y="18213"/>
                    </a:lnTo>
                    <a:lnTo>
                      <a:pt x="9437" y="17772"/>
                    </a:lnTo>
                    <a:lnTo>
                      <a:pt x="9643" y="17261"/>
                    </a:lnTo>
                    <a:lnTo>
                      <a:pt x="9872" y="16681"/>
                    </a:lnTo>
                    <a:lnTo>
                      <a:pt x="9872" y="16171"/>
                    </a:lnTo>
                    <a:lnTo>
                      <a:pt x="9872" y="15614"/>
                    </a:lnTo>
                    <a:lnTo>
                      <a:pt x="9758" y="15057"/>
                    </a:lnTo>
                    <a:lnTo>
                      <a:pt x="10216" y="15498"/>
                    </a:lnTo>
                    <a:lnTo>
                      <a:pt x="10537" y="16241"/>
                    </a:lnTo>
                    <a:lnTo>
                      <a:pt x="10834" y="17145"/>
                    </a:lnTo>
                    <a:lnTo>
                      <a:pt x="11041" y="18213"/>
                    </a:lnTo>
                    <a:lnTo>
                      <a:pt x="11155" y="19187"/>
                    </a:lnTo>
                    <a:lnTo>
                      <a:pt x="11155" y="20185"/>
                    </a:lnTo>
                    <a:lnTo>
                      <a:pt x="11155" y="20579"/>
                    </a:lnTo>
                    <a:lnTo>
                      <a:pt x="11041" y="21043"/>
                    </a:lnTo>
                    <a:lnTo>
                      <a:pt x="10926" y="21391"/>
                    </a:lnTo>
                    <a:lnTo>
                      <a:pt x="10766" y="21600"/>
                    </a:lnTo>
                    <a:lnTo>
                      <a:pt x="11499" y="21484"/>
                    </a:lnTo>
                    <a:lnTo>
                      <a:pt x="12323" y="21043"/>
                    </a:lnTo>
                    <a:lnTo>
                      <a:pt x="13102" y="20370"/>
                    </a:lnTo>
                    <a:lnTo>
                      <a:pt x="13606" y="19628"/>
                    </a:lnTo>
                    <a:lnTo>
                      <a:pt x="13950" y="19071"/>
                    </a:lnTo>
                    <a:lnTo>
                      <a:pt x="14064" y="18677"/>
                    </a:lnTo>
                    <a:lnTo>
                      <a:pt x="14179" y="18097"/>
                    </a:lnTo>
                    <a:lnTo>
                      <a:pt x="14293" y="17586"/>
                    </a:lnTo>
                    <a:lnTo>
                      <a:pt x="14179" y="16913"/>
                    </a:lnTo>
                    <a:lnTo>
                      <a:pt x="14064" y="16241"/>
                    </a:lnTo>
                    <a:lnTo>
                      <a:pt x="13835" y="15614"/>
                    </a:lnTo>
                    <a:lnTo>
                      <a:pt x="13560" y="14872"/>
                    </a:lnTo>
                    <a:lnTo>
                      <a:pt x="13950" y="14941"/>
                    </a:lnTo>
                    <a:lnTo>
                      <a:pt x="14408" y="15150"/>
                    </a:lnTo>
                    <a:lnTo>
                      <a:pt x="14843" y="15266"/>
                    </a:lnTo>
                    <a:lnTo>
                      <a:pt x="15232" y="15614"/>
                    </a:lnTo>
                    <a:lnTo>
                      <a:pt x="15576" y="15846"/>
                    </a:lnTo>
                    <a:lnTo>
                      <a:pt x="15897" y="16171"/>
                    </a:lnTo>
                    <a:lnTo>
                      <a:pt x="16126" y="16473"/>
                    </a:lnTo>
                    <a:lnTo>
                      <a:pt x="16240" y="16913"/>
                    </a:lnTo>
                    <a:lnTo>
                      <a:pt x="16515" y="17261"/>
                    </a:lnTo>
                    <a:lnTo>
                      <a:pt x="17088" y="17586"/>
                    </a:lnTo>
                    <a:lnTo>
                      <a:pt x="17798" y="17865"/>
                    </a:lnTo>
                    <a:lnTo>
                      <a:pt x="18576" y="18097"/>
                    </a:lnTo>
                    <a:lnTo>
                      <a:pt x="19424" y="18213"/>
                    </a:lnTo>
                    <a:lnTo>
                      <a:pt x="20317" y="18213"/>
                    </a:lnTo>
                    <a:lnTo>
                      <a:pt x="21050" y="18213"/>
                    </a:lnTo>
                    <a:lnTo>
                      <a:pt x="21600" y="17865"/>
                    </a:lnTo>
                    <a:lnTo>
                      <a:pt x="21165" y="17656"/>
                    </a:lnTo>
                    <a:lnTo>
                      <a:pt x="20592" y="17470"/>
                    </a:lnTo>
                    <a:lnTo>
                      <a:pt x="20088" y="17029"/>
                    </a:lnTo>
                    <a:lnTo>
                      <a:pt x="19653" y="16681"/>
                    </a:lnTo>
                    <a:lnTo>
                      <a:pt x="19195" y="16241"/>
                    </a:lnTo>
                    <a:lnTo>
                      <a:pt x="18920" y="15962"/>
                    </a:lnTo>
                    <a:lnTo>
                      <a:pt x="18576" y="15498"/>
                    </a:lnTo>
                    <a:lnTo>
                      <a:pt x="18576" y="15057"/>
                    </a:lnTo>
                    <a:lnTo>
                      <a:pt x="18485" y="14756"/>
                    </a:lnTo>
                    <a:lnTo>
                      <a:pt x="18256" y="14199"/>
                    </a:lnTo>
                    <a:lnTo>
                      <a:pt x="17912" y="13526"/>
                    </a:lnTo>
                    <a:lnTo>
                      <a:pt x="17523" y="13016"/>
                    </a:lnTo>
                    <a:lnTo>
                      <a:pt x="16973" y="12436"/>
                    </a:lnTo>
                    <a:lnTo>
                      <a:pt x="16355" y="12041"/>
                    </a:lnTo>
                    <a:lnTo>
                      <a:pt x="16011" y="11832"/>
                    </a:lnTo>
                    <a:lnTo>
                      <a:pt x="15690" y="11716"/>
                    </a:lnTo>
                    <a:lnTo>
                      <a:pt x="15232" y="11716"/>
                    </a:lnTo>
                    <a:lnTo>
                      <a:pt x="14843" y="11716"/>
                    </a:lnTo>
                    <a:lnTo>
                      <a:pt x="15461" y="11252"/>
                    </a:lnTo>
                    <a:lnTo>
                      <a:pt x="16126" y="10858"/>
                    </a:lnTo>
                    <a:lnTo>
                      <a:pt x="16973" y="10649"/>
                    </a:lnTo>
                    <a:lnTo>
                      <a:pt x="17798" y="10417"/>
                    </a:lnTo>
                    <a:lnTo>
                      <a:pt x="18806" y="10301"/>
                    </a:lnTo>
                    <a:lnTo>
                      <a:pt x="19653" y="10301"/>
                    </a:lnTo>
                    <a:lnTo>
                      <a:pt x="20478" y="10417"/>
                    </a:lnTo>
                    <a:lnTo>
                      <a:pt x="21256" y="10533"/>
                    </a:lnTo>
                    <a:lnTo>
                      <a:pt x="20707" y="9837"/>
                    </a:lnTo>
                    <a:lnTo>
                      <a:pt x="19859" y="9234"/>
                    </a:lnTo>
                    <a:lnTo>
                      <a:pt x="18806" y="8538"/>
                    </a:lnTo>
                    <a:lnTo>
                      <a:pt x="17637" y="8144"/>
                    </a:lnTo>
                    <a:lnTo>
                      <a:pt x="16973" y="8027"/>
                    </a:lnTo>
                    <a:lnTo>
                      <a:pt x="16355" y="7935"/>
                    </a:lnTo>
                    <a:lnTo>
                      <a:pt x="15805" y="7935"/>
                    </a:lnTo>
                    <a:lnTo>
                      <a:pt x="15118" y="8027"/>
                    </a:lnTo>
                    <a:lnTo>
                      <a:pt x="14614" y="8144"/>
                    </a:lnTo>
                    <a:lnTo>
                      <a:pt x="14064" y="8422"/>
                    </a:lnTo>
                    <a:lnTo>
                      <a:pt x="13606" y="8886"/>
                    </a:lnTo>
                    <a:lnTo>
                      <a:pt x="13217" y="9327"/>
                    </a:lnTo>
                    <a:lnTo>
                      <a:pt x="13606" y="8538"/>
                    </a:lnTo>
                    <a:lnTo>
                      <a:pt x="13950" y="7935"/>
                    </a:lnTo>
                    <a:lnTo>
                      <a:pt x="14293" y="7123"/>
                    </a:lnTo>
                    <a:lnTo>
                      <a:pt x="14499" y="6519"/>
                    </a:lnTo>
                    <a:lnTo>
                      <a:pt x="14614" y="5823"/>
                    </a:lnTo>
                    <a:lnTo>
                      <a:pt x="14614" y="5220"/>
                    </a:lnTo>
                    <a:lnTo>
                      <a:pt x="14408" y="4524"/>
                    </a:lnTo>
                    <a:lnTo>
                      <a:pt x="14064" y="3898"/>
                    </a:lnTo>
                    <a:lnTo>
                      <a:pt x="13606" y="3225"/>
                    </a:lnTo>
                    <a:lnTo>
                      <a:pt x="13331" y="2598"/>
                    </a:lnTo>
                    <a:lnTo>
                      <a:pt x="13102" y="2042"/>
                    </a:lnTo>
                    <a:lnTo>
                      <a:pt x="12896" y="1485"/>
                    </a:lnTo>
                    <a:lnTo>
                      <a:pt x="12781" y="1090"/>
                    </a:lnTo>
                    <a:lnTo>
                      <a:pt x="12667" y="626"/>
                    </a:lnTo>
                    <a:lnTo>
                      <a:pt x="12667" y="278"/>
                    </a:lnTo>
                    <a:lnTo>
                      <a:pt x="12667" y="0"/>
                    </a:lnTo>
                    <a:lnTo>
                      <a:pt x="12163" y="394"/>
                    </a:lnTo>
                    <a:lnTo>
                      <a:pt x="11728" y="974"/>
                    </a:lnTo>
                    <a:lnTo>
                      <a:pt x="11155" y="1601"/>
                    </a:lnTo>
                    <a:lnTo>
                      <a:pt x="10766" y="2390"/>
                    </a:lnTo>
                    <a:lnTo>
                      <a:pt x="10330" y="3109"/>
                    </a:lnTo>
                    <a:lnTo>
                      <a:pt x="10101" y="3898"/>
                    </a:lnTo>
                    <a:lnTo>
                      <a:pt x="9987" y="4524"/>
                    </a:lnTo>
                    <a:lnTo>
                      <a:pt x="10101" y="5220"/>
                    </a:lnTo>
                    <a:lnTo>
                      <a:pt x="10216" y="5823"/>
                    </a:lnTo>
                    <a:lnTo>
                      <a:pt x="10330" y="6403"/>
                    </a:lnTo>
                    <a:lnTo>
                      <a:pt x="10330" y="6914"/>
                    </a:lnTo>
                    <a:lnTo>
                      <a:pt x="10216" y="7471"/>
                    </a:lnTo>
                    <a:lnTo>
                      <a:pt x="10101" y="7935"/>
                    </a:lnTo>
                    <a:lnTo>
                      <a:pt x="9872" y="8329"/>
                    </a:lnTo>
                    <a:lnTo>
                      <a:pt x="9643" y="8654"/>
                    </a:lnTo>
                    <a:lnTo>
                      <a:pt x="9368" y="900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utoShape 2249"/>
              <p:cNvSpPr/>
              <p:nvPr/>
            </p:nvSpPr>
            <p:spPr>
              <a:xfrm>
                <a:off x="4481280" y="3502800"/>
                <a:ext cx="468000" cy="343800"/>
              </a:xfrm>
              <a:prstGeom prst="irregularSeal1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2250"/>
              <p:cNvSpPr/>
              <p:nvPr/>
            </p:nvSpPr>
            <p:spPr>
              <a:xfrm>
                <a:off x="4676760" y="3617640"/>
                <a:ext cx="116640" cy="114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261"/>
            <p:cNvGrpSpPr/>
            <p:nvPr/>
          </p:nvGrpSpPr>
          <p:grpSpPr>
            <a:xfrm>
              <a:off x="242640" y="2273400"/>
              <a:ext cx="4516200" cy="3081240"/>
              <a:chOff x="242640" y="2273400"/>
              <a:chExt cx="4516200" cy="3081240"/>
            </a:xfrm>
          </p:grpSpPr>
          <p:grpSp>
            <p:nvGrpSpPr>
              <p:cNvPr id="389" name="Group 2235"/>
              <p:cNvGrpSpPr/>
              <p:nvPr/>
            </p:nvGrpSpPr>
            <p:grpSpPr>
              <a:xfrm>
                <a:off x="1783800" y="4490280"/>
                <a:ext cx="988200" cy="864360"/>
                <a:chOff x="1783800" y="4490280"/>
                <a:chExt cx="988200" cy="864360"/>
              </a:xfrm>
            </p:grpSpPr>
            <p:sp>
              <p:nvSpPr>
                <p:cNvPr id="390" name="plant"/>
                <p:cNvSpPr/>
                <p:nvPr/>
              </p:nvSpPr>
              <p:spPr>
                <a:xfrm rot="20367600">
                  <a:off x="1865160" y="4615200"/>
                  <a:ext cx="825120" cy="613800"/>
                </a:xfrm>
                <a:custGeom>
                  <a:avLst/>
                  <a:gdLst>
                    <a:gd name="textAreaLeft" fmla="*/ 271080 w 825120"/>
                    <a:gd name="textAreaRight" fmla="*/ 555840 w 825120"/>
                    <a:gd name="textAreaTop" fmla="*/ 286560 h 613800"/>
                    <a:gd name="textAreaBottom" fmla="*/ 385200 h 613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368" y="9002"/>
                      </a:moveTo>
                      <a:lnTo>
                        <a:pt x="9254" y="8422"/>
                      </a:lnTo>
                      <a:lnTo>
                        <a:pt x="9139" y="7935"/>
                      </a:lnTo>
                      <a:lnTo>
                        <a:pt x="8819" y="7355"/>
                      </a:lnTo>
                      <a:lnTo>
                        <a:pt x="8475" y="6728"/>
                      </a:lnTo>
                      <a:lnTo>
                        <a:pt x="8040" y="6287"/>
                      </a:lnTo>
                      <a:lnTo>
                        <a:pt x="7421" y="5707"/>
                      </a:lnTo>
                      <a:lnTo>
                        <a:pt x="6574" y="5429"/>
                      </a:lnTo>
                      <a:lnTo>
                        <a:pt x="5452" y="5313"/>
                      </a:lnTo>
                      <a:lnTo>
                        <a:pt x="4856" y="5220"/>
                      </a:lnTo>
                      <a:lnTo>
                        <a:pt x="4169" y="5220"/>
                      </a:lnTo>
                      <a:lnTo>
                        <a:pt x="3665" y="5104"/>
                      </a:lnTo>
                      <a:lnTo>
                        <a:pt x="3001" y="4872"/>
                      </a:lnTo>
                      <a:lnTo>
                        <a:pt x="2497" y="4756"/>
                      </a:lnTo>
                      <a:lnTo>
                        <a:pt x="2062" y="4408"/>
                      </a:lnTo>
                      <a:lnTo>
                        <a:pt x="1603" y="4083"/>
                      </a:lnTo>
                      <a:lnTo>
                        <a:pt x="1283" y="3689"/>
                      </a:lnTo>
                      <a:lnTo>
                        <a:pt x="1283" y="4315"/>
                      </a:lnTo>
                      <a:lnTo>
                        <a:pt x="1489" y="5104"/>
                      </a:lnTo>
                      <a:lnTo>
                        <a:pt x="1832" y="6055"/>
                      </a:lnTo>
                      <a:lnTo>
                        <a:pt x="2382" y="6914"/>
                      </a:lnTo>
                      <a:lnTo>
                        <a:pt x="2680" y="7471"/>
                      </a:lnTo>
                      <a:lnTo>
                        <a:pt x="3115" y="7935"/>
                      </a:lnTo>
                      <a:lnTo>
                        <a:pt x="3573" y="8213"/>
                      </a:lnTo>
                      <a:lnTo>
                        <a:pt x="4077" y="8654"/>
                      </a:lnTo>
                      <a:lnTo>
                        <a:pt x="4627" y="9002"/>
                      </a:lnTo>
                      <a:lnTo>
                        <a:pt x="5245" y="9234"/>
                      </a:lnTo>
                      <a:lnTo>
                        <a:pt x="6024" y="9443"/>
                      </a:lnTo>
                      <a:lnTo>
                        <a:pt x="6757" y="9628"/>
                      </a:lnTo>
                      <a:lnTo>
                        <a:pt x="5177" y="10069"/>
                      </a:lnTo>
                      <a:lnTo>
                        <a:pt x="3963" y="10649"/>
                      </a:lnTo>
                      <a:lnTo>
                        <a:pt x="3344" y="11044"/>
                      </a:lnTo>
                      <a:lnTo>
                        <a:pt x="2886" y="11600"/>
                      </a:lnTo>
                      <a:lnTo>
                        <a:pt x="2497" y="12041"/>
                      </a:lnTo>
                      <a:lnTo>
                        <a:pt x="1947" y="12343"/>
                      </a:lnTo>
                      <a:lnTo>
                        <a:pt x="1168" y="12668"/>
                      </a:lnTo>
                      <a:lnTo>
                        <a:pt x="0" y="12900"/>
                      </a:lnTo>
                      <a:lnTo>
                        <a:pt x="435" y="13248"/>
                      </a:lnTo>
                      <a:lnTo>
                        <a:pt x="779" y="13456"/>
                      </a:lnTo>
                      <a:lnTo>
                        <a:pt x="1283" y="13642"/>
                      </a:lnTo>
                      <a:lnTo>
                        <a:pt x="1718" y="13758"/>
                      </a:lnTo>
                      <a:lnTo>
                        <a:pt x="2680" y="13851"/>
                      </a:lnTo>
                      <a:lnTo>
                        <a:pt x="3573" y="13758"/>
                      </a:lnTo>
                      <a:lnTo>
                        <a:pt x="4512" y="13526"/>
                      </a:lnTo>
                      <a:lnTo>
                        <a:pt x="5360" y="13248"/>
                      </a:lnTo>
                      <a:lnTo>
                        <a:pt x="6139" y="12900"/>
                      </a:lnTo>
                      <a:lnTo>
                        <a:pt x="6757" y="12552"/>
                      </a:lnTo>
                      <a:lnTo>
                        <a:pt x="6459" y="13132"/>
                      </a:lnTo>
                      <a:lnTo>
                        <a:pt x="6139" y="13642"/>
                      </a:lnTo>
                      <a:lnTo>
                        <a:pt x="5910" y="14199"/>
                      </a:lnTo>
                      <a:lnTo>
                        <a:pt x="5681" y="14663"/>
                      </a:lnTo>
                      <a:lnTo>
                        <a:pt x="5681" y="15150"/>
                      </a:lnTo>
                      <a:lnTo>
                        <a:pt x="5681" y="15730"/>
                      </a:lnTo>
                      <a:lnTo>
                        <a:pt x="5681" y="16241"/>
                      </a:lnTo>
                      <a:lnTo>
                        <a:pt x="5795" y="16913"/>
                      </a:lnTo>
                      <a:lnTo>
                        <a:pt x="5910" y="17586"/>
                      </a:lnTo>
                      <a:lnTo>
                        <a:pt x="5910" y="18213"/>
                      </a:lnTo>
                      <a:lnTo>
                        <a:pt x="5795" y="18885"/>
                      </a:lnTo>
                      <a:lnTo>
                        <a:pt x="5566" y="19396"/>
                      </a:lnTo>
                      <a:lnTo>
                        <a:pt x="5245" y="19976"/>
                      </a:lnTo>
                      <a:lnTo>
                        <a:pt x="4971" y="20370"/>
                      </a:lnTo>
                      <a:lnTo>
                        <a:pt x="4512" y="20811"/>
                      </a:lnTo>
                      <a:lnTo>
                        <a:pt x="4077" y="21043"/>
                      </a:lnTo>
                      <a:lnTo>
                        <a:pt x="5177" y="20927"/>
                      </a:lnTo>
                      <a:lnTo>
                        <a:pt x="6253" y="20486"/>
                      </a:lnTo>
                      <a:lnTo>
                        <a:pt x="7421" y="19976"/>
                      </a:lnTo>
                      <a:lnTo>
                        <a:pt x="8361" y="19187"/>
                      </a:lnTo>
                      <a:lnTo>
                        <a:pt x="8819" y="18769"/>
                      </a:lnTo>
                      <a:lnTo>
                        <a:pt x="9139" y="18213"/>
                      </a:lnTo>
                      <a:lnTo>
                        <a:pt x="9437" y="17772"/>
                      </a:lnTo>
                      <a:lnTo>
                        <a:pt x="9643" y="17261"/>
                      </a:lnTo>
                      <a:lnTo>
                        <a:pt x="9872" y="16681"/>
                      </a:lnTo>
                      <a:lnTo>
                        <a:pt x="9872" y="16171"/>
                      </a:lnTo>
                      <a:lnTo>
                        <a:pt x="9872" y="15614"/>
                      </a:lnTo>
                      <a:lnTo>
                        <a:pt x="9758" y="15057"/>
                      </a:lnTo>
                      <a:lnTo>
                        <a:pt x="10216" y="15498"/>
                      </a:lnTo>
                      <a:lnTo>
                        <a:pt x="10537" y="16241"/>
                      </a:lnTo>
                      <a:lnTo>
                        <a:pt x="10834" y="17145"/>
                      </a:lnTo>
                      <a:lnTo>
                        <a:pt x="11041" y="18213"/>
                      </a:lnTo>
                      <a:lnTo>
                        <a:pt x="11155" y="19187"/>
                      </a:lnTo>
                      <a:lnTo>
                        <a:pt x="11155" y="20185"/>
                      </a:lnTo>
                      <a:lnTo>
                        <a:pt x="11155" y="20579"/>
                      </a:lnTo>
                      <a:lnTo>
                        <a:pt x="11041" y="21043"/>
                      </a:lnTo>
                      <a:lnTo>
                        <a:pt x="10926" y="21391"/>
                      </a:lnTo>
                      <a:lnTo>
                        <a:pt x="10766" y="21600"/>
                      </a:lnTo>
                      <a:lnTo>
                        <a:pt x="11499" y="21484"/>
                      </a:lnTo>
                      <a:lnTo>
                        <a:pt x="12323" y="21043"/>
                      </a:lnTo>
                      <a:lnTo>
                        <a:pt x="13102" y="20370"/>
                      </a:lnTo>
                      <a:lnTo>
                        <a:pt x="13606" y="19628"/>
                      </a:lnTo>
                      <a:lnTo>
                        <a:pt x="13950" y="19071"/>
                      </a:lnTo>
                      <a:lnTo>
                        <a:pt x="14064" y="18677"/>
                      </a:lnTo>
                      <a:lnTo>
                        <a:pt x="14179" y="18097"/>
                      </a:lnTo>
                      <a:lnTo>
                        <a:pt x="14293" y="17586"/>
                      </a:lnTo>
                      <a:lnTo>
                        <a:pt x="14179" y="16913"/>
                      </a:lnTo>
                      <a:lnTo>
                        <a:pt x="14064" y="16241"/>
                      </a:lnTo>
                      <a:lnTo>
                        <a:pt x="13835" y="15614"/>
                      </a:lnTo>
                      <a:lnTo>
                        <a:pt x="13560" y="14872"/>
                      </a:lnTo>
                      <a:lnTo>
                        <a:pt x="13950" y="14941"/>
                      </a:lnTo>
                      <a:lnTo>
                        <a:pt x="14408" y="15150"/>
                      </a:lnTo>
                      <a:lnTo>
                        <a:pt x="14843" y="15266"/>
                      </a:lnTo>
                      <a:lnTo>
                        <a:pt x="15232" y="15614"/>
                      </a:lnTo>
                      <a:lnTo>
                        <a:pt x="15576" y="15846"/>
                      </a:lnTo>
                      <a:lnTo>
                        <a:pt x="15897" y="16171"/>
                      </a:lnTo>
                      <a:lnTo>
                        <a:pt x="16126" y="16473"/>
                      </a:lnTo>
                      <a:lnTo>
                        <a:pt x="16240" y="16913"/>
                      </a:lnTo>
                      <a:lnTo>
                        <a:pt x="16515" y="17261"/>
                      </a:lnTo>
                      <a:lnTo>
                        <a:pt x="17088" y="17586"/>
                      </a:lnTo>
                      <a:lnTo>
                        <a:pt x="17798" y="17865"/>
                      </a:lnTo>
                      <a:lnTo>
                        <a:pt x="18576" y="18097"/>
                      </a:lnTo>
                      <a:lnTo>
                        <a:pt x="19424" y="18213"/>
                      </a:lnTo>
                      <a:lnTo>
                        <a:pt x="20317" y="18213"/>
                      </a:lnTo>
                      <a:lnTo>
                        <a:pt x="21050" y="18213"/>
                      </a:lnTo>
                      <a:lnTo>
                        <a:pt x="21600" y="17865"/>
                      </a:lnTo>
                      <a:lnTo>
                        <a:pt x="21165" y="17656"/>
                      </a:lnTo>
                      <a:lnTo>
                        <a:pt x="20592" y="17470"/>
                      </a:lnTo>
                      <a:lnTo>
                        <a:pt x="20088" y="17029"/>
                      </a:lnTo>
                      <a:lnTo>
                        <a:pt x="19653" y="16681"/>
                      </a:lnTo>
                      <a:lnTo>
                        <a:pt x="19195" y="16241"/>
                      </a:lnTo>
                      <a:lnTo>
                        <a:pt x="18920" y="15962"/>
                      </a:lnTo>
                      <a:lnTo>
                        <a:pt x="18576" y="15498"/>
                      </a:lnTo>
                      <a:lnTo>
                        <a:pt x="18576" y="15057"/>
                      </a:lnTo>
                      <a:lnTo>
                        <a:pt x="18485" y="14756"/>
                      </a:lnTo>
                      <a:lnTo>
                        <a:pt x="18256" y="14199"/>
                      </a:lnTo>
                      <a:lnTo>
                        <a:pt x="17912" y="13526"/>
                      </a:lnTo>
                      <a:lnTo>
                        <a:pt x="17523" y="13016"/>
                      </a:lnTo>
                      <a:lnTo>
                        <a:pt x="16973" y="12436"/>
                      </a:lnTo>
                      <a:lnTo>
                        <a:pt x="16355" y="12041"/>
                      </a:lnTo>
                      <a:lnTo>
                        <a:pt x="16011" y="11832"/>
                      </a:lnTo>
                      <a:lnTo>
                        <a:pt x="15690" y="11716"/>
                      </a:lnTo>
                      <a:lnTo>
                        <a:pt x="15232" y="11716"/>
                      </a:lnTo>
                      <a:lnTo>
                        <a:pt x="14843" y="11716"/>
                      </a:lnTo>
                      <a:lnTo>
                        <a:pt x="15461" y="11252"/>
                      </a:lnTo>
                      <a:lnTo>
                        <a:pt x="16126" y="10858"/>
                      </a:lnTo>
                      <a:lnTo>
                        <a:pt x="16973" y="10649"/>
                      </a:lnTo>
                      <a:lnTo>
                        <a:pt x="17798" y="10417"/>
                      </a:lnTo>
                      <a:lnTo>
                        <a:pt x="18806" y="10301"/>
                      </a:lnTo>
                      <a:lnTo>
                        <a:pt x="19653" y="10301"/>
                      </a:lnTo>
                      <a:lnTo>
                        <a:pt x="20478" y="10417"/>
                      </a:lnTo>
                      <a:lnTo>
                        <a:pt x="21256" y="10533"/>
                      </a:lnTo>
                      <a:lnTo>
                        <a:pt x="20707" y="9837"/>
                      </a:lnTo>
                      <a:lnTo>
                        <a:pt x="19859" y="9234"/>
                      </a:lnTo>
                      <a:lnTo>
                        <a:pt x="18806" y="8538"/>
                      </a:lnTo>
                      <a:lnTo>
                        <a:pt x="17637" y="8144"/>
                      </a:lnTo>
                      <a:lnTo>
                        <a:pt x="16973" y="8027"/>
                      </a:lnTo>
                      <a:lnTo>
                        <a:pt x="16355" y="7935"/>
                      </a:lnTo>
                      <a:lnTo>
                        <a:pt x="15805" y="7935"/>
                      </a:lnTo>
                      <a:lnTo>
                        <a:pt x="15118" y="8027"/>
                      </a:lnTo>
                      <a:lnTo>
                        <a:pt x="14614" y="8144"/>
                      </a:lnTo>
                      <a:lnTo>
                        <a:pt x="14064" y="8422"/>
                      </a:lnTo>
                      <a:lnTo>
                        <a:pt x="13606" y="8886"/>
                      </a:lnTo>
                      <a:lnTo>
                        <a:pt x="13217" y="9327"/>
                      </a:lnTo>
                      <a:lnTo>
                        <a:pt x="13606" y="8538"/>
                      </a:lnTo>
                      <a:lnTo>
                        <a:pt x="13950" y="7935"/>
                      </a:lnTo>
                      <a:lnTo>
                        <a:pt x="14293" y="7123"/>
                      </a:lnTo>
                      <a:lnTo>
                        <a:pt x="14499" y="6519"/>
                      </a:lnTo>
                      <a:lnTo>
                        <a:pt x="14614" y="5823"/>
                      </a:lnTo>
                      <a:lnTo>
                        <a:pt x="14614" y="5220"/>
                      </a:lnTo>
                      <a:lnTo>
                        <a:pt x="14408" y="4524"/>
                      </a:lnTo>
                      <a:lnTo>
                        <a:pt x="14064" y="3898"/>
                      </a:lnTo>
                      <a:lnTo>
                        <a:pt x="13606" y="3225"/>
                      </a:lnTo>
                      <a:lnTo>
                        <a:pt x="13331" y="2598"/>
                      </a:lnTo>
                      <a:lnTo>
                        <a:pt x="13102" y="2042"/>
                      </a:lnTo>
                      <a:lnTo>
                        <a:pt x="12896" y="1485"/>
                      </a:lnTo>
                      <a:lnTo>
                        <a:pt x="12781" y="1090"/>
                      </a:lnTo>
                      <a:lnTo>
                        <a:pt x="12667" y="626"/>
                      </a:lnTo>
                      <a:lnTo>
                        <a:pt x="12667" y="278"/>
                      </a:lnTo>
                      <a:lnTo>
                        <a:pt x="12667" y="0"/>
                      </a:lnTo>
                      <a:lnTo>
                        <a:pt x="12163" y="394"/>
                      </a:lnTo>
                      <a:lnTo>
                        <a:pt x="11728" y="974"/>
                      </a:lnTo>
                      <a:lnTo>
                        <a:pt x="11155" y="1601"/>
                      </a:lnTo>
                      <a:lnTo>
                        <a:pt x="10766" y="2390"/>
                      </a:lnTo>
                      <a:lnTo>
                        <a:pt x="10330" y="3109"/>
                      </a:lnTo>
                      <a:lnTo>
                        <a:pt x="10101" y="3898"/>
                      </a:lnTo>
                      <a:lnTo>
                        <a:pt x="9987" y="4524"/>
                      </a:lnTo>
                      <a:lnTo>
                        <a:pt x="10101" y="5220"/>
                      </a:lnTo>
                      <a:lnTo>
                        <a:pt x="10216" y="5823"/>
                      </a:lnTo>
                      <a:lnTo>
                        <a:pt x="10330" y="6403"/>
                      </a:lnTo>
                      <a:lnTo>
                        <a:pt x="10330" y="6914"/>
                      </a:lnTo>
                      <a:lnTo>
                        <a:pt x="10216" y="7471"/>
                      </a:lnTo>
                      <a:lnTo>
                        <a:pt x="10101" y="7935"/>
                      </a:lnTo>
                      <a:lnTo>
                        <a:pt x="9872" y="8329"/>
                      </a:lnTo>
                      <a:lnTo>
                        <a:pt x="9643" y="8654"/>
                      </a:lnTo>
                      <a:lnTo>
                        <a:pt x="9368" y="900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AutoShape 2237"/>
                <p:cNvSpPr/>
                <p:nvPr/>
              </p:nvSpPr>
              <p:spPr>
                <a:xfrm rot="20367600">
                  <a:off x="2113200" y="4759200"/>
                  <a:ext cx="468000" cy="343800"/>
                </a:xfrm>
                <a:prstGeom prst="irregularSeal1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006699"/>
                    </a:gs>
                  </a:gsLst>
                  <a:lin ang="5400000"/>
                </a:gra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2238"/>
                <p:cNvSpPr/>
                <p:nvPr/>
              </p:nvSpPr>
              <p:spPr>
                <a:xfrm rot="20367600">
                  <a:off x="2270520" y="4881240"/>
                  <a:ext cx="116640" cy="1144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Group 2260"/>
              <p:cNvGrpSpPr/>
              <p:nvPr/>
            </p:nvGrpSpPr>
            <p:grpSpPr>
              <a:xfrm>
                <a:off x="242640" y="2273400"/>
                <a:ext cx="4516200" cy="2917800"/>
                <a:chOff x="242640" y="2273400"/>
                <a:chExt cx="4516200" cy="2917800"/>
              </a:xfrm>
            </p:grpSpPr>
            <p:grpSp>
              <p:nvGrpSpPr>
                <p:cNvPr id="394" name="Group 2243"/>
                <p:cNvGrpSpPr/>
                <p:nvPr/>
              </p:nvGrpSpPr>
              <p:grpSpPr>
                <a:xfrm>
                  <a:off x="3310200" y="4539600"/>
                  <a:ext cx="825120" cy="613800"/>
                  <a:chOff x="3310200" y="4539600"/>
                  <a:chExt cx="825120" cy="613800"/>
                </a:xfrm>
              </p:grpSpPr>
              <p:sp>
                <p:nvSpPr>
                  <p:cNvPr id="395" name="plant"/>
                  <p:cNvSpPr/>
                  <p:nvPr/>
                </p:nvSpPr>
                <p:spPr>
                  <a:xfrm>
                    <a:off x="3310200" y="4539600"/>
                    <a:ext cx="825120" cy="613800"/>
                  </a:xfrm>
                  <a:custGeom>
                    <a:avLst/>
                    <a:gdLst>
                      <a:gd name="textAreaLeft" fmla="*/ 271080 w 825120"/>
                      <a:gd name="textAreaRight" fmla="*/ 555840 w 825120"/>
                      <a:gd name="textAreaTop" fmla="*/ 286560 h 613800"/>
                      <a:gd name="textAreaBottom" fmla="*/ 385200 h 613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9368" y="9002"/>
                        </a:moveTo>
                        <a:lnTo>
                          <a:pt x="9254" y="8422"/>
                        </a:lnTo>
                        <a:lnTo>
                          <a:pt x="9139" y="7935"/>
                        </a:lnTo>
                        <a:lnTo>
                          <a:pt x="8819" y="7355"/>
                        </a:lnTo>
                        <a:lnTo>
                          <a:pt x="8475" y="6728"/>
                        </a:lnTo>
                        <a:lnTo>
                          <a:pt x="8040" y="6287"/>
                        </a:lnTo>
                        <a:lnTo>
                          <a:pt x="7421" y="5707"/>
                        </a:lnTo>
                        <a:lnTo>
                          <a:pt x="6574" y="5429"/>
                        </a:lnTo>
                        <a:lnTo>
                          <a:pt x="5452" y="5313"/>
                        </a:lnTo>
                        <a:lnTo>
                          <a:pt x="4856" y="5220"/>
                        </a:lnTo>
                        <a:lnTo>
                          <a:pt x="4169" y="5220"/>
                        </a:lnTo>
                        <a:lnTo>
                          <a:pt x="3665" y="5104"/>
                        </a:lnTo>
                        <a:lnTo>
                          <a:pt x="3001" y="4872"/>
                        </a:lnTo>
                        <a:lnTo>
                          <a:pt x="2497" y="4756"/>
                        </a:lnTo>
                        <a:lnTo>
                          <a:pt x="2062" y="4408"/>
                        </a:lnTo>
                        <a:lnTo>
                          <a:pt x="1603" y="4083"/>
                        </a:lnTo>
                        <a:lnTo>
                          <a:pt x="1283" y="3689"/>
                        </a:lnTo>
                        <a:lnTo>
                          <a:pt x="1283" y="4315"/>
                        </a:lnTo>
                        <a:lnTo>
                          <a:pt x="1489" y="5104"/>
                        </a:lnTo>
                        <a:lnTo>
                          <a:pt x="1832" y="6055"/>
                        </a:lnTo>
                        <a:lnTo>
                          <a:pt x="2382" y="6914"/>
                        </a:lnTo>
                        <a:lnTo>
                          <a:pt x="2680" y="7471"/>
                        </a:lnTo>
                        <a:lnTo>
                          <a:pt x="3115" y="7935"/>
                        </a:lnTo>
                        <a:lnTo>
                          <a:pt x="3573" y="8213"/>
                        </a:lnTo>
                        <a:lnTo>
                          <a:pt x="4077" y="8654"/>
                        </a:lnTo>
                        <a:lnTo>
                          <a:pt x="4627" y="9002"/>
                        </a:lnTo>
                        <a:lnTo>
                          <a:pt x="5245" y="9234"/>
                        </a:lnTo>
                        <a:lnTo>
                          <a:pt x="6024" y="9443"/>
                        </a:lnTo>
                        <a:lnTo>
                          <a:pt x="6757" y="9628"/>
                        </a:lnTo>
                        <a:lnTo>
                          <a:pt x="5177" y="10069"/>
                        </a:lnTo>
                        <a:lnTo>
                          <a:pt x="3963" y="10649"/>
                        </a:lnTo>
                        <a:lnTo>
                          <a:pt x="3344" y="11044"/>
                        </a:lnTo>
                        <a:lnTo>
                          <a:pt x="2886" y="11600"/>
                        </a:lnTo>
                        <a:lnTo>
                          <a:pt x="2497" y="12041"/>
                        </a:lnTo>
                        <a:lnTo>
                          <a:pt x="1947" y="12343"/>
                        </a:lnTo>
                        <a:lnTo>
                          <a:pt x="1168" y="12668"/>
                        </a:lnTo>
                        <a:lnTo>
                          <a:pt x="0" y="12900"/>
                        </a:lnTo>
                        <a:lnTo>
                          <a:pt x="435" y="13248"/>
                        </a:lnTo>
                        <a:lnTo>
                          <a:pt x="779" y="13456"/>
                        </a:lnTo>
                        <a:lnTo>
                          <a:pt x="1283" y="13642"/>
                        </a:lnTo>
                        <a:lnTo>
                          <a:pt x="1718" y="13758"/>
                        </a:lnTo>
                        <a:lnTo>
                          <a:pt x="2680" y="13851"/>
                        </a:lnTo>
                        <a:lnTo>
                          <a:pt x="3573" y="13758"/>
                        </a:lnTo>
                        <a:lnTo>
                          <a:pt x="4512" y="13526"/>
                        </a:lnTo>
                        <a:lnTo>
                          <a:pt x="5360" y="13248"/>
                        </a:lnTo>
                        <a:lnTo>
                          <a:pt x="6139" y="12900"/>
                        </a:lnTo>
                        <a:lnTo>
                          <a:pt x="6757" y="12552"/>
                        </a:lnTo>
                        <a:lnTo>
                          <a:pt x="6459" y="13132"/>
                        </a:lnTo>
                        <a:lnTo>
                          <a:pt x="6139" y="13642"/>
                        </a:lnTo>
                        <a:lnTo>
                          <a:pt x="5910" y="14199"/>
                        </a:lnTo>
                        <a:lnTo>
                          <a:pt x="5681" y="14663"/>
                        </a:lnTo>
                        <a:lnTo>
                          <a:pt x="5681" y="15150"/>
                        </a:lnTo>
                        <a:lnTo>
                          <a:pt x="5681" y="15730"/>
                        </a:lnTo>
                        <a:lnTo>
                          <a:pt x="5681" y="16241"/>
                        </a:lnTo>
                        <a:lnTo>
                          <a:pt x="5795" y="16913"/>
                        </a:lnTo>
                        <a:lnTo>
                          <a:pt x="5910" y="17586"/>
                        </a:lnTo>
                        <a:lnTo>
                          <a:pt x="5910" y="18213"/>
                        </a:lnTo>
                        <a:lnTo>
                          <a:pt x="5795" y="18885"/>
                        </a:lnTo>
                        <a:lnTo>
                          <a:pt x="5566" y="19396"/>
                        </a:lnTo>
                        <a:lnTo>
                          <a:pt x="5245" y="19976"/>
                        </a:lnTo>
                        <a:lnTo>
                          <a:pt x="4971" y="20370"/>
                        </a:lnTo>
                        <a:lnTo>
                          <a:pt x="4512" y="20811"/>
                        </a:lnTo>
                        <a:lnTo>
                          <a:pt x="4077" y="21043"/>
                        </a:lnTo>
                        <a:lnTo>
                          <a:pt x="5177" y="20927"/>
                        </a:lnTo>
                        <a:lnTo>
                          <a:pt x="6253" y="20486"/>
                        </a:lnTo>
                        <a:lnTo>
                          <a:pt x="7421" y="19976"/>
                        </a:lnTo>
                        <a:lnTo>
                          <a:pt x="8361" y="19187"/>
                        </a:lnTo>
                        <a:lnTo>
                          <a:pt x="8819" y="18769"/>
                        </a:lnTo>
                        <a:lnTo>
                          <a:pt x="9139" y="18213"/>
                        </a:lnTo>
                        <a:lnTo>
                          <a:pt x="9437" y="17772"/>
                        </a:lnTo>
                        <a:lnTo>
                          <a:pt x="9643" y="17261"/>
                        </a:lnTo>
                        <a:lnTo>
                          <a:pt x="9872" y="16681"/>
                        </a:lnTo>
                        <a:lnTo>
                          <a:pt x="9872" y="16171"/>
                        </a:lnTo>
                        <a:lnTo>
                          <a:pt x="9872" y="15614"/>
                        </a:lnTo>
                        <a:lnTo>
                          <a:pt x="9758" y="15057"/>
                        </a:lnTo>
                        <a:lnTo>
                          <a:pt x="10216" y="15498"/>
                        </a:lnTo>
                        <a:lnTo>
                          <a:pt x="10537" y="16241"/>
                        </a:lnTo>
                        <a:lnTo>
                          <a:pt x="10834" y="17145"/>
                        </a:lnTo>
                        <a:lnTo>
                          <a:pt x="11041" y="18213"/>
                        </a:lnTo>
                        <a:lnTo>
                          <a:pt x="11155" y="19187"/>
                        </a:lnTo>
                        <a:lnTo>
                          <a:pt x="11155" y="20185"/>
                        </a:lnTo>
                        <a:lnTo>
                          <a:pt x="11155" y="20579"/>
                        </a:lnTo>
                        <a:lnTo>
                          <a:pt x="11041" y="21043"/>
                        </a:lnTo>
                        <a:lnTo>
                          <a:pt x="10926" y="21391"/>
                        </a:lnTo>
                        <a:lnTo>
                          <a:pt x="10766" y="21600"/>
                        </a:lnTo>
                        <a:lnTo>
                          <a:pt x="11499" y="21484"/>
                        </a:lnTo>
                        <a:lnTo>
                          <a:pt x="12323" y="21043"/>
                        </a:lnTo>
                        <a:lnTo>
                          <a:pt x="13102" y="20370"/>
                        </a:lnTo>
                        <a:lnTo>
                          <a:pt x="13606" y="19628"/>
                        </a:lnTo>
                        <a:lnTo>
                          <a:pt x="13950" y="19071"/>
                        </a:lnTo>
                        <a:lnTo>
                          <a:pt x="14064" y="18677"/>
                        </a:lnTo>
                        <a:lnTo>
                          <a:pt x="14179" y="18097"/>
                        </a:lnTo>
                        <a:lnTo>
                          <a:pt x="14293" y="17586"/>
                        </a:lnTo>
                        <a:lnTo>
                          <a:pt x="14179" y="16913"/>
                        </a:lnTo>
                        <a:lnTo>
                          <a:pt x="14064" y="16241"/>
                        </a:lnTo>
                        <a:lnTo>
                          <a:pt x="13835" y="15614"/>
                        </a:lnTo>
                        <a:lnTo>
                          <a:pt x="13560" y="14872"/>
                        </a:lnTo>
                        <a:lnTo>
                          <a:pt x="13950" y="14941"/>
                        </a:lnTo>
                        <a:lnTo>
                          <a:pt x="14408" y="15150"/>
                        </a:lnTo>
                        <a:lnTo>
                          <a:pt x="14843" y="15266"/>
                        </a:lnTo>
                        <a:lnTo>
                          <a:pt x="15232" y="15614"/>
                        </a:lnTo>
                        <a:lnTo>
                          <a:pt x="15576" y="15846"/>
                        </a:lnTo>
                        <a:lnTo>
                          <a:pt x="15897" y="16171"/>
                        </a:lnTo>
                        <a:lnTo>
                          <a:pt x="16126" y="16473"/>
                        </a:lnTo>
                        <a:lnTo>
                          <a:pt x="16240" y="16913"/>
                        </a:lnTo>
                        <a:lnTo>
                          <a:pt x="16515" y="17261"/>
                        </a:lnTo>
                        <a:lnTo>
                          <a:pt x="17088" y="17586"/>
                        </a:lnTo>
                        <a:lnTo>
                          <a:pt x="17798" y="17865"/>
                        </a:lnTo>
                        <a:lnTo>
                          <a:pt x="18576" y="18097"/>
                        </a:lnTo>
                        <a:lnTo>
                          <a:pt x="19424" y="18213"/>
                        </a:lnTo>
                        <a:lnTo>
                          <a:pt x="20317" y="18213"/>
                        </a:lnTo>
                        <a:lnTo>
                          <a:pt x="21050" y="18213"/>
                        </a:lnTo>
                        <a:lnTo>
                          <a:pt x="21600" y="17865"/>
                        </a:lnTo>
                        <a:lnTo>
                          <a:pt x="21165" y="17656"/>
                        </a:lnTo>
                        <a:lnTo>
                          <a:pt x="20592" y="17470"/>
                        </a:lnTo>
                        <a:lnTo>
                          <a:pt x="20088" y="17029"/>
                        </a:lnTo>
                        <a:lnTo>
                          <a:pt x="19653" y="16681"/>
                        </a:lnTo>
                        <a:lnTo>
                          <a:pt x="19195" y="16241"/>
                        </a:lnTo>
                        <a:lnTo>
                          <a:pt x="18920" y="15962"/>
                        </a:lnTo>
                        <a:lnTo>
                          <a:pt x="18576" y="15498"/>
                        </a:lnTo>
                        <a:lnTo>
                          <a:pt x="18576" y="15057"/>
                        </a:lnTo>
                        <a:lnTo>
                          <a:pt x="18485" y="14756"/>
                        </a:lnTo>
                        <a:lnTo>
                          <a:pt x="18256" y="14199"/>
                        </a:lnTo>
                        <a:lnTo>
                          <a:pt x="17912" y="13526"/>
                        </a:lnTo>
                        <a:lnTo>
                          <a:pt x="17523" y="13016"/>
                        </a:lnTo>
                        <a:lnTo>
                          <a:pt x="16973" y="12436"/>
                        </a:lnTo>
                        <a:lnTo>
                          <a:pt x="16355" y="12041"/>
                        </a:lnTo>
                        <a:lnTo>
                          <a:pt x="16011" y="11832"/>
                        </a:lnTo>
                        <a:lnTo>
                          <a:pt x="15690" y="11716"/>
                        </a:lnTo>
                        <a:lnTo>
                          <a:pt x="15232" y="11716"/>
                        </a:lnTo>
                        <a:lnTo>
                          <a:pt x="14843" y="11716"/>
                        </a:lnTo>
                        <a:lnTo>
                          <a:pt x="15461" y="11252"/>
                        </a:lnTo>
                        <a:lnTo>
                          <a:pt x="16126" y="10858"/>
                        </a:lnTo>
                        <a:lnTo>
                          <a:pt x="16973" y="10649"/>
                        </a:lnTo>
                        <a:lnTo>
                          <a:pt x="17798" y="10417"/>
                        </a:lnTo>
                        <a:lnTo>
                          <a:pt x="18806" y="10301"/>
                        </a:lnTo>
                        <a:lnTo>
                          <a:pt x="19653" y="10301"/>
                        </a:lnTo>
                        <a:lnTo>
                          <a:pt x="20478" y="10417"/>
                        </a:lnTo>
                        <a:lnTo>
                          <a:pt x="21256" y="10533"/>
                        </a:lnTo>
                        <a:lnTo>
                          <a:pt x="20707" y="9837"/>
                        </a:lnTo>
                        <a:lnTo>
                          <a:pt x="19859" y="9234"/>
                        </a:lnTo>
                        <a:lnTo>
                          <a:pt x="18806" y="8538"/>
                        </a:lnTo>
                        <a:lnTo>
                          <a:pt x="17637" y="8144"/>
                        </a:lnTo>
                        <a:lnTo>
                          <a:pt x="16973" y="8027"/>
                        </a:lnTo>
                        <a:lnTo>
                          <a:pt x="16355" y="7935"/>
                        </a:lnTo>
                        <a:lnTo>
                          <a:pt x="15805" y="7935"/>
                        </a:lnTo>
                        <a:lnTo>
                          <a:pt x="15118" y="8027"/>
                        </a:lnTo>
                        <a:lnTo>
                          <a:pt x="14614" y="8144"/>
                        </a:lnTo>
                        <a:lnTo>
                          <a:pt x="14064" y="8422"/>
                        </a:lnTo>
                        <a:lnTo>
                          <a:pt x="13606" y="8886"/>
                        </a:lnTo>
                        <a:lnTo>
                          <a:pt x="13217" y="9327"/>
                        </a:lnTo>
                        <a:lnTo>
                          <a:pt x="13606" y="8538"/>
                        </a:lnTo>
                        <a:lnTo>
                          <a:pt x="13950" y="7935"/>
                        </a:lnTo>
                        <a:lnTo>
                          <a:pt x="14293" y="7123"/>
                        </a:lnTo>
                        <a:lnTo>
                          <a:pt x="14499" y="6519"/>
                        </a:lnTo>
                        <a:lnTo>
                          <a:pt x="14614" y="5823"/>
                        </a:lnTo>
                        <a:lnTo>
                          <a:pt x="14614" y="5220"/>
                        </a:lnTo>
                        <a:lnTo>
                          <a:pt x="14408" y="4524"/>
                        </a:lnTo>
                        <a:lnTo>
                          <a:pt x="14064" y="3898"/>
                        </a:lnTo>
                        <a:lnTo>
                          <a:pt x="13606" y="3225"/>
                        </a:lnTo>
                        <a:lnTo>
                          <a:pt x="13331" y="2598"/>
                        </a:lnTo>
                        <a:lnTo>
                          <a:pt x="13102" y="2042"/>
                        </a:lnTo>
                        <a:lnTo>
                          <a:pt x="12896" y="1485"/>
                        </a:lnTo>
                        <a:lnTo>
                          <a:pt x="12781" y="1090"/>
                        </a:lnTo>
                        <a:lnTo>
                          <a:pt x="12667" y="626"/>
                        </a:lnTo>
                        <a:lnTo>
                          <a:pt x="12667" y="278"/>
                        </a:lnTo>
                        <a:lnTo>
                          <a:pt x="12667" y="0"/>
                        </a:lnTo>
                        <a:lnTo>
                          <a:pt x="12163" y="394"/>
                        </a:lnTo>
                        <a:lnTo>
                          <a:pt x="11728" y="974"/>
                        </a:lnTo>
                        <a:lnTo>
                          <a:pt x="11155" y="1601"/>
                        </a:lnTo>
                        <a:lnTo>
                          <a:pt x="10766" y="2390"/>
                        </a:lnTo>
                        <a:lnTo>
                          <a:pt x="10330" y="3109"/>
                        </a:lnTo>
                        <a:lnTo>
                          <a:pt x="10101" y="3898"/>
                        </a:lnTo>
                        <a:lnTo>
                          <a:pt x="9987" y="4524"/>
                        </a:lnTo>
                        <a:lnTo>
                          <a:pt x="10101" y="5220"/>
                        </a:lnTo>
                        <a:lnTo>
                          <a:pt x="10216" y="5823"/>
                        </a:lnTo>
                        <a:lnTo>
                          <a:pt x="10330" y="6403"/>
                        </a:lnTo>
                        <a:lnTo>
                          <a:pt x="10330" y="6914"/>
                        </a:lnTo>
                        <a:lnTo>
                          <a:pt x="10216" y="7471"/>
                        </a:lnTo>
                        <a:lnTo>
                          <a:pt x="10101" y="7935"/>
                        </a:lnTo>
                        <a:lnTo>
                          <a:pt x="9872" y="8329"/>
                        </a:lnTo>
                        <a:lnTo>
                          <a:pt x="9643" y="8654"/>
                        </a:lnTo>
                        <a:lnTo>
                          <a:pt x="9368" y="9002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2245"/>
                  <p:cNvSpPr/>
                  <p:nvPr/>
                </p:nvSpPr>
                <p:spPr>
                  <a:xfrm>
                    <a:off x="3507120" y="4734000"/>
                    <a:ext cx="468000" cy="343800"/>
                  </a:xfrm>
                  <a:prstGeom prst="irregularSeal1">
                    <a:avLst/>
                  </a:prstGeom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6699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2246"/>
                  <p:cNvSpPr/>
                  <p:nvPr/>
                </p:nvSpPr>
                <p:spPr>
                  <a:xfrm>
                    <a:off x="3702600" y="4848840"/>
                    <a:ext cx="117000" cy="1144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560" bIns="345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2259"/>
                <p:cNvGrpSpPr/>
                <p:nvPr/>
              </p:nvGrpSpPr>
              <p:grpSpPr>
                <a:xfrm>
                  <a:off x="242640" y="2273400"/>
                  <a:ext cx="4516200" cy="2917800"/>
                  <a:chOff x="242640" y="2273400"/>
                  <a:chExt cx="4516200" cy="2917800"/>
                </a:xfrm>
              </p:grpSpPr>
              <p:grpSp>
                <p:nvGrpSpPr>
                  <p:cNvPr id="399" name="Group 2256"/>
                  <p:cNvGrpSpPr/>
                  <p:nvPr/>
                </p:nvGrpSpPr>
                <p:grpSpPr>
                  <a:xfrm>
                    <a:off x="1482120" y="2273400"/>
                    <a:ext cx="2386080" cy="2408760"/>
                    <a:chOff x="1482120" y="2273400"/>
                    <a:chExt cx="2386080" cy="2408760"/>
                  </a:xfrm>
                </p:grpSpPr>
                <p:sp>
                  <p:nvSpPr>
                    <p:cNvPr id="400" name="Oval 3"/>
                    <p:cNvSpPr/>
                    <p:nvPr/>
                  </p:nvSpPr>
                  <p:spPr>
                    <a:xfrm>
                      <a:off x="2625840" y="3426480"/>
                      <a:ext cx="136800" cy="134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1" name="Group 4"/>
                    <p:cNvGrpSpPr/>
                    <p:nvPr/>
                  </p:nvGrpSpPr>
                  <p:grpSpPr>
                    <a:xfrm>
                      <a:off x="1528200" y="3589920"/>
                      <a:ext cx="248400" cy="520200"/>
                      <a:chOff x="1528200" y="3589920"/>
                      <a:chExt cx="248400" cy="520200"/>
                    </a:xfrm>
                  </p:grpSpPr>
                  <p:grpSp>
                    <p:nvGrpSpPr>
                      <p:cNvPr id="402" name="Group 5"/>
                      <p:cNvGrpSpPr/>
                      <p:nvPr/>
                    </p:nvGrpSpPr>
                    <p:grpSpPr>
                      <a:xfrm>
                        <a:off x="1560600" y="3846600"/>
                        <a:ext cx="216000" cy="263520"/>
                        <a:chOff x="1560600" y="3846600"/>
                        <a:chExt cx="216000" cy="263520"/>
                      </a:xfrm>
                    </p:grpSpPr>
                    <p:grpSp>
                      <p:nvGrpSpPr>
                        <p:cNvPr id="403" name="Group 6"/>
                        <p:cNvGrpSpPr/>
                        <p:nvPr/>
                      </p:nvGrpSpPr>
                      <p:grpSpPr>
                        <a:xfrm>
                          <a:off x="1560600" y="3846600"/>
                          <a:ext cx="151200" cy="106560"/>
                          <a:chOff x="1560600" y="3846600"/>
                          <a:chExt cx="151200" cy="106560"/>
                        </a:xfrm>
                      </p:grpSpPr>
                      <p:sp>
                        <p:nvSpPr>
                          <p:cNvPr id="404" name="Freeform 7"/>
                          <p:cNvSpPr/>
                          <p:nvPr/>
                        </p:nvSpPr>
                        <p:spPr>
                          <a:xfrm flipH="1" rot="15626400">
                            <a:off x="1588680" y="38347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Freeform 8"/>
                          <p:cNvSpPr/>
                          <p:nvPr/>
                        </p:nvSpPr>
                        <p:spPr>
                          <a:xfrm flipH="1" rot="15626400">
                            <a:off x="1611000" y="38408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6" name="Group 9"/>
                        <p:cNvGrpSpPr/>
                        <p:nvPr/>
                      </p:nvGrpSpPr>
                      <p:grpSpPr>
                        <a:xfrm>
                          <a:off x="1585080" y="3894120"/>
                          <a:ext cx="158040" cy="119880"/>
                          <a:chOff x="1585080" y="3894120"/>
                          <a:chExt cx="158040" cy="119880"/>
                        </a:xfrm>
                      </p:grpSpPr>
                      <p:sp>
                        <p:nvSpPr>
                          <p:cNvPr id="407" name="Freeform 10"/>
                          <p:cNvSpPr/>
                          <p:nvPr/>
                        </p:nvSpPr>
                        <p:spPr>
                          <a:xfrm flipH="1" rot="15175800">
                            <a:off x="1616400" y="388872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8" name="Freeform 11"/>
                          <p:cNvSpPr/>
                          <p:nvPr/>
                        </p:nvSpPr>
                        <p:spPr>
                          <a:xfrm flipH="1" rot="15175800">
                            <a:off x="1641240" y="389448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9" name="Group 12"/>
                        <p:cNvGrpSpPr/>
                        <p:nvPr/>
                      </p:nvGrpSpPr>
                      <p:grpSpPr>
                        <a:xfrm>
                          <a:off x="1615320" y="3964680"/>
                          <a:ext cx="161280" cy="145440"/>
                          <a:chOff x="1615320" y="3964680"/>
                          <a:chExt cx="161280" cy="145440"/>
                        </a:xfrm>
                      </p:grpSpPr>
                      <p:sp>
                        <p:nvSpPr>
                          <p:cNvPr id="410" name="Freeform 13"/>
                          <p:cNvSpPr/>
                          <p:nvPr/>
                        </p:nvSpPr>
                        <p:spPr>
                          <a:xfrm flipH="1" rot="14069400">
                            <a:off x="1649880" y="39718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Freeform 14"/>
                          <p:cNvSpPr/>
                          <p:nvPr/>
                        </p:nvSpPr>
                        <p:spPr>
                          <a:xfrm flipH="1" rot="14069400">
                            <a:off x="1676160" y="39744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2" name="Group 15"/>
                      <p:cNvGrpSpPr/>
                      <p:nvPr/>
                    </p:nvGrpSpPr>
                    <p:grpSpPr>
                      <a:xfrm>
                        <a:off x="1528200" y="3589920"/>
                        <a:ext cx="182520" cy="257760"/>
                        <a:chOff x="1528200" y="3589920"/>
                        <a:chExt cx="182520" cy="257760"/>
                      </a:xfrm>
                    </p:grpSpPr>
                    <p:grpSp>
                      <p:nvGrpSpPr>
                        <p:cNvPr id="413" name="Group 16"/>
                        <p:cNvGrpSpPr/>
                        <p:nvPr/>
                      </p:nvGrpSpPr>
                      <p:grpSpPr>
                        <a:xfrm>
                          <a:off x="1528200" y="3756960"/>
                          <a:ext cx="141840" cy="90720"/>
                          <a:chOff x="1528200" y="3756960"/>
                          <a:chExt cx="141840" cy="90720"/>
                        </a:xfrm>
                      </p:grpSpPr>
                      <p:sp>
                        <p:nvSpPr>
                          <p:cNvPr id="414" name="Freeform 17"/>
                          <p:cNvSpPr/>
                          <p:nvPr/>
                        </p:nvSpPr>
                        <p:spPr>
                          <a:xfrm rot="16071600">
                            <a:off x="1551600" y="37371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Freeform 18"/>
                          <p:cNvSpPr/>
                          <p:nvPr/>
                        </p:nvSpPr>
                        <p:spPr>
                          <a:xfrm rot="16071600">
                            <a:off x="1572120" y="37220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6" name="Group 19"/>
                        <p:cNvGrpSpPr/>
                        <p:nvPr/>
                      </p:nvGrpSpPr>
                      <p:grpSpPr>
                        <a:xfrm>
                          <a:off x="1542600" y="3695040"/>
                          <a:ext cx="146520" cy="97920"/>
                          <a:chOff x="1542600" y="3695040"/>
                          <a:chExt cx="146520" cy="97920"/>
                        </a:xfrm>
                      </p:grpSpPr>
                      <p:sp>
                        <p:nvSpPr>
                          <p:cNvPr id="417" name="Freeform 20"/>
                          <p:cNvSpPr/>
                          <p:nvPr/>
                        </p:nvSpPr>
                        <p:spPr>
                          <a:xfrm rot="16522200">
                            <a:off x="1568160" y="36788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8" name="Freeform 21"/>
                          <p:cNvSpPr/>
                          <p:nvPr/>
                        </p:nvSpPr>
                        <p:spPr>
                          <a:xfrm rot="16522200">
                            <a:off x="1589760" y="36640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9" name="Group 22"/>
                        <p:cNvGrpSpPr/>
                        <p:nvPr/>
                      </p:nvGrpSpPr>
                      <p:grpSpPr>
                        <a:xfrm>
                          <a:off x="1549800" y="3589920"/>
                          <a:ext cx="160920" cy="131400"/>
                          <a:chOff x="1549800" y="3589920"/>
                          <a:chExt cx="160920" cy="131400"/>
                        </a:xfrm>
                      </p:grpSpPr>
                      <p:sp>
                        <p:nvSpPr>
                          <p:cNvPr id="420" name="Freeform 23"/>
                          <p:cNvSpPr/>
                          <p:nvPr/>
                        </p:nvSpPr>
                        <p:spPr>
                          <a:xfrm rot="17628600">
                            <a:off x="1583280" y="35906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Freeform 24"/>
                          <p:cNvSpPr/>
                          <p:nvPr/>
                        </p:nvSpPr>
                        <p:spPr>
                          <a:xfrm rot="17628600">
                            <a:off x="1608480" y="35791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2" name="Group 25"/>
                    <p:cNvGrpSpPr/>
                    <p:nvPr/>
                  </p:nvGrpSpPr>
                  <p:grpSpPr>
                    <a:xfrm>
                      <a:off x="1500480" y="3088080"/>
                      <a:ext cx="238680" cy="514440"/>
                      <a:chOff x="1500480" y="3088080"/>
                      <a:chExt cx="238680" cy="514440"/>
                    </a:xfrm>
                  </p:grpSpPr>
                  <p:grpSp>
                    <p:nvGrpSpPr>
                      <p:cNvPr id="423" name="Group 26"/>
                      <p:cNvGrpSpPr/>
                      <p:nvPr/>
                    </p:nvGrpSpPr>
                    <p:grpSpPr>
                      <a:xfrm>
                        <a:off x="1503000" y="3339000"/>
                        <a:ext cx="161640" cy="263520"/>
                        <a:chOff x="1503000" y="3339000"/>
                        <a:chExt cx="161640" cy="263520"/>
                      </a:xfrm>
                    </p:grpSpPr>
                    <p:grpSp>
                      <p:nvGrpSpPr>
                        <p:cNvPr id="424" name="Group 27"/>
                        <p:cNvGrpSpPr/>
                        <p:nvPr/>
                      </p:nvGrpSpPr>
                      <p:grpSpPr>
                        <a:xfrm>
                          <a:off x="1503000" y="3339000"/>
                          <a:ext cx="148320" cy="110520"/>
                          <a:chOff x="1503000" y="3339000"/>
                          <a:chExt cx="148320" cy="110520"/>
                        </a:xfrm>
                      </p:grpSpPr>
                      <p:sp>
                        <p:nvSpPr>
                          <p:cNvPr id="425" name="Freeform 28"/>
                          <p:cNvSpPr/>
                          <p:nvPr/>
                        </p:nvSpPr>
                        <p:spPr>
                          <a:xfrm flipH="1" rot="16900200">
                            <a:off x="1532160" y="3329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Freeform 29"/>
                          <p:cNvSpPr/>
                          <p:nvPr/>
                        </p:nvSpPr>
                        <p:spPr>
                          <a:xfrm flipH="1" rot="16900200">
                            <a:off x="1550160" y="33372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7" name="Group 30"/>
                        <p:cNvGrpSpPr/>
                        <p:nvPr/>
                      </p:nvGrpSpPr>
                      <p:grpSpPr>
                        <a:xfrm>
                          <a:off x="1513800" y="3407400"/>
                          <a:ext cx="144000" cy="94680"/>
                          <a:chOff x="1513800" y="3407400"/>
                          <a:chExt cx="144000" cy="94680"/>
                        </a:xfrm>
                      </p:grpSpPr>
                      <p:sp>
                        <p:nvSpPr>
                          <p:cNvPr id="428" name="Freeform 31"/>
                          <p:cNvSpPr/>
                          <p:nvPr/>
                        </p:nvSpPr>
                        <p:spPr>
                          <a:xfrm flipH="1" rot="16449600">
                            <a:off x="1538280" y="338976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9" name="Freeform 32"/>
                          <p:cNvSpPr/>
                          <p:nvPr/>
                        </p:nvSpPr>
                        <p:spPr>
                          <a:xfrm flipH="1" rot="16449600">
                            <a:off x="1559520" y="339768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0" name="Group 33"/>
                        <p:cNvGrpSpPr/>
                        <p:nvPr/>
                      </p:nvGrpSpPr>
                      <p:grpSpPr>
                        <a:xfrm>
                          <a:off x="1509120" y="3486960"/>
                          <a:ext cx="155520" cy="115560"/>
                          <a:chOff x="1509120" y="3486960"/>
                          <a:chExt cx="155520" cy="115560"/>
                        </a:xfrm>
                      </p:grpSpPr>
                      <p:sp>
                        <p:nvSpPr>
                          <p:cNvPr id="431" name="Freeform 34"/>
                          <p:cNvSpPr/>
                          <p:nvPr/>
                        </p:nvSpPr>
                        <p:spPr>
                          <a:xfrm flipH="1" rot="15343200">
                            <a:off x="1539360" y="34794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2" name="Freeform 35"/>
                          <p:cNvSpPr/>
                          <p:nvPr/>
                        </p:nvSpPr>
                        <p:spPr>
                          <a:xfrm flipH="1" rot="15343200">
                            <a:off x="1563120" y="34851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33" name="Group 36"/>
                      <p:cNvGrpSpPr/>
                      <p:nvPr/>
                    </p:nvGrpSpPr>
                    <p:grpSpPr>
                      <a:xfrm>
                        <a:off x="1500480" y="3088080"/>
                        <a:ext cx="238680" cy="263880"/>
                        <a:chOff x="1500480" y="3088080"/>
                        <a:chExt cx="238680" cy="263880"/>
                      </a:xfrm>
                    </p:grpSpPr>
                    <p:grpSp>
                      <p:nvGrpSpPr>
                        <p:cNvPr id="434" name="Group 37"/>
                        <p:cNvGrpSpPr/>
                        <p:nvPr/>
                      </p:nvGrpSpPr>
                      <p:grpSpPr>
                        <a:xfrm>
                          <a:off x="1500480" y="3228120"/>
                          <a:ext cx="158760" cy="123840"/>
                          <a:chOff x="1500480" y="3228120"/>
                          <a:chExt cx="158760" cy="123840"/>
                        </a:xfrm>
                      </p:grpSpPr>
                      <p:sp>
                        <p:nvSpPr>
                          <p:cNvPr id="435" name="Freeform 38"/>
                          <p:cNvSpPr/>
                          <p:nvPr/>
                        </p:nvSpPr>
                        <p:spPr>
                          <a:xfrm rot="17345400">
                            <a:off x="1532880" y="32248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6" name="Freeform 39"/>
                          <p:cNvSpPr/>
                          <p:nvPr/>
                        </p:nvSpPr>
                        <p:spPr>
                          <a:xfrm rot="17345400">
                            <a:off x="1557000" y="3212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7" name="Group 40"/>
                        <p:cNvGrpSpPr/>
                        <p:nvPr/>
                      </p:nvGrpSpPr>
                      <p:grpSpPr>
                        <a:xfrm>
                          <a:off x="1535040" y="3173760"/>
                          <a:ext cx="161640" cy="135360"/>
                          <a:chOff x="1535040" y="3173760"/>
                          <a:chExt cx="161640" cy="135360"/>
                        </a:xfrm>
                      </p:grpSpPr>
                      <p:sp>
                        <p:nvSpPr>
                          <p:cNvPr id="438" name="Freeform 41"/>
                          <p:cNvSpPr/>
                          <p:nvPr/>
                        </p:nvSpPr>
                        <p:spPr>
                          <a:xfrm rot="17796000">
                            <a:off x="1569240" y="3176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Freeform 42"/>
                          <p:cNvSpPr/>
                          <p:nvPr/>
                        </p:nvSpPr>
                        <p:spPr>
                          <a:xfrm rot="17796000">
                            <a:off x="1594440" y="31647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40" name="Group 43"/>
                        <p:cNvGrpSpPr/>
                        <p:nvPr/>
                      </p:nvGrpSpPr>
                      <p:grpSpPr>
                        <a:xfrm>
                          <a:off x="1582560" y="3088080"/>
                          <a:ext cx="156600" cy="152640"/>
                          <a:chOff x="1582560" y="3088080"/>
                          <a:chExt cx="156600" cy="152640"/>
                        </a:xfrm>
                      </p:grpSpPr>
                      <p:sp>
                        <p:nvSpPr>
                          <p:cNvPr id="441" name="Freeform 44"/>
                          <p:cNvSpPr/>
                          <p:nvPr/>
                        </p:nvSpPr>
                        <p:spPr>
                          <a:xfrm rot="18902400">
                            <a:off x="1615680" y="30992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2" name="Freeform 45"/>
                          <p:cNvSpPr/>
                          <p:nvPr/>
                        </p:nvSpPr>
                        <p:spPr>
                          <a:xfrm rot="18902400">
                            <a:off x="1642680" y="30920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43" name="Group 46"/>
                    <p:cNvGrpSpPr/>
                    <p:nvPr/>
                  </p:nvGrpSpPr>
                  <p:grpSpPr>
                    <a:xfrm>
                      <a:off x="1699560" y="4074840"/>
                      <a:ext cx="436320" cy="373320"/>
                      <a:chOff x="1699560" y="4074840"/>
                      <a:chExt cx="436320" cy="373320"/>
                    </a:xfrm>
                  </p:grpSpPr>
                  <p:grpSp>
                    <p:nvGrpSpPr>
                      <p:cNvPr id="444" name="Group 47"/>
                      <p:cNvGrpSpPr/>
                      <p:nvPr/>
                    </p:nvGrpSpPr>
                    <p:grpSpPr>
                      <a:xfrm>
                        <a:off x="1868400" y="4236840"/>
                        <a:ext cx="267480" cy="211320"/>
                        <a:chOff x="1868400" y="4236840"/>
                        <a:chExt cx="267480" cy="211320"/>
                      </a:xfrm>
                    </p:grpSpPr>
                    <p:grpSp>
                      <p:nvGrpSpPr>
                        <p:cNvPr id="445" name="Group 48"/>
                        <p:cNvGrpSpPr/>
                        <p:nvPr/>
                      </p:nvGrpSpPr>
                      <p:grpSpPr>
                        <a:xfrm>
                          <a:off x="1868400" y="4236840"/>
                          <a:ext cx="150840" cy="155160"/>
                          <a:chOff x="1868400" y="4236840"/>
                          <a:chExt cx="150840" cy="155160"/>
                        </a:xfrm>
                      </p:grpSpPr>
                      <p:sp>
                        <p:nvSpPr>
                          <p:cNvPr id="446" name="Freeform 49"/>
                          <p:cNvSpPr/>
                          <p:nvPr/>
                        </p:nvSpPr>
                        <p:spPr>
                          <a:xfrm flipH="1" rot="13107000">
                            <a:off x="1898640" y="42490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7" name="Freeform 50"/>
                          <p:cNvSpPr/>
                          <p:nvPr/>
                        </p:nvSpPr>
                        <p:spPr>
                          <a:xfrm flipH="1" rot="13107000">
                            <a:off x="1926360" y="42480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48" name="Group 51"/>
                        <p:cNvGrpSpPr/>
                        <p:nvPr/>
                      </p:nvGrpSpPr>
                      <p:grpSpPr>
                        <a:xfrm>
                          <a:off x="1929240" y="4258080"/>
                          <a:ext cx="142200" cy="155520"/>
                          <a:chOff x="1929240" y="4258080"/>
                          <a:chExt cx="142200" cy="155520"/>
                        </a:xfrm>
                      </p:grpSpPr>
                      <p:sp>
                        <p:nvSpPr>
                          <p:cNvPr id="449" name="Freeform 52"/>
                          <p:cNvSpPr/>
                          <p:nvPr/>
                        </p:nvSpPr>
                        <p:spPr>
                          <a:xfrm flipH="1" rot="12656400">
                            <a:off x="1956600" y="42706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0" name="Freeform 53"/>
                          <p:cNvSpPr/>
                          <p:nvPr/>
                        </p:nvSpPr>
                        <p:spPr>
                          <a:xfrm flipH="1" rot="12656400">
                            <a:off x="1984320" y="426744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1" name="Group 54"/>
                        <p:cNvGrpSpPr/>
                        <p:nvPr/>
                      </p:nvGrpSpPr>
                      <p:grpSpPr>
                        <a:xfrm>
                          <a:off x="2023920" y="4299120"/>
                          <a:ext cx="111960" cy="149040"/>
                          <a:chOff x="2023920" y="4299120"/>
                          <a:chExt cx="111960" cy="149040"/>
                        </a:xfrm>
                      </p:grpSpPr>
                      <p:sp>
                        <p:nvSpPr>
                          <p:cNvPr id="452" name="Freeform 55"/>
                          <p:cNvSpPr/>
                          <p:nvPr/>
                        </p:nvSpPr>
                        <p:spPr>
                          <a:xfrm flipH="1" rot="11550000">
                            <a:off x="2036160" y="4310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Freeform 56"/>
                          <p:cNvSpPr/>
                          <p:nvPr/>
                        </p:nvSpPr>
                        <p:spPr>
                          <a:xfrm flipH="1" rot="11550000">
                            <a:off x="2064240" y="43030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54" name="Group 57"/>
                      <p:cNvGrpSpPr/>
                      <p:nvPr/>
                    </p:nvGrpSpPr>
                    <p:grpSpPr>
                      <a:xfrm>
                        <a:off x="1699560" y="4074840"/>
                        <a:ext cx="226440" cy="267840"/>
                        <a:chOff x="1699560" y="4074840"/>
                        <a:chExt cx="226440" cy="267840"/>
                      </a:xfrm>
                    </p:grpSpPr>
                    <p:grpSp>
                      <p:nvGrpSpPr>
                        <p:cNvPr id="455" name="Group 58"/>
                        <p:cNvGrpSpPr/>
                        <p:nvPr/>
                      </p:nvGrpSpPr>
                      <p:grpSpPr>
                        <a:xfrm>
                          <a:off x="1773000" y="4186800"/>
                          <a:ext cx="153000" cy="155880"/>
                          <a:chOff x="1773000" y="4186800"/>
                          <a:chExt cx="153000" cy="155880"/>
                        </a:xfrm>
                      </p:grpSpPr>
                      <p:sp>
                        <p:nvSpPr>
                          <p:cNvPr id="456" name="Freeform 59"/>
                          <p:cNvSpPr/>
                          <p:nvPr/>
                        </p:nvSpPr>
                        <p:spPr>
                          <a:xfrm rot="13552200">
                            <a:off x="1806120" y="42015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7" name="Freeform 60"/>
                          <p:cNvSpPr/>
                          <p:nvPr/>
                        </p:nvSpPr>
                        <p:spPr>
                          <a:xfrm rot="13552200">
                            <a:off x="1817640" y="41857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58" name="Group 61"/>
                        <p:cNvGrpSpPr/>
                        <p:nvPr/>
                      </p:nvGrpSpPr>
                      <p:grpSpPr>
                        <a:xfrm>
                          <a:off x="1744560" y="4136040"/>
                          <a:ext cx="155880" cy="149400"/>
                          <a:chOff x="1744560" y="4136040"/>
                          <a:chExt cx="155880" cy="149400"/>
                        </a:xfrm>
                      </p:grpSpPr>
                      <p:sp>
                        <p:nvSpPr>
                          <p:cNvPr id="459" name="Freeform 62"/>
                          <p:cNvSpPr/>
                          <p:nvPr/>
                        </p:nvSpPr>
                        <p:spPr>
                          <a:xfrm rot="14002800">
                            <a:off x="1779480" y="41468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0" name="Freeform 63"/>
                          <p:cNvSpPr/>
                          <p:nvPr/>
                        </p:nvSpPr>
                        <p:spPr>
                          <a:xfrm rot="14002800">
                            <a:off x="1792080" y="4130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61" name="Group 64"/>
                        <p:cNvGrpSpPr/>
                        <p:nvPr/>
                      </p:nvGrpSpPr>
                      <p:grpSpPr>
                        <a:xfrm>
                          <a:off x="1699560" y="4074840"/>
                          <a:ext cx="151560" cy="122400"/>
                          <a:chOff x="1699560" y="4074840"/>
                          <a:chExt cx="151560" cy="122400"/>
                        </a:xfrm>
                      </p:grpSpPr>
                      <p:sp>
                        <p:nvSpPr>
                          <p:cNvPr id="462" name="Freeform 65"/>
                          <p:cNvSpPr/>
                          <p:nvPr/>
                        </p:nvSpPr>
                        <p:spPr>
                          <a:xfrm rot="15109200">
                            <a:off x="1731600" y="40708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3" name="Freeform 66"/>
                          <p:cNvSpPr/>
                          <p:nvPr/>
                        </p:nvSpPr>
                        <p:spPr>
                          <a:xfrm rot="15109200">
                            <a:off x="1748880" y="40546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64" name="Group 67"/>
                    <p:cNvGrpSpPr/>
                    <p:nvPr/>
                  </p:nvGrpSpPr>
                  <p:grpSpPr>
                    <a:xfrm>
                      <a:off x="2039760" y="4350600"/>
                      <a:ext cx="497880" cy="277200"/>
                      <a:chOff x="2039760" y="4350600"/>
                      <a:chExt cx="497880" cy="277200"/>
                    </a:xfrm>
                  </p:grpSpPr>
                  <p:grpSp>
                    <p:nvGrpSpPr>
                      <p:cNvPr id="465" name="Group 68"/>
                      <p:cNvGrpSpPr/>
                      <p:nvPr/>
                    </p:nvGrpSpPr>
                    <p:grpSpPr>
                      <a:xfrm>
                        <a:off x="2273040" y="4470120"/>
                        <a:ext cx="264600" cy="157680"/>
                        <a:chOff x="2273040" y="4470120"/>
                        <a:chExt cx="264600" cy="157680"/>
                      </a:xfrm>
                    </p:grpSpPr>
                    <p:grpSp>
                      <p:nvGrpSpPr>
                        <p:cNvPr id="466" name="Group 69"/>
                        <p:cNvGrpSpPr/>
                        <p:nvPr/>
                      </p:nvGrpSpPr>
                      <p:grpSpPr>
                        <a:xfrm>
                          <a:off x="2273040" y="4470120"/>
                          <a:ext cx="124920" cy="149400"/>
                          <a:chOff x="2273040" y="4470120"/>
                          <a:chExt cx="124920" cy="149400"/>
                        </a:xfrm>
                      </p:grpSpPr>
                      <p:sp>
                        <p:nvSpPr>
                          <p:cNvPr id="467" name="Freeform 70"/>
                          <p:cNvSpPr/>
                          <p:nvPr/>
                        </p:nvSpPr>
                        <p:spPr>
                          <a:xfrm flipH="1" rot="11982000">
                            <a:off x="2291400" y="44809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8" name="Freeform 71"/>
                          <p:cNvSpPr/>
                          <p:nvPr/>
                        </p:nvSpPr>
                        <p:spPr>
                          <a:xfrm flipH="1" rot="11982000">
                            <a:off x="2319480" y="44758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69" name="Group 72"/>
                        <p:cNvGrpSpPr/>
                        <p:nvPr/>
                      </p:nvGrpSpPr>
                      <p:grpSpPr>
                        <a:xfrm>
                          <a:off x="2341440" y="4472640"/>
                          <a:ext cx="112680" cy="146520"/>
                          <a:chOff x="2341440" y="4472640"/>
                          <a:chExt cx="112680" cy="146520"/>
                        </a:xfrm>
                      </p:grpSpPr>
                      <p:sp>
                        <p:nvSpPr>
                          <p:cNvPr id="470" name="Freeform 73"/>
                          <p:cNvSpPr/>
                          <p:nvPr/>
                        </p:nvSpPr>
                        <p:spPr>
                          <a:xfrm flipH="1" rot="11531400">
                            <a:off x="2353680" y="44834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1" name="Freeform 74"/>
                          <p:cNvSpPr/>
                          <p:nvPr/>
                        </p:nvSpPr>
                        <p:spPr>
                          <a:xfrm flipH="1" rot="11531400">
                            <a:off x="2381760" y="447696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2" name="Group 75"/>
                        <p:cNvGrpSpPr/>
                        <p:nvPr/>
                      </p:nvGrpSpPr>
                      <p:grpSpPr>
                        <a:xfrm>
                          <a:off x="2436840" y="4483080"/>
                          <a:ext cx="100800" cy="144720"/>
                          <a:chOff x="2436840" y="4483080"/>
                          <a:chExt cx="100800" cy="144720"/>
                        </a:xfrm>
                      </p:grpSpPr>
                      <p:sp>
                        <p:nvSpPr>
                          <p:cNvPr id="473" name="Freeform 76"/>
                          <p:cNvSpPr/>
                          <p:nvPr/>
                        </p:nvSpPr>
                        <p:spPr>
                          <a:xfrm flipH="1" rot="10425000">
                            <a:off x="2443320" y="4495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Freeform 77"/>
                          <p:cNvSpPr/>
                          <p:nvPr/>
                        </p:nvSpPr>
                        <p:spPr>
                          <a:xfrm flipH="1" rot="10425000">
                            <a:off x="2469600" y="4485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75" name="Group 78"/>
                      <p:cNvGrpSpPr/>
                      <p:nvPr/>
                    </p:nvGrpSpPr>
                    <p:grpSpPr>
                      <a:xfrm>
                        <a:off x="2039760" y="4350600"/>
                        <a:ext cx="259920" cy="253080"/>
                        <a:chOff x="2039760" y="4350600"/>
                        <a:chExt cx="259920" cy="253080"/>
                      </a:xfrm>
                    </p:grpSpPr>
                    <p:grpSp>
                      <p:nvGrpSpPr>
                        <p:cNvPr id="476" name="Group 79"/>
                        <p:cNvGrpSpPr/>
                        <p:nvPr/>
                      </p:nvGrpSpPr>
                      <p:grpSpPr>
                        <a:xfrm>
                          <a:off x="2163960" y="4444200"/>
                          <a:ext cx="135720" cy="159480"/>
                          <a:chOff x="2163960" y="4444200"/>
                          <a:chExt cx="135720" cy="159480"/>
                        </a:xfrm>
                      </p:grpSpPr>
                      <p:sp>
                        <p:nvSpPr>
                          <p:cNvPr id="477" name="Freeform 80"/>
                          <p:cNvSpPr/>
                          <p:nvPr/>
                        </p:nvSpPr>
                        <p:spPr>
                          <a:xfrm rot="12427200">
                            <a:off x="2188080" y="4463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Freeform 81"/>
                          <p:cNvSpPr/>
                          <p:nvPr/>
                        </p:nvSpPr>
                        <p:spPr>
                          <a:xfrm rot="12427200">
                            <a:off x="2196000" y="44492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9" name="Group 82"/>
                        <p:cNvGrpSpPr/>
                        <p:nvPr/>
                      </p:nvGrpSpPr>
                      <p:grpSpPr>
                        <a:xfrm>
                          <a:off x="2115360" y="4401000"/>
                          <a:ext cx="144360" cy="159840"/>
                          <a:chOff x="2115360" y="4401000"/>
                          <a:chExt cx="144360" cy="159840"/>
                        </a:xfrm>
                      </p:grpSpPr>
                      <p:sp>
                        <p:nvSpPr>
                          <p:cNvPr id="480" name="Freeform 83"/>
                          <p:cNvSpPr/>
                          <p:nvPr/>
                        </p:nvSpPr>
                        <p:spPr>
                          <a:xfrm rot="12877800">
                            <a:off x="2143800" y="4419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" name="Freeform 84"/>
                          <p:cNvSpPr/>
                          <p:nvPr/>
                        </p:nvSpPr>
                        <p:spPr>
                          <a:xfrm rot="12877800">
                            <a:off x="2152800" y="4404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2" name="Group 85"/>
                        <p:cNvGrpSpPr/>
                        <p:nvPr/>
                      </p:nvGrpSpPr>
                      <p:grpSpPr>
                        <a:xfrm>
                          <a:off x="2039760" y="4350600"/>
                          <a:ext cx="154440" cy="149400"/>
                          <a:chOff x="2039760" y="4350600"/>
                          <a:chExt cx="154440" cy="149400"/>
                        </a:xfrm>
                      </p:grpSpPr>
                      <p:sp>
                        <p:nvSpPr>
                          <p:cNvPr id="483" name="Freeform 86"/>
                          <p:cNvSpPr/>
                          <p:nvPr/>
                        </p:nvSpPr>
                        <p:spPr>
                          <a:xfrm rot="13984200">
                            <a:off x="2072880" y="4362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Freeform 87"/>
                          <p:cNvSpPr/>
                          <p:nvPr/>
                        </p:nvSpPr>
                        <p:spPr>
                          <a:xfrm rot="13984200">
                            <a:off x="2086200" y="4346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85" name="Group 109"/>
                    <p:cNvGrpSpPr/>
                    <p:nvPr/>
                  </p:nvGrpSpPr>
                  <p:grpSpPr>
                    <a:xfrm>
                      <a:off x="2938680" y="4395240"/>
                      <a:ext cx="514080" cy="273600"/>
                      <a:chOff x="2938680" y="4395240"/>
                      <a:chExt cx="514080" cy="273600"/>
                    </a:xfrm>
                  </p:grpSpPr>
                  <p:grpSp>
                    <p:nvGrpSpPr>
                      <p:cNvPr id="486" name="Group 110"/>
                      <p:cNvGrpSpPr/>
                      <p:nvPr/>
                    </p:nvGrpSpPr>
                    <p:grpSpPr>
                      <a:xfrm>
                        <a:off x="3186000" y="4395240"/>
                        <a:ext cx="266760" cy="231120"/>
                        <a:chOff x="3186000" y="4395240"/>
                        <a:chExt cx="266760" cy="231120"/>
                      </a:xfrm>
                    </p:grpSpPr>
                    <p:grpSp>
                      <p:nvGrpSpPr>
                        <p:cNvPr id="487" name="Group 111"/>
                        <p:cNvGrpSpPr/>
                        <p:nvPr/>
                      </p:nvGrpSpPr>
                      <p:grpSpPr>
                        <a:xfrm>
                          <a:off x="3186000" y="4471920"/>
                          <a:ext cx="119160" cy="154440"/>
                          <a:chOff x="3186000" y="4471920"/>
                          <a:chExt cx="119160" cy="154440"/>
                        </a:xfrm>
                      </p:grpSpPr>
                      <p:sp>
                        <p:nvSpPr>
                          <p:cNvPr id="488" name="Freeform 112"/>
                          <p:cNvSpPr/>
                          <p:nvPr/>
                        </p:nvSpPr>
                        <p:spPr>
                          <a:xfrm flipH="1" rot="9835200">
                            <a:off x="3201480" y="44892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Freeform 113"/>
                          <p:cNvSpPr/>
                          <p:nvPr/>
                        </p:nvSpPr>
                        <p:spPr>
                          <a:xfrm flipH="1" rot="9835200">
                            <a:off x="3226680" y="44766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0" name="Group 114"/>
                        <p:cNvGrpSpPr/>
                        <p:nvPr/>
                      </p:nvGrpSpPr>
                      <p:grpSpPr>
                        <a:xfrm>
                          <a:off x="3232080" y="4436280"/>
                          <a:ext cx="131400" cy="158400"/>
                          <a:chOff x="3232080" y="4436280"/>
                          <a:chExt cx="131400" cy="158400"/>
                        </a:xfrm>
                      </p:grpSpPr>
                      <p:sp>
                        <p:nvSpPr>
                          <p:cNvPr id="491" name="Freeform 115"/>
                          <p:cNvSpPr/>
                          <p:nvPr/>
                        </p:nvSpPr>
                        <p:spPr>
                          <a:xfrm flipH="1" rot="9384600">
                            <a:off x="3253680" y="44546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2" name="Freeform 116"/>
                          <p:cNvSpPr/>
                          <p:nvPr/>
                        </p:nvSpPr>
                        <p:spPr>
                          <a:xfrm flipH="1" rot="9384600">
                            <a:off x="3277440" y="44420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3" name="Group 117"/>
                        <p:cNvGrpSpPr/>
                        <p:nvPr/>
                      </p:nvGrpSpPr>
                      <p:grpSpPr>
                        <a:xfrm>
                          <a:off x="3302280" y="4395240"/>
                          <a:ext cx="150480" cy="158040"/>
                          <a:chOff x="3302280" y="4395240"/>
                          <a:chExt cx="150480" cy="158040"/>
                        </a:xfrm>
                      </p:grpSpPr>
                      <p:sp>
                        <p:nvSpPr>
                          <p:cNvPr id="494" name="Freeform 118"/>
                          <p:cNvSpPr/>
                          <p:nvPr/>
                        </p:nvSpPr>
                        <p:spPr>
                          <a:xfrm flipH="1" rot="8278200">
                            <a:off x="3333240" y="4412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Freeform 119"/>
                          <p:cNvSpPr/>
                          <p:nvPr/>
                        </p:nvSpPr>
                        <p:spPr>
                          <a:xfrm flipH="1" rot="8278200">
                            <a:off x="3354480" y="4396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6" name="Group 120"/>
                      <p:cNvGrpSpPr/>
                      <p:nvPr/>
                    </p:nvGrpSpPr>
                    <p:grpSpPr>
                      <a:xfrm>
                        <a:off x="2938680" y="4503240"/>
                        <a:ext cx="265320" cy="165600"/>
                        <a:chOff x="2938680" y="4503240"/>
                        <a:chExt cx="265320" cy="165600"/>
                      </a:xfrm>
                    </p:grpSpPr>
                    <p:grpSp>
                      <p:nvGrpSpPr>
                        <p:cNvPr id="497" name="Group 121"/>
                        <p:cNvGrpSpPr/>
                        <p:nvPr/>
                      </p:nvGrpSpPr>
                      <p:grpSpPr>
                        <a:xfrm>
                          <a:off x="3098160" y="4524480"/>
                          <a:ext cx="105840" cy="144360"/>
                          <a:chOff x="3098160" y="4524480"/>
                          <a:chExt cx="105840" cy="144360"/>
                        </a:xfrm>
                      </p:grpSpPr>
                      <p:sp>
                        <p:nvSpPr>
                          <p:cNvPr id="498" name="Freeform 122"/>
                          <p:cNvSpPr/>
                          <p:nvPr/>
                        </p:nvSpPr>
                        <p:spPr>
                          <a:xfrm rot="10280400">
                            <a:off x="3107160" y="4535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Freeform 123"/>
                          <p:cNvSpPr/>
                          <p:nvPr/>
                        </p:nvSpPr>
                        <p:spPr>
                          <a:xfrm rot="10280400">
                            <a:off x="3110760" y="4527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0" name="Group 124"/>
                        <p:cNvGrpSpPr/>
                        <p:nvPr/>
                      </p:nvGrpSpPr>
                      <p:grpSpPr>
                        <a:xfrm>
                          <a:off x="3044880" y="4516560"/>
                          <a:ext cx="90000" cy="137880"/>
                          <a:chOff x="3044880" y="4516560"/>
                          <a:chExt cx="90000" cy="137880"/>
                        </a:xfrm>
                      </p:grpSpPr>
                      <p:sp>
                        <p:nvSpPr>
                          <p:cNvPr id="501" name="Freeform 125"/>
                          <p:cNvSpPr/>
                          <p:nvPr/>
                        </p:nvSpPr>
                        <p:spPr>
                          <a:xfrm rot="10731000">
                            <a:off x="3045960" y="4525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2" name="Freeform 126"/>
                          <p:cNvSpPr/>
                          <p:nvPr/>
                        </p:nvSpPr>
                        <p:spPr>
                          <a:xfrm rot="10731000">
                            <a:off x="3049920" y="45169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03" name="Group 127"/>
                        <p:cNvGrpSpPr/>
                        <p:nvPr/>
                      </p:nvGrpSpPr>
                      <p:grpSpPr>
                        <a:xfrm>
                          <a:off x="2938680" y="4503240"/>
                          <a:ext cx="121320" cy="155880"/>
                          <a:chOff x="2938680" y="4503240"/>
                          <a:chExt cx="121320" cy="155880"/>
                        </a:xfrm>
                      </p:grpSpPr>
                      <p:sp>
                        <p:nvSpPr>
                          <p:cNvPr id="504" name="Freeform 128"/>
                          <p:cNvSpPr/>
                          <p:nvPr/>
                        </p:nvSpPr>
                        <p:spPr>
                          <a:xfrm rot="11837400">
                            <a:off x="2955600" y="45212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5" name="Freeform 129"/>
                          <p:cNvSpPr/>
                          <p:nvPr/>
                        </p:nvSpPr>
                        <p:spPr>
                          <a:xfrm rot="11837400">
                            <a:off x="2961360" y="4508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06" name="Group 130"/>
                    <p:cNvGrpSpPr/>
                    <p:nvPr/>
                  </p:nvGrpSpPr>
                  <p:grpSpPr>
                    <a:xfrm>
                      <a:off x="3295440" y="4029120"/>
                      <a:ext cx="416160" cy="402840"/>
                      <a:chOff x="3295440" y="4029120"/>
                      <a:chExt cx="416160" cy="402840"/>
                    </a:xfrm>
                  </p:grpSpPr>
                  <p:grpSp>
                    <p:nvGrpSpPr>
                      <p:cNvPr id="507" name="Group 131"/>
                      <p:cNvGrpSpPr/>
                      <p:nvPr/>
                    </p:nvGrpSpPr>
                    <p:grpSpPr>
                      <a:xfrm>
                        <a:off x="3478320" y="4029120"/>
                        <a:ext cx="233280" cy="268560"/>
                        <a:chOff x="3478320" y="4029120"/>
                        <a:chExt cx="233280" cy="268560"/>
                      </a:xfrm>
                    </p:grpSpPr>
                    <p:grpSp>
                      <p:nvGrpSpPr>
                        <p:cNvPr id="508" name="Group 132"/>
                        <p:cNvGrpSpPr/>
                        <p:nvPr/>
                      </p:nvGrpSpPr>
                      <p:grpSpPr>
                        <a:xfrm>
                          <a:off x="3478320" y="4140720"/>
                          <a:ext cx="150840" cy="156960"/>
                          <a:chOff x="3478320" y="4140720"/>
                          <a:chExt cx="150840" cy="156960"/>
                        </a:xfrm>
                      </p:grpSpPr>
                      <p:sp>
                        <p:nvSpPr>
                          <p:cNvPr id="509" name="Freeform 133"/>
                          <p:cNvSpPr/>
                          <p:nvPr/>
                        </p:nvSpPr>
                        <p:spPr>
                          <a:xfrm flipH="1" rot="8209800">
                            <a:off x="3509280" y="41576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0" name="Freeform 134"/>
                          <p:cNvSpPr/>
                          <p:nvPr/>
                        </p:nvSpPr>
                        <p:spPr>
                          <a:xfrm flipH="1" rot="8209800">
                            <a:off x="3530160" y="41414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11" name="Group 135"/>
                        <p:cNvGrpSpPr/>
                        <p:nvPr/>
                      </p:nvGrpSpPr>
                      <p:grpSpPr>
                        <a:xfrm>
                          <a:off x="3507480" y="4090320"/>
                          <a:ext cx="154440" cy="150840"/>
                          <a:chOff x="3507480" y="4090320"/>
                          <a:chExt cx="154440" cy="150840"/>
                        </a:xfrm>
                      </p:grpSpPr>
                      <p:sp>
                        <p:nvSpPr>
                          <p:cNvPr id="512" name="Freeform 136"/>
                          <p:cNvSpPr/>
                          <p:nvPr/>
                        </p:nvSpPr>
                        <p:spPr>
                          <a:xfrm flipH="1" rot="7759200">
                            <a:off x="3540240" y="410292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3" name="Freeform 137"/>
                          <p:cNvSpPr/>
                          <p:nvPr/>
                        </p:nvSpPr>
                        <p:spPr>
                          <a:xfrm flipH="1" rot="7759200">
                            <a:off x="3558600" y="40870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14" name="Group 138"/>
                        <p:cNvGrpSpPr/>
                        <p:nvPr/>
                      </p:nvGrpSpPr>
                      <p:grpSpPr>
                        <a:xfrm>
                          <a:off x="3561480" y="4029120"/>
                          <a:ext cx="150120" cy="127440"/>
                          <a:chOff x="3561480" y="4029120"/>
                          <a:chExt cx="150120" cy="127440"/>
                        </a:xfrm>
                      </p:grpSpPr>
                      <p:sp>
                        <p:nvSpPr>
                          <p:cNvPr id="515" name="Freeform 139"/>
                          <p:cNvSpPr/>
                          <p:nvPr/>
                        </p:nvSpPr>
                        <p:spPr>
                          <a:xfrm flipH="1" rot="6652800">
                            <a:off x="3592440" y="40291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6" name="Freeform 140"/>
                          <p:cNvSpPr/>
                          <p:nvPr/>
                        </p:nvSpPr>
                        <p:spPr>
                          <a:xfrm flipH="1" rot="6652800">
                            <a:off x="3607560" y="4012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17" name="Group 141"/>
                      <p:cNvGrpSpPr/>
                      <p:nvPr/>
                    </p:nvGrpSpPr>
                    <p:grpSpPr>
                      <a:xfrm>
                        <a:off x="3295440" y="4228200"/>
                        <a:ext cx="268200" cy="203760"/>
                        <a:chOff x="3295440" y="4228200"/>
                        <a:chExt cx="268200" cy="203760"/>
                      </a:xfrm>
                    </p:grpSpPr>
                    <p:grpSp>
                      <p:nvGrpSpPr>
                        <p:cNvPr id="518" name="Group 142"/>
                        <p:cNvGrpSpPr/>
                        <p:nvPr/>
                      </p:nvGrpSpPr>
                      <p:grpSpPr>
                        <a:xfrm>
                          <a:off x="3416040" y="4228200"/>
                          <a:ext cx="147600" cy="154440"/>
                          <a:chOff x="3416040" y="4228200"/>
                          <a:chExt cx="147600" cy="154440"/>
                        </a:xfrm>
                      </p:grpSpPr>
                      <p:sp>
                        <p:nvSpPr>
                          <p:cNvPr id="519" name="Freeform 143"/>
                          <p:cNvSpPr/>
                          <p:nvPr/>
                        </p:nvSpPr>
                        <p:spPr>
                          <a:xfrm rot="8655000">
                            <a:off x="3447000" y="4241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0" name="Freeform 144"/>
                          <p:cNvSpPr/>
                          <p:nvPr/>
                        </p:nvSpPr>
                        <p:spPr>
                          <a:xfrm rot="8655000">
                            <a:off x="3450240" y="4240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21" name="Group 145"/>
                        <p:cNvGrpSpPr/>
                        <p:nvPr/>
                      </p:nvGrpSpPr>
                      <p:grpSpPr>
                        <a:xfrm>
                          <a:off x="3362400" y="4248000"/>
                          <a:ext cx="138240" cy="153720"/>
                          <a:chOff x="3362400" y="4248000"/>
                          <a:chExt cx="138240" cy="153720"/>
                        </a:xfrm>
                      </p:grpSpPr>
                      <p:sp>
                        <p:nvSpPr>
                          <p:cNvPr id="522" name="Freeform 146"/>
                          <p:cNvSpPr/>
                          <p:nvPr/>
                        </p:nvSpPr>
                        <p:spPr>
                          <a:xfrm rot="9105600">
                            <a:off x="3387960" y="42609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3" name="Freeform 147"/>
                          <p:cNvSpPr/>
                          <p:nvPr/>
                        </p:nvSpPr>
                        <p:spPr>
                          <a:xfrm rot="9105600">
                            <a:off x="3390840" y="4257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24" name="Group 148"/>
                        <p:cNvGrpSpPr/>
                        <p:nvPr/>
                      </p:nvGrpSpPr>
                      <p:grpSpPr>
                        <a:xfrm>
                          <a:off x="3295440" y="4286880"/>
                          <a:ext cx="108000" cy="145080"/>
                          <a:chOff x="3295440" y="4286880"/>
                          <a:chExt cx="108000" cy="145080"/>
                        </a:xfrm>
                      </p:grpSpPr>
                      <p:sp>
                        <p:nvSpPr>
                          <p:cNvPr id="525" name="Freeform 149"/>
                          <p:cNvSpPr/>
                          <p:nvPr/>
                        </p:nvSpPr>
                        <p:spPr>
                          <a:xfrm rot="10212000">
                            <a:off x="3305520" y="4298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6" name="Freeform 150"/>
                          <p:cNvSpPr/>
                          <p:nvPr/>
                        </p:nvSpPr>
                        <p:spPr>
                          <a:xfrm rot="10212000">
                            <a:off x="3308400" y="42908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27" name="Group 151"/>
                    <p:cNvGrpSpPr/>
                    <p:nvPr/>
                  </p:nvGrpSpPr>
                  <p:grpSpPr>
                    <a:xfrm>
                      <a:off x="3585240" y="3590640"/>
                      <a:ext cx="228960" cy="521280"/>
                      <a:chOff x="3585240" y="3590640"/>
                      <a:chExt cx="228960" cy="521280"/>
                    </a:xfrm>
                  </p:grpSpPr>
                  <p:grpSp>
                    <p:nvGrpSpPr>
                      <p:cNvPr id="528" name="Group 152"/>
                      <p:cNvGrpSpPr/>
                      <p:nvPr/>
                    </p:nvGrpSpPr>
                    <p:grpSpPr>
                      <a:xfrm>
                        <a:off x="3631320" y="3590640"/>
                        <a:ext cx="172080" cy="262080"/>
                        <a:chOff x="3631320" y="3590640"/>
                        <a:chExt cx="172080" cy="262080"/>
                      </a:xfrm>
                    </p:grpSpPr>
                    <p:grpSp>
                      <p:nvGrpSpPr>
                        <p:cNvPr id="529" name="Group 153"/>
                        <p:cNvGrpSpPr/>
                        <p:nvPr/>
                      </p:nvGrpSpPr>
                      <p:grpSpPr>
                        <a:xfrm>
                          <a:off x="3657240" y="3750840"/>
                          <a:ext cx="146160" cy="101880"/>
                          <a:chOff x="3657240" y="3750840"/>
                          <a:chExt cx="146160" cy="101880"/>
                        </a:xfrm>
                      </p:grpSpPr>
                      <p:sp>
                        <p:nvSpPr>
                          <p:cNvPr id="530" name="Freeform 154"/>
                          <p:cNvSpPr/>
                          <p:nvPr/>
                        </p:nvSpPr>
                        <p:spPr>
                          <a:xfrm flipH="1" rot="5839200">
                            <a:off x="3689640" y="37364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1" name="Freeform 155"/>
                          <p:cNvSpPr/>
                          <p:nvPr/>
                        </p:nvSpPr>
                        <p:spPr>
                          <a:xfrm flipH="1" rot="5839200">
                            <a:off x="3700800" y="37209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2" name="Group 156"/>
                        <p:cNvGrpSpPr/>
                        <p:nvPr/>
                      </p:nvGrpSpPr>
                      <p:grpSpPr>
                        <a:xfrm>
                          <a:off x="3647160" y="3698640"/>
                          <a:ext cx="140400" cy="86040"/>
                          <a:chOff x="3647160" y="3698640"/>
                          <a:chExt cx="140400" cy="86040"/>
                        </a:xfrm>
                      </p:grpSpPr>
                      <p:sp>
                        <p:nvSpPr>
                          <p:cNvPr id="533" name="Freeform 157"/>
                          <p:cNvSpPr/>
                          <p:nvPr/>
                        </p:nvSpPr>
                        <p:spPr>
                          <a:xfrm flipH="1" rot="5388600">
                            <a:off x="3679200" y="36766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4" name="Freeform 158"/>
                          <p:cNvSpPr/>
                          <p:nvPr/>
                        </p:nvSpPr>
                        <p:spPr>
                          <a:xfrm flipH="1" rot="5388600">
                            <a:off x="3687840" y="36612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5" name="Group 159"/>
                        <p:cNvGrpSpPr/>
                        <p:nvPr/>
                      </p:nvGrpSpPr>
                      <p:grpSpPr>
                        <a:xfrm>
                          <a:off x="3631320" y="3590640"/>
                          <a:ext cx="158400" cy="123120"/>
                          <a:chOff x="3631320" y="3590640"/>
                          <a:chExt cx="158400" cy="123120"/>
                        </a:xfrm>
                      </p:grpSpPr>
                      <p:sp>
                        <p:nvSpPr>
                          <p:cNvPr id="536" name="Freeform 160"/>
                          <p:cNvSpPr/>
                          <p:nvPr/>
                        </p:nvSpPr>
                        <p:spPr>
                          <a:xfrm flipH="1" rot="4282200">
                            <a:off x="3671280" y="35866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7" name="Freeform 161"/>
                          <p:cNvSpPr/>
                          <p:nvPr/>
                        </p:nvSpPr>
                        <p:spPr>
                          <a:xfrm flipH="1" rot="4282200">
                            <a:off x="3677400" y="35744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38" name="Group 162"/>
                      <p:cNvGrpSpPr/>
                      <p:nvPr/>
                    </p:nvGrpSpPr>
                    <p:grpSpPr>
                      <a:xfrm>
                        <a:off x="3585240" y="3847680"/>
                        <a:ext cx="228960" cy="264240"/>
                        <a:chOff x="3585240" y="3847680"/>
                        <a:chExt cx="228960" cy="264240"/>
                      </a:xfrm>
                    </p:grpSpPr>
                    <p:grpSp>
                      <p:nvGrpSpPr>
                        <p:cNvPr id="539" name="Group 163"/>
                        <p:cNvGrpSpPr/>
                        <p:nvPr/>
                      </p:nvGrpSpPr>
                      <p:grpSpPr>
                        <a:xfrm>
                          <a:off x="3658680" y="3847680"/>
                          <a:ext cx="155520" cy="116280"/>
                          <a:chOff x="3658680" y="3847680"/>
                          <a:chExt cx="155520" cy="116280"/>
                        </a:xfrm>
                      </p:grpSpPr>
                      <p:sp>
                        <p:nvSpPr>
                          <p:cNvPr id="540" name="Freeform 164"/>
                          <p:cNvSpPr/>
                          <p:nvPr/>
                        </p:nvSpPr>
                        <p:spPr>
                          <a:xfrm rot="6284400">
                            <a:off x="3697200" y="38408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1" name="Freeform 165"/>
                          <p:cNvSpPr/>
                          <p:nvPr/>
                        </p:nvSpPr>
                        <p:spPr>
                          <a:xfrm rot="6284400">
                            <a:off x="3704400" y="38462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2" name="Group 166"/>
                        <p:cNvGrpSpPr/>
                        <p:nvPr/>
                      </p:nvGrpSpPr>
                      <p:grpSpPr>
                        <a:xfrm>
                          <a:off x="3624120" y="3892680"/>
                          <a:ext cx="160200" cy="128880"/>
                          <a:chOff x="3624120" y="3892680"/>
                          <a:chExt cx="160200" cy="128880"/>
                        </a:xfrm>
                      </p:grpSpPr>
                      <p:sp>
                        <p:nvSpPr>
                          <p:cNvPr id="543" name="Freeform 167"/>
                          <p:cNvSpPr/>
                          <p:nvPr/>
                        </p:nvSpPr>
                        <p:spPr>
                          <a:xfrm rot="6735000">
                            <a:off x="3664800" y="38919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4" name="Freeform 168"/>
                          <p:cNvSpPr/>
                          <p:nvPr/>
                        </p:nvSpPr>
                        <p:spPr>
                          <a:xfrm rot="6735000">
                            <a:off x="3670200" y="38966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5" name="Group 169"/>
                        <p:cNvGrpSpPr/>
                        <p:nvPr/>
                      </p:nvGrpSpPr>
                      <p:grpSpPr>
                        <a:xfrm>
                          <a:off x="3585240" y="3962160"/>
                          <a:ext cx="159480" cy="149760"/>
                          <a:chOff x="3585240" y="3962160"/>
                          <a:chExt cx="159480" cy="149760"/>
                        </a:xfrm>
                      </p:grpSpPr>
                      <p:sp>
                        <p:nvSpPr>
                          <p:cNvPr id="546" name="Freeform 170"/>
                          <p:cNvSpPr/>
                          <p:nvPr/>
                        </p:nvSpPr>
                        <p:spPr>
                          <a:xfrm rot="7841400">
                            <a:off x="3624120" y="39718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7" name="Freeform 171"/>
                          <p:cNvSpPr/>
                          <p:nvPr/>
                        </p:nvSpPr>
                        <p:spPr>
                          <a:xfrm rot="7841400">
                            <a:off x="3627720" y="39729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48" name="Group 193"/>
                    <p:cNvGrpSpPr/>
                    <p:nvPr/>
                  </p:nvGrpSpPr>
                  <p:grpSpPr>
                    <a:xfrm>
                      <a:off x="3436920" y="2813040"/>
                      <a:ext cx="351000" cy="443880"/>
                      <a:chOff x="3436920" y="2813040"/>
                      <a:chExt cx="351000" cy="443880"/>
                    </a:xfrm>
                  </p:grpSpPr>
                  <p:grpSp>
                    <p:nvGrpSpPr>
                      <p:cNvPr id="549" name="Group 194"/>
                      <p:cNvGrpSpPr/>
                      <p:nvPr/>
                    </p:nvGrpSpPr>
                    <p:grpSpPr>
                      <a:xfrm>
                        <a:off x="3436920" y="2813040"/>
                        <a:ext cx="261000" cy="250920"/>
                        <a:chOff x="3436920" y="2813040"/>
                        <a:chExt cx="261000" cy="250920"/>
                      </a:xfrm>
                    </p:grpSpPr>
                    <p:grpSp>
                      <p:nvGrpSpPr>
                        <p:cNvPr id="550" name="Group 195"/>
                        <p:cNvGrpSpPr/>
                        <p:nvPr/>
                      </p:nvGrpSpPr>
                      <p:grpSpPr>
                        <a:xfrm>
                          <a:off x="3536280" y="2920680"/>
                          <a:ext cx="161640" cy="143280"/>
                          <a:chOff x="3536280" y="2920680"/>
                          <a:chExt cx="161640" cy="143280"/>
                        </a:xfrm>
                      </p:grpSpPr>
                      <p:sp>
                        <p:nvSpPr>
                          <p:cNvPr id="551" name="Freeform 196"/>
                          <p:cNvSpPr/>
                          <p:nvPr/>
                        </p:nvSpPr>
                        <p:spPr>
                          <a:xfrm flipH="1" rot="3403200">
                            <a:off x="3576240" y="29271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2" name="Freeform 197"/>
                          <p:cNvSpPr/>
                          <p:nvPr/>
                        </p:nvSpPr>
                        <p:spPr>
                          <a:xfrm flipH="1" rot="3403200">
                            <a:off x="3580920" y="29174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53" name="Group 198"/>
                        <p:cNvGrpSpPr/>
                        <p:nvPr/>
                      </p:nvGrpSpPr>
                      <p:grpSpPr>
                        <a:xfrm>
                          <a:off x="3490200" y="2878920"/>
                          <a:ext cx="159120" cy="149760"/>
                          <a:chOff x="3490200" y="2878920"/>
                          <a:chExt cx="159120" cy="149760"/>
                        </a:xfrm>
                      </p:grpSpPr>
                      <p:sp>
                        <p:nvSpPr>
                          <p:cNvPr id="554" name="Freeform 199"/>
                          <p:cNvSpPr/>
                          <p:nvPr/>
                        </p:nvSpPr>
                        <p:spPr>
                          <a:xfrm flipH="1" rot="2952600">
                            <a:off x="3529440" y="288864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5" name="Freeform 200"/>
                          <p:cNvSpPr/>
                          <p:nvPr/>
                        </p:nvSpPr>
                        <p:spPr>
                          <a:xfrm flipH="1" rot="2952600">
                            <a:off x="3532320" y="288036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56" name="Group 201"/>
                        <p:cNvGrpSpPr/>
                        <p:nvPr/>
                      </p:nvGrpSpPr>
                      <p:grpSpPr>
                        <a:xfrm>
                          <a:off x="3436920" y="2813040"/>
                          <a:ext cx="141480" cy="155520"/>
                          <a:chOff x="3436920" y="2813040"/>
                          <a:chExt cx="141480" cy="155520"/>
                        </a:xfrm>
                      </p:grpSpPr>
                      <p:sp>
                        <p:nvSpPr>
                          <p:cNvPr id="557" name="Freeform 202"/>
                          <p:cNvSpPr/>
                          <p:nvPr/>
                        </p:nvSpPr>
                        <p:spPr>
                          <a:xfrm flipH="1" rot="1846200">
                            <a:off x="3465000" y="28256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8" name="Freeform 203"/>
                          <p:cNvSpPr/>
                          <p:nvPr/>
                        </p:nvSpPr>
                        <p:spPr>
                          <a:xfrm flipH="1" rot="1846200">
                            <a:off x="3467880" y="28213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59" name="Group 204"/>
                      <p:cNvGrpSpPr/>
                      <p:nvPr/>
                    </p:nvGrpSpPr>
                    <p:grpSpPr>
                      <a:xfrm>
                        <a:off x="3615840" y="2999520"/>
                        <a:ext cx="172080" cy="257400"/>
                        <a:chOff x="3615840" y="2999520"/>
                        <a:chExt cx="172080" cy="257400"/>
                      </a:xfrm>
                    </p:grpSpPr>
                    <p:grpSp>
                      <p:nvGrpSpPr>
                        <p:cNvPr id="560" name="Group 205"/>
                        <p:cNvGrpSpPr/>
                        <p:nvPr/>
                      </p:nvGrpSpPr>
                      <p:grpSpPr>
                        <a:xfrm>
                          <a:off x="3615840" y="2999520"/>
                          <a:ext cx="154440" cy="134640"/>
                          <a:chOff x="3615840" y="2999520"/>
                          <a:chExt cx="154440" cy="134640"/>
                        </a:xfrm>
                      </p:grpSpPr>
                      <p:sp>
                        <p:nvSpPr>
                          <p:cNvPr id="561" name="Freeform 206"/>
                          <p:cNvSpPr/>
                          <p:nvPr/>
                        </p:nvSpPr>
                        <p:spPr>
                          <a:xfrm rot="3848400">
                            <a:off x="3650040" y="30013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2" name="Freeform 207"/>
                          <p:cNvSpPr/>
                          <p:nvPr/>
                        </p:nvSpPr>
                        <p:spPr>
                          <a:xfrm rot="3848400">
                            <a:off x="3664800" y="30103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3" name="Group 208"/>
                        <p:cNvGrpSpPr/>
                        <p:nvPr/>
                      </p:nvGrpSpPr>
                      <p:grpSpPr>
                        <a:xfrm>
                          <a:off x="3625560" y="3065400"/>
                          <a:ext cx="151200" cy="122400"/>
                          <a:chOff x="3625560" y="3065400"/>
                          <a:chExt cx="151200" cy="122400"/>
                        </a:xfrm>
                      </p:grpSpPr>
                      <p:sp>
                        <p:nvSpPr>
                          <p:cNvPr id="564" name="Freeform 209"/>
                          <p:cNvSpPr/>
                          <p:nvPr/>
                        </p:nvSpPr>
                        <p:spPr>
                          <a:xfrm rot="4299000">
                            <a:off x="3658320" y="30614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5" name="Freeform 210"/>
                          <p:cNvSpPr/>
                          <p:nvPr/>
                        </p:nvSpPr>
                        <p:spPr>
                          <a:xfrm rot="4299000">
                            <a:off x="3671640" y="30704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6" name="Group 211"/>
                        <p:cNvGrpSpPr/>
                        <p:nvPr/>
                      </p:nvGrpSpPr>
                      <p:grpSpPr>
                        <a:xfrm>
                          <a:off x="3648600" y="3170520"/>
                          <a:ext cx="139320" cy="86400"/>
                          <a:chOff x="3648600" y="3170520"/>
                          <a:chExt cx="139320" cy="86400"/>
                        </a:xfrm>
                      </p:grpSpPr>
                      <p:sp>
                        <p:nvSpPr>
                          <p:cNvPr id="567" name="Freeform 212"/>
                          <p:cNvSpPr/>
                          <p:nvPr/>
                        </p:nvSpPr>
                        <p:spPr>
                          <a:xfrm rot="5405400">
                            <a:off x="3679560" y="31485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8" name="Freeform 213"/>
                          <p:cNvSpPr/>
                          <p:nvPr/>
                        </p:nvSpPr>
                        <p:spPr>
                          <a:xfrm rot="5405400">
                            <a:off x="3689280" y="31561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69" name="Group 214"/>
                    <p:cNvGrpSpPr/>
                    <p:nvPr/>
                  </p:nvGrpSpPr>
                  <p:grpSpPr>
                    <a:xfrm>
                      <a:off x="3164040" y="2467440"/>
                      <a:ext cx="351000" cy="443880"/>
                      <a:chOff x="3164040" y="2467440"/>
                      <a:chExt cx="351000" cy="443880"/>
                    </a:xfrm>
                  </p:grpSpPr>
                  <p:grpSp>
                    <p:nvGrpSpPr>
                      <p:cNvPr id="570" name="Group 215"/>
                      <p:cNvGrpSpPr/>
                      <p:nvPr/>
                    </p:nvGrpSpPr>
                    <p:grpSpPr>
                      <a:xfrm>
                        <a:off x="3164040" y="2467440"/>
                        <a:ext cx="261000" cy="250920"/>
                        <a:chOff x="3164040" y="2467440"/>
                        <a:chExt cx="261000" cy="250920"/>
                      </a:xfrm>
                    </p:grpSpPr>
                    <p:grpSp>
                      <p:nvGrpSpPr>
                        <p:cNvPr id="571" name="Group 216"/>
                        <p:cNvGrpSpPr/>
                        <p:nvPr/>
                      </p:nvGrpSpPr>
                      <p:grpSpPr>
                        <a:xfrm>
                          <a:off x="3263400" y="2575080"/>
                          <a:ext cx="161640" cy="143280"/>
                          <a:chOff x="3263400" y="2575080"/>
                          <a:chExt cx="161640" cy="143280"/>
                        </a:xfrm>
                      </p:grpSpPr>
                      <p:sp>
                        <p:nvSpPr>
                          <p:cNvPr id="572" name="Freeform 217"/>
                          <p:cNvSpPr/>
                          <p:nvPr/>
                        </p:nvSpPr>
                        <p:spPr>
                          <a:xfrm flipH="1" rot="3403200">
                            <a:off x="3303360" y="25815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3" name="Freeform 218"/>
                          <p:cNvSpPr/>
                          <p:nvPr/>
                        </p:nvSpPr>
                        <p:spPr>
                          <a:xfrm flipH="1" rot="3403200">
                            <a:off x="3308040" y="25718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4" name="Group 219"/>
                        <p:cNvGrpSpPr/>
                        <p:nvPr/>
                      </p:nvGrpSpPr>
                      <p:grpSpPr>
                        <a:xfrm>
                          <a:off x="3217320" y="2533320"/>
                          <a:ext cx="159120" cy="149760"/>
                          <a:chOff x="3217320" y="2533320"/>
                          <a:chExt cx="159120" cy="149760"/>
                        </a:xfrm>
                      </p:grpSpPr>
                      <p:sp>
                        <p:nvSpPr>
                          <p:cNvPr id="575" name="Freeform 220"/>
                          <p:cNvSpPr/>
                          <p:nvPr/>
                        </p:nvSpPr>
                        <p:spPr>
                          <a:xfrm flipH="1" rot="2952600">
                            <a:off x="3256560" y="254304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6" name="Freeform 221"/>
                          <p:cNvSpPr/>
                          <p:nvPr/>
                        </p:nvSpPr>
                        <p:spPr>
                          <a:xfrm flipH="1" rot="2952600">
                            <a:off x="3259440" y="253476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7" name="Group 222"/>
                        <p:cNvGrpSpPr/>
                        <p:nvPr/>
                      </p:nvGrpSpPr>
                      <p:grpSpPr>
                        <a:xfrm>
                          <a:off x="3164040" y="2467440"/>
                          <a:ext cx="141480" cy="155520"/>
                          <a:chOff x="3164040" y="2467440"/>
                          <a:chExt cx="141480" cy="155520"/>
                        </a:xfrm>
                      </p:grpSpPr>
                      <p:sp>
                        <p:nvSpPr>
                          <p:cNvPr id="578" name="Freeform 223"/>
                          <p:cNvSpPr/>
                          <p:nvPr/>
                        </p:nvSpPr>
                        <p:spPr>
                          <a:xfrm flipH="1" rot="1846200">
                            <a:off x="3192120" y="24800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9" name="Freeform 224"/>
                          <p:cNvSpPr/>
                          <p:nvPr/>
                        </p:nvSpPr>
                        <p:spPr>
                          <a:xfrm flipH="1" rot="1846200">
                            <a:off x="3195000" y="24757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80" name="Group 225"/>
                      <p:cNvGrpSpPr/>
                      <p:nvPr/>
                    </p:nvGrpSpPr>
                    <p:grpSpPr>
                      <a:xfrm>
                        <a:off x="3342960" y="2653920"/>
                        <a:ext cx="172080" cy="257400"/>
                        <a:chOff x="3342960" y="2653920"/>
                        <a:chExt cx="172080" cy="257400"/>
                      </a:xfrm>
                    </p:grpSpPr>
                    <p:grpSp>
                      <p:nvGrpSpPr>
                        <p:cNvPr id="581" name="Group 226"/>
                        <p:cNvGrpSpPr/>
                        <p:nvPr/>
                      </p:nvGrpSpPr>
                      <p:grpSpPr>
                        <a:xfrm>
                          <a:off x="3342960" y="2653920"/>
                          <a:ext cx="154440" cy="134640"/>
                          <a:chOff x="3342960" y="2653920"/>
                          <a:chExt cx="154440" cy="134640"/>
                        </a:xfrm>
                      </p:grpSpPr>
                      <p:sp>
                        <p:nvSpPr>
                          <p:cNvPr id="582" name="Freeform 227"/>
                          <p:cNvSpPr/>
                          <p:nvPr/>
                        </p:nvSpPr>
                        <p:spPr>
                          <a:xfrm rot="3848400">
                            <a:off x="3377160" y="26557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3" name="Freeform 228"/>
                          <p:cNvSpPr/>
                          <p:nvPr/>
                        </p:nvSpPr>
                        <p:spPr>
                          <a:xfrm rot="3848400">
                            <a:off x="3391920" y="26647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84" name="Group 229"/>
                        <p:cNvGrpSpPr/>
                        <p:nvPr/>
                      </p:nvGrpSpPr>
                      <p:grpSpPr>
                        <a:xfrm>
                          <a:off x="3352680" y="2719800"/>
                          <a:ext cx="151200" cy="122400"/>
                          <a:chOff x="3352680" y="2719800"/>
                          <a:chExt cx="151200" cy="122400"/>
                        </a:xfrm>
                      </p:grpSpPr>
                      <p:sp>
                        <p:nvSpPr>
                          <p:cNvPr id="585" name="Freeform 230"/>
                          <p:cNvSpPr/>
                          <p:nvPr/>
                        </p:nvSpPr>
                        <p:spPr>
                          <a:xfrm rot="4299000">
                            <a:off x="3385440" y="27158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6" name="Freeform 231"/>
                          <p:cNvSpPr/>
                          <p:nvPr/>
                        </p:nvSpPr>
                        <p:spPr>
                          <a:xfrm rot="4299000">
                            <a:off x="3398760" y="27248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87" name="Group 232"/>
                        <p:cNvGrpSpPr/>
                        <p:nvPr/>
                      </p:nvGrpSpPr>
                      <p:grpSpPr>
                        <a:xfrm>
                          <a:off x="3375720" y="2824920"/>
                          <a:ext cx="139320" cy="86400"/>
                          <a:chOff x="3375720" y="2824920"/>
                          <a:chExt cx="139320" cy="86400"/>
                        </a:xfrm>
                      </p:grpSpPr>
                      <p:sp>
                        <p:nvSpPr>
                          <p:cNvPr id="588" name="Freeform 233"/>
                          <p:cNvSpPr/>
                          <p:nvPr/>
                        </p:nvSpPr>
                        <p:spPr>
                          <a:xfrm rot="5405400">
                            <a:off x="3406680" y="28029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9" name="Freeform 234"/>
                          <p:cNvSpPr/>
                          <p:nvPr/>
                        </p:nvSpPr>
                        <p:spPr>
                          <a:xfrm rot="5405400">
                            <a:off x="3416400" y="28105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90" name="Group 235"/>
                    <p:cNvGrpSpPr/>
                    <p:nvPr/>
                  </p:nvGrpSpPr>
                  <p:grpSpPr>
                    <a:xfrm>
                      <a:off x="2615400" y="2411640"/>
                      <a:ext cx="531720" cy="211320"/>
                      <a:chOff x="2615400" y="2411640"/>
                      <a:chExt cx="531720" cy="211320"/>
                    </a:xfrm>
                  </p:grpSpPr>
                  <p:grpSp>
                    <p:nvGrpSpPr>
                      <p:cNvPr id="591" name="Group 236"/>
                      <p:cNvGrpSpPr/>
                      <p:nvPr/>
                    </p:nvGrpSpPr>
                    <p:grpSpPr>
                      <a:xfrm>
                        <a:off x="2615400" y="2432160"/>
                        <a:ext cx="259920" cy="181440"/>
                        <a:chOff x="2615400" y="2432160"/>
                        <a:chExt cx="259920" cy="181440"/>
                      </a:xfrm>
                    </p:grpSpPr>
                    <p:grpSp>
                      <p:nvGrpSpPr>
                        <p:cNvPr id="592" name="Group 237"/>
                        <p:cNvGrpSpPr/>
                        <p:nvPr/>
                      </p:nvGrpSpPr>
                      <p:grpSpPr>
                        <a:xfrm>
                          <a:off x="2785320" y="2432160"/>
                          <a:ext cx="90000" cy="137880"/>
                          <a:chOff x="2785320" y="2432160"/>
                          <a:chExt cx="90000" cy="137880"/>
                        </a:xfrm>
                      </p:grpSpPr>
                      <p:sp>
                        <p:nvSpPr>
                          <p:cNvPr id="593" name="Freeform 238"/>
                          <p:cNvSpPr/>
                          <p:nvPr/>
                        </p:nvSpPr>
                        <p:spPr>
                          <a:xfrm flipH="1" rot="76200">
                            <a:off x="2786400" y="24328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4" name="Freeform 239"/>
                          <p:cNvSpPr/>
                          <p:nvPr/>
                        </p:nvSpPr>
                        <p:spPr>
                          <a:xfrm flipH="1" rot="76200">
                            <a:off x="2790000" y="243396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95" name="Group 240"/>
                        <p:cNvGrpSpPr/>
                        <p:nvPr/>
                      </p:nvGrpSpPr>
                      <p:grpSpPr>
                        <a:xfrm>
                          <a:off x="2719800" y="2445840"/>
                          <a:ext cx="100800" cy="144720"/>
                          <a:chOff x="2719800" y="2445840"/>
                          <a:chExt cx="100800" cy="144720"/>
                        </a:xfrm>
                      </p:grpSpPr>
                      <p:sp>
                        <p:nvSpPr>
                          <p:cNvPr id="596" name="Freeform 241"/>
                          <p:cNvSpPr/>
                          <p:nvPr/>
                        </p:nvSpPr>
                        <p:spPr>
                          <a:xfrm flipH="1" rot="21225600">
                            <a:off x="2725920" y="245016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7" name="Freeform 242"/>
                          <p:cNvSpPr/>
                          <p:nvPr/>
                        </p:nvSpPr>
                        <p:spPr>
                          <a:xfrm flipH="1" rot="21225600">
                            <a:off x="2731320" y="24530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98" name="Group 243"/>
                        <p:cNvGrpSpPr/>
                        <p:nvPr/>
                      </p:nvGrpSpPr>
                      <p:grpSpPr>
                        <a:xfrm>
                          <a:off x="2615400" y="2454480"/>
                          <a:ext cx="132840" cy="159120"/>
                          <a:chOff x="2615400" y="2454480"/>
                          <a:chExt cx="132840" cy="159120"/>
                        </a:xfrm>
                      </p:grpSpPr>
                      <p:sp>
                        <p:nvSpPr>
                          <p:cNvPr id="599" name="Freeform 244"/>
                          <p:cNvSpPr/>
                          <p:nvPr/>
                        </p:nvSpPr>
                        <p:spPr>
                          <a:xfrm flipH="1" rot="20119200">
                            <a:off x="2637360" y="2466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0" name="Freeform 245"/>
                          <p:cNvSpPr/>
                          <p:nvPr/>
                        </p:nvSpPr>
                        <p:spPr>
                          <a:xfrm flipH="1" rot="20119200">
                            <a:off x="2643840" y="2472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01" name="Group 246"/>
                      <p:cNvGrpSpPr/>
                      <p:nvPr/>
                    </p:nvGrpSpPr>
                    <p:grpSpPr>
                      <a:xfrm>
                        <a:off x="2881440" y="2411640"/>
                        <a:ext cx="265680" cy="211320"/>
                        <a:chOff x="2881440" y="2411640"/>
                        <a:chExt cx="265680" cy="211320"/>
                      </a:xfrm>
                    </p:grpSpPr>
                    <p:grpSp>
                      <p:nvGrpSpPr>
                        <p:cNvPr id="602" name="Group 247"/>
                        <p:cNvGrpSpPr/>
                        <p:nvPr/>
                      </p:nvGrpSpPr>
                      <p:grpSpPr>
                        <a:xfrm>
                          <a:off x="2881440" y="2411640"/>
                          <a:ext cx="105480" cy="147240"/>
                          <a:chOff x="2881440" y="2411640"/>
                          <a:chExt cx="105480" cy="147240"/>
                        </a:xfrm>
                      </p:grpSpPr>
                      <p:sp>
                        <p:nvSpPr>
                          <p:cNvPr id="603" name="Freeform 248"/>
                          <p:cNvSpPr/>
                          <p:nvPr/>
                        </p:nvSpPr>
                        <p:spPr>
                          <a:xfrm rot="521400">
                            <a:off x="2890080" y="24174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4" name="Freeform 249"/>
                          <p:cNvSpPr/>
                          <p:nvPr/>
                        </p:nvSpPr>
                        <p:spPr>
                          <a:xfrm rot="521400">
                            <a:off x="2916000" y="2420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05" name="Group 250"/>
                        <p:cNvGrpSpPr/>
                        <p:nvPr/>
                      </p:nvGrpSpPr>
                      <p:grpSpPr>
                        <a:xfrm>
                          <a:off x="2930040" y="2434680"/>
                          <a:ext cx="119520" cy="154800"/>
                          <a:chOff x="2930040" y="2434680"/>
                          <a:chExt cx="119520" cy="154800"/>
                        </a:xfrm>
                      </p:grpSpPr>
                      <p:sp>
                        <p:nvSpPr>
                          <p:cNvPr id="606" name="Freeform 251"/>
                          <p:cNvSpPr/>
                          <p:nvPr/>
                        </p:nvSpPr>
                        <p:spPr>
                          <a:xfrm rot="972000">
                            <a:off x="2945880" y="2444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7" name="Freeform 252"/>
                          <p:cNvSpPr/>
                          <p:nvPr/>
                        </p:nvSpPr>
                        <p:spPr>
                          <a:xfrm rot="972000">
                            <a:off x="2971080" y="2449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08" name="Group 253"/>
                        <p:cNvGrpSpPr/>
                        <p:nvPr/>
                      </p:nvGrpSpPr>
                      <p:grpSpPr>
                        <a:xfrm>
                          <a:off x="3002760" y="2462400"/>
                          <a:ext cx="144360" cy="160560"/>
                          <a:chOff x="3002760" y="2462400"/>
                          <a:chExt cx="144360" cy="160560"/>
                        </a:xfrm>
                      </p:grpSpPr>
                      <p:sp>
                        <p:nvSpPr>
                          <p:cNvPr id="609" name="Freeform 254"/>
                          <p:cNvSpPr/>
                          <p:nvPr/>
                        </p:nvSpPr>
                        <p:spPr>
                          <a:xfrm rot="2078400">
                            <a:off x="3030840" y="2475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0" name="Freeform 255"/>
                          <p:cNvSpPr/>
                          <p:nvPr/>
                        </p:nvSpPr>
                        <p:spPr>
                          <a:xfrm rot="2078400">
                            <a:off x="3053160" y="2483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11" name="Group 256"/>
                    <p:cNvGrpSpPr/>
                    <p:nvPr/>
                  </p:nvGrpSpPr>
                  <p:grpSpPr>
                    <a:xfrm>
                      <a:off x="2158920" y="2349360"/>
                      <a:ext cx="495360" cy="299880"/>
                      <a:chOff x="2158920" y="2349360"/>
                      <a:chExt cx="495360" cy="299880"/>
                    </a:xfrm>
                  </p:grpSpPr>
                  <p:grpSp>
                    <p:nvGrpSpPr>
                      <p:cNvPr id="612" name="Group 257"/>
                      <p:cNvGrpSpPr/>
                      <p:nvPr/>
                    </p:nvGrpSpPr>
                    <p:grpSpPr>
                      <a:xfrm>
                        <a:off x="2158920" y="2404080"/>
                        <a:ext cx="263520" cy="245160"/>
                        <a:chOff x="2158920" y="2404080"/>
                        <a:chExt cx="263520" cy="245160"/>
                      </a:xfrm>
                    </p:grpSpPr>
                    <p:grpSp>
                      <p:nvGrpSpPr>
                        <p:cNvPr id="613" name="Group 258"/>
                        <p:cNvGrpSpPr/>
                        <p:nvPr/>
                      </p:nvGrpSpPr>
                      <p:grpSpPr>
                        <a:xfrm>
                          <a:off x="2293200" y="2404080"/>
                          <a:ext cx="129240" cy="158400"/>
                          <a:chOff x="2293200" y="2404080"/>
                          <a:chExt cx="129240" cy="158400"/>
                        </a:xfrm>
                      </p:grpSpPr>
                      <p:sp>
                        <p:nvSpPr>
                          <p:cNvPr id="614" name="Freeform 259"/>
                          <p:cNvSpPr/>
                          <p:nvPr/>
                        </p:nvSpPr>
                        <p:spPr>
                          <a:xfrm flipH="1" rot="20247600">
                            <a:off x="2313360" y="24156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5" name="Freeform 260"/>
                          <p:cNvSpPr/>
                          <p:nvPr/>
                        </p:nvSpPr>
                        <p:spPr>
                          <a:xfrm flipH="1" rot="20247600">
                            <a:off x="2320200" y="242136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6" name="Group 261"/>
                        <p:cNvGrpSpPr/>
                        <p:nvPr/>
                      </p:nvGrpSpPr>
                      <p:grpSpPr>
                        <a:xfrm>
                          <a:off x="2240280" y="2442600"/>
                          <a:ext cx="139680" cy="159840"/>
                          <a:chOff x="2240280" y="2442600"/>
                          <a:chExt cx="139680" cy="159840"/>
                        </a:xfrm>
                      </p:grpSpPr>
                      <p:sp>
                        <p:nvSpPr>
                          <p:cNvPr id="617" name="Freeform 262"/>
                          <p:cNvSpPr/>
                          <p:nvPr/>
                        </p:nvSpPr>
                        <p:spPr>
                          <a:xfrm flipH="1" rot="19797000">
                            <a:off x="2266200" y="245556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8" name="Freeform 263"/>
                          <p:cNvSpPr/>
                          <p:nvPr/>
                        </p:nvSpPr>
                        <p:spPr>
                          <a:xfrm flipH="1" rot="19797000">
                            <a:off x="2274120" y="246240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9" name="Group 264"/>
                        <p:cNvGrpSpPr/>
                        <p:nvPr/>
                      </p:nvGrpSpPr>
                      <p:grpSpPr>
                        <a:xfrm>
                          <a:off x="2158920" y="2495520"/>
                          <a:ext cx="153360" cy="153720"/>
                          <a:chOff x="2158920" y="2495520"/>
                          <a:chExt cx="153360" cy="153720"/>
                        </a:xfrm>
                      </p:grpSpPr>
                      <p:sp>
                        <p:nvSpPr>
                          <p:cNvPr id="620" name="Freeform 265"/>
                          <p:cNvSpPr/>
                          <p:nvPr/>
                        </p:nvSpPr>
                        <p:spPr>
                          <a:xfrm flipH="1" rot="18690600">
                            <a:off x="2191680" y="2506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1" name="Freeform 266"/>
                          <p:cNvSpPr/>
                          <p:nvPr/>
                        </p:nvSpPr>
                        <p:spPr>
                          <a:xfrm flipH="1" rot="18690600">
                            <a:off x="2202840" y="25153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22" name="Group 267"/>
                      <p:cNvGrpSpPr/>
                      <p:nvPr/>
                    </p:nvGrpSpPr>
                    <p:grpSpPr>
                      <a:xfrm>
                        <a:off x="2387880" y="2349360"/>
                        <a:ext cx="266400" cy="150840"/>
                        <a:chOff x="2387880" y="2349360"/>
                        <a:chExt cx="266400" cy="150840"/>
                      </a:xfrm>
                    </p:grpSpPr>
                    <p:grpSp>
                      <p:nvGrpSpPr>
                        <p:cNvPr id="623" name="Group 268"/>
                        <p:cNvGrpSpPr/>
                        <p:nvPr/>
                      </p:nvGrpSpPr>
                      <p:grpSpPr>
                        <a:xfrm>
                          <a:off x="2387880" y="2350800"/>
                          <a:ext cx="117720" cy="147240"/>
                          <a:chOff x="2387880" y="2350800"/>
                          <a:chExt cx="117720" cy="147240"/>
                        </a:xfrm>
                      </p:grpSpPr>
                      <p:sp>
                        <p:nvSpPr>
                          <p:cNvPr id="624" name="Freeform 269"/>
                          <p:cNvSpPr/>
                          <p:nvPr/>
                        </p:nvSpPr>
                        <p:spPr>
                          <a:xfrm rot="20692800">
                            <a:off x="2402640" y="23598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5" name="Freeform 270"/>
                          <p:cNvSpPr/>
                          <p:nvPr/>
                        </p:nvSpPr>
                        <p:spPr>
                          <a:xfrm rot="20692800">
                            <a:off x="2430720" y="23580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6" name="Group 271"/>
                        <p:cNvGrpSpPr/>
                        <p:nvPr/>
                      </p:nvGrpSpPr>
                      <p:grpSpPr>
                        <a:xfrm>
                          <a:off x="2457000" y="2356920"/>
                          <a:ext cx="103680" cy="143280"/>
                          <a:chOff x="2457000" y="2356920"/>
                          <a:chExt cx="103680" cy="143280"/>
                        </a:xfrm>
                      </p:grpSpPr>
                      <p:sp>
                        <p:nvSpPr>
                          <p:cNvPr id="627" name="Freeform 272"/>
                          <p:cNvSpPr/>
                          <p:nvPr/>
                        </p:nvSpPr>
                        <p:spPr>
                          <a:xfrm rot="21143400">
                            <a:off x="2464920" y="23619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8" name="Freeform 273"/>
                          <p:cNvSpPr/>
                          <p:nvPr/>
                        </p:nvSpPr>
                        <p:spPr>
                          <a:xfrm rot="21143400">
                            <a:off x="2492640" y="2361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9" name="Group 274"/>
                        <p:cNvGrpSpPr/>
                        <p:nvPr/>
                      </p:nvGrpSpPr>
                      <p:grpSpPr>
                        <a:xfrm>
                          <a:off x="2544120" y="2349360"/>
                          <a:ext cx="110160" cy="150480"/>
                          <a:chOff x="2544120" y="2349360"/>
                          <a:chExt cx="110160" cy="150480"/>
                        </a:xfrm>
                      </p:grpSpPr>
                      <p:sp>
                        <p:nvSpPr>
                          <p:cNvPr id="630" name="Freeform 275"/>
                          <p:cNvSpPr/>
                          <p:nvPr/>
                        </p:nvSpPr>
                        <p:spPr>
                          <a:xfrm rot="649800">
                            <a:off x="2555280" y="23562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1" name="Freeform 276"/>
                          <p:cNvSpPr/>
                          <p:nvPr/>
                        </p:nvSpPr>
                        <p:spPr>
                          <a:xfrm rot="649800">
                            <a:off x="2581200" y="23605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32" name="Group 277"/>
                    <p:cNvGrpSpPr/>
                    <p:nvPr/>
                  </p:nvGrpSpPr>
                  <p:grpSpPr>
                    <a:xfrm>
                      <a:off x="1778040" y="2552760"/>
                      <a:ext cx="411840" cy="408240"/>
                      <a:chOff x="1778040" y="2552760"/>
                      <a:chExt cx="411840" cy="408240"/>
                    </a:xfrm>
                  </p:grpSpPr>
                  <p:grpSp>
                    <p:nvGrpSpPr>
                      <p:cNvPr id="633" name="Group 278"/>
                      <p:cNvGrpSpPr/>
                      <p:nvPr/>
                    </p:nvGrpSpPr>
                    <p:grpSpPr>
                      <a:xfrm>
                        <a:off x="1778040" y="2692440"/>
                        <a:ext cx="230400" cy="268560"/>
                        <a:chOff x="1778040" y="2692440"/>
                        <a:chExt cx="230400" cy="268560"/>
                      </a:xfrm>
                    </p:grpSpPr>
                    <p:grpSp>
                      <p:nvGrpSpPr>
                        <p:cNvPr id="634" name="Group 279"/>
                        <p:cNvGrpSpPr/>
                        <p:nvPr/>
                      </p:nvGrpSpPr>
                      <p:grpSpPr>
                        <a:xfrm>
                          <a:off x="1857240" y="2692440"/>
                          <a:ext cx="151200" cy="156240"/>
                          <a:chOff x="1857240" y="2692440"/>
                          <a:chExt cx="151200" cy="156240"/>
                        </a:xfrm>
                      </p:grpSpPr>
                      <p:sp>
                        <p:nvSpPr>
                          <p:cNvPr id="635" name="Freeform 280"/>
                          <p:cNvSpPr/>
                          <p:nvPr/>
                        </p:nvSpPr>
                        <p:spPr>
                          <a:xfrm flipH="1" rot="18943200">
                            <a:off x="1889280" y="27046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6" name="Freeform 281"/>
                          <p:cNvSpPr/>
                          <p:nvPr/>
                        </p:nvSpPr>
                        <p:spPr>
                          <a:xfrm flipH="1" rot="18943200">
                            <a:off x="1899720" y="27126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37" name="Group 282"/>
                        <p:cNvGrpSpPr/>
                        <p:nvPr/>
                      </p:nvGrpSpPr>
                      <p:grpSpPr>
                        <a:xfrm>
                          <a:off x="1825920" y="2749320"/>
                          <a:ext cx="154440" cy="149760"/>
                          <a:chOff x="1825920" y="2749320"/>
                          <a:chExt cx="154440" cy="149760"/>
                        </a:xfrm>
                      </p:grpSpPr>
                      <p:sp>
                        <p:nvSpPr>
                          <p:cNvPr id="638" name="Freeform 283"/>
                          <p:cNvSpPr/>
                          <p:nvPr/>
                        </p:nvSpPr>
                        <p:spPr>
                          <a:xfrm flipH="1" rot="18492600">
                            <a:off x="1859040" y="27590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" name="Freeform 284"/>
                          <p:cNvSpPr/>
                          <p:nvPr/>
                        </p:nvSpPr>
                        <p:spPr>
                          <a:xfrm flipH="1" rot="18492600">
                            <a:off x="1871640" y="27680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40" name="Group 285"/>
                        <p:cNvGrpSpPr/>
                        <p:nvPr/>
                      </p:nvGrpSpPr>
                      <p:grpSpPr>
                        <a:xfrm>
                          <a:off x="1778040" y="2835360"/>
                          <a:ext cx="149400" cy="125640"/>
                          <a:chOff x="1778040" y="2835360"/>
                          <a:chExt cx="149400" cy="125640"/>
                        </a:xfrm>
                      </p:grpSpPr>
                      <p:sp>
                        <p:nvSpPr>
                          <p:cNvPr id="641" name="Freeform 286"/>
                          <p:cNvSpPr/>
                          <p:nvPr/>
                        </p:nvSpPr>
                        <p:spPr>
                          <a:xfrm flipH="1" rot="17386200">
                            <a:off x="1808640" y="2834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2" name="Freeform 287"/>
                          <p:cNvSpPr/>
                          <p:nvPr/>
                        </p:nvSpPr>
                        <p:spPr>
                          <a:xfrm flipH="1" rot="17386200">
                            <a:off x="1825200" y="2843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43" name="Group 288"/>
                      <p:cNvGrpSpPr/>
                      <p:nvPr/>
                    </p:nvGrpSpPr>
                    <p:grpSpPr>
                      <a:xfrm>
                        <a:off x="1921320" y="2552760"/>
                        <a:ext cx="268560" cy="207720"/>
                        <a:chOff x="1921320" y="2552760"/>
                        <a:chExt cx="268560" cy="207720"/>
                      </a:xfrm>
                    </p:grpSpPr>
                    <p:grpSp>
                      <p:nvGrpSpPr>
                        <p:cNvPr id="644" name="Group 289"/>
                        <p:cNvGrpSpPr/>
                        <p:nvPr/>
                      </p:nvGrpSpPr>
                      <p:grpSpPr>
                        <a:xfrm>
                          <a:off x="1921320" y="2606040"/>
                          <a:ext cx="148320" cy="154440"/>
                          <a:chOff x="1921320" y="2606040"/>
                          <a:chExt cx="148320" cy="154440"/>
                        </a:xfrm>
                      </p:grpSpPr>
                      <p:sp>
                        <p:nvSpPr>
                          <p:cNvPr id="645" name="Freeform 290"/>
                          <p:cNvSpPr/>
                          <p:nvPr/>
                        </p:nvSpPr>
                        <p:spPr>
                          <a:xfrm rot="19388400">
                            <a:off x="1950480" y="26193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6" name="Freeform 291"/>
                          <p:cNvSpPr/>
                          <p:nvPr/>
                        </p:nvSpPr>
                        <p:spPr>
                          <a:xfrm rot="19388400">
                            <a:off x="1977840" y="26128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47" name="Group 292"/>
                        <p:cNvGrpSpPr/>
                        <p:nvPr/>
                      </p:nvGrpSpPr>
                      <p:grpSpPr>
                        <a:xfrm>
                          <a:off x="1983600" y="2585520"/>
                          <a:ext cx="139680" cy="154080"/>
                          <a:chOff x="1983600" y="2585520"/>
                          <a:chExt cx="139680" cy="154080"/>
                        </a:xfrm>
                      </p:grpSpPr>
                      <p:sp>
                        <p:nvSpPr>
                          <p:cNvPr id="648" name="Freeform 293"/>
                          <p:cNvSpPr/>
                          <p:nvPr/>
                        </p:nvSpPr>
                        <p:spPr>
                          <a:xfrm rot="19839000">
                            <a:off x="2009160" y="25984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49" name="Freeform 294"/>
                          <p:cNvSpPr/>
                          <p:nvPr/>
                        </p:nvSpPr>
                        <p:spPr>
                          <a:xfrm rot="19839000">
                            <a:off x="2036880" y="25938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0" name="Group 295"/>
                        <p:cNvGrpSpPr/>
                        <p:nvPr/>
                      </p:nvGrpSpPr>
                      <p:grpSpPr>
                        <a:xfrm>
                          <a:off x="2079720" y="2552760"/>
                          <a:ext cx="110160" cy="145800"/>
                          <a:chOff x="2079720" y="2552760"/>
                          <a:chExt cx="110160" cy="145800"/>
                        </a:xfrm>
                      </p:grpSpPr>
                      <p:sp>
                        <p:nvSpPr>
                          <p:cNvPr id="651" name="Freeform 296"/>
                          <p:cNvSpPr/>
                          <p:nvPr/>
                        </p:nvSpPr>
                        <p:spPr>
                          <a:xfrm rot="20945400">
                            <a:off x="2090880" y="2559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52" name="Freeform 297"/>
                          <p:cNvSpPr/>
                          <p:nvPr/>
                        </p:nvSpPr>
                        <p:spPr>
                          <a:xfrm rot="20945400">
                            <a:off x="2119320" y="25592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53" name="Group 298"/>
                    <p:cNvGrpSpPr/>
                    <p:nvPr/>
                  </p:nvGrpSpPr>
                  <p:grpSpPr>
                    <a:xfrm>
                      <a:off x="2732760" y="2526840"/>
                      <a:ext cx="531720" cy="211320"/>
                      <a:chOff x="2732760" y="2526840"/>
                      <a:chExt cx="531720" cy="211320"/>
                    </a:xfrm>
                  </p:grpSpPr>
                  <p:grpSp>
                    <p:nvGrpSpPr>
                      <p:cNvPr id="654" name="Group 299"/>
                      <p:cNvGrpSpPr/>
                      <p:nvPr/>
                    </p:nvGrpSpPr>
                    <p:grpSpPr>
                      <a:xfrm>
                        <a:off x="2732760" y="2547360"/>
                        <a:ext cx="259920" cy="181440"/>
                        <a:chOff x="2732760" y="2547360"/>
                        <a:chExt cx="259920" cy="181440"/>
                      </a:xfrm>
                    </p:grpSpPr>
                    <p:grpSp>
                      <p:nvGrpSpPr>
                        <p:cNvPr id="655" name="Group 300"/>
                        <p:cNvGrpSpPr/>
                        <p:nvPr/>
                      </p:nvGrpSpPr>
                      <p:grpSpPr>
                        <a:xfrm>
                          <a:off x="2902680" y="2547360"/>
                          <a:ext cx="90000" cy="137880"/>
                          <a:chOff x="2902680" y="2547360"/>
                          <a:chExt cx="90000" cy="137880"/>
                        </a:xfrm>
                      </p:grpSpPr>
                      <p:sp>
                        <p:nvSpPr>
                          <p:cNvPr id="656" name="Freeform 301"/>
                          <p:cNvSpPr/>
                          <p:nvPr/>
                        </p:nvSpPr>
                        <p:spPr>
                          <a:xfrm flipH="1" rot="76200">
                            <a:off x="2903760" y="25480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57" name="Freeform 302"/>
                          <p:cNvSpPr/>
                          <p:nvPr/>
                        </p:nvSpPr>
                        <p:spPr>
                          <a:xfrm flipH="1" rot="76200">
                            <a:off x="2907360" y="254916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8" name="Group 303"/>
                        <p:cNvGrpSpPr/>
                        <p:nvPr/>
                      </p:nvGrpSpPr>
                      <p:grpSpPr>
                        <a:xfrm>
                          <a:off x="2837160" y="2561040"/>
                          <a:ext cx="100800" cy="144720"/>
                          <a:chOff x="2837160" y="2561040"/>
                          <a:chExt cx="100800" cy="144720"/>
                        </a:xfrm>
                      </p:grpSpPr>
                      <p:sp>
                        <p:nvSpPr>
                          <p:cNvPr id="659" name="Freeform 304"/>
                          <p:cNvSpPr/>
                          <p:nvPr/>
                        </p:nvSpPr>
                        <p:spPr>
                          <a:xfrm flipH="1" rot="21225600">
                            <a:off x="2843280" y="256536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0" name="Freeform 305"/>
                          <p:cNvSpPr/>
                          <p:nvPr/>
                        </p:nvSpPr>
                        <p:spPr>
                          <a:xfrm flipH="1" rot="21225600">
                            <a:off x="2848680" y="25682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1" name="Group 306"/>
                        <p:cNvGrpSpPr/>
                        <p:nvPr/>
                      </p:nvGrpSpPr>
                      <p:grpSpPr>
                        <a:xfrm>
                          <a:off x="2732760" y="2569680"/>
                          <a:ext cx="132840" cy="159120"/>
                          <a:chOff x="2732760" y="2569680"/>
                          <a:chExt cx="132840" cy="159120"/>
                        </a:xfrm>
                      </p:grpSpPr>
                      <p:sp>
                        <p:nvSpPr>
                          <p:cNvPr id="662" name="Freeform 307"/>
                          <p:cNvSpPr/>
                          <p:nvPr/>
                        </p:nvSpPr>
                        <p:spPr>
                          <a:xfrm flipH="1" rot="20119200">
                            <a:off x="2754720" y="2581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3" name="Freeform 308"/>
                          <p:cNvSpPr/>
                          <p:nvPr/>
                        </p:nvSpPr>
                        <p:spPr>
                          <a:xfrm flipH="1" rot="20119200">
                            <a:off x="2761200" y="2587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64" name="Group 309"/>
                      <p:cNvGrpSpPr/>
                      <p:nvPr/>
                    </p:nvGrpSpPr>
                    <p:grpSpPr>
                      <a:xfrm>
                        <a:off x="2998800" y="2526840"/>
                        <a:ext cx="265680" cy="211320"/>
                        <a:chOff x="2998800" y="2526840"/>
                        <a:chExt cx="265680" cy="211320"/>
                      </a:xfrm>
                    </p:grpSpPr>
                    <p:grpSp>
                      <p:nvGrpSpPr>
                        <p:cNvPr id="665" name="Group 310"/>
                        <p:cNvGrpSpPr/>
                        <p:nvPr/>
                      </p:nvGrpSpPr>
                      <p:grpSpPr>
                        <a:xfrm>
                          <a:off x="2998800" y="2526840"/>
                          <a:ext cx="105480" cy="147240"/>
                          <a:chOff x="2998800" y="2526840"/>
                          <a:chExt cx="105480" cy="147240"/>
                        </a:xfrm>
                      </p:grpSpPr>
                      <p:sp>
                        <p:nvSpPr>
                          <p:cNvPr id="666" name="Freeform 311"/>
                          <p:cNvSpPr/>
                          <p:nvPr/>
                        </p:nvSpPr>
                        <p:spPr>
                          <a:xfrm rot="521400">
                            <a:off x="3007440" y="2532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7" name="Freeform 312"/>
                          <p:cNvSpPr/>
                          <p:nvPr/>
                        </p:nvSpPr>
                        <p:spPr>
                          <a:xfrm rot="521400">
                            <a:off x="3033360" y="2535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8" name="Group 313"/>
                        <p:cNvGrpSpPr/>
                        <p:nvPr/>
                      </p:nvGrpSpPr>
                      <p:grpSpPr>
                        <a:xfrm>
                          <a:off x="3047400" y="2549880"/>
                          <a:ext cx="119520" cy="154800"/>
                          <a:chOff x="3047400" y="2549880"/>
                          <a:chExt cx="119520" cy="154800"/>
                        </a:xfrm>
                      </p:grpSpPr>
                      <p:sp>
                        <p:nvSpPr>
                          <p:cNvPr id="669" name="Freeform 314"/>
                          <p:cNvSpPr/>
                          <p:nvPr/>
                        </p:nvSpPr>
                        <p:spPr>
                          <a:xfrm rot="972000">
                            <a:off x="3063240" y="25592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0" name="Freeform 315"/>
                          <p:cNvSpPr/>
                          <p:nvPr/>
                        </p:nvSpPr>
                        <p:spPr>
                          <a:xfrm rot="972000">
                            <a:off x="3088440" y="2564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71" name="Group 316"/>
                        <p:cNvGrpSpPr/>
                        <p:nvPr/>
                      </p:nvGrpSpPr>
                      <p:grpSpPr>
                        <a:xfrm>
                          <a:off x="3120120" y="2577600"/>
                          <a:ext cx="144360" cy="160560"/>
                          <a:chOff x="3120120" y="2577600"/>
                          <a:chExt cx="144360" cy="160560"/>
                        </a:xfrm>
                      </p:grpSpPr>
                      <p:sp>
                        <p:nvSpPr>
                          <p:cNvPr id="672" name="Freeform 317"/>
                          <p:cNvSpPr/>
                          <p:nvPr/>
                        </p:nvSpPr>
                        <p:spPr>
                          <a:xfrm rot="2078400">
                            <a:off x="3148200" y="2590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3" name="Freeform 318"/>
                          <p:cNvSpPr/>
                          <p:nvPr/>
                        </p:nvSpPr>
                        <p:spPr>
                          <a:xfrm rot="2078400">
                            <a:off x="3170520" y="25988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74" name="Group 319"/>
                    <p:cNvGrpSpPr/>
                    <p:nvPr/>
                  </p:nvGrpSpPr>
                  <p:grpSpPr>
                    <a:xfrm>
                      <a:off x="2849400" y="2641680"/>
                      <a:ext cx="531720" cy="211320"/>
                      <a:chOff x="2849400" y="2641680"/>
                      <a:chExt cx="531720" cy="211320"/>
                    </a:xfrm>
                  </p:grpSpPr>
                  <p:grpSp>
                    <p:nvGrpSpPr>
                      <p:cNvPr id="675" name="Group 320"/>
                      <p:cNvGrpSpPr/>
                      <p:nvPr/>
                    </p:nvGrpSpPr>
                    <p:grpSpPr>
                      <a:xfrm>
                        <a:off x="2849400" y="2662200"/>
                        <a:ext cx="259920" cy="181440"/>
                        <a:chOff x="2849400" y="2662200"/>
                        <a:chExt cx="259920" cy="181440"/>
                      </a:xfrm>
                    </p:grpSpPr>
                    <p:grpSp>
                      <p:nvGrpSpPr>
                        <p:cNvPr id="676" name="Group 321"/>
                        <p:cNvGrpSpPr/>
                        <p:nvPr/>
                      </p:nvGrpSpPr>
                      <p:grpSpPr>
                        <a:xfrm>
                          <a:off x="3019320" y="2662200"/>
                          <a:ext cx="90000" cy="137880"/>
                          <a:chOff x="3019320" y="2662200"/>
                          <a:chExt cx="90000" cy="137880"/>
                        </a:xfrm>
                      </p:grpSpPr>
                      <p:sp>
                        <p:nvSpPr>
                          <p:cNvPr id="677" name="Freeform 322"/>
                          <p:cNvSpPr/>
                          <p:nvPr/>
                        </p:nvSpPr>
                        <p:spPr>
                          <a:xfrm flipH="1" rot="76200">
                            <a:off x="3020400" y="26629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78" name="Freeform 323"/>
                          <p:cNvSpPr/>
                          <p:nvPr/>
                        </p:nvSpPr>
                        <p:spPr>
                          <a:xfrm flipH="1" rot="76200">
                            <a:off x="3024000" y="26640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79" name="Group 324"/>
                        <p:cNvGrpSpPr/>
                        <p:nvPr/>
                      </p:nvGrpSpPr>
                      <p:grpSpPr>
                        <a:xfrm>
                          <a:off x="2953800" y="2675880"/>
                          <a:ext cx="100800" cy="144720"/>
                          <a:chOff x="2953800" y="2675880"/>
                          <a:chExt cx="100800" cy="144720"/>
                        </a:xfrm>
                      </p:grpSpPr>
                      <p:sp>
                        <p:nvSpPr>
                          <p:cNvPr id="680" name="Freeform 325"/>
                          <p:cNvSpPr/>
                          <p:nvPr/>
                        </p:nvSpPr>
                        <p:spPr>
                          <a:xfrm flipH="1" rot="21225600">
                            <a:off x="2959920" y="26802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81" name="Freeform 326"/>
                          <p:cNvSpPr/>
                          <p:nvPr/>
                        </p:nvSpPr>
                        <p:spPr>
                          <a:xfrm flipH="1" rot="21225600">
                            <a:off x="2965320" y="26830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82" name="Group 327"/>
                        <p:cNvGrpSpPr/>
                        <p:nvPr/>
                      </p:nvGrpSpPr>
                      <p:grpSpPr>
                        <a:xfrm>
                          <a:off x="2849400" y="2684520"/>
                          <a:ext cx="132840" cy="159120"/>
                          <a:chOff x="2849400" y="2684520"/>
                          <a:chExt cx="132840" cy="159120"/>
                        </a:xfrm>
                      </p:grpSpPr>
                      <p:sp>
                        <p:nvSpPr>
                          <p:cNvPr id="683" name="Freeform 328"/>
                          <p:cNvSpPr/>
                          <p:nvPr/>
                        </p:nvSpPr>
                        <p:spPr>
                          <a:xfrm flipH="1" rot="20119200">
                            <a:off x="2871360" y="26967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84" name="Freeform 329"/>
                          <p:cNvSpPr/>
                          <p:nvPr/>
                        </p:nvSpPr>
                        <p:spPr>
                          <a:xfrm flipH="1" rot="20119200">
                            <a:off x="2877840" y="27025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85" name="Group 330"/>
                      <p:cNvGrpSpPr/>
                      <p:nvPr/>
                    </p:nvGrpSpPr>
                    <p:grpSpPr>
                      <a:xfrm>
                        <a:off x="3115440" y="2641680"/>
                        <a:ext cx="265680" cy="211320"/>
                        <a:chOff x="3115440" y="2641680"/>
                        <a:chExt cx="265680" cy="211320"/>
                      </a:xfrm>
                    </p:grpSpPr>
                    <p:grpSp>
                      <p:nvGrpSpPr>
                        <p:cNvPr id="686" name="Group 331"/>
                        <p:cNvGrpSpPr/>
                        <p:nvPr/>
                      </p:nvGrpSpPr>
                      <p:grpSpPr>
                        <a:xfrm>
                          <a:off x="3115440" y="2641680"/>
                          <a:ext cx="105480" cy="147240"/>
                          <a:chOff x="3115440" y="2641680"/>
                          <a:chExt cx="105480" cy="147240"/>
                        </a:xfrm>
                      </p:grpSpPr>
                      <p:sp>
                        <p:nvSpPr>
                          <p:cNvPr id="687" name="Freeform 332"/>
                          <p:cNvSpPr/>
                          <p:nvPr/>
                        </p:nvSpPr>
                        <p:spPr>
                          <a:xfrm rot="521400">
                            <a:off x="3124080" y="2647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88" name="Freeform 333"/>
                          <p:cNvSpPr/>
                          <p:nvPr/>
                        </p:nvSpPr>
                        <p:spPr>
                          <a:xfrm rot="521400">
                            <a:off x="3150000" y="26503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89" name="Group 334"/>
                        <p:cNvGrpSpPr/>
                        <p:nvPr/>
                      </p:nvGrpSpPr>
                      <p:grpSpPr>
                        <a:xfrm>
                          <a:off x="3164040" y="2664720"/>
                          <a:ext cx="119520" cy="154800"/>
                          <a:chOff x="3164040" y="2664720"/>
                          <a:chExt cx="119520" cy="154800"/>
                        </a:xfrm>
                      </p:grpSpPr>
                      <p:sp>
                        <p:nvSpPr>
                          <p:cNvPr id="690" name="Freeform 335"/>
                          <p:cNvSpPr/>
                          <p:nvPr/>
                        </p:nvSpPr>
                        <p:spPr>
                          <a:xfrm rot="972000">
                            <a:off x="3179880" y="26740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1" name="Freeform 336"/>
                          <p:cNvSpPr/>
                          <p:nvPr/>
                        </p:nvSpPr>
                        <p:spPr>
                          <a:xfrm rot="972000">
                            <a:off x="3205080" y="26791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2" name="Group 337"/>
                        <p:cNvGrpSpPr/>
                        <p:nvPr/>
                      </p:nvGrpSpPr>
                      <p:grpSpPr>
                        <a:xfrm>
                          <a:off x="3236760" y="2692440"/>
                          <a:ext cx="144360" cy="160560"/>
                          <a:chOff x="3236760" y="2692440"/>
                          <a:chExt cx="144360" cy="160560"/>
                        </a:xfrm>
                      </p:grpSpPr>
                      <p:sp>
                        <p:nvSpPr>
                          <p:cNvPr id="693" name="Freeform 338"/>
                          <p:cNvSpPr/>
                          <p:nvPr/>
                        </p:nvSpPr>
                        <p:spPr>
                          <a:xfrm rot="2078400">
                            <a:off x="3264840" y="27057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4" name="Freeform 339"/>
                          <p:cNvSpPr/>
                          <p:nvPr/>
                        </p:nvSpPr>
                        <p:spPr>
                          <a:xfrm rot="2078400">
                            <a:off x="3287160" y="2713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95" name="Group 340"/>
                    <p:cNvGrpSpPr/>
                    <p:nvPr/>
                  </p:nvGrpSpPr>
                  <p:grpSpPr>
                    <a:xfrm>
                      <a:off x="2966760" y="2756520"/>
                      <a:ext cx="531720" cy="211320"/>
                      <a:chOff x="2966760" y="2756520"/>
                      <a:chExt cx="531720" cy="211320"/>
                    </a:xfrm>
                  </p:grpSpPr>
                  <p:grpSp>
                    <p:nvGrpSpPr>
                      <p:cNvPr id="696" name="Group 341"/>
                      <p:cNvGrpSpPr/>
                      <p:nvPr/>
                    </p:nvGrpSpPr>
                    <p:grpSpPr>
                      <a:xfrm>
                        <a:off x="2966760" y="2777040"/>
                        <a:ext cx="259920" cy="181440"/>
                        <a:chOff x="2966760" y="2777040"/>
                        <a:chExt cx="259920" cy="181440"/>
                      </a:xfrm>
                    </p:grpSpPr>
                    <p:grpSp>
                      <p:nvGrpSpPr>
                        <p:cNvPr id="697" name="Group 342"/>
                        <p:cNvGrpSpPr/>
                        <p:nvPr/>
                      </p:nvGrpSpPr>
                      <p:grpSpPr>
                        <a:xfrm>
                          <a:off x="3136680" y="2777040"/>
                          <a:ext cx="90000" cy="137880"/>
                          <a:chOff x="3136680" y="2777040"/>
                          <a:chExt cx="90000" cy="137880"/>
                        </a:xfrm>
                      </p:grpSpPr>
                      <p:sp>
                        <p:nvSpPr>
                          <p:cNvPr id="698" name="Freeform 343"/>
                          <p:cNvSpPr/>
                          <p:nvPr/>
                        </p:nvSpPr>
                        <p:spPr>
                          <a:xfrm flipH="1" rot="76200">
                            <a:off x="3137760" y="27777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9" name="Freeform 344"/>
                          <p:cNvSpPr/>
                          <p:nvPr/>
                        </p:nvSpPr>
                        <p:spPr>
                          <a:xfrm flipH="1" rot="76200">
                            <a:off x="3141360" y="27788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0" name="Group 345"/>
                        <p:cNvGrpSpPr/>
                        <p:nvPr/>
                      </p:nvGrpSpPr>
                      <p:grpSpPr>
                        <a:xfrm>
                          <a:off x="3071160" y="2790720"/>
                          <a:ext cx="100800" cy="144720"/>
                          <a:chOff x="3071160" y="2790720"/>
                          <a:chExt cx="100800" cy="144720"/>
                        </a:xfrm>
                      </p:grpSpPr>
                      <p:sp>
                        <p:nvSpPr>
                          <p:cNvPr id="701" name="Freeform 346"/>
                          <p:cNvSpPr/>
                          <p:nvPr/>
                        </p:nvSpPr>
                        <p:spPr>
                          <a:xfrm flipH="1" rot="21225600">
                            <a:off x="3077280" y="27950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2" name="Freeform 347"/>
                          <p:cNvSpPr/>
                          <p:nvPr/>
                        </p:nvSpPr>
                        <p:spPr>
                          <a:xfrm flipH="1" rot="21225600">
                            <a:off x="3082680" y="27979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3" name="Group 348"/>
                        <p:cNvGrpSpPr/>
                        <p:nvPr/>
                      </p:nvGrpSpPr>
                      <p:grpSpPr>
                        <a:xfrm>
                          <a:off x="2966760" y="2799360"/>
                          <a:ext cx="132840" cy="159120"/>
                          <a:chOff x="2966760" y="2799360"/>
                          <a:chExt cx="132840" cy="159120"/>
                        </a:xfrm>
                      </p:grpSpPr>
                      <p:sp>
                        <p:nvSpPr>
                          <p:cNvPr id="704" name="Freeform 349"/>
                          <p:cNvSpPr/>
                          <p:nvPr/>
                        </p:nvSpPr>
                        <p:spPr>
                          <a:xfrm flipH="1" rot="20119200">
                            <a:off x="2988720" y="2811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5" name="Freeform 350"/>
                          <p:cNvSpPr/>
                          <p:nvPr/>
                        </p:nvSpPr>
                        <p:spPr>
                          <a:xfrm flipH="1" rot="20119200">
                            <a:off x="2995200" y="2817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06" name="Group 351"/>
                      <p:cNvGrpSpPr/>
                      <p:nvPr/>
                    </p:nvGrpSpPr>
                    <p:grpSpPr>
                      <a:xfrm>
                        <a:off x="3232800" y="2756520"/>
                        <a:ext cx="265680" cy="211320"/>
                        <a:chOff x="3232800" y="2756520"/>
                        <a:chExt cx="265680" cy="211320"/>
                      </a:xfrm>
                    </p:grpSpPr>
                    <p:grpSp>
                      <p:nvGrpSpPr>
                        <p:cNvPr id="707" name="Group 352"/>
                        <p:cNvGrpSpPr/>
                        <p:nvPr/>
                      </p:nvGrpSpPr>
                      <p:grpSpPr>
                        <a:xfrm>
                          <a:off x="3232800" y="2756520"/>
                          <a:ext cx="105480" cy="147240"/>
                          <a:chOff x="3232800" y="2756520"/>
                          <a:chExt cx="105480" cy="147240"/>
                        </a:xfrm>
                      </p:grpSpPr>
                      <p:sp>
                        <p:nvSpPr>
                          <p:cNvPr id="708" name="Freeform 353"/>
                          <p:cNvSpPr/>
                          <p:nvPr/>
                        </p:nvSpPr>
                        <p:spPr>
                          <a:xfrm rot="521400">
                            <a:off x="3241440" y="2762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9" name="Freeform 354"/>
                          <p:cNvSpPr/>
                          <p:nvPr/>
                        </p:nvSpPr>
                        <p:spPr>
                          <a:xfrm rot="521400">
                            <a:off x="3267360" y="27651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0" name="Group 355"/>
                        <p:cNvGrpSpPr/>
                        <p:nvPr/>
                      </p:nvGrpSpPr>
                      <p:grpSpPr>
                        <a:xfrm>
                          <a:off x="3281400" y="2779560"/>
                          <a:ext cx="119520" cy="154800"/>
                          <a:chOff x="3281400" y="2779560"/>
                          <a:chExt cx="119520" cy="154800"/>
                        </a:xfrm>
                      </p:grpSpPr>
                      <p:sp>
                        <p:nvSpPr>
                          <p:cNvPr id="711" name="Freeform 356"/>
                          <p:cNvSpPr/>
                          <p:nvPr/>
                        </p:nvSpPr>
                        <p:spPr>
                          <a:xfrm rot="972000">
                            <a:off x="3297240" y="2788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2" name="Freeform 357"/>
                          <p:cNvSpPr/>
                          <p:nvPr/>
                        </p:nvSpPr>
                        <p:spPr>
                          <a:xfrm rot="972000">
                            <a:off x="3322440" y="2793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3" name="Group 358"/>
                        <p:cNvGrpSpPr/>
                        <p:nvPr/>
                      </p:nvGrpSpPr>
                      <p:grpSpPr>
                        <a:xfrm>
                          <a:off x="3354120" y="2807280"/>
                          <a:ext cx="144360" cy="160560"/>
                          <a:chOff x="3354120" y="2807280"/>
                          <a:chExt cx="144360" cy="160560"/>
                        </a:xfrm>
                      </p:grpSpPr>
                      <p:sp>
                        <p:nvSpPr>
                          <p:cNvPr id="714" name="Freeform 359"/>
                          <p:cNvSpPr/>
                          <p:nvPr/>
                        </p:nvSpPr>
                        <p:spPr>
                          <a:xfrm rot="2078400">
                            <a:off x="3382200" y="2820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5" name="Freeform 360"/>
                          <p:cNvSpPr/>
                          <p:nvPr/>
                        </p:nvSpPr>
                        <p:spPr>
                          <a:xfrm rot="2078400">
                            <a:off x="3404520" y="28285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16" name="Group 361"/>
                    <p:cNvGrpSpPr/>
                    <p:nvPr/>
                  </p:nvGrpSpPr>
                  <p:grpSpPr>
                    <a:xfrm>
                      <a:off x="3083760" y="2871720"/>
                      <a:ext cx="531720" cy="211320"/>
                      <a:chOff x="3083760" y="2871720"/>
                      <a:chExt cx="531720" cy="211320"/>
                    </a:xfrm>
                  </p:grpSpPr>
                  <p:grpSp>
                    <p:nvGrpSpPr>
                      <p:cNvPr id="717" name="Group 362"/>
                      <p:cNvGrpSpPr/>
                      <p:nvPr/>
                    </p:nvGrpSpPr>
                    <p:grpSpPr>
                      <a:xfrm>
                        <a:off x="3083760" y="2892240"/>
                        <a:ext cx="259920" cy="181440"/>
                        <a:chOff x="3083760" y="2892240"/>
                        <a:chExt cx="259920" cy="181440"/>
                      </a:xfrm>
                    </p:grpSpPr>
                    <p:grpSp>
                      <p:nvGrpSpPr>
                        <p:cNvPr id="718" name="Group 363"/>
                        <p:cNvGrpSpPr/>
                        <p:nvPr/>
                      </p:nvGrpSpPr>
                      <p:grpSpPr>
                        <a:xfrm>
                          <a:off x="3253680" y="2892240"/>
                          <a:ext cx="90000" cy="137880"/>
                          <a:chOff x="3253680" y="2892240"/>
                          <a:chExt cx="90000" cy="137880"/>
                        </a:xfrm>
                      </p:grpSpPr>
                      <p:sp>
                        <p:nvSpPr>
                          <p:cNvPr id="719" name="Freeform 364"/>
                          <p:cNvSpPr/>
                          <p:nvPr/>
                        </p:nvSpPr>
                        <p:spPr>
                          <a:xfrm flipH="1" rot="76200">
                            <a:off x="3254760" y="28929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0" name="Freeform 365"/>
                          <p:cNvSpPr/>
                          <p:nvPr/>
                        </p:nvSpPr>
                        <p:spPr>
                          <a:xfrm flipH="1" rot="76200">
                            <a:off x="3258360" y="28940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21" name="Group 366"/>
                        <p:cNvGrpSpPr/>
                        <p:nvPr/>
                      </p:nvGrpSpPr>
                      <p:grpSpPr>
                        <a:xfrm>
                          <a:off x="3188160" y="2905920"/>
                          <a:ext cx="100800" cy="144720"/>
                          <a:chOff x="3188160" y="2905920"/>
                          <a:chExt cx="100800" cy="144720"/>
                        </a:xfrm>
                      </p:grpSpPr>
                      <p:sp>
                        <p:nvSpPr>
                          <p:cNvPr id="722" name="Freeform 367"/>
                          <p:cNvSpPr/>
                          <p:nvPr/>
                        </p:nvSpPr>
                        <p:spPr>
                          <a:xfrm flipH="1" rot="21225600">
                            <a:off x="3194280" y="29102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3" name="Freeform 368"/>
                          <p:cNvSpPr/>
                          <p:nvPr/>
                        </p:nvSpPr>
                        <p:spPr>
                          <a:xfrm flipH="1" rot="21225600">
                            <a:off x="3199680" y="29131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24" name="Group 369"/>
                        <p:cNvGrpSpPr/>
                        <p:nvPr/>
                      </p:nvGrpSpPr>
                      <p:grpSpPr>
                        <a:xfrm>
                          <a:off x="3083760" y="2914560"/>
                          <a:ext cx="132840" cy="159120"/>
                          <a:chOff x="3083760" y="2914560"/>
                          <a:chExt cx="132840" cy="159120"/>
                        </a:xfrm>
                      </p:grpSpPr>
                      <p:sp>
                        <p:nvSpPr>
                          <p:cNvPr id="725" name="Freeform 370"/>
                          <p:cNvSpPr/>
                          <p:nvPr/>
                        </p:nvSpPr>
                        <p:spPr>
                          <a:xfrm flipH="1" rot="20119200">
                            <a:off x="3105720" y="29268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26" name="Freeform 371"/>
                          <p:cNvSpPr/>
                          <p:nvPr/>
                        </p:nvSpPr>
                        <p:spPr>
                          <a:xfrm flipH="1" rot="20119200">
                            <a:off x="3112200" y="2932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27" name="Group 372"/>
                      <p:cNvGrpSpPr/>
                      <p:nvPr/>
                    </p:nvGrpSpPr>
                    <p:grpSpPr>
                      <a:xfrm>
                        <a:off x="3349800" y="2871720"/>
                        <a:ext cx="265680" cy="211320"/>
                        <a:chOff x="3349800" y="2871720"/>
                        <a:chExt cx="265680" cy="211320"/>
                      </a:xfrm>
                    </p:grpSpPr>
                    <p:grpSp>
                      <p:nvGrpSpPr>
                        <p:cNvPr id="728" name="Group 373"/>
                        <p:cNvGrpSpPr/>
                        <p:nvPr/>
                      </p:nvGrpSpPr>
                      <p:grpSpPr>
                        <a:xfrm>
                          <a:off x="3349800" y="2871720"/>
                          <a:ext cx="105480" cy="147240"/>
                          <a:chOff x="3349800" y="2871720"/>
                          <a:chExt cx="105480" cy="147240"/>
                        </a:xfrm>
                      </p:grpSpPr>
                      <p:sp>
                        <p:nvSpPr>
                          <p:cNvPr id="729" name="Freeform 374"/>
                          <p:cNvSpPr/>
                          <p:nvPr/>
                        </p:nvSpPr>
                        <p:spPr>
                          <a:xfrm rot="521400">
                            <a:off x="3358440" y="28774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0" name="Freeform 375"/>
                          <p:cNvSpPr/>
                          <p:nvPr/>
                        </p:nvSpPr>
                        <p:spPr>
                          <a:xfrm rot="521400">
                            <a:off x="3384360" y="2880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1" name="Group 376"/>
                        <p:cNvGrpSpPr/>
                        <p:nvPr/>
                      </p:nvGrpSpPr>
                      <p:grpSpPr>
                        <a:xfrm>
                          <a:off x="3398400" y="2894760"/>
                          <a:ext cx="119520" cy="154800"/>
                          <a:chOff x="3398400" y="2894760"/>
                          <a:chExt cx="119520" cy="154800"/>
                        </a:xfrm>
                      </p:grpSpPr>
                      <p:sp>
                        <p:nvSpPr>
                          <p:cNvPr id="732" name="Freeform 377"/>
                          <p:cNvSpPr/>
                          <p:nvPr/>
                        </p:nvSpPr>
                        <p:spPr>
                          <a:xfrm rot="972000">
                            <a:off x="3414240" y="29041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3" name="Freeform 378"/>
                          <p:cNvSpPr/>
                          <p:nvPr/>
                        </p:nvSpPr>
                        <p:spPr>
                          <a:xfrm rot="972000">
                            <a:off x="3439440" y="29091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4" name="Group 379"/>
                        <p:cNvGrpSpPr/>
                        <p:nvPr/>
                      </p:nvGrpSpPr>
                      <p:grpSpPr>
                        <a:xfrm>
                          <a:off x="3471120" y="2922480"/>
                          <a:ext cx="144360" cy="160560"/>
                          <a:chOff x="3471120" y="2922480"/>
                          <a:chExt cx="144360" cy="160560"/>
                        </a:xfrm>
                      </p:grpSpPr>
                      <p:sp>
                        <p:nvSpPr>
                          <p:cNvPr id="735" name="Freeform 380"/>
                          <p:cNvSpPr/>
                          <p:nvPr/>
                        </p:nvSpPr>
                        <p:spPr>
                          <a:xfrm rot="2078400">
                            <a:off x="3499200" y="29358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36" name="Freeform 381"/>
                          <p:cNvSpPr/>
                          <p:nvPr/>
                        </p:nvSpPr>
                        <p:spPr>
                          <a:xfrm rot="2078400">
                            <a:off x="3521520" y="2943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37" name="Group 382"/>
                    <p:cNvGrpSpPr/>
                    <p:nvPr/>
                  </p:nvGrpSpPr>
                  <p:grpSpPr>
                    <a:xfrm>
                      <a:off x="2275560" y="2464560"/>
                      <a:ext cx="495360" cy="299880"/>
                      <a:chOff x="2275560" y="2464560"/>
                      <a:chExt cx="495360" cy="299880"/>
                    </a:xfrm>
                  </p:grpSpPr>
                  <p:grpSp>
                    <p:nvGrpSpPr>
                      <p:cNvPr id="738" name="Group 383"/>
                      <p:cNvGrpSpPr/>
                      <p:nvPr/>
                    </p:nvGrpSpPr>
                    <p:grpSpPr>
                      <a:xfrm>
                        <a:off x="2275560" y="2519280"/>
                        <a:ext cx="263520" cy="245160"/>
                        <a:chOff x="2275560" y="2519280"/>
                        <a:chExt cx="263520" cy="245160"/>
                      </a:xfrm>
                    </p:grpSpPr>
                    <p:grpSp>
                      <p:nvGrpSpPr>
                        <p:cNvPr id="739" name="Group 384"/>
                        <p:cNvGrpSpPr/>
                        <p:nvPr/>
                      </p:nvGrpSpPr>
                      <p:grpSpPr>
                        <a:xfrm>
                          <a:off x="2409840" y="2519280"/>
                          <a:ext cx="129240" cy="158400"/>
                          <a:chOff x="2409840" y="2519280"/>
                          <a:chExt cx="129240" cy="158400"/>
                        </a:xfrm>
                      </p:grpSpPr>
                      <p:sp>
                        <p:nvSpPr>
                          <p:cNvPr id="740" name="Freeform 385"/>
                          <p:cNvSpPr/>
                          <p:nvPr/>
                        </p:nvSpPr>
                        <p:spPr>
                          <a:xfrm flipH="1" rot="20247600">
                            <a:off x="2430000" y="25308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1" name="Freeform 386"/>
                          <p:cNvSpPr/>
                          <p:nvPr/>
                        </p:nvSpPr>
                        <p:spPr>
                          <a:xfrm flipH="1" rot="20247600">
                            <a:off x="2436840" y="253656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2" name="Group 387"/>
                        <p:cNvGrpSpPr/>
                        <p:nvPr/>
                      </p:nvGrpSpPr>
                      <p:grpSpPr>
                        <a:xfrm>
                          <a:off x="2356920" y="2557800"/>
                          <a:ext cx="139680" cy="159840"/>
                          <a:chOff x="2356920" y="2557800"/>
                          <a:chExt cx="139680" cy="159840"/>
                        </a:xfrm>
                      </p:grpSpPr>
                      <p:sp>
                        <p:nvSpPr>
                          <p:cNvPr id="743" name="Freeform 388"/>
                          <p:cNvSpPr/>
                          <p:nvPr/>
                        </p:nvSpPr>
                        <p:spPr>
                          <a:xfrm flipH="1" rot="19797000">
                            <a:off x="2382840" y="257076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4" name="Freeform 389"/>
                          <p:cNvSpPr/>
                          <p:nvPr/>
                        </p:nvSpPr>
                        <p:spPr>
                          <a:xfrm flipH="1" rot="19797000">
                            <a:off x="2390760" y="257760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5" name="Group 390"/>
                        <p:cNvGrpSpPr/>
                        <p:nvPr/>
                      </p:nvGrpSpPr>
                      <p:grpSpPr>
                        <a:xfrm>
                          <a:off x="2275560" y="2610720"/>
                          <a:ext cx="153360" cy="153720"/>
                          <a:chOff x="2275560" y="2610720"/>
                          <a:chExt cx="153360" cy="153720"/>
                        </a:xfrm>
                      </p:grpSpPr>
                      <p:sp>
                        <p:nvSpPr>
                          <p:cNvPr id="746" name="Freeform 391"/>
                          <p:cNvSpPr/>
                          <p:nvPr/>
                        </p:nvSpPr>
                        <p:spPr>
                          <a:xfrm flipH="1" rot="18690600">
                            <a:off x="2308320" y="2621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7" name="Freeform 392"/>
                          <p:cNvSpPr/>
                          <p:nvPr/>
                        </p:nvSpPr>
                        <p:spPr>
                          <a:xfrm flipH="1" rot="18690600">
                            <a:off x="2319480" y="26305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48" name="Group 393"/>
                      <p:cNvGrpSpPr/>
                      <p:nvPr/>
                    </p:nvGrpSpPr>
                    <p:grpSpPr>
                      <a:xfrm>
                        <a:off x="2504520" y="2464560"/>
                        <a:ext cx="266400" cy="150840"/>
                        <a:chOff x="2504520" y="2464560"/>
                        <a:chExt cx="266400" cy="150840"/>
                      </a:xfrm>
                    </p:grpSpPr>
                    <p:grpSp>
                      <p:nvGrpSpPr>
                        <p:cNvPr id="749" name="Group 394"/>
                        <p:cNvGrpSpPr/>
                        <p:nvPr/>
                      </p:nvGrpSpPr>
                      <p:grpSpPr>
                        <a:xfrm>
                          <a:off x="2504520" y="2466000"/>
                          <a:ext cx="117720" cy="147240"/>
                          <a:chOff x="2504520" y="2466000"/>
                          <a:chExt cx="117720" cy="147240"/>
                        </a:xfrm>
                      </p:grpSpPr>
                      <p:sp>
                        <p:nvSpPr>
                          <p:cNvPr id="750" name="Freeform 395"/>
                          <p:cNvSpPr/>
                          <p:nvPr/>
                        </p:nvSpPr>
                        <p:spPr>
                          <a:xfrm rot="20692800">
                            <a:off x="2519280" y="2475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1" name="Freeform 396"/>
                          <p:cNvSpPr/>
                          <p:nvPr/>
                        </p:nvSpPr>
                        <p:spPr>
                          <a:xfrm rot="20692800">
                            <a:off x="2547360" y="2473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2" name="Group 397"/>
                        <p:cNvGrpSpPr/>
                        <p:nvPr/>
                      </p:nvGrpSpPr>
                      <p:grpSpPr>
                        <a:xfrm>
                          <a:off x="2573640" y="2472120"/>
                          <a:ext cx="103680" cy="143280"/>
                          <a:chOff x="2573640" y="2472120"/>
                          <a:chExt cx="103680" cy="143280"/>
                        </a:xfrm>
                      </p:grpSpPr>
                      <p:sp>
                        <p:nvSpPr>
                          <p:cNvPr id="753" name="Freeform 398"/>
                          <p:cNvSpPr/>
                          <p:nvPr/>
                        </p:nvSpPr>
                        <p:spPr>
                          <a:xfrm rot="21143400">
                            <a:off x="2581560" y="24771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4" name="Freeform 399"/>
                          <p:cNvSpPr/>
                          <p:nvPr/>
                        </p:nvSpPr>
                        <p:spPr>
                          <a:xfrm rot="21143400">
                            <a:off x="2609280" y="24768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5" name="Group 400"/>
                        <p:cNvGrpSpPr/>
                        <p:nvPr/>
                      </p:nvGrpSpPr>
                      <p:grpSpPr>
                        <a:xfrm>
                          <a:off x="2660760" y="2464560"/>
                          <a:ext cx="110160" cy="150480"/>
                          <a:chOff x="2660760" y="2464560"/>
                          <a:chExt cx="110160" cy="150480"/>
                        </a:xfrm>
                      </p:grpSpPr>
                      <p:sp>
                        <p:nvSpPr>
                          <p:cNvPr id="756" name="Freeform 401"/>
                          <p:cNvSpPr/>
                          <p:nvPr/>
                        </p:nvSpPr>
                        <p:spPr>
                          <a:xfrm rot="649800">
                            <a:off x="2671920" y="24714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57" name="Freeform 402"/>
                          <p:cNvSpPr/>
                          <p:nvPr/>
                        </p:nvSpPr>
                        <p:spPr>
                          <a:xfrm rot="649800">
                            <a:off x="2697840" y="2475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58" name="Group 403"/>
                    <p:cNvGrpSpPr/>
                    <p:nvPr/>
                  </p:nvGrpSpPr>
                  <p:grpSpPr>
                    <a:xfrm>
                      <a:off x="2392920" y="2579400"/>
                      <a:ext cx="495360" cy="299880"/>
                      <a:chOff x="2392920" y="2579400"/>
                      <a:chExt cx="495360" cy="299880"/>
                    </a:xfrm>
                  </p:grpSpPr>
                  <p:grpSp>
                    <p:nvGrpSpPr>
                      <p:cNvPr id="759" name="Group 404"/>
                      <p:cNvGrpSpPr/>
                      <p:nvPr/>
                    </p:nvGrpSpPr>
                    <p:grpSpPr>
                      <a:xfrm>
                        <a:off x="2392920" y="2634120"/>
                        <a:ext cx="263520" cy="245160"/>
                        <a:chOff x="2392920" y="2634120"/>
                        <a:chExt cx="263520" cy="245160"/>
                      </a:xfrm>
                    </p:grpSpPr>
                    <p:grpSp>
                      <p:nvGrpSpPr>
                        <p:cNvPr id="760" name="Group 405"/>
                        <p:cNvGrpSpPr/>
                        <p:nvPr/>
                      </p:nvGrpSpPr>
                      <p:grpSpPr>
                        <a:xfrm>
                          <a:off x="2527200" y="2634120"/>
                          <a:ext cx="129240" cy="158400"/>
                          <a:chOff x="2527200" y="2634120"/>
                          <a:chExt cx="129240" cy="158400"/>
                        </a:xfrm>
                      </p:grpSpPr>
                      <p:sp>
                        <p:nvSpPr>
                          <p:cNvPr id="761" name="Freeform 406"/>
                          <p:cNvSpPr/>
                          <p:nvPr/>
                        </p:nvSpPr>
                        <p:spPr>
                          <a:xfrm flipH="1" rot="20247600">
                            <a:off x="2547360" y="26456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2" name="Freeform 407"/>
                          <p:cNvSpPr/>
                          <p:nvPr/>
                        </p:nvSpPr>
                        <p:spPr>
                          <a:xfrm flipH="1" rot="20247600">
                            <a:off x="2554200" y="26514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3" name="Group 408"/>
                        <p:cNvGrpSpPr/>
                        <p:nvPr/>
                      </p:nvGrpSpPr>
                      <p:grpSpPr>
                        <a:xfrm>
                          <a:off x="2474280" y="2672640"/>
                          <a:ext cx="139680" cy="159840"/>
                          <a:chOff x="2474280" y="2672640"/>
                          <a:chExt cx="139680" cy="159840"/>
                        </a:xfrm>
                      </p:grpSpPr>
                      <p:sp>
                        <p:nvSpPr>
                          <p:cNvPr id="764" name="Freeform 409"/>
                          <p:cNvSpPr/>
                          <p:nvPr/>
                        </p:nvSpPr>
                        <p:spPr>
                          <a:xfrm flipH="1" rot="19797000">
                            <a:off x="2500200" y="26856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5" name="Freeform 410"/>
                          <p:cNvSpPr/>
                          <p:nvPr/>
                        </p:nvSpPr>
                        <p:spPr>
                          <a:xfrm flipH="1" rot="19797000">
                            <a:off x="2508120" y="26924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6" name="Group 411"/>
                        <p:cNvGrpSpPr/>
                        <p:nvPr/>
                      </p:nvGrpSpPr>
                      <p:grpSpPr>
                        <a:xfrm>
                          <a:off x="2392920" y="2725560"/>
                          <a:ext cx="153360" cy="153720"/>
                          <a:chOff x="2392920" y="2725560"/>
                          <a:chExt cx="153360" cy="153720"/>
                        </a:xfrm>
                      </p:grpSpPr>
                      <p:sp>
                        <p:nvSpPr>
                          <p:cNvPr id="767" name="Freeform 412"/>
                          <p:cNvSpPr/>
                          <p:nvPr/>
                        </p:nvSpPr>
                        <p:spPr>
                          <a:xfrm flipH="1" rot="18690600">
                            <a:off x="2425680" y="2736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68" name="Freeform 413"/>
                          <p:cNvSpPr/>
                          <p:nvPr/>
                        </p:nvSpPr>
                        <p:spPr>
                          <a:xfrm flipH="1" rot="18690600">
                            <a:off x="2436840" y="2745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69" name="Group 414"/>
                      <p:cNvGrpSpPr/>
                      <p:nvPr/>
                    </p:nvGrpSpPr>
                    <p:grpSpPr>
                      <a:xfrm>
                        <a:off x="2621880" y="2579400"/>
                        <a:ext cx="266400" cy="150840"/>
                        <a:chOff x="2621880" y="2579400"/>
                        <a:chExt cx="266400" cy="150840"/>
                      </a:xfrm>
                    </p:grpSpPr>
                    <p:grpSp>
                      <p:nvGrpSpPr>
                        <p:cNvPr id="770" name="Group 415"/>
                        <p:cNvGrpSpPr/>
                        <p:nvPr/>
                      </p:nvGrpSpPr>
                      <p:grpSpPr>
                        <a:xfrm>
                          <a:off x="2621880" y="2580840"/>
                          <a:ext cx="117720" cy="147240"/>
                          <a:chOff x="2621880" y="2580840"/>
                          <a:chExt cx="117720" cy="147240"/>
                        </a:xfrm>
                      </p:grpSpPr>
                      <p:sp>
                        <p:nvSpPr>
                          <p:cNvPr id="771" name="Freeform 416"/>
                          <p:cNvSpPr/>
                          <p:nvPr/>
                        </p:nvSpPr>
                        <p:spPr>
                          <a:xfrm rot="20692800">
                            <a:off x="2636640" y="2589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2" name="Freeform 417"/>
                          <p:cNvSpPr/>
                          <p:nvPr/>
                        </p:nvSpPr>
                        <p:spPr>
                          <a:xfrm rot="20692800">
                            <a:off x="2664720" y="25880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73" name="Group 418"/>
                        <p:cNvGrpSpPr/>
                        <p:nvPr/>
                      </p:nvGrpSpPr>
                      <p:grpSpPr>
                        <a:xfrm>
                          <a:off x="2691000" y="2586960"/>
                          <a:ext cx="103680" cy="143280"/>
                          <a:chOff x="2691000" y="2586960"/>
                          <a:chExt cx="103680" cy="143280"/>
                        </a:xfrm>
                      </p:grpSpPr>
                      <p:sp>
                        <p:nvSpPr>
                          <p:cNvPr id="774" name="Freeform 419"/>
                          <p:cNvSpPr/>
                          <p:nvPr/>
                        </p:nvSpPr>
                        <p:spPr>
                          <a:xfrm rot="21143400">
                            <a:off x="2698920" y="2592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5" name="Freeform 420"/>
                          <p:cNvSpPr/>
                          <p:nvPr/>
                        </p:nvSpPr>
                        <p:spPr>
                          <a:xfrm rot="21143400">
                            <a:off x="2726640" y="2591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76" name="Group 421"/>
                        <p:cNvGrpSpPr/>
                        <p:nvPr/>
                      </p:nvGrpSpPr>
                      <p:grpSpPr>
                        <a:xfrm>
                          <a:off x="2778120" y="2579400"/>
                          <a:ext cx="110160" cy="150480"/>
                          <a:chOff x="2778120" y="2579400"/>
                          <a:chExt cx="110160" cy="150480"/>
                        </a:xfrm>
                      </p:grpSpPr>
                      <p:sp>
                        <p:nvSpPr>
                          <p:cNvPr id="777" name="Freeform 422"/>
                          <p:cNvSpPr/>
                          <p:nvPr/>
                        </p:nvSpPr>
                        <p:spPr>
                          <a:xfrm rot="649800">
                            <a:off x="2789280" y="25862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78" name="Freeform 423"/>
                          <p:cNvSpPr/>
                          <p:nvPr/>
                        </p:nvSpPr>
                        <p:spPr>
                          <a:xfrm rot="649800">
                            <a:off x="2815200" y="2590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79" name="Group 424"/>
                    <p:cNvGrpSpPr/>
                    <p:nvPr/>
                  </p:nvGrpSpPr>
                  <p:grpSpPr>
                    <a:xfrm>
                      <a:off x="2509920" y="2694600"/>
                      <a:ext cx="495360" cy="299880"/>
                      <a:chOff x="2509920" y="2694600"/>
                      <a:chExt cx="495360" cy="299880"/>
                    </a:xfrm>
                  </p:grpSpPr>
                  <p:grpSp>
                    <p:nvGrpSpPr>
                      <p:cNvPr id="780" name="Group 425"/>
                      <p:cNvGrpSpPr/>
                      <p:nvPr/>
                    </p:nvGrpSpPr>
                    <p:grpSpPr>
                      <a:xfrm>
                        <a:off x="2509920" y="2749320"/>
                        <a:ext cx="263520" cy="245160"/>
                        <a:chOff x="2509920" y="2749320"/>
                        <a:chExt cx="263520" cy="245160"/>
                      </a:xfrm>
                    </p:grpSpPr>
                    <p:grpSp>
                      <p:nvGrpSpPr>
                        <p:cNvPr id="781" name="Group 426"/>
                        <p:cNvGrpSpPr/>
                        <p:nvPr/>
                      </p:nvGrpSpPr>
                      <p:grpSpPr>
                        <a:xfrm>
                          <a:off x="2644200" y="2749320"/>
                          <a:ext cx="129240" cy="158400"/>
                          <a:chOff x="2644200" y="2749320"/>
                          <a:chExt cx="129240" cy="158400"/>
                        </a:xfrm>
                      </p:grpSpPr>
                      <p:sp>
                        <p:nvSpPr>
                          <p:cNvPr id="782" name="Freeform 427"/>
                          <p:cNvSpPr/>
                          <p:nvPr/>
                        </p:nvSpPr>
                        <p:spPr>
                          <a:xfrm flipH="1" rot="20247600">
                            <a:off x="2664360" y="27608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3" name="Freeform 428"/>
                          <p:cNvSpPr/>
                          <p:nvPr/>
                        </p:nvSpPr>
                        <p:spPr>
                          <a:xfrm flipH="1" rot="20247600">
                            <a:off x="2671200" y="27666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84" name="Group 429"/>
                        <p:cNvGrpSpPr/>
                        <p:nvPr/>
                      </p:nvGrpSpPr>
                      <p:grpSpPr>
                        <a:xfrm>
                          <a:off x="2591280" y="2787840"/>
                          <a:ext cx="139680" cy="159840"/>
                          <a:chOff x="2591280" y="2787840"/>
                          <a:chExt cx="139680" cy="159840"/>
                        </a:xfrm>
                      </p:grpSpPr>
                      <p:sp>
                        <p:nvSpPr>
                          <p:cNvPr id="785" name="Freeform 430"/>
                          <p:cNvSpPr/>
                          <p:nvPr/>
                        </p:nvSpPr>
                        <p:spPr>
                          <a:xfrm flipH="1" rot="19797000">
                            <a:off x="2617200" y="28008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6" name="Freeform 431"/>
                          <p:cNvSpPr/>
                          <p:nvPr/>
                        </p:nvSpPr>
                        <p:spPr>
                          <a:xfrm flipH="1" rot="19797000">
                            <a:off x="2625120" y="28076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87" name="Group 432"/>
                        <p:cNvGrpSpPr/>
                        <p:nvPr/>
                      </p:nvGrpSpPr>
                      <p:grpSpPr>
                        <a:xfrm>
                          <a:off x="2509920" y="2840760"/>
                          <a:ext cx="153360" cy="153720"/>
                          <a:chOff x="2509920" y="2840760"/>
                          <a:chExt cx="153360" cy="153720"/>
                        </a:xfrm>
                      </p:grpSpPr>
                      <p:sp>
                        <p:nvSpPr>
                          <p:cNvPr id="788" name="Freeform 433"/>
                          <p:cNvSpPr/>
                          <p:nvPr/>
                        </p:nvSpPr>
                        <p:spPr>
                          <a:xfrm flipH="1" rot="18690600">
                            <a:off x="2542680" y="2851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89" name="Freeform 434"/>
                          <p:cNvSpPr/>
                          <p:nvPr/>
                        </p:nvSpPr>
                        <p:spPr>
                          <a:xfrm flipH="1" rot="18690600">
                            <a:off x="2553840" y="2860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90" name="Group 435"/>
                      <p:cNvGrpSpPr/>
                      <p:nvPr/>
                    </p:nvGrpSpPr>
                    <p:grpSpPr>
                      <a:xfrm>
                        <a:off x="2738880" y="2694600"/>
                        <a:ext cx="266400" cy="150840"/>
                        <a:chOff x="2738880" y="2694600"/>
                        <a:chExt cx="266400" cy="150840"/>
                      </a:xfrm>
                    </p:grpSpPr>
                    <p:grpSp>
                      <p:nvGrpSpPr>
                        <p:cNvPr id="791" name="Group 436"/>
                        <p:cNvGrpSpPr/>
                        <p:nvPr/>
                      </p:nvGrpSpPr>
                      <p:grpSpPr>
                        <a:xfrm>
                          <a:off x="2738880" y="2696040"/>
                          <a:ext cx="117720" cy="147240"/>
                          <a:chOff x="2738880" y="2696040"/>
                          <a:chExt cx="117720" cy="147240"/>
                        </a:xfrm>
                      </p:grpSpPr>
                      <p:sp>
                        <p:nvSpPr>
                          <p:cNvPr id="792" name="Freeform 437"/>
                          <p:cNvSpPr/>
                          <p:nvPr/>
                        </p:nvSpPr>
                        <p:spPr>
                          <a:xfrm rot="20692800">
                            <a:off x="2753640" y="2705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3" name="Freeform 438"/>
                          <p:cNvSpPr/>
                          <p:nvPr/>
                        </p:nvSpPr>
                        <p:spPr>
                          <a:xfrm rot="20692800">
                            <a:off x="2781720" y="27032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94" name="Group 439"/>
                        <p:cNvGrpSpPr/>
                        <p:nvPr/>
                      </p:nvGrpSpPr>
                      <p:grpSpPr>
                        <a:xfrm>
                          <a:off x="2808000" y="2702160"/>
                          <a:ext cx="103680" cy="143280"/>
                          <a:chOff x="2808000" y="2702160"/>
                          <a:chExt cx="103680" cy="143280"/>
                        </a:xfrm>
                      </p:grpSpPr>
                      <p:sp>
                        <p:nvSpPr>
                          <p:cNvPr id="795" name="Freeform 440"/>
                          <p:cNvSpPr/>
                          <p:nvPr/>
                        </p:nvSpPr>
                        <p:spPr>
                          <a:xfrm rot="21143400">
                            <a:off x="2815920" y="27072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6" name="Freeform 441"/>
                          <p:cNvSpPr/>
                          <p:nvPr/>
                        </p:nvSpPr>
                        <p:spPr>
                          <a:xfrm rot="21143400">
                            <a:off x="2843640" y="27068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97" name="Group 442"/>
                        <p:cNvGrpSpPr/>
                        <p:nvPr/>
                      </p:nvGrpSpPr>
                      <p:grpSpPr>
                        <a:xfrm>
                          <a:off x="2895120" y="2694600"/>
                          <a:ext cx="110160" cy="150480"/>
                          <a:chOff x="2895120" y="2694600"/>
                          <a:chExt cx="110160" cy="150480"/>
                        </a:xfrm>
                      </p:grpSpPr>
                      <p:sp>
                        <p:nvSpPr>
                          <p:cNvPr id="798" name="Freeform 443"/>
                          <p:cNvSpPr/>
                          <p:nvPr/>
                        </p:nvSpPr>
                        <p:spPr>
                          <a:xfrm rot="649800">
                            <a:off x="2906280" y="2701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9" name="Freeform 444"/>
                          <p:cNvSpPr/>
                          <p:nvPr/>
                        </p:nvSpPr>
                        <p:spPr>
                          <a:xfrm rot="649800">
                            <a:off x="2932200" y="27057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00" name="Group 445"/>
                    <p:cNvGrpSpPr/>
                    <p:nvPr/>
                  </p:nvGrpSpPr>
                  <p:grpSpPr>
                    <a:xfrm>
                      <a:off x="2626920" y="2809440"/>
                      <a:ext cx="495360" cy="299880"/>
                      <a:chOff x="2626920" y="2809440"/>
                      <a:chExt cx="495360" cy="299880"/>
                    </a:xfrm>
                  </p:grpSpPr>
                  <p:grpSp>
                    <p:nvGrpSpPr>
                      <p:cNvPr id="801" name="Group 446"/>
                      <p:cNvGrpSpPr/>
                      <p:nvPr/>
                    </p:nvGrpSpPr>
                    <p:grpSpPr>
                      <a:xfrm>
                        <a:off x="2626920" y="2864160"/>
                        <a:ext cx="263520" cy="245160"/>
                        <a:chOff x="2626920" y="2864160"/>
                        <a:chExt cx="263520" cy="245160"/>
                      </a:xfrm>
                    </p:grpSpPr>
                    <p:grpSp>
                      <p:nvGrpSpPr>
                        <p:cNvPr id="802" name="Group 447"/>
                        <p:cNvGrpSpPr/>
                        <p:nvPr/>
                      </p:nvGrpSpPr>
                      <p:grpSpPr>
                        <a:xfrm>
                          <a:off x="2761200" y="2864160"/>
                          <a:ext cx="129240" cy="158400"/>
                          <a:chOff x="2761200" y="2864160"/>
                          <a:chExt cx="129240" cy="158400"/>
                        </a:xfrm>
                      </p:grpSpPr>
                      <p:sp>
                        <p:nvSpPr>
                          <p:cNvPr id="803" name="Freeform 448"/>
                          <p:cNvSpPr/>
                          <p:nvPr/>
                        </p:nvSpPr>
                        <p:spPr>
                          <a:xfrm flipH="1" rot="20247600">
                            <a:off x="2781360" y="28756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4" name="Freeform 449"/>
                          <p:cNvSpPr/>
                          <p:nvPr/>
                        </p:nvSpPr>
                        <p:spPr>
                          <a:xfrm flipH="1" rot="20247600">
                            <a:off x="2788200" y="28814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5" name="Group 450"/>
                        <p:cNvGrpSpPr/>
                        <p:nvPr/>
                      </p:nvGrpSpPr>
                      <p:grpSpPr>
                        <a:xfrm>
                          <a:off x="2708280" y="2902680"/>
                          <a:ext cx="139680" cy="159840"/>
                          <a:chOff x="2708280" y="2902680"/>
                          <a:chExt cx="139680" cy="159840"/>
                        </a:xfrm>
                      </p:grpSpPr>
                      <p:sp>
                        <p:nvSpPr>
                          <p:cNvPr id="806" name="Freeform 451"/>
                          <p:cNvSpPr/>
                          <p:nvPr/>
                        </p:nvSpPr>
                        <p:spPr>
                          <a:xfrm flipH="1" rot="19797000">
                            <a:off x="2734200" y="29156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7" name="Freeform 452"/>
                          <p:cNvSpPr/>
                          <p:nvPr/>
                        </p:nvSpPr>
                        <p:spPr>
                          <a:xfrm flipH="1" rot="19797000">
                            <a:off x="2742120" y="29224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08" name="Group 453"/>
                        <p:cNvGrpSpPr/>
                        <p:nvPr/>
                      </p:nvGrpSpPr>
                      <p:grpSpPr>
                        <a:xfrm>
                          <a:off x="2626920" y="2955600"/>
                          <a:ext cx="153360" cy="153720"/>
                          <a:chOff x="2626920" y="2955600"/>
                          <a:chExt cx="153360" cy="153720"/>
                        </a:xfrm>
                      </p:grpSpPr>
                      <p:sp>
                        <p:nvSpPr>
                          <p:cNvPr id="809" name="Freeform 454"/>
                          <p:cNvSpPr/>
                          <p:nvPr/>
                        </p:nvSpPr>
                        <p:spPr>
                          <a:xfrm flipH="1" rot="18690600">
                            <a:off x="2659680" y="29667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0" name="Freeform 455"/>
                          <p:cNvSpPr/>
                          <p:nvPr/>
                        </p:nvSpPr>
                        <p:spPr>
                          <a:xfrm flipH="1" rot="18690600">
                            <a:off x="2670840" y="2975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11" name="Group 456"/>
                      <p:cNvGrpSpPr/>
                      <p:nvPr/>
                    </p:nvGrpSpPr>
                    <p:grpSpPr>
                      <a:xfrm>
                        <a:off x="2855880" y="2809440"/>
                        <a:ext cx="266400" cy="150840"/>
                        <a:chOff x="2855880" y="2809440"/>
                        <a:chExt cx="266400" cy="150840"/>
                      </a:xfrm>
                    </p:grpSpPr>
                    <p:grpSp>
                      <p:nvGrpSpPr>
                        <p:cNvPr id="812" name="Group 457"/>
                        <p:cNvGrpSpPr/>
                        <p:nvPr/>
                      </p:nvGrpSpPr>
                      <p:grpSpPr>
                        <a:xfrm>
                          <a:off x="2855880" y="2810880"/>
                          <a:ext cx="117720" cy="147240"/>
                          <a:chOff x="2855880" y="2810880"/>
                          <a:chExt cx="117720" cy="147240"/>
                        </a:xfrm>
                      </p:grpSpPr>
                      <p:sp>
                        <p:nvSpPr>
                          <p:cNvPr id="813" name="Freeform 458"/>
                          <p:cNvSpPr/>
                          <p:nvPr/>
                        </p:nvSpPr>
                        <p:spPr>
                          <a:xfrm rot="20692800">
                            <a:off x="2870640" y="2819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4" name="Freeform 459"/>
                          <p:cNvSpPr/>
                          <p:nvPr/>
                        </p:nvSpPr>
                        <p:spPr>
                          <a:xfrm rot="20692800">
                            <a:off x="2898720" y="2818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5" name="Group 460"/>
                        <p:cNvGrpSpPr/>
                        <p:nvPr/>
                      </p:nvGrpSpPr>
                      <p:grpSpPr>
                        <a:xfrm>
                          <a:off x="2925000" y="2817000"/>
                          <a:ext cx="103680" cy="143280"/>
                          <a:chOff x="2925000" y="2817000"/>
                          <a:chExt cx="103680" cy="143280"/>
                        </a:xfrm>
                      </p:grpSpPr>
                      <p:sp>
                        <p:nvSpPr>
                          <p:cNvPr id="816" name="Freeform 461"/>
                          <p:cNvSpPr/>
                          <p:nvPr/>
                        </p:nvSpPr>
                        <p:spPr>
                          <a:xfrm rot="21143400">
                            <a:off x="2932920" y="2822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7" name="Freeform 462"/>
                          <p:cNvSpPr/>
                          <p:nvPr/>
                        </p:nvSpPr>
                        <p:spPr>
                          <a:xfrm rot="21143400">
                            <a:off x="2960640" y="2821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18" name="Group 463"/>
                        <p:cNvGrpSpPr/>
                        <p:nvPr/>
                      </p:nvGrpSpPr>
                      <p:grpSpPr>
                        <a:xfrm>
                          <a:off x="3012120" y="2809440"/>
                          <a:ext cx="110160" cy="150480"/>
                          <a:chOff x="3012120" y="2809440"/>
                          <a:chExt cx="110160" cy="150480"/>
                        </a:xfrm>
                      </p:grpSpPr>
                      <p:sp>
                        <p:nvSpPr>
                          <p:cNvPr id="819" name="Freeform 464"/>
                          <p:cNvSpPr/>
                          <p:nvPr/>
                        </p:nvSpPr>
                        <p:spPr>
                          <a:xfrm rot="649800">
                            <a:off x="3023280" y="2816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0" name="Freeform 465"/>
                          <p:cNvSpPr/>
                          <p:nvPr/>
                        </p:nvSpPr>
                        <p:spPr>
                          <a:xfrm rot="649800">
                            <a:off x="3049200" y="2820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21" name="Group 466"/>
                    <p:cNvGrpSpPr/>
                    <p:nvPr/>
                  </p:nvGrpSpPr>
                  <p:grpSpPr>
                    <a:xfrm>
                      <a:off x="1895400" y="2667600"/>
                      <a:ext cx="411840" cy="408240"/>
                      <a:chOff x="1895400" y="2667600"/>
                      <a:chExt cx="411840" cy="408240"/>
                    </a:xfrm>
                  </p:grpSpPr>
                  <p:grpSp>
                    <p:nvGrpSpPr>
                      <p:cNvPr id="822" name="Group 467"/>
                      <p:cNvGrpSpPr/>
                      <p:nvPr/>
                    </p:nvGrpSpPr>
                    <p:grpSpPr>
                      <a:xfrm>
                        <a:off x="1895400" y="2807280"/>
                        <a:ext cx="230400" cy="268560"/>
                        <a:chOff x="1895400" y="2807280"/>
                        <a:chExt cx="230400" cy="268560"/>
                      </a:xfrm>
                    </p:grpSpPr>
                    <p:grpSp>
                      <p:nvGrpSpPr>
                        <p:cNvPr id="823" name="Group 468"/>
                        <p:cNvGrpSpPr/>
                        <p:nvPr/>
                      </p:nvGrpSpPr>
                      <p:grpSpPr>
                        <a:xfrm>
                          <a:off x="1974600" y="2807280"/>
                          <a:ext cx="151200" cy="156240"/>
                          <a:chOff x="1974600" y="2807280"/>
                          <a:chExt cx="151200" cy="156240"/>
                        </a:xfrm>
                      </p:grpSpPr>
                      <p:sp>
                        <p:nvSpPr>
                          <p:cNvPr id="824" name="Freeform 469"/>
                          <p:cNvSpPr/>
                          <p:nvPr/>
                        </p:nvSpPr>
                        <p:spPr>
                          <a:xfrm flipH="1" rot="18943200">
                            <a:off x="2006640" y="28195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5" name="Freeform 470"/>
                          <p:cNvSpPr/>
                          <p:nvPr/>
                        </p:nvSpPr>
                        <p:spPr>
                          <a:xfrm flipH="1" rot="18943200">
                            <a:off x="2017080" y="28274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6" name="Group 471"/>
                        <p:cNvGrpSpPr/>
                        <p:nvPr/>
                      </p:nvGrpSpPr>
                      <p:grpSpPr>
                        <a:xfrm>
                          <a:off x="1943280" y="2864160"/>
                          <a:ext cx="154440" cy="149760"/>
                          <a:chOff x="1943280" y="2864160"/>
                          <a:chExt cx="154440" cy="149760"/>
                        </a:xfrm>
                      </p:grpSpPr>
                      <p:sp>
                        <p:nvSpPr>
                          <p:cNvPr id="827" name="Freeform 472"/>
                          <p:cNvSpPr/>
                          <p:nvPr/>
                        </p:nvSpPr>
                        <p:spPr>
                          <a:xfrm flipH="1" rot="18492600">
                            <a:off x="1976400" y="28738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28" name="Freeform 473"/>
                          <p:cNvSpPr/>
                          <p:nvPr/>
                        </p:nvSpPr>
                        <p:spPr>
                          <a:xfrm flipH="1" rot="18492600">
                            <a:off x="1989000" y="28828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9" name="Group 474"/>
                        <p:cNvGrpSpPr/>
                        <p:nvPr/>
                      </p:nvGrpSpPr>
                      <p:grpSpPr>
                        <a:xfrm>
                          <a:off x="1895400" y="2950200"/>
                          <a:ext cx="149400" cy="125640"/>
                          <a:chOff x="1895400" y="2950200"/>
                          <a:chExt cx="149400" cy="125640"/>
                        </a:xfrm>
                      </p:grpSpPr>
                      <p:sp>
                        <p:nvSpPr>
                          <p:cNvPr id="830" name="Freeform 475"/>
                          <p:cNvSpPr/>
                          <p:nvPr/>
                        </p:nvSpPr>
                        <p:spPr>
                          <a:xfrm flipH="1" rot="17386200">
                            <a:off x="1926000" y="29491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1" name="Freeform 476"/>
                          <p:cNvSpPr/>
                          <p:nvPr/>
                        </p:nvSpPr>
                        <p:spPr>
                          <a:xfrm flipH="1" rot="17386200">
                            <a:off x="1942560" y="2958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32" name="Group 477"/>
                      <p:cNvGrpSpPr/>
                      <p:nvPr/>
                    </p:nvGrpSpPr>
                    <p:grpSpPr>
                      <a:xfrm>
                        <a:off x="2038680" y="2667600"/>
                        <a:ext cx="268560" cy="207720"/>
                        <a:chOff x="2038680" y="2667600"/>
                        <a:chExt cx="268560" cy="207720"/>
                      </a:xfrm>
                    </p:grpSpPr>
                    <p:grpSp>
                      <p:nvGrpSpPr>
                        <p:cNvPr id="833" name="Group 478"/>
                        <p:cNvGrpSpPr/>
                        <p:nvPr/>
                      </p:nvGrpSpPr>
                      <p:grpSpPr>
                        <a:xfrm>
                          <a:off x="2038680" y="2720880"/>
                          <a:ext cx="148320" cy="154440"/>
                          <a:chOff x="2038680" y="2720880"/>
                          <a:chExt cx="148320" cy="154440"/>
                        </a:xfrm>
                      </p:grpSpPr>
                      <p:sp>
                        <p:nvSpPr>
                          <p:cNvPr id="834" name="Freeform 479"/>
                          <p:cNvSpPr/>
                          <p:nvPr/>
                        </p:nvSpPr>
                        <p:spPr>
                          <a:xfrm rot="19388400">
                            <a:off x="2067840" y="27342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5" name="Freeform 480"/>
                          <p:cNvSpPr/>
                          <p:nvPr/>
                        </p:nvSpPr>
                        <p:spPr>
                          <a:xfrm rot="19388400">
                            <a:off x="2095200" y="2727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6" name="Group 481"/>
                        <p:cNvGrpSpPr/>
                        <p:nvPr/>
                      </p:nvGrpSpPr>
                      <p:grpSpPr>
                        <a:xfrm>
                          <a:off x="2100960" y="2700360"/>
                          <a:ext cx="139680" cy="154080"/>
                          <a:chOff x="2100960" y="2700360"/>
                          <a:chExt cx="139680" cy="154080"/>
                        </a:xfrm>
                      </p:grpSpPr>
                      <p:sp>
                        <p:nvSpPr>
                          <p:cNvPr id="837" name="Freeform 482"/>
                          <p:cNvSpPr/>
                          <p:nvPr/>
                        </p:nvSpPr>
                        <p:spPr>
                          <a:xfrm rot="19839000">
                            <a:off x="2126520" y="27133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8" name="Freeform 483"/>
                          <p:cNvSpPr/>
                          <p:nvPr/>
                        </p:nvSpPr>
                        <p:spPr>
                          <a:xfrm rot="19839000">
                            <a:off x="2154240" y="2708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9" name="Group 484"/>
                        <p:cNvGrpSpPr/>
                        <p:nvPr/>
                      </p:nvGrpSpPr>
                      <p:grpSpPr>
                        <a:xfrm>
                          <a:off x="2197080" y="2667600"/>
                          <a:ext cx="110160" cy="145800"/>
                          <a:chOff x="2197080" y="2667600"/>
                          <a:chExt cx="110160" cy="145800"/>
                        </a:xfrm>
                      </p:grpSpPr>
                      <p:sp>
                        <p:nvSpPr>
                          <p:cNvPr id="840" name="Freeform 485"/>
                          <p:cNvSpPr/>
                          <p:nvPr/>
                        </p:nvSpPr>
                        <p:spPr>
                          <a:xfrm rot="20945400">
                            <a:off x="2208240" y="2674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1" name="Freeform 486"/>
                          <p:cNvSpPr/>
                          <p:nvPr/>
                        </p:nvSpPr>
                        <p:spPr>
                          <a:xfrm rot="20945400">
                            <a:off x="2236680" y="2674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42" name="Group 487"/>
                    <p:cNvGrpSpPr/>
                    <p:nvPr/>
                  </p:nvGrpSpPr>
                  <p:grpSpPr>
                    <a:xfrm>
                      <a:off x="2012400" y="2782800"/>
                      <a:ext cx="411840" cy="408240"/>
                      <a:chOff x="2012400" y="2782800"/>
                      <a:chExt cx="411840" cy="408240"/>
                    </a:xfrm>
                  </p:grpSpPr>
                  <p:grpSp>
                    <p:nvGrpSpPr>
                      <p:cNvPr id="843" name="Group 488"/>
                      <p:cNvGrpSpPr/>
                      <p:nvPr/>
                    </p:nvGrpSpPr>
                    <p:grpSpPr>
                      <a:xfrm>
                        <a:off x="2012400" y="2922480"/>
                        <a:ext cx="230400" cy="268560"/>
                        <a:chOff x="2012400" y="2922480"/>
                        <a:chExt cx="230400" cy="268560"/>
                      </a:xfrm>
                    </p:grpSpPr>
                    <p:grpSp>
                      <p:nvGrpSpPr>
                        <p:cNvPr id="844" name="Group 489"/>
                        <p:cNvGrpSpPr/>
                        <p:nvPr/>
                      </p:nvGrpSpPr>
                      <p:grpSpPr>
                        <a:xfrm>
                          <a:off x="2091600" y="2922480"/>
                          <a:ext cx="151200" cy="156240"/>
                          <a:chOff x="2091600" y="2922480"/>
                          <a:chExt cx="151200" cy="156240"/>
                        </a:xfrm>
                      </p:grpSpPr>
                      <p:sp>
                        <p:nvSpPr>
                          <p:cNvPr id="845" name="Freeform 490"/>
                          <p:cNvSpPr/>
                          <p:nvPr/>
                        </p:nvSpPr>
                        <p:spPr>
                          <a:xfrm flipH="1" rot="18943200">
                            <a:off x="2123640" y="29347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6" name="Freeform 491"/>
                          <p:cNvSpPr/>
                          <p:nvPr/>
                        </p:nvSpPr>
                        <p:spPr>
                          <a:xfrm flipH="1" rot="18943200">
                            <a:off x="2134080" y="29426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7" name="Group 492"/>
                        <p:cNvGrpSpPr/>
                        <p:nvPr/>
                      </p:nvGrpSpPr>
                      <p:grpSpPr>
                        <a:xfrm>
                          <a:off x="2060280" y="2979360"/>
                          <a:ext cx="154440" cy="149760"/>
                          <a:chOff x="2060280" y="2979360"/>
                          <a:chExt cx="154440" cy="149760"/>
                        </a:xfrm>
                      </p:grpSpPr>
                      <p:sp>
                        <p:nvSpPr>
                          <p:cNvPr id="848" name="Freeform 493"/>
                          <p:cNvSpPr/>
                          <p:nvPr/>
                        </p:nvSpPr>
                        <p:spPr>
                          <a:xfrm flipH="1" rot="18492600">
                            <a:off x="2093400" y="29890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49" name="Freeform 494"/>
                          <p:cNvSpPr/>
                          <p:nvPr/>
                        </p:nvSpPr>
                        <p:spPr>
                          <a:xfrm flipH="1" rot="18492600">
                            <a:off x="2106000" y="29980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0" name="Group 495"/>
                        <p:cNvGrpSpPr/>
                        <p:nvPr/>
                      </p:nvGrpSpPr>
                      <p:grpSpPr>
                        <a:xfrm>
                          <a:off x="2012400" y="3065400"/>
                          <a:ext cx="149400" cy="125640"/>
                          <a:chOff x="2012400" y="3065400"/>
                          <a:chExt cx="149400" cy="125640"/>
                        </a:xfrm>
                      </p:grpSpPr>
                      <p:sp>
                        <p:nvSpPr>
                          <p:cNvPr id="851" name="Freeform 496"/>
                          <p:cNvSpPr/>
                          <p:nvPr/>
                        </p:nvSpPr>
                        <p:spPr>
                          <a:xfrm flipH="1" rot="17386200">
                            <a:off x="2043000" y="30643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2" name="Freeform 497"/>
                          <p:cNvSpPr/>
                          <p:nvPr/>
                        </p:nvSpPr>
                        <p:spPr>
                          <a:xfrm flipH="1" rot="17386200">
                            <a:off x="2059560" y="3073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53" name="Group 498"/>
                      <p:cNvGrpSpPr/>
                      <p:nvPr/>
                    </p:nvGrpSpPr>
                    <p:grpSpPr>
                      <a:xfrm>
                        <a:off x="2155680" y="2782800"/>
                        <a:ext cx="268560" cy="207720"/>
                        <a:chOff x="2155680" y="2782800"/>
                        <a:chExt cx="268560" cy="207720"/>
                      </a:xfrm>
                    </p:grpSpPr>
                    <p:grpSp>
                      <p:nvGrpSpPr>
                        <p:cNvPr id="854" name="Group 499"/>
                        <p:cNvGrpSpPr/>
                        <p:nvPr/>
                      </p:nvGrpSpPr>
                      <p:grpSpPr>
                        <a:xfrm>
                          <a:off x="2155680" y="2836080"/>
                          <a:ext cx="148320" cy="154440"/>
                          <a:chOff x="2155680" y="2836080"/>
                          <a:chExt cx="148320" cy="154440"/>
                        </a:xfrm>
                      </p:grpSpPr>
                      <p:sp>
                        <p:nvSpPr>
                          <p:cNvPr id="855" name="Freeform 500"/>
                          <p:cNvSpPr/>
                          <p:nvPr/>
                        </p:nvSpPr>
                        <p:spPr>
                          <a:xfrm rot="19388400">
                            <a:off x="2184840" y="28494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6" name="Freeform 501"/>
                          <p:cNvSpPr/>
                          <p:nvPr/>
                        </p:nvSpPr>
                        <p:spPr>
                          <a:xfrm rot="19388400">
                            <a:off x="2212200" y="28429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7" name="Group 502"/>
                        <p:cNvGrpSpPr/>
                        <p:nvPr/>
                      </p:nvGrpSpPr>
                      <p:grpSpPr>
                        <a:xfrm>
                          <a:off x="2217960" y="2815560"/>
                          <a:ext cx="139680" cy="154080"/>
                          <a:chOff x="2217960" y="2815560"/>
                          <a:chExt cx="139680" cy="154080"/>
                        </a:xfrm>
                      </p:grpSpPr>
                      <p:sp>
                        <p:nvSpPr>
                          <p:cNvPr id="858" name="Freeform 503"/>
                          <p:cNvSpPr/>
                          <p:nvPr/>
                        </p:nvSpPr>
                        <p:spPr>
                          <a:xfrm rot="19839000">
                            <a:off x="2243520" y="2828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9" name="Freeform 504"/>
                          <p:cNvSpPr/>
                          <p:nvPr/>
                        </p:nvSpPr>
                        <p:spPr>
                          <a:xfrm rot="19839000">
                            <a:off x="2271240" y="28238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0" name="Group 505"/>
                        <p:cNvGrpSpPr/>
                        <p:nvPr/>
                      </p:nvGrpSpPr>
                      <p:grpSpPr>
                        <a:xfrm>
                          <a:off x="2314080" y="2782800"/>
                          <a:ext cx="110160" cy="145800"/>
                          <a:chOff x="2314080" y="2782800"/>
                          <a:chExt cx="110160" cy="145800"/>
                        </a:xfrm>
                      </p:grpSpPr>
                      <p:sp>
                        <p:nvSpPr>
                          <p:cNvPr id="861" name="Freeform 506"/>
                          <p:cNvSpPr/>
                          <p:nvPr/>
                        </p:nvSpPr>
                        <p:spPr>
                          <a:xfrm rot="20945400">
                            <a:off x="2325240" y="27896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2" name="Freeform 507"/>
                          <p:cNvSpPr/>
                          <p:nvPr/>
                        </p:nvSpPr>
                        <p:spPr>
                          <a:xfrm rot="20945400">
                            <a:off x="2353680" y="2789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63" name="Group 508"/>
                    <p:cNvGrpSpPr/>
                    <p:nvPr/>
                  </p:nvGrpSpPr>
                  <p:grpSpPr>
                    <a:xfrm>
                      <a:off x="2129400" y="2898000"/>
                      <a:ext cx="411840" cy="408240"/>
                      <a:chOff x="2129400" y="2898000"/>
                      <a:chExt cx="411840" cy="408240"/>
                    </a:xfrm>
                  </p:grpSpPr>
                  <p:grpSp>
                    <p:nvGrpSpPr>
                      <p:cNvPr id="864" name="Group 509"/>
                      <p:cNvGrpSpPr/>
                      <p:nvPr/>
                    </p:nvGrpSpPr>
                    <p:grpSpPr>
                      <a:xfrm>
                        <a:off x="2129400" y="3037680"/>
                        <a:ext cx="230400" cy="268560"/>
                        <a:chOff x="2129400" y="3037680"/>
                        <a:chExt cx="230400" cy="268560"/>
                      </a:xfrm>
                    </p:grpSpPr>
                    <p:grpSp>
                      <p:nvGrpSpPr>
                        <p:cNvPr id="865" name="Group 510"/>
                        <p:cNvGrpSpPr/>
                        <p:nvPr/>
                      </p:nvGrpSpPr>
                      <p:grpSpPr>
                        <a:xfrm>
                          <a:off x="2208600" y="3037680"/>
                          <a:ext cx="151200" cy="156240"/>
                          <a:chOff x="2208600" y="3037680"/>
                          <a:chExt cx="151200" cy="156240"/>
                        </a:xfrm>
                      </p:grpSpPr>
                      <p:sp>
                        <p:nvSpPr>
                          <p:cNvPr id="866" name="Freeform 511"/>
                          <p:cNvSpPr/>
                          <p:nvPr/>
                        </p:nvSpPr>
                        <p:spPr>
                          <a:xfrm flipH="1" rot="18943200">
                            <a:off x="2240640" y="30499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7" name="Freeform 512"/>
                          <p:cNvSpPr/>
                          <p:nvPr/>
                        </p:nvSpPr>
                        <p:spPr>
                          <a:xfrm flipH="1" rot="18943200">
                            <a:off x="2251080" y="30578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68" name="Group 513"/>
                        <p:cNvGrpSpPr/>
                        <p:nvPr/>
                      </p:nvGrpSpPr>
                      <p:grpSpPr>
                        <a:xfrm>
                          <a:off x="2177280" y="3094560"/>
                          <a:ext cx="154440" cy="149760"/>
                          <a:chOff x="2177280" y="3094560"/>
                          <a:chExt cx="154440" cy="149760"/>
                        </a:xfrm>
                      </p:grpSpPr>
                      <p:sp>
                        <p:nvSpPr>
                          <p:cNvPr id="869" name="Freeform 514"/>
                          <p:cNvSpPr/>
                          <p:nvPr/>
                        </p:nvSpPr>
                        <p:spPr>
                          <a:xfrm flipH="1" rot="18492600">
                            <a:off x="2210400" y="31042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0" name="Freeform 515"/>
                          <p:cNvSpPr/>
                          <p:nvPr/>
                        </p:nvSpPr>
                        <p:spPr>
                          <a:xfrm flipH="1" rot="18492600">
                            <a:off x="2223000" y="31132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1" name="Group 516"/>
                        <p:cNvGrpSpPr/>
                        <p:nvPr/>
                      </p:nvGrpSpPr>
                      <p:grpSpPr>
                        <a:xfrm>
                          <a:off x="2129400" y="3180600"/>
                          <a:ext cx="149400" cy="125640"/>
                          <a:chOff x="2129400" y="3180600"/>
                          <a:chExt cx="149400" cy="125640"/>
                        </a:xfrm>
                      </p:grpSpPr>
                      <p:sp>
                        <p:nvSpPr>
                          <p:cNvPr id="872" name="Freeform 517"/>
                          <p:cNvSpPr/>
                          <p:nvPr/>
                        </p:nvSpPr>
                        <p:spPr>
                          <a:xfrm flipH="1" rot="17386200">
                            <a:off x="2160000" y="3179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3" name="Freeform 518"/>
                          <p:cNvSpPr/>
                          <p:nvPr/>
                        </p:nvSpPr>
                        <p:spPr>
                          <a:xfrm flipH="1" rot="17386200">
                            <a:off x="2176560" y="31888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74" name="Group 519"/>
                      <p:cNvGrpSpPr/>
                      <p:nvPr/>
                    </p:nvGrpSpPr>
                    <p:grpSpPr>
                      <a:xfrm>
                        <a:off x="2272680" y="2898000"/>
                        <a:ext cx="268560" cy="207720"/>
                        <a:chOff x="2272680" y="2898000"/>
                        <a:chExt cx="268560" cy="207720"/>
                      </a:xfrm>
                    </p:grpSpPr>
                    <p:grpSp>
                      <p:nvGrpSpPr>
                        <p:cNvPr id="875" name="Group 520"/>
                        <p:cNvGrpSpPr/>
                        <p:nvPr/>
                      </p:nvGrpSpPr>
                      <p:grpSpPr>
                        <a:xfrm>
                          <a:off x="2272680" y="2951280"/>
                          <a:ext cx="148320" cy="154440"/>
                          <a:chOff x="2272680" y="2951280"/>
                          <a:chExt cx="148320" cy="154440"/>
                        </a:xfrm>
                      </p:grpSpPr>
                      <p:sp>
                        <p:nvSpPr>
                          <p:cNvPr id="876" name="Freeform 521"/>
                          <p:cNvSpPr/>
                          <p:nvPr/>
                        </p:nvSpPr>
                        <p:spPr>
                          <a:xfrm rot="19388400">
                            <a:off x="2301840" y="2964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77" name="Freeform 522"/>
                          <p:cNvSpPr/>
                          <p:nvPr/>
                        </p:nvSpPr>
                        <p:spPr>
                          <a:xfrm rot="19388400">
                            <a:off x="2329200" y="29581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8" name="Group 523"/>
                        <p:cNvGrpSpPr/>
                        <p:nvPr/>
                      </p:nvGrpSpPr>
                      <p:grpSpPr>
                        <a:xfrm>
                          <a:off x="2334960" y="2930760"/>
                          <a:ext cx="139680" cy="154080"/>
                          <a:chOff x="2334960" y="2930760"/>
                          <a:chExt cx="139680" cy="154080"/>
                        </a:xfrm>
                      </p:grpSpPr>
                      <p:sp>
                        <p:nvSpPr>
                          <p:cNvPr id="879" name="Freeform 524"/>
                          <p:cNvSpPr/>
                          <p:nvPr/>
                        </p:nvSpPr>
                        <p:spPr>
                          <a:xfrm rot="19839000">
                            <a:off x="2360520" y="2943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0" name="Freeform 525"/>
                          <p:cNvSpPr/>
                          <p:nvPr/>
                        </p:nvSpPr>
                        <p:spPr>
                          <a:xfrm rot="19839000">
                            <a:off x="2388240" y="29390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81" name="Group 526"/>
                        <p:cNvGrpSpPr/>
                        <p:nvPr/>
                      </p:nvGrpSpPr>
                      <p:grpSpPr>
                        <a:xfrm>
                          <a:off x="2431080" y="2898000"/>
                          <a:ext cx="110160" cy="145800"/>
                          <a:chOff x="2431080" y="2898000"/>
                          <a:chExt cx="110160" cy="145800"/>
                        </a:xfrm>
                      </p:grpSpPr>
                      <p:sp>
                        <p:nvSpPr>
                          <p:cNvPr id="882" name="Freeform 527"/>
                          <p:cNvSpPr/>
                          <p:nvPr/>
                        </p:nvSpPr>
                        <p:spPr>
                          <a:xfrm rot="20945400">
                            <a:off x="2442240" y="2904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3" name="Freeform 528"/>
                          <p:cNvSpPr/>
                          <p:nvPr/>
                        </p:nvSpPr>
                        <p:spPr>
                          <a:xfrm rot="20945400">
                            <a:off x="2470680" y="2904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884" name="Group 529"/>
                    <p:cNvGrpSpPr/>
                    <p:nvPr/>
                  </p:nvGrpSpPr>
                  <p:grpSpPr>
                    <a:xfrm>
                      <a:off x="2246400" y="3012840"/>
                      <a:ext cx="411840" cy="408240"/>
                      <a:chOff x="2246400" y="3012840"/>
                      <a:chExt cx="411840" cy="408240"/>
                    </a:xfrm>
                  </p:grpSpPr>
                  <p:grpSp>
                    <p:nvGrpSpPr>
                      <p:cNvPr id="885" name="Group 530"/>
                      <p:cNvGrpSpPr/>
                      <p:nvPr/>
                    </p:nvGrpSpPr>
                    <p:grpSpPr>
                      <a:xfrm>
                        <a:off x="2246400" y="3152520"/>
                        <a:ext cx="230400" cy="268560"/>
                        <a:chOff x="2246400" y="3152520"/>
                        <a:chExt cx="230400" cy="268560"/>
                      </a:xfrm>
                    </p:grpSpPr>
                    <p:grpSp>
                      <p:nvGrpSpPr>
                        <p:cNvPr id="886" name="Group 531"/>
                        <p:cNvGrpSpPr/>
                        <p:nvPr/>
                      </p:nvGrpSpPr>
                      <p:grpSpPr>
                        <a:xfrm>
                          <a:off x="2325600" y="3152520"/>
                          <a:ext cx="151200" cy="156240"/>
                          <a:chOff x="2325600" y="3152520"/>
                          <a:chExt cx="151200" cy="156240"/>
                        </a:xfrm>
                      </p:grpSpPr>
                      <p:sp>
                        <p:nvSpPr>
                          <p:cNvPr id="887" name="Freeform 532"/>
                          <p:cNvSpPr/>
                          <p:nvPr/>
                        </p:nvSpPr>
                        <p:spPr>
                          <a:xfrm flipH="1" rot="18943200">
                            <a:off x="2357640" y="31647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88" name="Freeform 533"/>
                          <p:cNvSpPr/>
                          <p:nvPr/>
                        </p:nvSpPr>
                        <p:spPr>
                          <a:xfrm flipH="1" rot="18943200">
                            <a:off x="2368080" y="31726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89" name="Group 534"/>
                        <p:cNvGrpSpPr/>
                        <p:nvPr/>
                      </p:nvGrpSpPr>
                      <p:grpSpPr>
                        <a:xfrm>
                          <a:off x="2294280" y="3209400"/>
                          <a:ext cx="154440" cy="149760"/>
                          <a:chOff x="2294280" y="3209400"/>
                          <a:chExt cx="154440" cy="149760"/>
                        </a:xfrm>
                      </p:grpSpPr>
                      <p:sp>
                        <p:nvSpPr>
                          <p:cNvPr id="890" name="Freeform 535"/>
                          <p:cNvSpPr/>
                          <p:nvPr/>
                        </p:nvSpPr>
                        <p:spPr>
                          <a:xfrm flipH="1" rot="18492600">
                            <a:off x="2327400" y="321912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1" name="Freeform 536"/>
                          <p:cNvSpPr/>
                          <p:nvPr/>
                        </p:nvSpPr>
                        <p:spPr>
                          <a:xfrm flipH="1" rot="18492600">
                            <a:off x="2340000" y="32281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2" name="Group 537"/>
                        <p:cNvGrpSpPr/>
                        <p:nvPr/>
                      </p:nvGrpSpPr>
                      <p:grpSpPr>
                        <a:xfrm>
                          <a:off x="2246400" y="3295440"/>
                          <a:ext cx="149400" cy="125640"/>
                          <a:chOff x="2246400" y="3295440"/>
                          <a:chExt cx="149400" cy="125640"/>
                        </a:xfrm>
                      </p:grpSpPr>
                      <p:sp>
                        <p:nvSpPr>
                          <p:cNvPr id="893" name="Freeform 538"/>
                          <p:cNvSpPr/>
                          <p:nvPr/>
                        </p:nvSpPr>
                        <p:spPr>
                          <a:xfrm flipH="1" rot="17386200">
                            <a:off x="2277000" y="32943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4" name="Freeform 539"/>
                          <p:cNvSpPr/>
                          <p:nvPr/>
                        </p:nvSpPr>
                        <p:spPr>
                          <a:xfrm flipH="1" rot="17386200">
                            <a:off x="2293560" y="3303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95" name="Group 540"/>
                      <p:cNvGrpSpPr/>
                      <p:nvPr/>
                    </p:nvGrpSpPr>
                    <p:grpSpPr>
                      <a:xfrm>
                        <a:off x="2389680" y="3012840"/>
                        <a:ext cx="268560" cy="207720"/>
                        <a:chOff x="2389680" y="3012840"/>
                        <a:chExt cx="268560" cy="207720"/>
                      </a:xfrm>
                    </p:grpSpPr>
                    <p:grpSp>
                      <p:nvGrpSpPr>
                        <p:cNvPr id="896" name="Group 541"/>
                        <p:cNvGrpSpPr/>
                        <p:nvPr/>
                      </p:nvGrpSpPr>
                      <p:grpSpPr>
                        <a:xfrm>
                          <a:off x="2389680" y="3066120"/>
                          <a:ext cx="148320" cy="154440"/>
                          <a:chOff x="2389680" y="3066120"/>
                          <a:chExt cx="148320" cy="154440"/>
                        </a:xfrm>
                      </p:grpSpPr>
                      <p:sp>
                        <p:nvSpPr>
                          <p:cNvPr id="897" name="Freeform 542"/>
                          <p:cNvSpPr/>
                          <p:nvPr/>
                        </p:nvSpPr>
                        <p:spPr>
                          <a:xfrm rot="19388400">
                            <a:off x="2418840" y="3079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8" name="Freeform 543"/>
                          <p:cNvSpPr/>
                          <p:nvPr/>
                        </p:nvSpPr>
                        <p:spPr>
                          <a:xfrm rot="19388400">
                            <a:off x="2446200" y="3072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99" name="Group 544"/>
                        <p:cNvGrpSpPr/>
                        <p:nvPr/>
                      </p:nvGrpSpPr>
                      <p:grpSpPr>
                        <a:xfrm>
                          <a:off x="2451960" y="3045600"/>
                          <a:ext cx="139680" cy="154080"/>
                          <a:chOff x="2451960" y="3045600"/>
                          <a:chExt cx="139680" cy="154080"/>
                        </a:xfrm>
                      </p:grpSpPr>
                      <p:sp>
                        <p:nvSpPr>
                          <p:cNvPr id="900" name="Freeform 545"/>
                          <p:cNvSpPr/>
                          <p:nvPr/>
                        </p:nvSpPr>
                        <p:spPr>
                          <a:xfrm rot="19839000">
                            <a:off x="2477520" y="30585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1" name="Freeform 546"/>
                          <p:cNvSpPr/>
                          <p:nvPr/>
                        </p:nvSpPr>
                        <p:spPr>
                          <a:xfrm rot="19839000">
                            <a:off x="2505240" y="30538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02" name="Group 547"/>
                        <p:cNvGrpSpPr/>
                        <p:nvPr/>
                      </p:nvGrpSpPr>
                      <p:grpSpPr>
                        <a:xfrm>
                          <a:off x="2548080" y="3012840"/>
                          <a:ext cx="110160" cy="145800"/>
                          <a:chOff x="2548080" y="3012840"/>
                          <a:chExt cx="110160" cy="145800"/>
                        </a:xfrm>
                      </p:grpSpPr>
                      <p:sp>
                        <p:nvSpPr>
                          <p:cNvPr id="903" name="Freeform 548"/>
                          <p:cNvSpPr/>
                          <p:nvPr/>
                        </p:nvSpPr>
                        <p:spPr>
                          <a:xfrm rot="20945400">
                            <a:off x="2559240" y="3019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4" name="Freeform 549"/>
                          <p:cNvSpPr/>
                          <p:nvPr/>
                        </p:nvSpPr>
                        <p:spPr>
                          <a:xfrm rot="20945400">
                            <a:off x="2587680" y="30193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05" name="Group 550"/>
                    <p:cNvGrpSpPr/>
                    <p:nvPr/>
                  </p:nvGrpSpPr>
                  <p:grpSpPr>
                    <a:xfrm>
                      <a:off x="2363400" y="3127680"/>
                      <a:ext cx="411840" cy="408240"/>
                      <a:chOff x="2363400" y="3127680"/>
                      <a:chExt cx="411840" cy="408240"/>
                    </a:xfrm>
                  </p:grpSpPr>
                  <p:grpSp>
                    <p:nvGrpSpPr>
                      <p:cNvPr id="906" name="Group 551"/>
                      <p:cNvGrpSpPr/>
                      <p:nvPr/>
                    </p:nvGrpSpPr>
                    <p:grpSpPr>
                      <a:xfrm>
                        <a:off x="2363400" y="3267360"/>
                        <a:ext cx="230400" cy="268560"/>
                        <a:chOff x="2363400" y="3267360"/>
                        <a:chExt cx="230400" cy="268560"/>
                      </a:xfrm>
                    </p:grpSpPr>
                    <p:grpSp>
                      <p:nvGrpSpPr>
                        <p:cNvPr id="907" name="Group 552"/>
                        <p:cNvGrpSpPr/>
                        <p:nvPr/>
                      </p:nvGrpSpPr>
                      <p:grpSpPr>
                        <a:xfrm>
                          <a:off x="2442600" y="3267360"/>
                          <a:ext cx="151200" cy="156240"/>
                          <a:chOff x="2442600" y="3267360"/>
                          <a:chExt cx="151200" cy="156240"/>
                        </a:xfrm>
                      </p:grpSpPr>
                      <p:sp>
                        <p:nvSpPr>
                          <p:cNvPr id="908" name="Freeform 553"/>
                          <p:cNvSpPr/>
                          <p:nvPr/>
                        </p:nvSpPr>
                        <p:spPr>
                          <a:xfrm flipH="1" rot="18943200">
                            <a:off x="2474640" y="32796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09" name="Freeform 554"/>
                          <p:cNvSpPr/>
                          <p:nvPr/>
                        </p:nvSpPr>
                        <p:spPr>
                          <a:xfrm flipH="1" rot="18943200">
                            <a:off x="2485080" y="328752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0" name="Group 555"/>
                        <p:cNvGrpSpPr/>
                        <p:nvPr/>
                      </p:nvGrpSpPr>
                      <p:grpSpPr>
                        <a:xfrm>
                          <a:off x="2411280" y="3324240"/>
                          <a:ext cx="154440" cy="149760"/>
                          <a:chOff x="2411280" y="3324240"/>
                          <a:chExt cx="154440" cy="149760"/>
                        </a:xfrm>
                      </p:grpSpPr>
                      <p:sp>
                        <p:nvSpPr>
                          <p:cNvPr id="911" name="Freeform 556"/>
                          <p:cNvSpPr/>
                          <p:nvPr/>
                        </p:nvSpPr>
                        <p:spPr>
                          <a:xfrm flipH="1" rot="18492600">
                            <a:off x="2444400" y="333396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2" name="Freeform 557"/>
                          <p:cNvSpPr/>
                          <p:nvPr/>
                        </p:nvSpPr>
                        <p:spPr>
                          <a:xfrm flipH="1" rot="18492600">
                            <a:off x="2457000" y="334296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3" name="Group 558"/>
                        <p:cNvGrpSpPr/>
                        <p:nvPr/>
                      </p:nvGrpSpPr>
                      <p:grpSpPr>
                        <a:xfrm>
                          <a:off x="2363400" y="3410280"/>
                          <a:ext cx="149400" cy="125640"/>
                          <a:chOff x="2363400" y="3410280"/>
                          <a:chExt cx="149400" cy="125640"/>
                        </a:xfrm>
                      </p:grpSpPr>
                      <p:sp>
                        <p:nvSpPr>
                          <p:cNvPr id="914" name="Freeform 559"/>
                          <p:cNvSpPr/>
                          <p:nvPr/>
                        </p:nvSpPr>
                        <p:spPr>
                          <a:xfrm flipH="1" rot="17386200">
                            <a:off x="2394000" y="34092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5" name="Freeform 560"/>
                          <p:cNvSpPr/>
                          <p:nvPr/>
                        </p:nvSpPr>
                        <p:spPr>
                          <a:xfrm flipH="1" rot="17386200">
                            <a:off x="2410560" y="3418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16" name="Group 561"/>
                      <p:cNvGrpSpPr/>
                      <p:nvPr/>
                    </p:nvGrpSpPr>
                    <p:grpSpPr>
                      <a:xfrm>
                        <a:off x="2506680" y="3127680"/>
                        <a:ext cx="268560" cy="207720"/>
                        <a:chOff x="2506680" y="3127680"/>
                        <a:chExt cx="268560" cy="207720"/>
                      </a:xfrm>
                    </p:grpSpPr>
                    <p:grpSp>
                      <p:nvGrpSpPr>
                        <p:cNvPr id="917" name="Group 562"/>
                        <p:cNvGrpSpPr/>
                        <p:nvPr/>
                      </p:nvGrpSpPr>
                      <p:grpSpPr>
                        <a:xfrm>
                          <a:off x="2506680" y="3180960"/>
                          <a:ext cx="148320" cy="154440"/>
                          <a:chOff x="2506680" y="3180960"/>
                          <a:chExt cx="148320" cy="154440"/>
                        </a:xfrm>
                      </p:grpSpPr>
                      <p:sp>
                        <p:nvSpPr>
                          <p:cNvPr id="918" name="Freeform 563"/>
                          <p:cNvSpPr/>
                          <p:nvPr/>
                        </p:nvSpPr>
                        <p:spPr>
                          <a:xfrm rot="19388400">
                            <a:off x="2535840" y="3194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19" name="Freeform 564"/>
                          <p:cNvSpPr/>
                          <p:nvPr/>
                        </p:nvSpPr>
                        <p:spPr>
                          <a:xfrm rot="19388400">
                            <a:off x="2563200" y="31878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0" name="Group 565"/>
                        <p:cNvGrpSpPr/>
                        <p:nvPr/>
                      </p:nvGrpSpPr>
                      <p:grpSpPr>
                        <a:xfrm>
                          <a:off x="2568960" y="3160440"/>
                          <a:ext cx="139680" cy="154080"/>
                          <a:chOff x="2568960" y="3160440"/>
                          <a:chExt cx="139680" cy="154080"/>
                        </a:xfrm>
                      </p:grpSpPr>
                      <p:sp>
                        <p:nvSpPr>
                          <p:cNvPr id="921" name="Freeform 566"/>
                          <p:cNvSpPr/>
                          <p:nvPr/>
                        </p:nvSpPr>
                        <p:spPr>
                          <a:xfrm rot="19839000">
                            <a:off x="2594520" y="31734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2" name="Freeform 567"/>
                          <p:cNvSpPr/>
                          <p:nvPr/>
                        </p:nvSpPr>
                        <p:spPr>
                          <a:xfrm rot="19839000">
                            <a:off x="2622240" y="3168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3" name="Group 568"/>
                        <p:cNvGrpSpPr/>
                        <p:nvPr/>
                      </p:nvGrpSpPr>
                      <p:grpSpPr>
                        <a:xfrm>
                          <a:off x="2665080" y="3127680"/>
                          <a:ext cx="110160" cy="145800"/>
                          <a:chOff x="2665080" y="3127680"/>
                          <a:chExt cx="110160" cy="145800"/>
                        </a:xfrm>
                      </p:grpSpPr>
                      <p:sp>
                        <p:nvSpPr>
                          <p:cNvPr id="924" name="Freeform 569"/>
                          <p:cNvSpPr/>
                          <p:nvPr/>
                        </p:nvSpPr>
                        <p:spPr>
                          <a:xfrm rot="20945400">
                            <a:off x="2676240" y="3134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25" name="Freeform 570"/>
                          <p:cNvSpPr/>
                          <p:nvPr/>
                        </p:nvSpPr>
                        <p:spPr>
                          <a:xfrm rot="20945400">
                            <a:off x="2704680" y="31341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26" name="Group 571"/>
                    <p:cNvGrpSpPr/>
                    <p:nvPr/>
                  </p:nvGrpSpPr>
                  <p:grpSpPr>
                    <a:xfrm>
                      <a:off x="1617480" y="3202920"/>
                      <a:ext cx="238680" cy="514440"/>
                      <a:chOff x="1617480" y="3202920"/>
                      <a:chExt cx="238680" cy="514440"/>
                    </a:xfrm>
                  </p:grpSpPr>
                  <p:grpSp>
                    <p:nvGrpSpPr>
                      <p:cNvPr id="927" name="Group 572"/>
                      <p:cNvGrpSpPr/>
                      <p:nvPr/>
                    </p:nvGrpSpPr>
                    <p:grpSpPr>
                      <a:xfrm>
                        <a:off x="1620000" y="3453840"/>
                        <a:ext cx="161640" cy="263520"/>
                        <a:chOff x="1620000" y="3453840"/>
                        <a:chExt cx="161640" cy="263520"/>
                      </a:xfrm>
                    </p:grpSpPr>
                    <p:grpSp>
                      <p:nvGrpSpPr>
                        <p:cNvPr id="928" name="Group 573"/>
                        <p:cNvGrpSpPr/>
                        <p:nvPr/>
                      </p:nvGrpSpPr>
                      <p:grpSpPr>
                        <a:xfrm>
                          <a:off x="1620000" y="3453840"/>
                          <a:ext cx="148320" cy="110520"/>
                          <a:chOff x="1620000" y="3453840"/>
                          <a:chExt cx="148320" cy="110520"/>
                        </a:xfrm>
                      </p:grpSpPr>
                      <p:sp>
                        <p:nvSpPr>
                          <p:cNvPr id="929" name="Freeform 574"/>
                          <p:cNvSpPr/>
                          <p:nvPr/>
                        </p:nvSpPr>
                        <p:spPr>
                          <a:xfrm flipH="1" rot="16900200">
                            <a:off x="1649160" y="34441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0" name="Freeform 575"/>
                          <p:cNvSpPr/>
                          <p:nvPr/>
                        </p:nvSpPr>
                        <p:spPr>
                          <a:xfrm flipH="1" rot="16900200">
                            <a:off x="1667160" y="34520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31" name="Group 576"/>
                        <p:cNvGrpSpPr/>
                        <p:nvPr/>
                      </p:nvGrpSpPr>
                      <p:grpSpPr>
                        <a:xfrm>
                          <a:off x="1630800" y="3522240"/>
                          <a:ext cx="144000" cy="94680"/>
                          <a:chOff x="1630800" y="3522240"/>
                          <a:chExt cx="144000" cy="94680"/>
                        </a:xfrm>
                      </p:grpSpPr>
                      <p:sp>
                        <p:nvSpPr>
                          <p:cNvPr id="932" name="Freeform 577"/>
                          <p:cNvSpPr/>
                          <p:nvPr/>
                        </p:nvSpPr>
                        <p:spPr>
                          <a:xfrm flipH="1" rot="16449600">
                            <a:off x="1655280" y="350460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3" name="Freeform 578"/>
                          <p:cNvSpPr/>
                          <p:nvPr/>
                        </p:nvSpPr>
                        <p:spPr>
                          <a:xfrm flipH="1" rot="16449600">
                            <a:off x="1676520" y="351252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34" name="Group 579"/>
                        <p:cNvGrpSpPr/>
                        <p:nvPr/>
                      </p:nvGrpSpPr>
                      <p:grpSpPr>
                        <a:xfrm>
                          <a:off x="1626120" y="3601800"/>
                          <a:ext cx="155520" cy="115560"/>
                          <a:chOff x="1626120" y="3601800"/>
                          <a:chExt cx="155520" cy="115560"/>
                        </a:xfrm>
                      </p:grpSpPr>
                      <p:sp>
                        <p:nvSpPr>
                          <p:cNvPr id="935" name="Freeform 580"/>
                          <p:cNvSpPr/>
                          <p:nvPr/>
                        </p:nvSpPr>
                        <p:spPr>
                          <a:xfrm flipH="1" rot="15343200">
                            <a:off x="1656360" y="35942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6" name="Freeform 581"/>
                          <p:cNvSpPr/>
                          <p:nvPr/>
                        </p:nvSpPr>
                        <p:spPr>
                          <a:xfrm flipH="1" rot="15343200">
                            <a:off x="1680120" y="36000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37" name="Group 582"/>
                      <p:cNvGrpSpPr/>
                      <p:nvPr/>
                    </p:nvGrpSpPr>
                    <p:grpSpPr>
                      <a:xfrm>
                        <a:off x="1617480" y="3202920"/>
                        <a:ext cx="238680" cy="263880"/>
                        <a:chOff x="1617480" y="3202920"/>
                        <a:chExt cx="238680" cy="263880"/>
                      </a:xfrm>
                    </p:grpSpPr>
                    <p:grpSp>
                      <p:nvGrpSpPr>
                        <p:cNvPr id="938" name="Group 583"/>
                        <p:cNvGrpSpPr/>
                        <p:nvPr/>
                      </p:nvGrpSpPr>
                      <p:grpSpPr>
                        <a:xfrm>
                          <a:off x="1617480" y="3342960"/>
                          <a:ext cx="158760" cy="123840"/>
                          <a:chOff x="1617480" y="3342960"/>
                          <a:chExt cx="158760" cy="123840"/>
                        </a:xfrm>
                      </p:grpSpPr>
                      <p:sp>
                        <p:nvSpPr>
                          <p:cNvPr id="939" name="Freeform 584"/>
                          <p:cNvSpPr/>
                          <p:nvPr/>
                        </p:nvSpPr>
                        <p:spPr>
                          <a:xfrm rot="17345400">
                            <a:off x="1649880" y="33397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0" name="Freeform 585"/>
                          <p:cNvSpPr/>
                          <p:nvPr/>
                        </p:nvSpPr>
                        <p:spPr>
                          <a:xfrm rot="17345400">
                            <a:off x="1674000" y="33271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41" name="Group 586"/>
                        <p:cNvGrpSpPr/>
                        <p:nvPr/>
                      </p:nvGrpSpPr>
                      <p:grpSpPr>
                        <a:xfrm>
                          <a:off x="1652040" y="3288600"/>
                          <a:ext cx="161640" cy="135360"/>
                          <a:chOff x="1652040" y="3288600"/>
                          <a:chExt cx="161640" cy="135360"/>
                        </a:xfrm>
                      </p:grpSpPr>
                      <p:sp>
                        <p:nvSpPr>
                          <p:cNvPr id="942" name="Freeform 587"/>
                          <p:cNvSpPr/>
                          <p:nvPr/>
                        </p:nvSpPr>
                        <p:spPr>
                          <a:xfrm rot="17796000">
                            <a:off x="1686240" y="32911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3" name="Freeform 588"/>
                          <p:cNvSpPr/>
                          <p:nvPr/>
                        </p:nvSpPr>
                        <p:spPr>
                          <a:xfrm rot="17796000">
                            <a:off x="1711440" y="32796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44" name="Group 589"/>
                        <p:cNvGrpSpPr/>
                        <p:nvPr/>
                      </p:nvGrpSpPr>
                      <p:grpSpPr>
                        <a:xfrm>
                          <a:off x="1699560" y="3202920"/>
                          <a:ext cx="156600" cy="152640"/>
                          <a:chOff x="1699560" y="3202920"/>
                          <a:chExt cx="156600" cy="152640"/>
                        </a:xfrm>
                      </p:grpSpPr>
                      <p:sp>
                        <p:nvSpPr>
                          <p:cNvPr id="945" name="Freeform 590"/>
                          <p:cNvSpPr/>
                          <p:nvPr/>
                        </p:nvSpPr>
                        <p:spPr>
                          <a:xfrm rot="18902400">
                            <a:off x="1732680" y="32140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46" name="Freeform 591"/>
                          <p:cNvSpPr/>
                          <p:nvPr/>
                        </p:nvSpPr>
                        <p:spPr>
                          <a:xfrm rot="18902400">
                            <a:off x="1759680" y="32068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47" name="Group 592"/>
                    <p:cNvGrpSpPr/>
                    <p:nvPr/>
                  </p:nvGrpSpPr>
                  <p:grpSpPr>
                    <a:xfrm>
                      <a:off x="1734480" y="3317760"/>
                      <a:ext cx="238680" cy="514440"/>
                      <a:chOff x="1734480" y="3317760"/>
                      <a:chExt cx="238680" cy="514440"/>
                    </a:xfrm>
                  </p:grpSpPr>
                  <p:grpSp>
                    <p:nvGrpSpPr>
                      <p:cNvPr id="948" name="Group 593"/>
                      <p:cNvGrpSpPr/>
                      <p:nvPr/>
                    </p:nvGrpSpPr>
                    <p:grpSpPr>
                      <a:xfrm>
                        <a:off x="1737000" y="3568680"/>
                        <a:ext cx="161640" cy="263520"/>
                        <a:chOff x="1737000" y="3568680"/>
                        <a:chExt cx="161640" cy="263520"/>
                      </a:xfrm>
                    </p:grpSpPr>
                    <p:grpSp>
                      <p:nvGrpSpPr>
                        <p:cNvPr id="949" name="Group 594"/>
                        <p:cNvGrpSpPr/>
                        <p:nvPr/>
                      </p:nvGrpSpPr>
                      <p:grpSpPr>
                        <a:xfrm>
                          <a:off x="1737000" y="3568680"/>
                          <a:ext cx="148320" cy="110520"/>
                          <a:chOff x="1737000" y="3568680"/>
                          <a:chExt cx="148320" cy="110520"/>
                        </a:xfrm>
                      </p:grpSpPr>
                      <p:sp>
                        <p:nvSpPr>
                          <p:cNvPr id="950" name="Freeform 595"/>
                          <p:cNvSpPr/>
                          <p:nvPr/>
                        </p:nvSpPr>
                        <p:spPr>
                          <a:xfrm flipH="1" rot="16900200">
                            <a:off x="1766160" y="35589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1" name="Freeform 596"/>
                          <p:cNvSpPr/>
                          <p:nvPr/>
                        </p:nvSpPr>
                        <p:spPr>
                          <a:xfrm flipH="1" rot="16900200">
                            <a:off x="1784160" y="35668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52" name="Group 597"/>
                        <p:cNvGrpSpPr/>
                        <p:nvPr/>
                      </p:nvGrpSpPr>
                      <p:grpSpPr>
                        <a:xfrm>
                          <a:off x="1747800" y="3637080"/>
                          <a:ext cx="144000" cy="94680"/>
                          <a:chOff x="1747800" y="3637080"/>
                          <a:chExt cx="144000" cy="94680"/>
                        </a:xfrm>
                      </p:grpSpPr>
                      <p:sp>
                        <p:nvSpPr>
                          <p:cNvPr id="953" name="Freeform 598"/>
                          <p:cNvSpPr/>
                          <p:nvPr/>
                        </p:nvSpPr>
                        <p:spPr>
                          <a:xfrm flipH="1" rot="16449600">
                            <a:off x="1772280" y="361944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4" name="Freeform 599"/>
                          <p:cNvSpPr/>
                          <p:nvPr/>
                        </p:nvSpPr>
                        <p:spPr>
                          <a:xfrm flipH="1" rot="16449600">
                            <a:off x="1793520" y="362736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55" name="Group 600"/>
                        <p:cNvGrpSpPr/>
                        <p:nvPr/>
                      </p:nvGrpSpPr>
                      <p:grpSpPr>
                        <a:xfrm>
                          <a:off x="1743120" y="3716640"/>
                          <a:ext cx="155520" cy="115560"/>
                          <a:chOff x="1743120" y="3716640"/>
                          <a:chExt cx="155520" cy="115560"/>
                        </a:xfrm>
                      </p:grpSpPr>
                      <p:sp>
                        <p:nvSpPr>
                          <p:cNvPr id="956" name="Freeform 601"/>
                          <p:cNvSpPr/>
                          <p:nvPr/>
                        </p:nvSpPr>
                        <p:spPr>
                          <a:xfrm flipH="1" rot="15343200">
                            <a:off x="1773360" y="37090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57" name="Freeform 602"/>
                          <p:cNvSpPr/>
                          <p:nvPr/>
                        </p:nvSpPr>
                        <p:spPr>
                          <a:xfrm flipH="1" rot="15343200">
                            <a:off x="1797120" y="37148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58" name="Group 603"/>
                      <p:cNvGrpSpPr/>
                      <p:nvPr/>
                    </p:nvGrpSpPr>
                    <p:grpSpPr>
                      <a:xfrm>
                        <a:off x="1734480" y="3317760"/>
                        <a:ext cx="238680" cy="263880"/>
                        <a:chOff x="1734480" y="3317760"/>
                        <a:chExt cx="238680" cy="263880"/>
                      </a:xfrm>
                    </p:grpSpPr>
                    <p:grpSp>
                      <p:nvGrpSpPr>
                        <p:cNvPr id="959" name="Group 604"/>
                        <p:cNvGrpSpPr/>
                        <p:nvPr/>
                      </p:nvGrpSpPr>
                      <p:grpSpPr>
                        <a:xfrm>
                          <a:off x="1734480" y="3457800"/>
                          <a:ext cx="158760" cy="123840"/>
                          <a:chOff x="1734480" y="3457800"/>
                          <a:chExt cx="158760" cy="123840"/>
                        </a:xfrm>
                      </p:grpSpPr>
                      <p:sp>
                        <p:nvSpPr>
                          <p:cNvPr id="960" name="Freeform 605"/>
                          <p:cNvSpPr/>
                          <p:nvPr/>
                        </p:nvSpPr>
                        <p:spPr>
                          <a:xfrm rot="17345400">
                            <a:off x="1766880" y="34545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1" name="Freeform 606"/>
                          <p:cNvSpPr/>
                          <p:nvPr/>
                        </p:nvSpPr>
                        <p:spPr>
                          <a:xfrm rot="17345400">
                            <a:off x="1791000" y="34419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2" name="Group 607"/>
                        <p:cNvGrpSpPr/>
                        <p:nvPr/>
                      </p:nvGrpSpPr>
                      <p:grpSpPr>
                        <a:xfrm>
                          <a:off x="1769040" y="3403440"/>
                          <a:ext cx="161640" cy="135360"/>
                          <a:chOff x="1769040" y="3403440"/>
                          <a:chExt cx="161640" cy="135360"/>
                        </a:xfrm>
                      </p:grpSpPr>
                      <p:sp>
                        <p:nvSpPr>
                          <p:cNvPr id="963" name="Freeform 608"/>
                          <p:cNvSpPr/>
                          <p:nvPr/>
                        </p:nvSpPr>
                        <p:spPr>
                          <a:xfrm rot="17796000">
                            <a:off x="1803240" y="34059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4" name="Freeform 609"/>
                          <p:cNvSpPr/>
                          <p:nvPr/>
                        </p:nvSpPr>
                        <p:spPr>
                          <a:xfrm rot="17796000">
                            <a:off x="1828440" y="33944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5" name="Group 610"/>
                        <p:cNvGrpSpPr/>
                        <p:nvPr/>
                      </p:nvGrpSpPr>
                      <p:grpSpPr>
                        <a:xfrm>
                          <a:off x="1816560" y="3317760"/>
                          <a:ext cx="156600" cy="152640"/>
                          <a:chOff x="1816560" y="3317760"/>
                          <a:chExt cx="156600" cy="152640"/>
                        </a:xfrm>
                      </p:grpSpPr>
                      <p:sp>
                        <p:nvSpPr>
                          <p:cNvPr id="966" name="Freeform 611"/>
                          <p:cNvSpPr/>
                          <p:nvPr/>
                        </p:nvSpPr>
                        <p:spPr>
                          <a:xfrm rot="18902400">
                            <a:off x="1849680" y="33289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7" name="Freeform 612"/>
                          <p:cNvSpPr/>
                          <p:nvPr/>
                        </p:nvSpPr>
                        <p:spPr>
                          <a:xfrm rot="18902400">
                            <a:off x="1876680" y="33217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68" name="Group 613"/>
                    <p:cNvGrpSpPr/>
                    <p:nvPr/>
                  </p:nvGrpSpPr>
                  <p:grpSpPr>
                    <a:xfrm>
                      <a:off x="1851480" y="3432960"/>
                      <a:ext cx="239040" cy="514080"/>
                      <a:chOff x="1851480" y="3432960"/>
                      <a:chExt cx="239040" cy="514080"/>
                    </a:xfrm>
                  </p:grpSpPr>
                  <p:grpSp>
                    <p:nvGrpSpPr>
                      <p:cNvPr id="969" name="Group 614"/>
                      <p:cNvGrpSpPr/>
                      <p:nvPr/>
                    </p:nvGrpSpPr>
                    <p:grpSpPr>
                      <a:xfrm>
                        <a:off x="1854000" y="3683880"/>
                        <a:ext cx="161640" cy="263160"/>
                        <a:chOff x="1854000" y="3683880"/>
                        <a:chExt cx="161640" cy="263160"/>
                      </a:xfrm>
                    </p:grpSpPr>
                    <p:grpSp>
                      <p:nvGrpSpPr>
                        <p:cNvPr id="970" name="Group 615"/>
                        <p:cNvGrpSpPr/>
                        <p:nvPr/>
                      </p:nvGrpSpPr>
                      <p:grpSpPr>
                        <a:xfrm>
                          <a:off x="1854000" y="3683880"/>
                          <a:ext cx="148320" cy="110520"/>
                          <a:chOff x="1854000" y="3683880"/>
                          <a:chExt cx="148320" cy="110520"/>
                        </a:xfrm>
                      </p:grpSpPr>
                      <p:sp>
                        <p:nvSpPr>
                          <p:cNvPr id="971" name="Freeform 616"/>
                          <p:cNvSpPr/>
                          <p:nvPr/>
                        </p:nvSpPr>
                        <p:spPr>
                          <a:xfrm flipH="1" rot="16900200">
                            <a:off x="1883160" y="36741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2" name="Freeform 617"/>
                          <p:cNvSpPr/>
                          <p:nvPr/>
                        </p:nvSpPr>
                        <p:spPr>
                          <a:xfrm flipH="1" rot="16900200">
                            <a:off x="1901160" y="36820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3" name="Group 618"/>
                        <p:cNvGrpSpPr/>
                        <p:nvPr/>
                      </p:nvGrpSpPr>
                      <p:grpSpPr>
                        <a:xfrm>
                          <a:off x="1864800" y="3752280"/>
                          <a:ext cx="144000" cy="94680"/>
                          <a:chOff x="1864800" y="3752280"/>
                          <a:chExt cx="144000" cy="94680"/>
                        </a:xfrm>
                      </p:grpSpPr>
                      <p:sp>
                        <p:nvSpPr>
                          <p:cNvPr id="974" name="Freeform 619"/>
                          <p:cNvSpPr/>
                          <p:nvPr/>
                        </p:nvSpPr>
                        <p:spPr>
                          <a:xfrm flipH="1" rot="16449600">
                            <a:off x="1889280" y="373464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Freeform 620"/>
                          <p:cNvSpPr/>
                          <p:nvPr/>
                        </p:nvSpPr>
                        <p:spPr>
                          <a:xfrm flipH="1" rot="16449600">
                            <a:off x="1910520" y="37422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6" name="Group 621"/>
                        <p:cNvGrpSpPr/>
                        <p:nvPr/>
                      </p:nvGrpSpPr>
                      <p:grpSpPr>
                        <a:xfrm>
                          <a:off x="1860120" y="3831480"/>
                          <a:ext cx="155520" cy="115560"/>
                          <a:chOff x="1860120" y="3831480"/>
                          <a:chExt cx="155520" cy="115560"/>
                        </a:xfrm>
                      </p:grpSpPr>
                      <p:sp>
                        <p:nvSpPr>
                          <p:cNvPr id="977" name="Freeform 622"/>
                          <p:cNvSpPr/>
                          <p:nvPr/>
                        </p:nvSpPr>
                        <p:spPr>
                          <a:xfrm flipH="1" rot="15343200">
                            <a:off x="1890360" y="38239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8" name="Freeform 623"/>
                          <p:cNvSpPr/>
                          <p:nvPr/>
                        </p:nvSpPr>
                        <p:spPr>
                          <a:xfrm flipH="1" rot="15343200">
                            <a:off x="1914120" y="38296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79" name="Group 624"/>
                      <p:cNvGrpSpPr/>
                      <p:nvPr/>
                    </p:nvGrpSpPr>
                    <p:grpSpPr>
                      <a:xfrm>
                        <a:off x="1851480" y="3432960"/>
                        <a:ext cx="239040" cy="263520"/>
                        <a:chOff x="1851480" y="3432960"/>
                        <a:chExt cx="239040" cy="263520"/>
                      </a:xfrm>
                    </p:grpSpPr>
                    <p:grpSp>
                      <p:nvGrpSpPr>
                        <p:cNvPr id="980" name="Group 625"/>
                        <p:cNvGrpSpPr/>
                        <p:nvPr/>
                      </p:nvGrpSpPr>
                      <p:grpSpPr>
                        <a:xfrm>
                          <a:off x="1851480" y="3572640"/>
                          <a:ext cx="158760" cy="123840"/>
                          <a:chOff x="1851480" y="3572640"/>
                          <a:chExt cx="158760" cy="123840"/>
                        </a:xfrm>
                      </p:grpSpPr>
                      <p:sp>
                        <p:nvSpPr>
                          <p:cNvPr id="981" name="Freeform 626"/>
                          <p:cNvSpPr/>
                          <p:nvPr/>
                        </p:nvSpPr>
                        <p:spPr>
                          <a:xfrm rot="17345400">
                            <a:off x="1883880" y="35694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2" name="Freeform 627"/>
                          <p:cNvSpPr/>
                          <p:nvPr/>
                        </p:nvSpPr>
                        <p:spPr>
                          <a:xfrm rot="17345400">
                            <a:off x="1908000" y="35571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3" name="Group 628"/>
                        <p:cNvGrpSpPr/>
                        <p:nvPr/>
                      </p:nvGrpSpPr>
                      <p:grpSpPr>
                        <a:xfrm>
                          <a:off x="1886040" y="3518280"/>
                          <a:ext cx="161640" cy="135360"/>
                          <a:chOff x="1886040" y="3518280"/>
                          <a:chExt cx="161640" cy="135360"/>
                        </a:xfrm>
                      </p:grpSpPr>
                      <p:sp>
                        <p:nvSpPr>
                          <p:cNvPr id="984" name="Freeform 629"/>
                          <p:cNvSpPr/>
                          <p:nvPr/>
                        </p:nvSpPr>
                        <p:spPr>
                          <a:xfrm rot="17796000">
                            <a:off x="1920240" y="35208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5" name="Freeform 630"/>
                          <p:cNvSpPr/>
                          <p:nvPr/>
                        </p:nvSpPr>
                        <p:spPr>
                          <a:xfrm rot="17796000">
                            <a:off x="1945440" y="3509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6" name="Group 631"/>
                        <p:cNvGrpSpPr/>
                        <p:nvPr/>
                      </p:nvGrpSpPr>
                      <p:grpSpPr>
                        <a:xfrm>
                          <a:off x="1933560" y="3432960"/>
                          <a:ext cx="156960" cy="152640"/>
                          <a:chOff x="1933560" y="3432960"/>
                          <a:chExt cx="156960" cy="152640"/>
                        </a:xfrm>
                      </p:grpSpPr>
                      <p:sp>
                        <p:nvSpPr>
                          <p:cNvPr id="987" name="Freeform 632"/>
                          <p:cNvSpPr/>
                          <p:nvPr/>
                        </p:nvSpPr>
                        <p:spPr>
                          <a:xfrm rot="18902400">
                            <a:off x="1966680" y="34441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8" name="Freeform 633"/>
                          <p:cNvSpPr/>
                          <p:nvPr/>
                        </p:nvSpPr>
                        <p:spPr>
                          <a:xfrm rot="18902400">
                            <a:off x="1994040" y="3436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89" name="Group 634"/>
                    <p:cNvGrpSpPr/>
                    <p:nvPr/>
                  </p:nvGrpSpPr>
                  <p:grpSpPr>
                    <a:xfrm>
                      <a:off x="1968480" y="3547800"/>
                      <a:ext cx="238680" cy="514440"/>
                      <a:chOff x="1968480" y="3547800"/>
                      <a:chExt cx="238680" cy="514440"/>
                    </a:xfrm>
                  </p:grpSpPr>
                  <p:grpSp>
                    <p:nvGrpSpPr>
                      <p:cNvPr id="990" name="Group 635"/>
                      <p:cNvGrpSpPr/>
                      <p:nvPr/>
                    </p:nvGrpSpPr>
                    <p:grpSpPr>
                      <a:xfrm>
                        <a:off x="1971000" y="3798720"/>
                        <a:ext cx="161640" cy="263520"/>
                        <a:chOff x="1971000" y="3798720"/>
                        <a:chExt cx="161640" cy="263520"/>
                      </a:xfrm>
                    </p:grpSpPr>
                    <p:grpSp>
                      <p:nvGrpSpPr>
                        <p:cNvPr id="991" name="Group 636"/>
                        <p:cNvGrpSpPr/>
                        <p:nvPr/>
                      </p:nvGrpSpPr>
                      <p:grpSpPr>
                        <a:xfrm>
                          <a:off x="1971000" y="3798720"/>
                          <a:ext cx="148320" cy="110520"/>
                          <a:chOff x="1971000" y="3798720"/>
                          <a:chExt cx="148320" cy="110520"/>
                        </a:xfrm>
                      </p:grpSpPr>
                      <p:sp>
                        <p:nvSpPr>
                          <p:cNvPr id="992" name="Freeform 637"/>
                          <p:cNvSpPr/>
                          <p:nvPr/>
                        </p:nvSpPr>
                        <p:spPr>
                          <a:xfrm flipH="1" rot="16900200">
                            <a:off x="2000160" y="37890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3" name="Freeform 638"/>
                          <p:cNvSpPr/>
                          <p:nvPr/>
                        </p:nvSpPr>
                        <p:spPr>
                          <a:xfrm flipH="1" rot="16900200">
                            <a:off x="2018160" y="37969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4" name="Group 639"/>
                        <p:cNvGrpSpPr/>
                        <p:nvPr/>
                      </p:nvGrpSpPr>
                      <p:grpSpPr>
                        <a:xfrm>
                          <a:off x="1981800" y="3867120"/>
                          <a:ext cx="144000" cy="94680"/>
                          <a:chOff x="1981800" y="3867120"/>
                          <a:chExt cx="144000" cy="94680"/>
                        </a:xfrm>
                      </p:grpSpPr>
                      <p:sp>
                        <p:nvSpPr>
                          <p:cNvPr id="995" name="Freeform 640"/>
                          <p:cNvSpPr/>
                          <p:nvPr/>
                        </p:nvSpPr>
                        <p:spPr>
                          <a:xfrm flipH="1" rot="16449600">
                            <a:off x="2006280" y="38494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6" name="Freeform 641"/>
                          <p:cNvSpPr/>
                          <p:nvPr/>
                        </p:nvSpPr>
                        <p:spPr>
                          <a:xfrm flipH="1" rot="16449600">
                            <a:off x="2027520" y="38574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97" name="Group 642"/>
                        <p:cNvGrpSpPr/>
                        <p:nvPr/>
                      </p:nvGrpSpPr>
                      <p:grpSpPr>
                        <a:xfrm>
                          <a:off x="1977120" y="3946680"/>
                          <a:ext cx="155520" cy="115560"/>
                          <a:chOff x="1977120" y="3946680"/>
                          <a:chExt cx="155520" cy="115560"/>
                        </a:xfrm>
                      </p:grpSpPr>
                      <p:sp>
                        <p:nvSpPr>
                          <p:cNvPr id="998" name="Freeform 643"/>
                          <p:cNvSpPr/>
                          <p:nvPr/>
                        </p:nvSpPr>
                        <p:spPr>
                          <a:xfrm flipH="1" rot="15343200">
                            <a:off x="2007360" y="39391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9" name="Freeform 644"/>
                          <p:cNvSpPr/>
                          <p:nvPr/>
                        </p:nvSpPr>
                        <p:spPr>
                          <a:xfrm flipH="1" rot="15343200">
                            <a:off x="2031120" y="39448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00" name="Group 645"/>
                      <p:cNvGrpSpPr/>
                      <p:nvPr/>
                    </p:nvGrpSpPr>
                    <p:grpSpPr>
                      <a:xfrm>
                        <a:off x="1968480" y="3547800"/>
                        <a:ext cx="238680" cy="263880"/>
                        <a:chOff x="1968480" y="3547800"/>
                        <a:chExt cx="238680" cy="263880"/>
                      </a:xfrm>
                    </p:grpSpPr>
                    <p:grpSp>
                      <p:nvGrpSpPr>
                        <p:cNvPr id="1001" name="Group 646"/>
                        <p:cNvGrpSpPr/>
                        <p:nvPr/>
                      </p:nvGrpSpPr>
                      <p:grpSpPr>
                        <a:xfrm>
                          <a:off x="1968480" y="3687840"/>
                          <a:ext cx="158760" cy="123840"/>
                          <a:chOff x="1968480" y="3687840"/>
                          <a:chExt cx="158760" cy="123840"/>
                        </a:xfrm>
                      </p:grpSpPr>
                      <p:sp>
                        <p:nvSpPr>
                          <p:cNvPr id="1002" name="Freeform 647"/>
                          <p:cNvSpPr/>
                          <p:nvPr/>
                        </p:nvSpPr>
                        <p:spPr>
                          <a:xfrm rot="17345400">
                            <a:off x="2000880" y="36846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3" name="Freeform 648"/>
                          <p:cNvSpPr/>
                          <p:nvPr/>
                        </p:nvSpPr>
                        <p:spPr>
                          <a:xfrm rot="17345400">
                            <a:off x="2025000" y="36720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4" name="Group 649"/>
                        <p:cNvGrpSpPr/>
                        <p:nvPr/>
                      </p:nvGrpSpPr>
                      <p:grpSpPr>
                        <a:xfrm>
                          <a:off x="2003040" y="3633480"/>
                          <a:ext cx="161640" cy="135360"/>
                          <a:chOff x="2003040" y="3633480"/>
                          <a:chExt cx="161640" cy="135360"/>
                        </a:xfrm>
                      </p:grpSpPr>
                      <p:sp>
                        <p:nvSpPr>
                          <p:cNvPr id="1005" name="Freeform 650"/>
                          <p:cNvSpPr/>
                          <p:nvPr/>
                        </p:nvSpPr>
                        <p:spPr>
                          <a:xfrm rot="17796000">
                            <a:off x="2037240" y="36360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6" name="Freeform 651"/>
                          <p:cNvSpPr/>
                          <p:nvPr/>
                        </p:nvSpPr>
                        <p:spPr>
                          <a:xfrm rot="17796000">
                            <a:off x="2062440" y="36244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7" name="Group 652"/>
                        <p:cNvGrpSpPr/>
                        <p:nvPr/>
                      </p:nvGrpSpPr>
                      <p:grpSpPr>
                        <a:xfrm>
                          <a:off x="2050560" y="3547800"/>
                          <a:ext cx="156600" cy="152640"/>
                          <a:chOff x="2050560" y="3547800"/>
                          <a:chExt cx="156600" cy="152640"/>
                        </a:xfrm>
                      </p:grpSpPr>
                      <p:sp>
                        <p:nvSpPr>
                          <p:cNvPr id="1008" name="Freeform 653"/>
                          <p:cNvSpPr/>
                          <p:nvPr/>
                        </p:nvSpPr>
                        <p:spPr>
                          <a:xfrm rot="18902400">
                            <a:off x="2083680" y="35589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9" name="Freeform 654"/>
                          <p:cNvSpPr/>
                          <p:nvPr/>
                        </p:nvSpPr>
                        <p:spPr>
                          <a:xfrm rot="18902400">
                            <a:off x="2110680" y="35517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10" name="Group 655"/>
                    <p:cNvGrpSpPr/>
                    <p:nvPr/>
                  </p:nvGrpSpPr>
                  <p:grpSpPr>
                    <a:xfrm>
                      <a:off x="1816920" y="4190040"/>
                      <a:ext cx="436320" cy="373320"/>
                      <a:chOff x="1816920" y="4190040"/>
                      <a:chExt cx="436320" cy="373320"/>
                    </a:xfrm>
                  </p:grpSpPr>
                  <p:grpSp>
                    <p:nvGrpSpPr>
                      <p:cNvPr id="1011" name="Group 656"/>
                      <p:cNvGrpSpPr/>
                      <p:nvPr/>
                    </p:nvGrpSpPr>
                    <p:grpSpPr>
                      <a:xfrm>
                        <a:off x="1985760" y="4352040"/>
                        <a:ext cx="267480" cy="211320"/>
                        <a:chOff x="1985760" y="4352040"/>
                        <a:chExt cx="267480" cy="211320"/>
                      </a:xfrm>
                    </p:grpSpPr>
                    <p:grpSp>
                      <p:nvGrpSpPr>
                        <p:cNvPr id="1012" name="Group 657"/>
                        <p:cNvGrpSpPr/>
                        <p:nvPr/>
                      </p:nvGrpSpPr>
                      <p:grpSpPr>
                        <a:xfrm>
                          <a:off x="1985760" y="4352040"/>
                          <a:ext cx="150840" cy="155160"/>
                          <a:chOff x="1985760" y="4352040"/>
                          <a:chExt cx="150840" cy="155160"/>
                        </a:xfrm>
                      </p:grpSpPr>
                      <p:sp>
                        <p:nvSpPr>
                          <p:cNvPr id="1013" name="Freeform 658"/>
                          <p:cNvSpPr/>
                          <p:nvPr/>
                        </p:nvSpPr>
                        <p:spPr>
                          <a:xfrm flipH="1" rot="13107000">
                            <a:off x="2016000" y="4364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4" name="Freeform 659"/>
                          <p:cNvSpPr/>
                          <p:nvPr/>
                        </p:nvSpPr>
                        <p:spPr>
                          <a:xfrm flipH="1" rot="13107000">
                            <a:off x="2043720" y="43632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5" name="Group 660"/>
                        <p:cNvGrpSpPr/>
                        <p:nvPr/>
                      </p:nvGrpSpPr>
                      <p:grpSpPr>
                        <a:xfrm>
                          <a:off x="2046600" y="4373280"/>
                          <a:ext cx="142200" cy="155520"/>
                          <a:chOff x="2046600" y="4373280"/>
                          <a:chExt cx="142200" cy="155520"/>
                        </a:xfrm>
                      </p:grpSpPr>
                      <p:sp>
                        <p:nvSpPr>
                          <p:cNvPr id="1016" name="Freeform 661"/>
                          <p:cNvSpPr/>
                          <p:nvPr/>
                        </p:nvSpPr>
                        <p:spPr>
                          <a:xfrm flipH="1" rot="12656400">
                            <a:off x="2073960" y="43858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7" name="Freeform 662"/>
                          <p:cNvSpPr/>
                          <p:nvPr/>
                        </p:nvSpPr>
                        <p:spPr>
                          <a:xfrm flipH="1" rot="12656400">
                            <a:off x="2101680" y="438264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8" name="Group 663"/>
                        <p:cNvGrpSpPr/>
                        <p:nvPr/>
                      </p:nvGrpSpPr>
                      <p:grpSpPr>
                        <a:xfrm>
                          <a:off x="2141280" y="4414320"/>
                          <a:ext cx="111960" cy="149040"/>
                          <a:chOff x="2141280" y="4414320"/>
                          <a:chExt cx="111960" cy="149040"/>
                        </a:xfrm>
                      </p:grpSpPr>
                      <p:sp>
                        <p:nvSpPr>
                          <p:cNvPr id="1019" name="Freeform 664"/>
                          <p:cNvSpPr/>
                          <p:nvPr/>
                        </p:nvSpPr>
                        <p:spPr>
                          <a:xfrm flipH="1" rot="11550000">
                            <a:off x="2153520" y="44254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0" name="Freeform 665"/>
                          <p:cNvSpPr/>
                          <p:nvPr/>
                        </p:nvSpPr>
                        <p:spPr>
                          <a:xfrm flipH="1" rot="11550000">
                            <a:off x="2181600" y="4418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21" name="Group 666"/>
                      <p:cNvGrpSpPr/>
                      <p:nvPr/>
                    </p:nvGrpSpPr>
                    <p:grpSpPr>
                      <a:xfrm>
                        <a:off x="1816920" y="4190040"/>
                        <a:ext cx="226440" cy="267840"/>
                        <a:chOff x="1816920" y="4190040"/>
                        <a:chExt cx="226440" cy="267840"/>
                      </a:xfrm>
                    </p:grpSpPr>
                    <p:grpSp>
                      <p:nvGrpSpPr>
                        <p:cNvPr id="1022" name="Group 667"/>
                        <p:cNvGrpSpPr/>
                        <p:nvPr/>
                      </p:nvGrpSpPr>
                      <p:grpSpPr>
                        <a:xfrm>
                          <a:off x="1890360" y="4302000"/>
                          <a:ext cx="153000" cy="155880"/>
                          <a:chOff x="1890360" y="4302000"/>
                          <a:chExt cx="153000" cy="155880"/>
                        </a:xfrm>
                      </p:grpSpPr>
                      <p:sp>
                        <p:nvSpPr>
                          <p:cNvPr id="1023" name="Freeform 668"/>
                          <p:cNvSpPr/>
                          <p:nvPr/>
                        </p:nvSpPr>
                        <p:spPr>
                          <a:xfrm rot="13552200">
                            <a:off x="1923480" y="43167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4" name="Freeform 669"/>
                          <p:cNvSpPr/>
                          <p:nvPr/>
                        </p:nvSpPr>
                        <p:spPr>
                          <a:xfrm rot="13552200">
                            <a:off x="1935000" y="430092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25" name="Group 670"/>
                        <p:cNvGrpSpPr/>
                        <p:nvPr/>
                      </p:nvGrpSpPr>
                      <p:grpSpPr>
                        <a:xfrm>
                          <a:off x="1861920" y="4251240"/>
                          <a:ext cx="155880" cy="149400"/>
                          <a:chOff x="1861920" y="4251240"/>
                          <a:chExt cx="155880" cy="149400"/>
                        </a:xfrm>
                      </p:grpSpPr>
                      <p:sp>
                        <p:nvSpPr>
                          <p:cNvPr id="1026" name="Freeform 671"/>
                          <p:cNvSpPr/>
                          <p:nvPr/>
                        </p:nvSpPr>
                        <p:spPr>
                          <a:xfrm rot="14002800">
                            <a:off x="1896840" y="42620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7" name="Freeform 672"/>
                          <p:cNvSpPr/>
                          <p:nvPr/>
                        </p:nvSpPr>
                        <p:spPr>
                          <a:xfrm rot="14002800">
                            <a:off x="1909440" y="42454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28" name="Group 673"/>
                        <p:cNvGrpSpPr/>
                        <p:nvPr/>
                      </p:nvGrpSpPr>
                      <p:grpSpPr>
                        <a:xfrm>
                          <a:off x="1816920" y="4190040"/>
                          <a:ext cx="151560" cy="122400"/>
                          <a:chOff x="1816920" y="4190040"/>
                          <a:chExt cx="151560" cy="122400"/>
                        </a:xfrm>
                      </p:grpSpPr>
                      <p:sp>
                        <p:nvSpPr>
                          <p:cNvPr id="1029" name="Freeform 674"/>
                          <p:cNvSpPr/>
                          <p:nvPr/>
                        </p:nvSpPr>
                        <p:spPr>
                          <a:xfrm rot="15109200">
                            <a:off x="1848960" y="41860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0" name="Freeform 675"/>
                          <p:cNvSpPr/>
                          <p:nvPr/>
                        </p:nvSpPr>
                        <p:spPr>
                          <a:xfrm rot="15109200">
                            <a:off x="1866240" y="41698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31" name="Group 676"/>
                    <p:cNvGrpSpPr/>
                    <p:nvPr/>
                  </p:nvGrpSpPr>
                  <p:grpSpPr>
                    <a:xfrm>
                      <a:off x="1933560" y="4037400"/>
                      <a:ext cx="436320" cy="373320"/>
                      <a:chOff x="1933560" y="4037400"/>
                      <a:chExt cx="436320" cy="373320"/>
                    </a:xfrm>
                  </p:grpSpPr>
                  <p:grpSp>
                    <p:nvGrpSpPr>
                      <p:cNvPr id="1032" name="Group 677"/>
                      <p:cNvGrpSpPr/>
                      <p:nvPr/>
                    </p:nvGrpSpPr>
                    <p:grpSpPr>
                      <a:xfrm>
                        <a:off x="2102400" y="4199400"/>
                        <a:ext cx="267480" cy="211320"/>
                        <a:chOff x="2102400" y="4199400"/>
                        <a:chExt cx="267480" cy="211320"/>
                      </a:xfrm>
                    </p:grpSpPr>
                    <p:grpSp>
                      <p:nvGrpSpPr>
                        <p:cNvPr id="1033" name="Group 678"/>
                        <p:cNvGrpSpPr/>
                        <p:nvPr/>
                      </p:nvGrpSpPr>
                      <p:grpSpPr>
                        <a:xfrm>
                          <a:off x="2102400" y="4199400"/>
                          <a:ext cx="150840" cy="155160"/>
                          <a:chOff x="2102400" y="4199400"/>
                          <a:chExt cx="150840" cy="155160"/>
                        </a:xfrm>
                      </p:grpSpPr>
                      <p:sp>
                        <p:nvSpPr>
                          <p:cNvPr id="1034" name="Freeform 679"/>
                          <p:cNvSpPr/>
                          <p:nvPr/>
                        </p:nvSpPr>
                        <p:spPr>
                          <a:xfrm flipH="1" rot="13107000">
                            <a:off x="2132640" y="42116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5" name="Freeform 680"/>
                          <p:cNvSpPr/>
                          <p:nvPr/>
                        </p:nvSpPr>
                        <p:spPr>
                          <a:xfrm flipH="1" rot="13107000">
                            <a:off x="2160360" y="4210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36" name="Group 681"/>
                        <p:cNvGrpSpPr/>
                        <p:nvPr/>
                      </p:nvGrpSpPr>
                      <p:grpSpPr>
                        <a:xfrm>
                          <a:off x="2163240" y="4220280"/>
                          <a:ext cx="142200" cy="155520"/>
                          <a:chOff x="2163240" y="4220280"/>
                          <a:chExt cx="142200" cy="155520"/>
                        </a:xfrm>
                      </p:grpSpPr>
                      <p:sp>
                        <p:nvSpPr>
                          <p:cNvPr id="1037" name="Freeform 682"/>
                          <p:cNvSpPr/>
                          <p:nvPr/>
                        </p:nvSpPr>
                        <p:spPr>
                          <a:xfrm flipH="1" rot="12656400">
                            <a:off x="2190600" y="42328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8" name="Freeform 683"/>
                          <p:cNvSpPr/>
                          <p:nvPr/>
                        </p:nvSpPr>
                        <p:spPr>
                          <a:xfrm flipH="1" rot="12656400">
                            <a:off x="2218320" y="42300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39" name="Group 684"/>
                        <p:cNvGrpSpPr/>
                        <p:nvPr/>
                      </p:nvGrpSpPr>
                      <p:grpSpPr>
                        <a:xfrm>
                          <a:off x="2257920" y="4261680"/>
                          <a:ext cx="111960" cy="149040"/>
                          <a:chOff x="2257920" y="4261680"/>
                          <a:chExt cx="111960" cy="149040"/>
                        </a:xfrm>
                      </p:grpSpPr>
                      <p:sp>
                        <p:nvSpPr>
                          <p:cNvPr id="1040" name="Freeform 685"/>
                          <p:cNvSpPr/>
                          <p:nvPr/>
                        </p:nvSpPr>
                        <p:spPr>
                          <a:xfrm flipH="1" rot="11550000">
                            <a:off x="2270160" y="42728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1" name="Freeform 686"/>
                          <p:cNvSpPr/>
                          <p:nvPr/>
                        </p:nvSpPr>
                        <p:spPr>
                          <a:xfrm flipH="1" rot="11550000">
                            <a:off x="2298240" y="42656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42" name="Group 687"/>
                      <p:cNvGrpSpPr/>
                      <p:nvPr/>
                    </p:nvGrpSpPr>
                    <p:grpSpPr>
                      <a:xfrm>
                        <a:off x="1933560" y="4037400"/>
                        <a:ext cx="226440" cy="267840"/>
                        <a:chOff x="1933560" y="4037400"/>
                        <a:chExt cx="226440" cy="267840"/>
                      </a:xfrm>
                    </p:grpSpPr>
                    <p:grpSp>
                      <p:nvGrpSpPr>
                        <p:cNvPr id="1043" name="Group 688"/>
                        <p:cNvGrpSpPr/>
                        <p:nvPr/>
                      </p:nvGrpSpPr>
                      <p:grpSpPr>
                        <a:xfrm>
                          <a:off x="2007000" y="4149360"/>
                          <a:ext cx="153000" cy="155880"/>
                          <a:chOff x="2007000" y="4149360"/>
                          <a:chExt cx="153000" cy="155880"/>
                        </a:xfrm>
                      </p:grpSpPr>
                      <p:sp>
                        <p:nvSpPr>
                          <p:cNvPr id="1044" name="Freeform 689"/>
                          <p:cNvSpPr/>
                          <p:nvPr/>
                        </p:nvSpPr>
                        <p:spPr>
                          <a:xfrm rot="13552200">
                            <a:off x="2040120" y="41641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5" name="Freeform 690"/>
                          <p:cNvSpPr/>
                          <p:nvPr/>
                        </p:nvSpPr>
                        <p:spPr>
                          <a:xfrm rot="13552200">
                            <a:off x="2051640" y="4148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6" name="Group 691"/>
                        <p:cNvGrpSpPr/>
                        <p:nvPr/>
                      </p:nvGrpSpPr>
                      <p:grpSpPr>
                        <a:xfrm>
                          <a:off x="1978560" y="4098600"/>
                          <a:ext cx="155880" cy="149400"/>
                          <a:chOff x="1978560" y="4098600"/>
                          <a:chExt cx="155880" cy="149400"/>
                        </a:xfrm>
                      </p:grpSpPr>
                      <p:sp>
                        <p:nvSpPr>
                          <p:cNvPr id="1047" name="Freeform 692"/>
                          <p:cNvSpPr/>
                          <p:nvPr/>
                        </p:nvSpPr>
                        <p:spPr>
                          <a:xfrm rot="14002800">
                            <a:off x="2013480" y="41094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8" name="Freeform 693"/>
                          <p:cNvSpPr/>
                          <p:nvPr/>
                        </p:nvSpPr>
                        <p:spPr>
                          <a:xfrm rot="14002800">
                            <a:off x="2026080" y="40928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9" name="Group 694"/>
                        <p:cNvGrpSpPr/>
                        <p:nvPr/>
                      </p:nvGrpSpPr>
                      <p:grpSpPr>
                        <a:xfrm>
                          <a:off x="1933560" y="4037400"/>
                          <a:ext cx="151560" cy="122400"/>
                          <a:chOff x="1933560" y="4037400"/>
                          <a:chExt cx="151560" cy="122400"/>
                        </a:xfrm>
                      </p:grpSpPr>
                      <p:sp>
                        <p:nvSpPr>
                          <p:cNvPr id="1050" name="Freeform 695"/>
                          <p:cNvSpPr/>
                          <p:nvPr/>
                        </p:nvSpPr>
                        <p:spPr>
                          <a:xfrm rot="15109200">
                            <a:off x="1965600" y="40334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1" name="Freeform 696"/>
                          <p:cNvSpPr/>
                          <p:nvPr/>
                        </p:nvSpPr>
                        <p:spPr>
                          <a:xfrm rot="15109200">
                            <a:off x="1982880" y="40172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52" name="Group 697"/>
                    <p:cNvGrpSpPr/>
                    <p:nvPr/>
                  </p:nvGrpSpPr>
                  <p:grpSpPr>
                    <a:xfrm>
                      <a:off x="2621520" y="4251600"/>
                      <a:ext cx="521280" cy="258840"/>
                      <a:chOff x="2621520" y="4251600"/>
                      <a:chExt cx="521280" cy="258840"/>
                    </a:xfrm>
                  </p:grpSpPr>
                  <p:grpSp>
                    <p:nvGrpSpPr>
                      <p:cNvPr id="1053" name="Group 698"/>
                      <p:cNvGrpSpPr/>
                      <p:nvPr/>
                    </p:nvGrpSpPr>
                    <p:grpSpPr>
                      <a:xfrm>
                        <a:off x="2876400" y="4251600"/>
                        <a:ext cx="266400" cy="222840"/>
                        <a:chOff x="2876400" y="4251600"/>
                        <a:chExt cx="266400" cy="222840"/>
                      </a:xfrm>
                    </p:grpSpPr>
                    <p:grpSp>
                      <p:nvGrpSpPr>
                        <p:cNvPr id="1054" name="Group 699"/>
                        <p:cNvGrpSpPr/>
                        <p:nvPr/>
                      </p:nvGrpSpPr>
                      <p:grpSpPr>
                        <a:xfrm>
                          <a:off x="2876400" y="4322160"/>
                          <a:ext cx="113040" cy="152280"/>
                          <a:chOff x="2876400" y="4322160"/>
                          <a:chExt cx="113040" cy="152280"/>
                        </a:xfrm>
                      </p:grpSpPr>
                      <p:sp>
                        <p:nvSpPr>
                          <p:cNvPr id="1055" name="Freeform 700"/>
                          <p:cNvSpPr/>
                          <p:nvPr/>
                        </p:nvSpPr>
                        <p:spPr>
                          <a:xfrm flipH="1" rot="10031400">
                            <a:off x="2889360" y="43387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6" name="Freeform 701"/>
                          <p:cNvSpPr/>
                          <p:nvPr/>
                        </p:nvSpPr>
                        <p:spPr>
                          <a:xfrm flipH="1" rot="10031400">
                            <a:off x="2914560" y="43268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57" name="Group 702"/>
                        <p:cNvGrpSpPr/>
                        <p:nvPr/>
                      </p:nvGrpSpPr>
                      <p:grpSpPr>
                        <a:xfrm>
                          <a:off x="2923920" y="4289040"/>
                          <a:ext cx="126360" cy="156960"/>
                          <a:chOff x="2923920" y="4289040"/>
                          <a:chExt cx="126360" cy="156960"/>
                        </a:xfrm>
                      </p:grpSpPr>
                      <p:sp>
                        <p:nvSpPr>
                          <p:cNvPr id="1058" name="Freeform 703"/>
                          <p:cNvSpPr/>
                          <p:nvPr/>
                        </p:nvSpPr>
                        <p:spPr>
                          <a:xfrm flipH="1" rot="9580800">
                            <a:off x="2943000" y="43066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9" name="Freeform 704"/>
                          <p:cNvSpPr/>
                          <p:nvPr/>
                        </p:nvSpPr>
                        <p:spPr>
                          <a:xfrm flipH="1" rot="9580800">
                            <a:off x="2966760" y="429480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0" name="Group 705"/>
                        <p:cNvGrpSpPr/>
                        <p:nvPr/>
                      </p:nvGrpSpPr>
                      <p:grpSpPr>
                        <a:xfrm>
                          <a:off x="2994840" y="4251600"/>
                          <a:ext cx="147960" cy="159120"/>
                          <a:chOff x="2994840" y="4251600"/>
                          <a:chExt cx="147960" cy="159120"/>
                        </a:xfrm>
                      </p:grpSpPr>
                      <p:sp>
                        <p:nvSpPr>
                          <p:cNvPr id="1061" name="Freeform 706"/>
                          <p:cNvSpPr/>
                          <p:nvPr/>
                        </p:nvSpPr>
                        <p:spPr>
                          <a:xfrm flipH="1" rot="8474400">
                            <a:off x="3024360" y="4269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2" name="Freeform 707"/>
                          <p:cNvSpPr/>
                          <p:nvPr/>
                        </p:nvSpPr>
                        <p:spPr>
                          <a:xfrm flipH="1" rot="8474400">
                            <a:off x="3045960" y="42541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63" name="Group 708"/>
                      <p:cNvGrpSpPr/>
                      <p:nvPr/>
                    </p:nvGrpSpPr>
                    <p:grpSpPr>
                      <a:xfrm>
                        <a:off x="2621520" y="4338000"/>
                        <a:ext cx="263880" cy="172440"/>
                        <a:chOff x="2621520" y="4338000"/>
                        <a:chExt cx="263880" cy="172440"/>
                      </a:xfrm>
                    </p:grpSpPr>
                    <p:grpSp>
                      <p:nvGrpSpPr>
                        <p:cNvPr id="1064" name="Group 709"/>
                        <p:cNvGrpSpPr/>
                        <p:nvPr/>
                      </p:nvGrpSpPr>
                      <p:grpSpPr>
                        <a:xfrm>
                          <a:off x="2786400" y="4368960"/>
                          <a:ext cx="99000" cy="141480"/>
                          <a:chOff x="2786400" y="4368960"/>
                          <a:chExt cx="99000" cy="141480"/>
                        </a:xfrm>
                      </p:grpSpPr>
                      <p:sp>
                        <p:nvSpPr>
                          <p:cNvPr id="1065" name="Freeform 710"/>
                          <p:cNvSpPr/>
                          <p:nvPr/>
                        </p:nvSpPr>
                        <p:spPr>
                          <a:xfrm rot="10476600">
                            <a:off x="2791800" y="4379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6" name="Freeform 711"/>
                          <p:cNvSpPr/>
                          <p:nvPr/>
                        </p:nvSpPr>
                        <p:spPr>
                          <a:xfrm rot="10476600">
                            <a:off x="2795760" y="43711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7" name="Group 712"/>
                        <p:cNvGrpSpPr/>
                        <p:nvPr/>
                      </p:nvGrpSpPr>
                      <p:grpSpPr>
                        <a:xfrm>
                          <a:off x="2729160" y="4355640"/>
                          <a:ext cx="92160" cy="139680"/>
                          <a:chOff x="2729160" y="4355640"/>
                          <a:chExt cx="92160" cy="139680"/>
                        </a:xfrm>
                      </p:grpSpPr>
                      <p:sp>
                        <p:nvSpPr>
                          <p:cNvPr id="1068" name="Freeform 713"/>
                          <p:cNvSpPr/>
                          <p:nvPr/>
                        </p:nvSpPr>
                        <p:spPr>
                          <a:xfrm rot="10927200">
                            <a:off x="2731320" y="43660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9" name="Freeform 714"/>
                          <p:cNvSpPr/>
                          <p:nvPr/>
                        </p:nvSpPr>
                        <p:spPr>
                          <a:xfrm rot="10927200">
                            <a:off x="2735280" y="43567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0" name="Group 715"/>
                        <p:cNvGrpSpPr/>
                        <p:nvPr/>
                      </p:nvGrpSpPr>
                      <p:grpSpPr>
                        <a:xfrm>
                          <a:off x="2621520" y="4338000"/>
                          <a:ext cx="126720" cy="157680"/>
                          <a:chOff x="2621520" y="4338000"/>
                          <a:chExt cx="126720" cy="157680"/>
                        </a:xfrm>
                      </p:grpSpPr>
                      <p:sp>
                        <p:nvSpPr>
                          <p:cNvPr id="1071" name="Freeform 716"/>
                          <p:cNvSpPr/>
                          <p:nvPr/>
                        </p:nvSpPr>
                        <p:spPr>
                          <a:xfrm rot="12033600">
                            <a:off x="2640960" y="4356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2" name="Freeform 717"/>
                          <p:cNvSpPr/>
                          <p:nvPr/>
                        </p:nvSpPr>
                        <p:spPr>
                          <a:xfrm rot="12033600">
                            <a:off x="2647440" y="4343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73" name="Group 718"/>
                    <p:cNvGrpSpPr/>
                    <p:nvPr/>
                  </p:nvGrpSpPr>
                  <p:grpSpPr>
                    <a:xfrm>
                      <a:off x="2738520" y="4366440"/>
                      <a:ext cx="521280" cy="258840"/>
                      <a:chOff x="2738520" y="4366440"/>
                      <a:chExt cx="521280" cy="258840"/>
                    </a:xfrm>
                  </p:grpSpPr>
                  <p:grpSp>
                    <p:nvGrpSpPr>
                      <p:cNvPr id="1074" name="Group 719"/>
                      <p:cNvGrpSpPr/>
                      <p:nvPr/>
                    </p:nvGrpSpPr>
                    <p:grpSpPr>
                      <a:xfrm>
                        <a:off x="2993400" y="4366440"/>
                        <a:ext cx="266400" cy="222840"/>
                        <a:chOff x="2993400" y="4366440"/>
                        <a:chExt cx="266400" cy="222840"/>
                      </a:xfrm>
                    </p:grpSpPr>
                    <p:grpSp>
                      <p:nvGrpSpPr>
                        <p:cNvPr id="1075" name="Group 720"/>
                        <p:cNvGrpSpPr/>
                        <p:nvPr/>
                      </p:nvGrpSpPr>
                      <p:grpSpPr>
                        <a:xfrm>
                          <a:off x="2993400" y="4437000"/>
                          <a:ext cx="113040" cy="152280"/>
                          <a:chOff x="2993400" y="4437000"/>
                          <a:chExt cx="113040" cy="152280"/>
                        </a:xfrm>
                      </p:grpSpPr>
                      <p:sp>
                        <p:nvSpPr>
                          <p:cNvPr id="1076" name="Freeform 721"/>
                          <p:cNvSpPr/>
                          <p:nvPr/>
                        </p:nvSpPr>
                        <p:spPr>
                          <a:xfrm flipH="1" rot="10031400">
                            <a:off x="3006360" y="44535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7" name="Freeform 722"/>
                          <p:cNvSpPr/>
                          <p:nvPr/>
                        </p:nvSpPr>
                        <p:spPr>
                          <a:xfrm flipH="1" rot="10031400">
                            <a:off x="3031560" y="44416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8" name="Group 723"/>
                        <p:cNvGrpSpPr/>
                        <p:nvPr/>
                      </p:nvGrpSpPr>
                      <p:grpSpPr>
                        <a:xfrm>
                          <a:off x="3040920" y="4403880"/>
                          <a:ext cx="126360" cy="156960"/>
                          <a:chOff x="3040920" y="4403880"/>
                          <a:chExt cx="126360" cy="156960"/>
                        </a:xfrm>
                      </p:grpSpPr>
                      <p:sp>
                        <p:nvSpPr>
                          <p:cNvPr id="1079" name="Freeform 724"/>
                          <p:cNvSpPr/>
                          <p:nvPr/>
                        </p:nvSpPr>
                        <p:spPr>
                          <a:xfrm flipH="1" rot="9580800">
                            <a:off x="3060000" y="442152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0" name="Freeform 725"/>
                          <p:cNvSpPr/>
                          <p:nvPr/>
                        </p:nvSpPr>
                        <p:spPr>
                          <a:xfrm flipH="1" rot="9580800">
                            <a:off x="3083760" y="44096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1" name="Group 726"/>
                        <p:cNvGrpSpPr/>
                        <p:nvPr/>
                      </p:nvGrpSpPr>
                      <p:grpSpPr>
                        <a:xfrm>
                          <a:off x="3111840" y="4366440"/>
                          <a:ext cx="147960" cy="159120"/>
                          <a:chOff x="3111840" y="4366440"/>
                          <a:chExt cx="147960" cy="159120"/>
                        </a:xfrm>
                      </p:grpSpPr>
                      <p:sp>
                        <p:nvSpPr>
                          <p:cNvPr id="1082" name="Freeform 727"/>
                          <p:cNvSpPr/>
                          <p:nvPr/>
                        </p:nvSpPr>
                        <p:spPr>
                          <a:xfrm flipH="1" rot="8474400">
                            <a:off x="3141360" y="4384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3" name="Freeform 728"/>
                          <p:cNvSpPr/>
                          <p:nvPr/>
                        </p:nvSpPr>
                        <p:spPr>
                          <a:xfrm flipH="1" rot="8474400">
                            <a:off x="3162960" y="4368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84" name="Group 729"/>
                      <p:cNvGrpSpPr/>
                      <p:nvPr/>
                    </p:nvGrpSpPr>
                    <p:grpSpPr>
                      <a:xfrm>
                        <a:off x="2738520" y="4452840"/>
                        <a:ext cx="263880" cy="172440"/>
                        <a:chOff x="2738520" y="4452840"/>
                        <a:chExt cx="263880" cy="172440"/>
                      </a:xfrm>
                    </p:grpSpPr>
                    <p:grpSp>
                      <p:nvGrpSpPr>
                        <p:cNvPr id="1085" name="Group 730"/>
                        <p:cNvGrpSpPr/>
                        <p:nvPr/>
                      </p:nvGrpSpPr>
                      <p:grpSpPr>
                        <a:xfrm>
                          <a:off x="2903400" y="4483800"/>
                          <a:ext cx="99000" cy="141480"/>
                          <a:chOff x="2903400" y="4483800"/>
                          <a:chExt cx="99000" cy="141480"/>
                        </a:xfrm>
                      </p:grpSpPr>
                      <p:sp>
                        <p:nvSpPr>
                          <p:cNvPr id="1086" name="Freeform 731"/>
                          <p:cNvSpPr/>
                          <p:nvPr/>
                        </p:nvSpPr>
                        <p:spPr>
                          <a:xfrm rot="10476600">
                            <a:off x="2908800" y="4493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7" name="Freeform 732"/>
                          <p:cNvSpPr/>
                          <p:nvPr/>
                        </p:nvSpPr>
                        <p:spPr>
                          <a:xfrm rot="10476600">
                            <a:off x="2912760" y="4485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8" name="Group 733"/>
                        <p:cNvGrpSpPr/>
                        <p:nvPr/>
                      </p:nvGrpSpPr>
                      <p:grpSpPr>
                        <a:xfrm>
                          <a:off x="2846160" y="4470480"/>
                          <a:ext cx="92160" cy="139680"/>
                          <a:chOff x="2846160" y="4470480"/>
                          <a:chExt cx="92160" cy="139680"/>
                        </a:xfrm>
                      </p:grpSpPr>
                      <p:sp>
                        <p:nvSpPr>
                          <p:cNvPr id="1089" name="Freeform 734"/>
                          <p:cNvSpPr/>
                          <p:nvPr/>
                        </p:nvSpPr>
                        <p:spPr>
                          <a:xfrm rot="10927200">
                            <a:off x="2848320" y="4480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0" name="Freeform 735"/>
                          <p:cNvSpPr/>
                          <p:nvPr/>
                        </p:nvSpPr>
                        <p:spPr>
                          <a:xfrm rot="10927200">
                            <a:off x="2852280" y="4471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91" name="Group 736"/>
                        <p:cNvGrpSpPr/>
                        <p:nvPr/>
                      </p:nvGrpSpPr>
                      <p:grpSpPr>
                        <a:xfrm>
                          <a:off x="2738520" y="4452840"/>
                          <a:ext cx="126720" cy="157680"/>
                          <a:chOff x="2738520" y="4452840"/>
                          <a:chExt cx="126720" cy="157680"/>
                        </a:xfrm>
                      </p:grpSpPr>
                      <p:sp>
                        <p:nvSpPr>
                          <p:cNvPr id="1092" name="Freeform 737"/>
                          <p:cNvSpPr/>
                          <p:nvPr/>
                        </p:nvSpPr>
                        <p:spPr>
                          <a:xfrm rot="12033600">
                            <a:off x="2757960" y="44715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3" name="Freeform 738"/>
                          <p:cNvSpPr/>
                          <p:nvPr/>
                        </p:nvSpPr>
                        <p:spPr>
                          <a:xfrm rot="12033600">
                            <a:off x="2764440" y="44582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94" name="Group 739"/>
                    <p:cNvGrpSpPr/>
                    <p:nvPr/>
                  </p:nvGrpSpPr>
                  <p:grpSpPr>
                    <a:xfrm>
                      <a:off x="3390120" y="3705480"/>
                      <a:ext cx="228960" cy="521280"/>
                      <a:chOff x="3390120" y="3705480"/>
                      <a:chExt cx="228960" cy="521280"/>
                    </a:xfrm>
                  </p:grpSpPr>
                  <p:grpSp>
                    <p:nvGrpSpPr>
                      <p:cNvPr id="1095" name="Group 740"/>
                      <p:cNvGrpSpPr/>
                      <p:nvPr/>
                    </p:nvGrpSpPr>
                    <p:grpSpPr>
                      <a:xfrm>
                        <a:off x="3436200" y="3705480"/>
                        <a:ext cx="172080" cy="262080"/>
                        <a:chOff x="3436200" y="3705480"/>
                        <a:chExt cx="172080" cy="262080"/>
                      </a:xfrm>
                    </p:grpSpPr>
                    <p:grpSp>
                      <p:nvGrpSpPr>
                        <p:cNvPr id="1096" name="Group 741"/>
                        <p:cNvGrpSpPr/>
                        <p:nvPr/>
                      </p:nvGrpSpPr>
                      <p:grpSpPr>
                        <a:xfrm>
                          <a:off x="3462120" y="3865680"/>
                          <a:ext cx="146160" cy="101880"/>
                          <a:chOff x="3462120" y="3865680"/>
                          <a:chExt cx="146160" cy="101880"/>
                        </a:xfrm>
                      </p:grpSpPr>
                      <p:sp>
                        <p:nvSpPr>
                          <p:cNvPr id="1097" name="Freeform 742"/>
                          <p:cNvSpPr/>
                          <p:nvPr/>
                        </p:nvSpPr>
                        <p:spPr>
                          <a:xfrm flipH="1" rot="5839200">
                            <a:off x="3494520" y="3851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8" name="Freeform 743"/>
                          <p:cNvSpPr/>
                          <p:nvPr/>
                        </p:nvSpPr>
                        <p:spPr>
                          <a:xfrm flipH="1" rot="5839200">
                            <a:off x="3505680" y="38358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99" name="Group 744"/>
                        <p:cNvGrpSpPr/>
                        <p:nvPr/>
                      </p:nvGrpSpPr>
                      <p:grpSpPr>
                        <a:xfrm>
                          <a:off x="3452040" y="3813480"/>
                          <a:ext cx="140400" cy="86040"/>
                          <a:chOff x="3452040" y="3813480"/>
                          <a:chExt cx="140400" cy="86040"/>
                        </a:xfrm>
                      </p:grpSpPr>
                      <p:sp>
                        <p:nvSpPr>
                          <p:cNvPr id="1100" name="Freeform 745"/>
                          <p:cNvSpPr/>
                          <p:nvPr/>
                        </p:nvSpPr>
                        <p:spPr>
                          <a:xfrm flipH="1" rot="5388600">
                            <a:off x="3484080" y="379152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1" name="Freeform 746"/>
                          <p:cNvSpPr/>
                          <p:nvPr/>
                        </p:nvSpPr>
                        <p:spPr>
                          <a:xfrm flipH="1" rot="5388600">
                            <a:off x="3492720" y="377604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02" name="Group 747"/>
                        <p:cNvGrpSpPr/>
                        <p:nvPr/>
                      </p:nvGrpSpPr>
                      <p:grpSpPr>
                        <a:xfrm>
                          <a:off x="3436200" y="3705480"/>
                          <a:ext cx="158400" cy="123120"/>
                          <a:chOff x="3436200" y="3705480"/>
                          <a:chExt cx="158400" cy="123120"/>
                        </a:xfrm>
                      </p:grpSpPr>
                      <p:sp>
                        <p:nvSpPr>
                          <p:cNvPr id="1103" name="Freeform 748"/>
                          <p:cNvSpPr/>
                          <p:nvPr/>
                        </p:nvSpPr>
                        <p:spPr>
                          <a:xfrm flipH="1" rot="4282200">
                            <a:off x="3476160" y="37015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4" name="Freeform 749"/>
                          <p:cNvSpPr/>
                          <p:nvPr/>
                        </p:nvSpPr>
                        <p:spPr>
                          <a:xfrm flipH="1" rot="4282200">
                            <a:off x="3482280" y="36892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05" name="Group 750"/>
                      <p:cNvGrpSpPr/>
                      <p:nvPr/>
                    </p:nvGrpSpPr>
                    <p:grpSpPr>
                      <a:xfrm>
                        <a:off x="3390120" y="3962520"/>
                        <a:ext cx="228960" cy="264240"/>
                        <a:chOff x="3390120" y="3962520"/>
                        <a:chExt cx="228960" cy="264240"/>
                      </a:xfrm>
                    </p:grpSpPr>
                    <p:grpSp>
                      <p:nvGrpSpPr>
                        <p:cNvPr id="1106" name="Group 751"/>
                        <p:cNvGrpSpPr/>
                        <p:nvPr/>
                      </p:nvGrpSpPr>
                      <p:grpSpPr>
                        <a:xfrm>
                          <a:off x="3463560" y="3962520"/>
                          <a:ext cx="155520" cy="116280"/>
                          <a:chOff x="3463560" y="3962520"/>
                          <a:chExt cx="155520" cy="116280"/>
                        </a:xfrm>
                      </p:grpSpPr>
                      <p:sp>
                        <p:nvSpPr>
                          <p:cNvPr id="1107" name="Freeform 752"/>
                          <p:cNvSpPr/>
                          <p:nvPr/>
                        </p:nvSpPr>
                        <p:spPr>
                          <a:xfrm rot="6284400">
                            <a:off x="3502080" y="39556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8" name="Freeform 753"/>
                          <p:cNvSpPr/>
                          <p:nvPr/>
                        </p:nvSpPr>
                        <p:spPr>
                          <a:xfrm rot="6284400">
                            <a:off x="3509280" y="39610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09" name="Group 754"/>
                        <p:cNvGrpSpPr/>
                        <p:nvPr/>
                      </p:nvGrpSpPr>
                      <p:grpSpPr>
                        <a:xfrm>
                          <a:off x="3429000" y="4007520"/>
                          <a:ext cx="160200" cy="128880"/>
                          <a:chOff x="3429000" y="4007520"/>
                          <a:chExt cx="160200" cy="128880"/>
                        </a:xfrm>
                      </p:grpSpPr>
                      <p:sp>
                        <p:nvSpPr>
                          <p:cNvPr id="1110" name="Freeform 755"/>
                          <p:cNvSpPr/>
                          <p:nvPr/>
                        </p:nvSpPr>
                        <p:spPr>
                          <a:xfrm rot="6735000">
                            <a:off x="3469680" y="40068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1" name="Freeform 756"/>
                          <p:cNvSpPr/>
                          <p:nvPr/>
                        </p:nvSpPr>
                        <p:spPr>
                          <a:xfrm rot="6735000">
                            <a:off x="3475080" y="40114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12" name="Group 757"/>
                        <p:cNvGrpSpPr/>
                        <p:nvPr/>
                      </p:nvGrpSpPr>
                      <p:grpSpPr>
                        <a:xfrm>
                          <a:off x="3390120" y="4077000"/>
                          <a:ext cx="159480" cy="149760"/>
                          <a:chOff x="3390120" y="4077000"/>
                          <a:chExt cx="159480" cy="149760"/>
                        </a:xfrm>
                      </p:grpSpPr>
                      <p:sp>
                        <p:nvSpPr>
                          <p:cNvPr id="1113" name="Freeform 758"/>
                          <p:cNvSpPr/>
                          <p:nvPr/>
                        </p:nvSpPr>
                        <p:spPr>
                          <a:xfrm rot="7841400">
                            <a:off x="3429000" y="40867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4" name="Freeform 759"/>
                          <p:cNvSpPr/>
                          <p:nvPr/>
                        </p:nvSpPr>
                        <p:spPr>
                          <a:xfrm rot="7841400">
                            <a:off x="3432600" y="408780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15" name="Group 760"/>
                    <p:cNvGrpSpPr/>
                    <p:nvPr/>
                  </p:nvGrpSpPr>
                  <p:grpSpPr>
                    <a:xfrm>
                      <a:off x="3200760" y="2986920"/>
                      <a:ext cx="531720" cy="211320"/>
                      <a:chOff x="3200760" y="2986920"/>
                      <a:chExt cx="531720" cy="211320"/>
                    </a:xfrm>
                  </p:grpSpPr>
                  <p:grpSp>
                    <p:nvGrpSpPr>
                      <p:cNvPr id="1116" name="Group 761"/>
                      <p:cNvGrpSpPr/>
                      <p:nvPr/>
                    </p:nvGrpSpPr>
                    <p:grpSpPr>
                      <a:xfrm>
                        <a:off x="3200760" y="3007440"/>
                        <a:ext cx="259920" cy="181440"/>
                        <a:chOff x="3200760" y="3007440"/>
                        <a:chExt cx="259920" cy="181440"/>
                      </a:xfrm>
                    </p:grpSpPr>
                    <p:grpSp>
                      <p:nvGrpSpPr>
                        <p:cNvPr id="1117" name="Group 762"/>
                        <p:cNvGrpSpPr/>
                        <p:nvPr/>
                      </p:nvGrpSpPr>
                      <p:grpSpPr>
                        <a:xfrm>
                          <a:off x="3370680" y="3007440"/>
                          <a:ext cx="90000" cy="137880"/>
                          <a:chOff x="3370680" y="3007440"/>
                          <a:chExt cx="90000" cy="137880"/>
                        </a:xfrm>
                      </p:grpSpPr>
                      <p:sp>
                        <p:nvSpPr>
                          <p:cNvPr id="1118" name="Freeform 763"/>
                          <p:cNvSpPr/>
                          <p:nvPr/>
                        </p:nvSpPr>
                        <p:spPr>
                          <a:xfrm flipH="1" rot="76200">
                            <a:off x="3371760" y="30081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Freeform 764"/>
                          <p:cNvSpPr/>
                          <p:nvPr/>
                        </p:nvSpPr>
                        <p:spPr>
                          <a:xfrm flipH="1" rot="76200">
                            <a:off x="3375360" y="30092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0" name="Group 765"/>
                        <p:cNvGrpSpPr/>
                        <p:nvPr/>
                      </p:nvGrpSpPr>
                      <p:grpSpPr>
                        <a:xfrm>
                          <a:off x="3305160" y="3021120"/>
                          <a:ext cx="100800" cy="144720"/>
                          <a:chOff x="3305160" y="3021120"/>
                          <a:chExt cx="100800" cy="144720"/>
                        </a:xfrm>
                      </p:grpSpPr>
                      <p:sp>
                        <p:nvSpPr>
                          <p:cNvPr id="1121" name="Freeform 766"/>
                          <p:cNvSpPr/>
                          <p:nvPr/>
                        </p:nvSpPr>
                        <p:spPr>
                          <a:xfrm flipH="1" rot="21225600">
                            <a:off x="3311280" y="30254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2" name="Freeform 767"/>
                          <p:cNvSpPr/>
                          <p:nvPr/>
                        </p:nvSpPr>
                        <p:spPr>
                          <a:xfrm flipH="1" rot="21225600">
                            <a:off x="3316680" y="30283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3" name="Group 768"/>
                        <p:cNvGrpSpPr/>
                        <p:nvPr/>
                      </p:nvGrpSpPr>
                      <p:grpSpPr>
                        <a:xfrm>
                          <a:off x="3200760" y="3029760"/>
                          <a:ext cx="132840" cy="159120"/>
                          <a:chOff x="3200760" y="3029760"/>
                          <a:chExt cx="132840" cy="159120"/>
                        </a:xfrm>
                      </p:grpSpPr>
                      <p:sp>
                        <p:nvSpPr>
                          <p:cNvPr id="1124" name="Freeform 769"/>
                          <p:cNvSpPr/>
                          <p:nvPr/>
                        </p:nvSpPr>
                        <p:spPr>
                          <a:xfrm flipH="1" rot="20119200">
                            <a:off x="3222720" y="3042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5" name="Freeform 770"/>
                          <p:cNvSpPr/>
                          <p:nvPr/>
                        </p:nvSpPr>
                        <p:spPr>
                          <a:xfrm flipH="1" rot="20119200">
                            <a:off x="3229200" y="30477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26" name="Group 771"/>
                      <p:cNvGrpSpPr/>
                      <p:nvPr/>
                    </p:nvGrpSpPr>
                    <p:grpSpPr>
                      <a:xfrm>
                        <a:off x="3466800" y="2986920"/>
                        <a:ext cx="265680" cy="211320"/>
                        <a:chOff x="3466800" y="2986920"/>
                        <a:chExt cx="265680" cy="211320"/>
                      </a:xfrm>
                    </p:grpSpPr>
                    <p:grpSp>
                      <p:nvGrpSpPr>
                        <p:cNvPr id="1127" name="Group 772"/>
                        <p:cNvGrpSpPr/>
                        <p:nvPr/>
                      </p:nvGrpSpPr>
                      <p:grpSpPr>
                        <a:xfrm>
                          <a:off x="3466800" y="2986920"/>
                          <a:ext cx="105480" cy="147240"/>
                          <a:chOff x="3466800" y="2986920"/>
                          <a:chExt cx="105480" cy="147240"/>
                        </a:xfrm>
                      </p:grpSpPr>
                      <p:sp>
                        <p:nvSpPr>
                          <p:cNvPr id="1128" name="Freeform 773"/>
                          <p:cNvSpPr/>
                          <p:nvPr/>
                        </p:nvSpPr>
                        <p:spPr>
                          <a:xfrm rot="521400">
                            <a:off x="3475440" y="2992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9" name="Freeform 774"/>
                          <p:cNvSpPr/>
                          <p:nvPr/>
                        </p:nvSpPr>
                        <p:spPr>
                          <a:xfrm rot="521400">
                            <a:off x="3501360" y="2995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0" name="Group 775"/>
                        <p:cNvGrpSpPr/>
                        <p:nvPr/>
                      </p:nvGrpSpPr>
                      <p:grpSpPr>
                        <a:xfrm>
                          <a:off x="3515400" y="3009960"/>
                          <a:ext cx="119520" cy="154800"/>
                          <a:chOff x="3515400" y="3009960"/>
                          <a:chExt cx="119520" cy="154800"/>
                        </a:xfrm>
                      </p:grpSpPr>
                      <p:sp>
                        <p:nvSpPr>
                          <p:cNvPr id="1131" name="Freeform 776"/>
                          <p:cNvSpPr/>
                          <p:nvPr/>
                        </p:nvSpPr>
                        <p:spPr>
                          <a:xfrm rot="972000">
                            <a:off x="3531240" y="30193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2" name="Freeform 777"/>
                          <p:cNvSpPr/>
                          <p:nvPr/>
                        </p:nvSpPr>
                        <p:spPr>
                          <a:xfrm rot="972000">
                            <a:off x="3556440" y="3024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33" name="Group 778"/>
                        <p:cNvGrpSpPr/>
                        <p:nvPr/>
                      </p:nvGrpSpPr>
                      <p:grpSpPr>
                        <a:xfrm>
                          <a:off x="3588120" y="3037680"/>
                          <a:ext cx="144360" cy="160560"/>
                          <a:chOff x="3588120" y="3037680"/>
                          <a:chExt cx="144360" cy="160560"/>
                        </a:xfrm>
                      </p:grpSpPr>
                      <p:sp>
                        <p:nvSpPr>
                          <p:cNvPr id="1134" name="Freeform 779"/>
                          <p:cNvSpPr/>
                          <p:nvPr/>
                        </p:nvSpPr>
                        <p:spPr>
                          <a:xfrm rot="2078400">
                            <a:off x="3616200" y="3051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35" name="Freeform 780"/>
                          <p:cNvSpPr/>
                          <p:nvPr/>
                        </p:nvSpPr>
                        <p:spPr>
                          <a:xfrm rot="2078400">
                            <a:off x="3638520" y="30589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36" name="Group 781"/>
                    <p:cNvGrpSpPr/>
                    <p:nvPr/>
                  </p:nvGrpSpPr>
                  <p:grpSpPr>
                    <a:xfrm>
                      <a:off x="3317760" y="3101760"/>
                      <a:ext cx="531720" cy="211320"/>
                      <a:chOff x="3317760" y="3101760"/>
                      <a:chExt cx="531720" cy="211320"/>
                    </a:xfrm>
                  </p:grpSpPr>
                  <p:grpSp>
                    <p:nvGrpSpPr>
                      <p:cNvPr id="1137" name="Group 782"/>
                      <p:cNvGrpSpPr/>
                      <p:nvPr/>
                    </p:nvGrpSpPr>
                    <p:grpSpPr>
                      <a:xfrm>
                        <a:off x="3317760" y="3122280"/>
                        <a:ext cx="259920" cy="181440"/>
                        <a:chOff x="3317760" y="3122280"/>
                        <a:chExt cx="259920" cy="181440"/>
                      </a:xfrm>
                    </p:grpSpPr>
                    <p:grpSp>
                      <p:nvGrpSpPr>
                        <p:cNvPr id="1138" name="Group 783"/>
                        <p:cNvGrpSpPr/>
                        <p:nvPr/>
                      </p:nvGrpSpPr>
                      <p:grpSpPr>
                        <a:xfrm>
                          <a:off x="3487680" y="3122280"/>
                          <a:ext cx="90000" cy="137880"/>
                          <a:chOff x="3487680" y="3122280"/>
                          <a:chExt cx="90000" cy="137880"/>
                        </a:xfrm>
                      </p:grpSpPr>
                      <p:sp>
                        <p:nvSpPr>
                          <p:cNvPr id="1139" name="Freeform 784"/>
                          <p:cNvSpPr/>
                          <p:nvPr/>
                        </p:nvSpPr>
                        <p:spPr>
                          <a:xfrm flipH="1" rot="76200">
                            <a:off x="3488760" y="31230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0" name="Freeform 785"/>
                          <p:cNvSpPr/>
                          <p:nvPr/>
                        </p:nvSpPr>
                        <p:spPr>
                          <a:xfrm flipH="1" rot="76200">
                            <a:off x="3492360" y="31240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41" name="Group 786"/>
                        <p:cNvGrpSpPr/>
                        <p:nvPr/>
                      </p:nvGrpSpPr>
                      <p:grpSpPr>
                        <a:xfrm>
                          <a:off x="3422160" y="3135960"/>
                          <a:ext cx="100800" cy="144720"/>
                          <a:chOff x="3422160" y="3135960"/>
                          <a:chExt cx="100800" cy="144720"/>
                        </a:xfrm>
                      </p:grpSpPr>
                      <p:sp>
                        <p:nvSpPr>
                          <p:cNvPr id="1142" name="Freeform 787"/>
                          <p:cNvSpPr/>
                          <p:nvPr/>
                        </p:nvSpPr>
                        <p:spPr>
                          <a:xfrm flipH="1" rot="21225600">
                            <a:off x="3428280" y="31402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3" name="Freeform 788"/>
                          <p:cNvSpPr/>
                          <p:nvPr/>
                        </p:nvSpPr>
                        <p:spPr>
                          <a:xfrm flipH="1" rot="21225600">
                            <a:off x="3433680" y="314316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44" name="Group 789"/>
                        <p:cNvGrpSpPr/>
                        <p:nvPr/>
                      </p:nvGrpSpPr>
                      <p:grpSpPr>
                        <a:xfrm>
                          <a:off x="3317760" y="3144600"/>
                          <a:ext cx="132840" cy="159120"/>
                          <a:chOff x="3317760" y="3144600"/>
                          <a:chExt cx="132840" cy="159120"/>
                        </a:xfrm>
                      </p:grpSpPr>
                      <p:sp>
                        <p:nvSpPr>
                          <p:cNvPr id="1145" name="Freeform 790"/>
                          <p:cNvSpPr/>
                          <p:nvPr/>
                        </p:nvSpPr>
                        <p:spPr>
                          <a:xfrm flipH="1" rot="20119200">
                            <a:off x="3339720" y="3156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6" name="Freeform 791"/>
                          <p:cNvSpPr/>
                          <p:nvPr/>
                        </p:nvSpPr>
                        <p:spPr>
                          <a:xfrm flipH="1" rot="20119200">
                            <a:off x="3346200" y="3162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47" name="Group 792"/>
                      <p:cNvGrpSpPr/>
                      <p:nvPr/>
                    </p:nvGrpSpPr>
                    <p:grpSpPr>
                      <a:xfrm>
                        <a:off x="3583800" y="3101760"/>
                        <a:ext cx="265680" cy="211320"/>
                        <a:chOff x="3583800" y="3101760"/>
                        <a:chExt cx="265680" cy="211320"/>
                      </a:xfrm>
                    </p:grpSpPr>
                    <p:grpSp>
                      <p:nvGrpSpPr>
                        <p:cNvPr id="1148" name="Group 793"/>
                        <p:cNvGrpSpPr/>
                        <p:nvPr/>
                      </p:nvGrpSpPr>
                      <p:grpSpPr>
                        <a:xfrm>
                          <a:off x="3583800" y="3101760"/>
                          <a:ext cx="105480" cy="147240"/>
                          <a:chOff x="3583800" y="3101760"/>
                          <a:chExt cx="105480" cy="147240"/>
                        </a:xfrm>
                      </p:grpSpPr>
                      <p:sp>
                        <p:nvSpPr>
                          <p:cNvPr id="1149" name="Freeform 794"/>
                          <p:cNvSpPr/>
                          <p:nvPr/>
                        </p:nvSpPr>
                        <p:spPr>
                          <a:xfrm rot="521400">
                            <a:off x="3592440" y="3107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0" name="Freeform 795"/>
                          <p:cNvSpPr/>
                          <p:nvPr/>
                        </p:nvSpPr>
                        <p:spPr>
                          <a:xfrm rot="521400">
                            <a:off x="3618360" y="3110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51" name="Group 796"/>
                        <p:cNvGrpSpPr/>
                        <p:nvPr/>
                      </p:nvGrpSpPr>
                      <p:grpSpPr>
                        <a:xfrm>
                          <a:off x="3632400" y="3124800"/>
                          <a:ext cx="119520" cy="154800"/>
                          <a:chOff x="3632400" y="3124800"/>
                          <a:chExt cx="119520" cy="154800"/>
                        </a:xfrm>
                      </p:grpSpPr>
                      <p:sp>
                        <p:nvSpPr>
                          <p:cNvPr id="1152" name="Freeform 797"/>
                          <p:cNvSpPr/>
                          <p:nvPr/>
                        </p:nvSpPr>
                        <p:spPr>
                          <a:xfrm rot="972000">
                            <a:off x="3648240" y="31341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3" name="Freeform 798"/>
                          <p:cNvSpPr/>
                          <p:nvPr/>
                        </p:nvSpPr>
                        <p:spPr>
                          <a:xfrm rot="972000">
                            <a:off x="3673440" y="3139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54" name="Group 799"/>
                        <p:cNvGrpSpPr/>
                        <p:nvPr/>
                      </p:nvGrpSpPr>
                      <p:grpSpPr>
                        <a:xfrm>
                          <a:off x="3705120" y="3152520"/>
                          <a:ext cx="144360" cy="160560"/>
                          <a:chOff x="3705120" y="3152520"/>
                          <a:chExt cx="144360" cy="160560"/>
                        </a:xfrm>
                      </p:grpSpPr>
                      <p:sp>
                        <p:nvSpPr>
                          <p:cNvPr id="1155" name="Freeform 800"/>
                          <p:cNvSpPr/>
                          <p:nvPr/>
                        </p:nvSpPr>
                        <p:spPr>
                          <a:xfrm rot="2078400">
                            <a:off x="3733200" y="3165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6" name="Freeform 801"/>
                          <p:cNvSpPr/>
                          <p:nvPr/>
                        </p:nvSpPr>
                        <p:spPr>
                          <a:xfrm rot="2078400">
                            <a:off x="3755520" y="31737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57" name="Group 802"/>
                    <p:cNvGrpSpPr/>
                    <p:nvPr/>
                  </p:nvGrpSpPr>
                  <p:grpSpPr>
                    <a:xfrm>
                      <a:off x="2776320" y="3144600"/>
                      <a:ext cx="264240" cy="498960"/>
                      <a:chOff x="2776320" y="3144600"/>
                      <a:chExt cx="264240" cy="498960"/>
                    </a:xfrm>
                  </p:grpSpPr>
                  <p:grpSp>
                    <p:nvGrpSpPr>
                      <p:cNvPr id="1158" name="Group 803"/>
                      <p:cNvGrpSpPr/>
                      <p:nvPr/>
                    </p:nvGrpSpPr>
                    <p:grpSpPr>
                      <a:xfrm>
                        <a:off x="2884680" y="3144600"/>
                        <a:ext cx="155880" cy="262800"/>
                        <a:chOff x="2884680" y="3144600"/>
                        <a:chExt cx="155880" cy="262800"/>
                      </a:xfrm>
                    </p:grpSpPr>
                    <p:grpSp>
                      <p:nvGrpSpPr>
                        <p:cNvPr id="1159" name="Group 804"/>
                        <p:cNvGrpSpPr/>
                        <p:nvPr/>
                      </p:nvGrpSpPr>
                      <p:grpSpPr>
                        <a:xfrm>
                          <a:off x="2885040" y="3285720"/>
                          <a:ext cx="151200" cy="121680"/>
                          <a:chOff x="2885040" y="3285720"/>
                          <a:chExt cx="151200" cy="121680"/>
                        </a:xfrm>
                      </p:grpSpPr>
                      <p:sp>
                        <p:nvSpPr>
                          <p:cNvPr id="1160" name="Freeform 805"/>
                          <p:cNvSpPr/>
                          <p:nvPr/>
                        </p:nvSpPr>
                        <p:spPr>
                          <a:xfrm flipH="1" rot="6471000">
                            <a:off x="2917440" y="32814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1" name="Freeform 806"/>
                          <p:cNvSpPr/>
                          <p:nvPr/>
                        </p:nvSpPr>
                        <p:spPr>
                          <a:xfrm flipH="1" rot="6471000">
                            <a:off x="2930760" y="3265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2" name="Group 807"/>
                        <p:cNvGrpSpPr/>
                        <p:nvPr/>
                      </p:nvGrpSpPr>
                      <p:grpSpPr>
                        <a:xfrm>
                          <a:off x="2884680" y="3231720"/>
                          <a:ext cx="147960" cy="107640"/>
                          <a:chOff x="2884680" y="3231720"/>
                          <a:chExt cx="147960" cy="107640"/>
                        </a:xfrm>
                      </p:grpSpPr>
                      <p:sp>
                        <p:nvSpPr>
                          <p:cNvPr id="1163" name="Freeform 808"/>
                          <p:cNvSpPr/>
                          <p:nvPr/>
                        </p:nvSpPr>
                        <p:spPr>
                          <a:xfrm flipH="1" rot="6020400">
                            <a:off x="2918160" y="322056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4" name="Freeform 809"/>
                          <p:cNvSpPr/>
                          <p:nvPr/>
                        </p:nvSpPr>
                        <p:spPr>
                          <a:xfrm flipH="1" rot="6020400">
                            <a:off x="2929320" y="32040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65" name="Group 810"/>
                        <p:cNvGrpSpPr/>
                        <p:nvPr/>
                      </p:nvGrpSpPr>
                      <p:grpSpPr>
                        <a:xfrm>
                          <a:off x="2890440" y="3144600"/>
                          <a:ext cx="150120" cy="103320"/>
                          <a:chOff x="2890440" y="3144600"/>
                          <a:chExt cx="150120" cy="103320"/>
                        </a:xfrm>
                      </p:grpSpPr>
                      <p:sp>
                        <p:nvSpPr>
                          <p:cNvPr id="1166" name="Freeform 811"/>
                          <p:cNvSpPr/>
                          <p:nvPr/>
                        </p:nvSpPr>
                        <p:spPr>
                          <a:xfrm flipH="1" rot="4914000">
                            <a:off x="2926800" y="31312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67" name="Freeform 812"/>
                          <p:cNvSpPr/>
                          <p:nvPr/>
                        </p:nvSpPr>
                        <p:spPr>
                          <a:xfrm flipH="1" rot="4914000">
                            <a:off x="2934360" y="31172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68" name="Group 813"/>
                      <p:cNvGrpSpPr/>
                      <p:nvPr/>
                    </p:nvGrpSpPr>
                    <p:grpSpPr>
                      <a:xfrm>
                        <a:off x="2776320" y="3383640"/>
                        <a:ext cx="249840" cy="259920"/>
                        <a:chOff x="2776320" y="3383640"/>
                        <a:chExt cx="249840" cy="259920"/>
                      </a:xfrm>
                    </p:grpSpPr>
                    <p:grpSp>
                      <p:nvGrpSpPr>
                        <p:cNvPr id="1169" name="Group 814"/>
                        <p:cNvGrpSpPr/>
                        <p:nvPr/>
                      </p:nvGrpSpPr>
                      <p:grpSpPr>
                        <a:xfrm>
                          <a:off x="2864880" y="3383640"/>
                          <a:ext cx="161280" cy="133200"/>
                          <a:chOff x="2864880" y="3383640"/>
                          <a:chExt cx="161280" cy="133200"/>
                        </a:xfrm>
                      </p:grpSpPr>
                      <p:sp>
                        <p:nvSpPr>
                          <p:cNvPr id="1170" name="Freeform 815"/>
                          <p:cNvSpPr/>
                          <p:nvPr/>
                        </p:nvSpPr>
                        <p:spPr>
                          <a:xfrm rot="6916200">
                            <a:off x="2905920" y="33850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1" name="Freeform 816"/>
                          <p:cNvSpPr/>
                          <p:nvPr/>
                        </p:nvSpPr>
                        <p:spPr>
                          <a:xfrm rot="6916200">
                            <a:off x="2910960" y="33890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72" name="Group 817"/>
                        <p:cNvGrpSpPr/>
                        <p:nvPr/>
                      </p:nvGrpSpPr>
                      <p:grpSpPr>
                        <a:xfrm>
                          <a:off x="2823480" y="3423600"/>
                          <a:ext cx="162000" cy="142560"/>
                          <a:chOff x="2823480" y="3423600"/>
                          <a:chExt cx="162000" cy="142560"/>
                        </a:xfrm>
                      </p:grpSpPr>
                      <p:sp>
                        <p:nvSpPr>
                          <p:cNvPr id="1173" name="Freeform 818"/>
                          <p:cNvSpPr/>
                          <p:nvPr/>
                        </p:nvSpPr>
                        <p:spPr>
                          <a:xfrm rot="7366800">
                            <a:off x="2864520" y="342972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4" name="Freeform 819"/>
                          <p:cNvSpPr/>
                          <p:nvPr/>
                        </p:nvSpPr>
                        <p:spPr>
                          <a:xfrm rot="7366800">
                            <a:off x="2868120" y="343224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75" name="Group 820"/>
                        <p:cNvGrpSpPr/>
                        <p:nvPr/>
                      </p:nvGrpSpPr>
                      <p:grpSpPr>
                        <a:xfrm>
                          <a:off x="2776320" y="3488400"/>
                          <a:ext cx="151200" cy="155160"/>
                          <a:chOff x="2776320" y="3488400"/>
                          <a:chExt cx="151200" cy="155160"/>
                        </a:xfrm>
                      </p:grpSpPr>
                      <p:sp>
                        <p:nvSpPr>
                          <p:cNvPr id="1176" name="Freeform 821"/>
                          <p:cNvSpPr/>
                          <p:nvPr/>
                        </p:nvSpPr>
                        <p:spPr>
                          <a:xfrm rot="8473800">
                            <a:off x="2810160" y="350064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77" name="Freeform 822"/>
                          <p:cNvSpPr/>
                          <p:nvPr/>
                        </p:nvSpPr>
                        <p:spPr>
                          <a:xfrm rot="8473800">
                            <a:off x="2813040" y="3499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78" name="Group 823"/>
                    <p:cNvGrpSpPr/>
                    <p:nvPr/>
                  </p:nvGrpSpPr>
                  <p:grpSpPr>
                    <a:xfrm>
                      <a:off x="1599840" y="3101760"/>
                      <a:ext cx="531720" cy="211320"/>
                      <a:chOff x="1599840" y="3101760"/>
                      <a:chExt cx="531720" cy="211320"/>
                    </a:xfrm>
                  </p:grpSpPr>
                  <p:grpSp>
                    <p:nvGrpSpPr>
                      <p:cNvPr id="1179" name="Group 824"/>
                      <p:cNvGrpSpPr/>
                      <p:nvPr/>
                    </p:nvGrpSpPr>
                    <p:grpSpPr>
                      <a:xfrm>
                        <a:off x="1599840" y="3122280"/>
                        <a:ext cx="259920" cy="181440"/>
                        <a:chOff x="1599840" y="3122280"/>
                        <a:chExt cx="259920" cy="181440"/>
                      </a:xfrm>
                    </p:grpSpPr>
                    <p:grpSp>
                      <p:nvGrpSpPr>
                        <p:cNvPr id="1180" name="Group 825"/>
                        <p:cNvGrpSpPr/>
                        <p:nvPr/>
                      </p:nvGrpSpPr>
                      <p:grpSpPr>
                        <a:xfrm>
                          <a:off x="1769760" y="3122280"/>
                          <a:ext cx="90000" cy="137880"/>
                          <a:chOff x="1769760" y="3122280"/>
                          <a:chExt cx="90000" cy="137880"/>
                        </a:xfrm>
                      </p:grpSpPr>
                      <p:sp>
                        <p:nvSpPr>
                          <p:cNvPr id="1181" name="Freeform 826"/>
                          <p:cNvSpPr/>
                          <p:nvPr/>
                        </p:nvSpPr>
                        <p:spPr>
                          <a:xfrm flipH="1" rot="76200">
                            <a:off x="1770840" y="312300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2" name="Freeform 827"/>
                          <p:cNvSpPr/>
                          <p:nvPr/>
                        </p:nvSpPr>
                        <p:spPr>
                          <a:xfrm flipH="1" rot="76200">
                            <a:off x="1774440" y="31240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3" name="Group 828"/>
                        <p:cNvGrpSpPr/>
                        <p:nvPr/>
                      </p:nvGrpSpPr>
                      <p:grpSpPr>
                        <a:xfrm>
                          <a:off x="1704240" y="3135960"/>
                          <a:ext cx="100800" cy="144720"/>
                          <a:chOff x="1704240" y="3135960"/>
                          <a:chExt cx="100800" cy="144720"/>
                        </a:xfrm>
                      </p:grpSpPr>
                      <p:sp>
                        <p:nvSpPr>
                          <p:cNvPr id="1184" name="Freeform 829"/>
                          <p:cNvSpPr/>
                          <p:nvPr/>
                        </p:nvSpPr>
                        <p:spPr>
                          <a:xfrm flipH="1" rot="21225600">
                            <a:off x="1710360" y="31402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5" name="Freeform 830"/>
                          <p:cNvSpPr/>
                          <p:nvPr/>
                        </p:nvSpPr>
                        <p:spPr>
                          <a:xfrm flipH="1" rot="21225600">
                            <a:off x="1715760" y="314316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86" name="Group 831"/>
                        <p:cNvGrpSpPr/>
                        <p:nvPr/>
                      </p:nvGrpSpPr>
                      <p:grpSpPr>
                        <a:xfrm>
                          <a:off x="1599840" y="3144600"/>
                          <a:ext cx="132840" cy="159120"/>
                          <a:chOff x="1599840" y="3144600"/>
                          <a:chExt cx="132840" cy="159120"/>
                        </a:xfrm>
                      </p:grpSpPr>
                      <p:sp>
                        <p:nvSpPr>
                          <p:cNvPr id="1187" name="Freeform 832"/>
                          <p:cNvSpPr/>
                          <p:nvPr/>
                        </p:nvSpPr>
                        <p:spPr>
                          <a:xfrm flipH="1" rot="20119200">
                            <a:off x="1621800" y="3156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88" name="Freeform 833"/>
                          <p:cNvSpPr/>
                          <p:nvPr/>
                        </p:nvSpPr>
                        <p:spPr>
                          <a:xfrm flipH="1" rot="20119200">
                            <a:off x="1628280" y="3162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89" name="Group 834"/>
                      <p:cNvGrpSpPr/>
                      <p:nvPr/>
                    </p:nvGrpSpPr>
                    <p:grpSpPr>
                      <a:xfrm>
                        <a:off x="1865880" y="3101760"/>
                        <a:ext cx="265680" cy="211320"/>
                        <a:chOff x="1865880" y="3101760"/>
                        <a:chExt cx="265680" cy="211320"/>
                      </a:xfrm>
                    </p:grpSpPr>
                    <p:grpSp>
                      <p:nvGrpSpPr>
                        <p:cNvPr id="1190" name="Group 835"/>
                        <p:cNvGrpSpPr/>
                        <p:nvPr/>
                      </p:nvGrpSpPr>
                      <p:grpSpPr>
                        <a:xfrm>
                          <a:off x="1865880" y="3101760"/>
                          <a:ext cx="105480" cy="147240"/>
                          <a:chOff x="1865880" y="3101760"/>
                          <a:chExt cx="105480" cy="147240"/>
                        </a:xfrm>
                      </p:grpSpPr>
                      <p:sp>
                        <p:nvSpPr>
                          <p:cNvPr id="1191" name="Freeform 836"/>
                          <p:cNvSpPr/>
                          <p:nvPr/>
                        </p:nvSpPr>
                        <p:spPr>
                          <a:xfrm rot="521400">
                            <a:off x="1874520" y="3107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2" name="Freeform 837"/>
                          <p:cNvSpPr/>
                          <p:nvPr/>
                        </p:nvSpPr>
                        <p:spPr>
                          <a:xfrm rot="521400">
                            <a:off x="1900440" y="3110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93" name="Group 838"/>
                        <p:cNvGrpSpPr/>
                        <p:nvPr/>
                      </p:nvGrpSpPr>
                      <p:grpSpPr>
                        <a:xfrm>
                          <a:off x="1914480" y="3124800"/>
                          <a:ext cx="119520" cy="154800"/>
                          <a:chOff x="1914480" y="3124800"/>
                          <a:chExt cx="119520" cy="154800"/>
                        </a:xfrm>
                      </p:grpSpPr>
                      <p:sp>
                        <p:nvSpPr>
                          <p:cNvPr id="1194" name="Freeform 839"/>
                          <p:cNvSpPr/>
                          <p:nvPr/>
                        </p:nvSpPr>
                        <p:spPr>
                          <a:xfrm rot="972000">
                            <a:off x="1930320" y="31341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5" name="Freeform 840"/>
                          <p:cNvSpPr/>
                          <p:nvPr/>
                        </p:nvSpPr>
                        <p:spPr>
                          <a:xfrm rot="972000">
                            <a:off x="1955520" y="3139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96" name="Group 841"/>
                        <p:cNvGrpSpPr/>
                        <p:nvPr/>
                      </p:nvGrpSpPr>
                      <p:grpSpPr>
                        <a:xfrm>
                          <a:off x="1987200" y="3152520"/>
                          <a:ext cx="144360" cy="160560"/>
                          <a:chOff x="1987200" y="3152520"/>
                          <a:chExt cx="144360" cy="160560"/>
                        </a:xfrm>
                      </p:grpSpPr>
                      <p:sp>
                        <p:nvSpPr>
                          <p:cNvPr id="1197" name="Freeform 842"/>
                          <p:cNvSpPr/>
                          <p:nvPr/>
                        </p:nvSpPr>
                        <p:spPr>
                          <a:xfrm rot="2078400">
                            <a:off x="2015280" y="3165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98" name="Freeform 843"/>
                          <p:cNvSpPr/>
                          <p:nvPr/>
                        </p:nvSpPr>
                        <p:spPr>
                          <a:xfrm rot="2078400">
                            <a:off x="2037600" y="31737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99" name="Group 844"/>
                    <p:cNvGrpSpPr/>
                    <p:nvPr/>
                  </p:nvGrpSpPr>
                  <p:grpSpPr>
                    <a:xfrm>
                      <a:off x="3280320" y="2582280"/>
                      <a:ext cx="351000" cy="443880"/>
                      <a:chOff x="3280320" y="2582280"/>
                      <a:chExt cx="351000" cy="443880"/>
                    </a:xfrm>
                  </p:grpSpPr>
                  <p:grpSp>
                    <p:nvGrpSpPr>
                      <p:cNvPr id="1200" name="Group 845"/>
                      <p:cNvGrpSpPr/>
                      <p:nvPr/>
                    </p:nvGrpSpPr>
                    <p:grpSpPr>
                      <a:xfrm>
                        <a:off x="3280320" y="2582280"/>
                        <a:ext cx="261000" cy="250920"/>
                        <a:chOff x="3280320" y="2582280"/>
                        <a:chExt cx="261000" cy="250920"/>
                      </a:xfrm>
                    </p:grpSpPr>
                    <p:grpSp>
                      <p:nvGrpSpPr>
                        <p:cNvPr id="1201" name="Group 846"/>
                        <p:cNvGrpSpPr/>
                        <p:nvPr/>
                      </p:nvGrpSpPr>
                      <p:grpSpPr>
                        <a:xfrm>
                          <a:off x="3379680" y="2689920"/>
                          <a:ext cx="161640" cy="143280"/>
                          <a:chOff x="3379680" y="2689920"/>
                          <a:chExt cx="161640" cy="143280"/>
                        </a:xfrm>
                      </p:grpSpPr>
                      <p:sp>
                        <p:nvSpPr>
                          <p:cNvPr id="1202" name="Freeform 847"/>
                          <p:cNvSpPr/>
                          <p:nvPr/>
                        </p:nvSpPr>
                        <p:spPr>
                          <a:xfrm flipH="1" rot="3403200">
                            <a:off x="3419640" y="26964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3" name="Freeform 848"/>
                          <p:cNvSpPr/>
                          <p:nvPr/>
                        </p:nvSpPr>
                        <p:spPr>
                          <a:xfrm flipH="1" rot="3403200">
                            <a:off x="3424320" y="26866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4" name="Group 849"/>
                        <p:cNvGrpSpPr/>
                        <p:nvPr/>
                      </p:nvGrpSpPr>
                      <p:grpSpPr>
                        <a:xfrm>
                          <a:off x="3333600" y="2648160"/>
                          <a:ext cx="159120" cy="149760"/>
                          <a:chOff x="3333600" y="2648160"/>
                          <a:chExt cx="159120" cy="149760"/>
                        </a:xfrm>
                      </p:grpSpPr>
                      <p:sp>
                        <p:nvSpPr>
                          <p:cNvPr id="1205" name="Freeform 850"/>
                          <p:cNvSpPr/>
                          <p:nvPr/>
                        </p:nvSpPr>
                        <p:spPr>
                          <a:xfrm flipH="1" rot="2952600">
                            <a:off x="3372840" y="2657880"/>
                            <a:ext cx="85680" cy="129960"/>
                          </a:xfrm>
                          <a:custGeom>
                            <a:avLst/>
                            <a:gdLst>
                              <a:gd name="textAreaLeft" fmla="*/ 360 w 85680"/>
                              <a:gd name="textAreaRight" fmla="*/ 86400 w 8568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6" name="Freeform 851"/>
                          <p:cNvSpPr/>
                          <p:nvPr/>
                        </p:nvSpPr>
                        <p:spPr>
                          <a:xfrm flipH="1" rot="2952600">
                            <a:off x="3375720" y="2649600"/>
                            <a:ext cx="55440" cy="137520"/>
                          </a:xfrm>
                          <a:custGeom>
                            <a:avLst/>
                            <a:gdLst>
                              <a:gd name="textAreaLeft" fmla="*/ 360 w 55440"/>
                              <a:gd name="textAreaRight" fmla="*/ 56160 w 5544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7" name="Group 852"/>
                        <p:cNvGrpSpPr/>
                        <p:nvPr/>
                      </p:nvGrpSpPr>
                      <p:grpSpPr>
                        <a:xfrm>
                          <a:off x="3280320" y="2582280"/>
                          <a:ext cx="141480" cy="155520"/>
                          <a:chOff x="3280320" y="2582280"/>
                          <a:chExt cx="141480" cy="155520"/>
                        </a:xfrm>
                      </p:grpSpPr>
                      <p:sp>
                        <p:nvSpPr>
                          <p:cNvPr id="1208" name="Freeform 853"/>
                          <p:cNvSpPr/>
                          <p:nvPr/>
                        </p:nvSpPr>
                        <p:spPr>
                          <a:xfrm flipH="1" rot="1846200">
                            <a:off x="3308400" y="25948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-360 w 86040"/>
                              <a:gd name="textAreaRight" fmla="*/ 8604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09" name="Freeform 854"/>
                          <p:cNvSpPr/>
                          <p:nvPr/>
                        </p:nvSpPr>
                        <p:spPr>
                          <a:xfrm flipH="1" rot="1846200">
                            <a:off x="3311280" y="2590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-360 w 55800"/>
                              <a:gd name="textAreaRight" fmla="*/ 5580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210" name="Group 855"/>
                      <p:cNvGrpSpPr/>
                      <p:nvPr/>
                    </p:nvGrpSpPr>
                    <p:grpSpPr>
                      <a:xfrm>
                        <a:off x="3459240" y="2768760"/>
                        <a:ext cx="172080" cy="257400"/>
                        <a:chOff x="3459240" y="2768760"/>
                        <a:chExt cx="172080" cy="257400"/>
                      </a:xfrm>
                    </p:grpSpPr>
                    <p:grpSp>
                      <p:nvGrpSpPr>
                        <p:cNvPr id="1211" name="Group 856"/>
                        <p:cNvGrpSpPr/>
                        <p:nvPr/>
                      </p:nvGrpSpPr>
                      <p:grpSpPr>
                        <a:xfrm>
                          <a:off x="3459240" y="2768760"/>
                          <a:ext cx="154440" cy="134640"/>
                          <a:chOff x="3459240" y="2768760"/>
                          <a:chExt cx="154440" cy="134640"/>
                        </a:xfrm>
                      </p:grpSpPr>
                      <p:sp>
                        <p:nvSpPr>
                          <p:cNvPr id="1212" name="Freeform 857"/>
                          <p:cNvSpPr/>
                          <p:nvPr/>
                        </p:nvSpPr>
                        <p:spPr>
                          <a:xfrm rot="3848400">
                            <a:off x="3493440" y="277056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3" name="Freeform 858"/>
                          <p:cNvSpPr/>
                          <p:nvPr/>
                        </p:nvSpPr>
                        <p:spPr>
                          <a:xfrm rot="3848400">
                            <a:off x="3508200" y="27795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14" name="Group 859"/>
                        <p:cNvGrpSpPr/>
                        <p:nvPr/>
                      </p:nvGrpSpPr>
                      <p:grpSpPr>
                        <a:xfrm>
                          <a:off x="3468960" y="2834640"/>
                          <a:ext cx="151200" cy="122400"/>
                          <a:chOff x="3468960" y="2834640"/>
                          <a:chExt cx="151200" cy="122400"/>
                        </a:xfrm>
                      </p:grpSpPr>
                      <p:sp>
                        <p:nvSpPr>
                          <p:cNvPr id="1215" name="Freeform 860"/>
                          <p:cNvSpPr/>
                          <p:nvPr/>
                        </p:nvSpPr>
                        <p:spPr>
                          <a:xfrm rot="4299000">
                            <a:off x="3501720" y="283068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6" name="Freeform 861"/>
                          <p:cNvSpPr/>
                          <p:nvPr/>
                        </p:nvSpPr>
                        <p:spPr>
                          <a:xfrm rot="4299000">
                            <a:off x="3515040" y="283968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17" name="Group 862"/>
                        <p:cNvGrpSpPr/>
                        <p:nvPr/>
                      </p:nvGrpSpPr>
                      <p:grpSpPr>
                        <a:xfrm>
                          <a:off x="3492000" y="2939760"/>
                          <a:ext cx="139320" cy="86400"/>
                          <a:chOff x="3492000" y="2939760"/>
                          <a:chExt cx="139320" cy="86400"/>
                        </a:xfrm>
                      </p:grpSpPr>
                      <p:sp>
                        <p:nvSpPr>
                          <p:cNvPr id="1218" name="Freeform 863"/>
                          <p:cNvSpPr/>
                          <p:nvPr/>
                        </p:nvSpPr>
                        <p:spPr>
                          <a:xfrm rot="5405400">
                            <a:off x="3522960" y="2917800"/>
                            <a:ext cx="86040" cy="129960"/>
                          </a:xfrm>
                          <a:custGeom>
                            <a:avLst/>
                            <a:gdLst>
                              <a:gd name="textAreaLeft" fmla="*/ 0 w 86040"/>
                              <a:gd name="textAreaRight" fmla="*/ 86400 w 86040"/>
                              <a:gd name="textAreaTop" fmla="*/ 0 h 129960"/>
                              <a:gd name="textAreaBottom" fmla="*/ 130320 h 12996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19" name="Freeform 864"/>
                          <p:cNvSpPr/>
                          <p:nvPr/>
                        </p:nvSpPr>
                        <p:spPr>
                          <a:xfrm rot="5405400">
                            <a:off x="3532680" y="2925360"/>
                            <a:ext cx="55800" cy="137520"/>
                          </a:xfrm>
                          <a:custGeom>
                            <a:avLst/>
                            <a:gdLst>
                              <a:gd name="textAreaLeft" fmla="*/ 0 w 55800"/>
                              <a:gd name="textAreaRight" fmla="*/ 56160 w 55800"/>
                              <a:gd name="textAreaTop" fmla="*/ 0 h 137520"/>
                              <a:gd name="textAreaBottom" fmla="*/ 137880 h 13752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220" name="Group 865"/>
                    <p:cNvGrpSpPr/>
                    <p:nvPr/>
                  </p:nvGrpSpPr>
                  <p:grpSpPr>
                    <a:xfrm>
                      <a:off x="2028600" y="3557880"/>
                      <a:ext cx="941760" cy="238320"/>
                      <a:chOff x="2028600" y="3557880"/>
                      <a:chExt cx="941760" cy="238320"/>
                    </a:xfrm>
                  </p:grpSpPr>
                  <p:grpSp>
                    <p:nvGrpSpPr>
                      <p:cNvPr id="1221" name="Group 866"/>
                      <p:cNvGrpSpPr/>
                      <p:nvPr/>
                    </p:nvGrpSpPr>
                    <p:grpSpPr>
                      <a:xfrm>
                        <a:off x="2028600" y="3557880"/>
                        <a:ext cx="528120" cy="238320"/>
                        <a:chOff x="2028600" y="3557880"/>
                        <a:chExt cx="528120" cy="238320"/>
                      </a:xfrm>
                    </p:grpSpPr>
                    <p:grpSp>
                      <p:nvGrpSpPr>
                        <p:cNvPr id="1222" name="Group 867"/>
                        <p:cNvGrpSpPr/>
                        <p:nvPr/>
                      </p:nvGrpSpPr>
                      <p:grpSpPr>
                        <a:xfrm>
                          <a:off x="2028600" y="3585960"/>
                          <a:ext cx="265680" cy="210240"/>
                          <a:chOff x="2028600" y="3585960"/>
                          <a:chExt cx="265680" cy="210240"/>
                        </a:xfrm>
                      </p:grpSpPr>
                      <p:grpSp>
                        <p:nvGrpSpPr>
                          <p:cNvPr id="1223" name="Group 868"/>
                          <p:cNvGrpSpPr/>
                          <p:nvPr/>
                        </p:nvGrpSpPr>
                        <p:grpSpPr>
                          <a:xfrm>
                            <a:off x="2189520" y="3585960"/>
                            <a:ext cx="104760" cy="147600"/>
                            <a:chOff x="2189520" y="3585960"/>
                            <a:chExt cx="104760" cy="147600"/>
                          </a:xfrm>
                        </p:grpSpPr>
                        <p:sp>
                          <p:nvSpPr>
                            <p:cNvPr id="1224" name="Freeform 869"/>
                            <p:cNvSpPr/>
                            <p:nvPr/>
                          </p:nvSpPr>
                          <p:spPr>
                            <a:xfrm flipH="1" rot="21099600">
                              <a:off x="2198160" y="3591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25" name="Freeform 870"/>
                            <p:cNvSpPr/>
                            <p:nvPr/>
                          </p:nvSpPr>
                          <p:spPr>
                            <a:xfrm flipH="1" rot="21099600">
                              <a:off x="2202480" y="3594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26" name="Group 871"/>
                          <p:cNvGrpSpPr/>
                          <p:nvPr/>
                        </p:nvGrpSpPr>
                        <p:grpSpPr>
                          <a:xfrm>
                            <a:off x="2125800" y="3609000"/>
                            <a:ext cx="119160" cy="154080"/>
                            <a:chOff x="2125800" y="3609000"/>
                            <a:chExt cx="119160" cy="154080"/>
                          </a:xfrm>
                        </p:grpSpPr>
                        <p:sp>
                          <p:nvSpPr>
                            <p:cNvPr id="1227" name="Freeform 872"/>
                            <p:cNvSpPr/>
                            <p:nvPr/>
                          </p:nvSpPr>
                          <p:spPr>
                            <a:xfrm flipH="1" rot="20649000">
                              <a:off x="2140920" y="3618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28" name="Freeform 873"/>
                            <p:cNvSpPr/>
                            <p:nvPr/>
                          </p:nvSpPr>
                          <p:spPr>
                            <a:xfrm flipH="1" rot="20649000">
                              <a:off x="2147040" y="3623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29" name="Group 874"/>
                          <p:cNvGrpSpPr/>
                          <p:nvPr/>
                        </p:nvGrpSpPr>
                        <p:grpSpPr>
                          <a:xfrm>
                            <a:off x="2028600" y="3636000"/>
                            <a:ext cx="144000" cy="160200"/>
                            <a:chOff x="2028600" y="3636000"/>
                            <a:chExt cx="144000" cy="160200"/>
                          </a:xfrm>
                        </p:grpSpPr>
                        <p:sp>
                          <p:nvSpPr>
                            <p:cNvPr id="1230" name="Freeform 875"/>
                            <p:cNvSpPr/>
                            <p:nvPr/>
                          </p:nvSpPr>
                          <p:spPr>
                            <a:xfrm flipH="1" rot="19542600">
                              <a:off x="2056680" y="3649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31" name="Freeform 876"/>
                            <p:cNvSpPr/>
                            <p:nvPr/>
                          </p:nvSpPr>
                          <p:spPr>
                            <a:xfrm flipH="1" rot="19542600">
                              <a:off x="2064600" y="3656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32" name="Group 877"/>
                        <p:cNvGrpSpPr/>
                        <p:nvPr/>
                      </p:nvGrpSpPr>
                      <p:grpSpPr>
                        <a:xfrm>
                          <a:off x="2296800" y="3557880"/>
                          <a:ext cx="259920" cy="182160"/>
                          <a:chOff x="2296800" y="3557880"/>
                          <a:chExt cx="259920" cy="182160"/>
                        </a:xfrm>
                      </p:grpSpPr>
                      <p:grpSp>
                        <p:nvGrpSpPr>
                          <p:cNvPr id="1233" name="Group 878"/>
                          <p:cNvGrpSpPr/>
                          <p:nvPr/>
                        </p:nvGrpSpPr>
                        <p:grpSpPr>
                          <a:xfrm>
                            <a:off x="2296800" y="3557880"/>
                            <a:ext cx="89640" cy="137520"/>
                            <a:chOff x="2296800" y="3557880"/>
                            <a:chExt cx="89640" cy="137520"/>
                          </a:xfrm>
                        </p:grpSpPr>
                        <p:sp>
                          <p:nvSpPr>
                            <p:cNvPr id="1234" name="Freeform 879"/>
                            <p:cNvSpPr/>
                            <p:nvPr/>
                          </p:nvSpPr>
                          <p:spPr>
                            <a:xfrm rot="21544800">
                              <a:off x="2297520" y="3558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35" name="Freeform 880"/>
                            <p:cNvSpPr/>
                            <p:nvPr/>
                          </p:nvSpPr>
                          <p:spPr>
                            <a:xfrm rot="21544800">
                              <a:off x="2324520" y="3559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36" name="Group 881"/>
                          <p:cNvGrpSpPr/>
                          <p:nvPr/>
                        </p:nvGrpSpPr>
                        <p:grpSpPr>
                          <a:xfrm>
                            <a:off x="2350080" y="3571560"/>
                            <a:ext cx="101520" cy="145440"/>
                            <a:chOff x="2350080" y="3571560"/>
                            <a:chExt cx="101520" cy="145440"/>
                          </a:xfrm>
                        </p:grpSpPr>
                        <p:sp>
                          <p:nvSpPr>
                            <p:cNvPr id="1237" name="Freeform 882"/>
                            <p:cNvSpPr/>
                            <p:nvPr/>
                          </p:nvSpPr>
                          <p:spPr>
                            <a:xfrm rot="395400">
                              <a:off x="2356920" y="3575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38" name="Freeform 883"/>
                            <p:cNvSpPr/>
                            <p:nvPr/>
                          </p:nvSpPr>
                          <p:spPr>
                            <a:xfrm rot="395400">
                              <a:off x="2383200" y="3578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39" name="Group 884"/>
                          <p:cNvGrpSpPr/>
                          <p:nvPr/>
                        </p:nvGrpSpPr>
                        <p:grpSpPr>
                          <a:xfrm>
                            <a:off x="2423520" y="3580200"/>
                            <a:ext cx="133200" cy="159840"/>
                            <a:chOff x="2423520" y="3580200"/>
                            <a:chExt cx="133200" cy="159840"/>
                          </a:xfrm>
                        </p:grpSpPr>
                        <p:sp>
                          <p:nvSpPr>
                            <p:cNvPr id="1240" name="Freeform 885"/>
                            <p:cNvSpPr/>
                            <p:nvPr/>
                          </p:nvSpPr>
                          <p:spPr>
                            <a:xfrm rot="1501800">
                              <a:off x="2446200" y="3592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41" name="Freeform 886"/>
                            <p:cNvSpPr/>
                            <p:nvPr/>
                          </p:nvSpPr>
                          <p:spPr>
                            <a:xfrm rot="1501800">
                              <a:off x="2469960" y="3599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242" name="Group 887"/>
                      <p:cNvGrpSpPr/>
                      <p:nvPr/>
                    </p:nvGrpSpPr>
                    <p:grpSpPr>
                      <a:xfrm>
                        <a:off x="2442240" y="3557880"/>
                        <a:ext cx="528120" cy="238320"/>
                        <a:chOff x="2442240" y="3557880"/>
                        <a:chExt cx="528120" cy="238320"/>
                      </a:xfrm>
                    </p:grpSpPr>
                    <p:grpSp>
                      <p:nvGrpSpPr>
                        <p:cNvPr id="1243" name="Group 888"/>
                        <p:cNvGrpSpPr/>
                        <p:nvPr/>
                      </p:nvGrpSpPr>
                      <p:grpSpPr>
                        <a:xfrm>
                          <a:off x="2705040" y="3585960"/>
                          <a:ext cx="265320" cy="210240"/>
                          <a:chOff x="2705040" y="3585960"/>
                          <a:chExt cx="265320" cy="210240"/>
                        </a:xfrm>
                      </p:grpSpPr>
                      <p:grpSp>
                        <p:nvGrpSpPr>
                          <p:cNvPr id="1244" name="Group 889"/>
                          <p:cNvGrpSpPr/>
                          <p:nvPr/>
                        </p:nvGrpSpPr>
                        <p:grpSpPr>
                          <a:xfrm>
                            <a:off x="2705040" y="3585960"/>
                            <a:ext cx="104400" cy="147600"/>
                            <a:chOff x="2705040" y="3585960"/>
                            <a:chExt cx="104400" cy="147600"/>
                          </a:xfrm>
                        </p:grpSpPr>
                        <p:sp>
                          <p:nvSpPr>
                            <p:cNvPr id="1245" name="Freeform 890"/>
                            <p:cNvSpPr/>
                            <p:nvPr/>
                          </p:nvSpPr>
                          <p:spPr>
                            <a:xfrm rot="500400">
                              <a:off x="2713680" y="3591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46" name="Freeform 891"/>
                            <p:cNvSpPr/>
                            <p:nvPr/>
                          </p:nvSpPr>
                          <p:spPr>
                            <a:xfrm rot="500400">
                              <a:off x="2739600" y="3594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47" name="Group 892"/>
                          <p:cNvGrpSpPr/>
                          <p:nvPr/>
                        </p:nvGrpSpPr>
                        <p:grpSpPr>
                          <a:xfrm>
                            <a:off x="2754360" y="3609000"/>
                            <a:ext cx="118800" cy="154080"/>
                            <a:chOff x="2754360" y="3609000"/>
                            <a:chExt cx="118800" cy="154080"/>
                          </a:xfrm>
                        </p:grpSpPr>
                        <p:sp>
                          <p:nvSpPr>
                            <p:cNvPr id="1248" name="Freeform 893"/>
                            <p:cNvSpPr/>
                            <p:nvPr/>
                          </p:nvSpPr>
                          <p:spPr>
                            <a:xfrm rot="951000">
                              <a:off x="2769840" y="3618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49" name="Freeform 894"/>
                            <p:cNvSpPr/>
                            <p:nvPr/>
                          </p:nvSpPr>
                          <p:spPr>
                            <a:xfrm rot="951000">
                              <a:off x="2794320" y="3623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50" name="Group 895"/>
                          <p:cNvGrpSpPr/>
                          <p:nvPr/>
                        </p:nvGrpSpPr>
                        <p:grpSpPr>
                          <a:xfrm>
                            <a:off x="2826360" y="3636000"/>
                            <a:ext cx="144000" cy="160200"/>
                            <a:chOff x="2826360" y="3636000"/>
                            <a:chExt cx="144000" cy="160200"/>
                          </a:xfrm>
                        </p:grpSpPr>
                        <p:sp>
                          <p:nvSpPr>
                            <p:cNvPr id="1251" name="Freeform 896"/>
                            <p:cNvSpPr/>
                            <p:nvPr/>
                          </p:nvSpPr>
                          <p:spPr>
                            <a:xfrm rot="2057400">
                              <a:off x="2854440" y="3649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52" name="Freeform 897"/>
                            <p:cNvSpPr/>
                            <p:nvPr/>
                          </p:nvSpPr>
                          <p:spPr>
                            <a:xfrm rot="2057400">
                              <a:off x="2877120" y="36568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53" name="Group 898"/>
                        <p:cNvGrpSpPr/>
                        <p:nvPr/>
                      </p:nvGrpSpPr>
                      <p:grpSpPr>
                        <a:xfrm>
                          <a:off x="2442240" y="3557880"/>
                          <a:ext cx="259920" cy="182160"/>
                          <a:chOff x="2442240" y="3557880"/>
                          <a:chExt cx="259920" cy="182160"/>
                        </a:xfrm>
                      </p:grpSpPr>
                      <p:grpSp>
                        <p:nvGrpSpPr>
                          <p:cNvPr id="1254" name="Group 899"/>
                          <p:cNvGrpSpPr/>
                          <p:nvPr/>
                        </p:nvGrpSpPr>
                        <p:grpSpPr>
                          <a:xfrm>
                            <a:off x="2612520" y="3557880"/>
                            <a:ext cx="89640" cy="137520"/>
                            <a:chOff x="2612520" y="3557880"/>
                            <a:chExt cx="89640" cy="137520"/>
                          </a:xfrm>
                        </p:grpSpPr>
                        <p:sp>
                          <p:nvSpPr>
                            <p:cNvPr id="1255" name="Freeform 900"/>
                            <p:cNvSpPr/>
                            <p:nvPr/>
                          </p:nvSpPr>
                          <p:spPr>
                            <a:xfrm flipH="1" rot="55200">
                              <a:off x="2612880" y="3558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56" name="Freeform 901"/>
                            <p:cNvSpPr/>
                            <p:nvPr/>
                          </p:nvSpPr>
                          <p:spPr>
                            <a:xfrm flipH="1" rot="55200">
                              <a:off x="2617560" y="3559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57" name="Group 902"/>
                          <p:cNvGrpSpPr/>
                          <p:nvPr/>
                        </p:nvGrpSpPr>
                        <p:grpSpPr>
                          <a:xfrm>
                            <a:off x="2547360" y="3571560"/>
                            <a:ext cx="101520" cy="145440"/>
                            <a:chOff x="2547360" y="3571560"/>
                            <a:chExt cx="101520" cy="145440"/>
                          </a:xfrm>
                        </p:grpSpPr>
                        <p:sp>
                          <p:nvSpPr>
                            <p:cNvPr id="1258" name="Freeform 903"/>
                            <p:cNvSpPr/>
                            <p:nvPr/>
                          </p:nvSpPr>
                          <p:spPr>
                            <a:xfrm flipH="1" rot="21204600">
                              <a:off x="2554200" y="3575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59" name="Freeform 904"/>
                            <p:cNvSpPr/>
                            <p:nvPr/>
                          </p:nvSpPr>
                          <p:spPr>
                            <a:xfrm flipH="1" rot="21204600">
                              <a:off x="2558160" y="3578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60" name="Group 905"/>
                          <p:cNvGrpSpPr/>
                          <p:nvPr/>
                        </p:nvGrpSpPr>
                        <p:grpSpPr>
                          <a:xfrm>
                            <a:off x="2442240" y="3580200"/>
                            <a:ext cx="133200" cy="159840"/>
                            <a:chOff x="2442240" y="3580200"/>
                            <a:chExt cx="133200" cy="159840"/>
                          </a:xfrm>
                        </p:grpSpPr>
                        <p:sp>
                          <p:nvSpPr>
                            <p:cNvPr id="1261" name="Freeform 906"/>
                            <p:cNvSpPr/>
                            <p:nvPr/>
                          </p:nvSpPr>
                          <p:spPr>
                            <a:xfrm flipH="1" rot="20098200">
                              <a:off x="2464920" y="3592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62" name="Freeform 907"/>
                            <p:cNvSpPr/>
                            <p:nvPr/>
                          </p:nvSpPr>
                          <p:spPr>
                            <a:xfrm flipH="1" rot="20098200">
                              <a:off x="2472120" y="3599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263" name="Group 908"/>
                    <p:cNvGrpSpPr/>
                    <p:nvPr/>
                  </p:nvGrpSpPr>
                  <p:grpSpPr>
                    <a:xfrm>
                      <a:off x="2145960" y="3673080"/>
                      <a:ext cx="941760" cy="238320"/>
                      <a:chOff x="2145960" y="3673080"/>
                      <a:chExt cx="941760" cy="238320"/>
                    </a:xfrm>
                  </p:grpSpPr>
                  <p:grpSp>
                    <p:nvGrpSpPr>
                      <p:cNvPr id="1264" name="Group 909"/>
                      <p:cNvGrpSpPr/>
                      <p:nvPr/>
                    </p:nvGrpSpPr>
                    <p:grpSpPr>
                      <a:xfrm>
                        <a:off x="2145960" y="3673080"/>
                        <a:ext cx="528120" cy="238320"/>
                        <a:chOff x="2145960" y="3673080"/>
                        <a:chExt cx="528120" cy="238320"/>
                      </a:xfrm>
                    </p:grpSpPr>
                    <p:grpSp>
                      <p:nvGrpSpPr>
                        <p:cNvPr id="1265" name="Group 910"/>
                        <p:cNvGrpSpPr/>
                        <p:nvPr/>
                      </p:nvGrpSpPr>
                      <p:grpSpPr>
                        <a:xfrm>
                          <a:off x="2145960" y="3701160"/>
                          <a:ext cx="265680" cy="210240"/>
                          <a:chOff x="2145960" y="3701160"/>
                          <a:chExt cx="265680" cy="210240"/>
                        </a:xfrm>
                      </p:grpSpPr>
                      <p:grpSp>
                        <p:nvGrpSpPr>
                          <p:cNvPr id="1266" name="Group 911"/>
                          <p:cNvGrpSpPr/>
                          <p:nvPr/>
                        </p:nvGrpSpPr>
                        <p:grpSpPr>
                          <a:xfrm>
                            <a:off x="2306880" y="3701160"/>
                            <a:ext cx="104760" cy="147600"/>
                            <a:chOff x="2306880" y="3701160"/>
                            <a:chExt cx="104760" cy="147600"/>
                          </a:xfrm>
                        </p:grpSpPr>
                        <p:sp>
                          <p:nvSpPr>
                            <p:cNvPr id="1267" name="Freeform 912"/>
                            <p:cNvSpPr/>
                            <p:nvPr/>
                          </p:nvSpPr>
                          <p:spPr>
                            <a:xfrm flipH="1" rot="21099600">
                              <a:off x="2315520" y="37065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68" name="Freeform 913"/>
                            <p:cNvSpPr/>
                            <p:nvPr/>
                          </p:nvSpPr>
                          <p:spPr>
                            <a:xfrm flipH="1" rot="21099600">
                              <a:off x="2319840" y="37098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69" name="Group 914"/>
                          <p:cNvGrpSpPr/>
                          <p:nvPr/>
                        </p:nvGrpSpPr>
                        <p:grpSpPr>
                          <a:xfrm>
                            <a:off x="2243160" y="3724200"/>
                            <a:ext cx="119160" cy="154080"/>
                            <a:chOff x="2243160" y="3724200"/>
                            <a:chExt cx="119160" cy="154080"/>
                          </a:xfrm>
                        </p:grpSpPr>
                        <p:sp>
                          <p:nvSpPr>
                            <p:cNvPr id="1270" name="Freeform 915"/>
                            <p:cNvSpPr/>
                            <p:nvPr/>
                          </p:nvSpPr>
                          <p:spPr>
                            <a:xfrm flipH="1" rot="20649000">
                              <a:off x="2258280" y="37335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71" name="Freeform 916"/>
                            <p:cNvSpPr/>
                            <p:nvPr/>
                          </p:nvSpPr>
                          <p:spPr>
                            <a:xfrm flipH="1" rot="20649000">
                              <a:off x="2264400" y="37382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72" name="Group 917"/>
                          <p:cNvGrpSpPr/>
                          <p:nvPr/>
                        </p:nvGrpSpPr>
                        <p:grpSpPr>
                          <a:xfrm>
                            <a:off x="2145960" y="3751200"/>
                            <a:ext cx="144000" cy="160200"/>
                            <a:chOff x="2145960" y="3751200"/>
                            <a:chExt cx="144000" cy="160200"/>
                          </a:xfrm>
                        </p:grpSpPr>
                        <p:sp>
                          <p:nvSpPr>
                            <p:cNvPr id="1273" name="Freeform 918"/>
                            <p:cNvSpPr/>
                            <p:nvPr/>
                          </p:nvSpPr>
                          <p:spPr>
                            <a:xfrm flipH="1" rot="19542600">
                              <a:off x="2174040" y="3764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74" name="Freeform 919"/>
                            <p:cNvSpPr/>
                            <p:nvPr/>
                          </p:nvSpPr>
                          <p:spPr>
                            <a:xfrm flipH="1" rot="19542600">
                              <a:off x="2181960" y="3772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75" name="Group 920"/>
                        <p:cNvGrpSpPr/>
                        <p:nvPr/>
                      </p:nvGrpSpPr>
                      <p:grpSpPr>
                        <a:xfrm>
                          <a:off x="2414160" y="3673080"/>
                          <a:ext cx="259920" cy="182160"/>
                          <a:chOff x="2414160" y="3673080"/>
                          <a:chExt cx="259920" cy="182160"/>
                        </a:xfrm>
                      </p:grpSpPr>
                      <p:grpSp>
                        <p:nvGrpSpPr>
                          <p:cNvPr id="1276" name="Group 921"/>
                          <p:cNvGrpSpPr/>
                          <p:nvPr/>
                        </p:nvGrpSpPr>
                        <p:grpSpPr>
                          <a:xfrm>
                            <a:off x="2414160" y="3673080"/>
                            <a:ext cx="89640" cy="137520"/>
                            <a:chOff x="2414160" y="3673080"/>
                            <a:chExt cx="89640" cy="137520"/>
                          </a:xfrm>
                        </p:grpSpPr>
                        <p:sp>
                          <p:nvSpPr>
                            <p:cNvPr id="1277" name="Freeform 922"/>
                            <p:cNvSpPr/>
                            <p:nvPr/>
                          </p:nvSpPr>
                          <p:spPr>
                            <a:xfrm rot="21544800">
                              <a:off x="2414880" y="3673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78" name="Freeform 923"/>
                            <p:cNvSpPr/>
                            <p:nvPr/>
                          </p:nvSpPr>
                          <p:spPr>
                            <a:xfrm rot="21544800">
                              <a:off x="2441880" y="3674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79" name="Group 924"/>
                          <p:cNvGrpSpPr/>
                          <p:nvPr/>
                        </p:nvGrpSpPr>
                        <p:grpSpPr>
                          <a:xfrm>
                            <a:off x="2467440" y="3686760"/>
                            <a:ext cx="101520" cy="145440"/>
                            <a:chOff x="2467440" y="3686760"/>
                            <a:chExt cx="101520" cy="145440"/>
                          </a:xfrm>
                        </p:grpSpPr>
                        <p:sp>
                          <p:nvSpPr>
                            <p:cNvPr id="1280" name="Freeform 925"/>
                            <p:cNvSpPr/>
                            <p:nvPr/>
                          </p:nvSpPr>
                          <p:spPr>
                            <a:xfrm rot="395400">
                              <a:off x="2474280" y="36910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81" name="Freeform 926"/>
                            <p:cNvSpPr/>
                            <p:nvPr/>
                          </p:nvSpPr>
                          <p:spPr>
                            <a:xfrm rot="395400">
                              <a:off x="2500560" y="3693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82" name="Group 927"/>
                          <p:cNvGrpSpPr/>
                          <p:nvPr/>
                        </p:nvGrpSpPr>
                        <p:grpSpPr>
                          <a:xfrm>
                            <a:off x="2540880" y="3695400"/>
                            <a:ext cx="133200" cy="159840"/>
                            <a:chOff x="2540880" y="3695400"/>
                            <a:chExt cx="133200" cy="159840"/>
                          </a:xfrm>
                        </p:grpSpPr>
                        <p:sp>
                          <p:nvSpPr>
                            <p:cNvPr id="1283" name="Freeform 928"/>
                            <p:cNvSpPr/>
                            <p:nvPr/>
                          </p:nvSpPr>
                          <p:spPr>
                            <a:xfrm rot="1501800">
                              <a:off x="2563560" y="3707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84" name="Freeform 929"/>
                            <p:cNvSpPr/>
                            <p:nvPr/>
                          </p:nvSpPr>
                          <p:spPr>
                            <a:xfrm rot="1501800">
                              <a:off x="2587320" y="3714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285" name="Group 930"/>
                      <p:cNvGrpSpPr/>
                      <p:nvPr/>
                    </p:nvGrpSpPr>
                    <p:grpSpPr>
                      <a:xfrm>
                        <a:off x="2559600" y="3673080"/>
                        <a:ext cx="528120" cy="238320"/>
                        <a:chOff x="2559600" y="3673080"/>
                        <a:chExt cx="528120" cy="238320"/>
                      </a:xfrm>
                    </p:grpSpPr>
                    <p:grpSp>
                      <p:nvGrpSpPr>
                        <p:cNvPr id="1286" name="Group 931"/>
                        <p:cNvGrpSpPr/>
                        <p:nvPr/>
                      </p:nvGrpSpPr>
                      <p:grpSpPr>
                        <a:xfrm>
                          <a:off x="2822400" y="3701160"/>
                          <a:ext cx="265320" cy="210240"/>
                          <a:chOff x="2822400" y="3701160"/>
                          <a:chExt cx="265320" cy="210240"/>
                        </a:xfrm>
                      </p:grpSpPr>
                      <p:grpSp>
                        <p:nvGrpSpPr>
                          <p:cNvPr id="1287" name="Group 932"/>
                          <p:cNvGrpSpPr/>
                          <p:nvPr/>
                        </p:nvGrpSpPr>
                        <p:grpSpPr>
                          <a:xfrm>
                            <a:off x="2822400" y="3701160"/>
                            <a:ext cx="104400" cy="147600"/>
                            <a:chOff x="2822400" y="3701160"/>
                            <a:chExt cx="104400" cy="147600"/>
                          </a:xfrm>
                        </p:grpSpPr>
                        <p:sp>
                          <p:nvSpPr>
                            <p:cNvPr id="1288" name="Freeform 933"/>
                            <p:cNvSpPr/>
                            <p:nvPr/>
                          </p:nvSpPr>
                          <p:spPr>
                            <a:xfrm rot="500400">
                              <a:off x="2831040" y="37065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89" name="Freeform 934"/>
                            <p:cNvSpPr/>
                            <p:nvPr/>
                          </p:nvSpPr>
                          <p:spPr>
                            <a:xfrm rot="500400">
                              <a:off x="2856960" y="37098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0" name="Group 935"/>
                          <p:cNvGrpSpPr/>
                          <p:nvPr/>
                        </p:nvGrpSpPr>
                        <p:grpSpPr>
                          <a:xfrm>
                            <a:off x="2871720" y="3724200"/>
                            <a:ext cx="118800" cy="154080"/>
                            <a:chOff x="2871720" y="3724200"/>
                            <a:chExt cx="118800" cy="154080"/>
                          </a:xfrm>
                        </p:grpSpPr>
                        <p:sp>
                          <p:nvSpPr>
                            <p:cNvPr id="1291" name="Freeform 936"/>
                            <p:cNvSpPr/>
                            <p:nvPr/>
                          </p:nvSpPr>
                          <p:spPr>
                            <a:xfrm rot="951000">
                              <a:off x="2887200" y="37335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92" name="Freeform 937"/>
                            <p:cNvSpPr/>
                            <p:nvPr/>
                          </p:nvSpPr>
                          <p:spPr>
                            <a:xfrm rot="951000">
                              <a:off x="2911680" y="37382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93" name="Group 938"/>
                          <p:cNvGrpSpPr/>
                          <p:nvPr/>
                        </p:nvGrpSpPr>
                        <p:grpSpPr>
                          <a:xfrm>
                            <a:off x="2943720" y="3751200"/>
                            <a:ext cx="144000" cy="160200"/>
                            <a:chOff x="2943720" y="3751200"/>
                            <a:chExt cx="144000" cy="160200"/>
                          </a:xfrm>
                        </p:grpSpPr>
                        <p:sp>
                          <p:nvSpPr>
                            <p:cNvPr id="1294" name="Freeform 939"/>
                            <p:cNvSpPr/>
                            <p:nvPr/>
                          </p:nvSpPr>
                          <p:spPr>
                            <a:xfrm rot="2057400">
                              <a:off x="2971800" y="3764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95" name="Freeform 940"/>
                            <p:cNvSpPr/>
                            <p:nvPr/>
                          </p:nvSpPr>
                          <p:spPr>
                            <a:xfrm rot="2057400">
                              <a:off x="2994480" y="37720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96" name="Group 941"/>
                        <p:cNvGrpSpPr/>
                        <p:nvPr/>
                      </p:nvGrpSpPr>
                      <p:grpSpPr>
                        <a:xfrm>
                          <a:off x="2559600" y="3673080"/>
                          <a:ext cx="259920" cy="182160"/>
                          <a:chOff x="2559600" y="3673080"/>
                          <a:chExt cx="259920" cy="182160"/>
                        </a:xfrm>
                      </p:grpSpPr>
                      <p:grpSp>
                        <p:nvGrpSpPr>
                          <p:cNvPr id="1297" name="Group 942"/>
                          <p:cNvGrpSpPr/>
                          <p:nvPr/>
                        </p:nvGrpSpPr>
                        <p:grpSpPr>
                          <a:xfrm>
                            <a:off x="2729880" y="3673080"/>
                            <a:ext cx="89640" cy="137520"/>
                            <a:chOff x="2729880" y="3673080"/>
                            <a:chExt cx="89640" cy="137520"/>
                          </a:xfrm>
                        </p:grpSpPr>
                        <p:sp>
                          <p:nvSpPr>
                            <p:cNvPr id="1298" name="Freeform 943"/>
                            <p:cNvSpPr/>
                            <p:nvPr/>
                          </p:nvSpPr>
                          <p:spPr>
                            <a:xfrm flipH="1" rot="55200">
                              <a:off x="2730240" y="3673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99" name="Freeform 944"/>
                            <p:cNvSpPr/>
                            <p:nvPr/>
                          </p:nvSpPr>
                          <p:spPr>
                            <a:xfrm flipH="1" rot="55200">
                              <a:off x="2734920" y="3674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0" name="Group 945"/>
                          <p:cNvGrpSpPr/>
                          <p:nvPr/>
                        </p:nvGrpSpPr>
                        <p:grpSpPr>
                          <a:xfrm>
                            <a:off x="2664720" y="3686760"/>
                            <a:ext cx="101520" cy="145440"/>
                            <a:chOff x="2664720" y="3686760"/>
                            <a:chExt cx="101520" cy="145440"/>
                          </a:xfrm>
                        </p:grpSpPr>
                        <p:sp>
                          <p:nvSpPr>
                            <p:cNvPr id="1301" name="Freeform 946"/>
                            <p:cNvSpPr/>
                            <p:nvPr/>
                          </p:nvSpPr>
                          <p:spPr>
                            <a:xfrm flipH="1" rot="21204600">
                              <a:off x="2671560" y="36910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02" name="Freeform 947"/>
                            <p:cNvSpPr/>
                            <p:nvPr/>
                          </p:nvSpPr>
                          <p:spPr>
                            <a:xfrm flipH="1" rot="21204600">
                              <a:off x="2675520" y="3693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03" name="Group 948"/>
                          <p:cNvGrpSpPr/>
                          <p:nvPr/>
                        </p:nvGrpSpPr>
                        <p:grpSpPr>
                          <a:xfrm>
                            <a:off x="2559600" y="3695400"/>
                            <a:ext cx="133200" cy="159840"/>
                            <a:chOff x="2559600" y="3695400"/>
                            <a:chExt cx="133200" cy="159840"/>
                          </a:xfrm>
                        </p:grpSpPr>
                        <p:sp>
                          <p:nvSpPr>
                            <p:cNvPr id="1304" name="Freeform 949"/>
                            <p:cNvSpPr/>
                            <p:nvPr/>
                          </p:nvSpPr>
                          <p:spPr>
                            <a:xfrm flipH="1" rot="20098200">
                              <a:off x="2582280" y="3707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05" name="Freeform 950"/>
                            <p:cNvSpPr/>
                            <p:nvPr/>
                          </p:nvSpPr>
                          <p:spPr>
                            <a:xfrm flipH="1" rot="20098200">
                              <a:off x="2589480" y="3714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306" name="Group 951"/>
                    <p:cNvGrpSpPr/>
                    <p:nvPr/>
                  </p:nvGrpSpPr>
                  <p:grpSpPr>
                    <a:xfrm>
                      <a:off x="2262600" y="3788280"/>
                      <a:ext cx="941760" cy="238320"/>
                      <a:chOff x="2262600" y="3788280"/>
                      <a:chExt cx="941760" cy="238320"/>
                    </a:xfrm>
                  </p:grpSpPr>
                  <p:grpSp>
                    <p:nvGrpSpPr>
                      <p:cNvPr id="1307" name="Group 952"/>
                      <p:cNvGrpSpPr/>
                      <p:nvPr/>
                    </p:nvGrpSpPr>
                    <p:grpSpPr>
                      <a:xfrm>
                        <a:off x="2262600" y="3788280"/>
                        <a:ext cx="528120" cy="238320"/>
                        <a:chOff x="2262600" y="3788280"/>
                        <a:chExt cx="528120" cy="238320"/>
                      </a:xfrm>
                    </p:grpSpPr>
                    <p:grpSp>
                      <p:nvGrpSpPr>
                        <p:cNvPr id="1308" name="Group 953"/>
                        <p:cNvGrpSpPr/>
                        <p:nvPr/>
                      </p:nvGrpSpPr>
                      <p:grpSpPr>
                        <a:xfrm>
                          <a:off x="2262600" y="3816360"/>
                          <a:ext cx="265680" cy="210240"/>
                          <a:chOff x="2262600" y="3816360"/>
                          <a:chExt cx="265680" cy="210240"/>
                        </a:xfrm>
                      </p:grpSpPr>
                      <p:grpSp>
                        <p:nvGrpSpPr>
                          <p:cNvPr id="1309" name="Group 954"/>
                          <p:cNvGrpSpPr/>
                          <p:nvPr/>
                        </p:nvGrpSpPr>
                        <p:grpSpPr>
                          <a:xfrm>
                            <a:off x="2423520" y="3816360"/>
                            <a:ext cx="104760" cy="147600"/>
                            <a:chOff x="2423520" y="3816360"/>
                            <a:chExt cx="104760" cy="147600"/>
                          </a:xfrm>
                        </p:grpSpPr>
                        <p:sp>
                          <p:nvSpPr>
                            <p:cNvPr id="1310" name="Freeform 955"/>
                            <p:cNvSpPr/>
                            <p:nvPr/>
                          </p:nvSpPr>
                          <p:spPr>
                            <a:xfrm flipH="1" rot="21099600">
                              <a:off x="2432160" y="38217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11" name="Freeform 956"/>
                            <p:cNvSpPr/>
                            <p:nvPr/>
                          </p:nvSpPr>
                          <p:spPr>
                            <a:xfrm flipH="1" rot="21099600">
                              <a:off x="2436480" y="38250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2" name="Group 957"/>
                          <p:cNvGrpSpPr/>
                          <p:nvPr/>
                        </p:nvGrpSpPr>
                        <p:grpSpPr>
                          <a:xfrm>
                            <a:off x="2359800" y="3839400"/>
                            <a:ext cx="119160" cy="154080"/>
                            <a:chOff x="2359800" y="3839400"/>
                            <a:chExt cx="119160" cy="154080"/>
                          </a:xfrm>
                        </p:grpSpPr>
                        <p:sp>
                          <p:nvSpPr>
                            <p:cNvPr id="1313" name="Freeform 958"/>
                            <p:cNvSpPr/>
                            <p:nvPr/>
                          </p:nvSpPr>
                          <p:spPr>
                            <a:xfrm flipH="1" rot="20649000">
                              <a:off x="2374920" y="38487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14" name="Freeform 959"/>
                            <p:cNvSpPr/>
                            <p:nvPr/>
                          </p:nvSpPr>
                          <p:spPr>
                            <a:xfrm flipH="1" rot="20649000">
                              <a:off x="2381040" y="38534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15" name="Group 960"/>
                          <p:cNvGrpSpPr/>
                          <p:nvPr/>
                        </p:nvGrpSpPr>
                        <p:grpSpPr>
                          <a:xfrm>
                            <a:off x="2262600" y="3866400"/>
                            <a:ext cx="144000" cy="160200"/>
                            <a:chOff x="2262600" y="3866400"/>
                            <a:chExt cx="144000" cy="160200"/>
                          </a:xfrm>
                        </p:grpSpPr>
                        <p:sp>
                          <p:nvSpPr>
                            <p:cNvPr id="1316" name="Freeform 961"/>
                            <p:cNvSpPr/>
                            <p:nvPr/>
                          </p:nvSpPr>
                          <p:spPr>
                            <a:xfrm flipH="1" rot="19542600">
                              <a:off x="2290680" y="3879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17" name="Freeform 962"/>
                            <p:cNvSpPr/>
                            <p:nvPr/>
                          </p:nvSpPr>
                          <p:spPr>
                            <a:xfrm flipH="1" rot="19542600">
                              <a:off x="2298600" y="3887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18" name="Group 963"/>
                        <p:cNvGrpSpPr/>
                        <p:nvPr/>
                      </p:nvGrpSpPr>
                      <p:grpSpPr>
                        <a:xfrm>
                          <a:off x="2530800" y="3788280"/>
                          <a:ext cx="259920" cy="182160"/>
                          <a:chOff x="2530800" y="3788280"/>
                          <a:chExt cx="259920" cy="182160"/>
                        </a:xfrm>
                      </p:grpSpPr>
                      <p:grpSp>
                        <p:nvGrpSpPr>
                          <p:cNvPr id="1319" name="Group 964"/>
                          <p:cNvGrpSpPr/>
                          <p:nvPr/>
                        </p:nvGrpSpPr>
                        <p:grpSpPr>
                          <a:xfrm>
                            <a:off x="2530800" y="3788280"/>
                            <a:ext cx="89640" cy="137520"/>
                            <a:chOff x="2530800" y="3788280"/>
                            <a:chExt cx="89640" cy="137520"/>
                          </a:xfrm>
                        </p:grpSpPr>
                        <p:sp>
                          <p:nvSpPr>
                            <p:cNvPr id="1320" name="Freeform 965"/>
                            <p:cNvSpPr/>
                            <p:nvPr/>
                          </p:nvSpPr>
                          <p:spPr>
                            <a:xfrm rot="21544800">
                              <a:off x="2531520" y="3789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21" name="Freeform 966"/>
                            <p:cNvSpPr/>
                            <p:nvPr/>
                          </p:nvSpPr>
                          <p:spPr>
                            <a:xfrm rot="21544800">
                              <a:off x="2558520" y="3790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22" name="Group 967"/>
                          <p:cNvGrpSpPr/>
                          <p:nvPr/>
                        </p:nvGrpSpPr>
                        <p:grpSpPr>
                          <a:xfrm>
                            <a:off x="2584080" y="3801960"/>
                            <a:ext cx="101520" cy="145440"/>
                            <a:chOff x="2584080" y="3801960"/>
                            <a:chExt cx="101520" cy="145440"/>
                          </a:xfrm>
                        </p:grpSpPr>
                        <p:sp>
                          <p:nvSpPr>
                            <p:cNvPr id="1323" name="Freeform 968"/>
                            <p:cNvSpPr/>
                            <p:nvPr/>
                          </p:nvSpPr>
                          <p:spPr>
                            <a:xfrm rot="395400">
                              <a:off x="2590920" y="38062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24" name="Freeform 969"/>
                            <p:cNvSpPr/>
                            <p:nvPr/>
                          </p:nvSpPr>
                          <p:spPr>
                            <a:xfrm rot="395400">
                              <a:off x="2617200" y="38091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25" name="Group 970"/>
                          <p:cNvGrpSpPr/>
                          <p:nvPr/>
                        </p:nvGrpSpPr>
                        <p:grpSpPr>
                          <a:xfrm>
                            <a:off x="2657520" y="3810600"/>
                            <a:ext cx="133200" cy="159840"/>
                            <a:chOff x="2657520" y="3810600"/>
                            <a:chExt cx="133200" cy="159840"/>
                          </a:xfrm>
                        </p:grpSpPr>
                        <p:sp>
                          <p:nvSpPr>
                            <p:cNvPr id="1326" name="Freeform 971"/>
                            <p:cNvSpPr/>
                            <p:nvPr/>
                          </p:nvSpPr>
                          <p:spPr>
                            <a:xfrm rot="1501800">
                              <a:off x="2680200" y="38228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27" name="Freeform 972"/>
                            <p:cNvSpPr/>
                            <p:nvPr/>
                          </p:nvSpPr>
                          <p:spPr>
                            <a:xfrm rot="1501800">
                              <a:off x="2703960" y="3829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28" name="Group 973"/>
                      <p:cNvGrpSpPr/>
                      <p:nvPr/>
                    </p:nvGrpSpPr>
                    <p:grpSpPr>
                      <a:xfrm>
                        <a:off x="2676240" y="3788280"/>
                        <a:ext cx="528120" cy="238320"/>
                        <a:chOff x="2676240" y="3788280"/>
                        <a:chExt cx="528120" cy="238320"/>
                      </a:xfrm>
                    </p:grpSpPr>
                    <p:grpSp>
                      <p:nvGrpSpPr>
                        <p:cNvPr id="1329" name="Group 974"/>
                        <p:cNvGrpSpPr/>
                        <p:nvPr/>
                      </p:nvGrpSpPr>
                      <p:grpSpPr>
                        <a:xfrm>
                          <a:off x="2939040" y="3816360"/>
                          <a:ext cx="265320" cy="210240"/>
                          <a:chOff x="2939040" y="3816360"/>
                          <a:chExt cx="265320" cy="210240"/>
                        </a:xfrm>
                      </p:grpSpPr>
                      <p:grpSp>
                        <p:nvGrpSpPr>
                          <p:cNvPr id="1330" name="Group 975"/>
                          <p:cNvGrpSpPr/>
                          <p:nvPr/>
                        </p:nvGrpSpPr>
                        <p:grpSpPr>
                          <a:xfrm>
                            <a:off x="2939040" y="3816360"/>
                            <a:ext cx="104400" cy="147600"/>
                            <a:chOff x="2939040" y="3816360"/>
                            <a:chExt cx="104400" cy="147600"/>
                          </a:xfrm>
                        </p:grpSpPr>
                        <p:sp>
                          <p:nvSpPr>
                            <p:cNvPr id="1331" name="Freeform 976"/>
                            <p:cNvSpPr/>
                            <p:nvPr/>
                          </p:nvSpPr>
                          <p:spPr>
                            <a:xfrm rot="500400">
                              <a:off x="2947680" y="38217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2" name="Freeform 977"/>
                            <p:cNvSpPr/>
                            <p:nvPr/>
                          </p:nvSpPr>
                          <p:spPr>
                            <a:xfrm rot="500400">
                              <a:off x="2973600" y="38250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33" name="Group 978"/>
                          <p:cNvGrpSpPr/>
                          <p:nvPr/>
                        </p:nvGrpSpPr>
                        <p:grpSpPr>
                          <a:xfrm>
                            <a:off x="2988360" y="3839400"/>
                            <a:ext cx="118800" cy="154080"/>
                            <a:chOff x="2988360" y="3839400"/>
                            <a:chExt cx="118800" cy="154080"/>
                          </a:xfrm>
                        </p:grpSpPr>
                        <p:sp>
                          <p:nvSpPr>
                            <p:cNvPr id="1334" name="Freeform 979"/>
                            <p:cNvSpPr/>
                            <p:nvPr/>
                          </p:nvSpPr>
                          <p:spPr>
                            <a:xfrm rot="951000">
                              <a:off x="3003840" y="38487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5" name="Freeform 980"/>
                            <p:cNvSpPr/>
                            <p:nvPr/>
                          </p:nvSpPr>
                          <p:spPr>
                            <a:xfrm rot="951000">
                              <a:off x="3028320" y="38534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36" name="Group 981"/>
                          <p:cNvGrpSpPr/>
                          <p:nvPr/>
                        </p:nvGrpSpPr>
                        <p:grpSpPr>
                          <a:xfrm>
                            <a:off x="3060360" y="3866400"/>
                            <a:ext cx="144000" cy="160200"/>
                            <a:chOff x="3060360" y="3866400"/>
                            <a:chExt cx="144000" cy="160200"/>
                          </a:xfrm>
                        </p:grpSpPr>
                        <p:sp>
                          <p:nvSpPr>
                            <p:cNvPr id="1337" name="Freeform 982"/>
                            <p:cNvSpPr/>
                            <p:nvPr/>
                          </p:nvSpPr>
                          <p:spPr>
                            <a:xfrm rot="2057400">
                              <a:off x="3088440" y="3879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8" name="Freeform 983"/>
                            <p:cNvSpPr/>
                            <p:nvPr/>
                          </p:nvSpPr>
                          <p:spPr>
                            <a:xfrm rot="2057400">
                              <a:off x="3111120" y="38872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39" name="Group 984"/>
                        <p:cNvGrpSpPr/>
                        <p:nvPr/>
                      </p:nvGrpSpPr>
                      <p:grpSpPr>
                        <a:xfrm>
                          <a:off x="2676240" y="3788280"/>
                          <a:ext cx="259920" cy="182160"/>
                          <a:chOff x="2676240" y="3788280"/>
                          <a:chExt cx="259920" cy="182160"/>
                        </a:xfrm>
                      </p:grpSpPr>
                      <p:grpSp>
                        <p:nvGrpSpPr>
                          <p:cNvPr id="1340" name="Group 985"/>
                          <p:cNvGrpSpPr/>
                          <p:nvPr/>
                        </p:nvGrpSpPr>
                        <p:grpSpPr>
                          <a:xfrm>
                            <a:off x="2846520" y="3788280"/>
                            <a:ext cx="89640" cy="137520"/>
                            <a:chOff x="2846520" y="3788280"/>
                            <a:chExt cx="89640" cy="137520"/>
                          </a:xfrm>
                        </p:grpSpPr>
                        <p:sp>
                          <p:nvSpPr>
                            <p:cNvPr id="1341" name="Freeform 986"/>
                            <p:cNvSpPr/>
                            <p:nvPr/>
                          </p:nvSpPr>
                          <p:spPr>
                            <a:xfrm flipH="1" rot="55200">
                              <a:off x="2846880" y="3788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42" name="Freeform 987"/>
                            <p:cNvSpPr/>
                            <p:nvPr/>
                          </p:nvSpPr>
                          <p:spPr>
                            <a:xfrm flipH="1" rot="55200">
                              <a:off x="2851560" y="3790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43" name="Group 988"/>
                          <p:cNvGrpSpPr/>
                          <p:nvPr/>
                        </p:nvGrpSpPr>
                        <p:grpSpPr>
                          <a:xfrm>
                            <a:off x="2781360" y="3801960"/>
                            <a:ext cx="101520" cy="145440"/>
                            <a:chOff x="2781360" y="3801960"/>
                            <a:chExt cx="101520" cy="145440"/>
                          </a:xfrm>
                        </p:grpSpPr>
                        <p:sp>
                          <p:nvSpPr>
                            <p:cNvPr id="1344" name="Freeform 989"/>
                            <p:cNvSpPr/>
                            <p:nvPr/>
                          </p:nvSpPr>
                          <p:spPr>
                            <a:xfrm flipH="1" rot="21204600">
                              <a:off x="2788200" y="38062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45" name="Freeform 990"/>
                            <p:cNvSpPr/>
                            <p:nvPr/>
                          </p:nvSpPr>
                          <p:spPr>
                            <a:xfrm flipH="1" rot="21204600">
                              <a:off x="2792160" y="38091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46" name="Group 991"/>
                          <p:cNvGrpSpPr/>
                          <p:nvPr/>
                        </p:nvGrpSpPr>
                        <p:grpSpPr>
                          <a:xfrm>
                            <a:off x="2676240" y="3810600"/>
                            <a:ext cx="133200" cy="159840"/>
                            <a:chOff x="2676240" y="3810600"/>
                            <a:chExt cx="133200" cy="159840"/>
                          </a:xfrm>
                        </p:grpSpPr>
                        <p:sp>
                          <p:nvSpPr>
                            <p:cNvPr id="1347" name="Freeform 992"/>
                            <p:cNvSpPr/>
                            <p:nvPr/>
                          </p:nvSpPr>
                          <p:spPr>
                            <a:xfrm flipH="1" rot="20098200">
                              <a:off x="2698920" y="38228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48" name="Freeform 993"/>
                            <p:cNvSpPr/>
                            <p:nvPr/>
                          </p:nvSpPr>
                          <p:spPr>
                            <a:xfrm flipH="1" rot="20098200">
                              <a:off x="2706120" y="3829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349" name="Group 994"/>
                    <p:cNvGrpSpPr/>
                    <p:nvPr/>
                  </p:nvGrpSpPr>
                  <p:grpSpPr>
                    <a:xfrm>
                      <a:off x="2379960" y="3903120"/>
                      <a:ext cx="941760" cy="238320"/>
                      <a:chOff x="2379960" y="3903120"/>
                      <a:chExt cx="941760" cy="238320"/>
                    </a:xfrm>
                  </p:grpSpPr>
                  <p:grpSp>
                    <p:nvGrpSpPr>
                      <p:cNvPr id="1350" name="Group 995"/>
                      <p:cNvGrpSpPr/>
                      <p:nvPr/>
                    </p:nvGrpSpPr>
                    <p:grpSpPr>
                      <a:xfrm>
                        <a:off x="2379960" y="3903120"/>
                        <a:ext cx="528120" cy="238320"/>
                        <a:chOff x="2379960" y="3903120"/>
                        <a:chExt cx="528120" cy="238320"/>
                      </a:xfrm>
                    </p:grpSpPr>
                    <p:grpSp>
                      <p:nvGrpSpPr>
                        <p:cNvPr id="1351" name="Group 996"/>
                        <p:cNvGrpSpPr/>
                        <p:nvPr/>
                      </p:nvGrpSpPr>
                      <p:grpSpPr>
                        <a:xfrm>
                          <a:off x="2379960" y="3931200"/>
                          <a:ext cx="265680" cy="210240"/>
                          <a:chOff x="2379960" y="3931200"/>
                          <a:chExt cx="265680" cy="210240"/>
                        </a:xfrm>
                      </p:grpSpPr>
                      <p:grpSp>
                        <p:nvGrpSpPr>
                          <p:cNvPr id="1352" name="Group 997"/>
                          <p:cNvGrpSpPr/>
                          <p:nvPr/>
                        </p:nvGrpSpPr>
                        <p:grpSpPr>
                          <a:xfrm>
                            <a:off x="2540880" y="3931200"/>
                            <a:ext cx="104760" cy="147600"/>
                            <a:chOff x="2540880" y="3931200"/>
                            <a:chExt cx="104760" cy="147600"/>
                          </a:xfrm>
                        </p:grpSpPr>
                        <p:sp>
                          <p:nvSpPr>
                            <p:cNvPr id="1353" name="Freeform 998"/>
                            <p:cNvSpPr/>
                            <p:nvPr/>
                          </p:nvSpPr>
                          <p:spPr>
                            <a:xfrm flipH="1" rot="21099600">
                              <a:off x="2549520" y="39366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54" name="Freeform 999"/>
                            <p:cNvSpPr/>
                            <p:nvPr/>
                          </p:nvSpPr>
                          <p:spPr>
                            <a:xfrm flipH="1" rot="21099600">
                              <a:off x="2553840" y="39398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55" name="Group 1000"/>
                          <p:cNvGrpSpPr/>
                          <p:nvPr/>
                        </p:nvGrpSpPr>
                        <p:grpSpPr>
                          <a:xfrm>
                            <a:off x="2477160" y="3954240"/>
                            <a:ext cx="119160" cy="154080"/>
                            <a:chOff x="2477160" y="3954240"/>
                            <a:chExt cx="119160" cy="154080"/>
                          </a:xfrm>
                        </p:grpSpPr>
                        <p:sp>
                          <p:nvSpPr>
                            <p:cNvPr id="1356" name="Freeform 1001"/>
                            <p:cNvSpPr/>
                            <p:nvPr/>
                          </p:nvSpPr>
                          <p:spPr>
                            <a:xfrm flipH="1" rot="20649000">
                              <a:off x="2492280" y="39636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57" name="Freeform 1002"/>
                            <p:cNvSpPr/>
                            <p:nvPr/>
                          </p:nvSpPr>
                          <p:spPr>
                            <a:xfrm flipH="1" rot="20649000">
                              <a:off x="2498400" y="39682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58" name="Group 1003"/>
                          <p:cNvGrpSpPr/>
                          <p:nvPr/>
                        </p:nvGrpSpPr>
                        <p:grpSpPr>
                          <a:xfrm>
                            <a:off x="2379960" y="3981240"/>
                            <a:ext cx="144000" cy="160200"/>
                            <a:chOff x="2379960" y="3981240"/>
                            <a:chExt cx="144000" cy="160200"/>
                          </a:xfrm>
                        </p:grpSpPr>
                        <p:sp>
                          <p:nvSpPr>
                            <p:cNvPr id="1359" name="Freeform 1004"/>
                            <p:cNvSpPr/>
                            <p:nvPr/>
                          </p:nvSpPr>
                          <p:spPr>
                            <a:xfrm flipH="1" rot="19542600">
                              <a:off x="2408040" y="3994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60" name="Freeform 1005"/>
                            <p:cNvSpPr/>
                            <p:nvPr/>
                          </p:nvSpPr>
                          <p:spPr>
                            <a:xfrm flipH="1" rot="19542600">
                              <a:off x="2415960" y="40021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61" name="Group 1006"/>
                        <p:cNvGrpSpPr/>
                        <p:nvPr/>
                      </p:nvGrpSpPr>
                      <p:grpSpPr>
                        <a:xfrm>
                          <a:off x="2648160" y="3903120"/>
                          <a:ext cx="259920" cy="182160"/>
                          <a:chOff x="2648160" y="3903120"/>
                          <a:chExt cx="259920" cy="182160"/>
                        </a:xfrm>
                      </p:grpSpPr>
                      <p:grpSp>
                        <p:nvGrpSpPr>
                          <p:cNvPr id="1362" name="Group 1007"/>
                          <p:cNvGrpSpPr/>
                          <p:nvPr/>
                        </p:nvGrpSpPr>
                        <p:grpSpPr>
                          <a:xfrm>
                            <a:off x="2648160" y="3903120"/>
                            <a:ext cx="89640" cy="137520"/>
                            <a:chOff x="2648160" y="3903120"/>
                            <a:chExt cx="89640" cy="137520"/>
                          </a:xfrm>
                        </p:grpSpPr>
                        <p:sp>
                          <p:nvSpPr>
                            <p:cNvPr id="1363" name="Freeform 1008"/>
                            <p:cNvSpPr/>
                            <p:nvPr/>
                          </p:nvSpPr>
                          <p:spPr>
                            <a:xfrm rot="21544800">
                              <a:off x="2648880" y="39038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64" name="Freeform 1009"/>
                            <p:cNvSpPr/>
                            <p:nvPr/>
                          </p:nvSpPr>
                          <p:spPr>
                            <a:xfrm rot="21544800">
                              <a:off x="2675880" y="3904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65" name="Group 1010"/>
                          <p:cNvGrpSpPr/>
                          <p:nvPr/>
                        </p:nvGrpSpPr>
                        <p:grpSpPr>
                          <a:xfrm>
                            <a:off x="2701440" y="3916800"/>
                            <a:ext cx="101520" cy="145440"/>
                            <a:chOff x="2701440" y="3916800"/>
                            <a:chExt cx="101520" cy="145440"/>
                          </a:xfrm>
                        </p:grpSpPr>
                        <p:sp>
                          <p:nvSpPr>
                            <p:cNvPr id="1366" name="Freeform 1011"/>
                            <p:cNvSpPr/>
                            <p:nvPr/>
                          </p:nvSpPr>
                          <p:spPr>
                            <a:xfrm rot="395400">
                              <a:off x="2708280" y="39211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67" name="Freeform 1012"/>
                            <p:cNvSpPr/>
                            <p:nvPr/>
                          </p:nvSpPr>
                          <p:spPr>
                            <a:xfrm rot="395400">
                              <a:off x="2734560" y="3924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68" name="Group 1013"/>
                          <p:cNvGrpSpPr/>
                          <p:nvPr/>
                        </p:nvGrpSpPr>
                        <p:grpSpPr>
                          <a:xfrm>
                            <a:off x="2774880" y="3925440"/>
                            <a:ext cx="133200" cy="159840"/>
                            <a:chOff x="2774880" y="3925440"/>
                            <a:chExt cx="133200" cy="159840"/>
                          </a:xfrm>
                        </p:grpSpPr>
                        <p:sp>
                          <p:nvSpPr>
                            <p:cNvPr id="1369" name="Freeform 1014"/>
                            <p:cNvSpPr/>
                            <p:nvPr/>
                          </p:nvSpPr>
                          <p:spPr>
                            <a:xfrm rot="1501800">
                              <a:off x="2797560" y="3937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70" name="Freeform 1015"/>
                            <p:cNvSpPr/>
                            <p:nvPr/>
                          </p:nvSpPr>
                          <p:spPr>
                            <a:xfrm rot="1501800">
                              <a:off x="2821320" y="39445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71" name="Group 1016"/>
                      <p:cNvGrpSpPr/>
                      <p:nvPr/>
                    </p:nvGrpSpPr>
                    <p:grpSpPr>
                      <a:xfrm>
                        <a:off x="2793600" y="3903120"/>
                        <a:ext cx="528120" cy="238320"/>
                        <a:chOff x="2793600" y="3903120"/>
                        <a:chExt cx="528120" cy="238320"/>
                      </a:xfrm>
                    </p:grpSpPr>
                    <p:grpSp>
                      <p:nvGrpSpPr>
                        <p:cNvPr id="1372" name="Group 1017"/>
                        <p:cNvGrpSpPr/>
                        <p:nvPr/>
                      </p:nvGrpSpPr>
                      <p:grpSpPr>
                        <a:xfrm>
                          <a:off x="3056400" y="3931200"/>
                          <a:ext cx="265320" cy="210240"/>
                          <a:chOff x="3056400" y="3931200"/>
                          <a:chExt cx="265320" cy="210240"/>
                        </a:xfrm>
                      </p:grpSpPr>
                      <p:grpSp>
                        <p:nvGrpSpPr>
                          <p:cNvPr id="1373" name="Group 1018"/>
                          <p:cNvGrpSpPr/>
                          <p:nvPr/>
                        </p:nvGrpSpPr>
                        <p:grpSpPr>
                          <a:xfrm>
                            <a:off x="3056400" y="3931200"/>
                            <a:ext cx="104400" cy="147600"/>
                            <a:chOff x="3056400" y="3931200"/>
                            <a:chExt cx="104400" cy="147600"/>
                          </a:xfrm>
                        </p:grpSpPr>
                        <p:sp>
                          <p:nvSpPr>
                            <p:cNvPr id="1374" name="Freeform 1019"/>
                            <p:cNvSpPr/>
                            <p:nvPr/>
                          </p:nvSpPr>
                          <p:spPr>
                            <a:xfrm rot="500400">
                              <a:off x="3065040" y="39366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75" name="Freeform 1020"/>
                            <p:cNvSpPr/>
                            <p:nvPr/>
                          </p:nvSpPr>
                          <p:spPr>
                            <a:xfrm rot="500400">
                              <a:off x="3090960" y="39398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76" name="Group 1021"/>
                          <p:cNvGrpSpPr/>
                          <p:nvPr/>
                        </p:nvGrpSpPr>
                        <p:grpSpPr>
                          <a:xfrm>
                            <a:off x="3105720" y="3954240"/>
                            <a:ext cx="118800" cy="154080"/>
                            <a:chOff x="3105720" y="3954240"/>
                            <a:chExt cx="118800" cy="154080"/>
                          </a:xfrm>
                        </p:grpSpPr>
                        <p:sp>
                          <p:nvSpPr>
                            <p:cNvPr id="1377" name="Freeform 1022"/>
                            <p:cNvSpPr/>
                            <p:nvPr/>
                          </p:nvSpPr>
                          <p:spPr>
                            <a:xfrm rot="951000">
                              <a:off x="3121200" y="39636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78" name="Freeform 1023"/>
                            <p:cNvSpPr/>
                            <p:nvPr/>
                          </p:nvSpPr>
                          <p:spPr>
                            <a:xfrm rot="951000">
                              <a:off x="3145680" y="39682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79" name="Group 1024"/>
                          <p:cNvGrpSpPr/>
                          <p:nvPr/>
                        </p:nvGrpSpPr>
                        <p:grpSpPr>
                          <a:xfrm>
                            <a:off x="3177720" y="3981240"/>
                            <a:ext cx="144000" cy="160200"/>
                            <a:chOff x="3177720" y="3981240"/>
                            <a:chExt cx="144000" cy="160200"/>
                          </a:xfrm>
                        </p:grpSpPr>
                        <p:sp>
                          <p:nvSpPr>
                            <p:cNvPr id="1380" name="Freeform 1025"/>
                            <p:cNvSpPr/>
                            <p:nvPr/>
                          </p:nvSpPr>
                          <p:spPr>
                            <a:xfrm rot="2057400">
                              <a:off x="3205800" y="3994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81" name="Freeform 1026"/>
                            <p:cNvSpPr/>
                            <p:nvPr/>
                          </p:nvSpPr>
                          <p:spPr>
                            <a:xfrm rot="2057400">
                              <a:off x="3228480" y="40021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82" name="Group 1027"/>
                        <p:cNvGrpSpPr/>
                        <p:nvPr/>
                      </p:nvGrpSpPr>
                      <p:grpSpPr>
                        <a:xfrm>
                          <a:off x="2793600" y="3903120"/>
                          <a:ext cx="259920" cy="182160"/>
                          <a:chOff x="2793600" y="3903120"/>
                          <a:chExt cx="259920" cy="182160"/>
                        </a:xfrm>
                      </p:grpSpPr>
                      <p:grpSp>
                        <p:nvGrpSpPr>
                          <p:cNvPr id="1383" name="Group 1028"/>
                          <p:cNvGrpSpPr/>
                          <p:nvPr/>
                        </p:nvGrpSpPr>
                        <p:grpSpPr>
                          <a:xfrm>
                            <a:off x="2963880" y="3903120"/>
                            <a:ext cx="89640" cy="137520"/>
                            <a:chOff x="2963880" y="3903120"/>
                            <a:chExt cx="89640" cy="137520"/>
                          </a:xfrm>
                        </p:grpSpPr>
                        <p:sp>
                          <p:nvSpPr>
                            <p:cNvPr id="1384" name="Freeform 1029"/>
                            <p:cNvSpPr/>
                            <p:nvPr/>
                          </p:nvSpPr>
                          <p:spPr>
                            <a:xfrm flipH="1" rot="55200">
                              <a:off x="2964240" y="3903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85" name="Freeform 1030"/>
                            <p:cNvSpPr/>
                            <p:nvPr/>
                          </p:nvSpPr>
                          <p:spPr>
                            <a:xfrm flipH="1" rot="55200">
                              <a:off x="2968920" y="3904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86" name="Group 1031"/>
                          <p:cNvGrpSpPr/>
                          <p:nvPr/>
                        </p:nvGrpSpPr>
                        <p:grpSpPr>
                          <a:xfrm>
                            <a:off x="2898720" y="3916800"/>
                            <a:ext cx="101520" cy="145440"/>
                            <a:chOff x="2898720" y="3916800"/>
                            <a:chExt cx="101520" cy="145440"/>
                          </a:xfrm>
                        </p:grpSpPr>
                        <p:sp>
                          <p:nvSpPr>
                            <p:cNvPr id="1387" name="Freeform 1032"/>
                            <p:cNvSpPr/>
                            <p:nvPr/>
                          </p:nvSpPr>
                          <p:spPr>
                            <a:xfrm flipH="1" rot="21204600">
                              <a:off x="2905560" y="39211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88" name="Freeform 1033"/>
                            <p:cNvSpPr/>
                            <p:nvPr/>
                          </p:nvSpPr>
                          <p:spPr>
                            <a:xfrm flipH="1" rot="21204600">
                              <a:off x="2909520" y="3924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89" name="Group 1034"/>
                          <p:cNvGrpSpPr/>
                          <p:nvPr/>
                        </p:nvGrpSpPr>
                        <p:grpSpPr>
                          <a:xfrm>
                            <a:off x="2793600" y="3925440"/>
                            <a:ext cx="133200" cy="159840"/>
                            <a:chOff x="2793600" y="3925440"/>
                            <a:chExt cx="133200" cy="159840"/>
                          </a:xfrm>
                        </p:grpSpPr>
                        <p:sp>
                          <p:nvSpPr>
                            <p:cNvPr id="1390" name="Freeform 1035"/>
                            <p:cNvSpPr/>
                            <p:nvPr/>
                          </p:nvSpPr>
                          <p:spPr>
                            <a:xfrm flipH="1" rot="20098200">
                              <a:off x="2816280" y="3937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91" name="Freeform 1036"/>
                            <p:cNvSpPr/>
                            <p:nvPr/>
                          </p:nvSpPr>
                          <p:spPr>
                            <a:xfrm flipH="1" rot="20098200">
                              <a:off x="2823480" y="39445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392" name="Group 1037"/>
                    <p:cNvGrpSpPr/>
                    <p:nvPr/>
                  </p:nvGrpSpPr>
                  <p:grpSpPr>
                    <a:xfrm>
                      <a:off x="2496960" y="4017960"/>
                      <a:ext cx="941760" cy="238320"/>
                      <a:chOff x="2496960" y="4017960"/>
                      <a:chExt cx="941760" cy="238320"/>
                    </a:xfrm>
                  </p:grpSpPr>
                  <p:grpSp>
                    <p:nvGrpSpPr>
                      <p:cNvPr id="1393" name="Group 1038"/>
                      <p:cNvGrpSpPr/>
                      <p:nvPr/>
                    </p:nvGrpSpPr>
                    <p:grpSpPr>
                      <a:xfrm>
                        <a:off x="2496960" y="4017960"/>
                        <a:ext cx="528120" cy="238320"/>
                        <a:chOff x="2496960" y="4017960"/>
                        <a:chExt cx="528120" cy="238320"/>
                      </a:xfrm>
                    </p:grpSpPr>
                    <p:grpSp>
                      <p:nvGrpSpPr>
                        <p:cNvPr id="1394" name="Group 1039"/>
                        <p:cNvGrpSpPr/>
                        <p:nvPr/>
                      </p:nvGrpSpPr>
                      <p:grpSpPr>
                        <a:xfrm>
                          <a:off x="2496960" y="4046040"/>
                          <a:ext cx="265680" cy="210240"/>
                          <a:chOff x="2496960" y="4046040"/>
                          <a:chExt cx="265680" cy="210240"/>
                        </a:xfrm>
                      </p:grpSpPr>
                      <p:grpSp>
                        <p:nvGrpSpPr>
                          <p:cNvPr id="1395" name="Group 1040"/>
                          <p:cNvGrpSpPr/>
                          <p:nvPr/>
                        </p:nvGrpSpPr>
                        <p:grpSpPr>
                          <a:xfrm>
                            <a:off x="2657880" y="4046040"/>
                            <a:ext cx="104760" cy="147600"/>
                            <a:chOff x="2657880" y="4046040"/>
                            <a:chExt cx="104760" cy="147600"/>
                          </a:xfrm>
                        </p:grpSpPr>
                        <p:sp>
                          <p:nvSpPr>
                            <p:cNvPr id="1396" name="Freeform 1041"/>
                            <p:cNvSpPr/>
                            <p:nvPr/>
                          </p:nvSpPr>
                          <p:spPr>
                            <a:xfrm flipH="1" rot="21099600">
                              <a:off x="2666520" y="405144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97" name="Freeform 1042"/>
                            <p:cNvSpPr/>
                            <p:nvPr/>
                          </p:nvSpPr>
                          <p:spPr>
                            <a:xfrm flipH="1" rot="21099600">
                              <a:off x="2670840" y="405468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98" name="Group 1043"/>
                          <p:cNvGrpSpPr/>
                          <p:nvPr/>
                        </p:nvGrpSpPr>
                        <p:grpSpPr>
                          <a:xfrm>
                            <a:off x="2594160" y="4069080"/>
                            <a:ext cx="119160" cy="154080"/>
                            <a:chOff x="2594160" y="4069080"/>
                            <a:chExt cx="119160" cy="154080"/>
                          </a:xfrm>
                        </p:grpSpPr>
                        <p:sp>
                          <p:nvSpPr>
                            <p:cNvPr id="1399" name="Freeform 1044"/>
                            <p:cNvSpPr/>
                            <p:nvPr/>
                          </p:nvSpPr>
                          <p:spPr>
                            <a:xfrm flipH="1" rot="20649000">
                              <a:off x="2609280" y="407844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00" name="Freeform 1045"/>
                            <p:cNvSpPr/>
                            <p:nvPr/>
                          </p:nvSpPr>
                          <p:spPr>
                            <a:xfrm flipH="1" rot="20649000">
                              <a:off x="2615400" y="40831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01" name="Group 1046"/>
                          <p:cNvGrpSpPr/>
                          <p:nvPr/>
                        </p:nvGrpSpPr>
                        <p:grpSpPr>
                          <a:xfrm>
                            <a:off x="2496960" y="4096080"/>
                            <a:ext cx="144000" cy="160200"/>
                            <a:chOff x="2496960" y="4096080"/>
                            <a:chExt cx="144000" cy="160200"/>
                          </a:xfrm>
                        </p:grpSpPr>
                        <p:sp>
                          <p:nvSpPr>
                            <p:cNvPr id="1402" name="Freeform 1047"/>
                            <p:cNvSpPr/>
                            <p:nvPr/>
                          </p:nvSpPr>
                          <p:spPr>
                            <a:xfrm flipH="1" rot="19542600">
                              <a:off x="2525040" y="41094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03" name="Freeform 1048"/>
                            <p:cNvSpPr/>
                            <p:nvPr/>
                          </p:nvSpPr>
                          <p:spPr>
                            <a:xfrm flipH="1" rot="19542600">
                              <a:off x="2532960" y="4116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04" name="Group 1049"/>
                        <p:cNvGrpSpPr/>
                        <p:nvPr/>
                      </p:nvGrpSpPr>
                      <p:grpSpPr>
                        <a:xfrm>
                          <a:off x="2765160" y="4017960"/>
                          <a:ext cx="259920" cy="182160"/>
                          <a:chOff x="2765160" y="4017960"/>
                          <a:chExt cx="259920" cy="182160"/>
                        </a:xfrm>
                      </p:grpSpPr>
                      <p:grpSp>
                        <p:nvGrpSpPr>
                          <p:cNvPr id="1405" name="Group 1050"/>
                          <p:cNvGrpSpPr/>
                          <p:nvPr/>
                        </p:nvGrpSpPr>
                        <p:grpSpPr>
                          <a:xfrm>
                            <a:off x="2765160" y="4017960"/>
                            <a:ext cx="89640" cy="137520"/>
                            <a:chOff x="2765160" y="4017960"/>
                            <a:chExt cx="89640" cy="137520"/>
                          </a:xfrm>
                        </p:grpSpPr>
                        <p:sp>
                          <p:nvSpPr>
                            <p:cNvPr id="1406" name="Freeform 1051"/>
                            <p:cNvSpPr/>
                            <p:nvPr/>
                          </p:nvSpPr>
                          <p:spPr>
                            <a:xfrm rot="21544800">
                              <a:off x="2765880" y="4018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07" name="Freeform 1052"/>
                            <p:cNvSpPr/>
                            <p:nvPr/>
                          </p:nvSpPr>
                          <p:spPr>
                            <a:xfrm rot="21544800">
                              <a:off x="2792880" y="4019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08" name="Group 1053"/>
                          <p:cNvGrpSpPr/>
                          <p:nvPr/>
                        </p:nvGrpSpPr>
                        <p:grpSpPr>
                          <a:xfrm>
                            <a:off x="2818440" y="4031640"/>
                            <a:ext cx="101520" cy="145440"/>
                            <a:chOff x="2818440" y="4031640"/>
                            <a:chExt cx="101520" cy="145440"/>
                          </a:xfrm>
                        </p:grpSpPr>
                        <p:sp>
                          <p:nvSpPr>
                            <p:cNvPr id="1409" name="Freeform 1054"/>
                            <p:cNvSpPr/>
                            <p:nvPr/>
                          </p:nvSpPr>
                          <p:spPr>
                            <a:xfrm rot="395400">
                              <a:off x="2825280" y="40359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10" name="Freeform 1055"/>
                            <p:cNvSpPr/>
                            <p:nvPr/>
                          </p:nvSpPr>
                          <p:spPr>
                            <a:xfrm rot="395400">
                              <a:off x="2851560" y="4038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11" name="Group 1056"/>
                          <p:cNvGrpSpPr/>
                          <p:nvPr/>
                        </p:nvGrpSpPr>
                        <p:grpSpPr>
                          <a:xfrm>
                            <a:off x="2891880" y="4040280"/>
                            <a:ext cx="133200" cy="159840"/>
                            <a:chOff x="2891880" y="4040280"/>
                            <a:chExt cx="133200" cy="159840"/>
                          </a:xfrm>
                        </p:grpSpPr>
                        <p:sp>
                          <p:nvSpPr>
                            <p:cNvPr id="1412" name="Freeform 1057"/>
                            <p:cNvSpPr/>
                            <p:nvPr/>
                          </p:nvSpPr>
                          <p:spPr>
                            <a:xfrm rot="1501800">
                              <a:off x="2914560" y="4052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13" name="Freeform 1058"/>
                            <p:cNvSpPr/>
                            <p:nvPr/>
                          </p:nvSpPr>
                          <p:spPr>
                            <a:xfrm rot="1501800">
                              <a:off x="2938320" y="40593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414" name="Group 1059"/>
                      <p:cNvGrpSpPr/>
                      <p:nvPr/>
                    </p:nvGrpSpPr>
                    <p:grpSpPr>
                      <a:xfrm>
                        <a:off x="2910600" y="4017960"/>
                        <a:ext cx="528120" cy="238320"/>
                        <a:chOff x="2910600" y="4017960"/>
                        <a:chExt cx="528120" cy="238320"/>
                      </a:xfrm>
                    </p:grpSpPr>
                    <p:grpSp>
                      <p:nvGrpSpPr>
                        <p:cNvPr id="1415" name="Group 1060"/>
                        <p:cNvGrpSpPr/>
                        <p:nvPr/>
                      </p:nvGrpSpPr>
                      <p:grpSpPr>
                        <a:xfrm>
                          <a:off x="3173400" y="4046040"/>
                          <a:ext cx="265320" cy="210240"/>
                          <a:chOff x="3173400" y="4046040"/>
                          <a:chExt cx="265320" cy="210240"/>
                        </a:xfrm>
                      </p:grpSpPr>
                      <p:grpSp>
                        <p:nvGrpSpPr>
                          <p:cNvPr id="1416" name="Group 1061"/>
                          <p:cNvGrpSpPr/>
                          <p:nvPr/>
                        </p:nvGrpSpPr>
                        <p:grpSpPr>
                          <a:xfrm>
                            <a:off x="3173400" y="4046040"/>
                            <a:ext cx="104400" cy="147600"/>
                            <a:chOff x="3173400" y="4046040"/>
                            <a:chExt cx="104400" cy="147600"/>
                          </a:xfrm>
                        </p:grpSpPr>
                        <p:sp>
                          <p:nvSpPr>
                            <p:cNvPr id="1417" name="Freeform 1062"/>
                            <p:cNvSpPr/>
                            <p:nvPr/>
                          </p:nvSpPr>
                          <p:spPr>
                            <a:xfrm rot="500400">
                              <a:off x="3182040" y="405144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18" name="Freeform 1063"/>
                            <p:cNvSpPr/>
                            <p:nvPr/>
                          </p:nvSpPr>
                          <p:spPr>
                            <a:xfrm rot="500400">
                              <a:off x="3207960" y="405468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19" name="Group 1064"/>
                          <p:cNvGrpSpPr/>
                          <p:nvPr/>
                        </p:nvGrpSpPr>
                        <p:grpSpPr>
                          <a:xfrm>
                            <a:off x="3222720" y="4069080"/>
                            <a:ext cx="118800" cy="154080"/>
                            <a:chOff x="3222720" y="4069080"/>
                            <a:chExt cx="118800" cy="154080"/>
                          </a:xfrm>
                        </p:grpSpPr>
                        <p:sp>
                          <p:nvSpPr>
                            <p:cNvPr id="1420" name="Freeform 1065"/>
                            <p:cNvSpPr/>
                            <p:nvPr/>
                          </p:nvSpPr>
                          <p:spPr>
                            <a:xfrm rot="951000">
                              <a:off x="3238200" y="407844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1" name="Freeform 1066"/>
                            <p:cNvSpPr/>
                            <p:nvPr/>
                          </p:nvSpPr>
                          <p:spPr>
                            <a:xfrm rot="951000">
                              <a:off x="3262680" y="40831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22" name="Group 1067"/>
                          <p:cNvGrpSpPr/>
                          <p:nvPr/>
                        </p:nvGrpSpPr>
                        <p:grpSpPr>
                          <a:xfrm>
                            <a:off x="3294720" y="4096080"/>
                            <a:ext cx="144000" cy="160200"/>
                            <a:chOff x="3294720" y="4096080"/>
                            <a:chExt cx="144000" cy="160200"/>
                          </a:xfrm>
                        </p:grpSpPr>
                        <p:sp>
                          <p:nvSpPr>
                            <p:cNvPr id="1423" name="Freeform 1068"/>
                            <p:cNvSpPr/>
                            <p:nvPr/>
                          </p:nvSpPr>
                          <p:spPr>
                            <a:xfrm rot="2057400">
                              <a:off x="3322800" y="41094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4" name="Freeform 1069"/>
                            <p:cNvSpPr/>
                            <p:nvPr/>
                          </p:nvSpPr>
                          <p:spPr>
                            <a:xfrm rot="2057400">
                              <a:off x="3345480" y="41169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25" name="Group 1070"/>
                        <p:cNvGrpSpPr/>
                        <p:nvPr/>
                      </p:nvGrpSpPr>
                      <p:grpSpPr>
                        <a:xfrm>
                          <a:off x="2910600" y="4017960"/>
                          <a:ext cx="259920" cy="182160"/>
                          <a:chOff x="2910600" y="4017960"/>
                          <a:chExt cx="259920" cy="182160"/>
                        </a:xfrm>
                      </p:grpSpPr>
                      <p:grpSp>
                        <p:nvGrpSpPr>
                          <p:cNvPr id="1426" name="Group 1071"/>
                          <p:cNvGrpSpPr/>
                          <p:nvPr/>
                        </p:nvGrpSpPr>
                        <p:grpSpPr>
                          <a:xfrm>
                            <a:off x="3080880" y="4017960"/>
                            <a:ext cx="89640" cy="137520"/>
                            <a:chOff x="3080880" y="4017960"/>
                            <a:chExt cx="89640" cy="137520"/>
                          </a:xfrm>
                        </p:grpSpPr>
                        <p:sp>
                          <p:nvSpPr>
                            <p:cNvPr id="1427" name="Freeform 1072"/>
                            <p:cNvSpPr/>
                            <p:nvPr/>
                          </p:nvSpPr>
                          <p:spPr>
                            <a:xfrm flipH="1" rot="55200">
                              <a:off x="3081240" y="4018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8" name="Freeform 1073"/>
                            <p:cNvSpPr/>
                            <p:nvPr/>
                          </p:nvSpPr>
                          <p:spPr>
                            <a:xfrm flipH="1" rot="55200">
                              <a:off x="3085920" y="4019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29" name="Group 1074"/>
                          <p:cNvGrpSpPr/>
                          <p:nvPr/>
                        </p:nvGrpSpPr>
                        <p:grpSpPr>
                          <a:xfrm>
                            <a:off x="3015720" y="4031640"/>
                            <a:ext cx="101520" cy="145440"/>
                            <a:chOff x="3015720" y="4031640"/>
                            <a:chExt cx="101520" cy="145440"/>
                          </a:xfrm>
                        </p:grpSpPr>
                        <p:sp>
                          <p:nvSpPr>
                            <p:cNvPr id="1430" name="Freeform 1075"/>
                            <p:cNvSpPr/>
                            <p:nvPr/>
                          </p:nvSpPr>
                          <p:spPr>
                            <a:xfrm flipH="1" rot="21204600">
                              <a:off x="3022560" y="40359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31" name="Freeform 1076"/>
                            <p:cNvSpPr/>
                            <p:nvPr/>
                          </p:nvSpPr>
                          <p:spPr>
                            <a:xfrm flipH="1" rot="21204600">
                              <a:off x="3026520" y="4038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32" name="Group 1077"/>
                          <p:cNvGrpSpPr/>
                          <p:nvPr/>
                        </p:nvGrpSpPr>
                        <p:grpSpPr>
                          <a:xfrm>
                            <a:off x="2910600" y="4040280"/>
                            <a:ext cx="133200" cy="159840"/>
                            <a:chOff x="2910600" y="4040280"/>
                            <a:chExt cx="133200" cy="159840"/>
                          </a:xfrm>
                        </p:grpSpPr>
                        <p:sp>
                          <p:nvSpPr>
                            <p:cNvPr id="1433" name="Freeform 1078"/>
                            <p:cNvSpPr/>
                            <p:nvPr/>
                          </p:nvSpPr>
                          <p:spPr>
                            <a:xfrm flipH="1" rot="20098200">
                              <a:off x="2933280" y="4052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34" name="Freeform 1079"/>
                            <p:cNvSpPr/>
                            <p:nvPr/>
                          </p:nvSpPr>
                          <p:spPr>
                            <a:xfrm flipH="1" rot="20098200">
                              <a:off x="2940480" y="40593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435" name="Group 1080"/>
                    <p:cNvGrpSpPr/>
                    <p:nvPr/>
                  </p:nvGrpSpPr>
                  <p:grpSpPr>
                    <a:xfrm>
                      <a:off x="2613960" y="4133160"/>
                      <a:ext cx="941760" cy="238320"/>
                      <a:chOff x="2613960" y="4133160"/>
                      <a:chExt cx="941760" cy="238320"/>
                    </a:xfrm>
                  </p:grpSpPr>
                  <p:grpSp>
                    <p:nvGrpSpPr>
                      <p:cNvPr id="1436" name="Group 1081"/>
                      <p:cNvGrpSpPr/>
                      <p:nvPr/>
                    </p:nvGrpSpPr>
                    <p:grpSpPr>
                      <a:xfrm>
                        <a:off x="2613960" y="4133160"/>
                        <a:ext cx="528120" cy="238320"/>
                        <a:chOff x="2613960" y="4133160"/>
                        <a:chExt cx="528120" cy="238320"/>
                      </a:xfrm>
                    </p:grpSpPr>
                    <p:grpSp>
                      <p:nvGrpSpPr>
                        <p:cNvPr id="1437" name="Group 1082"/>
                        <p:cNvGrpSpPr/>
                        <p:nvPr/>
                      </p:nvGrpSpPr>
                      <p:grpSpPr>
                        <a:xfrm>
                          <a:off x="2613960" y="4161240"/>
                          <a:ext cx="265680" cy="210240"/>
                          <a:chOff x="2613960" y="4161240"/>
                          <a:chExt cx="265680" cy="210240"/>
                        </a:xfrm>
                      </p:grpSpPr>
                      <p:grpSp>
                        <p:nvGrpSpPr>
                          <p:cNvPr id="1438" name="Group 1083"/>
                          <p:cNvGrpSpPr/>
                          <p:nvPr/>
                        </p:nvGrpSpPr>
                        <p:grpSpPr>
                          <a:xfrm>
                            <a:off x="2774880" y="4161240"/>
                            <a:ext cx="104760" cy="147600"/>
                            <a:chOff x="2774880" y="4161240"/>
                            <a:chExt cx="104760" cy="147600"/>
                          </a:xfrm>
                        </p:grpSpPr>
                        <p:sp>
                          <p:nvSpPr>
                            <p:cNvPr id="1439" name="Freeform 1084"/>
                            <p:cNvSpPr/>
                            <p:nvPr/>
                          </p:nvSpPr>
                          <p:spPr>
                            <a:xfrm flipH="1" rot="21099600">
                              <a:off x="2783520" y="416664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40" name="Freeform 1085"/>
                            <p:cNvSpPr/>
                            <p:nvPr/>
                          </p:nvSpPr>
                          <p:spPr>
                            <a:xfrm flipH="1" rot="21099600">
                              <a:off x="2787840" y="416988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1" name="Group 1086"/>
                          <p:cNvGrpSpPr/>
                          <p:nvPr/>
                        </p:nvGrpSpPr>
                        <p:grpSpPr>
                          <a:xfrm>
                            <a:off x="2711160" y="4184280"/>
                            <a:ext cx="119160" cy="154080"/>
                            <a:chOff x="2711160" y="4184280"/>
                            <a:chExt cx="119160" cy="154080"/>
                          </a:xfrm>
                        </p:grpSpPr>
                        <p:sp>
                          <p:nvSpPr>
                            <p:cNvPr id="1442" name="Freeform 1087"/>
                            <p:cNvSpPr/>
                            <p:nvPr/>
                          </p:nvSpPr>
                          <p:spPr>
                            <a:xfrm flipH="1" rot="20649000">
                              <a:off x="2726280" y="419364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43" name="Freeform 1088"/>
                            <p:cNvSpPr/>
                            <p:nvPr/>
                          </p:nvSpPr>
                          <p:spPr>
                            <a:xfrm flipH="1" rot="20649000">
                              <a:off x="2732400" y="41983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4" name="Group 1089"/>
                          <p:cNvGrpSpPr/>
                          <p:nvPr/>
                        </p:nvGrpSpPr>
                        <p:grpSpPr>
                          <a:xfrm>
                            <a:off x="2613960" y="4211280"/>
                            <a:ext cx="144000" cy="160200"/>
                            <a:chOff x="2613960" y="4211280"/>
                            <a:chExt cx="144000" cy="160200"/>
                          </a:xfrm>
                        </p:grpSpPr>
                        <p:sp>
                          <p:nvSpPr>
                            <p:cNvPr id="1445" name="Freeform 1090"/>
                            <p:cNvSpPr/>
                            <p:nvPr/>
                          </p:nvSpPr>
                          <p:spPr>
                            <a:xfrm flipH="1" rot="19542600">
                              <a:off x="2642040" y="4224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46" name="Freeform 1091"/>
                            <p:cNvSpPr/>
                            <p:nvPr/>
                          </p:nvSpPr>
                          <p:spPr>
                            <a:xfrm flipH="1" rot="19542600">
                              <a:off x="2649960" y="42321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47" name="Group 1092"/>
                        <p:cNvGrpSpPr/>
                        <p:nvPr/>
                      </p:nvGrpSpPr>
                      <p:grpSpPr>
                        <a:xfrm>
                          <a:off x="2882160" y="4133160"/>
                          <a:ext cx="259920" cy="182160"/>
                          <a:chOff x="2882160" y="4133160"/>
                          <a:chExt cx="259920" cy="182160"/>
                        </a:xfrm>
                      </p:grpSpPr>
                      <p:grpSp>
                        <p:nvGrpSpPr>
                          <p:cNvPr id="1448" name="Group 1093"/>
                          <p:cNvGrpSpPr/>
                          <p:nvPr/>
                        </p:nvGrpSpPr>
                        <p:grpSpPr>
                          <a:xfrm>
                            <a:off x="2882160" y="4133160"/>
                            <a:ext cx="89640" cy="137520"/>
                            <a:chOff x="2882160" y="4133160"/>
                            <a:chExt cx="89640" cy="137520"/>
                          </a:xfrm>
                        </p:grpSpPr>
                        <p:sp>
                          <p:nvSpPr>
                            <p:cNvPr id="1449" name="Freeform 1094"/>
                            <p:cNvSpPr/>
                            <p:nvPr/>
                          </p:nvSpPr>
                          <p:spPr>
                            <a:xfrm rot="21544800">
                              <a:off x="2882880" y="4133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50" name="Freeform 1095"/>
                            <p:cNvSpPr/>
                            <p:nvPr/>
                          </p:nvSpPr>
                          <p:spPr>
                            <a:xfrm rot="21544800">
                              <a:off x="2909880" y="4134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51" name="Group 1096"/>
                          <p:cNvGrpSpPr/>
                          <p:nvPr/>
                        </p:nvGrpSpPr>
                        <p:grpSpPr>
                          <a:xfrm>
                            <a:off x="2935440" y="4146840"/>
                            <a:ext cx="101520" cy="145440"/>
                            <a:chOff x="2935440" y="4146840"/>
                            <a:chExt cx="101520" cy="145440"/>
                          </a:xfrm>
                        </p:grpSpPr>
                        <p:sp>
                          <p:nvSpPr>
                            <p:cNvPr id="1452" name="Freeform 1097"/>
                            <p:cNvSpPr/>
                            <p:nvPr/>
                          </p:nvSpPr>
                          <p:spPr>
                            <a:xfrm rot="395400">
                              <a:off x="2942280" y="4151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53" name="Freeform 1098"/>
                            <p:cNvSpPr/>
                            <p:nvPr/>
                          </p:nvSpPr>
                          <p:spPr>
                            <a:xfrm rot="395400">
                              <a:off x="2968560" y="41540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54" name="Group 1099"/>
                          <p:cNvGrpSpPr/>
                          <p:nvPr/>
                        </p:nvGrpSpPr>
                        <p:grpSpPr>
                          <a:xfrm>
                            <a:off x="3008880" y="4155480"/>
                            <a:ext cx="133200" cy="159840"/>
                            <a:chOff x="3008880" y="4155480"/>
                            <a:chExt cx="133200" cy="159840"/>
                          </a:xfrm>
                        </p:grpSpPr>
                        <p:sp>
                          <p:nvSpPr>
                            <p:cNvPr id="1455" name="Freeform 1100"/>
                            <p:cNvSpPr/>
                            <p:nvPr/>
                          </p:nvSpPr>
                          <p:spPr>
                            <a:xfrm rot="1501800">
                              <a:off x="3031560" y="4167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56" name="Freeform 1101"/>
                            <p:cNvSpPr/>
                            <p:nvPr/>
                          </p:nvSpPr>
                          <p:spPr>
                            <a:xfrm rot="1501800">
                              <a:off x="3055320" y="41745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457" name="Group 1102"/>
                      <p:cNvGrpSpPr/>
                      <p:nvPr/>
                    </p:nvGrpSpPr>
                    <p:grpSpPr>
                      <a:xfrm>
                        <a:off x="3027600" y="4133160"/>
                        <a:ext cx="528120" cy="238320"/>
                        <a:chOff x="3027600" y="4133160"/>
                        <a:chExt cx="528120" cy="238320"/>
                      </a:xfrm>
                    </p:grpSpPr>
                    <p:grpSp>
                      <p:nvGrpSpPr>
                        <p:cNvPr id="1458" name="Group 1103"/>
                        <p:cNvGrpSpPr/>
                        <p:nvPr/>
                      </p:nvGrpSpPr>
                      <p:grpSpPr>
                        <a:xfrm>
                          <a:off x="3290400" y="4161240"/>
                          <a:ext cx="265320" cy="210240"/>
                          <a:chOff x="3290400" y="4161240"/>
                          <a:chExt cx="265320" cy="210240"/>
                        </a:xfrm>
                      </p:grpSpPr>
                      <p:grpSp>
                        <p:nvGrpSpPr>
                          <p:cNvPr id="1459" name="Group 1104"/>
                          <p:cNvGrpSpPr/>
                          <p:nvPr/>
                        </p:nvGrpSpPr>
                        <p:grpSpPr>
                          <a:xfrm>
                            <a:off x="3290400" y="4161240"/>
                            <a:ext cx="104400" cy="147600"/>
                            <a:chOff x="3290400" y="4161240"/>
                            <a:chExt cx="104400" cy="147600"/>
                          </a:xfrm>
                        </p:grpSpPr>
                        <p:sp>
                          <p:nvSpPr>
                            <p:cNvPr id="1460" name="Freeform 1105"/>
                            <p:cNvSpPr/>
                            <p:nvPr/>
                          </p:nvSpPr>
                          <p:spPr>
                            <a:xfrm rot="500400">
                              <a:off x="3299040" y="416664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1" name="Freeform 1106"/>
                            <p:cNvSpPr/>
                            <p:nvPr/>
                          </p:nvSpPr>
                          <p:spPr>
                            <a:xfrm rot="500400">
                              <a:off x="3324960" y="416988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62" name="Group 1107"/>
                          <p:cNvGrpSpPr/>
                          <p:nvPr/>
                        </p:nvGrpSpPr>
                        <p:grpSpPr>
                          <a:xfrm>
                            <a:off x="3339720" y="4184280"/>
                            <a:ext cx="118800" cy="154080"/>
                            <a:chOff x="3339720" y="4184280"/>
                            <a:chExt cx="118800" cy="154080"/>
                          </a:xfrm>
                        </p:grpSpPr>
                        <p:sp>
                          <p:nvSpPr>
                            <p:cNvPr id="1463" name="Freeform 1108"/>
                            <p:cNvSpPr/>
                            <p:nvPr/>
                          </p:nvSpPr>
                          <p:spPr>
                            <a:xfrm rot="951000">
                              <a:off x="3355200" y="419364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4" name="Freeform 1109"/>
                            <p:cNvSpPr/>
                            <p:nvPr/>
                          </p:nvSpPr>
                          <p:spPr>
                            <a:xfrm rot="951000">
                              <a:off x="3379680" y="41983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65" name="Group 1110"/>
                          <p:cNvGrpSpPr/>
                          <p:nvPr/>
                        </p:nvGrpSpPr>
                        <p:grpSpPr>
                          <a:xfrm>
                            <a:off x="3411720" y="4211280"/>
                            <a:ext cx="144000" cy="160200"/>
                            <a:chOff x="3411720" y="4211280"/>
                            <a:chExt cx="144000" cy="160200"/>
                          </a:xfrm>
                        </p:grpSpPr>
                        <p:sp>
                          <p:nvSpPr>
                            <p:cNvPr id="1466" name="Freeform 1111"/>
                            <p:cNvSpPr/>
                            <p:nvPr/>
                          </p:nvSpPr>
                          <p:spPr>
                            <a:xfrm rot="2057400">
                              <a:off x="3439800" y="4224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7" name="Freeform 1112"/>
                            <p:cNvSpPr/>
                            <p:nvPr/>
                          </p:nvSpPr>
                          <p:spPr>
                            <a:xfrm rot="2057400">
                              <a:off x="3462480" y="4232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68" name="Group 1113"/>
                        <p:cNvGrpSpPr/>
                        <p:nvPr/>
                      </p:nvGrpSpPr>
                      <p:grpSpPr>
                        <a:xfrm>
                          <a:off x="3027600" y="4133160"/>
                          <a:ext cx="259920" cy="182160"/>
                          <a:chOff x="3027600" y="4133160"/>
                          <a:chExt cx="259920" cy="182160"/>
                        </a:xfrm>
                      </p:grpSpPr>
                      <p:grpSp>
                        <p:nvGrpSpPr>
                          <p:cNvPr id="1469" name="Group 1114"/>
                          <p:cNvGrpSpPr/>
                          <p:nvPr/>
                        </p:nvGrpSpPr>
                        <p:grpSpPr>
                          <a:xfrm>
                            <a:off x="3197880" y="4133160"/>
                            <a:ext cx="89640" cy="137520"/>
                            <a:chOff x="3197880" y="4133160"/>
                            <a:chExt cx="89640" cy="137520"/>
                          </a:xfrm>
                        </p:grpSpPr>
                        <p:sp>
                          <p:nvSpPr>
                            <p:cNvPr id="1470" name="Freeform 1115"/>
                            <p:cNvSpPr/>
                            <p:nvPr/>
                          </p:nvSpPr>
                          <p:spPr>
                            <a:xfrm flipH="1" rot="55200">
                              <a:off x="3198240" y="4133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1" name="Freeform 1116"/>
                            <p:cNvSpPr/>
                            <p:nvPr/>
                          </p:nvSpPr>
                          <p:spPr>
                            <a:xfrm flipH="1" rot="55200">
                              <a:off x="3202920" y="4134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72" name="Group 1117"/>
                          <p:cNvGrpSpPr/>
                          <p:nvPr/>
                        </p:nvGrpSpPr>
                        <p:grpSpPr>
                          <a:xfrm>
                            <a:off x="3132720" y="4146840"/>
                            <a:ext cx="101520" cy="145440"/>
                            <a:chOff x="3132720" y="4146840"/>
                            <a:chExt cx="101520" cy="145440"/>
                          </a:xfrm>
                        </p:grpSpPr>
                        <p:sp>
                          <p:nvSpPr>
                            <p:cNvPr id="1473" name="Freeform 1118"/>
                            <p:cNvSpPr/>
                            <p:nvPr/>
                          </p:nvSpPr>
                          <p:spPr>
                            <a:xfrm flipH="1" rot="21204600">
                              <a:off x="3139560" y="4151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4" name="Freeform 1119"/>
                            <p:cNvSpPr/>
                            <p:nvPr/>
                          </p:nvSpPr>
                          <p:spPr>
                            <a:xfrm flipH="1" rot="21204600">
                              <a:off x="3143520" y="41540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75" name="Group 1120"/>
                          <p:cNvGrpSpPr/>
                          <p:nvPr/>
                        </p:nvGrpSpPr>
                        <p:grpSpPr>
                          <a:xfrm>
                            <a:off x="3027600" y="4155480"/>
                            <a:ext cx="133200" cy="159840"/>
                            <a:chOff x="3027600" y="4155480"/>
                            <a:chExt cx="133200" cy="159840"/>
                          </a:xfrm>
                        </p:grpSpPr>
                        <p:sp>
                          <p:nvSpPr>
                            <p:cNvPr id="1476" name="Freeform 1121"/>
                            <p:cNvSpPr/>
                            <p:nvPr/>
                          </p:nvSpPr>
                          <p:spPr>
                            <a:xfrm flipH="1" rot="20098200">
                              <a:off x="3050280" y="4167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7" name="Freeform 1122"/>
                            <p:cNvSpPr/>
                            <p:nvPr/>
                          </p:nvSpPr>
                          <p:spPr>
                            <a:xfrm flipH="1" rot="20098200">
                              <a:off x="3057480" y="41745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478" name="Group 1123"/>
                    <p:cNvGrpSpPr/>
                    <p:nvPr/>
                  </p:nvGrpSpPr>
                  <p:grpSpPr>
                    <a:xfrm>
                      <a:off x="2458080" y="2962800"/>
                      <a:ext cx="941760" cy="238320"/>
                      <a:chOff x="2458080" y="2962800"/>
                      <a:chExt cx="941760" cy="238320"/>
                    </a:xfrm>
                  </p:grpSpPr>
                  <p:grpSp>
                    <p:nvGrpSpPr>
                      <p:cNvPr id="1479" name="Group 1124"/>
                      <p:cNvGrpSpPr/>
                      <p:nvPr/>
                    </p:nvGrpSpPr>
                    <p:grpSpPr>
                      <a:xfrm>
                        <a:off x="2458080" y="2962800"/>
                        <a:ext cx="528120" cy="238320"/>
                        <a:chOff x="2458080" y="2962800"/>
                        <a:chExt cx="528120" cy="238320"/>
                      </a:xfrm>
                    </p:grpSpPr>
                    <p:grpSp>
                      <p:nvGrpSpPr>
                        <p:cNvPr id="1480" name="Group 1125"/>
                        <p:cNvGrpSpPr/>
                        <p:nvPr/>
                      </p:nvGrpSpPr>
                      <p:grpSpPr>
                        <a:xfrm>
                          <a:off x="2458080" y="2990880"/>
                          <a:ext cx="265680" cy="210240"/>
                          <a:chOff x="2458080" y="2990880"/>
                          <a:chExt cx="265680" cy="210240"/>
                        </a:xfrm>
                      </p:grpSpPr>
                      <p:grpSp>
                        <p:nvGrpSpPr>
                          <p:cNvPr id="1481" name="Group 1126"/>
                          <p:cNvGrpSpPr/>
                          <p:nvPr/>
                        </p:nvGrpSpPr>
                        <p:grpSpPr>
                          <a:xfrm>
                            <a:off x="2619000" y="2990880"/>
                            <a:ext cx="104760" cy="147600"/>
                            <a:chOff x="2619000" y="2990880"/>
                            <a:chExt cx="104760" cy="147600"/>
                          </a:xfrm>
                        </p:grpSpPr>
                        <p:sp>
                          <p:nvSpPr>
                            <p:cNvPr id="1482" name="Freeform 1127"/>
                            <p:cNvSpPr/>
                            <p:nvPr/>
                          </p:nvSpPr>
                          <p:spPr>
                            <a:xfrm flipH="1" rot="21099600">
                              <a:off x="2627640" y="29962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3" name="Freeform 1128"/>
                            <p:cNvSpPr/>
                            <p:nvPr/>
                          </p:nvSpPr>
                          <p:spPr>
                            <a:xfrm flipH="1" rot="21099600">
                              <a:off x="2631960" y="29995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84" name="Group 1129"/>
                          <p:cNvGrpSpPr/>
                          <p:nvPr/>
                        </p:nvGrpSpPr>
                        <p:grpSpPr>
                          <a:xfrm>
                            <a:off x="2555280" y="3013920"/>
                            <a:ext cx="119160" cy="154080"/>
                            <a:chOff x="2555280" y="3013920"/>
                            <a:chExt cx="119160" cy="154080"/>
                          </a:xfrm>
                        </p:grpSpPr>
                        <p:sp>
                          <p:nvSpPr>
                            <p:cNvPr id="1485" name="Freeform 1130"/>
                            <p:cNvSpPr/>
                            <p:nvPr/>
                          </p:nvSpPr>
                          <p:spPr>
                            <a:xfrm flipH="1" rot="20649000">
                              <a:off x="2570400" y="30232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6" name="Freeform 1131"/>
                            <p:cNvSpPr/>
                            <p:nvPr/>
                          </p:nvSpPr>
                          <p:spPr>
                            <a:xfrm flipH="1" rot="20649000">
                              <a:off x="2576520" y="30279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87" name="Group 1132"/>
                          <p:cNvGrpSpPr/>
                          <p:nvPr/>
                        </p:nvGrpSpPr>
                        <p:grpSpPr>
                          <a:xfrm>
                            <a:off x="2458080" y="3040920"/>
                            <a:ext cx="144000" cy="160200"/>
                            <a:chOff x="2458080" y="3040920"/>
                            <a:chExt cx="144000" cy="160200"/>
                          </a:xfrm>
                        </p:grpSpPr>
                        <p:sp>
                          <p:nvSpPr>
                            <p:cNvPr id="1488" name="Freeform 1133"/>
                            <p:cNvSpPr/>
                            <p:nvPr/>
                          </p:nvSpPr>
                          <p:spPr>
                            <a:xfrm flipH="1" rot="19542600">
                              <a:off x="2486160" y="3054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9" name="Freeform 1134"/>
                            <p:cNvSpPr/>
                            <p:nvPr/>
                          </p:nvSpPr>
                          <p:spPr>
                            <a:xfrm flipH="1" rot="19542600">
                              <a:off x="2494080" y="3061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90" name="Group 1135"/>
                        <p:cNvGrpSpPr/>
                        <p:nvPr/>
                      </p:nvGrpSpPr>
                      <p:grpSpPr>
                        <a:xfrm>
                          <a:off x="2726280" y="2962800"/>
                          <a:ext cx="259920" cy="182160"/>
                          <a:chOff x="2726280" y="2962800"/>
                          <a:chExt cx="259920" cy="182160"/>
                        </a:xfrm>
                      </p:grpSpPr>
                      <p:grpSp>
                        <p:nvGrpSpPr>
                          <p:cNvPr id="1491" name="Group 1136"/>
                          <p:cNvGrpSpPr/>
                          <p:nvPr/>
                        </p:nvGrpSpPr>
                        <p:grpSpPr>
                          <a:xfrm>
                            <a:off x="2726280" y="2962800"/>
                            <a:ext cx="89640" cy="137520"/>
                            <a:chOff x="2726280" y="2962800"/>
                            <a:chExt cx="89640" cy="137520"/>
                          </a:xfrm>
                        </p:grpSpPr>
                        <p:sp>
                          <p:nvSpPr>
                            <p:cNvPr id="1492" name="Freeform 1137"/>
                            <p:cNvSpPr/>
                            <p:nvPr/>
                          </p:nvSpPr>
                          <p:spPr>
                            <a:xfrm rot="21544800">
                              <a:off x="2727000" y="2963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3" name="Freeform 1138"/>
                            <p:cNvSpPr/>
                            <p:nvPr/>
                          </p:nvSpPr>
                          <p:spPr>
                            <a:xfrm rot="21544800">
                              <a:off x="2754000" y="2964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94" name="Group 1139"/>
                          <p:cNvGrpSpPr/>
                          <p:nvPr/>
                        </p:nvGrpSpPr>
                        <p:grpSpPr>
                          <a:xfrm>
                            <a:off x="2779560" y="2976480"/>
                            <a:ext cx="101520" cy="145440"/>
                            <a:chOff x="2779560" y="2976480"/>
                            <a:chExt cx="101520" cy="145440"/>
                          </a:xfrm>
                        </p:grpSpPr>
                        <p:sp>
                          <p:nvSpPr>
                            <p:cNvPr id="1495" name="Freeform 1140"/>
                            <p:cNvSpPr/>
                            <p:nvPr/>
                          </p:nvSpPr>
                          <p:spPr>
                            <a:xfrm rot="395400">
                              <a:off x="2786400" y="2980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6" name="Freeform 1141"/>
                            <p:cNvSpPr/>
                            <p:nvPr/>
                          </p:nvSpPr>
                          <p:spPr>
                            <a:xfrm rot="395400">
                              <a:off x="2812680" y="2983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97" name="Group 1142"/>
                          <p:cNvGrpSpPr/>
                          <p:nvPr/>
                        </p:nvGrpSpPr>
                        <p:grpSpPr>
                          <a:xfrm>
                            <a:off x="2853000" y="2985120"/>
                            <a:ext cx="133200" cy="159840"/>
                            <a:chOff x="2853000" y="2985120"/>
                            <a:chExt cx="133200" cy="159840"/>
                          </a:xfrm>
                        </p:grpSpPr>
                        <p:sp>
                          <p:nvSpPr>
                            <p:cNvPr id="1498" name="Freeform 1143"/>
                            <p:cNvSpPr/>
                            <p:nvPr/>
                          </p:nvSpPr>
                          <p:spPr>
                            <a:xfrm rot="1501800">
                              <a:off x="2875680" y="2997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9" name="Freeform 1144"/>
                            <p:cNvSpPr/>
                            <p:nvPr/>
                          </p:nvSpPr>
                          <p:spPr>
                            <a:xfrm rot="1501800">
                              <a:off x="2899440" y="3004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500" name="Group 1145"/>
                      <p:cNvGrpSpPr/>
                      <p:nvPr/>
                    </p:nvGrpSpPr>
                    <p:grpSpPr>
                      <a:xfrm>
                        <a:off x="2871720" y="2962800"/>
                        <a:ext cx="528120" cy="238320"/>
                        <a:chOff x="2871720" y="2962800"/>
                        <a:chExt cx="528120" cy="238320"/>
                      </a:xfrm>
                    </p:grpSpPr>
                    <p:grpSp>
                      <p:nvGrpSpPr>
                        <p:cNvPr id="1501" name="Group 1146"/>
                        <p:cNvGrpSpPr/>
                        <p:nvPr/>
                      </p:nvGrpSpPr>
                      <p:grpSpPr>
                        <a:xfrm>
                          <a:off x="3134520" y="2990880"/>
                          <a:ext cx="265320" cy="210240"/>
                          <a:chOff x="3134520" y="2990880"/>
                          <a:chExt cx="265320" cy="210240"/>
                        </a:xfrm>
                      </p:grpSpPr>
                      <p:grpSp>
                        <p:nvGrpSpPr>
                          <p:cNvPr id="1502" name="Group 1147"/>
                          <p:cNvGrpSpPr/>
                          <p:nvPr/>
                        </p:nvGrpSpPr>
                        <p:grpSpPr>
                          <a:xfrm>
                            <a:off x="3134520" y="2990880"/>
                            <a:ext cx="104400" cy="147600"/>
                            <a:chOff x="3134520" y="2990880"/>
                            <a:chExt cx="104400" cy="147600"/>
                          </a:xfrm>
                        </p:grpSpPr>
                        <p:sp>
                          <p:nvSpPr>
                            <p:cNvPr id="1503" name="Freeform 1148"/>
                            <p:cNvSpPr/>
                            <p:nvPr/>
                          </p:nvSpPr>
                          <p:spPr>
                            <a:xfrm rot="500400">
                              <a:off x="3143160" y="29962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04" name="Freeform 1149"/>
                            <p:cNvSpPr/>
                            <p:nvPr/>
                          </p:nvSpPr>
                          <p:spPr>
                            <a:xfrm rot="500400">
                              <a:off x="3169080" y="29995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05" name="Group 1150"/>
                          <p:cNvGrpSpPr/>
                          <p:nvPr/>
                        </p:nvGrpSpPr>
                        <p:grpSpPr>
                          <a:xfrm>
                            <a:off x="3183840" y="3013920"/>
                            <a:ext cx="118800" cy="154080"/>
                            <a:chOff x="3183840" y="3013920"/>
                            <a:chExt cx="118800" cy="154080"/>
                          </a:xfrm>
                        </p:grpSpPr>
                        <p:sp>
                          <p:nvSpPr>
                            <p:cNvPr id="1506" name="Freeform 1151"/>
                            <p:cNvSpPr/>
                            <p:nvPr/>
                          </p:nvSpPr>
                          <p:spPr>
                            <a:xfrm rot="951000">
                              <a:off x="3199320" y="30232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07" name="Freeform 1152"/>
                            <p:cNvSpPr/>
                            <p:nvPr/>
                          </p:nvSpPr>
                          <p:spPr>
                            <a:xfrm rot="951000">
                              <a:off x="3223800" y="30279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08" name="Group 1153"/>
                          <p:cNvGrpSpPr/>
                          <p:nvPr/>
                        </p:nvGrpSpPr>
                        <p:grpSpPr>
                          <a:xfrm>
                            <a:off x="3255840" y="3040920"/>
                            <a:ext cx="144000" cy="160200"/>
                            <a:chOff x="3255840" y="3040920"/>
                            <a:chExt cx="144000" cy="160200"/>
                          </a:xfrm>
                        </p:grpSpPr>
                        <p:sp>
                          <p:nvSpPr>
                            <p:cNvPr id="1509" name="Freeform 1154"/>
                            <p:cNvSpPr/>
                            <p:nvPr/>
                          </p:nvSpPr>
                          <p:spPr>
                            <a:xfrm rot="2057400">
                              <a:off x="3283920" y="3054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10" name="Freeform 1155"/>
                            <p:cNvSpPr/>
                            <p:nvPr/>
                          </p:nvSpPr>
                          <p:spPr>
                            <a:xfrm rot="2057400">
                              <a:off x="3306600" y="30618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11" name="Group 1156"/>
                        <p:cNvGrpSpPr/>
                        <p:nvPr/>
                      </p:nvGrpSpPr>
                      <p:grpSpPr>
                        <a:xfrm>
                          <a:off x="2871720" y="2962800"/>
                          <a:ext cx="259920" cy="182160"/>
                          <a:chOff x="2871720" y="2962800"/>
                          <a:chExt cx="259920" cy="182160"/>
                        </a:xfrm>
                      </p:grpSpPr>
                      <p:grpSp>
                        <p:nvGrpSpPr>
                          <p:cNvPr id="1512" name="Group 1157"/>
                          <p:cNvGrpSpPr/>
                          <p:nvPr/>
                        </p:nvGrpSpPr>
                        <p:grpSpPr>
                          <a:xfrm>
                            <a:off x="3042000" y="2962800"/>
                            <a:ext cx="89640" cy="137520"/>
                            <a:chOff x="3042000" y="2962800"/>
                            <a:chExt cx="89640" cy="137520"/>
                          </a:xfrm>
                        </p:grpSpPr>
                        <p:sp>
                          <p:nvSpPr>
                            <p:cNvPr id="1513" name="Freeform 1158"/>
                            <p:cNvSpPr/>
                            <p:nvPr/>
                          </p:nvSpPr>
                          <p:spPr>
                            <a:xfrm flipH="1" rot="55200">
                              <a:off x="3042360" y="2963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14" name="Freeform 1159"/>
                            <p:cNvSpPr/>
                            <p:nvPr/>
                          </p:nvSpPr>
                          <p:spPr>
                            <a:xfrm flipH="1" rot="55200">
                              <a:off x="3047040" y="2964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15" name="Group 1160"/>
                          <p:cNvGrpSpPr/>
                          <p:nvPr/>
                        </p:nvGrpSpPr>
                        <p:grpSpPr>
                          <a:xfrm>
                            <a:off x="2976840" y="2976480"/>
                            <a:ext cx="101520" cy="145440"/>
                            <a:chOff x="2976840" y="2976480"/>
                            <a:chExt cx="101520" cy="145440"/>
                          </a:xfrm>
                        </p:grpSpPr>
                        <p:sp>
                          <p:nvSpPr>
                            <p:cNvPr id="1516" name="Freeform 1161"/>
                            <p:cNvSpPr/>
                            <p:nvPr/>
                          </p:nvSpPr>
                          <p:spPr>
                            <a:xfrm flipH="1" rot="21204600">
                              <a:off x="2983680" y="2980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17" name="Freeform 1162"/>
                            <p:cNvSpPr/>
                            <p:nvPr/>
                          </p:nvSpPr>
                          <p:spPr>
                            <a:xfrm flipH="1" rot="21204600">
                              <a:off x="2987640" y="2983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18" name="Group 1163"/>
                          <p:cNvGrpSpPr/>
                          <p:nvPr/>
                        </p:nvGrpSpPr>
                        <p:grpSpPr>
                          <a:xfrm>
                            <a:off x="2871720" y="2985120"/>
                            <a:ext cx="133200" cy="159840"/>
                            <a:chOff x="2871720" y="2985120"/>
                            <a:chExt cx="133200" cy="159840"/>
                          </a:xfrm>
                        </p:grpSpPr>
                        <p:sp>
                          <p:nvSpPr>
                            <p:cNvPr id="1519" name="Freeform 1164"/>
                            <p:cNvSpPr/>
                            <p:nvPr/>
                          </p:nvSpPr>
                          <p:spPr>
                            <a:xfrm flipH="1" rot="20098200">
                              <a:off x="2894400" y="2997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20" name="Freeform 1165"/>
                            <p:cNvSpPr/>
                            <p:nvPr/>
                          </p:nvSpPr>
                          <p:spPr>
                            <a:xfrm flipH="1" rot="20098200">
                              <a:off x="2901600" y="3004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521" name="Group 1166"/>
                    <p:cNvGrpSpPr/>
                    <p:nvPr/>
                  </p:nvGrpSpPr>
                  <p:grpSpPr>
                    <a:xfrm>
                      <a:off x="2692440" y="3060000"/>
                      <a:ext cx="941760" cy="238320"/>
                      <a:chOff x="2692440" y="3060000"/>
                      <a:chExt cx="941760" cy="238320"/>
                    </a:xfrm>
                  </p:grpSpPr>
                  <p:grpSp>
                    <p:nvGrpSpPr>
                      <p:cNvPr id="1522" name="Group 1167"/>
                      <p:cNvGrpSpPr/>
                      <p:nvPr/>
                    </p:nvGrpSpPr>
                    <p:grpSpPr>
                      <a:xfrm>
                        <a:off x="2692440" y="3060000"/>
                        <a:ext cx="528120" cy="238320"/>
                        <a:chOff x="2692440" y="3060000"/>
                        <a:chExt cx="528120" cy="238320"/>
                      </a:xfrm>
                    </p:grpSpPr>
                    <p:grpSp>
                      <p:nvGrpSpPr>
                        <p:cNvPr id="1523" name="Group 1168"/>
                        <p:cNvGrpSpPr/>
                        <p:nvPr/>
                      </p:nvGrpSpPr>
                      <p:grpSpPr>
                        <a:xfrm>
                          <a:off x="2692440" y="3088080"/>
                          <a:ext cx="265680" cy="210240"/>
                          <a:chOff x="2692440" y="3088080"/>
                          <a:chExt cx="265680" cy="210240"/>
                        </a:xfrm>
                      </p:grpSpPr>
                      <p:grpSp>
                        <p:nvGrpSpPr>
                          <p:cNvPr id="1524" name="Group 1169"/>
                          <p:cNvGrpSpPr/>
                          <p:nvPr/>
                        </p:nvGrpSpPr>
                        <p:grpSpPr>
                          <a:xfrm>
                            <a:off x="2853360" y="3088080"/>
                            <a:ext cx="104760" cy="147600"/>
                            <a:chOff x="2853360" y="3088080"/>
                            <a:chExt cx="104760" cy="147600"/>
                          </a:xfrm>
                        </p:grpSpPr>
                        <p:sp>
                          <p:nvSpPr>
                            <p:cNvPr id="1525" name="Freeform 1170"/>
                            <p:cNvSpPr/>
                            <p:nvPr/>
                          </p:nvSpPr>
                          <p:spPr>
                            <a:xfrm flipH="1" rot="21099600">
                              <a:off x="2862000" y="3093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26" name="Freeform 1171"/>
                            <p:cNvSpPr/>
                            <p:nvPr/>
                          </p:nvSpPr>
                          <p:spPr>
                            <a:xfrm flipH="1" rot="21099600">
                              <a:off x="2866320" y="3096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27" name="Group 1172"/>
                          <p:cNvGrpSpPr/>
                          <p:nvPr/>
                        </p:nvGrpSpPr>
                        <p:grpSpPr>
                          <a:xfrm>
                            <a:off x="2789640" y="3111120"/>
                            <a:ext cx="119160" cy="154080"/>
                            <a:chOff x="2789640" y="3111120"/>
                            <a:chExt cx="119160" cy="154080"/>
                          </a:xfrm>
                        </p:grpSpPr>
                        <p:sp>
                          <p:nvSpPr>
                            <p:cNvPr id="1528" name="Freeform 1173"/>
                            <p:cNvSpPr/>
                            <p:nvPr/>
                          </p:nvSpPr>
                          <p:spPr>
                            <a:xfrm flipH="1" rot="20649000">
                              <a:off x="2804760" y="3120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29" name="Freeform 1174"/>
                            <p:cNvSpPr/>
                            <p:nvPr/>
                          </p:nvSpPr>
                          <p:spPr>
                            <a:xfrm flipH="1" rot="20649000">
                              <a:off x="2810880" y="3125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30" name="Group 1175"/>
                          <p:cNvGrpSpPr/>
                          <p:nvPr/>
                        </p:nvGrpSpPr>
                        <p:grpSpPr>
                          <a:xfrm>
                            <a:off x="2692440" y="3138120"/>
                            <a:ext cx="144000" cy="160200"/>
                            <a:chOff x="2692440" y="3138120"/>
                            <a:chExt cx="144000" cy="160200"/>
                          </a:xfrm>
                        </p:grpSpPr>
                        <p:sp>
                          <p:nvSpPr>
                            <p:cNvPr id="1531" name="Freeform 1176"/>
                            <p:cNvSpPr/>
                            <p:nvPr/>
                          </p:nvSpPr>
                          <p:spPr>
                            <a:xfrm flipH="1" rot="19542600">
                              <a:off x="2720520" y="3151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32" name="Freeform 1177"/>
                            <p:cNvSpPr/>
                            <p:nvPr/>
                          </p:nvSpPr>
                          <p:spPr>
                            <a:xfrm flipH="1" rot="19542600">
                              <a:off x="2728440" y="3159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33" name="Group 1178"/>
                        <p:cNvGrpSpPr/>
                        <p:nvPr/>
                      </p:nvGrpSpPr>
                      <p:grpSpPr>
                        <a:xfrm>
                          <a:off x="2960640" y="3060000"/>
                          <a:ext cx="259920" cy="182160"/>
                          <a:chOff x="2960640" y="3060000"/>
                          <a:chExt cx="259920" cy="182160"/>
                        </a:xfrm>
                      </p:grpSpPr>
                      <p:grpSp>
                        <p:nvGrpSpPr>
                          <p:cNvPr id="1534" name="Group 1179"/>
                          <p:cNvGrpSpPr/>
                          <p:nvPr/>
                        </p:nvGrpSpPr>
                        <p:grpSpPr>
                          <a:xfrm>
                            <a:off x="2960640" y="3060000"/>
                            <a:ext cx="89640" cy="137520"/>
                            <a:chOff x="2960640" y="3060000"/>
                            <a:chExt cx="89640" cy="137520"/>
                          </a:xfrm>
                        </p:grpSpPr>
                        <p:sp>
                          <p:nvSpPr>
                            <p:cNvPr id="1535" name="Freeform 1180"/>
                            <p:cNvSpPr/>
                            <p:nvPr/>
                          </p:nvSpPr>
                          <p:spPr>
                            <a:xfrm rot="21544800">
                              <a:off x="2961360" y="3060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36" name="Freeform 1181"/>
                            <p:cNvSpPr/>
                            <p:nvPr/>
                          </p:nvSpPr>
                          <p:spPr>
                            <a:xfrm rot="21544800">
                              <a:off x="2988360" y="3061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37" name="Group 1182"/>
                          <p:cNvGrpSpPr/>
                          <p:nvPr/>
                        </p:nvGrpSpPr>
                        <p:grpSpPr>
                          <a:xfrm>
                            <a:off x="3013920" y="3073680"/>
                            <a:ext cx="101520" cy="145440"/>
                            <a:chOff x="3013920" y="3073680"/>
                            <a:chExt cx="101520" cy="145440"/>
                          </a:xfrm>
                        </p:grpSpPr>
                        <p:sp>
                          <p:nvSpPr>
                            <p:cNvPr id="1538" name="Freeform 1183"/>
                            <p:cNvSpPr/>
                            <p:nvPr/>
                          </p:nvSpPr>
                          <p:spPr>
                            <a:xfrm rot="395400">
                              <a:off x="3020760" y="3078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39" name="Freeform 1184"/>
                            <p:cNvSpPr/>
                            <p:nvPr/>
                          </p:nvSpPr>
                          <p:spPr>
                            <a:xfrm rot="395400">
                              <a:off x="3047040" y="3080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40" name="Group 1185"/>
                          <p:cNvGrpSpPr/>
                          <p:nvPr/>
                        </p:nvGrpSpPr>
                        <p:grpSpPr>
                          <a:xfrm>
                            <a:off x="3087360" y="3082320"/>
                            <a:ext cx="133200" cy="159840"/>
                            <a:chOff x="3087360" y="3082320"/>
                            <a:chExt cx="133200" cy="159840"/>
                          </a:xfrm>
                        </p:grpSpPr>
                        <p:sp>
                          <p:nvSpPr>
                            <p:cNvPr id="1541" name="Freeform 1186"/>
                            <p:cNvSpPr/>
                            <p:nvPr/>
                          </p:nvSpPr>
                          <p:spPr>
                            <a:xfrm rot="1501800">
                              <a:off x="3110040" y="3094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42" name="Freeform 1187"/>
                            <p:cNvSpPr/>
                            <p:nvPr/>
                          </p:nvSpPr>
                          <p:spPr>
                            <a:xfrm rot="1501800">
                              <a:off x="3133800" y="3101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543" name="Group 1188"/>
                      <p:cNvGrpSpPr/>
                      <p:nvPr/>
                    </p:nvGrpSpPr>
                    <p:grpSpPr>
                      <a:xfrm>
                        <a:off x="3106080" y="3060000"/>
                        <a:ext cx="528120" cy="238320"/>
                        <a:chOff x="3106080" y="3060000"/>
                        <a:chExt cx="528120" cy="238320"/>
                      </a:xfrm>
                    </p:grpSpPr>
                    <p:grpSp>
                      <p:nvGrpSpPr>
                        <p:cNvPr id="1544" name="Group 1189"/>
                        <p:cNvGrpSpPr/>
                        <p:nvPr/>
                      </p:nvGrpSpPr>
                      <p:grpSpPr>
                        <a:xfrm>
                          <a:off x="3368880" y="3088080"/>
                          <a:ext cx="265320" cy="210240"/>
                          <a:chOff x="3368880" y="3088080"/>
                          <a:chExt cx="265320" cy="210240"/>
                        </a:xfrm>
                      </p:grpSpPr>
                      <p:grpSp>
                        <p:nvGrpSpPr>
                          <p:cNvPr id="1545" name="Group 1190"/>
                          <p:cNvGrpSpPr/>
                          <p:nvPr/>
                        </p:nvGrpSpPr>
                        <p:grpSpPr>
                          <a:xfrm>
                            <a:off x="3368880" y="3088080"/>
                            <a:ext cx="104400" cy="147600"/>
                            <a:chOff x="3368880" y="3088080"/>
                            <a:chExt cx="104400" cy="147600"/>
                          </a:xfrm>
                        </p:grpSpPr>
                        <p:sp>
                          <p:nvSpPr>
                            <p:cNvPr id="1546" name="Freeform 1191"/>
                            <p:cNvSpPr/>
                            <p:nvPr/>
                          </p:nvSpPr>
                          <p:spPr>
                            <a:xfrm rot="500400">
                              <a:off x="3377520" y="3093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47" name="Freeform 1192"/>
                            <p:cNvSpPr/>
                            <p:nvPr/>
                          </p:nvSpPr>
                          <p:spPr>
                            <a:xfrm rot="500400">
                              <a:off x="3403440" y="3096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48" name="Group 1193"/>
                          <p:cNvGrpSpPr/>
                          <p:nvPr/>
                        </p:nvGrpSpPr>
                        <p:grpSpPr>
                          <a:xfrm>
                            <a:off x="3418200" y="3111120"/>
                            <a:ext cx="118800" cy="154080"/>
                            <a:chOff x="3418200" y="3111120"/>
                            <a:chExt cx="118800" cy="154080"/>
                          </a:xfrm>
                        </p:grpSpPr>
                        <p:sp>
                          <p:nvSpPr>
                            <p:cNvPr id="1549" name="Freeform 1194"/>
                            <p:cNvSpPr/>
                            <p:nvPr/>
                          </p:nvSpPr>
                          <p:spPr>
                            <a:xfrm rot="951000">
                              <a:off x="3433680" y="3120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50" name="Freeform 1195"/>
                            <p:cNvSpPr/>
                            <p:nvPr/>
                          </p:nvSpPr>
                          <p:spPr>
                            <a:xfrm rot="951000">
                              <a:off x="3458160" y="3125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1" name="Group 1196"/>
                          <p:cNvGrpSpPr/>
                          <p:nvPr/>
                        </p:nvGrpSpPr>
                        <p:grpSpPr>
                          <a:xfrm>
                            <a:off x="3490200" y="3138120"/>
                            <a:ext cx="144000" cy="160200"/>
                            <a:chOff x="3490200" y="3138120"/>
                            <a:chExt cx="144000" cy="160200"/>
                          </a:xfrm>
                        </p:grpSpPr>
                        <p:sp>
                          <p:nvSpPr>
                            <p:cNvPr id="1552" name="Freeform 1197"/>
                            <p:cNvSpPr/>
                            <p:nvPr/>
                          </p:nvSpPr>
                          <p:spPr>
                            <a:xfrm rot="2057400">
                              <a:off x="3518280" y="3151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53" name="Freeform 1198"/>
                            <p:cNvSpPr/>
                            <p:nvPr/>
                          </p:nvSpPr>
                          <p:spPr>
                            <a:xfrm rot="2057400">
                              <a:off x="3540960" y="31590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54" name="Group 1199"/>
                        <p:cNvGrpSpPr/>
                        <p:nvPr/>
                      </p:nvGrpSpPr>
                      <p:grpSpPr>
                        <a:xfrm>
                          <a:off x="3106080" y="3060000"/>
                          <a:ext cx="259920" cy="182160"/>
                          <a:chOff x="3106080" y="3060000"/>
                          <a:chExt cx="259920" cy="182160"/>
                        </a:xfrm>
                      </p:grpSpPr>
                      <p:grpSp>
                        <p:nvGrpSpPr>
                          <p:cNvPr id="1555" name="Group 1200"/>
                          <p:cNvGrpSpPr/>
                          <p:nvPr/>
                        </p:nvGrpSpPr>
                        <p:grpSpPr>
                          <a:xfrm>
                            <a:off x="3276360" y="3060000"/>
                            <a:ext cx="89640" cy="137520"/>
                            <a:chOff x="3276360" y="3060000"/>
                            <a:chExt cx="89640" cy="137520"/>
                          </a:xfrm>
                        </p:grpSpPr>
                        <p:sp>
                          <p:nvSpPr>
                            <p:cNvPr id="1556" name="Freeform 1201"/>
                            <p:cNvSpPr/>
                            <p:nvPr/>
                          </p:nvSpPr>
                          <p:spPr>
                            <a:xfrm flipH="1" rot="55200">
                              <a:off x="3276720" y="3060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57" name="Freeform 1202"/>
                            <p:cNvSpPr/>
                            <p:nvPr/>
                          </p:nvSpPr>
                          <p:spPr>
                            <a:xfrm flipH="1" rot="55200">
                              <a:off x="3281400" y="3061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8" name="Group 1203"/>
                          <p:cNvGrpSpPr/>
                          <p:nvPr/>
                        </p:nvGrpSpPr>
                        <p:grpSpPr>
                          <a:xfrm>
                            <a:off x="3211200" y="3073680"/>
                            <a:ext cx="101520" cy="145440"/>
                            <a:chOff x="3211200" y="3073680"/>
                            <a:chExt cx="101520" cy="145440"/>
                          </a:xfrm>
                        </p:grpSpPr>
                        <p:sp>
                          <p:nvSpPr>
                            <p:cNvPr id="1559" name="Freeform 1204"/>
                            <p:cNvSpPr/>
                            <p:nvPr/>
                          </p:nvSpPr>
                          <p:spPr>
                            <a:xfrm flipH="1" rot="21204600">
                              <a:off x="3218040" y="3078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0" name="Freeform 1205"/>
                            <p:cNvSpPr/>
                            <p:nvPr/>
                          </p:nvSpPr>
                          <p:spPr>
                            <a:xfrm flipH="1" rot="21204600">
                              <a:off x="3222000" y="3080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61" name="Group 1206"/>
                          <p:cNvGrpSpPr/>
                          <p:nvPr/>
                        </p:nvGrpSpPr>
                        <p:grpSpPr>
                          <a:xfrm>
                            <a:off x="3106080" y="3082320"/>
                            <a:ext cx="133200" cy="159840"/>
                            <a:chOff x="3106080" y="3082320"/>
                            <a:chExt cx="133200" cy="159840"/>
                          </a:xfrm>
                        </p:grpSpPr>
                        <p:sp>
                          <p:nvSpPr>
                            <p:cNvPr id="1562" name="Freeform 1207"/>
                            <p:cNvSpPr/>
                            <p:nvPr/>
                          </p:nvSpPr>
                          <p:spPr>
                            <a:xfrm flipH="1" rot="20098200">
                              <a:off x="3128760" y="3094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3" name="Freeform 1208"/>
                            <p:cNvSpPr/>
                            <p:nvPr/>
                          </p:nvSpPr>
                          <p:spPr>
                            <a:xfrm flipH="1" rot="20098200">
                              <a:off x="3135960" y="3101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564" name="Group 1209"/>
                    <p:cNvGrpSpPr/>
                    <p:nvPr/>
                  </p:nvGrpSpPr>
                  <p:grpSpPr>
                    <a:xfrm>
                      <a:off x="2809080" y="3175200"/>
                      <a:ext cx="941760" cy="238320"/>
                      <a:chOff x="2809080" y="3175200"/>
                      <a:chExt cx="941760" cy="238320"/>
                    </a:xfrm>
                  </p:grpSpPr>
                  <p:grpSp>
                    <p:nvGrpSpPr>
                      <p:cNvPr id="1565" name="Group 1210"/>
                      <p:cNvGrpSpPr/>
                      <p:nvPr/>
                    </p:nvGrpSpPr>
                    <p:grpSpPr>
                      <a:xfrm>
                        <a:off x="2809080" y="3175200"/>
                        <a:ext cx="528120" cy="238320"/>
                        <a:chOff x="2809080" y="3175200"/>
                        <a:chExt cx="528120" cy="238320"/>
                      </a:xfrm>
                    </p:grpSpPr>
                    <p:grpSp>
                      <p:nvGrpSpPr>
                        <p:cNvPr id="1566" name="Group 1211"/>
                        <p:cNvGrpSpPr/>
                        <p:nvPr/>
                      </p:nvGrpSpPr>
                      <p:grpSpPr>
                        <a:xfrm>
                          <a:off x="2809080" y="3203280"/>
                          <a:ext cx="265680" cy="210240"/>
                          <a:chOff x="2809080" y="3203280"/>
                          <a:chExt cx="265680" cy="210240"/>
                        </a:xfrm>
                      </p:grpSpPr>
                      <p:grpSp>
                        <p:nvGrpSpPr>
                          <p:cNvPr id="1567" name="Group 1212"/>
                          <p:cNvGrpSpPr/>
                          <p:nvPr/>
                        </p:nvGrpSpPr>
                        <p:grpSpPr>
                          <a:xfrm>
                            <a:off x="2970000" y="3203280"/>
                            <a:ext cx="104760" cy="147600"/>
                            <a:chOff x="2970000" y="3203280"/>
                            <a:chExt cx="104760" cy="147600"/>
                          </a:xfrm>
                        </p:grpSpPr>
                        <p:sp>
                          <p:nvSpPr>
                            <p:cNvPr id="1568" name="Freeform 1213"/>
                            <p:cNvSpPr/>
                            <p:nvPr/>
                          </p:nvSpPr>
                          <p:spPr>
                            <a:xfrm flipH="1" rot="21099600">
                              <a:off x="2978640" y="3208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9" name="Freeform 1214"/>
                            <p:cNvSpPr/>
                            <p:nvPr/>
                          </p:nvSpPr>
                          <p:spPr>
                            <a:xfrm flipH="1" rot="21099600">
                              <a:off x="2982960" y="3211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70" name="Group 1215"/>
                          <p:cNvGrpSpPr/>
                          <p:nvPr/>
                        </p:nvGrpSpPr>
                        <p:grpSpPr>
                          <a:xfrm>
                            <a:off x="2906280" y="3226320"/>
                            <a:ext cx="119160" cy="154080"/>
                            <a:chOff x="2906280" y="3226320"/>
                            <a:chExt cx="119160" cy="154080"/>
                          </a:xfrm>
                        </p:grpSpPr>
                        <p:sp>
                          <p:nvSpPr>
                            <p:cNvPr id="1571" name="Freeform 1216"/>
                            <p:cNvSpPr/>
                            <p:nvPr/>
                          </p:nvSpPr>
                          <p:spPr>
                            <a:xfrm flipH="1" rot="20649000">
                              <a:off x="2921400" y="3235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2" name="Freeform 1217"/>
                            <p:cNvSpPr/>
                            <p:nvPr/>
                          </p:nvSpPr>
                          <p:spPr>
                            <a:xfrm flipH="1" rot="20649000">
                              <a:off x="2927520" y="3240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73" name="Group 1218"/>
                          <p:cNvGrpSpPr/>
                          <p:nvPr/>
                        </p:nvGrpSpPr>
                        <p:grpSpPr>
                          <a:xfrm>
                            <a:off x="2809080" y="3253320"/>
                            <a:ext cx="144000" cy="160200"/>
                            <a:chOff x="2809080" y="3253320"/>
                            <a:chExt cx="144000" cy="160200"/>
                          </a:xfrm>
                        </p:grpSpPr>
                        <p:sp>
                          <p:nvSpPr>
                            <p:cNvPr id="1574" name="Freeform 1219"/>
                            <p:cNvSpPr/>
                            <p:nvPr/>
                          </p:nvSpPr>
                          <p:spPr>
                            <a:xfrm flipH="1" rot="19542600">
                              <a:off x="2837160" y="3266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5" name="Freeform 1220"/>
                            <p:cNvSpPr/>
                            <p:nvPr/>
                          </p:nvSpPr>
                          <p:spPr>
                            <a:xfrm flipH="1" rot="19542600">
                              <a:off x="2845080" y="3274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76" name="Group 1221"/>
                        <p:cNvGrpSpPr/>
                        <p:nvPr/>
                      </p:nvGrpSpPr>
                      <p:grpSpPr>
                        <a:xfrm>
                          <a:off x="3077280" y="3175200"/>
                          <a:ext cx="259920" cy="182160"/>
                          <a:chOff x="3077280" y="3175200"/>
                          <a:chExt cx="259920" cy="182160"/>
                        </a:xfrm>
                      </p:grpSpPr>
                      <p:grpSp>
                        <p:nvGrpSpPr>
                          <p:cNvPr id="1577" name="Group 1222"/>
                          <p:cNvGrpSpPr/>
                          <p:nvPr/>
                        </p:nvGrpSpPr>
                        <p:grpSpPr>
                          <a:xfrm>
                            <a:off x="3077280" y="3175200"/>
                            <a:ext cx="89640" cy="137520"/>
                            <a:chOff x="3077280" y="3175200"/>
                            <a:chExt cx="89640" cy="137520"/>
                          </a:xfrm>
                        </p:grpSpPr>
                        <p:sp>
                          <p:nvSpPr>
                            <p:cNvPr id="1578" name="Freeform 1223"/>
                            <p:cNvSpPr/>
                            <p:nvPr/>
                          </p:nvSpPr>
                          <p:spPr>
                            <a:xfrm rot="21544800">
                              <a:off x="3078000" y="31759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9" name="Freeform 1224"/>
                            <p:cNvSpPr/>
                            <p:nvPr/>
                          </p:nvSpPr>
                          <p:spPr>
                            <a:xfrm rot="21544800">
                              <a:off x="3105000" y="3177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80" name="Group 1225"/>
                          <p:cNvGrpSpPr/>
                          <p:nvPr/>
                        </p:nvGrpSpPr>
                        <p:grpSpPr>
                          <a:xfrm>
                            <a:off x="3130560" y="3188880"/>
                            <a:ext cx="101520" cy="145440"/>
                            <a:chOff x="3130560" y="3188880"/>
                            <a:chExt cx="101520" cy="145440"/>
                          </a:xfrm>
                        </p:grpSpPr>
                        <p:sp>
                          <p:nvSpPr>
                            <p:cNvPr id="1581" name="Freeform 1226"/>
                            <p:cNvSpPr/>
                            <p:nvPr/>
                          </p:nvSpPr>
                          <p:spPr>
                            <a:xfrm rot="395400">
                              <a:off x="3137400" y="3193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2" name="Freeform 1227"/>
                            <p:cNvSpPr/>
                            <p:nvPr/>
                          </p:nvSpPr>
                          <p:spPr>
                            <a:xfrm rot="395400">
                              <a:off x="3163680" y="3196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83" name="Group 1228"/>
                          <p:cNvGrpSpPr/>
                          <p:nvPr/>
                        </p:nvGrpSpPr>
                        <p:grpSpPr>
                          <a:xfrm>
                            <a:off x="3204000" y="3197520"/>
                            <a:ext cx="133200" cy="159840"/>
                            <a:chOff x="3204000" y="3197520"/>
                            <a:chExt cx="133200" cy="159840"/>
                          </a:xfrm>
                        </p:grpSpPr>
                        <p:sp>
                          <p:nvSpPr>
                            <p:cNvPr id="1584" name="Freeform 1229"/>
                            <p:cNvSpPr/>
                            <p:nvPr/>
                          </p:nvSpPr>
                          <p:spPr>
                            <a:xfrm rot="1501800">
                              <a:off x="3226680" y="3209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5" name="Freeform 1230"/>
                            <p:cNvSpPr/>
                            <p:nvPr/>
                          </p:nvSpPr>
                          <p:spPr>
                            <a:xfrm rot="1501800">
                              <a:off x="3250440" y="3216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586" name="Group 1231"/>
                      <p:cNvGrpSpPr/>
                      <p:nvPr/>
                    </p:nvGrpSpPr>
                    <p:grpSpPr>
                      <a:xfrm>
                        <a:off x="3222720" y="3175200"/>
                        <a:ext cx="528120" cy="238320"/>
                        <a:chOff x="3222720" y="3175200"/>
                        <a:chExt cx="528120" cy="238320"/>
                      </a:xfrm>
                    </p:grpSpPr>
                    <p:grpSp>
                      <p:nvGrpSpPr>
                        <p:cNvPr id="1587" name="Group 1232"/>
                        <p:cNvGrpSpPr/>
                        <p:nvPr/>
                      </p:nvGrpSpPr>
                      <p:grpSpPr>
                        <a:xfrm>
                          <a:off x="3485520" y="3203280"/>
                          <a:ext cx="265320" cy="210240"/>
                          <a:chOff x="3485520" y="3203280"/>
                          <a:chExt cx="265320" cy="210240"/>
                        </a:xfrm>
                      </p:grpSpPr>
                      <p:grpSp>
                        <p:nvGrpSpPr>
                          <p:cNvPr id="1588" name="Group 1233"/>
                          <p:cNvGrpSpPr/>
                          <p:nvPr/>
                        </p:nvGrpSpPr>
                        <p:grpSpPr>
                          <a:xfrm>
                            <a:off x="3485520" y="3203280"/>
                            <a:ext cx="104400" cy="147600"/>
                            <a:chOff x="3485520" y="3203280"/>
                            <a:chExt cx="104400" cy="147600"/>
                          </a:xfrm>
                        </p:grpSpPr>
                        <p:sp>
                          <p:nvSpPr>
                            <p:cNvPr id="1589" name="Freeform 1234"/>
                            <p:cNvSpPr/>
                            <p:nvPr/>
                          </p:nvSpPr>
                          <p:spPr>
                            <a:xfrm rot="500400">
                              <a:off x="3494160" y="3208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0" name="Freeform 1235"/>
                            <p:cNvSpPr/>
                            <p:nvPr/>
                          </p:nvSpPr>
                          <p:spPr>
                            <a:xfrm rot="500400">
                              <a:off x="3520080" y="3211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91" name="Group 1236"/>
                          <p:cNvGrpSpPr/>
                          <p:nvPr/>
                        </p:nvGrpSpPr>
                        <p:grpSpPr>
                          <a:xfrm>
                            <a:off x="3534840" y="3226320"/>
                            <a:ext cx="118800" cy="154080"/>
                            <a:chOff x="3534840" y="3226320"/>
                            <a:chExt cx="118800" cy="154080"/>
                          </a:xfrm>
                        </p:grpSpPr>
                        <p:sp>
                          <p:nvSpPr>
                            <p:cNvPr id="1592" name="Freeform 1237"/>
                            <p:cNvSpPr/>
                            <p:nvPr/>
                          </p:nvSpPr>
                          <p:spPr>
                            <a:xfrm rot="951000">
                              <a:off x="3550320" y="3235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3" name="Freeform 1238"/>
                            <p:cNvSpPr/>
                            <p:nvPr/>
                          </p:nvSpPr>
                          <p:spPr>
                            <a:xfrm rot="951000">
                              <a:off x="3574800" y="3240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94" name="Group 1239"/>
                          <p:cNvGrpSpPr/>
                          <p:nvPr/>
                        </p:nvGrpSpPr>
                        <p:grpSpPr>
                          <a:xfrm>
                            <a:off x="3606840" y="3253320"/>
                            <a:ext cx="144000" cy="160200"/>
                            <a:chOff x="3606840" y="3253320"/>
                            <a:chExt cx="144000" cy="160200"/>
                          </a:xfrm>
                        </p:grpSpPr>
                        <p:sp>
                          <p:nvSpPr>
                            <p:cNvPr id="1595" name="Freeform 1240"/>
                            <p:cNvSpPr/>
                            <p:nvPr/>
                          </p:nvSpPr>
                          <p:spPr>
                            <a:xfrm rot="2057400">
                              <a:off x="3634920" y="3266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6" name="Freeform 1241"/>
                            <p:cNvSpPr/>
                            <p:nvPr/>
                          </p:nvSpPr>
                          <p:spPr>
                            <a:xfrm rot="2057400">
                              <a:off x="3657600" y="3274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97" name="Group 1242"/>
                        <p:cNvGrpSpPr/>
                        <p:nvPr/>
                      </p:nvGrpSpPr>
                      <p:grpSpPr>
                        <a:xfrm>
                          <a:off x="3222720" y="3175200"/>
                          <a:ext cx="259920" cy="182160"/>
                          <a:chOff x="3222720" y="3175200"/>
                          <a:chExt cx="259920" cy="182160"/>
                        </a:xfrm>
                      </p:grpSpPr>
                      <p:grpSp>
                        <p:nvGrpSpPr>
                          <p:cNvPr id="1598" name="Group 1243"/>
                          <p:cNvGrpSpPr/>
                          <p:nvPr/>
                        </p:nvGrpSpPr>
                        <p:grpSpPr>
                          <a:xfrm>
                            <a:off x="3393000" y="3175200"/>
                            <a:ext cx="89640" cy="137520"/>
                            <a:chOff x="3393000" y="3175200"/>
                            <a:chExt cx="89640" cy="137520"/>
                          </a:xfrm>
                        </p:grpSpPr>
                        <p:sp>
                          <p:nvSpPr>
                            <p:cNvPr id="1599" name="Freeform 1244"/>
                            <p:cNvSpPr/>
                            <p:nvPr/>
                          </p:nvSpPr>
                          <p:spPr>
                            <a:xfrm flipH="1" rot="55200">
                              <a:off x="3393360" y="3175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0" name="Freeform 1245"/>
                            <p:cNvSpPr/>
                            <p:nvPr/>
                          </p:nvSpPr>
                          <p:spPr>
                            <a:xfrm flipH="1" rot="55200">
                              <a:off x="3398040" y="3177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01" name="Group 1246"/>
                          <p:cNvGrpSpPr/>
                          <p:nvPr/>
                        </p:nvGrpSpPr>
                        <p:grpSpPr>
                          <a:xfrm>
                            <a:off x="3327840" y="3188880"/>
                            <a:ext cx="101520" cy="145440"/>
                            <a:chOff x="3327840" y="3188880"/>
                            <a:chExt cx="101520" cy="145440"/>
                          </a:xfrm>
                        </p:grpSpPr>
                        <p:sp>
                          <p:nvSpPr>
                            <p:cNvPr id="1602" name="Freeform 1247"/>
                            <p:cNvSpPr/>
                            <p:nvPr/>
                          </p:nvSpPr>
                          <p:spPr>
                            <a:xfrm flipH="1" rot="21204600">
                              <a:off x="3334680" y="3193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3" name="Freeform 1248"/>
                            <p:cNvSpPr/>
                            <p:nvPr/>
                          </p:nvSpPr>
                          <p:spPr>
                            <a:xfrm flipH="1" rot="21204600">
                              <a:off x="3338640" y="3196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04" name="Group 1249"/>
                          <p:cNvGrpSpPr/>
                          <p:nvPr/>
                        </p:nvGrpSpPr>
                        <p:grpSpPr>
                          <a:xfrm>
                            <a:off x="3222720" y="3197520"/>
                            <a:ext cx="133200" cy="159840"/>
                            <a:chOff x="3222720" y="3197520"/>
                            <a:chExt cx="133200" cy="159840"/>
                          </a:xfrm>
                        </p:grpSpPr>
                        <p:sp>
                          <p:nvSpPr>
                            <p:cNvPr id="1605" name="Freeform 1250"/>
                            <p:cNvSpPr/>
                            <p:nvPr/>
                          </p:nvSpPr>
                          <p:spPr>
                            <a:xfrm flipH="1" rot="20098200">
                              <a:off x="3245400" y="3209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6" name="Freeform 1251"/>
                            <p:cNvSpPr/>
                            <p:nvPr/>
                          </p:nvSpPr>
                          <p:spPr>
                            <a:xfrm flipH="1" rot="20098200">
                              <a:off x="3252600" y="3216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607" name="Group 1252"/>
                    <p:cNvGrpSpPr/>
                    <p:nvPr/>
                  </p:nvGrpSpPr>
                  <p:grpSpPr>
                    <a:xfrm>
                      <a:off x="2926440" y="3328200"/>
                      <a:ext cx="941760" cy="238320"/>
                      <a:chOff x="2926440" y="3328200"/>
                      <a:chExt cx="941760" cy="238320"/>
                    </a:xfrm>
                  </p:grpSpPr>
                  <p:grpSp>
                    <p:nvGrpSpPr>
                      <p:cNvPr id="1608" name="Group 1253"/>
                      <p:cNvGrpSpPr/>
                      <p:nvPr/>
                    </p:nvGrpSpPr>
                    <p:grpSpPr>
                      <a:xfrm>
                        <a:off x="2926440" y="3328200"/>
                        <a:ext cx="528120" cy="238320"/>
                        <a:chOff x="2926440" y="3328200"/>
                        <a:chExt cx="528120" cy="238320"/>
                      </a:xfrm>
                    </p:grpSpPr>
                    <p:grpSp>
                      <p:nvGrpSpPr>
                        <p:cNvPr id="1609" name="Group 1254"/>
                        <p:cNvGrpSpPr/>
                        <p:nvPr/>
                      </p:nvGrpSpPr>
                      <p:grpSpPr>
                        <a:xfrm>
                          <a:off x="2926440" y="3356280"/>
                          <a:ext cx="265680" cy="210240"/>
                          <a:chOff x="2926440" y="3356280"/>
                          <a:chExt cx="265680" cy="210240"/>
                        </a:xfrm>
                      </p:grpSpPr>
                      <p:grpSp>
                        <p:nvGrpSpPr>
                          <p:cNvPr id="1610" name="Group 1255"/>
                          <p:cNvGrpSpPr/>
                          <p:nvPr/>
                        </p:nvGrpSpPr>
                        <p:grpSpPr>
                          <a:xfrm>
                            <a:off x="3087360" y="3356280"/>
                            <a:ext cx="104760" cy="147600"/>
                            <a:chOff x="3087360" y="3356280"/>
                            <a:chExt cx="104760" cy="147600"/>
                          </a:xfrm>
                        </p:grpSpPr>
                        <p:sp>
                          <p:nvSpPr>
                            <p:cNvPr id="1611" name="Freeform 1256"/>
                            <p:cNvSpPr/>
                            <p:nvPr/>
                          </p:nvSpPr>
                          <p:spPr>
                            <a:xfrm flipH="1" rot="21099600">
                              <a:off x="3096000" y="3361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2" name="Freeform 1257"/>
                            <p:cNvSpPr/>
                            <p:nvPr/>
                          </p:nvSpPr>
                          <p:spPr>
                            <a:xfrm flipH="1" rot="21099600">
                              <a:off x="3100320" y="3364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13" name="Group 1258"/>
                          <p:cNvGrpSpPr/>
                          <p:nvPr/>
                        </p:nvGrpSpPr>
                        <p:grpSpPr>
                          <a:xfrm>
                            <a:off x="3023640" y="3379320"/>
                            <a:ext cx="119160" cy="154080"/>
                            <a:chOff x="3023640" y="3379320"/>
                            <a:chExt cx="119160" cy="154080"/>
                          </a:xfrm>
                        </p:grpSpPr>
                        <p:sp>
                          <p:nvSpPr>
                            <p:cNvPr id="1614" name="Freeform 1259"/>
                            <p:cNvSpPr/>
                            <p:nvPr/>
                          </p:nvSpPr>
                          <p:spPr>
                            <a:xfrm flipH="1" rot="20649000">
                              <a:off x="3038760" y="3388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5" name="Freeform 1260"/>
                            <p:cNvSpPr/>
                            <p:nvPr/>
                          </p:nvSpPr>
                          <p:spPr>
                            <a:xfrm flipH="1" rot="20649000">
                              <a:off x="3044880" y="3393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16" name="Group 1261"/>
                          <p:cNvGrpSpPr/>
                          <p:nvPr/>
                        </p:nvGrpSpPr>
                        <p:grpSpPr>
                          <a:xfrm>
                            <a:off x="2926440" y="3406320"/>
                            <a:ext cx="144000" cy="160200"/>
                            <a:chOff x="2926440" y="3406320"/>
                            <a:chExt cx="144000" cy="160200"/>
                          </a:xfrm>
                        </p:grpSpPr>
                        <p:sp>
                          <p:nvSpPr>
                            <p:cNvPr id="1617" name="Freeform 1262"/>
                            <p:cNvSpPr/>
                            <p:nvPr/>
                          </p:nvSpPr>
                          <p:spPr>
                            <a:xfrm flipH="1" rot="19542600">
                              <a:off x="2954520" y="3419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8" name="Freeform 1263"/>
                            <p:cNvSpPr/>
                            <p:nvPr/>
                          </p:nvSpPr>
                          <p:spPr>
                            <a:xfrm flipH="1" rot="19542600">
                              <a:off x="2962440" y="3427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19" name="Group 1264"/>
                        <p:cNvGrpSpPr/>
                        <p:nvPr/>
                      </p:nvGrpSpPr>
                      <p:grpSpPr>
                        <a:xfrm>
                          <a:off x="3194640" y="3328200"/>
                          <a:ext cx="259920" cy="182160"/>
                          <a:chOff x="3194640" y="3328200"/>
                          <a:chExt cx="259920" cy="182160"/>
                        </a:xfrm>
                      </p:grpSpPr>
                      <p:grpSp>
                        <p:nvGrpSpPr>
                          <p:cNvPr id="1620" name="Group 1265"/>
                          <p:cNvGrpSpPr/>
                          <p:nvPr/>
                        </p:nvGrpSpPr>
                        <p:grpSpPr>
                          <a:xfrm>
                            <a:off x="3194640" y="3328200"/>
                            <a:ext cx="89640" cy="137520"/>
                            <a:chOff x="3194640" y="3328200"/>
                            <a:chExt cx="89640" cy="137520"/>
                          </a:xfrm>
                        </p:grpSpPr>
                        <p:sp>
                          <p:nvSpPr>
                            <p:cNvPr id="1621" name="Freeform 1266"/>
                            <p:cNvSpPr/>
                            <p:nvPr/>
                          </p:nvSpPr>
                          <p:spPr>
                            <a:xfrm rot="21544800">
                              <a:off x="3195360" y="33289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22" name="Freeform 1267"/>
                            <p:cNvSpPr/>
                            <p:nvPr/>
                          </p:nvSpPr>
                          <p:spPr>
                            <a:xfrm rot="21544800">
                              <a:off x="3222360" y="3330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3" name="Group 1268"/>
                          <p:cNvGrpSpPr/>
                          <p:nvPr/>
                        </p:nvGrpSpPr>
                        <p:grpSpPr>
                          <a:xfrm>
                            <a:off x="3247920" y="3341880"/>
                            <a:ext cx="101520" cy="145440"/>
                            <a:chOff x="3247920" y="3341880"/>
                            <a:chExt cx="101520" cy="145440"/>
                          </a:xfrm>
                        </p:grpSpPr>
                        <p:sp>
                          <p:nvSpPr>
                            <p:cNvPr id="1624" name="Freeform 1269"/>
                            <p:cNvSpPr/>
                            <p:nvPr/>
                          </p:nvSpPr>
                          <p:spPr>
                            <a:xfrm rot="395400">
                              <a:off x="3254760" y="3346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25" name="Freeform 1270"/>
                            <p:cNvSpPr/>
                            <p:nvPr/>
                          </p:nvSpPr>
                          <p:spPr>
                            <a:xfrm rot="395400">
                              <a:off x="3281040" y="3349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6" name="Group 1271"/>
                          <p:cNvGrpSpPr/>
                          <p:nvPr/>
                        </p:nvGrpSpPr>
                        <p:grpSpPr>
                          <a:xfrm>
                            <a:off x="3321360" y="3350520"/>
                            <a:ext cx="133200" cy="159840"/>
                            <a:chOff x="3321360" y="3350520"/>
                            <a:chExt cx="133200" cy="159840"/>
                          </a:xfrm>
                        </p:grpSpPr>
                        <p:sp>
                          <p:nvSpPr>
                            <p:cNvPr id="1627" name="Freeform 1272"/>
                            <p:cNvSpPr/>
                            <p:nvPr/>
                          </p:nvSpPr>
                          <p:spPr>
                            <a:xfrm rot="1501800">
                              <a:off x="3344040" y="3362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28" name="Freeform 1273"/>
                            <p:cNvSpPr/>
                            <p:nvPr/>
                          </p:nvSpPr>
                          <p:spPr>
                            <a:xfrm rot="1501800">
                              <a:off x="3367800" y="3369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629" name="Group 1274"/>
                      <p:cNvGrpSpPr/>
                      <p:nvPr/>
                    </p:nvGrpSpPr>
                    <p:grpSpPr>
                      <a:xfrm>
                        <a:off x="3340080" y="3328200"/>
                        <a:ext cx="528120" cy="238320"/>
                        <a:chOff x="3340080" y="3328200"/>
                        <a:chExt cx="528120" cy="238320"/>
                      </a:xfrm>
                    </p:grpSpPr>
                    <p:grpSp>
                      <p:nvGrpSpPr>
                        <p:cNvPr id="1630" name="Group 1275"/>
                        <p:cNvGrpSpPr/>
                        <p:nvPr/>
                      </p:nvGrpSpPr>
                      <p:grpSpPr>
                        <a:xfrm>
                          <a:off x="3602880" y="3356280"/>
                          <a:ext cx="265320" cy="210240"/>
                          <a:chOff x="3602880" y="3356280"/>
                          <a:chExt cx="265320" cy="210240"/>
                        </a:xfrm>
                      </p:grpSpPr>
                      <p:grpSp>
                        <p:nvGrpSpPr>
                          <p:cNvPr id="1631" name="Group 1276"/>
                          <p:cNvGrpSpPr/>
                          <p:nvPr/>
                        </p:nvGrpSpPr>
                        <p:grpSpPr>
                          <a:xfrm>
                            <a:off x="3602880" y="3356280"/>
                            <a:ext cx="104400" cy="147600"/>
                            <a:chOff x="3602880" y="3356280"/>
                            <a:chExt cx="104400" cy="147600"/>
                          </a:xfrm>
                        </p:grpSpPr>
                        <p:sp>
                          <p:nvSpPr>
                            <p:cNvPr id="1632" name="Freeform 1277"/>
                            <p:cNvSpPr/>
                            <p:nvPr/>
                          </p:nvSpPr>
                          <p:spPr>
                            <a:xfrm rot="500400">
                              <a:off x="3611520" y="3361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33" name="Freeform 1278"/>
                            <p:cNvSpPr/>
                            <p:nvPr/>
                          </p:nvSpPr>
                          <p:spPr>
                            <a:xfrm rot="500400">
                              <a:off x="3637440" y="3364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34" name="Group 1279"/>
                          <p:cNvGrpSpPr/>
                          <p:nvPr/>
                        </p:nvGrpSpPr>
                        <p:grpSpPr>
                          <a:xfrm>
                            <a:off x="3652200" y="3379320"/>
                            <a:ext cx="118800" cy="154080"/>
                            <a:chOff x="3652200" y="3379320"/>
                            <a:chExt cx="118800" cy="154080"/>
                          </a:xfrm>
                        </p:grpSpPr>
                        <p:sp>
                          <p:nvSpPr>
                            <p:cNvPr id="1635" name="Freeform 1280"/>
                            <p:cNvSpPr/>
                            <p:nvPr/>
                          </p:nvSpPr>
                          <p:spPr>
                            <a:xfrm rot="951000">
                              <a:off x="3667680" y="3388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36" name="Freeform 1281"/>
                            <p:cNvSpPr/>
                            <p:nvPr/>
                          </p:nvSpPr>
                          <p:spPr>
                            <a:xfrm rot="951000">
                              <a:off x="3692160" y="3393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37" name="Group 1282"/>
                          <p:cNvGrpSpPr/>
                          <p:nvPr/>
                        </p:nvGrpSpPr>
                        <p:grpSpPr>
                          <a:xfrm>
                            <a:off x="3724200" y="3406320"/>
                            <a:ext cx="144000" cy="160200"/>
                            <a:chOff x="3724200" y="3406320"/>
                            <a:chExt cx="144000" cy="160200"/>
                          </a:xfrm>
                        </p:grpSpPr>
                        <p:sp>
                          <p:nvSpPr>
                            <p:cNvPr id="1638" name="Freeform 1283"/>
                            <p:cNvSpPr/>
                            <p:nvPr/>
                          </p:nvSpPr>
                          <p:spPr>
                            <a:xfrm rot="2057400">
                              <a:off x="3752280" y="3419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39" name="Freeform 1284"/>
                            <p:cNvSpPr/>
                            <p:nvPr/>
                          </p:nvSpPr>
                          <p:spPr>
                            <a:xfrm rot="2057400">
                              <a:off x="3774960" y="3427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40" name="Group 1285"/>
                        <p:cNvGrpSpPr/>
                        <p:nvPr/>
                      </p:nvGrpSpPr>
                      <p:grpSpPr>
                        <a:xfrm>
                          <a:off x="3340080" y="3328200"/>
                          <a:ext cx="259920" cy="182160"/>
                          <a:chOff x="3340080" y="3328200"/>
                          <a:chExt cx="259920" cy="182160"/>
                        </a:xfrm>
                      </p:grpSpPr>
                      <p:grpSp>
                        <p:nvGrpSpPr>
                          <p:cNvPr id="1641" name="Group 1286"/>
                          <p:cNvGrpSpPr/>
                          <p:nvPr/>
                        </p:nvGrpSpPr>
                        <p:grpSpPr>
                          <a:xfrm>
                            <a:off x="3510360" y="3328200"/>
                            <a:ext cx="89640" cy="137520"/>
                            <a:chOff x="3510360" y="3328200"/>
                            <a:chExt cx="89640" cy="137520"/>
                          </a:xfrm>
                        </p:grpSpPr>
                        <p:sp>
                          <p:nvSpPr>
                            <p:cNvPr id="1642" name="Freeform 1287"/>
                            <p:cNvSpPr/>
                            <p:nvPr/>
                          </p:nvSpPr>
                          <p:spPr>
                            <a:xfrm flipH="1" rot="55200">
                              <a:off x="3510720" y="3328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43" name="Freeform 1288"/>
                            <p:cNvSpPr/>
                            <p:nvPr/>
                          </p:nvSpPr>
                          <p:spPr>
                            <a:xfrm flipH="1" rot="55200">
                              <a:off x="3515400" y="3330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44" name="Group 1289"/>
                          <p:cNvGrpSpPr/>
                          <p:nvPr/>
                        </p:nvGrpSpPr>
                        <p:grpSpPr>
                          <a:xfrm>
                            <a:off x="3445200" y="3341880"/>
                            <a:ext cx="101520" cy="145440"/>
                            <a:chOff x="3445200" y="3341880"/>
                            <a:chExt cx="101520" cy="145440"/>
                          </a:xfrm>
                        </p:grpSpPr>
                        <p:sp>
                          <p:nvSpPr>
                            <p:cNvPr id="1645" name="Freeform 1290"/>
                            <p:cNvSpPr/>
                            <p:nvPr/>
                          </p:nvSpPr>
                          <p:spPr>
                            <a:xfrm flipH="1" rot="21204600">
                              <a:off x="3452040" y="3346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46" name="Freeform 1291"/>
                            <p:cNvSpPr/>
                            <p:nvPr/>
                          </p:nvSpPr>
                          <p:spPr>
                            <a:xfrm flipH="1" rot="21204600">
                              <a:off x="3456000" y="3349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47" name="Group 1292"/>
                          <p:cNvGrpSpPr/>
                          <p:nvPr/>
                        </p:nvGrpSpPr>
                        <p:grpSpPr>
                          <a:xfrm>
                            <a:off x="3340080" y="3350520"/>
                            <a:ext cx="133200" cy="159840"/>
                            <a:chOff x="3340080" y="3350520"/>
                            <a:chExt cx="133200" cy="159840"/>
                          </a:xfrm>
                        </p:grpSpPr>
                        <p:sp>
                          <p:nvSpPr>
                            <p:cNvPr id="1648" name="Freeform 1293"/>
                            <p:cNvSpPr/>
                            <p:nvPr/>
                          </p:nvSpPr>
                          <p:spPr>
                            <a:xfrm flipH="1" rot="20098200">
                              <a:off x="3362760" y="3362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49" name="Freeform 1294"/>
                            <p:cNvSpPr/>
                            <p:nvPr/>
                          </p:nvSpPr>
                          <p:spPr>
                            <a:xfrm flipH="1" rot="20098200">
                              <a:off x="3369960" y="3369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650" name="Group 1295"/>
                    <p:cNvGrpSpPr/>
                    <p:nvPr/>
                  </p:nvGrpSpPr>
                  <p:grpSpPr>
                    <a:xfrm>
                      <a:off x="2926440" y="3404880"/>
                      <a:ext cx="941760" cy="238320"/>
                      <a:chOff x="2926440" y="3404880"/>
                      <a:chExt cx="941760" cy="238320"/>
                    </a:xfrm>
                  </p:grpSpPr>
                  <p:grpSp>
                    <p:nvGrpSpPr>
                      <p:cNvPr id="1651" name="Group 1296"/>
                      <p:cNvGrpSpPr/>
                      <p:nvPr/>
                    </p:nvGrpSpPr>
                    <p:grpSpPr>
                      <a:xfrm>
                        <a:off x="2926440" y="3404880"/>
                        <a:ext cx="528120" cy="238320"/>
                        <a:chOff x="2926440" y="3404880"/>
                        <a:chExt cx="528120" cy="238320"/>
                      </a:xfrm>
                    </p:grpSpPr>
                    <p:grpSp>
                      <p:nvGrpSpPr>
                        <p:cNvPr id="1652" name="Group 1297"/>
                        <p:cNvGrpSpPr/>
                        <p:nvPr/>
                      </p:nvGrpSpPr>
                      <p:grpSpPr>
                        <a:xfrm>
                          <a:off x="2926440" y="3432960"/>
                          <a:ext cx="265680" cy="210240"/>
                          <a:chOff x="2926440" y="3432960"/>
                          <a:chExt cx="265680" cy="210240"/>
                        </a:xfrm>
                      </p:grpSpPr>
                      <p:grpSp>
                        <p:nvGrpSpPr>
                          <p:cNvPr id="1653" name="Group 1298"/>
                          <p:cNvGrpSpPr/>
                          <p:nvPr/>
                        </p:nvGrpSpPr>
                        <p:grpSpPr>
                          <a:xfrm>
                            <a:off x="3087360" y="3432960"/>
                            <a:ext cx="104760" cy="147600"/>
                            <a:chOff x="3087360" y="3432960"/>
                            <a:chExt cx="104760" cy="147600"/>
                          </a:xfrm>
                        </p:grpSpPr>
                        <p:sp>
                          <p:nvSpPr>
                            <p:cNvPr id="1654" name="Freeform 1299"/>
                            <p:cNvSpPr/>
                            <p:nvPr/>
                          </p:nvSpPr>
                          <p:spPr>
                            <a:xfrm flipH="1" rot="21099600">
                              <a:off x="3096000" y="3438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55" name="Freeform 1300"/>
                            <p:cNvSpPr/>
                            <p:nvPr/>
                          </p:nvSpPr>
                          <p:spPr>
                            <a:xfrm flipH="1" rot="21099600">
                              <a:off x="3100320" y="3441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56" name="Group 1301"/>
                          <p:cNvGrpSpPr/>
                          <p:nvPr/>
                        </p:nvGrpSpPr>
                        <p:grpSpPr>
                          <a:xfrm>
                            <a:off x="3023640" y="3456000"/>
                            <a:ext cx="119160" cy="154080"/>
                            <a:chOff x="3023640" y="3456000"/>
                            <a:chExt cx="119160" cy="154080"/>
                          </a:xfrm>
                        </p:grpSpPr>
                        <p:sp>
                          <p:nvSpPr>
                            <p:cNvPr id="1657" name="Freeform 1302"/>
                            <p:cNvSpPr/>
                            <p:nvPr/>
                          </p:nvSpPr>
                          <p:spPr>
                            <a:xfrm flipH="1" rot="20649000">
                              <a:off x="3038760" y="3465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58" name="Freeform 1303"/>
                            <p:cNvSpPr/>
                            <p:nvPr/>
                          </p:nvSpPr>
                          <p:spPr>
                            <a:xfrm flipH="1" rot="20649000">
                              <a:off x="3044880" y="3470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59" name="Group 1304"/>
                          <p:cNvGrpSpPr/>
                          <p:nvPr/>
                        </p:nvGrpSpPr>
                        <p:grpSpPr>
                          <a:xfrm>
                            <a:off x="2926440" y="3483000"/>
                            <a:ext cx="144000" cy="160200"/>
                            <a:chOff x="2926440" y="3483000"/>
                            <a:chExt cx="144000" cy="160200"/>
                          </a:xfrm>
                        </p:grpSpPr>
                        <p:sp>
                          <p:nvSpPr>
                            <p:cNvPr id="1660" name="Freeform 1305"/>
                            <p:cNvSpPr/>
                            <p:nvPr/>
                          </p:nvSpPr>
                          <p:spPr>
                            <a:xfrm flipH="1" rot="19542600">
                              <a:off x="2954520" y="3496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61" name="Freeform 1306"/>
                            <p:cNvSpPr/>
                            <p:nvPr/>
                          </p:nvSpPr>
                          <p:spPr>
                            <a:xfrm flipH="1" rot="19542600">
                              <a:off x="2962440" y="3503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62" name="Group 1307"/>
                        <p:cNvGrpSpPr/>
                        <p:nvPr/>
                      </p:nvGrpSpPr>
                      <p:grpSpPr>
                        <a:xfrm>
                          <a:off x="3194640" y="3404880"/>
                          <a:ext cx="259920" cy="182160"/>
                          <a:chOff x="3194640" y="3404880"/>
                          <a:chExt cx="259920" cy="182160"/>
                        </a:xfrm>
                      </p:grpSpPr>
                      <p:grpSp>
                        <p:nvGrpSpPr>
                          <p:cNvPr id="1663" name="Group 1308"/>
                          <p:cNvGrpSpPr/>
                          <p:nvPr/>
                        </p:nvGrpSpPr>
                        <p:grpSpPr>
                          <a:xfrm>
                            <a:off x="3194640" y="3404880"/>
                            <a:ext cx="89640" cy="137520"/>
                            <a:chOff x="3194640" y="3404880"/>
                            <a:chExt cx="89640" cy="137520"/>
                          </a:xfrm>
                        </p:grpSpPr>
                        <p:sp>
                          <p:nvSpPr>
                            <p:cNvPr id="1664" name="Freeform 1309"/>
                            <p:cNvSpPr/>
                            <p:nvPr/>
                          </p:nvSpPr>
                          <p:spPr>
                            <a:xfrm rot="21544800">
                              <a:off x="3195360" y="3405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65" name="Freeform 1310"/>
                            <p:cNvSpPr/>
                            <p:nvPr/>
                          </p:nvSpPr>
                          <p:spPr>
                            <a:xfrm rot="21544800">
                              <a:off x="3222360" y="3406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66" name="Group 1311"/>
                          <p:cNvGrpSpPr/>
                          <p:nvPr/>
                        </p:nvGrpSpPr>
                        <p:grpSpPr>
                          <a:xfrm>
                            <a:off x="3247920" y="3418560"/>
                            <a:ext cx="101520" cy="145440"/>
                            <a:chOff x="3247920" y="3418560"/>
                            <a:chExt cx="101520" cy="145440"/>
                          </a:xfrm>
                        </p:grpSpPr>
                        <p:sp>
                          <p:nvSpPr>
                            <p:cNvPr id="1667" name="Freeform 1312"/>
                            <p:cNvSpPr/>
                            <p:nvPr/>
                          </p:nvSpPr>
                          <p:spPr>
                            <a:xfrm rot="395400">
                              <a:off x="3254760" y="3422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68" name="Freeform 1313"/>
                            <p:cNvSpPr/>
                            <p:nvPr/>
                          </p:nvSpPr>
                          <p:spPr>
                            <a:xfrm rot="395400">
                              <a:off x="3281040" y="3425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69" name="Group 1314"/>
                          <p:cNvGrpSpPr/>
                          <p:nvPr/>
                        </p:nvGrpSpPr>
                        <p:grpSpPr>
                          <a:xfrm>
                            <a:off x="3321360" y="3427200"/>
                            <a:ext cx="133200" cy="159840"/>
                            <a:chOff x="3321360" y="3427200"/>
                            <a:chExt cx="133200" cy="159840"/>
                          </a:xfrm>
                        </p:grpSpPr>
                        <p:sp>
                          <p:nvSpPr>
                            <p:cNvPr id="1670" name="Freeform 1315"/>
                            <p:cNvSpPr/>
                            <p:nvPr/>
                          </p:nvSpPr>
                          <p:spPr>
                            <a:xfrm rot="1501800">
                              <a:off x="3344040" y="3439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71" name="Freeform 1316"/>
                            <p:cNvSpPr/>
                            <p:nvPr/>
                          </p:nvSpPr>
                          <p:spPr>
                            <a:xfrm rot="1501800">
                              <a:off x="3367800" y="3446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672" name="Group 1317"/>
                      <p:cNvGrpSpPr/>
                      <p:nvPr/>
                    </p:nvGrpSpPr>
                    <p:grpSpPr>
                      <a:xfrm>
                        <a:off x="3340080" y="3404880"/>
                        <a:ext cx="528120" cy="238320"/>
                        <a:chOff x="3340080" y="3404880"/>
                        <a:chExt cx="528120" cy="238320"/>
                      </a:xfrm>
                    </p:grpSpPr>
                    <p:grpSp>
                      <p:nvGrpSpPr>
                        <p:cNvPr id="1673" name="Group 1318"/>
                        <p:cNvGrpSpPr/>
                        <p:nvPr/>
                      </p:nvGrpSpPr>
                      <p:grpSpPr>
                        <a:xfrm>
                          <a:off x="3602880" y="3432960"/>
                          <a:ext cx="265320" cy="210240"/>
                          <a:chOff x="3602880" y="3432960"/>
                          <a:chExt cx="265320" cy="210240"/>
                        </a:xfrm>
                      </p:grpSpPr>
                      <p:grpSp>
                        <p:nvGrpSpPr>
                          <p:cNvPr id="1674" name="Group 1319"/>
                          <p:cNvGrpSpPr/>
                          <p:nvPr/>
                        </p:nvGrpSpPr>
                        <p:grpSpPr>
                          <a:xfrm>
                            <a:off x="3602880" y="3432960"/>
                            <a:ext cx="104400" cy="147600"/>
                            <a:chOff x="3602880" y="3432960"/>
                            <a:chExt cx="104400" cy="147600"/>
                          </a:xfrm>
                        </p:grpSpPr>
                        <p:sp>
                          <p:nvSpPr>
                            <p:cNvPr id="1675" name="Freeform 1320"/>
                            <p:cNvSpPr/>
                            <p:nvPr/>
                          </p:nvSpPr>
                          <p:spPr>
                            <a:xfrm rot="500400">
                              <a:off x="3611520" y="3438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76" name="Freeform 1321"/>
                            <p:cNvSpPr/>
                            <p:nvPr/>
                          </p:nvSpPr>
                          <p:spPr>
                            <a:xfrm rot="500400">
                              <a:off x="3637440" y="3441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77" name="Group 1322"/>
                          <p:cNvGrpSpPr/>
                          <p:nvPr/>
                        </p:nvGrpSpPr>
                        <p:grpSpPr>
                          <a:xfrm>
                            <a:off x="3652200" y="3456000"/>
                            <a:ext cx="118800" cy="154080"/>
                            <a:chOff x="3652200" y="3456000"/>
                            <a:chExt cx="118800" cy="154080"/>
                          </a:xfrm>
                        </p:grpSpPr>
                        <p:sp>
                          <p:nvSpPr>
                            <p:cNvPr id="1678" name="Freeform 1323"/>
                            <p:cNvSpPr/>
                            <p:nvPr/>
                          </p:nvSpPr>
                          <p:spPr>
                            <a:xfrm rot="951000">
                              <a:off x="3667680" y="3465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79" name="Freeform 1324"/>
                            <p:cNvSpPr/>
                            <p:nvPr/>
                          </p:nvSpPr>
                          <p:spPr>
                            <a:xfrm rot="951000">
                              <a:off x="3692160" y="3470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80" name="Group 1325"/>
                          <p:cNvGrpSpPr/>
                          <p:nvPr/>
                        </p:nvGrpSpPr>
                        <p:grpSpPr>
                          <a:xfrm>
                            <a:off x="3724200" y="3483000"/>
                            <a:ext cx="144000" cy="160200"/>
                            <a:chOff x="3724200" y="3483000"/>
                            <a:chExt cx="144000" cy="160200"/>
                          </a:xfrm>
                        </p:grpSpPr>
                        <p:sp>
                          <p:nvSpPr>
                            <p:cNvPr id="1681" name="Freeform 1326"/>
                            <p:cNvSpPr/>
                            <p:nvPr/>
                          </p:nvSpPr>
                          <p:spPr>
                            <a:xfrm rot="2057400">
                              <a:off x="3752280" y="3496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2" name="Freeform 1327"/>
                            <p:cNvSpPr/>
                            <p:nvPr/>
                          </p:nvSpPr>
                          <p:spPr>
                            <a:xfrm rot="2057400">
                              <a:off x="3774960" y="35038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683" name="Group 1328"/>
                        <p:cNvGrpSpPr/>
                        <p:nvPr/>
                      </p:nvGrpSpPr>
                      <p:grpSpPr>
                        <a:xfrm>
                          <a:off x="3340080" y="3404880"/>
                          <a:ext cx="259920" cy="182160"/>
                          <a:chOff x="3340080" y="3404880"/>
                          <a:chExt cx="259920" cy="182160"/>
                        </a:xfrm>
                      </p:grpSpPr>
                      <p:grpSp>
                        <p:nvGrpSpPr>
                          <p:cNvPr id="1684" name="Group 1329"/>
                          <p:cNvGrpSpPr/>
                          <p:nvPr/>
                        </p:nvGrpSpPr>
                        <p:grpSpPr>
                          <a:xfrm>
                            <a:off x="3510360" y="3404880"/>
                            <a:ext cx="89640" cy="137520"/>
                            <a:chOff x="3510360" y="3404880"/>
                            <a:chExt cx="89640" cy="137520"/>
                          </a:xfrm>
                        </p:grpSpPr>
                        <p:sp>
                          <p:nvSpPr>
                            <p:cNvPr id="1685" name="Freeform 1330"/>
                            <p:cNvSpPr/>
                            <p:nvPr/>
                          </p:nvSpPr>
                          <p:spPr>
                            <a:xfrm flipH="1" rot="55200">
                              <a:off x="3510720" y="3405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6" name="Freeform 1331"/>
                            <p:cNvSpPr/>
                            <p:nvPr/>
                          </p:nvSpPr>
                          <p:spPr>
                            <a:xfrm flipH="1" rot="55200">
                              <a:off x="3515400" y="3406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87" name="Group 1332"/>
                          <p:cNvGrpSpPr/>
                          <p:nvPr/>
                        </p:nvGrpSpPr>
                        <p:grpSpPr>
                          <a:xfrm>
                            <a:off x="3445200" y="3418560"/>
                            <a:ext cx="101520" cy="145440"/>
                            <a:chOff x="3445200" y="3418560"/>
                            <a:chExt cx="101520" cy="145440"/>
                          </a:xfrm>
                        </p:grpSpPr>
                        <p:sp>
                          <p:nvSpPr>
                            <p:cNvPr id="1688" name="Freeform 1333"/>
                            <p:cNvSpPr/>
                            <p:nvPr/>
                          </p:nvSpPr>
                          <p:spPr>
                            <a:xfrm flipH="1" rot="21204600">
                              <a:off x="3452040" y="3422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89" name="Freeform 1334"/>
                            <p:cNvSpPr/>
                            <p:nvPr/>
                          </p:nvSpPr>
                          <p:spPr>
                            <a:xfrm flipH="1" rot="21204600">
                              <a:off x="3456000" y="3425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90" name="Group 1335"/>
                          <p:cNvGrpSpPr/>
                          <p:nvPr/>
                        </p:nvGrpSpPr>
                        <p:grpSpPr>
                          <a:xfrm>
                            <a:off x="3340080" y="3427200"/>
                            <a:ext cx="133200" cy="159840"/>
                            <a:chOff x="3340080" y="3427200"/>
                            <a:chExt cx="133200" cy="159840"/>
                          </a:xfrm>
                        </p:grpSpPr>
                        <p:sp>
                          <p:nvSpPr>
                            <p:cNvPr id="1691" name="Freeform 1336"/>
                            <p:cNvSpPr/>
                            <p:nvPr/>
                          </p:nvSpPr>
                          <p:spPr>
                            <a:xfrm flipH="1" rot="20098200">
                              <a:off x="3362760" y="3439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92" name="Freeform 1337"/>
                            <p:cNvSpPr/>
                            <p:nvPr/>
                          </p:nvSpPr>
                          <p:spPr>
                            <a:xfrm flipH="1" rot="20098200">
                              <a:off x="3369960" y="3446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693" name="Group 1338"/>
                    <p:cNvGrpSpPr/>
                    <p:nvPr/>
                  </p:nvGrpSpPr>
                  <p:grpSpPr>
                    <a:xfrm>
                      <a:off x="2809080" y="3520080"/>
                      <a:ext cx="941760" cy="238320"/>
                      <a:chOff x="2809080" y="3520080"/>
                      <a:chExt cx="941760" cy="238320"/>
                    </a:xfrm>
                  </p:grpSpPr>
                  <p:grpSp>
                    <p:nvGrpSpPr>
                      <p:cNvPr id="1694" name="Group 1339"/>
                      <p:cNvGrpSpPr/>
                      <p:nvPr/>
                    </p:nvGrpSpPr>
                    <p:grpSpPr>
                      <a:xfrm>
                        <a:off x="2809080" y="3520080"/>
                        <a:ext cx="528120" cy="238320"/>
                        <a:chOff x="2809080" y="3520080"/>
                        <a:chExt cx="528120" cy="238320"/>
                      </a:xfrm>
                    </p:grpSpPr>
                    <p:grpSp>
                      <p:nvGrpSpPr>
                        <p:cNvPr id="1695" name="Group 1340"/>
                        <p:cNvGrpSpPr/>
                        <p:nvPr/>
                      </p:nvGrpSpPr>
                      <p:grpSpPr>
                        <a:xfrm>
                          <a:off x="2809080" y="3548160"/>
                          <a:ext cx="265680" cy="210240"/>
                          <a:chOff x="2809080" y="3548160"/>
                          <a:chExt cx="265680" cy="210240"/>
                        </a:xfrm>
                      </p:grpSpPr>
                      <p:grpSp>
                        <p:nvGrpSpPr>
                          <p:cNvPr id="1696" name="Group 1341"/>
                          <p:cNvGrpSpPr/>
                          <p:nvPr/>
                        </p:nvGrpSpPr>
                        <p:grpSpPr>
                          <a:xfrm>
                            <a:off x="2970000" y="3548160"/>
                            <a:ext cx="104760" cy="147600"/>
                            <a:chOff x="2970000" y="3548160"/>
                            <a:chExt cx="104760" cy="147600"/>
                          </a:xfrm>
                        </p:grpSpPr>
                        <p:sp>
                          <p:nvSpPr>
                            <p:cNvPr id="1697" name="Freeform 1342"/>
                            <p:cNvSpPr/>
                            <p:nvPr/>
                          </p:nvSpPr>
                          <p:spPr>
                            <a:xfrm flipH="1" rot="21099600">
                              <a:off x="2978640" y="35535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98" name="Freeform 1343"/>
                            <p:cNvSpPr/>
                            <p:nvPr/>
                          </p:nvSpPr>
                          <p:spPr>
                            <a:xfrm flipH="1" rot="21099600">
                              <a:off x="2982960" y="35568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99" name="Group 1344"/>
                          <p:cNvGrpSpPr/>
                          <p:nvPr/>
                        </p:nvGrpSpPr>
                        <p:grpSpPr>
                          <a:xfrm>
                            <a:off x="2906280" y="3571200"/>
                            <a:ext cx="119160" cy="154080"/>
                            <a:chOff x="2906280" y="3571200"/>
                            <a:chExt cx="119160" cy="154080"/>
                          </a:xfrm>
                        </p:grpSpPr>
                        <p:sp>
                          <p:nvSpPr>
                            <p:cNvPr id="1700" name="Freeform 1345"/>
                            <p:cNvSpPr/>
                            <p:nvPr/>
                          </p:nvSpPr>
                          <p:spPr>
                            <a:xfrm flipH="1" rot="20649000">
                              <a:off x="2921400" y="35805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01" name="Freeform 1346"/>
                            <p:cNvSpPr/>
                            <p:nvPr/>
                          </p:nvSpPr>
                          <p:spPr>
                            <a:xfrm flipH="1" rot="20649000">
                              <a:off x="2927520" y="35852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02" name="Group 1347"/>
                          <p:cNvGrpSpPr/>
                          <p:nvPr/>
                        </p:nvGrpSpPr>
                        <p:grpSpPr>
                          <a:xfrm>
                            <a:off x="2809080" y="3598200"/>
                            <a:ext cx="144000" cy="160200"/>
                            <a:chOff x="2809080" y="3598200"/>
                            <a:chExt cx="144000" cy="160200"/>
                          </a:xfrm>
                        </p:grpSpPr>
                        <p:sp>
                          <p:nvSpPr>
                            <p:cNvPr id="1703" name="Freeform 1348"/>
                            <p:cNvSpPr/>
                            <p:nvPr/>
                          </p:nvSpPr>
                          <p:spPr>
                            <a:xfrm flipH="1" rot="19542600">
                              <a:off x="2837160" y="3611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04" name="Freeform 1349"/>
                            <p:cNvSpPr/>
                            <p:nvPr/>
                          </p:nvSpPr>
                          <p:spPr>
                            <a:xfrm flipH="1" rot="19542600">
                              <a:off x="2845080" y="3619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05" name="Group 1350"/>
                        <p:cNvGrpSpPr/>
                        <p:nvPr/>
                      </p:nvGrpSpPr>
                      <p:grpSpPr>
                        <a:xfrm>
                          <a:off x="3077280" y="3520080"/>
                          <a:ext cx="259920" cy="182160"/>
                          <a:chOff x="3077280" y="3520080"/>
                          <a:chExt cx="259920" cy="182160"/>
                        </a:xfrm>
                      </p:grpSpPr>
                      <p:grpSp>
                        <p:nvGrpSpPr>
                          <p:cNvPr id="1706" name="Group 1351"/>
                          <p:cNvGrpSpPr/>
                          <p:nvPr/>
                        </p:nvGrpSpPr>
                        <p:grpSpPr>
                          <a:xfrm>
                            <a:off x="3077280" y="3520080"/>
                            <a:ext cx="89640" cy="137520"/>
                            <a:chOff x="3077280" y="3520080"/>
                            <a:chExt cx="89640" cy="137520"/>
                          </a:xfrm>
                        </p:grpSpPr>
                        <p:sp>
                          <p:nvSpPr>
                            <p:cNvPr id="1707" name="Freeform 1352"/>
                            <p:cNvSpPr/>
                            <p:nvPr/>
                          </p:nvSpPr>
                          <p:spPr>
                            <a:xfrm rot="21544800">
                              <a:off x="3078000" y="3520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08" name="Freeform 1353"/>
                            <p:cNvSpPr/>
                            <p:nvPr/>
                          </p:nvSpPr>
                          <p:spPr>
                            <a:xfrm rot="21544800">
                              <a:off x="3105000" y="3521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09" name="Group 1354"/>
                          <p:cNvGrpSpPr/>
                          <p:nvPr/>
                        </p:nvGrpSpPr>
                        <p:grpSpPr>
                          <a:xfrm>
                            <a:off x="3130560" y="3533760"/>
                            <a:ext cx="101520" cy="145440"/>
                            <a:chOff x="3130560" y="3533760"/>
                            <a:chExt cx="101520" cy="145440"/>
                          </a:xfrm>
                        </p:grpSpPr>
                        <p:sp>
                          <p:nvSpPr>
                            <p:cNvPr id="1710" name="Freeform 1355"/>
                            <p:cNvSpPr/>
                            <p:nvPr/>
                          </p:nvSpPr>
                          <p:spPr>
                            <a:xfrm rot="395400">
                              <a:off x="3137400" y="35380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11" name="Freeform 1356"/>
                            <p:cNvSpPr/>
                            <p:nvPr/>
                          </p:nvSpPr>
                          <p:spPr>
                            <a:xfrm rot="395400">
                              <a:off x="3163680" y="3540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12" name="Group 1357"/>
                          <p:cNvGrpSpPr/>
                          <p:nvPr/>
                        </p:nvGrpSpPr>
                        <p:grpSpPr>
                          <a:xfrm>
                            <a:off x="3204000" y="3542400"/>
                            <a:ext cx="133200" cy="159840"/>
                            <a:chOff x="3204000" y="3542400"/>
                            <a:chExt cx="133200" cy="159840"/>
                          </a:xfrm>
                        </p:grpSpPr>
                        <p:sp>
                          <p:nvSpPr>
                            <p:cNvPr id="1713" name="Freeform 1358"/>
                            <p:cNvSpPr/>
                            <p:nvPr/>
                          </p:nvSpPr>
                          <p:spPr>
                            <a:xfrm rot="1501800">
                              <a:off x="3226680" y="3554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14" name="Freeform 1359"/>
                            <p:cNvSpPr/>
                            <p:nvPr/>
                          </p:nvSpPr>
                          <p:spPr>
                            <a:xfrm rot="1501800">
                              <a:off x="3250440" y="3561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15" name="Group 1360"/>
                      <p:cNvGrpSpPr/>
                      <p:nvPr/>
                    </p:nvGrpSpPr>
                    <p:grpSpPr>
                      <a:xfrm>
                        <a:off x="3222720" y="3520080"/>
                        <a:ext cx="528120" cy="238320"/>
                        <a:chOff x="3222720" y="3520080"/>
                        <a:chExt cx="528120" cy="238320"/>
                      </a:xfrm>
                    </p:grpSpPr>
                    <p:grpSp>
                      <p:nvGrpSpPr>
                        <p:cNvPr id="1716" name="Group 1361"/>
                        <p:cNvGrpSpPr/>
                        <p:nvPr/>
                      </p:nvGrpSpPr>
                      <p:grpSpPr>
                        <a:xfrm>
                          <a:off x="3485520" y="3548160"/>
                          <a:ext cx="265320" cy="210240"/>
                          <a:chOff x="3485520" y="3548160"/>
                          <a:chExt cx="265320" cy="210240"/>
                        </a:xfrm>
                      </p:grpSpPr>
                      <p:grpSp>
                        <p:nvGrpSpPr>
                          <p:cNvPr id="1717" name="Group 1362"/>
                          <p:cNvGrpSpPr/>
                          <p:nvPr/>
                        </p:nvGrpSpPr>
                        <p:grpSpPr>
                          <a:xfrm>
                            <a:off x="3485520" y="3548160"/>
                            <a:ext cx="104400" cy="147600"/>
                            <a:chOff x="3485520" y="3548160"/>
                            <a:chExt cx="104400" cy="147600"/>
                          </a:xfrm>
                        </p:grpSpPr>
                        <p:sp>
                          <p:nvSpPr>
                            <p:cNvPr id="1718" name="Freeform 1363"/>
                            <p:cNvSpPr/>
                            <p:nvPr/>
                          </p:nvSpPr>
                          <p:spPr>
                            <a:xfrm rot="500400">
                              <a:off x="3494160" y="35535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19" name="Freeform 1364"/>
                            <p:cNvSpPr/>
                            <p:nvPr/>
                          </p:nvSpPr>
                          <p:spPr>
                            <a:xfrm rot="500400">
                              <a:off x="3520080" y="35568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20" name="Group 1365"/>
                          <p:cNvGrpSpPr/>
                          <p:nvPr/>
                        </p:nvGrpSpPr>
                        <p:grpSpPr>
                          <a:xfrm>
                            <a:off x="3534840" y="3571200"/>
                            <a:ext cx="118800" cy="154080"/>
                            <a:chOff x="3534840" y="3571200"/>
                            <a:chExt cx="118800" cy="154080"/>
                          </a:xfrm>
                        </p:grpSpPr>
                        <p:sp>
                          <p:nvSpPr>
                            <p:cNvPr id="1721" name="Freeform 1366"/>
                            <p:cNvSpPr/>
                            <p:nvPr/>
                          </p:nvSpPr>
                          <p:spPr>
                            <a:xfrm rot="951000">
                              <a:off x="3550320" y="35805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22" name="Freeform 1367"/>
                            <p:cNvSpPr/>
                            <p:nvPr/>
                          </p:nvSpPr>
                          <p:spPr>
                            <a:xfrm rot="951000">
                              <a:off x="3574800" y="35852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23" name="Group 1368"/>
                          <p:cNvGrpSpPr/>
                          <p:nvPr/>
                        </p:nvGrpSpPr>
                        <p:grpSpPr>
                          <a:xfrm>
                            <a:off x="3606840" y="3598200"/>
                            <a:ext cx="144000" cy="160200"/>
                            <a:chOff x="3606840" y="3598200"/>
                            <a:chExt cx="144000" cy="160200"/>
                          </a:xfrm>
                        </p:grpSpPr>
                        <p:sp>
                          <p:nvSpPr>
                            <p:cNvPr id="1724" name="Freeform 1369"/>
                            <p:cNvSpPr/>
                            <p:nvPr/>
                          </p:nvSpPr>
                          <p:spPr>
                            <a:xfrm rot="2057400">
                              <a:off x="3634920" y="3611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25" name="Freeform 1370"/>
                            <p:cNvSpPr/>
                            <p:nvPr/>
                          </p:nvSpPr>
                          <p:spPr>
                            <a:xfrm rot="2057400">
                              <a:off x="3657600" y="36190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26" name="Group 1371"/>
                        <p:cNvGrpSpPr/>
                        <p:nvPr/>
                      </p:nvGrpSpPr>
                      <p:grpSpPr>
                        <a:xfrm>
                          <a:off x="3222720" y="3520080"/>
                          <a:ext cx="259920" cy="182160"/>
                          <a:chOff x="3222720" y="3520080"/>
                          <a:chExt cx="259920" cy="182160"/>
                        </a:xfrm>
                      </p:grpSpPr>
                      <p:grpSp>
                        <p:nvGrpSpPr>
                          <p:cNvPr id="1727" name="Group 1372"/>
                          <p:cNvGrpSpPr/>
                          <p:nvPr/>
                        </p:nvGrpSpPr>
                        <p:grpSpPr>
                          <a:xfrm>
                            <a:off x="3393000" y="3520080"/>
                            <a:ext cx="89640" cy="137520"/>
                            <a:chOff x="3393000" y="3520080"/>
                            <a:chExt cx="89640" cy="137520"/>
                          </a:xfrm>
                        </p:grpSpPr>
                        <p:sp>
                          <p:nvSpPr>
                            <p:cNvPr id="1728" name="Freeform 1373"/>
                            <p:cNvSpPr/>
                            <p:nvPr/>
                          </p:nvSpPr>
                          <p:spPr>
                            <a:xfrm flipH="1" rot="55200">
                              <a:off x="3393360" y="3520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29" name="Freeform 1374"/>
                            <p:cNvSpPr/>
                            <p:nvPr/>
                          </p:nvSpPr>
                          <p:spPr>
                            <a:xfrm flipH="1" rot="55200">
                              <a:off x="3398040" y="3521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30" name="Group 1375"/>
                          <p:cNvGrpSpPr/>
                          <p:nvPr/>
                        </p:nvGrpSpPr>
                        <p:grpSpPr>
                          <a:xfrm>
                            <a:off x="3327840" y="3533760"/>
                            <a:ext cx="101520" cy="145440"/>
                            <a:chOff x="3327840" y="3533760"/>
                            <a:chExt cx="101520" cy="145440"/>
                          </a:xfrm>
                        </p:grpSpPr>
                        <p:sp>
                          <p:nvSpPr>
                            <p:cNvPr id="1731" name="Freeform 1376"/>
                            <p:cNvSpPr/>
                            <p:nvPr/>
                          </p:nvSpPr>
                          <p:spPr>
                            <a:xfrm flipH="1" rot="21204600">
                              <a:off x="3334680" y="35380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32" name="Freeform 1377"/>
                            <p:cNvSpPr/>
                            <p:nvPr/>
                          </p:nvSpPr>
                          <p:spPr>
                            <a:xfrm flipH="1" rot="21204600">
                              <a:off x="3338640" y="35409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33" name="Group 1378"/>
                          <p:cNvGrpSpPr/>
                          <p:nvPr/>
                        </p:nvGrpSpPr>
                        <p:grpSpPr>
                          <a:xfrm>
                            <a:off x="3222720" y="3542400"/>
                            <a:ext cx="133200" cy="159840"/>
                            <a:chOff x="3222720" y="3542400"/>
                            <a:chExt cx="133200" cy="159840"/>
                          </a:xfrm>
                        </p:grpSpPr>
                        <p:sp>
                          <p:nvSpPr>
                            <p:cNvPr id="1734" name="Freeform 1379"/>
                            <p:cNvSpPr/>
                            <p:nvPr/>
                          </p:nvSpPr>
                          <p:spPr>
                            <a:xfrm flipH="1" rot="20098200">
                              <a:off x="3245400" y="3554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35" name="Freeform 1380"/>
                            <p:cNvSpPr/>
                            <p:nvPr/>
                          </p:nvSpPr>
                          <p:spPr>
                            <a:xfrm flipH="1" rot="20098200">
                              <a:off x="3252600" y="3561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736" name="Group 1381"/>
                    <p:cNvGrpSpPr/>
                    <p:nvPr/>
                  </p:nvGrpSpPr>
                  <p:grpSpPr>
                    <a:xfrm>
                      <a:off x="2809080" y="3691800"/>
                      <a:ext cx="941760" cy="238320"/>
                      <a:chOff x="2809080" y="3691800"/>
                      <a:chExt cx="941760" cy="238320"/>
                    </a:xfrm>
                  </p:grpSpPr>
                  <p:grpSp>
                    <p:nvGrpSpPr>
                      <p:cNvPr id="1737" name="Group 1382"/>
                      <p:cNvGrpSpPr/>
                      <p:nvPr/>
                    </p:nvGrpSpPr>
                    <p:grpSpPr>
                      <a:xfrm>
                        <a:off x="2809080" y="3691800"/>
                        <a:ext cx="528120" cy="238320"/>
                        <a:chOff x="2809080" y="3691800"/>
                        <a:chExt cx="528120" cy="238320"/>
                      </a:xfrm>
                    </p:grpSpPr>
                    <p:grpSp>
                      <p:nvGrpSpPr>
                        <p:cNvPr id="1738" name="Group 1383"/>
                        <p:cNvGrpSpPr/>
                        <p:nvPr/>
                      </p:nvGrpSpPr>
                      <p:grpSpPr>
                        <a:xfrm>
                          <a:off x="2809080" y="3719880"/>
                          <a:ext cx="265680" cy="210240"/>
                          <a:chOff x="2809080" y="3719880"/>
                          <a:chExt cx="265680" cy="210240"/>
                        </a:xfrm>
                      </p:grpSpPr>
                      <p:grpSp>
                        <p:nvGrpSpPr>
                          <p:cNvPr id="1739" name="Group 1384"/>
                          <p:cNvGrpSpPr/>
                          <p:nvPr/>
                        </p:nvGrpSpPr>
                        <p:grpSpPr>
                          <a:xfrm>
                            <a:off x="2970000" y="3719880"/>
                            <a:ext cx="104760" cy="147600"/>
                            <a:chOff x="2970000" y="3719880"/>
                            <a:chExt cx="104760" cy="147600"/>
                          </a:xfrm>
                        </p:grpSpPr>
                        <p:sp>
                          <p:nvSpPr>
                            <p:cNvPr id="1740" name="Freeform 1385"/>
                            <p:cNvSpPr/>
                            <p:nvPr/>
                          </p:nvSpPr>
                          <p:spPr>
                            <a:xfrm flipH="1" rot="21099600">
                              <a:off x="2978640" y="37252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41" name="Freeform 1386"/>
                            <p:cNvSpPr/>
                            <p:nvPr/>
                          </p:nvSpPr>
                          <p:spPr>
                            <a:xfrm flipH="1" rot="21099600">
                              <a:off x="2982960" y="37285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42" name="Group 1387"/>
                          <p:cNvGrpSpPr/>
                          <p:nvPr/>
                        </p:nvGrpSpPr>
                        <p:grpSpPr>
                          <a:xfrm>
                            <a:off x="2906280" y="3742920"/>
                            <a:ext cx="119160" cy="154080"/>
                            <a:chOff x="2906280" y="3742920"/>
                            <a:chExt cx="119160" cy="154080"/>
                          </a:xfrm>
                        </p:grpSpPr>
                        <p:sp>
                          <p:nvSpPr>
                            <p:cNvPr id="1743" name="Freeform 1388"/>
                            <p:cNvSpPr/>
                            <p:nvPr/>
                          </p:nvSpPr>
                          <p:spPr>
                            <a:xfrm flipH="1" rot="20649000">
                              <a:off x="2921400" y="37522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44" name="Freeform 1389"/>
                            <p:cNvSpPr/>
                            <p:nvPr/>
                          </p:nvSpPr>
                          <p:spPr>
                            <a:xfrm flipH="1" rot="20649000">
                              <a:off x="2927520" y="37569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45" name="Group 1390"/>
                          <p:cNvGrpSpPr/>
                          <p:nvPr/>
                        </p:nvGrpSpPr>
                        <p:grpSpPr>
                          <a:xfrm>
                            <a:off x="2809080" y="3769920"/>
                            <a:ext cx="144000" cy="160200"/>
                            <a:chOff x="2809080" y="3769920"/>
                            <a:chExt cx="144000" cy="160200"/>
                          </a:xfrm>
                        </p:grpSpPr>
                        <p:sp>
                          <p:nvSpPr>
                            <p:cNvPr id="1746" name="Freeform 1391"/>
                            <p:cNvSpPr/>
                            <p:nvPr/>
                          </p:nvSpPr>
                          <p:spPr>
                            <a:xfrm flipH="1" rot="19542600">
                              <a:off x="2837160" y="3783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47" name="Freeform 1392"/>
                            <p:cNvSpPr/>
                            <p:nvPr/>
                          </p:nvSpPr>
                          <p:spPr>
                            <a:xfrm flipH="1" rot="19542600">
                              <a:off x="2845080" y="3790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48" name="Group 1393"/>
                        <p:cNvGrpSpPr/>
                        <p:nvPr/>
                      </p:nvGrpSpPr>
                      <p:grpSpPr>
                        <a:xfrm>
                          <a:off x="3077280" y="3691800"/>
                          <a:ext cx="259920" cy="182160"/>
                          <a:chOff x="3077280" y="3691800"/>
                          <a:chExt cx="259920" cy="182160"/>
                        </a:xfrm>
                      </p:grpSpPr>
                      <p:grpSp>
                        <p:nvGrpSpPr>
                          <p:cNvPr id="1749" name="Group 1394"/>
                          <p:cNvGrpSpPr/>
                          <p:nvPr/>
                        </p:nvGrpSpPr>
                        <p:grpSpPr>
                          <a:xfrm>
                            <a:off x="3077280" y="3691800"/>
                            <a:ext cx="89640" cy="137520"/>
                            <a:chOff x="3077280" y="3691800"/>
                            <a:chExt cx="89640" cy="137520"/>
                          </a:xfrm>
                        </p:grpSpPr>
                        <p:sp>
                          <p:nvSpPr>
                            <p:cNvPr id="1750" name="Freeform 1395"/>
                            <p:cNvSpPr/>
                            <p:nvPr/>
                          </p:nvSpPr>
                          <p:spPr>
                            <a:xfrm rot="21544800">
                              <a:off x="3078000" y="36925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51" name="Freeform 1396"/>
                            <p:cNvSpPr/>
                            <p:nvPr/>
                          </p:nvSpPr>
                          <p:spPr>
                            <a:xfrm rot="21544800">
                              <a:off x="3105000" y="3693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52" name="Group 1397"/>
                          <p:cNvGrpSpPr/>
                          <p:nvPr/>
                        </p:nvGrpSpPr>
                        <p:grpSpPr>
                          <a:xfrm>
                            <a:off x="3130560" y="3705480"/>
                            <a:ext cx="101520" cy="145440"/>
                            <a:chOff x="3130560" y="3705480"/>
                            <a:chExt cx="101520" cy="145440"/>
                          </a:xfrm>
                        </p:grpSpPr>
                        <p:sp>
                          <p:nvSpPr>
                            <p:cNvPr id="1753" name="Freeform 1398"/>
                            <p:cNvSpPr/>
                            <p:nvPr/>
                          </p:nvSpPr>
                          <p:spPr>
                            <a:xfrm rot="395400">
                              <a:off x="3137400" y="3709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54" name="Freeform 1399"/>
                            <p:cNvSpPr/>
                            <p:nvPr/>
                          </p:nvSpPr>
                          <p:spPr>
                            <a:xfrm rot="395400">
                              <a:off x="3163680" y="3712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55" name="Group 1400"/>
                          <p:cNvGrpSpPr/>
                          <p:nvPr/>
                        </p:nvGrpSpPr>
                        <p:grpSpPr>
                          <a:xfrm>
                            <a:off x="3204000" y="3714120"/>
                            <a:ext cx="133200" cy="159840"/>
                            <a:chOff x="3204000" y="3714120"/>
                            <a:chExt cx="133200" cy="159840"/>
                          </a:xfrm>
                        </p:grpSpPr>
                        <p:sp>
                          <p:nvSpPr>
                            <p:cNvPr id="1756" name="Freeform 1401"/>
                            <p:cNvSpPr/>
                            <p:nvPr/>
                          </p:nvSpPr>
                          <p:spPr>
                            <a:xfrm rot="1501800">
                              <a:off x="3226680" y="3726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57" name="Freeform 1402"/>
                            <p:cNvSpPr/>
                            <p:nvPr/>
                          </p:nvSpPr>
                          <p:spPr>
                            <a:xfrm rot="1501800">
                              <a:off x="3250440" y="3733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58" name="Group 1403"/>
                      <p:cNvGrpSpPr/>
                      <p:nvPr/>
                    </p:nvGrpSpPr>
                    <p:grpSpPr>
                      <a:xfrm>
                        <a:off x="3222720" y="3691800"/>
                        <a:ext cx="528120" cy="238320"/>
                        <a:chOff x="3222720" y="3691800"/>
                        <a:chExt cx="528120" cy="238320"/>
                      </a:xfrm>
                    </p:grpSpPr>
                    <p:grpSp>
                      <p:nvGrpSpPr>
                        <p:cNvPr id="1759" name="Group 1404"/>
                        <p:cNvGrpSpPr/>
                        <p:nvPr/>
                      </p:nvGrpSpPr>
                      <p:grpSpPr>
                        <a:xfrm>
                          <a:off x="3485520" y="3719880"/>
                          <a:ext cx="265320" cy="210240"/>
                          <a:chOff x="3485520" y="3719880"/>
                          <a:chExt cx="265320" cy="210240"/>
                        </a:xfrm>
                      </p:grpSpPr>
                      <p:grpSp>
                        <p:nvGrpSpPr>
                          <p:cNvPr id="1760" name="Group 1405"/>
                          <p:cNvGrpSpPr/>
                          <p:nvPr/>
                        </p:nvGrpSpPr>
                        <p:grpSpPr>
                          <a:xfrm>
                            <a:off x="3485520" y="3719880"/>
                            <a:ext cx="104400" cy="147600"/>
                            <a:chOff x="3485520" y="3719880"/>
                            <a:chExt cx="104400" cy="147600"/>
                          </a:xfrm>
                        </p:grpSpPr>
                        <p:sp>
                          <p:nvSpPr>
                            <p:cNvPr id="1761" name="Freeform 1406"/>
                            <p:cNvSpPr/>
                            <p:nvPr/>
                          </p:nvSpPr>
                          <p:spPr>
                            <a:xfrm rot="500400">
                              <a:off x="3494160" y="37252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2" name="Freeform 1407"/>
                            <p:cNvSpPr/>
                            <p:nvPr/>
                          </p:nvSpPr>
                          <p:spPr>
                            <a:xfrm rot="500400">
                              <a:off x="3520080" y="37285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63" name="Group 1408"/>
                          <p:cNvGrpSpPr/>
                          <p:nvPr/>
                        </p:nvGrpSpPr>
                        <p:grpSpPr>
                          <a:xfrm>
                            <a:off x="3534840" y="3742920"/>
                            <a:ext cx="118800" cy="154080"/>
                            <a:chOff x="3534840" y="3742920"/>
                            <a:chExt cx="118800" cy="154080"/>
                          </a:xfrm>
                        </p:grpSpPr>
                        <p:sp>
                          <p:nvSpPr>
                            <p:cNvPr id="1764" name="Freeform 1409"/>
                            <p:cNvSpPr/>
                            <p:nvPr/>
                          </p:nvSpPr>
                          <p:spPr>
                            <a:xfrm rot="951000">
                              <a:off x="3550320" y="37522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5" name="Freeform 1410"/>
                            <p:cNvSpPr/>
                            <p:nvPr/>
                          </p:nvSpPr>
                          <p:spPr>
                            <a:xfrm rot="951000">
                              <a:off x="3574800" y="37569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66" name="Group 1411"/>
                          <p:cNvGrpSpPr/>
                          <p:nvPr/>
                        </p:nvGrpSpPr>
                        <p:grpSpPr>
                          <a:xfrm>
                            <a:off x="3606840" y="3769920"/>
                            <a:ext cx="144000" cy="160200"/>
                            <a:chOff x="3606840" y="3769920"/>
                            <a:chExt cx="144000" cy="160200"/>
                          </a:xfrm>
                        </p:grpSpPr>
                        <p:sp>
                          <p:nvSpPr>
                            <p:cNvPr id="1767" name="Freeform 1412"/>
                            <p:cNvSpPr/>
                            <p:nvPr/>
                          </p:nvSpPr>
                          <p:spPr>
                            <a:xfrm rot="2057400">
                              <a:off x="3634920" y="3783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68" name="Freeform 1413"/>
                            <p:cNvSpPr/>
                            <p:nvPr/>
                          </p:nvSpPr>
                          <p:spPr>
                            <a:xfrm rot="2057400">
                              <a:off x="3657600" y="37908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69" name="Group 1414"/>
                        <p:cNvGrpSpPr/>
                        <p:nvPr/>
                      </p:nvGrpSpPr>
                      <p:grpSpPr>
                        <a:xfrm>
                          <a:off x="3222720" y="3691800"/>
                          <a:ext cx="259920" cy="182160"/>
                          <a:chOff x="3222720" y="3691800"/>
                          <a:chExt cx="259920" cy="182160"/>
                        </a:xfrm>
                      </p:grpSpPr>
                      <p:grpSp>
                        <p:nvGrpSpPr>
                          <p:cNvPr id="1770" name="Group 1415"/>
                          <p:cNvGrpSpPr/>
                          <p:nvPr/>
                        </p:nvGrpSpPr>
                        <p:grpSpPr>
                          <a:xfrm>
                            <a:off x="3393000" y="3691800"/>
                            <a:ext cx="89640" cy="137520"/>
                            <a:chOff x="3393000" y="3691800"/>
                            <a:chExt cx="89640" cy="137520"/>
                          </a:xfrm>
                        </p:grpSpPr>
                        <p:sp>
                          <p:nvSpPr>
                            <p:cNvPr id="1771" name="Freeform 1416"/>
                            <p:cNvSpPr/>
                            <p:nvPr/>
                          </p:nvSpPr>
                          <p:spPr>
                            <a:xfrm flipH="1" rot="55200">
                              <a:off x="3393360" y="3692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72" name="Freeform 1417"/>
                            <p:cNvSpPr/>
                            <p:nvPr/>
                          </p:nvSpPr>
                          <p:spPr>
                            <a:xfrm flipH="1" rot="55200">
                              <a:off x="3398040" y="3693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73" name="Group 1418"/>
                          <p:cNvGrpSpPr/>
                          <p:nvPr/>
                        </p:nvGrpSpPr>
                        <p:grpSpPr>
                          <a:xfrm>
                            <a:off x="3327840" y="3705480"/>
                            <a:ext cx="101520" cy="145440"/>
                            <a:chOff x="3327840" y="3705480"/>
                            <a:chExt cx="101520" cy="145440"/>
                          </a:xfrm>
                        </p:grpSpPr>
                        <p:sp>
                          <p:nvSpPr>
                            <p:cNvPr id="1774" name="Freeform 1419"/>
                            <p:cNvSpPr/>
                            <p:nvPr/>
                          </p:nvSpPr>
                          <p:spPr>
                            <a:xfrm flipH="1" rot="21204600">
                              <a:off x="3334680" y="37098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75" name="Freeform 1420"/>
                            <p:cNvSpPr/>
                            <p:nvPr/>
                          </p:nvSpPr>
                          <p:spPr>
                            <a:xfrm flipH="1" rot="21204600">
                              <a:off x="3338640" y="3712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76" name="Group 1421"/>
                          <p:cNvGrpSpPr/>
                          <p:nvPr/>
                        </p:nvGrpSpPr>
                        <p:grpSpPr>
                          <a:xfrm>
                            <a:off x="3222720" y="3714120"/>
                            <a:ext cx="133200" cy="159840"/>
                            <a:chOff x="3222720" y="3714120"/>
                            <a:chExt cx="133200" cy="159840"/>
                          </a:xfrm>
                        </p:grpSpPr>
                        <p:sp>
                          <p:nvSpPr>
                            <p:cNvPr id="1777" name="Freeform 1422"/>
                            <p:cNvSpPr/>
                            <p:nvPr/>
                          </p:nvSpPr>
                          <p:spPr>
                            <a:xfrm flipH="1" rot="20098200">
                              <a:off x="3245400" y="3726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78" name="Freeform 1423"/>
                            <p:cNvSpPr/>
                            <p:nvPr/>
                          </p:nvSpPr>
                          <p:spPr>
                            <a:xfrm flipH="1" rot="20098200">
                              <a:off x="3252600" y="3733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779" name="Group 1424"/>
                    <p:cNvGrpSpPr/>
                    <p:nvPr/>
                  </p:nvGrpSpPr>
                  <p:grpSpPr>
                    <a:xfrm>
                      <a:off x="1755720" y="3404880"/>
                      <a:ext cx="941760" cy="238320"/>
                      <a:chOff x="1755720" y="3404880"/>
                      <a:chExt cx="941760" cy="238320"/>
                    </a:xfrm>
                  </p:grpSpPr>
                  <p:grpSp>
                    <p:nvGrpSpPr>
                      <p:cNvPr id="1780" name="Group 1425"/>
                      <p:cNvGrpSpPr/>
                      <p:nvPr/>
                    </p:nvGrpSpPr>
                    <p:grpSpPr>
                      <a:xfrm>
                        <a:off x="1755720" y="3404880"/>
                        <a:ext cx="528120" cy="238320"/>
                        <a:chOff x="1755720" y="3404880"/>
                        <a:chExt cx="528120" cy="238320"/>
                      </a:xfrm>
                    </p:grpSpPr>
                    <p:grpSp>
                      <p:nvGrpSpPr>
                        <p:cNvPr id="1781" name="Group 1426"/>
                        <p:cNvGrpSpPr/>
                        <p:nvPr/>
                      </p:nvGrpSpPr>
                      <p:grpSpPr>
                        <a:xfrm>
                          <a:off x="1755720" y="3432960"/>
                          <a:ext cx="265680" cy="210240"/>
                          <a:chOff x="1755720" y="3432960"/>
                          <a:chExt cx="265680" cy="210240"/>
                        </a:xfrm>
                      </p:grpSpPr>
                      <p:grpSp>
                        <p:nvGrpSpPr>
                          <p:cNvPr id="1782" name="Group 1427"/>
                          <p:cNvGrpSpPr/>
                          <p:nvPr/>
                        </p:nvGrpSpPr>
                        <p:grpSpPr>
                          <a:xfrm>
                            <a:off x="1916640" y="3432960"/>
                            <a:ext cx="104760" cy="147600"/>
                            <a:chOff x="1916640" y="3432960"/>
                            <a:chExt cx="104760" cy="147600"/>
                          </a:xfrm>
                        </p:grpSpPr>
                        <p:sp>
                          <p:nvSpPr>
                            <p:cNvPr id="1783" name="Freeform 1428"/>
                            <p:cNvSpPr/>
                            <p:nvPr/>
                          </p:nvSpPr>
                          <p:spPr>
                            <a:xfrm flipH="1" rot="21099600">
                              <a:off x="1925280" y="3438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84" name="Freeform 1429"/>
                            <p:cNvSpPr/>
                            <p:nvPr/>
                          </p:nvSpPr>
                          <p:spPr>
                            <a:xfrm flipH="1" rot="21099600">
                              <a:off x="1929600" y="3441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5" name="Group 1430"/>
                          <p:cNvGrpSpPr/>
                          <p:nvPr/>
                        </p:nvGrpSpPr>
                        <p:grpSpPr>
                          <a:xfrm>
                            <a:off x="1852920" y="3456000"/>
                            <a:ext cx="119160" cy="154080"/>
                            <a:chOff x="1852920" y="3456000"/>
                            <a:chExt cx="119160" cy="154080"/>
                          </a:xfrm>
                        </p:grpSpPr>
                        <p:sp>
                          <p:nvSpPr>
                            <p:cNvPr id="1786" name="Freeform 1431"/>
                            <p:cNvSpPr/>
                            <p:nvPr/>
                          </p:nvSpPr>
                          <p:spPr>
                            <a:xfrm flipH="1" rot="20649000">
                              <a:off x="1868040" y="3465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87" name="Freeform 1432"/>
                            <p:cNvSpPr/>
                            <p:nvPr/>
                          </p:nvSpPr>
                          <p:spPr>
                            <a:xfrm flipH="1" rot="20649000">
                              <a:off x="1874160" y="3470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88" name="Group 1433"/>
                          <p:cNvGrpSpPr/>
                          <p:nvPr/>
                        </p:nvGrpSpPr>
                        <p:grpSpPr>
                          <a:xfrm>
                            <a:off x="1755720" y="3483000"/>
                            <a:ext cx="144000" cy="160200"/>
                            <a:chOff x="1755720" y="3483000"/>
                            <a:chExt cx="144000" cy="160200"/>
                          </a:xfrm>
                        </p:grpSpPr>
                        <p:sp>
                          <p:nvSpPr>
                            <p:cNvPr id="1789" name="Freeform 1434"/>
                            <p:cNvSpPr/>
                            <p:nvPr/>
                          </p:nvSpPr>
                          <p:spPr>
                            <a:xfrm flipH="1" rot="19542600">
                              <a:off x="1783800" y="3496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90" name="Freeform 1435"/>
                            <p:cNvSpPr/>
                            <p:nvPr/>
                          </p:nvSpPr>
                          <p:spPr>
                            <a:xfrm flipH="1" rot="19542600">
                              <a:off x="1791720" y="3503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791" name="Group 1436"/>
                        <p:cNvGrpSpPr/>
                        <p:nvPr/>
                      </p:nvGrpSpPr>
                      <p:grpSpPr>
                        <a:xfrm>
                          <a:off x="2023920" y="3404880"/>
                          <a:ext cx="259920" cy="182160"/>
                          <a:chOff x="2023920" y="3404880"/>
                          <a:chExt cx="259920" cy="182160"/>
                        </a:xfrm>
                      </p:grpSpPr>
                      <p:grpSp>
                        <p:nvGrpSpPr>
                          <p:cNvPr id="1792" name="Group 1437"/>
                          <p:cNvGrpSpPr/>
                          <p:nvPr/>
                        </p:nvGrpSpPr>
                        <p:grpSpPr>
                          <a:xfrm>
                            <a:off x="2023920" y="3404880"/>
                            <a:ext cx="89640" cy="137520"/>
                            <a:chOff x="2023920" y="3404880"/>
                            <a:chExt cx="89640" cy="137520"/>
                          </a:xfrm>
                        </p:grpSpPr>
                        <p:sp>
                          <p:nvSpPr>
                            <p:cNvPr id="1793" name="Freeform 1438"/>
                            <p:cNvSpPr/>
                            <p:nvPr/>
                          </p:nvSpPr>
                          <p:spPr>
                            <a:xfrm rot="21544800">
                              <a:off x="2024640" y="3405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94" name="Freeform 1439"/>
                            <p:cNvSpPr/>
                            <p:nvPr/>
                          </p:nvSpPr>
                          <p:spPr>
                            <a:xfrm rot="21544800">
                              <a:off x="2051640" y="3406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95" name="Group 1440"/>
                          <p:cNvGrpSpPr/>
                          <p:nvPr/>
                        </p:nvGrpSpPr>
                        <p:grpSpPr>
                          <a:xfrm>
                            <a:off x="2077200" y="3418560"/>
                            <a:ext cx="101520" cy="145440"/>
                            <a:chOff x="2077200" y="3418560"/>
                            <a:chExt cx="101520" cy="145440"/>
                          </a:xfrm>
                        </p:grpSpPr>
                        <p:sp>
                          <p:nvSpPr>
                            <p:cNvPr id="1796" name="Freeform 1441"/>
                            <p:cNvSpPr/>
                            <p:nvPr/>
                          </p:nvSpPr>
                          <p:spPr>
                            <a:xfrm rot="395400">
                              <a:off x="2084040" y="3422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97" name="Freeform 1442"/>
                            <p:cNvSpPr/>
                            <p:nvPr/>
                          </p:nvSpPr>
                          <p:spPr>
                            <a:xfrm rot="395400">
                              <a:off x="2110320" y="3425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98" name="Group 1443"/>
                          <p:cNvGrpSpPr/>
                          <p:nvPr/>
                        </p:nvGrpSpPr>
                        <p:grpSpPr>
                          <a:xfrm>
                            <a:off x="2150640" y="3427200"/>
                            <a:ext cx="133200" cy="159840"/>
                            <a:chOff x="2150640" y="3427200"/>
                            <a:chExt cx="133200" cy="159840"/>
                          </a:xfrm>
                        </p:grpSpPr>
                        <p:sp>
                          <p:nvSpPr>
                            <p:cNvPr id="1799" name="Freeform 1444"/>
                            <p:cNvSpPr/>
                            <p:nvPr/>
                          </p:nvSpPr>
                          <p:spPr>
                            <a:xfrm rot="1501800">
                              <a:off x="2173320" y="3439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0" name="Freeform 1445"/>
                            <p:cNvSpPr/>
                            <p:nvPr/>
                          </p:nvSpPr>
                          <p:spPr>
                            <a:xfrm rot="1501800">
                              <a:off x="2197080" y="3446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801" name="Group 1446"/>
                      <p:cNvGrpSpPr/>
                      <p:nvPr/>
                    </p:nvGrpSpPr>
                    <p:grpSpPr>
                      <a:xfrm>
                        <a:off x="2169360" y="3404880"/>
                        <a:ext cx="528120" cy="238320"/>
                        <a:chOff x="2169360" y="3404880"/>
                        <a:chExt cx="528120" cy="238320"/>
                      </a:xfrm>
                    </p:grpSpPr>
                    <p:grpSp>
                      <p:nvGrpSpPr>
                        <p:cNvPr id="1802" name="Group 1447"/>
                        <p:cNvGrpSpPr/>
                        <p:nvPr/>
                      </p:nvGrpSpPr>
                      <p:grpSpPr>
                        <a:xfrm>
                          <a:off x="2432160" y="3432960"/>
                          <a:ext cx="265320" cy="210240"/>
                          <a:chOff x="2432160" y="3432960"/>
                          <a:chExt cx="265320" cy="210240"/>
                        </a:xfrm>
                      </p:grpSpPr>
                      <p:grpSp>
                        <p:nvGrpSpPr>
                          <p:cNvPr id="1803" name="Group 1448"/>
                          <p:cNvGrpSpPr/>
                          <p:nvPr/>
                        </p:nvGrpSpPr>
                        <p:grpSpPr>
                          <a:xfrm>
                            <a:off x="2432160" y="3432960"/>
                            <a:ext cx="104400" cy="147600"/>
                            <a:chOff x="2432160" y="3432960"/>
                            <a:chExt cx="104400" cy="147600"/>
                          </a:xfrm>
                        </p:grpSpPr>
                        <p:sp>
                          <p:nvSpPr>
                            <p:cNvPr id="1804" name="Freeform 1449"/>
                            <p:cNvSpPr/>
                            <p:nvPr/>
                          </p:nvSpPr>
                          <p:spPr>
                            <a:xfrm rot="500400">
                              <a:off x="2440800" y="34383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5" name="Freeform 1450"/>
                            <p:cNvSpPr/>
                            <p:nvPr/>
                          </p:nvSpPr>
                          <p:spPr>
                            <a:xfrm rot="500400">
                              <a:off x="2466720" y="34416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06" name="Group 1451"/>
                          <p:cNvGrpSpPr/>
                          <p:nvPr/>
                        </p:nvGrpSpPr>
                        <p:grpSpPr>
                          <a:xfrm>
                            <a:off x="2481480" y="3456000"/>
                            <a:ext cx="118800" cy="154080"/>
                            <a:chOff x="2481480" y="3456000"/>
                            <a:chExt cx="118800" cy="154080"/>
                          </a:xfrm>
                        </p:grpSpPr>
                        <p:sp>
                          <p:nvSpPr>
                            <p:cNvPr id="1807" name="Freeform 1452"/>
                            <p:cNvSpPr/>
                            <p:nvPr/>
                          </p:nvSpPr>
                          <p:spPr>
                            <a:xfrm rot="951000">
                              <a:off x="2496960" y="34653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8" name="Freeform 1453"/>
                            <p:cNvSpPr/>
                            <p:nvPr/>
                          </p:nvSpPr>
                          <p:spPr>
                            <a:xfrm rot="951000">
                              <a:off x="2521440" y="3470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09" name="Group 1454"/>
                          <p:cNvGrpSpPr/>
                          <p:nvPr/>
                        </p:nvGrpSpPr>
                        <p:grpSpPr>
                          <a:xfrm>
                            <a:off x="2553480" y="3483000"/>
                            <a:ext cx="144000" cy="160200"/>
                            <a:chOff x="2553480" y="3483000"/>
                            <a:chExt cx="144000" cy="160200"/>
                          </a:xfrm>
                        </p:grpSpPr>
                        <p:sp>
                          <p:nvSpPr>
                            <p:cNvPr id="1810" name="Freeform 1455"/>
                            <p:cNvSpPr/>
                            <p:nvPr/>
                          </p:nvSpPr>
                          <p:spPr>
                            <a:xfrm rot="2057400">
                              <a:off x="2581560" y="3496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11" name="Freeform 1456"/>
                            <p:cNvSpPr/>
                            <p:nvPr/>
                          </p:nvSpPr>
                          <p:spPr>
                            <a:xfrm rot="2057400">
                              <a:off x="2604240" y="35038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812" name="Group 1457"/>
                        <p:cNvGrpSpPr/>
                        <p:nvPr/>
                      </p:nvGrpSpPr>
                      <p:grpSpPr>
                        <a:xfrm>
                          <a:off x="2169360" y="3404880"/>
                          <a:ext cx="259920" cy="182160"/>
                          <a:chOff x="2169360" y="3404880"/>
                          <a:chExt cx="259920" cy="182160"/>
                        </a:xfrm>
                      </p:grpSpPr>
                      <p:grpSp>
                        <p:nvGrpSpPr>
                          <p:cNvPr id="1813" name="Group 1458"/>
                          <p:cNvGrpSpPr/>
                          <p:nvPr/>
                        </p:nvGrpSpPr>
                        <p:grpSpPr>
                          <a:xfrm>
                            <a:off x="2339640" y="3404880"/>
                            <a:ext cx="89640" cy="137520"/>
                            <a:chOff x="2339640" y="3404880"/>
                            <a:chExt cx="89640" cy="137520"/>
                          </a:xfrm>
                        </p:grpSpPr>
                        <p:sp>
                          <p:nvSpPr>
                            <p:cNvPr id="1814" name="Freeform 1459"/>
                            <p:cNvSpPr/>
                            <p:nvPr/>
                          </p:nvSpPr>
                          <p:spPr>
                            <a:xfrm flipH="1" rot="55200">
                              <a:off x="2340000" y="3405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15" name="Freeform 1460"/>
                            <p:cNvSpPr/>
                            <p:nvPr/>
                          </p:nvSpPr>
                          <p:spPr>
                            <a:xfrm flipH="1" rot="55200">
                              <a:off x="2344680" y="3406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16" name="Group 1461"/>
                          <p:cNvGrpSpPr/>
                          <p:nvPr/>
                        </p:nvGrpSpPr>
                        <p:grpSpPr>
                          <a:xfrm>
                            <a:off x="2274480" y="3418560"/>
                            <a:ext cx="101520" cy="145440"/>
                            <a:chOff x="2274480" y="3418560"/>
                            <a:chExt cx="101520" cy="145440"/>
                          </a:xfrm>
                        </p:grpSpPr>
                        <p:sp>
                          <p:nvSpPr>
                            <p:cNvPr id="1817" name="Freeform 1462"/>
                            <p:cNvSpPr/>
                            <p:nvPr/>
                          </p:nvSpPr>
                          <p:spPr>
                            <a:xfrm flipH="1" rot="21204600">
                              <a:off x="2281320" y="3422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18" name="Freeform 1463"/>
                            <p:cNvSpPr/>
                            <p:nvPr/>
                          </p:nvSpPr>
                          <p:spPr>
                            <a:xfrm flipH="1" rot="21204600">
                              <a:off x="2285280" y="34257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19" name="Group 1464"/>
                          <p:cNvGrpSpPr/>
                          <p:nvPr/>
                        </p:nvGrpSpPr>
                        <p:grpSpPr>
                          <a:xfrm>
                            <a:off x="2169360" y="3427200"/>
                            <a:ext cx="133200" cy="159840"/>
                            <a:chOff x="2169360" y="3427200"/>
                            <a:chExt cx="133200" cy="159840"/>
                          </a:xfrm>
                        </p:grpSpPr>
                        <p:sp>
                          <p:nvSpPr>
                            <p:cNvPr id="1820" name="Freeform 1465"/>
                            <p:cNvSpPr/>
                            <p:nvPr/>
                          </p:nvSpPr>
                          <p:spPr>
                            <a:xfrm flipH="1" rot="20098200">
                              <a:off x="2192040" y="3439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21" name="Freeform 1466"/>
                            <p:cNvSpPr/>
                            <p:nvPr/>
                          </p:nvSpPr>
                          <p:spPr>
                            <a:xfrm flipH="1" rot="20098200">
                              <a:off x="2199240" y="3446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822" name="Group 1467"/>
                    <p:cNvGrpSpPr/>
                    <p:nvPr/>
                  </p:nvGrpSpPr>
                  <p:grpSpPr>
                    <a:xfrm>
                      <a:off x="1873080" y="3883680"/>
                      <a:ext cx="941760" cy="238320"/>
                      <a:chOff x="1873080" y="3883680"/>
                      <a:chExt cx="941760" cy="238320"/>
                    </a:xfrm>
                  </p:grpSpPr>
                  <p:grpSp>
                    <p:nvGrpSpPr>
                      <p:cNvPr id="1823" name="Group 1468"/>
                      <p:cNvGrpSpPr/>
                      <p:nvPr/>
                    </p:nvGrpSpPr>
                    <p:grpSpPr>
                      <a:xfrm>
                        <a:off x="1873080" y="3883680"/>
                        <a:ext cx="528120" cy="238320"/>
                        <a:chOff x="1873080" y="3883680"/>
                        <a:chExt cx="528120" cy="238320"/>
                      </a:xfrm>
                    </p:grpSpPr>
                    <p:grpSp>
                      <p:nvGrpSpPr>
                        <p:cNvPr id="1824" name="Group 1469"/>
                        <p:cNvGrpSpPr/>
                        <p:nvPr/>
                      </p:nvGrpSpPr>
                      <p:grpSpPr>
                        <a:xfrm>
                          <a:off x="1873080" y="3911760"/>
                          <a:ext cx="265680" cy="210240"/>
                          <a:chOff x="1873080" y="3911760"/>
                          <a:chExt cx="265680" cy="210240"/>
                        </a:xfrm>
                      </p:grpSpPr>
                      <p:grpSp>
                        <p:nvGrpSpPr>
                          <p:cNvPr id="1825" name="Group 1470"/>
                          <p:cNvGrpSpPr/>
                          <p:nvPr/>
                        </p:nvGrpSpPr>
                        <p:grpSpPr>
                          <a:xfrm>
                            <a:off x="2034000" y="3911760"/>
                            <a:ext cx="104760" cy="147600"/>
                            <a:chOff x="2034000" y="3911760"/>
                            <a:chExt cx="104760" cy="147600"/>
                          </a:xfrm>
                        </p:grpSpPr>
                        <p:sp>
                          <p:nvSpPr>
                            <p:cNvPr id="1826" name="Freeform 1471"/>
                            <p:cNvSpPr/>
                            <p:nvPr/>
                          </p:nvSpPr>
                          <p:spPr>
                            <a:xfrm flipH="1" rot="21099600">
                              <a:off x="2042640" y="39171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27" name="Freeform 1472"/>
                            <p:cNvSpPr/>
                            <p:nvPr/>
                          </p:nvSpPr>
                          <p:spPr>
                            <a:xfrm flipH="1" rot="21099600">
                              <a:off x="2046960" y="39204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28" name="Group 1473"/>
                          <p:cNvGrpSpPr/>
                          <p:nvPr/>
                        </p:nvGrpSpPr>
                        <p:grpSpPr>
                          <a:xfrm>
                            <a:off x="1970280" y="3934800"/>
                            <a:ext cx="119160" cy="154080"/>
                            <a:chOff x="1970280" y="3934800"/>
                            <a:chExt cx="119160" cy="154080"/>
                          </a:xfrm>
                        </p:grpSpPr>
                        <p:sp>
                          <p:nvSpPr>
                            <p:cNvPr id="1829" name="Freeform 1474"/>
                            <p:cNvSpPr/>
                            <p:nvPr/>
                          </p:nvSpPr>
                          <p:spPr>
                            <a:xfrm flipH="1" rot="20649000">
                              <a:off x="1985400" y="39441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30" name="Freeform 1475"/>
                            <p:cNvSpPr/>
                            <p:nvPr/>
                          </p:nvSpPr>
                          <p:spPr>
                            <a:xfrm flipH="1" rot="20649000">
                              <a:off x="1991520" y="39488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31" name="Group 1476"/>
                          <p:cNvGrpSpPr/>
                          <p:nvPr/>
                        </p:nvGrpSpPr>
                        <p:grpSpPr>
                          <a:xfrm>
                            <a:off x="1873080" y="3961800"/>
                            <a:ext cx="144000" cy="160200"/>
                            <a:chOff x="1873080" y="3961800"/>
                            <a:chExt cx="144000" cy="160200"/>
                          </a:xfrm>
                        </p:grpSpPr>
                        <p:sp>
                          <p:nvSpPr>
                            <p:cNvPr id="1832" name="Freeform 1477"/>
                            <p:cNvSpPr/>
                            <p:nvPr/>
                          </p:nvSpPr>
                          <p:spPr>
                            <a:xfrm flipH="1" rot="19542600">
                              <a:off x="1901160" y="39751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33" name="Freeform 1478"/>
                            <p:cNvSpPr/>
                            <p:nvPr/>
                          </p:nvSpPr>
                          <p:spPr>
                            <a:xfrm flipH="1" rot="19542600">
                              <a:off x="1909080" y="39826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834" name="Group 1479"/>
                        <p:cNvGrpSpPr/>
                        <p:nvPr/>
                      </p:nvGrpSpPr>
                      <p:grpSpPr>
                        <a:xfrm>
                          <a:off x="2141280" y="3883680"/>
                          <a:ext cx="259920" cy="182160"/>
                          <a:chOff x="2141280" y="3883680"/>
                          <a:chExt cx="259920" cy="182160"/>
                        </a:xfrm>
                      </p:grpSpPr>
                      <p:grpSp>
                        <p:nvGrpSpPr>
                          <p:cNvPr id="1835" name="Group 1480"/>
                          <p:cNvGrpSpPr/>
                          <p:nvPr/>
                        </p:nvGrpSpPr>
                        <p:grpSpPr>
                          <a:xfrm>
                            <a:off x="2141280" y="3883680"/>
                            <a:ext cx="89640" cy="137520"/>
                            <a:chOff x="2141280" y="3883680"/>
                            <a:chExt cx="89640" cy="137520"/>
                          </a:xfrm>
                        </p:grpSpPr>
                        <p:sp>
                          <p:nvSpPr>
                            <p:cNvPr id="1836" name="Freeform 1481"/>
                            <p:cNvSpPr/>
                            <p:nvPr/>
                          </p:nvSpPr>
                          <p:spPr>
                            <a:xfrm rot="21544800">
                              <a:off x="2142000" y="38844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37" name="Freeform 1482"/>
                            <p:cNvSpPr/>
                            <p:nvPr/>
                          </p:nvSpPr>
                          <p:spPr>
                            <a:xfrm rot="21544800">
                              <a:off x="2169000" y="3885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38" name="Group 1483"/>
                          <p:cNvGrpSpPr/>
                          <p:nvPr/>
                        </p:nvGrpSpPr>
                        <p:grpSpPr>
                          <a:xfrm>
                            <a:off x="2194560" y="3897360"/>
                            <a:ext cx="101520" cy="145440"/>
                            <a:chOff x="2194560" y="3897360"/>
                            <a:chExt cx="101520" cy="145440"/>
                          </a:xfrm>
                        </p:grpSpPr>
                        <p:sp>
                          <p:nvSpPr>
                            <p:cNvPr id="1839" name="Freeform 1484"/>
                            <p:cNvSpPr/>
                            <p:nvPr/>
                          </p:nvSpPr>
                          <p:spPr>
                            <a:xfrm rot="395400">
                              <a:off x="2201400" y="3901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40" name="Freeform 1485"/>
                            <p:cNvSpPr/>
                            <p:nvPr/>
                          </p:nvSpPr>
                          <p:spPr>
                            <a:xfrm rot="395400">
                              <a:off x="2227680" y="39045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41" name="Group 1486"/>
                          <p:cNvGrpSpPr/>
                          <p:nvPr/>
                        </p:nvGrpSpPr>
                        <p:grpSpPr>
                          <a:xfrm>
                            <a:off x="2268000" y="3906000"/>
                            <a:ext cx="133200" cy="159840"/>
                            <a:chOff x="2268000" y="3906000"/>
                            <a:chExt cx="133200" cy="159840"/>
                          </a:xfrm>
                        </p:grpSpPr>
                        <p:sp>
                          <p:nvSpPr>
                            <p:cNvPr id="1842" name="Freeform 1487"/>
                            <p:cNvSpPr/>
                            <p:nvPr/>
                          </p:nvSpPr>
                          <p:spPr>
                            <a:xfrm rot="1501800">
                              <a:off x="2290680" y="3918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43" name="Freeform 1488"/>
                            <p:cNvSpPr/>
                            <p:nvPr/>
                          </p:nvSpPr>
                          <p:spPr>
                            <a:xfrm rot="1501800">
                              <a:off x="2314440" y="3925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844" name="Group 1489"/>
                      <p:cNvGrpSpPr/>
                      <p:nvPr/>
                    </p:nvGrpSpPr>
                    <p:grpSpPr>
                      <a:xfrm>
                        <a:off x="2286720" y="3883680"/>
                        <a:ext cx="528120" cy="238320"/>
                        <a:chOff x="2286720" y="3883680"/>
                        <a:chExt cx="528120" cy="238320"/>
                      </a:xfrm>
                    </p:grpSpPr>
                    <p:grpSp>
                      <p:nvGrpSpPr>
                        <p:cNvPr id="1845" name="Group 1490"/>
                        <p:cNvGrpSpPr/>
                        <p:nvPr/>
                      </p:nvGrpSpPr>
                      <p:grpSpPr>
                        <a:xfrm>
                          <a:off x="2549520" y="3911760"/>
                          <a:ext cx="265320" cy="210240"/>
                          <a:chOff x="2549520" y="3911760"/>
                          <a:chExt cx="265320" cy="210240"/>
                        </a:xfrm>
                      </p:grpSpPr>
                      <p:grpSp>
                        <p:nvGrpSpPr>
                          <p:cNvPr id="1846" name="Group 1491"/>
                          <p:cNvGrpSpPr/>
                          <p:nvPr/>
                        </p:nvGrpSpPr>
                        <p:grpSpPr>
                          <a:xfrm>
                            <a:off x="2549520" y="3911760"/>
                            <a:ext cx="104400" cy="147600"/>
                            <a:chOff x="2549520" y="3911760"/>
                            <a:chExt cx="104400" cy="147600"/>
                          </a:xfrm>
                        </p:grpSpPr>
                        <p:sp>
                          <p:nvSpPr>
                            <p:cNvPr id="1847" name="Freeform 1492"/>
                            <p:cNvSpPr/>
                            <p:nvPr/>
                          </p:nvSpPr>
                          <p:spPr>
                            <a:xfrm rot="500400">
                              <a:off x="2558160" y="391716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48" name="Freeform 1493"/>
                            <p:cNvSpPr/>
                            <p:nvPr/>
                          </p:nvSpPr>
                          <p:spPr>
                            <a:xfrm rot="500400">
                              <a:off x="2584080" y="392040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49" name="Group 1494"/>
                          <p:cNvGrpSpPr/>
                          <p:nvPr/>
                        </p:nvGrpSpPr>
                        <p:grpSpPr>
                          <a:xfrm>
                            <a:off x="2598840" y="3934800"/>
                            <a:ext cx="118800" cy="154080"/>
                            <a:chOff x="2598840" y="3934800"/>
                            <a:chExt cx="118800" cy="154080"/>
                          </a:xfrm>
                        </p:grpSpPr>
                        <p:sp>
                          <p:nvSpPr>
                            <p:cNvPr id="1850" name="Freeform 1495"/>
                            <p:cNvSpPr/>
                            <p:nvPr/>
                          </p:nvSpPr>
                          <p:spPr>
                            <a:xfrm rot="951000">
                              <a:off x="2614320" y="39441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1" name="Freeform 1496"/>
                            <p:cNvSpPr/>
                            <p:nvPr/>
                          </p:nvSpPr>
                          <p:spPr>
                            <a:xfrm rot="951000">
                              <a:off x="2638800" y="39488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52" name="Group 1497"/>
                          <p:cNvGrpSpPr/>
                          <p:nvPr/>
                        </p:nvGrpSpPr>
                        <p:grpSpPr>
                          <a:xfrm>
                            <a:off x="2670840" y="3961800"/>
                            <a:ext cx="144000" cy="160200"/>
                            <a:chOff x="2670840" y="3961800"/>
                            <a:chExt cx="144000" cy="160200"/>
                          </a:xfrm>
                        </p:grpSpPr>
                        <p:sp>
                          <p:nvSpPr>
                            <p:cNvPr id="1853" name="Freeform 1498"/>
                            <p:cNvSpPr/>
                            <p:nvPr/>
                          </p:nvSpPr>
                          <p:spPr>
                            <a:xfrm rot="2057400">
                              <a:off x="2698920" y="39751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4" name="Freeform 1499"/>
                            <p:cNvSpPr/>
                            <p:nvPr/>
                          </p:nvSpPr>
                          <p:spPr>
                            <a:xfrm rot="2057400">
                              <a:off x="2721600" y="39826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855" name="Group 1500"/>
                        <p:cNvGrpSpPr/>
                        <p:nvPr/>
                      </p:nvGrpSpPr>
                      <p:grpSpPr>
                        <a:xfrm>
                          <a:off x="2286720" y="3883680"/>
                          <a:ext cx="259920" cy="182160"/>
                          <a:chOff x="2286720" y="3883680"/>
                          <a:chExt cx="259920" cy="182160"/>
                        </a:xfrm>
                      </p:grpSpPr>
                      <p:grpSp>
                        <p:nvGrpSpPr>
                          <p:cNvPr id="1856" name="Group 1501"/>
                          <p:cNvGrpSpPr/>
                          <p:nvPr/>
                        </p:nvGrpSpPr>
                        <p:grpSpPr>
                          <a:xfrm>
                            <a:off x="2457000" y="3883680"/>
                            <a:ext cx="89640" cy="137520"/>
                            <a:chOff x="2457000" y="3883680"/>
                            <a:chExt cx="89640" cy="137520"/>
                          </a:xfrm>
                        </p:grpSpPr>
                        <p:sp>
                          <p:nvSpPr>
                            <p:cNvPr id="1857" name="Freeform 1502"/>
                            <p:cNvSpPr/>
                            <p:nvPr/>
                          </p:nvSpPr>
                          <p:spPr>
                            <a:xfrm flipH="1" rot="55200">
                              <a:off x="2457360" y="3884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8" name="Freeform 1503"/>
                            <p:cNvSpPr/>
                            <p:nvPr/>
                          </p:nvSpPr>
                          <p:spPr>
                            <a:xfrm flipH="1" rot="55200">
                              <a:off x="2462040" y="38854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59" name="Group 1504"/>
                          <p:cNvGrpSpPr/>
                          <p:nvPr/>
                        </p:nvGrpSpPr>
                        <p:grpSpPr>
                          <a:xfrm>
                            <a:off x="2391840" y="3897360"/>
                            <a:ext cx="101520" cy="145440"/>
                            <a:chOff x="2391840" y="3897360"/>
                            <a:chExt cx="101520" cy="145440"/>
                          </a:xfrm>
                        </p:grpSpPr>
                        <p:sp>
                          <p:nvSpPr>
                            <p:cNvPr id="1860" name="Freeform 1505"/>
                            <p:cNvSpPr/>
                            <p:nvPr/>
                          </p:nvSpPr>
                          <p:spPr>
                            <a:xfrm flipH="1" rot="21204600">
                              <a:off x="2398680" y="3901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1" name="Freeform 1506"/>
                            <p:cNvSpPr/>
                            <p:nvPr/>
                          </p:nvSpPr>
                          <p:spPr>
                            <a:xfrm flipH="1" rot="21204600">
                              <a:off x="2402640" y="390456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62" name="Group 1507"/>
                          <p:cNvGrpSpPr/>
                          <p:nvPr/>
                        </p:nvGrpSpPr>
                        <p:grpSpPr>
                          <a:xfrm>
                            <a:off x="2286720" y="3906000"/>
                            <a:ext cx="133200" cy="159840"/>
                            <a:chOff x="2286720" y="3906000"/>
                            <a:chExt cx="133200" cy="159840"/>
                          </a:xfrm>
                        </p:grpSpPr>
                        <p:sp>
                          <p:nvSpPr>
                            <p:cNvPr id="1863" name="Freeform 1508"/>
                            <p:cNvSpPr/>
                            <p:nvPr/>
                          </p:nvSpPr>
                          <p:spPr>
                            <a:xfrm flipH="1" rot="20098200">
                              <a:off x="2309400" y="39182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4" name="Freeform 1509"/>
                            <p:cNvSpPr/>
                            <p:nvPr/>
                          </p:nvSpPr>
                          <p:spPr>
                            <a:xfrm flipH="1" rot="20098200">
                              <a:off x="2316600" y="3925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865" name="Group 1510"/>
                    <p:cNvGrpSpPr/>
                    <p:nvPr/>
                  </p:nvGrpSpPr>
                  <p:grpSpPr>
                    <a:xfrm>
                      <a:off x="1989720" y="3231720"/>
                      <a:ext cx="941760" cy="238320"/>
                      <a:chOff x="1989720" y="3231720"/>
                      <a:chExt cx="941760" cy="238320"/>
                    </a:xfrm>
                  </p:grpSpPr>
                  <p:grpSp>
                    <p:nvGrpSpPr>
                      <p:cNvPr id="1866" name="Group 1511"/>
                      <p:cNvGrpSpPr/>
                      <p:nvPr/>
                    </p:nvGrpSpPr>
                    <p:grpSpPr>
                      <a:xfrm>
                        <a:off x="1989720" y="3231720"/>
                        <a:ext cx="528120" cy="238320"/>
                        <a:chOff x="1989720" y="3231720"/>
                        <a:chExt cx="528120" cy="238320"/>
                      </a:xfrm>
                    </p:grpSpPr>
                    <p:grpSp>
                      <p:nvGrpSpPr>
                        <p:cNvPr id="1867" name="Group 1512"/>
                        <p:cNvGrpSpPr/>
                        <p:nvPr/>
                      </p:nvGrpSpPr>
                      <p:grpSpPr>
                        <a:xfrm>
                          <a:off x="1989720" y="3259800"/>
                          <a:ext cx="265680" cy="210240"/>
                          <a:chOff x="1989720" y="3259800"/>
                          <a:chExt cx="265680" cy="210240"/>
                        </a:xfrm>
                      </p:grpSpPr>
                      <p:grpSp>
                        <p:nvGrpSpPr>
                          <p:cNvPr id="1868" name="Group 1513"/>
                          <p:cNvGrpSpPr/>
                          <p:nvPr/>
                        </p:nvGrpSpPr>
                        <p:grpSpPr>
                          <a:xfrm>
                            <a:off x="2150640" y="3259800"/>
                            <a:ext cx="104760" cy="147600"/>
                            <a:chOff x="2150640" y="3259800"/>
                            <a:chExt cx="104760" cy="147600"/>
                          </a:xfrm>
                        </p:grpSpPr>
                        <p:sp>
                          <p:nvSpPr>
                            <p:cNvPr id="1869" name="Freeform 1514"/>
                            <p:cNvSpPr/>
                            <p:nvPr/>
                          </p:nvSpPr>
                          <p:spPr>
                            <a:xfrm flipH="1" rot="21099600">
                              <a:off x="2159280" y="32652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0" name="Freeform 1515"/>
                            <p:cNvSpPr/>
                            <p:nvPr/>
                          </p:nvSpPr>
                          <p:spPr>
                            <a:xfrm flipH="1" rot="21099600">
                              <a:off x="2163600" y="32684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71" name="Group 1516"/>
                          <p:cNvGrpSpPr/>
                          <p:nvPr/>
                        </p:nvGrpSpPr>
                        <p:grpSpPr>
                          <a:xfrm>
                            <a:off x="2086920" y="3282840"/>
                            <a:ext cx="119160" cy="154080"/>
                            <a:chOff x="2086920" y="3282840"/>
                            <a:chExt cx="119160" cy="154080"/>
                          </a:xfrm>
                        </p:grpSpPr>
                        <p:sp>
                          <p:nvSpPr>
                            <p:cNvPr id="1872" name="Freeform 1517"/>
                            <p:cNvSpPr/>
                            <p:nvPr/>
                          </p:nvSpPr>
                          <p:spPr>
                            <a:xfrm flipH="1" rot="20649000">
                              <a:off x="2102040" y="32922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3" name="Freeform 1518"/>
                            <p:cNvSpPr/>
                            <p:nvPr/>
                          </p:nvSpPr>
                          <p:spPr>
                            <a:xfrm flipH="1" rot="20649000">
                              <a:off x="2108160" y="32968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74" name="Group 1519"/>
                          <p:cNvGrpSpPr/>
                          <p:nvPr/>
                        </p:nvGrpSpPr>
                        <p:grpSpPr>
                          <a:xfrm>
                            <a:off x="1989720" y="3309840"/>
                            <a:ext cx="144000" cy="160200"/>
                            <a:chOff x="1989720" y="3309840"/>
                            <a:chExt cx="144000" cy="160200"/>
                          </a:xfrm>
                        </p:grpSpPr>
                        <p:sp>
                          <p:nvSpPr>
                            <p:cNvPr id="1875" name="Freeform 1520"/>
                            <p:cNvSpPr/>
                            <p:nvPr/>
                          </p:nvSpPr>
                          <p:spPr>
                            <a:xfrm flipH="1" rot="19542600">
                              <a:off x="2017800" y="3323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6" name="Freeform 1521"/>
                            <p:cNvSpPr/>
                            <p:nvPr/>
                          </p:nvSpPr>
                          <p:spPr>
                            <a:xfrm flipH="1" rot="19542600">
                              <a:off x="2025720" y="33307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877" name="Group 1522"/>
                        <p:cNvGrpSpPr/>
                        <p:nvPr/>
                      </p:nvGrpSpPr>
                      <p:grpSpPr>
                        <a:xfrm>
                          <a:off x="2257920" y="3231720"/>
                          <a:ext cx="259920" cy="182160"/>
                          <a:chOff x="2257920" y="3231720"/>
                          <a:chExt cx="259920" cy="182160"/>
                        </a:xfrm>
                      </p:grpSpPr>
                      <p:grpSp>
                        <p:nvGrpSpPr>
                          <p:cNvPr id="1878" name="Group 1523"/>
                          <p:cNvGrpSpPr/>
                          <p:nvPr/>
                        </p:nvGrpSpPr>
                        <p:grpSpPr>
                          <a:xfrm>
                            <a:off x="2257920" y="3231720"/>
                            <a:ext cx="89640" cy="137520"/>
                            <a:chOff x="2257920" y="3231720"/>
                            <a:chExt cx="89640" cy="137520"/>
                          </a:xfrm>
                        </p:grpSpPr>
                        <p:sp>
                          <p:nvSpPr>
                            <p:cNvPr id="1879" name="Freeform 1524"/>
                            <p:cNvSpPr/>
                            <p:nvPr/>
                          </p:nvSpPr>
                          <p:spPr>
                            <a:xfrm rot="21544800">
                              <a:off x="2258640" y="3232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80" name="Freeform 1525"/>
                            <p:cNvSpPr/>
                            <p:nvPr/>
                          </p:nvSpPr>
                          <p:spPr>
                            <a:xfrm rot="21544800">
                              <a:off x="2285640" y="32335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81" name="Group 1526"/>
                          <p:cNvGrpSpPr/>
                          <p:nvPr/>
                        </p:nvGrpSpPr>
                        <p:grpSpPr>
                          <a:xfrm>
                            <a:off x="2311200" y="3245400"/>
                            <a:ext cx="101520" cy="145440"/>
                            <a:chOff x="2311200" y="3245400"/>
                            <a:chExt cx="101520" cy="145440"/>
                          </a:xfrm>
                        </p:grpSpPr>
                        <p:sp>
                          <p:nvSpPr>
                            <p:cNvPr id="1882" name="Freeform 1527"/>
                            <p:cNvSpPr/>
                            <p:nvPr/>
                          </p:nvSpPr>
                          <p:spPr>
                            <a:xfrm rot="395400">
                              <a:off x="2318040" y="3249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83" name="Freeform 1528"/>
                            <p:cNvSpPr/>
                            <p:nvPr/>
                          </p:nvSpPr>
                          <p:spPr>
                            <a:xfrm rot="395400">
                              <a:off x="2344320" y="3252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84" name="Group 1529"/>
                          <p:cNvGrpSpPr/>
                          <p:nvPr/>
                        </p:nvGrpSpPr>
                        <p:grpSpPr>
                          <a:xfrm>
                            <a:off x="2384640" y="3254040"/>
                            <a:ext cx="133200" cy="159840"/>
                            <a:chOff x="2384640" y="3254040"/>
                            <a:chExt cx="133200" cy="159840"/>
                          </a:xfrm>
                        </p:grpSpPr>
                        <p:sp>
                          <p:nvSpPr>
                            <p:cNvPr id="1885" name="Freeform 1530"/>
                            <p:cNvSpPr/>
                            <p:nvPr/>
                          </p:nvSpPr>
                          <p:spPr>
                            <a:xfrm rot="1501800">
                              <a:off x="2407320" y="32662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86" name="Freeform 1531"/>
                            <p:cNvSpPr/>
                            <p:nvPr/>
                          </p:nvSpPr>
                          <p:spPr>
                            <a:xfrm rot="1501800">
                              <a:off x="2431080" y="32731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887" name="Group 1532"/>
                      <p:cNvGrpSpPr/>
                      <p:nvPr/>
                    </p:nvGrpSpPr>
                    <p:grpSpPr>
                      <a:xfrm>
                        <a:off x="2403360" y="3231720"/>
                        <a:ext cx="528120" cy="238320"/>
                        <a:chOff x="2403360" y="3231720"/>
                        <a:chExt cx="528120" cy="238320"/>
                      </a:xfrm>
                    </p:grpSpPr>
                    <p:grpSp>
                      <p:nvGrpSpPr>
                        <p:cNvPr id="1888" name="Group 1533"/>
                        <p:cNvGrpSpPr/>
                        <p:nvPr/>
                      </p:nvGrpSpPr>
                      <p:grpSpPr>
                        <a:xfrm>
                          <a:off x="2666160" y="3259800"/>
                          <a:ext cx="265320" cy="210240"/>
                          <a:chOff x="2666160" y="3259800"/>
                          <a:chExt cx="265320" cy="210240"/>
                        </a:xfrm>
                      </p:grpSpPr>
                      <p:grpSp>
                        <p:nvGrpSpPr>
                          <p:cNvPr id="1889" name="Group 1534"/>
                          <p:cNvGrpSpPr/>
                          <p:nvPr/>
                        </p:nvGrpSpPr>
                        <p:grpSpPr>
                          <a:xfrm>
                            <a:off x="2666160" y="3259800"/>
                            <a:ext cx="104400" cy="147600"/>
                            <a:chOff x="2666160" y="3259800"/>
                            <a:chExt cx="104400" cy="147600"/>
                          </a:xfrm>
                        </p:grpSpPr>
                        <p:sp>
                          <p:nvSpPr>
                            <p:cNvPr id="1890" name="Freeform 1535"/>
                            <p:cNvSpPr/>
                            <p:nvPr/>
                          </p:nvSpPr>
                          <p:spPr>
                            <a:xfrm rot="500400">
                              <a:off x="2674800" y="32652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1" name="Freeform 1536"/>
                            <p:cNvSpPr/>
                            <p:nvPr/>
                          </p:nvSpPr>
                          <p:spPr>
                            <a:xfrm rot="500400">
                              <a:off x="2700720" y="32684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92" name="Group 1537"/>
                          <p:cNvGrpSpPr/>
                          <p:nvPr/>
                        </p:nvGrpSpPr>
                        <p:grpSpPr>
                          <a:xfrm>
                            <a:off x="2715480" y="3282840"/>
                            <a:ext cx="118800" cy="154080"/>
                            <a:chOff x="2715480" y="3282840"/>
                            <a:chExt cx="118800" cy="154080"/>
                          </a:xfrm>
                        </p:grpSpPr>
                        <p:sp>
                          <p:nvSpPr>
                            <p:cNvPr id="1893" name="Freeform 1538"/>
                            <p:cNvSpPr/>
                            <p:nvPr/>
                          </p:nvSpPr>
                          <p:spPr>
                            <a:xfrm rot="951000">
                              <a:off x="2730960" y="32922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4" name="Freeform 1539"/>
                            <p:cNvSpPr/>
                            <p:nvPr/>
                          </p:nvSpPr>
                          <p:spPr>
                            <a:xfrm rot="951000">
                              <a:off x="2755440" y="32968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95" name="Group 1540"/>
                          <p:cNvGrpSpPr/>
                          <p:nvPr/>
                        </p:nvGrpSpPr>
                        <p:grpSpPr>
                          <a:xfrm>
                            <a:off x="2787480" y="3309840"/>
                            <a:ext cx="144000" cy="160200"/>
                            <a:chOff x="2787480" y="3309840"/>
                            <a:chExt cx="144000" cy="160200"/>
                          </a:xfrm>
                        </p:grpSpPr>
                        <p:sp>
                          <p:nvSpPr>
                            <p:cNvPr id="1896" name="Freeform 1541"/>
                            <p:cNvSpPr/>
                            <p:nvPr/>
                          </p:nvSpPr>
                          <p:spPr>
                            <a:xfrm rot="2057400">
                              <a:off x="2815560" y="33231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7" name="Freeform 1542"/>
                            <p:cNvSpPr/>
                            <p:nvPr/>
                          </p:nvSpPr>
                          <p:spPr>
                            <a:xfrm rot="2057400">
                              <a:off x="2838240" y="33307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898" name="Group 1543"/>
                        <p:cNvGrpSpPr/>
                        <p:nvPr/>
                      </p:nvGrpSpPr>
                      <p:grpSpPr>
                        <a:xfrm>
                          <a:off x="2403360" y="3231720"/>
                          <a:ext cx="259920" cy="182160"/>
                          <a:chOff x="2403360" y="3231720"/>
                          <a:chExt cx="259920" cy="182160"/>
                        </a:xfrm>
                      </p:grpSpPr>
                      <p:grpSp>
                        <p:nvGrpSpPr>
                          <p:cNvPr id="1899" name="Group 1544"/>
                          <p:cNvGrpSpPr/>
                          <p:nvPr/>
                        </p:nvGrpSpPr>
                        <p:grpSpPr>
                          <a:xfrm>
                            <a:off x="2573640" y="3231720"/>
                            <a:ext cx="89640" cy="137520"/>
                            <a:chOff x="2573640" y="3231720"/>
                            <a:chExt cx="89640" cy="137520"/>
                          </a:xfrm>
                        </p:grpSpPr>
                        <p:sp>
                          <p:nvSpPr>
                            <p:cNvPr id="1900" name="Freeform 1545"/>
                            <p:cNvSpPr/>
                            <p:nvPr/>
                          </p:nvSpPr>
                          <p:spPr>
                            <a:xfrm flipH="1" rot="55200">
                              <a:off x="2574000" y="32320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01" name="Freeform 1546"/>
                            <p:cNvSpPr/>
                            <p:nvPr/>
                          </p:nvSpPr>
                          <p:spPr>
                            <a:xfrm flipH="1" rot="55200">
                              <a:off x="2578680" y="32335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02" name="Group 1547"/>
                          <p:cNvGrpSpPr/>
                          <p:nvPr/>
                        </p:nvGrpSpPr>
                        <p:grpSpPr>
                          <a:xfrm>
                            <a:off x="2508480" y="3245400"/>
                            <a:ext cx="101520" cy="145440"/>
                            <a:chOff x="2508480" y="3245400"/>
                            <a:chExt cx="101520" cy="145440"/>
                          </a:xfrm>
                        </p:grpSpPr>
                        <p:sp>
                          <p:nvSpPr>
                            <p:cNvPr id="1903" name="Freeform 1548"/>
                            <p:cNvSpPr/>
                            <p:nvPr/>
                          </p:nvSpPr>
                          <p:spPr>
                            <a:xfrm flipH="1" rot="21204600">
                              <a:off x="2515320" y="3249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04" name="Freeform 1549"/>
                            <p:cNvSpPr/>
                            <p:nvPr/>
                          </p:nvSpPr>
                          <p:spPr>
                            <a:xfrm flipH="1" rot="21204600">
                              <a:off x="2519280" y="3252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05" name="Group 1550"/>
                          <p:cNvGrpSpPr/>
                          <p:nvPr/>
                        </p:nvGrpSpPr>
                        <p:grpSpPr>
                          <a:xfrm>
                            <a:off x="2403360" y="3254040"/>
                            <a:ext cx="133200" cy="159840"/>
                            <a:chOff x="2403360" y="3254040"/>
                            <a:chExt cx="133200" cy="159840"/>
                          </a:xfrm>
                        </p:grpSpPr>
                        <p:sp>
                          <p:nvSpPr>
                            <p:cNvPr id="1906" name="Freeform 1551"/>
                            <p:cNvSpPr/>
                            <p:nvPr/>
                          </p:nvSpPr>
                          <p:spPr>
                            <a:xfrm flipH="1" rot="20098200">
                              <a:off x="2426040" y="32662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07" name="Freeform 1552"/>
                            <p:cNvSpPr/>
                            <p:nvPr/>
                          </p:nvSpPr>
                          <p:spPr>
                            <a:xfrm flipH="1" rot="20098200">
                              <a:off x="2433240" y="32731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908" name="Group 1553"/>
                    <p:cNvGrpSpPr/>
                    <p:nvPr/>
                  </p:nvGrpSpPr>
                  <p:grpSpPr>
                    <a:xfrm>
                      <a:off x="1482120" y="3213000"/>
                      <a:ext cx="941760" cy="238320"/>
                      <a:chOff x="1482120" y="3213000"/>
                      <a:chExt cx="941760" cy="238320"/>
                    </a:xfrm>
                  </p:grpSpPr>
                  <p:grpSp>
                    <p:nvGrpSpPr>
                      <p:cNvPr id="1909" name="Group 1554"/>
                      <p:cNvGrpSpPr/>
                      <p:nvPr/>
                    </p:nvGrpSpPr>
                    <p:grpSpPr>
                      <a:xfrm>
                        <a:off x="1482120" y="3213000"/>
                        <a:ext cx="528120" cy="238320"/>
                        <a:chOff x="1482120" y="3213000"/>
                        <a:chExt cx="528120" cy="238320"/>
                      </a:xfrm>
                    </p:grpSpPr>
                    <p:grpSp>
                      <p:nvGrpSpPr>
                        <p:cNvPr id="1910" name="Group 1555"/>
                        <p:cNvGrpSpPr/>
                        <p:nvPr/>
                      </p:nvGrpSpPr>
                      <p:grpSpPr>
                        <a:xfrm>
                          <a:off x="1482120" y="3241080"/>
                          <a:ext cx="265680" cy="210240"/>
                          <a:chOff x="1482120" y="3241080"/>
                          <a:chExt cx="265680" cy="210240"/>
                        </a:xfrm>
                      </p:grpSpPr>
                      <p:grpSp>
                        <p:nvGrpSpPr>
                          <p:cNvPr id="1911" name="Group 1556"/>
                          <p:cNvGrpSpPr/>
                          <p:nvPr/>
                        </p:nvGrpSpPr>
                        <p:grpSpPr>
                          <a:xfrm>
                            <a:off x="1643040" y="3241080"/>
                            <a:ext cx="104760" cy="147600"/>
                            <a:chOff x="1643040" y="3241080"/>
                            <a:chExt cx="104760" cy="147600"/>
                          </a:xfrm>
                        </p:grpSpPr>
                        <p:sp>
                          <p:nvSpPr>
                            <p:cNvPr id="1912" name="Freeform 1557"/>
                            <p:cNvSpPr/>
                            <p:nvPr/>
                          </p:nvSpPr>
                          <p:spPr>
                            <a:xfrm flipH="1" rot="21099600">
                              <a:off x="1651680" y="3246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13" name="Freeform 1558"/>
                            <p:cNvSpPr/>
                            <p:nvPr/>
                          </p:nvSpPr>
                          <p:spPr>
                            <a:xfrm flipH="1" rot="21099600">
                              <a:off x="1656000" y="3249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14" name="Group 1559"/>
                          <p:cNvGrpSpPr/>
                          <p:nvPr/>
                        </p:nvGrpSpPr>
                        <p:grpSpPr>
                          <a:xfrm>
                            <a:off x="1579320" y="3264120"/>
                            <a:ext cx="119160" cy="154080"/>
                            <a:chOff x="1579320" y="3264120"/>
                            <a:chExt cx="119160" cy="154080"/>
                          </a:xfrm>
                        </p:grpSpPr>
                        <p:sp>
                          <p:nvSpPr>
                            <p:cNvPr id="1915" name="Freeform 1560"/>
                            <p:cNvSpPr/>
                            <p:nvPr/>
                          </p:nvSpPr>
                          <p:spPr>
                            <a:xfrm flipH="1" rot="20649000">
                              <a:off x="1594440" y="3273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16" name="Freeform 1561"/>
                            <p:cNvSpPr/>
                            <p:nvPr/>
                          </p:nvSpPr>
                          <p:spPr>
                            <a:xfrm flipH="1" rot="20649000">
                              <a:off x="1600560" y="3278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17" name="Group 1562"/>
                          <p:cNvGrpSpPr/>
                          <p:nvPr/>
                        </p:nvGrpSpPr>
                        <p:grpSpPr>
                          <a:xfrm>
                            <a:off x="1482120" y="3291120"/>
                            <a:ext cx="144000" cy="160200"/>
                            <a:chOff x="1482120" y="3291120"/>
                            <a:chExt cx="144000" cy="160200"/>
                          </a:xfrm>
                        </p:grpSpPr>
                        <p:sp>
                          <p:nvSpPr>
                            <p:cNvPr id="1918" name="Freeform 1563"/>
                            <p:cNvSpPr/>
                            <p:nvPr/>
                          </p:nvSpPr>
                          <p:spPr>
                            <a:xfrm flipH="1" rot="19542600">
                              <a:off x="1510200" y="3304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19" name="Freeform 1564"/>
                            <p:cNvSpPr/>
                            <p:nvPr/>
                          </p:nvSpPr>
                          <p:spPr>
                            <a:xfrm flipH="1" rot="19542600">
                              <a:off x="1518120" y="3312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20" name="Group 1565"/>
                        <p:cNvGrpSpPr/>
                        <p:nvPr/>
                      </p:nvGrpSpPr>
                      <p:grpSpPr>
                        <a:xfrm>
                          <a:off x="1750320" y="3213000"/>
                          <a:ext cx="259920" cy="182160"/>
                          <a:chOff x="1750320" y="3213000"/>
                          <a:chExt cx="259920" cy="182160"/>
                        </a:xfrm>
                      </p:grpSpPr>
                      <p:grpSp>
                        <p:nvGrpSpPr>
                          <p:cNvPr id="1921" name="Group 1566"/>
                          <p:cNvGrpSpPr/>
                          <p:nvPr/>
                        </p:nvGrpSpPr>
                        <p:grpSpPr>
                          <a:xfrm>
                            <a:off x="1750320" y="3213000"/>
                            <a:ext cx="89640" cy="137520"/>
                            <a:chOff x="1750320" y="3213000"/>
                            <a:chExt cx="89640" cy="137520"/>
                          </a:xfrm>
                        </p:grpSpPr>
                        <p:sp>
                          <p:nvSpPr>
                            <p:cNvPr id="1922" name="Freeform 1567"/>
                            <p:cNvSpPr/>
                            <p:nvPr/>
                          </p:nvSpPr>
                          <p:spPr>
                            <a:xfrm rot="21544800">
                              <a:off x="1751040" y="3213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3" name="Freeform 1568"/>
                            <p:cNvSpPr/>
                            <p:nvPr/>
                          </p:nvSpPr>
                          <p:spPr>
                            <a:xfrm rot="21544800">
                              <a:off x="1778040" y="3214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24" name="Group 1569"/>
                          <p:cNvGrpSpPr/>
                          <p:nvPr/>
                        </p:nvGrpSpPr>
                        <p:grpSpPr>
                          <a:xfrm>
                            <a:off x="1803600" y="3226680"/>
                            <a:ext cx="101520" cy="145440"/>
                            <a:chOff x="1803600" y="3226680"/>
                            <a:chExt cx="101520" cy="145440"/>
                          </a:xfrm>
                        </p:grpSpPr>
                        <p:sp>
                          <p:nvSpPr>
                            <p:cNvPr id="1925" name="Freeform 1570"/>
                            <p:cNvSpPr/>
                            <p:nvPr/>
                          </p:nvSpPr>
                          <p:spPr>
                            <a:xfrm rot="395400">
                              <a:off x="1810440" y="3231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6" name="Freeform 1571"/>
                            <p:cNvSpPr/>
                            <p:nvPr/>
                          </p:nvSpPr>
                          <p:spPr>
                            <a:xfrm rot="395400">
                              <a:off x="1836720" y="3233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27" name="Group 1572"/>
                          <p:cNvGrpSpPr/>
                          <p:nvPr/>
                        </p:nvGrpSpPr>
                        <p:grpSpPr>
                          <a:xfrm>
                            <a:off x="1877040" y="3235320"/>
                            <a:ext cx="133200" cy="159840"/>
                            <a:chOff x="1877040" y="3235320"/>
                            <a:chExt cx="133200" cy="159840"/>
                          </a:xfrm>
                        </p:grpSpPr>
                        <p:sp>
                          <p:nvSpPr>
                            <p:cNvPr id="1928" name="Freeform 1573"/>
                            <p:cNvSpPr/>
                            <p:nvPr/>
                          </p:nvSpPr>
                          <p:spPr>
                            <a:xfrm rot="1501800">
                              <a:off x="1899720" y="3247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9" name="Freeform 1574"/>
                            <p:cNvSpPr/>
                            <p:nvPr/>
                          </p:nvSpPr>
                          <p:spPr>
                            <a:xfrm rot="1501800">
                              <a:off x="1923480" y="3254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930" name="Group 1575"/>
                      <p:cNvGrpSpPr/>
                      <p:nvPr/>
                    </p:nvGrpSpPr>
                    <p:grpSpPr>
                      <a:xfrm>
                        <a:off x="1895760" y="3213000"/>
                        <a:ext cx="528120" cy="238320"/>
                        <a:chOff x="1895760" y="3213000"/>
                        <a:chExt cx="528120" cy="238320"/>
                      </a:xfrm>
                    </p:grpSpPr>
                    <p:grpSp>
                      <p:nvGrpSpPr>
                        <p:cNvPr id="1931" name="Group 1576"/>
                        <p:cNvGrpSpPr/>
                        <p:nvPr/>
                      </p:nvGrpSpPr>
                      <p:grpSpPr>
                        <a:xfrm>
                          <a:off x="2158560" y="3241080"/>
                          <a:ext cx="265320" cy="210240"/>
                          <a:chOff x="2158560" y="3241080"/>
                          <a:chExt cx="265320" cy="210240"/>
                        </a:xfrm>
                      </p:grpSpPr>
                      <p:grpSp>
                        <p:nvGrpSpPr>
                          <p:cNvPr id="1932" name="Group 1577"/>
                          <p:cNvGrpSpPr/>
                          <p:nvPr/>
                        </p:nvGrpSpPr>
                        <p:grpSpPr>
                          <a:xfrm>
                            <a:off x="2158560" y="3241080"/>
                            <a:ext cx="104400" cy="147600"/>
                            <a:chOff x="2158560" y="3241080"/>
                            <a:chExt cx="104400" cy="147600"/>
                          </a:xfrm>
                        </p:grpSpPr>
                        <p:sp>
                          <p:nvSpPr>
                            <p:cNvPr id="1933" name="Freeform 1578"/>
                            <p:cNvSpPr/>
                            <p:nvPr/>
                          </p:nvSpPr>
                          <p:spPr>
                            <a:xfrm rot="500400">
                              <a:off x="2167200" y="3246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34" name="Freeform 1579"/>
                            <p:cNvSpPr/>
                            <p:nvPr/>
                          </p:nvSpPr>
                          <p:spPr>
                            <a:xfrm rot="500400">
                              <a:off x="2193120" y="3249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35" name="Group 1580"/>
                          <p:cNvGrpSpPr/>
                          <p:nvPr/>
                        </p:nvGrpSpPr>
                        <p:grpSpPr>
                          <a:xfrm>
                            <a:off x="2207880" y="3264120"/>
                            <a:ext cx="118800" cy="154080"/>
                            <a:chOff x="2207880" y="3264120"/>
                            <a:chExt cx="118800" cy="154080"/>
                          </a:xfrm>
                        </p:grpSpPr>
                        <p:sp>
                          <p:nvSpPr>
                            <p:cNvPr id="1936" name="Freeform 1581"/>
                            <p:cNvSpPr/>
                            <p:nvPr/>
                          </p:nvSpPr>
                          <p:spPr>
                            <a:xfrm rot="951000">
                              <a:off x="2223360" y="3273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37" name="Freeform 1582"/>
                            <p:cNvSpPr/>
                            <p:nvPr/>
                          </p:nvSpPr>
                          <p:spPr>
                            <a:xfrm rot="951000">
                              <a:off x="2247840" y="3278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38" name="Group 1583"/>
                          <p:cNvGrpSpPr/>
                          <p:nvPr/>
                        </p:nvGrpSpPr>
                        <p:grpSpPr>
                          <a:xfrm>
                            <a:off x="2279880" y="3291120"/>
                            <a:ext cx="144000" cy="160200"/>
                            <a:chOff x="2279880" y="3291120"/>
                            <a:chExt cx="144000" cy="160200"/>
                          </a:xfrm>
                        </p:grpSpPr>
                        <p:sp>
                          <p:nvSpPr>
                            <p:cNvPr id="1939" name="Freeform 1584"/>
                            <p:cNvSpPr/>
                            <p:nvPr/>
                          </p:nvSpPr>
                          <p:spPr>
                            <a:xfrm rot="2057400">
                              <a:off x="2307960" y="3304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0" name="Freeform 1585"/>
                            <p:cNvSpPr/>
                            <p:nvPr/>
                          </p:nvSpPr>
                          <p:spPr>
                            <a:xfrm rot="2057400">
                              <a:off x="2330640" y="33120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41" name="Group 1586"/>
                        <p:cNvGrpSpPr/>
                        <p:nvPr/>
                      </p:nvGrpSpPr>
                      <p:grpSpPr>
                        <a:xfrm>
                          <a:off x="1895760" y="3213000"/>
                          <a:ext cx="259920" cy="182160"/>
                          <a:chOff x="1895760" y="3213000"/>
                          <a:chExt cx="259920" cy="182160"/>
                        </a:xfrm>
                      </p:grpSpPr>
                      <p:grpSp>
                        <p:nvGrpSpPr>
                          <p:cNvPr id="1942" name="Group 1587"/>
                          <p:cNvGrpSpPr/>
                          <p:nvPr/>
                        </p:nvGrpSpPr>
                        <p:grpSpPr>
                          <a:xfrm>
                            <a:off x="2066040" y="3213000"/>
                            <a:ext cx="89640" cy="137520"/>
                            <a:chOff x="2066040" y="3213000"/>
                            <a:chExt cx="89640" cy="137520"/>
                          </a:xfrm>
                        </p:grpSpPr>
                        <p:sp>
                          <p:nvSpPr>
                            <p:cNvPr id="1943" name="Freeform 1588"/>
                            <p:cNvSpPr/>
                            <p:nvPr/>
                          </p:nvSpPr>
                          <p:spPr>
                            <a:xfrm flipH="1" rot="55200">
                              <a:off x="2066400" y="3213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4" name="Freeform 1589"/>
                            <p:cNvSpPr/>
                            <p:nvPr/>
                          </p:nvSpPr>
                          <p:spPr>
                            <a:xfrm flipH="1" rot="55200">
                              <a:off x="2071080" y="3214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45" name="Group 1590"/>
                          <p:cNvGrpSpPr/>
                          <p:nvPr/>
                        </p:nvGrpSpPr>
                        <p:grpSpPr>
                          <a:xfrm>
                            <a:off x="2000880" y="3226680"/>
                            <a:ext cx="101520" cy="145440"/>
                            <a:chOff x="2000880" y="3226680"/>
                            <a:chExt cx="101520" cy="145440"/>
                          </a:xfrm>
                        </p:grpSpPr>
                        <p:sp>
                          <p:nvSpPr>
                            <p:cNvPr id="1946" name="Freeform 1591"/>
                            <p:cNvSpPr/>
                            <p:nvPr/>
                          </p:nvSpPr>
                          <p:spPr>
                            <a:xfrm flipH="1" rot="21204600">
                              <a:off x="2007720" y="3231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7" name="Freeform 1592"/>
                            <p:cNvSpPr/>
                            <p:nvPr/>
                          </p:nvSpPr>
                          <p:spPr>
                            <a:xfrm flipH="1" rot="21204600">
                              <a:off x="2011680" y="3233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48" name="Group 1593"/>
                          <p:cNvGrpSpPr/>
                          <p:nvPr/>
                        </p:nvGrpSpPr>
                        <p:grpSpPr>
                          <a:xfrm>
                            <a:off x="1895760" y="3235320"/>
                            <a:ext cx="133200" cy="159840"/>
                            <a:chOff x="1895760" y="3235320"/>
                            <a:chExt cx="133200" cy="159840"/>
                          </a:xfrm>
                        </p:grpSpPr>
                        <p:sp>
                          <p:nvSpPr>
                            <p:cNvPr id="1949" name="Freeform 1594"/>
                            <p:cNvSpPr/>
                            <p:nvPr/>
                          </p:nvSpPr>
                          <p:spPr>
                            <a:xfrm flipH="1" rot="20098200">
                              <a:off x="1918440" y="3247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50" name="Freeform 1595"/>
                            <p:cNvSpPr/>
                            <p:nvPr/>
                          </p:nvSpPr>
                          <p:spPr>
                            <a:xfrm flipH="1" rot="20098200">
                              <a:off x="1925640" y="3254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951" name="Group 1596"/>
                    <p:cNvGrpSpPr/>
                    <p:nvPr/>
                  </p:nvGrpSpPr>
                  <p:grpSpPr>
                    <a:xfrm>
                      <a:off x="1560600" y="2983320"/>
                      <a:ext cx="941760" cy="238320"/>
                      <a:chOff x="1560600" y="2983320"/>
                      <a:chExt cx="941760" cy="238320"/>
                    </a:xfrm>
                  </p:grpSpPr>
                  <p:grpSp>
                    <p:nvGrpSpPr>
                      <p:cNvPr id="1952" name="Group 1597"/>
                      <p:cNvGrpSpPr/>
                      <p:nvPr/>
                    </p:nvGrpSpPr>
                    <p:grpSpPr>
                      <a:xfrm>
                        <a:off x="1560600" y="2983320"/>
                        <a:ext cx="528120" cy="238320"/>
                        <a:chOff x="1560600" y="2983320"/>
                        <a:chExt cx="528120" cy="238320"/>
                      </a:xfrm>
                    </p:grpSpPr>
                    <p:grpSp>
                      <p:nvGrpSpPr>
                        <p:cNvPr id="1953" name="Group 1598"/>
                        <p:cNvGrpSpPr/>
                        <p:nvPr/>
                      </p:nvGrpSpPr>
                      <p:grpSpPr>
                        <a:xfrm>
                          <a:off x="1560600" y="3011400"/>
                          <a:ext cx="265680" cy="210240"/>
                          <a:chOff x="1560600" y="3011400"/>
                          <a:chExt cx="265680" cy="210240"/>
                        </a:xfrm>
                      </p:grpSpPr>
                      <p:grpSp>
                        <p:nvGrpSpPr>
                          <p:cNvPr id="1954" name="Group 1599"/>
                          <p:cNvGrpSpPr/>
                          <p:nvPr/>
                        </p:nvGrpSpPr>
                        <p:grpSpPr>
                          <a:xfrm>
                            <a:off x="1721520" y="3011400"/>
                            <a:ext cx="104760" cy="147600"/>
                            <a:chOff x="1721520" y="3011400"/>
                            <a:chExt cx="104760" cy="147600"/>
                          </a:xfrm>
                        </p:grpSpPr>
                        <p:sp>
                          <p:nvSpPr>
                            <p:cNvPr id="1955" name="Freeform 1600"/>
                            <p:cNvSpPr/>
                            <p:nvPr/>
                          </p:nvSpPr>
                          <p:spPr>
                            <a:xfrm flipH="1" rot="21099600">
                              <a:off x="1730160" y="30168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56" name="Freeform 1601"/>
                            <p:cNvSpPr/>
                            <p:nvPr/>
                          </p:nvSpPr>
                          <p:spPr>
                            <a:xfrm flipH="1" rot="21099600">
                              <a:off x="1734480" y="30200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57" name="Group 1602"/>
                          <p:cNvGrpSpPr/>
                          <p:nvPr/>
                        </p:nvGrpSpPr>
                        <p:grpSpPr>
                          <a:xfrm>
                            <a:off x="1657800" y="3034440"/>
                            <a:ext cx="119160" cy="154080"/>
                            <a:chOff x="1657800" y="3034440"/>
                            <a:chExt cx="119160" cy="154080"/>
                          </a:xfrm>
                        </p:grpSpPr>
                        <p:sp>
                          <p:nvSpPr>
                            <p:cNvPr id="1958" name="Freeform 1603"/>
                            <p:cNvSpPr/>
                            <p:nvPr/>
                          </p:nvSpPr>
                          <p:spPr>
                            <a:xfrm flipH="1" rot="20649000">
                              <a:off x="1672920" y="30438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59" name="Freeform 1604"/>
                            <p:cNvSpPr/>
                            <p:nvPr/>
                          </p:nvSpPr>
                          <p:spPr>
                            <a:xfrm flipH="1" rot="20649000">
                              <a:off x="1679040" y="30484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60" name="Group 1605"/>
                          <p:cNvGrpSpPr/>
                          <p:nvPr/>
                        </p:nvGrpSpPr>
                        <p:grpSpPr>
                          <a:xfrm>
                            <a:off x="1560600" y="3061440"/>
                            <a:ext cx="144000" cy="160200"/>
                            <a:chOff x="1560600" y="3061440"/>
                            <a:chExt cx="144000" cy="160200"/>
                          </a:xfrm>
                        </p:grpSpPr>
                        <p:sp>
                          <p:nvSpPr>
                            <p:cNvPr id="1961" name="Freeform 1606"/>
                            <p:cNvSpPr/>
                            <p:nvPr/>
                          </p:nvSpPr>
                          <p:spPr>
                            <a:xfrm flipH="1" rot="19542600">
                              <a:off x="1588680" y="3074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2" name="Freeform 1607"/>
                            <p:cNvSpPr/>
                            <p:nvPr/>
                          </p:nvSpPr>
                          <p:spPr>
                            <a:xfrm flipH="1" rot="19542600">
                              <a:off x="1596600" y="30823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63" name="Group 1608"/>
                        <p:cNvGrpSpPr/>
                        <p:nvPr/>
                      </p:nvGrpSpPr>
                      <p:grpSpPr>
                        <a:xfrm>
                          <a:off x="1828800" y="2983320"/>
                          <a:ext cx="259920" cy="182160"/>
                          <a:chOff x="1828800" y="2983320"/>
                          <a:chExt cx="259920" cy="182160"/>
                        </a:xfrm>
                      </p:grpSpPr>
                      <p:grpSp>
                        <p:nvGrpSpPr>
                          <p:cNvPr id="1964" name="Group 1609"/>
                          <p:cNvGrpSpPr/>
                          <p:nvPr/>
                        </p:nvGrpSpPr>
                        <p:grpSpPr>
                          <a:xfrm>
                            <a:off x="1828800" y="2983320"/>
                            <a:ext cx="89640" cy="137520"/>
                            <a:chOff x="1828800" y="2983320"/>
                            <a:chExt cx="89640" cy="137520"/>
                          </a:xfrm>
                        </p:grpSpPr>
                        <p:sp>
                          <p:nvSpPr>
                            <p:cNvPr id="1965" name="Freeform 1610"/>
                            <p:cNvSpPr/>
                            <p:nvPr/>
                          </p:nvSpPr>
                          <p:spPr>
                            <a:xfrm rot="21544800">
                              <a:off x="1829520" y="2984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6" name="Freeform 1611"/>
                            <p:cNvSpPr/>
                            <p:nvPr/>
                          </p:nvSpPr>
                          <p:spPr>
                            <a:xfrm rot="21544800">
                              <a:off x="1856520" y="29851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67" name="Group 1612"/>
                          <p:cNvGrpSpPr/>
                          <p:nvPr/>
                        </p:nvGrpSpPr>
                        <p:grpSpPr>
                          <a:xfrm>
                            <a:off x="1882080" y="2997000"/>
                            <a:ext cx="101520" cy="145440"/>
                            <a:chOff x="1882080" y="2997000"/>
                            <a:chExt cx="101520" cy="145440"/>
                          </a:xfrm>
                        </p:grpSpPr>
                        <p:sp>
                          <p:nvSpPr>
                            <p:cNvPr id="1968" name="Freeform 1613"/>
                            <p:cNvSpPr/>
                            <p:nvPr/>
                          </p:nvSpPr>
                          <p:spPr>
                            <a:xfrm rot="395400">
                              <a:off x="1888920" y="3001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9" name="Freeform 1614"/>
                            <p:cNvSpPr/>
                            <p:nvPr/>
                          </p:nvSpPr>
                          <p:spPr>
                            <a:xfrm rot="395400">
                              <a:off x="1915200" y="3004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70" name="Group 1615"/>
                          <p:cNvGrpSpPr/>
                          <p:nvPr/>
                        </p:nvGrpSpPr>
                        <p:grpSpPr>
                          <a:xfrm>
                            <a:off x="1955520" y="3005640"/>
                            <a:ext cx="133200" cy="159840"/>
                            <a:chOff x="1955520" y="3005640"/>
                            <a:chExt cx="133200" cy="159840"/>
                          </a:xfrm>
                        </p:grpSpPr>
                        <p:sp>
                          <p:nvSpPr>
                            <p:cNvPr id="1971" name="Freeform 1616"/>
                            <p:cNvSpPr/>
                            <p:nvPr/>
                          </p:nvSpPr>
                          <p:spPr>
                            <a:xfrm rot="1501800">
                              <a:off x="1978200" y="3017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72" name="Freeform 1617"/>
                            <p:cNvSpPr/>
                            <p:nvPr/>
                          </p:nvSpPr>
                          <p:spPr>
                            <a:xfrm rot="1501800">
                              <a:off x="2001960" y="30247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973" name="Group 1618"/>
                      <p:cNvGrpSpPr/>
                      <p:nvPr/>
                    </p:nvGrpSpPr>
                    <p:grpSpPr>
                      <a:xfrm>
                        <a:off x="1974240" y="2983320"/>
                        <a:ext cx="528120" cy="238320"/>
                        <a:chOff x="1974240" y="2983320"/>
                        <a:chExt cx="528120" cy="238320"/>
                      </a:xfrm>
                    </p:grpSpPr>
                    <p:grpSp>
                      <p:nvGrpSpPr>
                        <p:cNvPr id="1974" name="Group 1619"/>
                        <p:cNvGrpSpPr/>
                        <p:nvPr/>
                      </p:nvGrpSpPr>
                      <p:grpSpPr>
                        <a:xfrm>
                          <a:off x="2237040" y="3011400"/>
                          <a:ext cx="265320" cy="210240"/>
                          <a:chOff x="2237040" y="3011400"/>
                          <a:chExt cx="265320" cy="210240"/>
                        </a:xfrm>
                      </p:grpSpPr>
                      <p:grpSp>
                        <p:nvGrpSpPr>
                          <p:cNvPr id="1975" name="Group 1620"/>
                          <p:cNvGrpSpPr/>
                          <p:nvPr/>
                        </p:nvGrpSpPr>
                        <p:grpSpPr>
                          <a:xfrm>
                            <a:off x="2237040" y="3011400"/>
                            <a:ext cx="104400" cy="147600"/>
                            <a:chOff x="2237040" y="3011400"/>
                            <a:chExt cx="104400" cy="147600"/>
                          </a:xfrm>
                        </p:grpSpPr>
                        <p:sp>
                          <p:nvSpPr>
                            <p:cNvPr id="1976" name="Freeform 1621"/>
                            <p:cNvSpPr/>
                            <p:nvPr/>
                          </p:nvSpPr>
                          <p:spPr>
                            <a:xfrm rot="500400">
                              <a:off x="2245680" y="30168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77" name="Freeform 1622"/>
                            <p:cNvSpPr/>
                            <p:nvPr/>
                          </p:nvSpPr>
                          <p:spPr>
                            <a:xfrm rot="500400">
                              <a:off x="2271600" y="302004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78" name="Group 1623"/>
                          <p:cNvGrpSpPr/>
                          <p:nvPr/>
                        </p:nvGrpSpPr>
                        <p:grpSpPr>
                          <a:xfrm>
                            <a:off x="2286360" y="3034440"/>
                            <a:ext cx="118800" cy="154080"/>
                            <a:chOff x="2286360" y="3034440"/>
                            <a:chExt cx="118800" cy="154080"/>
                          </a:xfrm>
                        </p:grpSpPr>
                        <p:sp>
                          <p:nvSpPr>
                            <p:cNvPr id="1979" name="Freeform 1624"/>
                            <p:cNvSpPr/>
                            <p:nvPr/>
                          </p:nvSpPr>
                          <p:spPr>
                            <a:xfrm rot="951000">
                              <a:off x="2301840" y="304380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80" name="Freeform 1625"/>
                            <p:cNvSpPr/>
                            <p:nvPr/>
                          </p:nvSpPr>
                          <p:spPr>
                            <a:xfrm rot="951000">
                              <a:off x="2326320" y="30484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81" name="Group 1626"/>
                          <p:cNvGrpSpPr/>
                          <p:nvPr/>
                        </p:nvGrpSpPr>
                        <p:grpSpPr>
                          <a:xfrm>
                            <a:off x="2358360" y="3061440"/>
                            <a:ext cx="144000" cy="160200"/>
                            <a:chOff x="2358360" y="3061440"/>
                            <a:chExt cx="144000" cy="160200"/>
                          </a:xfrm>
                        </p:grpSpPr>
                        <p:sp>
                          <p:nvSpPr>
                            <p:cNvPr id="1982" name="Freeform 1627"/>
                            <p:cNvSpPr/>
                            <p:nvPr/>
                          </p:nvSpPr>
                          <p:spPr>
                            <a:xfrm rot="2057400">
                              <a:off x="2386440" y="3074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83" name="Freeform 1628"/>
                            <p:cNvSpPr/>
                            <p:nvPr/>
                          </p:nvSpPr>
                          <p:spPr>
                            <a:xfrm rot="2057400">
                              <a:off x="2409120" y="308232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84" name="Group 1629"/>
                        <p:cNvGrpSpPr/>
                        <p:nvPr/>
                      </p:nvGrpSpPr>
                      <p:grpSpPr>
                        <a:xfrm>
                          <a:off x="1974240" y="2983320"/>
                          <a:ext cx="259920" cy="182160"/>
                          <a:chOff x="1974240" y="2983320"/>
                          <a:chExt cx="259920" cy="182160"/>
                        </a:xfrm>
                      </p:grpSpPr>
                      <p:grpSp>
                        <p:nvGrpSpPr>
                          <p:cNvPr id="1985" name="Group 1630"/>
                          <p:cNvGrpSpPr/>
                          <p:nvPr/>
                        </p:nvGrpSpPr>
                        <p:grpSpPr>
                          <a:xfrm>
                            <a:off x="2144520" y="2983320"/>
                            <a:ext cx="89640" cy="137520"/>
                            <a:chOff x="2144520" y="2983320"/>
                            <a:chExt cx="89640" cy="137520"/>
                          </a:xfrm>
                        </p:grpSpPr>
                        <p:sp>
                          <p:nvSpPr>
                            <p:cNvPr id="1986" name="Freeform 1631"/>
                            <p:cNvSpPr/>
                            <p:nvPr/>
                          </p:nvSpPr>
                          <p:spPr>
                            <a:xfrm flipH="1" rot="55200">
                              <a:off x="2144880" y="29836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87" name="Freeform 1632"/>
                            <p:cNvSpPr/>
                            <p:nvPr/>
                          </p:nvSpPr>
                          <p:spPr>
                            <a:xfrm flipH="1" rot="55200">
                              <a:off x="2149560" y="29851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88" name="Group 1633"/>
                          <p:cNvGrpSpPr/>
                          <p:nvPr/>
                        </p:nvGrpSpPr>
                        <p:grpSpPr>
                          <a:xfrm>
                            <a:off x="2079360" y="2997000"/>
                            <a:ext cx="101520" cy="145440"/>
                            <a:chOff x="2079360" y="2997000"/>
                            <a:chExt cx="101520" cy="145440"/>
                          </a:xfrm>
                        </p:grpSpPr>
                        <p:sp>
                          <p:nvSpPr>
                            <p:cNvPr id="1989" name="Freeform 1634"/>
                            <p:cNvSpPr/>
                            <p:nvPr/>
                          </p:nvSpPr>
                          <p:spPr>
                            <a:xfrm flipH="1" rot="21204600">
                              <a:off x="2086200" y="30013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0" name="Freeform 1635"/>
                            <p:cNvSpPr/>
                            <p:nvPr/>
                          </p:nvSpPr>
                          <p:spPr>
                            <a:xfrm flipH="1" rot="21204600">
                              <a:off x="2090160" y="3004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91" name="Group 1636"/>
                          <p:cNvGrpSpPr/>
                          <p:nvPr/>
                        </p:nvGrpSpPr>
                        <p:grpSpPr>
                          <a:xfrm>
                            <a:off x="1974240" y="3005640"/>
                            <a:ext cx="133200" cy="159840"/>
                            <a:chOff x="1974240" y="3005640"/>
                            <a:chExt cx="133200" cy="159840"/>
                          </a:xfrm>
                        </p:grpSpPr>
                        <p:sp>
                          <p:nvSpPr>
                            <p:cNvPr id="1992" name="Freeform 1637"/>
                            <p:cNvSpPr/>
                            <p:nvPr/>
                          </p:nvSpPr>
                          <p:spPr>
                            <a:xfrm flipH="1" rot="20098200">
                              <a:off x="1996920" y="30178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3" name="Freeform 1638"/>
                            <p:cNvSpPr/>
                            <p:nvPr/>
                          </p:nvSpPr>
                          <p:spPr>
                            <a:xfrm flipH="1" rot="20098200">
                              <a:off x="2004120" y="30247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994" name="Group 1639"/>
                    <p:cNvGrpSpPr/>
                    <p:nvPr/>
                  </p:nvGrpSpPr>
                  <p:grpSpPr>
                    <a:xfrm>
                      <a:off x="1560600" y="3942000"/>
                      <a:ext cx="941760" cy="238320"/>
                      <a:chOff x="1560600" y="3942000"/>
                      <a:chExt cx="941760" cy="238320"/>
                    </a:xfrm>
                  </p:grpSpPr>
                  <p:grpSp>
                    <p:nvGrpSpPr>
                      <p:cNvPr id="1995" name="Group 1640"/>
                      <p:cNvGrpSpPr/>
                      <p:nvPr/>
                    </p:nvGrpSpPr>
                    <p:grpSpPr>
                      <a:xfrm>
                        <a:off x="1560600" y="3942000"/>
                        <a:ext cx="528120" cy="238320"/>
                        <a:chOff x="1560600" y="3942000"/>
                        <a:chExt cx="528120" cy="238320"/>
                      </a:xfrm>
                    </p:grpSpPr>
                    <p:grpSp>
                      <p:nvGrpSpPr>
                        <p:cNvPr id="1996" name="Group 1641"/>
                        <p:cNvGrpSpPr/>
                        <p:nvPr/>
                      </p:nvGrpSpPr>
                      <p:grpSpPr>
                        <a:xfrm>
                          <a:off x="1560600" y="3970080"/>
                          <a:ext cx="265680" cy="210240"/>
                          <a:chOff x="1560600" y="3970080"/>
                          <a:chExt cx="265680" cy="210240"/>
                        </a:xfrm>
                      </p:grpSpPr>
                      <p:grpSp>
                        <p:nvGrpSpPr>
                          <p:cNvPr id="1997" name="Group 1642"/>
                          <p:cNvGrpSpPr/>
                          <p:nvPr/>
                        </p:nvGrpSpPr>
                        <p:grpSpPr>
                          <a:xfrm>
                            <a:off x="1721520" y="3970080"/>
                            <a:ext cx="104760" cy="147600"/>
                            <a:chOff x="1721520" y="3970080"/>
                            <a:chExt cx="104760" cy="147600"/>
                          </a:xfrm>
                        </p:grpSpPr>
                        <p:sp>
                          <p:nvSpPr>
                            <p:cNvPr id="1998" name="Freeform 1643"/>
                            <p:cNvSpPr/>
                            <p:nvPr/>
                          </p:nvSpPr>
                          <p:spPr>
                            <a:xfrm flipH="1" rot="21099600">
                              <a:off x="1730160" y="3975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9" name="Freeform 1644"/>
                            <p:cNvSpPr/>
                            <p:nvPr/>
                          </p:nvSpPr>
                          <p:spPr>
                            <a:xfrm flipH="1" rot="21099600">
                              <a:off x="1734480" y="3978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00" name="Group 1645"/>
                          <p:cNvGrpSpPr/>
                          <p:nvPr/>
                        </p:nvGrpSpPr>
                        <p:grpSpPr>
                          <a:xfrm>
                            <a:off x="1657800" y="3993120"/>
                            <a:ext cx="119160" cy="154080"/>
                            <a:chOff x="1657800" y="3993120"/>
                            <a:chExt cx="119160" cy="154080"/>
                          </a:xfrm>
                        </p:grpSpPr>
                        <p:sp>
                          <p:nvSpPr>
                            <p:cNvPr id="2001" name="Freeform 1646"/>
                            <p:cNvSpPr/>
                            <p:nvPr/>
                          </p:nvSpPr>
                          <p:spPr>
                            <a:xfrm flipH="1" rot="20649000">
                              <a:off x="1672920" y="4002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02" name="Freeform 1647"/>
                            <p:cNvSpPr/>
                            <p:nvPr/>
                          </p:nvSpPr>
                          <p:spPr>
                            <a:xfrm flipH="1" rot="20649000">
                              <a:off x="1679040" y="4007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03" name="Group 1648"/>
                          <p:cNvGrpSpPr/>
                          <p:nvPr/>
                        </p:nvGrpSpPr>
                        <p:grpSpPr>
                          <a:xfrm>
                            <a:off x="1560600" y="4020120"/>
                            <a:ext cx="144000" cy="160200"/>
                            <a:chOff x="1560600" y="4020120"/>
                            <a:chExt cx="144000" cy="160200"/>
                          </a:xfrm>
                        </p:grpSpPr>
                        <p:sp>
                          <p:nvSpPr>
                            <p:cNvPr id="2004" name="Freeform 1649"/>
                            <p:cNvSpPr/>
                            <p:nvPr/>
                          </p:nvSpPr>
                          <p:spPr>
                            <a:xfrm flipH="1" rot="19542600">
                              <a:off x="1588680" y="4033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05" name="Freeform 1650"/>
                            <p:cNvSpPr/>
                            <p:nvPr/>
                          </p:nvSpPr>
                          <p:spPr>
                            <a:xfrm flipH="1" rot="19542600">
                              <a:off x="1596600" y="4041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06" name="Group 1651"/>
                        <p:cNvGrpSpPr/>
                        <p:nvPr/>
                      </p:nvGrpSpPr>
                      <p:grpSpPr>
                        <a:xfrm>
                          <a:off x="1828800" y="3942000"/>
                          <a:ext cx="259920" cy="182160"/>
                          <a:chOff x="1828800" y="3942000"/>
                          <a:chExt cx="259920" cy="182160"/>
                        </a:xfrm>
                      </p:grpSpPr>
                      <p:grpSp>
                        <p:nvGrpSpPr>
                          <p:cNvPr id="2007" name="Group 1652"/>
                          <p:cNvGrpSpPr/>
                          <p:nvPr/>
                        </p:nvGrpSpPr>
                        <p:grpSpPr>
                          <a:xfrm>
                            <a:off x="1828800" y="3942000"/>
                            <a:ext cx="89640" cy="137520"/>
                            <a:chOff x="1828800" y="3942000"/>
                            <a:chExt cx="89640" cy="137520"/>
                          </a:xfrm>
                        </p:grpSpPr>
                        <p:sp>
                          <p:nvSpPr>
                            <p:cNvPr id="2008" name="Freeform 1653"/>
                            <p:cNvSpPr/>
                            <p:nvPr/>
                          </p:nvSpPr>
                          <p:spPr>
                            <a:xfrm rot="21544800">
                              <a:off x="1829520" y="3942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09" name="Freeform 1654"/>
                            <p:cNvSpPr/>
                            <p:nvPr/>
                          </p:nvSpPr>
                          <p:spPr>
                            <a:xfrm rot="21544800">
                              <a:off x="1856520" y="3943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10" name="Group 1655"/>
                          <p:cNvGrpSpPr/>
                          <p:nvPr/>
                        </p:nvGrpSpPr>
                        <p:grpSpPr>
                          <a:xfrm>
                            <a:off x="1882080" y="3955680"/>
                            <a:ext cx="101520" cy="145440"/>
                            <a:chOff x="1882080" y="3955680"/>
                            <a:chExt cx="101520" cy="145440"/>
                          </a:xfrm>
                        </p:grpSpPr>
                        <p:sp>
                          <p:nvSpPr>
                            <p:cNvPr id="2011" name="Freeform 1656"/>
                            <p:cNvSpPr/>
                            <p:nvPr/>
                          </p:nvSpPr>
                          <p:spPr>
                            <a:xfrm rot="395400">
                              <a:off x="1888920" y="3960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12" name="Freeform 1657"/>
                            <p:cNvSpPr/>
                            <p:nvPr/>
                          </p:nvSpPr>
                          <p:spPr>
                            <a:xfrm rot="395400">
                              <a:off x="1915200" y="3962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13" name="Group 1658"/>
                          <p:cNvGrpSpPr/>
                          <p:nvPr/>
                        </p:nvGrpSpPr>
                        <p:grpSpPr>
                          <a:xfrm>
                            <a:off x="1955520" y="3964320"/>
                            <a:ext cx="133200" cy="159840"/>
                            <a:chOff x="1955520" y="3964320"/>
                            <a:chExt cx="133200" cy="159840"/>
                          </a:xfrm>
                        </p:grpSpPr>
                        <p:sp>
                          <p:nvSpPr>
                            <p:cNvPr id="2014" name="Freeform 1659"/>
                            <p:cNvSpPr/>
                            <p:nvPr/>
                          </p:nvSpPr>
                          <p:spPr>
                            <a:xfrm rot="1501800">
                              <a:off x="1978200" y="3976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15" name="Freeform 1660"/>
                            <p:cNvSpPr/>
                            <p:nvPr/>
                          </p:nvSpPr>
                          <p:spPr>
                            <a:xfrm rot="1501800">
                              <a:off x="2001960" y="3983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16" name="Group 1661"/>
                      <p:cNvGrpSpPr/>
                      <p:nvPr/>
                    </p:nvGrpSpPr>
                    <p:grpSpPr>
                      <a:xfrm>
                        <a:off x="1974240" y="3942000"/>
                        <a:ext cx="528120" cy="238320"/>
                        <a:chOff x="1974240" y="3942000"/>
                        <a:chExt cx="528120" cy="238320"/>
                      </a:xfrm>
                    </p:grpSpPr>
                    <p:grpSp>
                      <p:nvGrpSpPr>
                        <p:cNvPr id="2017" name="Group 1662"/>
                        <p:cNvGrpSpPr/>
                        <p:nvPr/>
                      </p:nvGrpSpPr>
                      <p:grpSpPr>
                        <a:xfrm>
                          <a:off x="2237040" y="3970080"/>
                          <a:ext cx="265320" cy="210240"/>
                          <a:chOff x="2237040" y="3970080"/>
                          <a:chExt cx="265320" cy="210240"/>
                        </a:xfrm>
                      </p:grpSpPr>
                      <p:grpSp>
                        <p:nvGrpSpPr>
                          <p:cNvPr id="2018" name="Group 1663"/>
                          <p:cNvGrpSpPr/>
                          <p:nvPr/>
                        </p:nvGrpSpPr>
                        <p:grpSpPr>
                          <a:xfrm>
                            <a:off x="2237040" y="3970080"/>
                            <a:ext cx="104400" cy="147600"/>
                            <a:chOff x="2237040" y="3970080"/>
                            <a:chExt cx="104400" cy="147600"/>
                          </a:xfrm>
                        </p:grpSpPr>
                        <p:sp>
                          <p:nvSpPr>
                            <p:cNvPr id="2019" name="Freeform 1664"/>
                            <p:cNvSpPr/>
                            <p:nvPr/>
                          </p:nvSpPr>
                          <p:spPr>
                            <a:xfrm rot="500400">
                              <a:off x="2245680" y="3975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20" name="Freeform 1665"/>
                            <p:cNvSpPr/>
                            <p:nvPr/>
                          </p:nvSpPr>
                          <p:spPr>
                            <a:xfrm rot="500400">
                              <a:off x="2271600" y="3978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21" name="Group 1666"/>
                          <p:cNvGrpSpPr/>
                          <p:nvPr/>
                        </p:nvGrpSpPr>
                        <p:grpSpPr>
                          <a:xfrm>
                            <a:off x="2286360" y="3993120"/>
                            <a:ext cx="118800" cy="154080"/>
                            <a:chOff x="2286360" y="3993120"/>
                            <a:chExt cx="118800" cy="154080"/>
                          </a:xfrm>
                        </p:grpSpPr>
                        <p:sp>
                          <p:nvSpPr>
                            <p:cNvPr id="2022" name="Freeform 1667"/>
                            <p:cNvSpPr/>
                            <p:nvPr/>
                          </p:nvSpPr>
                          <p:spPr>
                            <a:xfrm rot="951000">
                              <a:off x="2301840" y="4002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23" name="Freeform 1668"/>
                            <p:cNvSpPr/>
                            <p:nvPr/>
                          </p:nvSpPr>
                          <p:spPr>
                            <a:xfrm rot="951000">
                              <a:off x="2326320" y="4007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24" name="Group 1669"/>
                          <p:cNvGrpSpPr/>
                          <p:nvPr/>
                        </p:nvGrpSpPr>
                        <p:grpSpPr>
                          <a:xfrm>
                            <a:off x="2358360" y="4020120"/>
                            <a:ext cx="144000" cy="160200"/>
                            <a:chOff x="2358360" y="4020120"/>
                            <a:chExt cx="144000" cy="160200"/>
                          </a:xfrm>
                        </p:grpSpPr>
                        <p:sp>
                          <p:nvSpPr>
                            <p:cNvPr id="2025" name="Freeform 1670"/>
                            <p:cNvSpPr/>
                            <p:nvPr/>
                          </p:nvSpPr>
                          <p:spPr>
                            <a:xfrm rot="2057400">
                              <a:off x="2386440" y="4033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26" name="Freeform 1671"/>
                            <p:cNvSpPr/>
                            <p:nvPr/>
                          </p:nvSpPr>
                          <p:spPr>
                            <a:xfrm rot="2057400">
                              <a:off x="2409120" y="40410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27" name="Group 1672"/>
                        <p:cNvGrpSpPr/>
                        <p:nvPr/>
                      </p:nvGrpSpPr>
                      <p:grpSpPr>
                        <a:xfrm>
                          <a:off x="1974240" y="3942000"/>
                          <a:ext cx="259920" cy="182160"/>
                          <a:chOff x="1974240" y="3942000"/>
                          <a:chExt cx="259920" cy="182160"/>
                        </a:xfrm>
                      </p:grpSpPr>
                      <p:grpSp>
                        <p:nvGrpSpPr>
                          <p:cNvPr id="2028" name="Group 1673"/>
                          <p:cNvGrpSpPr/>
                          <p:nvPr/>
                        </p:nvGrpSpPr>
                        <p:grpSpPr>
                          <a:xfrm>
                            <a:off x="2144520" y="3942000"/>
                            <a:ext cx="89640" cy="137520"/>
                            <a:chOff x="2144520" y="3942000"/>
                            <a:chExt cx="89640" cy="137520"/>
                          </a:xfrm>
                        </p:grpSpPr>
                        <p:sp>
                          <p:nvSpPr>
                            <p:cNvPr id="2029" name="Freeform 1674"/>
                            <p:cNvSpPr/>
                            <p:nvPr/>
                          </p:nvSpPr>
                          <p:spPr>
                            <a:xfrm flipH="1" rot="55200">
                              <a:off x="2144880" y="3942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0" name="Freeform 1675"/>
                            <p:cNvSpPr/>
                            <p:nvPr/>
                          </p:nvSpPr>
                          <p:spPr>
                            <a:xfrm flipH="1" rot="55200">
                              <a:off x="2149560" y="3943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31" name="Group 1676"/>
                          <p:cNvGrpSpPr/>
                          <p:nvPr/>
                        </p:nvGrpSpPr>
                        <p:grpSpPr>
                          <a:xfrm>
                            <a:off x="2079360" y="3955680"/>
                            <a:ext cx="101520" cy="145440"/>
                            <a:chOff x="2079360" y="3955680"/>
                            <a:chExt cx="101520" cy="145440"/>
                          </a:xfrm>
                        </p:grpSpPr>
                        <p:sp>
                          <p:nvSpPr>
                            <p:cNvPr id="2032" name="Freeform 1677"/>
                            <p:cNvSpPr/>
                            <p:nvPr/>
                          </p:nvSpPr>
                          <p:spPr>
                            <a:xfrm flipH="1" rot="21204600">
                              <a:off x="2086200" y="3960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3" name="Freeform 1678"/>
                            <p:cNvSpPr/>
                            <p:nvPr/>
                          </p:nvSpPr>
                          <p:spPr>
                            <a:xfrm flipH="1" rot="21204600">
                              <a:off x="2090160" y="3962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34" name="Group 1679"/>
                          <p:cNvGrpSpPr/>
                          <p:nvPr/>
                        </p:nvGrpSpPr>
                        <p:grpSpPr>
                          <a:xfrm>
                            <a:off x="1974240" y="3964320"/>
                            <a:ext cx="133200" cy="159840"/>
                            <a:chOff x="1974240" y="3964320"/>
                            <a:chExt cx="133200" cy="159840"/>
                          </a:xfrm>
                        </p:grpSpPr>
                        <p:sp>
                          <p:nvSpPr>
                            <p:cNvPr id="2035" name="Freeform 1680"/>
                            <p:cNvSpPr/>
                            <p:nvPr/>
                          </p:nvSpPr>
                          <p:spPr>
                            <a:xfrm flipH="1" rot="20098200">
                              <a:off x="1996920" y="3976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6" name="Freeform 1681"/>
                            <p:cNvSpPr/>
                            <p:nvPr/>
                          </p:nvSpPr>
                          <p:spPr>
                            <a:xfrm flipH="1" rot="20098200">
                              <a:off x="2004120" y="3983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037" name="Group 1682"/>
                    <p:cNvGrpSpPr/>
                    <p:nvPr/>
                  </p:nvGrpSpPr>
                  <p:grpSpPr>
                    <a:xfrm>
                      <a:off x="1716120" y="4095000"/>
                      <a:ext cx="941760" cy="238320"/>
                      <a:chOff x="1716120" y="4095000"/>
                      <a:chExt cx="941760" cy="238320"/>
                    </a:xfrm>
                  </p:grpSpPr>
                  <p:grpSp>
                    <p:nvGrpSpPr>
                      <p:cNvPr id="2038" name="Group 1683"/>
                      <p:cNvGrpSpPr/>
                      <p:nvPr/>
                    </p:nvGrpSpPr>
                    <p:grpSpPr>
                      <a:xfrm>
                        <a:off x="1716120" y="4095000"/>
                        <a:ext cx="528120" cy="238320"/>
                        <a:chOff x="1716120" y="4095000"/>
                        <a:chExt cx="528120" cy="238320"/>
                      </a:xfrm>
                    </p:grpSpPr>
                    <p:grpSp>
                      <p:nvGrpSpPr>
                        <p:cNvPr id="2039" name="Group 1684"/>
                        <p:cNvGrpSpPr/>
                        <p:nvPr/>
                      </p:nvGrpSpPr>
                      <p:grpSpPr>
                        <a:xfrm>
                          <a:off x="1716120" y="4123080"/>
                          <a:ext cx="265680" cy="210240"/>
                          <a:chOff x="1716120" y="4123080"/>
                          <a:chExt cx="265680" cy="210240"/>
                        </a:xfrm>
                      </p:grpSpPr>
                      <p:grpSp>
                        <p:nvGrpSpPr>
                          <p:cNvPr id="2040" name="Group 1685"/>
                          <p:cNvGrpSpPr/>
                          <p:nvPr/>
                        </p:nvGrpSpPr>
                        <p:grpSpPr>
                          <a:xfrm>
                            <a:off x="1877040" y="4123080"/>
                            <a:ext cx="104760" cy="147600"/>
                            <a:chOff x="1877040" y="4123080"/>
                            <a:chExt cx="104760" cy="147600"/>
                          </a:xfrm>
                        </p:grpSpPr>
                        <p:sp>
                          <p:nvSpPr>
                            <p:cNvPr id="2041" name="Freeform 1686"/>
                            <p:cNvSpPr/>
                            <p:nvPr/>
                          </p:nvSpPr>
                          <p:spPr>
                            <a:xfrm flipH="1" rot="21099600">
                              <a:off x="1885680" y="4128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2" name="Freeform 1687"/>
                            <p:cNvSpPr/>
                            <p:nvPr/>
                          </p:nvSpPr>
                          <p:spPr>
                            <a:xfrm flipH="1" rot="21099600">
                              <a:off x="1890000" y="4131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43" name="Group 1688"/>
                          <p:cNvGrpSpPr/>
                          <p:nvPr/>
                        </p:nvGrpSpPr>
                        <p:grpSpPr>
                          <a:xfrm>
                            <a:off x="1813320" y="4146120"/>
                            <a:ext cx="119160" cy="154080"/>
                            <a:chOff x="1813320" y="4146120"/>
                            <a:chExt cx="119160" cy="154080"/>
                          </a:xfrm>
                        </p:grpSpPr>
                        <p:sp>
                          <p:nvSpPr>
                            <p:cNvPr id="2044" name="Freeform 1689"/>
                            <p:cNvSpPr/>
                            <p:nvPr/>
                          </p:nvSpPr>
                          <p:spPr>
                            <a:xfrm flipH="1" rot="20649000">
                              <a:off x="1828440" y="4155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5" name="Freeform 1690"/>
                            <p:cNvSpPr/>
                            <p:nvPr/>
                          </p:nvSpPr>
                          <p:spPr>
                            <a:xfrm flipH="1" rot="20649000">
                              <a:off x="1834560" y="4160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46" name="Group 1691"/>
                          <p:cNvGrpSpPr/>
                          <p:nvPr/>
                        </p:nvGrpSpPr>
                        <p:grpSpPr>
                          <a:xfrm>
                            <a:off x="1716120" y="4173120"/>
                            <a:ext cx="144000" cy="160200"/>
                            <a:chOff x="1716120" y="4173120"/>
                            <a:chExt cx="144000" cy="160200"/>
                          </a:xfrm>
                        </p:grpSpPr>
                        <p:sp>
                          <p:nvSpPr>
                            <p:cNvPr id="2047" name="Freeform 1692"/>
                            <p:cNvSpPr/>
                            <p:nvPr/>
                          </p:nvSpPr>
                          <p:spPr>
                            <a:xfrm flipH="1" rot="19542600">
                              <a:off x="1744200" y="4186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8" name="Freeform 1693"/>
                            <p:cNvSpPr/>
                            <p:nvPr/>
                          </p:nvSpPr>
                          <p:spPr>
                            <a:xfrm flipH="1" rot="19542600">
                              <a:off x="1752120" y="4194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49" name="Group 1694"/>
                        <p:cNvGrpSpPr/>
                        <p:nvPr/>
                      </p:nvGrpSpPr>
                      <p:grpSpPr>
                        <a:xfrm>
                          <a:off x="1984320" y="4095000"/>
                          <a:ext cx="259920" cy="182160"/>
                          <a:chOff x="1984320" y="4095000"/>
                          <a:chExt cx="259920" cy="182160"/>
                        </a:xfrm>
                      </p:grpSpPr>
                      <p:grpSp>
                        <p:nvGrpSpPr>
                          <p:cNvPr id="2050" name="Group 1695"/>
                          <p:cNvGrpSpPr/>
                          <p:nvPr/>
                        </p:nvGrpSpPr>
                        <p:grpSpPr>
                          <a:xfrm>
                            <a:off x="1984320" y="4095000"/>
                            <a:ext cx="89640" cy="137520"/>
                            <a:chOff x="1984320" y="4095000"/>
                            <a:chExt cx="89640" cy="137520"/>
                          </a:xfrm>
                        </p:grpSpPr>
                        <p:sp>
                          <p:nvSpPr>
                            <p:cNvPr id="2051" name="Freeform 1696"/>
                            <p:cNvSpPr/>
                            <p:nvPr/>
                          </p:nvSpPr>
                          <p:spPr>
                            <a:xfrm rot="21544800">
                              <a:off x="1985040" y="40957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52" name="Freeform 1697"/>
                            <p:cNvSpPr/>
                            <p:nvPr/>
                          </p:nvSpPr>
                          <p:spPr>
                            <a:xfrm rot="21544800">
                              <a:off x="2012040" y="4096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53" name="Group 1698"/>
                          <p:cNvGrpSpPr/>
                          <p:nvPr/>
                        </p:nvGrpSpPr>
                        <p:grpSpPr>
                          <a:xfrm>
                            <a:off x="2037600" y="4108680"/>
                            <a:ext cx="101520" cy="145440"/>
                            <a:chOff x="2037600" y="4108680"/>
                            <a:chExt cx="101520" cy="145440"/>
                          </a:xfrm>
                        </p:grpSpPr>
                        <p:sp>
                          <p:nvSpPr>
                            <p:cNvPr id="2054" name="Freeform 1699"/>
                            <p:cNvSpPr/>
                            <p:nvPr/>
                          </p:nvSpPr>
                          <p:spPr>
                            <a:xfrm rot="395400">
                              <a:off x="2044440" y="4113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55" name="Freeform 1700"/>
                            <p:cNvSpPr/>
                            <p:nvPr/>
                          </p:nvSpPr>
                          <p:spPr>
                            <a:xfrm rot="395400">
                              <a:off x="2070720" y="4115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56" name="Group 1701"/>
                          <p:cNvGrpSpPr/>
                          <p:nvPr/>
                        </p:nvGrpSpPr>
                        <p:grpSpPr>
                          <a:xfrm>
                            <a:off x="2111040" y="4117320"/>
                            <a:ext cx="133200" cy="159840"/>
                            <a:chOff x="2111040" y="4117320"/>
                            <a:chExt cx="133200" cy="159840"/>
                          </a:xfrm>
                        </p:grpSpPr>
                        <p:sp>
                          <p:nvSpPr>
                            <p:cNvPr id="2057" name="Freeform 1702"/>
                            <p:cNvSpPr/>
                            <p:nvPr/>
                          </p:nvSpPr>
                          <p:spPr>
                            <a:xfrm rot="1501800">
                              <a:off x="2133720" y="4129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58" name="Freeform 1703"/>
                            <p:cNvSpPr/>
                            <p:nvPr/>
                          </p:nvSpPr>
                          <p:spPr>
                            <a:xfrm rot="1501800">
                              <a:off x="2157480" y="4136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059" name="Group 1704"/>
                      <p:cNvGrpSpPr/>
                      <p:nvPr/>
                    </p:nvGrpSpPr>
                    <p:grpSpPr>
                      <a:xfrm>
                        <a:off x="2129760" y="4095000"/>
                        <a:ext cx="528120" cy="238320"/>
                        <a:chOff x="2129760" y="4095000"/>
                        <a:chExt cx="528120" cy="238320"/>
                      </a:xfrm>
                    </p:grpSpPr>
                    <p:grpSp>
                      <p:nvGrpSpPr>
                        <p:cNvPr id="2060" name="Group 1705"/>
                        <p:cNvGrpSpPr/>
                        <p:nvPr/>
                      </p:nvGrpSpPr>
                      <p:grpSpPr>
                        <a:xfrm>
                          <a:off x="2392560" y="4123080"/>
                          <a:ext cx="265320" cy="210240"/>
                          <a:chOff x="2392560" y="4123080"/>
                          <a:chExt cx="265320" cy="210240"/>
                        </a:xfrm>
                      </p:grpSpPr>
                      <p:grpSp>
                        <p:nvGrpSpPr>
                          <p:cNvPr id="2061" name="Group 1706"/>
                          <p:cNvGrpSpPr/>
                          <p:nvPr/>
                        </p:nvGrpSpPr>
                        <p:grpSpPr>
                          <a:xfrm>
                            <a:off x="2392560" y="4123080"/>
                            <a:ext cx="104400" cy="147600"/>
                            <a:chOff x="2392560" y="4123080"/>
                            <a:chExt cx="104400" cy="147600"/>
                          </a:xfrm>
                        </p:grpSpPr>
                        <p:sp>
                          <p:nvSpPr>
                            <p:cNvPr id="2062" name="Freeform 1707"/>
                            <p:cNvSpPr/>
                            <p:nvPr/>
                          </p:nvSpPr>
                          <p:spPr>
                            <a:xfrm rot="500400">
                              <a:off x="2401200" y="41284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63" name="Freeform 1708"/>
                            <p:cNvSpPr/>
                            <p:nvPr/>
                          </p:nvSpPr>
                          <p:spPr>
                            <a:xfrm rot="500400">
                              <a:off x="2427120" y="4131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64" name="Group 1709"/>
                          <p:cNvGrpSpPr/>
                          <p:nvPr/>
                        </p:nvGrpSpPr>
                        <p:grpSpPr>
                          <a:xfrm>
                            <a:off x="2441880" y="4146120"/>
                            <a:ext cx="118800" cy="154080"/>
                            <a:chOff x="2441880" y="4146120"/>
                            <a:chExt cx="118800" cy="154080"/>
                          </a:xfrm>
                        </p:grpSpPr>
                        <p:sp>
                          <p:nvSpPr>
                            <p:cNvPr id="2065" name="Freeform 1710"/>
                            <p:cNvSpPr/>
                            <p:nvPr/>
                          </p:nvSpPr>
                          <p:spPr>
                            <a:xfrm rot="951000">
                              <a:off x="2457360" y="41554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66" name="Freeform 1711"/>
                            <p:cNvSpPr/>
                            <p:nvPr/>
                          </p:nvSpPr>
                          <p:spPr>
                            <a:xfrm rot="951000">
                              <a:off x="2481840" y="41601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67" name="Group 1712"/>
                          <p:cNvGrpSpPr/>
                          <p:nvPr/>
                        </p:nvGrpSpPr>
                        <p:grpSpPr>
                          <a:xfrm>
                            <a:off x="2513880" y="4173120"/>
                            <a:ext cx="144000" cy="160200"/>
                            <a:chOff x="2513880" y="4173120"/>
                            <a:chExt cx="144000" cy="160200"/>
                          </a:xfrm>
                        </p:grpSpPr>
                        <p:sp>
                          <p:nvSpPr>
                            <p:cNvPr id="2068" name="Freeform 1713"/>
                            <p:cNvSpPr/>
                            <p:nvPr/>
                          </p:nvSpPr>
                          <p:spPr>
                            <a:xfrm rot="2057400">
                              <a:off x="2541960" y="41864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69" name="Freeform 1714"/>
                            <p:cNvSpPr/>
                            <p:nvPr/>
                          </p:nvSpPr>
                          <p:spPr>
                            <a:xfrm rot="2057400">
                              <a:off x="2564640" y="41940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70" name="Group 1715"/>
                        <p:cNvGrpSpPr/>
                        <p:nvPr/>
                      </p:nvGrpSpPr>
                      <p:grpSpPr>
                        <a:xfrm>
                          <a:off x="2129760" y="4095000"/>
                          <a:ext cx="259920" cy="182160"/>
                          <a:chOff x="2129760" y="4095000"/>
                          <a:chExt cx="259920" cy="182160"/>
                        </a:xfrm>
                      </p:grpSpPr>
                      <p:grpSp>
                        <p:nvGrpSpPr>
                          <p:cNvPr id="2071" name="Group 1716"/>
                          <p:cNvGrpSpPr/>
                          <p:nvPr/>
                        </p:nvGrpSpPr>
                        <p:grpSpPr>
                          <a:xfrm>
                            <a:off x="2300040" y="4095000"/>
                            <a:ext cx="89640" cy="137520"/>
                            <a:chOff x="2300040" y="4095000"/>
                            <a:chExt cx="89640" cy="137520"/>
                          </a:xfrm>
                        </p:grpSpPr>
                        <p:sp>
                          <p:nvSpPr>
                            <p:cNvPr id="2072" name="Freeform 1717"/>
                            <p:cNvSpPr/>
                            <p:nvPr/>
                          </p:nvSpPr>
                          <p:spPr>
                            <a:xfrm flipH="1" rot="55200">
                              <a:off x="2300400" y="40953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73" name="Freeform 1718"/>
                            <p:cNvSpPr/>
                            <p:nvPr/>
                          </p:nvSpPr>
                          <p:spPr>
                            <a:xfrm flipH="1" rot="55200">
                              <a:off x="2305080" y="40968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4" name="Group 1719"/>
                          <p:cNvGrpSpPr/>
                          <p:nvPr/>
                        </p:nvGrpSpPr>
                        <p:grpSpPr>
                          <a:xfrm>
                            <a:off x="2234880" y="4108680"/>
                            <a:ext cx="101520" cy="145440"/>
                            <a:chOff x="2234880" y="4108680"/>
                            <a:chExt cx="101520" cy="145440"/>
                          </a:xfrm>
                        </p:grpSpPr>
                        <p:sp>
                          <p:nvSpPr>
                            <p:cNvPr id="2075" name="Freeform 1720"/>
                            <p:cNvSpPr/>
                            <p:nvPr/>
                          </p:nvSpPr>
                          <p:spPr>
                            <a:xfrm flipH="1" rot="21204600">
                              <a:off x="2241720" y="41130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76" name="Freeform 1721"/>
                            <p:cNvSpPr/>
                            <p:nvPr/>
                          </p:nvSpPr>
                          <p:spPr>
                            <a:xfrm flipH="1" rot="21204600">
                              <a:off x="2245680" y="41158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7" name="Group 1722"/>
                          <p:cNvGrpSpPr/>
                          <p:nvPr/>
                        </p:nvGrpSpPr>
                        <p:grpSpPr>
                          <a:xfrm>
                            <a:off x="2129760" y="4117320"/>
                            <a:ext cx="133200" cy="159840"/>
                            <a:chOff x="2129760" y="4117320"/>
                            <a:chExt cx="133200" cy="159840"/>
                          </a:xfrm>
                        </p:grpSpPr>
                        <p:sp>
                          <p:nvSpPr>
                            <p:cNvPr id="2078" name="Freeform 1723"/>
                            <p:cNvSpPr/>
                            <p:nvPr/>
                          </p:nvSpPr>
                          <p:spPr>
                            <a:xfrm flipH="1" rot="20098200">
                              <a:off x="2152440" y="4129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79" name="Freeform 1724"/>
                            <p:cNvSpPr/>
                            <p:nvPr/>
                          </p:nvSpPr>
                          <p:spPr>
                            <a:xfrm flipH="1" rot="20098200">
                              <a:off x="2159640" y="41364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080" name="Group 1725"/>
                    <p:cNvGrpSpPr/>
                    <p:nvPr/>
                  </p:nvGrpSpPr>
                  <p:grpSpPr>
                    <a:xfrm>
                      <a:off x="2145960" y="4210200"/>
                      <a:ext cx="941760" cy="238320"/>
                      <a:chOff x="2145960" y="4210200"/>
                      <a:chExt cx="941760" cy="238320"/>
                    </a:xfrm>
                  </p:grpSpPr>
                  <p:grpSp>
                    <p:nvGrpSpPr>
                      <p:cNvPr id="2081" name="Group 1726"/>
                      <p:cNvGrpSpPr/>
                      <p:nvPr/>
                    </p:nvGrpSpPr>
                    <p:grpSpPr>
                      <a:xfrm>
                        <a:off x="2145960" y="4210200"/>
                        <a:ext cx="528120" cy="238320"/>
                        <a:chOff x="2145960" y="4210200"/>
                        <a:chExt cx="528120" cy="238320"/>
                      </a:xfrm>
                    </p:grpSpPr>
                    <p:grpSp>
                      <p:nvGrpSpPr>
                        <p:cNvPr id="2082" name="Group 1727"/>
                        <p:cNvGrpSpPr/>
                        <p:nvPr/>
                      </p:nvGrpSpPr>
                      <p:grpSpPr>
                        <a:xfrm>
                          <a:off x="2145960" y="4238280"/>
                          <a:ext cx="265680" cy="210240"/>
                          <a:chOff x="2145960" y="4238280"/>
                          <a:chExt cx="265680" cy="210240"/>
                        </a:xfrm>
                      </p:grpSpPr>
                      <p:grpSp>
                        <p:nvGrpSpPr>
                          <p:cNvPr id="2083" name="Group 1728"/>
                          <p:cNvGrpSpPr/>
                          <p:nvPr/>
                        </p:nvGrpSpPr>
                        <p:grpSpPr>
                          <a:xfrm>
                            <a:off x="2306880" y="4238280"/>
                            <a:ext cx="104760" cy="147600"/>
                            <a:chOff x="2306880" y="4238280"/>
                            <a:chExt cx="104760" cy="147600"/>
                          </a:xfrm>
                        </p:grpSpPr>
                        <p:sp>
                          <p:nvSpPr>
                            <p:cNvPr id="2084" name="Freeform 1729"/>
                            <p:cNvSpPr/>
                            <p:nvPr/>
                          </p:nvSpPr>
                          <p:spPr>
                            <a:xfrm flipH="1" rot="21099600">
                              <a:off x="2315520" y="4243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85" name="Freeform 1730"/>
                            <p:cNvSpPr/>
                            <p:nvPr/>
                          </p:nvSpPr>
                          <p:spPr>
                            <a:xfrm flipH="1" rot="21099600">
                              <a:off x="2319840" y="4246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86" name="Group 1731"/>
                          <p:cNvGrpSpPr/>
                          <p:nvPr/>
                        </p:nvGrpSpPr>
                        <p:grpSpPr>
                          <a:xfrm>
                            <a:off x="2243160" y="4261320"/>
                            <a:ext cx="119160" cy="154080"/>
                            <a:chOff x="2243160" y="4261320"/>
                            <a:chExt cx="119160" cy="154080"/>
                          </a:xfrm>
                        </p:grpSpPr>
                        <p:sp>
                          <p:nvSpPr>
                            <p:cNvPr id="2087" name="Freeform 1732"/>
                            <p:cNvSpPr/>
                            <p:nvPr/>
                          </p:nvSpPr>
                          <p:spPr>
                            <a:xfrm flipH="1" rot="20649000">
                              <a:off x="2258280" y="4270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88" name="Freeform 1733"/>
                            <p:cNvSpPr/>
                            <p:nvPr/>
                          </p:nvSpPr>
                          <p:spPr>
                            <a:xfrm flipH="1" rot="20649000">
                              <a:off x="2264400" y="4275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89" name="Group 1734"/>
                          <p:cNvGrpSpPr/>
                          <p:nvPr/>
                        </p:nvGrpSpPr>
                        <p:grpSpPr>
                          <a:xfrm>
                            <a:off x="2145960" y="4288320"/>
                            <a:ext cx="144000" cy="160200"/>
                            <a:chOff x="2145960" y="4288320"/>
                            <a:chExt cx="144000" cy="160200"/>
                          </a:xfrm>
                        </p:grpSpPr>
                        <p:sp>
                          <p:nvSpPr>
                            <p:cNvPr id="2090" name="Freeform 1735"/>
                            <p:cNvSpPr/>
                            <p:nvPr/>
                          </p:nvSpPr>
                          <p:spPr>
                            <a:xfrm flipH="1" rot="19542600">
                              <a:off x="2174040" y="4301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91" name="Freeform 1736"/>
                            <p:cNvSpPr/>
                            <p:nvPr/>
                          </p:nvSpPr>
                          <p:spPr>
                            <a:xfrm flipH="1" rot="19542600">
                              <a:off x="2181960" y="43092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92" name="Group 1737"/>
                        <p:cNvGrpSpPr/>
                        <p:nvPr/>
                      </p:nvGrpSpPr>
                      <p:grpSpPr>
                        <a:xfrm>
                          <a:off x="2414160" y="4210200"/>
                          <a:ext cx="259920" cy="182160"/>
                          <a:chOff x="2414160" y="4210200"/>
                          <a:chExt cx="259920" cy="182160"/>
                        </a:xfrm>
                      </p:grpSpPr>
                      <p:grpSp>
                        <p:nvGrpSpPr>
                          <p:cNvPr id="2093" name="Group 1738"/>
                          <p:cNvGrpSpPr/>
                          <p:nvPr/>
                        </p:nvGrpSpPr>
                        <p:grpSpPr>
                          <a:xfrm>
                            <a:off x="2414160" y="4210200"/>
                            <a:ext cx="89640" cy="137520"/>
                            <a:chOff x="2414160" y="4210200"/>
                            <a:chExt cx="89640" cy="137520"/>
                          </a:xfrm>
                        </p:grpSpPr>
                        <p:sp>
                          <p:nvSpPr>
                            <p:cNvPr id="2094" name="Freeform 1739"/>
                            <p:cNvSpPr/>
                            <p:nvPr/>
                          </p:nvSpPr>
                          <p:spPr>
                            <a:xfrm rot="21544800">
                              <a:off x="2414880" y="42109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95" name="Freeform 1740"/>
                            <p:cNvSpPr/>
                            <p:nvPr/>
                          </p:nvSpPr>
                          <p:spPr>
                            <a:xfrm rot="21544800">
                              <a:off x="2441880" y="4212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96" name="Group 1741"/>
                          <p:cNvGrpSpPr/>
                          <p:nvPr/>
                        </p:nvGrpSpPr>
                        <p:grpSpPr>
                          <a:xfrm>
                            <a:off x="2467440" y="4223880"/>
                            <a:ext cx="101520" cy="145440"/>
                            <a:chOff x="2467440" y="4223880"/>
                            <a:chExt cx="101520" cy="145440"/>
                          </a:xfrm>
                        </p:grpSpPr>
                        <p:sp>
                          <p:nvSpPr>
                            <p:cNvPr id="2097" name="Freeform 1742"/>
                            <p:cNvSpPr/>
                            <p:nvPr/>
                          </p:nvSpPr>
                          <p:spPr>
                            <a:xfrm rot="395400">
                              <a:off x="2474280" y="4228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98" name="Freeform 1743"/>
                            <p:cNvSpPr/>
                            <p:nvPr/>
                          </p:nvSpPr>
                          <p:spPr>
                            <a:xfrm rot="395400">
                              <a:off x="2500560" y="4231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99" name="Group 1744"/>
                          <p:cNvGrpSpPr/>
                          <p:nvPr/>
                        </p:nvGrpSpPr>
                        <p:grpSpPr>
                          <a:xfrm>
                            <a:off x="2540880" y="4232520"/>
                            <a:ext cx="133200" cy="159840"/>
                            <a:chOff x="2540880" y="4232520"/>
                            <a:chExt cx="133200" cy="159840"/>
                          </a:xfrm>
                        </p:grpSpPr>
                        <p:sp>
                          <p:nvSpPr>
                            <p:cNvPr id="2100" name="Freeform 1745"/>
                            <p:cNvSpPr/>
                            <p:nvPr/>
                          </p:nvSpPr>
                          <p:spPr>
                            <a:xfrm rot="1501800">
                              <a:off x="2563560" y="4244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01" name="Freeform 1746"/>
                            <p:cNvSpPr/>
                            <p:nvPr/>
                          </p:nvSpPr>
                          <p:spPr>
                            <a:xfrm rot="1501800">
                              <a:off x="2587320" y="4251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102" name="Group 1747"/>
                      <p:cNvGrpSpPr/>
                      <p:nvPr/>
                    </p:nvGrpSpPr>
                    <p:grpSpPr>
                      <a:xfrm>
                        <a:off x="2559600" y="4210200"/>
                        <a:ext cx="528120" cy="238320"/>
                        <a:chOff x="2559600" y="4210200"/>
                        <a:chExt cx="528120" cy="238320"/>
                      </a:xfrm>
                    </p:grpSpPr>
                    <p:grpSp>
                      <p:nvGrpSpPr>
                        <p:cNvPr id="2103" name="Group 1748"/>
                        <p:cNvGrpSpPr/>
                        <p:nvPr/>
                      </p:nvGrpSpPr>
                      <p:grpSpPr>
                        <a:xfrm>
                          <a:off x="2822400" y="4238280"/>
                          <a:ext cx="265320" cy="210240"/>
                          <a:chOff x="2822400" y="4238280"/>
                          <a:chExt cx="265320" cy="210240"/>
                        </a:xfrm>
                      </p:grpSpPr>
                      <p:grpSp>
                        <p:nvGrpSpPr>
                          <p:cNvPr id="2104" name="Group 1749"/>
                          <p:cNvGrpSpPr/>
                          <p:nvPr/>
                        </p:nvGrpSpPr>
                        <p:grpSpPr>
                          <a:xfrm>
                            <a:off x="2822400" y="4238280"/>
                            <a:ext cx="104400" cy="147600"/>
                            <a:chOff x="2822400" y="4238280"/>
                            <a:chExt cx="104400" cy="147600"/>
                          </a:xfrm>
                        </p:grpSpPr>
                        <p:sp>
                          <p:nvSpPr>
                            <p:cNvPr id="2105" name="Freeform 1750"/>
                            <p:cNvSpPr/>
                            <p:nvPr/>
                          </p:nvSpPr>
                          <p:spPr>
                            <a:xfrm rot="500400">
                              <a:off x="2831040" y="424368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06" name="Freeform 1751"/>
                            <p:cNvSpPr/>
                            <p:nvPr/>
                          </p:nvSpPr>
                          <p:spPr>
                            <a:xfrm rot="500400">
                              <a:off x="2856960" y="42469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07" name="Group 1752"/>
                          <p:cNvGrpSpPr/>
                          <p:nvPr/>
                        </p:nvGrpSpPr>
                        <p:grpSpPr>
                          <a:xfrm>
                            <a:off x="2871720" y="4261320"/>
                            <a:ext cx="118800" cy="154080"/>
                            <a:chOff x="2871720" y="4261320"/>
                            <a:chExt cx="118800" cy="154080"/>
                          </a:xfrm>
                        </p:grpSpPr>
                        <p:sp>
                          <p:nvSpPr>
                            <p:cNvPr id="2108" name="Freeform 1753"/>
                            <p:cNvSpPr/>
                            <p:nvPr/>
                          </p:nvSpPr>
                          <p:spPr>
                            <a:xfrm rot="951000">
                              <a:off x="2887200" y="427068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09" name="Freeform 1754"/>
                            <p:cNvSpPr/>
                            <p:nvPr/>
                          </p:nvSpPr>
                          <p:spPr>
                            <a:xfrm rot="951000">
                              <a:off x="2911680" y="427536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10" name="Group 1755"/>
                          <p:cNvGrpSpPr/>
                          <p:nvPr/>
                        </p:nvGrpSpPr>
                        <p:grpSpPr>
                          <a:xfrm>
                            <a:off x="2943720" y="4288320"/>
                            <a:ext cx="144000" cy="160200"/>
                            <a:chOff x="2943720" y="4288320"/>
                            <a:chExt cx="144000" cy="160200"/>
                          </a:xfrm>
                        </p:grpSpPr>
                        <p:sp>
                          <p:nvSpPr>
                            <p:cNvPr id="2111" name="Freeform 1756"/>
                            <p:cNvSpPr/>
                            <p:nvPr/>
                          </p:nvSpPr>
                          <p:spPr>
                            <a:xfrm rot="2057400">
                              <a:off x="2971800" y="43016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12" name="Freeform 1757"/>
                            <p:cNvSpPr/>
                            <p:nvPr/>
                          </p:nvSpPr>
                          <p:spPr>
                            <a:xfrm rot="2057400">
                              <a:off x="2994480" y="4309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13" name="Group 1758"/>
                        <p:cNvGrpSpPr/>
                        <p:nvPr/>
                      </p:nvGrpSpPr>
                      <p:grpSpPr>
                        <a:xfrm>
                          <a:off x="2559600" y="4210200"/>
                          <a:ext cx="259920" cy="182160"/>
                          <a:chOff x="2559600" y="4210200"/>
                          <a:chExt cx="259920" cy="182160"/>
                        </a:xfrm>
                      </p:grpSpPr>
                      <p:grpSp>
                        <p:nvGrpSpPr>
                          <p:cNvPr id="2114" name="Group 1759"/>
                          <p:cNvGrpSpPr/>
                          <p:nvPr/>
                        </p:nvGrpSpPr>
                        <p:grpSpPr>
                          <a:xfrm>
                            <a:off x="2729880" y="4210200"/>
                            <a:ext cx="89640" cy="137520"/>
                            <a:chOff x="2729880" y="4210200"/>
                            <a:chExt cx="89640" cy="137520"/>
                          </a:xfrm>
                        </p:grpSpPr>
                        <p:sp>
                          <p:nvSpPr>
                            <p:cNvPr id="2115" name="Freeform 1760"/>
                            <p:cNvSpPr/>
                            <p:nvPr/>
                          </p:nvSpPr>
                          <p:spPr>
                            <a:xfrm flipH="1" rot="55200">
                              <a:off x="2730240" y="42105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16" name="Freeform 1761"/>
                            <p:cNvSpPr/>
                            <p:nvPr/>
                          </p:nvSpPr>
                          <p:spPr>
                            <a:xfrm flipH="1" rot="55200">
                              <a:off x="2734920" y="4212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17" name="Group 1762"/>
                          <p:cNvGrpSpPr/>
                          <p:nvPr/>
                        </p:nvGrpSpPr>
                        <p:grpSpPr>
                          <a:xfrm>
                            <a:off x="2664720" y="4223880"/>
                            <a:ext cx="101520" cy="145440"/>
                            <a:chOff x="2664720" y="4223880"/>
                            <a:chExt cx="101520" cy="145440"/>
                          </a:xfrm>
                        </p:grpSpPr>
                        <p:sp>
                          <p:nvSpPr>
                            <p:cNvPr id="2118" name="Freeform 1763"/>
                            <p:cNvSpPr/>
                            <p:nvPr/>
                          </p:nvSpPr>
                          <p:spPr>
                            <a:xfrm flipH="1" rot="21204600">
                              <a:off x="2671560" y="42282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19" name="Freeform 1764"/>
                            <p:cNvSpPr/>
                            <p:nvPr/>
                          </p:nvSpPr>
                          <p:spPr>
                            <a:xfrm flipH="1" rot="21204600">
                              <a:off x="2675520" y="42310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20" name="Group 1765"/>
                          <p:cNvGrpSpPr/>
                          <p:nvPr/>
                        </p:nvGrpSpPr>
                        <p:grpSpPr>
                          <a:xfrm>
                            <a:off x="2559600" y="4232520"/>
                            <a:ext cx="133200" cy="159840"/>
                            <a:chOff x="2559600" y="4232520"/>
                            <a:chExt cx="133200" cy="159840"/>
                          </a:xfrm>
                        </p:grpSpPr>
                        <p:sp>
                          <p:nvSpPr>
                            <p:cNvPr id="2121" name="Freeform 1766"/>
                            <p:cNvSpPr/>
                            <p:nvPr/>
                          </p:nvSpPr>
                          <p:spPr>
                            <a:xfrm flipH="1" rot="20098200">
                              <a:off x="2582280" y="4244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22" name="Freeform 1767"/>
                            <p:cNvSpPr/>
                            <p:nvPr/>
                          </p:nvSpPr>
                          <p:spPr>
                            <a:xfrm flipH="1" rot="20098200">
                              <a:off x="2589480" y="4251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123" name="Group 1768"/>
                    <p:cNvGrpSpPr/>
                    <p:nvPr/>
                  </p:nvGrpSpPr>
                  <p:grpSpPr>
                    <a:xfrm>
                      <a:off x="3012120" y="3791520"/>
                      <a:ext cx="521280" cy="258840"/>
                      <a:chOff x="3012120" y="3791520"/>
                      <a:chExt cx="521280" cy="258840"/>
                    </a:xfrm>
                  </p:grpSpPr>
                  <p:grpSp>
                    <p:nvGrpSpPr>
                      <p:cNvPr id="2124" name="Group 1769"/>
                      <p:cNvGrpSpPr/>
                      <p:nvPr/>
                    </p:nvGrpSpPr>
                    <p:grpSpPr>
                      <a:xfrm>
                        <a:off x="3267000" y="3791520"/>
                        <a:ext cx="266400" cy="222840"/>
                        <a:chOff x="3267000" y="3791520"/>
                        <a:chExt cx="266400" cy="222840"/>
                      </a:xfrm>
                    </p:grpSpPr>
                    <p:grpSp>
                      <p:nvGrpSpPr>
                        <p:cNvPr id="2125" name="Group 1770"/>
                        <p:cNvGrpSpPr/>
                        <p:nvPr/>
                      </p:nvGrpSpPr>
                      <p:grpSpPr>
                        <a:xfrm>
                          <a:off x="3267000" y="3862080"/>
                          <a:ext cx="113040" cy="152280"/>
                          <a:chOff x="3267000" y="3862080"/>
                          <a:chExt cx="113040" cy="152280"/>
                        </a:xfrm>
                      </p:grpSpPr>
                      <p:sp>
                        <p:nvSpPr>
                          <p:cNvPr id="2126" name="Freeform 1771"/>
                          <p:cNvSpPr/>
                          <p:nvPr/>
                        </p:nvSpPr>
                        <p:spPr>
                          <a:xfrm flipH="1" rot="10031400">
                            <a:off x="3279960" y="38786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27" name="Freeform 1772"/>
                          <p:cNvSpPr/>
                          <p:nvPr/>
                        </p:nvSpPr>
                        <p:spPr>
                          <a:xfrm flipH="1" rot="10031400">
                            <a:off x="3305160" y="386676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28" name="Group 1773"/>
                        <p:cNvGrpSpPr/>
                        <p:nvPr/>
                      </p:nvGrpSpPr>
                      <p:grpSpPr>
                        <a:xfrm>
                          <a:off x="3314520" y="3828960"/>
                          <a:ext cx="126360" cy="156960"/>
                          <a:chOff x="3314520" y="3828960"/>
                          <a:chExt cx="126360" cy="156960"/>
                        </a:xfrm>
                      </p:grpSpPr>
                      <p:sp>
                        <p:nvSpPr>
                          <p:cNvPr id="2129" name="Freeform 1774"/>
                          <p:cNvSpPr/>
                          <p:nvPr/>
                        </p:nvSpPr>
                        <p:spPr>
                          <a:xfrm flipH="1" rot="9580800">
                            <a:off x="3333600" y="38466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0" name="Freeform 1775"/>
                          <p:cNvSpPr/>
                          <p:nvPr/>
                        </p:nvSpPr>
                        <p:spPr>
                          <a:xfrm flipH="1" rot="9580800">
                            <a:off x="3357360" y="38347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31" name="Group 1776"/>
                        <p:cNvGrpSpPr/>
                        <p:nvPr/>
                      </p:nvGrpSpPr>
                      <p:grpSpPr>
                        <a:xfrm>
                          <a:off x="3385440" y="3791520"/>
                          <a:ext cx="147960" cy="159120"/>
                          <a:chOff x="3385440" y="3791520"/>
                          <a:chExt cx="147960" cy="159120"/>
                        </a:xfrm>
                      </p:grpSpPr>
                      <p:sp>
                        <p:nvSpPr>
                          <p:cNvPr id="2132" name="Freeform 1777"/>
                          <p:cNvSpPr/>
                          <p:nvPr/>
                        </p:nvSpPr>
                        <p:spPr>
                          <a:xfrm flipH="1" rot="8474400">
                            <a:off x="3414960" y="3809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3" name="Freeform 1778"/>
                          <p:cNvSpPr/>
                          <p:nvPr/>
                        </p:nvSpPr>
                        <p:spPr>
                          <a:xfrm flipH="1" rot="8474400">
                            <a:off x="3436560" y="37940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34" name="Group 1779"/>
                      <p:cNvGrpSpPr/>
                      <p:nvPr/>
                    </p:nvGrpSpPr>
                    <p:grpSpPr>
                      <a:xfrm>
                        <a:off x="3012120" y="3877920"/>
                        <a:ext cx="263880" cy="172440"/>
                        <a:chOff x="3012120" y="3877920"/>
                        <a:chExt cx="263880" cy="172440"/>
                      </a:xfrm>
                    </p:grpSpPr>
                    <p:grpSp>
                      <p:nvGrpSpPr>
                        <p:cNvPr id="2135" name="Group 1780"/>
                        <p:cNvGrpSpPr/>
                        <p:nvPr/>
                      </p:nvGrpSpPr>
                      <p:grpSpPr>
                        <a:xfrm>
                          <a:off x="3177000" y="3908880"/>
                          <a:ext cx="99000" cy="141480"/>
                          <a:chOff x="3177000" y="3908880"/>
                          <a:chExt cx="99000" cy="141480"/>
                        </a:xfrm>
                      </p:grpSpPr>
                      <p:sp>
                        <p:nvSpPr>
                          <p:cNvPr id="2136" name="Freeform 1781"/>
                          <p:cNvSpPr/>
                          <p:nvPr/>
                        </p:nvSpPr>
                        <p:spPr>
                          <a:xfrm rot="10476600">
                            <a:off x="3182400" y="39189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7" name="Freeform 1782"/>
                          <p:cNvSpPr/>
                          <p:nvPr/>
                        </p:nvSpPr>
                        <p:spPr>
                          <a:xfrm rot="10476600">
                            <a:off x="3186360" y="39110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38" name="Group 1783"/>
                        <p:cNvGrpSpPr/>
                        <p:nvPr/>
                      </p:nvGrpSpPr>
                      <p:grpSpPr>
                        <a:xfrm>
                          <a:off x="3119760" y="3895560"/>
                          <a:ext cx="92160" cy="139680"/>
                          <a:chOff x="3119760" y="3895560"/>
                          <a:chExt cx="92160" cy="139680"/>
                        </a:xfrm>
                      </p:grpSpPr>
                      <p:sp>
                        <p:nvSpPr>
                          <p:cNvPr id="2139" name="Freeform 1784"/>
                          <p:cNvSpPr/>
                          <p:nvPr/>
                        </p:nvSpPr>
                        <p:spPr>
                          <a:xfrm rot="10927200">
                            <a:off x="3121920" y="3906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0" name="Freeform 1785"/>
                          <p:cNvSpPr/>
                          <p:nvPr/>
                        </p:nvSpPr>
                        <p:spPr>
                          <a:xfrm rot="10927200">
                            <a:off x="3125880" y="3896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41" name="Group 1786"/>
                        <p:cNvGrpSpPr/>
                        <p:nvPr/>
                      </p:nvGrpSpPr>
                      <p:grpSpPr>
                        <a:xfrm>
                          <a:off x="3012120" y="3877920"/>
                          <a:ext cx="126720" cy="157680"/>
                          <a:chOff x="3012120" y="3877920"/>
                          <a:chExt cx="126720" cy="157680"/>
                        </a:xfrm>
                      </p:grpSpPr>
                      <p:sp>
                        <p:nvSpPr>
                          <p:cNvPr id="2142" name="Freeform 1787"/>
                          <p:cNvSpPr/>
                          <p:nvPr/>
                        </p:nvSpPr>
                        <p:spPr>
                          <a:xfrm rot="12033600">
                            <a:off x="3031560" y="38966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3" name="Freeform 1788"/>
                          <p:cNvSpPr/>
                          <p:nvPr/>
                        </p:nvSpPr>
                        <p:spPr>
                          <a:xfrm rot="12033600">
                            <a:off x="3038040" y="38833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144" name="Group 1789"/>
                    <p:cNvGrpSpPr/>
                    <p:nvPr/>
                  </p:nvGrpSpPr>
                  <p:grpSpPr>
                    <a:xfrm>
                      <a:off x="2262600" y="4325040"/>
                      <a:ext cx="941760" cy="238320"/>
                      <a:chOff x="2262600" y="4325040"/>
                      <a:chExt cx="941760" cy="238320"/>
                    </a:xfrm>
                  </p:grpSpPr>
                  <p:grpSp>
                    <p:nvGrpSpPr>
                      <p:cNvPr id="2145" name="Group 1790"/>
                      <p:cNvGrpSpPr/>
                      <p:nvPr/>
                    </p:nvGrpSpPr>
                    <p:grpSpPr>
                      <a:xfrm>
                        <a:off x="2262600" y="4325040"/>
                        <a:ext cx="528120" cy="238320"/>
                        <a:chOff x="2262600" y="4325040"/>
                        <a:chExt cx="528120" cy="238320"/>
                      </a:xfrm>
                    </p:grpSpPr>
                    <p:grpSp>
                      <p:nvGrpSpPr>
                        <p:cNvPr id="2146" name="Group 1791"/>
                        <p:cNvGrpSpPr/>
                        <p:nvPr/>
                      </p:nvGrpSpPr>
                      <p:grpSpPr>
                        <a:xfrm>
                          <a:off x="2262600" y="4353120"/>
                          <a:ext cx="265680" cy="210240"/>
                          <a:chOff x="2262600" y="4353120"/>
                          <a:chExt cx="265680" cy="210240"/>
                        </a:xfrm>
                      </p:grpSpPr>
                      <p:grpSp>
                        <p:nvGrpSpPr>
                          <p:cNvPr id="2147" name="Group 1792"/>
                          <p:cNvGrpSpPr/>
                          <p:nvPr/>
                        </p:nvGrpSpPr>
                        <p:grpSpPr>
                          <a:xfrm>
                            <a:off x="2423520" y="4353120"/>
                            <a:ext cx="104760" cy="147600"/>
                            <a:chOff x="2423520" y="4353120"/>
                            <a:chExt cx="104760" cy="147600"/>
                          </a:xfrm>
                        </p:grpSpPr>
                        <p:sp>
                          <p:nvSpPr>
                            <p:cNvPr id="2148" name="Freeform 1793"/>
                            <p:cNvSpPr/>
                            <p:nvPr/>
                          </p:nvSpPr>
                          <p:spPr>
                            <a:xfrm flipH="1" rot="21099600">
                              <a:off x="2432160" y="435852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49" name="Freeform 1794"/>
                            <p:cNvSpPr/>
                            <p:nvPr/>
                          </p:nvSpPr>
                          <p:spPr>
                            <a:xfrm flipH="1" rot="21099600">
                              <a:off x="2436480" y="436176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50" name="Group 1795"/>
                          <p:cNvGrpSpPr/>
                          <p:nvPr/>
                        </p:nvGrpSpPr>
                        <p:grpSpPr>
                          <a:xfrm>
                            <a:off x="2359800" y="4376160"/>
                            <a:ext cx="119160" cy="154080"/>
                            <a:chOff x="2359800" y="4376160"/>
                            <a:chExt cx="119160" cy="154080"/>
                          </a:xfrm>
                        </p:grpSpPr>
                        <p:sp>
                          <p:nvSpPr>
                            <p:cNvPr id="2151" name="Freeform 1796"/>
                            <p:cNvSpPr/>
                            <p:nvPr/>
                          </p:nvSpPr>
                          <p:spPr>
                            <a:xfrm flipH="1" rot="20649000">
                              <a:off x="2374920" y="438552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52" name="Freeform 1797"/>
                            <p:cNvSpPr/>
                            <p:nvPr/>
                          </p:nvSpPr>
                          <p:spPr>
                            <a:xfrm flipH="1" rot="20649000">
                              <a:off x="2381040" y="4390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53" name="Group 1798"/>
                          <p:cNvGrpSpPr/>
                          <p:nvPr/>
                        </p:nvGrpSpPr>
                        <p:grpSpPr>
                          <a:xfrm>
                            <a:off x="2262600" y="4403160"/>
                            <a:ext cx="144000" cy="160200"/>
                            <a:chOff x="2262600" y="4403160"/>
                            <a:chExt cx="144000" cy="160200"/>
                          </a:xfrm>
                        </p:grpSpPr>
                        <p:sp>
                          <p:nvSpPr>
                            <p:cNvPr id="2154" name="Freeform 1799"/>
                            <p:cNvSpPr/>
                            <p:nvPr/>
                          </p:nvSpPr>
                          <p:spPr>
                            <a:xfrm flipH="1" rot="19542600">
                              <a:off x="2290680" y="4416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55" name="Freeform 1800"/>
                            <p:cNvSpPr/>
                            <p:nvPr/>
                          </p:nvSpPr>
                          <p:spPr>
                            <a:xfrm flipH="1" rot="19542600">
                              <a:off x="2298600" y="44240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56" name="Group 1801"/>
                        <p:cNvGrpSpPr/>
                        <p:nvPr/>
                      </p:nvGrpSpPr>
                      <p:grpSpPr>
                        <a:xfrm>
                          <a:off x="2530800" y="4325040"/>
                          <a:ext cx="259920" cy="182160"/>
                          <a:chOff x="2530800" y="4325040"/>
                          <a:chExt cx="259920" cy="182160"/>
                        </a:xfrm>
                      </p:grpSpPr>
                      <p:grpSp>
                        <p:nvGrpSpPr>
                          <p:cNvPr id="2157" name="Group 1802"/>
                          <p:cNvGrpSpPr/>
                          <p:nvPr/>
                        </p:nvGrpSpPr>
                        <p:grpSpPr>
                          <a:xfrm>
                            <a:off x="2530800" y="4325040"/>
                            <a:ext cx="89640" cy="137520"/>
                            <a:chOff x="2530800" y="4325040"/>
                            <a:chExt cx="89640" cy="137520"/>
                          </a:xfrm>
                        </p:grpSpPr>
                        <p:sp>
                          <p:nvSpPr>
                            <p:cNvPr id="2158" name="Freeform 1803"/>
                            <p:cNvSpPr/>
                            <p:nvPr/>
                          </p:nvSpPr>
                          <p:spPr>
                            <a:xfrm rot="21544800">
                              <a:off x="2531520" y="4325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59" name="Freeform 1804"/>
                            <p:cNvSpPr/>
                            <p:nvPr/>
                          </p:nvSpPr>
                          <p:spPr>
                            <a:xfrm rot="21544800">
                              <a:off x="2558520" y="4326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60" name="Group 1805"/>
                          <p:cNvGrpSpPr/>
                          <p:nvPr/>
                        </p:nvGrpSpPr>
                        <p:grpSpPr>
                          <a:xfrm>
                            <a:off x="2584080" y="4338720"/>
                            <a:ext cx="101520" cy="145440"/>
                            <a:chOff x="2584080" y="4338720"/>
                            <a:chExt cx="101520" cy="145440"/>
                          </a:xfrm>
                        </p:grpSpPr>
                        <p:sp>
                          <p:nvSpPr>
                            <p:cNvPr id="2161" name="Freeform 1806"/>
                            <p:cNvSpPr/>
                            <p:nvPr/>
                          </p:nvSpPr>
                          <p:spPr>
                            <a:xfrm rot="395400">
                              <a:off x="2590920" y="4343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62" name="Freeform 1807"/>
                            <p:cNvSpPr/>
                            <p:nvPr/>
                          </p:nvSpPr>
                          <p:spPr>
                            <a:xfrm rot="395400">
                              <a:off x="2617200" y="4345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63" name="Group 1808"/>
                          <p:cNvGrpSpPr/>
                          <p:nvPr/>
                        </p:nvGrpSpPr>
                        <p:grpSpPr>
                          <a:xfrm>
                            <a:off x="2657520" y="4347360"/>
                            <a:ext cx="133200" cy="159840"/>
                            <a:chOff x="2657520" y="4347360"/>
                            <a:chExt cx="133200" cy="159840"/>
                          </a:xfrm>
                        </p:grpSpPr>
                        <p:sp>
                          <p:nvSpPr>
                            <p:cNvPr id="2164" name="Freeform 1809"/>
                            <p:cNvSpPr/>
                            <p:nvPr/>
                          </p:nvSpPr>
                          <p:spPr>
                            <a:xfrm rot="1501800">
                              <a:off x="2680200" y="4359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65" name="Freeform 1810"/>
                            <p:cNvSpPr/>
                            <p:nvPr/>
                          </p:nvSpPr>
                          <p:spPr>
                            <a:xfrm rot="1501800">
                              <a:off x="2703960" y="43664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166" name="Group 1811"/>
                      <p:cNvGrpSpPr/>
                      <p:nvPr/>
                    </p:nvGrpSpPr>
                    <p:grpSpPr>
                      <a:xfrm>
                        <a:off x="2676240" y="4325040"/>
                        <a:ext cx="528120" cy="238320"/>
                        <a:chOff x="2676240" y="4325040"/>
                        <a:chExt cx="528120" cy="238320"/>
                      </a:xfrm>
                    </p:grpSpPr>
                    <p:grpSp>
                      <p:nvGrpSpPr>
                        <p:cNvPr id="2167" name="Group 1812"/>
                        <p:cNvGrpSpPr/>
                        <p:nvPr/>
                      </p:nvGrpSpPr>
                      <p:grpSpPr>
                        <a:xfrm>
                          <a:off x="2939040" y="4353120"/>
                          <a:ext cx="265320" cy="210240"/>
                          <a:chOff x="2939040" y="4353120"/>
                          <a:chExt cx="265320" cy="210240"/>
                        </a:xfrm>
                      </p:grpSpPr>
                      <p:grpSp>
                        <p:nvGrpSpPr>
                          <p:cNvPr id="2168" name="Group 1813"/>
                          <p:cNvGrpSpPr/>
                          <p:nvPr/>
                        </p:nvGrpSpPr>
                        <p:grpSpPr>
                          <a:xfrm>
                            <a:off x="2939040" y="4353120"/>
                            <a:ext cx="104400" cy="147600"/>
                            <a:chOff x="2939040" y="4353120"/>
                            <a:chExt cx="104400" cy="147600"/>
                          </a:xfrm>
                        </p:grpSpPr>
                        <p:sp>
                          <p:nvSpPr>
                            <p:cNvPr id="2169" name="Freeform 1814"/>
                            <p:cNvSpPr/>
                            <p:nvPr/>
                          </p:nvSpPr>
                          <p:spPr>
                            <a:xfrm rot="500400">
                              <a:off x="2947680" y="435852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0" name="Freeform 1815"/>
                            <p:cNvSpPr/>
                            <p:nvPr/>
                          </p:nvSpPr>
                          <p:spPr>
                            <a:xfrm rot="500400">
                              <a:off x="2973600" y="436176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71" name="Group 1816"/>
                          <p:cNvGrpSpPr/>
                          <p:nvPr/>
                        </p:nvGrpSpPr>
                        <p:grpSpPr>
                          <a:xfrm>
                            <a:off x="2988360" y="4376160"/>
                            <a:ext cx="118800" cy="154080"/>
                            <a:chOff x="2988360" y="4376160"/>
                            <a:chExt cx="118800" cy="154080"/>
                          </a:xfrm>
                        </p:grpSpPr>
                        <p:sp>
                          <p:nvSpPr>
                            <p:cNvPr id="2172" name="Freeform 1817"/>
                            <p:cNvSpPr/>
                            <p:nvPr/>
                          </p:nvSpPr>
                          <p:spPr>
                            <a:xfrm rot="951000">
                              <a:off x="3003840" y="438552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3" name="Freeform 1818"/>
                            <p:cNvSpPr/>
                            <p:nvPr/>
                          </p:nvSpPr>
                          <p:spPr>
                            <a:xfrm rot="951000">
                              <a:off x="3028320" y="4390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74" name="Group 1819"/>
                          <p:cNvGrpSpPr/>
                          <p:nvPr/>
                        </p:nvGrpSpPr>
                        <p:grpSpPr>
                          <a:xfrm>
                            <a:off x="3060360" y="4403160"/>
                            <a:ext cx="144000" cy="160200"/>
                            <a:chOff x="3060360" y="4403160"/>
                            <a:chExt cx="144000" cy="160200"/>
                          </a:xfrm>
                        </p:grpSpPr>
                        <p:sp>
                          <p:nvSpPr>
                            <p:cNvPr id="2175" name="Freeform 1820"/>
                            <p:cNvSpPr/>
                            <p:nvPr/>
                          </p:nvSpPr>
                          <p:spPr>
                            <a:xfrm rot="2057400">
                              <a:off x="3088440" y="4416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76" name="Freeform 1821"/>
                            <p:cNvSpPr/>
                            <p:nvPr/>
                          </p:nvSpPr>
                          <p:spPr>
                            <a:xfrm rot="2057400">
                              <a:off x="3111120" y="4424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77" name="Group 1822"/>
                        <p:cNvGrpSpPr/>
                        <p:nvPr/>
                      </p:nvGrpSpPr>
                      <p:grpSpPr>
                        <a:xfrm>
                          <a:off x="2676240" y="4325040"/>
                          <a:ext cx="259920" cy="182160"/>
                          <a:chOff x="2676240" y="4325040"/>
                          <a:chExt cx="259920" cy="182160"/>
                        </a:xfrm>
                      </p:grpSpPr>
                      <p:grpSp>
                        <p:nvGrpSpPr>
                          <p:cNvPr id="2178" name="Group 1823"/>
                          <p:cNvGrpSpPr/>
                          <p:nvPr/>
                        </p:nvGrpSpPr>
                        <p:grpSpPr>
                          <a:xfrm>
                            <a:off x="2846520" y="4325040"/>
                            <a:ext cx="89640" cy="137520"/>
                            <a:chOff x="2846520" y="4325040"/>
                            <a:chExt cx="89640" cy="137520"/>
                          </a:xfrm>
                        </p:grpSpPr>
                        <p:sp>
                          <p:nvSpPr>
                            <p:cNvPr id="2179" name="Freeform 1824"/>
                            <p:cNvSpPr/>
                            <p:nvPr/>
                          </p:nvSpPr>
                          <p:spPr>
                            <a:xfrm flipH="1" rot="55200">
                              <a:off x="2846880" y="43254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0" name="Freeform 1825"/>
                            <p:cNvSpPr/>
                            <p:nvPr/>
                          </p:nvSpPr>
                          <p:spPr>
                            <a:xfrm flipH="1" rot="55200">
                              <a:off x="2851560" y="4326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81" name="Group 1826"/>
                          <p:cNvGrpSpPr/>
                          <p:nvPr/>
                        </p:nvGrpSpPr>
                        <p:grpSpPr>
                          <a:xfrm>
                            <a:off x="2781360" y="4338720"/>
                            <a:ext cx="101520" cy="145440"/>
                            <a:chOff x="2781360" y="4338720"/>
                            <a:chExt cx="101520" cy="145440"/>
                          </a:xfrm>
                        </p:grpSpPr>
                        <p:sp>
                          <p:nvSpPr>
                            <p:cNvPr id="2182" name="Freeform 1827"/>
                            <p:cNvSpPr/>
                            <p:nvPr/>
                          </p:nvSpPr>
                          <p:spPr>
                            <a:xfrm flipH="1" rot="21204600">
                              <a:off x="2788200" y="4343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3" name="Freeform 1828"/>
                            <p:cNvSpPr/>
                            <p:nvPr/>
                          </p:nvSpPr>
                          <p:spPr>
                            <a:xfrm flipH="1" rot="21204600">
                              <a:off x="2792160" y="4345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84" name="Group 1829"/>
                          <p:cNvGrpSpPr/>
                          <p:nvPr/>
                        </p:nvGrpSpPr>
                        <p:grpSpPr>
                          <a:xfrm>
                            <a:off x="2676240" y="4347360"/>
                            <a:ext cx="133200" cy="159840"/>
                            <a:chOff x="2676240" y="4347360"/>
                            <a:chExt cx="133200" cy="159840"/>
                          </a:xfrm>
                        </p:grpSpPr>
                        <p:sp>
                          <p:nvSpPr>
                            <p:cNvPr id="2185" name="Freeform 1830"/>
                            <p:cNvSpPr/>
                            <p:nvPr/>
                          </p:nvSpPr>
                          <p:spPr>
                            <a:xfrm flipH="1" rot="20098200">
                              <a:off x="2698920" y="4359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6" name="Freeform 1831"/>
                            <p:cNvSpPr/>
                            <p:nvPr/>
                          </p:nvSpPr>
                          <p:spPr>
                            <a:xfrm flipH="1" rot="20098200">
                              <a:off x="2706120" y="43664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187" name="Group 1832"/>
                    <p:cNvGrpSpPr/>
                    <p:nvPr/>
                  </p:nvGrpSpPr>
                  <p:grpSpPr>
                    <a:xfrm>
                      <a:off x="2379960" y="3290040"/>
                      <a:ext cx="941760" cy="238320"/>
                      <a:chOff x="2379960" y="3290040"/>
                      <a:chExt cx="941760" cy="238320"/>
                    </a:xfrm>
                  </p:grpSpPr>
                  <p:grpSp>
                    <p:nvGrpSpPr>
                      <p:cNvPr id="2188" name="Group 1833"/>
                      <p:cNvGrpSpPr/>
                      <p:nvPr/>
                    </p:nvGrpSpPr>
                    <p:grpSpPr>
                      <a:xfrm>
                        <a:off x="2379960" y="3290040"/>
                        <a:ext cx="528120" cy="238320"/>
                        <a:chOff x="2379960" y="3290040"/>
                        <a:chExt cx="528120" cy="238320"/>
                      </a:xfrm>
                    </p:grpSpPr>
                    <p:grpSp>
                      <p:nvGrpSpPr>
                        <p:cNvPr id="2189" name="Group 1834"/>
                        <p:cNvGrpSpPr/>
                        <p:nvPr/>
                      </p:nvGrpSpPr>
                      <p:grpSpPr>
                        <a:xfrm>
                          <a:off x="2379960" y="3318120"/>
                          <a:ext cx="265680" cy="210240"/>
                          <a:chOff x="2379960" y="3318120"/>
                          <a:chExt cx="265680" cy="210240"/>
                        </a:xfrm>
                      </p:grpSpPr>
                      <p:grpSp>
                        <p:nvGrpSpPr>
                          <p:cNvPr id="2190" name="Group 1835"/>
                          <p:cNvGrpSpPr/>
                          <p:nvPr/>
                        </p:nvGrpSpPr>
                        <p:grpSpPr>
                          <a:xfrm>
                            <a:off x="2540880" y="3318120"/>
                            <a:ext cx="104760" cy="147600"/>
                            <a:chOff x="2540880" y="3318120"/>
                            <a:chExt cx="104760" cy="147600"/>
                          </a:xfrm>
                        </p:grpSpPr>
                        <p:sp>
                          <p:nvSpPr>
                            <p:cNvPr id="2191" name="Freeform 1836"/>
                            <p:cNvSpPr/>
                            <p:nvPr/>
                          </p:nvSpPr>
                          <p:spPr>
                            <a:xfrm flipH="1" rot="21099600">
                              <a:off x="2549520" y="332352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92" name="Freeform 1837"/>
                            <p:cNvSpPr/>
                            <p:nvPr/>
                          </p:nvSpPr>
                          <p:spPr>
                            <a:xfrm flipH="1" rot="21099600">
                              <a:off x="2553840" y="332676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93" name="Group 1838"/>
                          <p:cNvGrpSpPr/>
                          <p:nvPr/>
                        </p:nvGrpSpPr>
                        <p:grpSpPr>
                          <a:xfrm>
                            <a:off x="2477160" y="3341160"/>
                            <a:ext cx="119160" cy="154080"/>
                            <a:chOff x="2477160" y="3341160"/>
                            <a:chExt cx="119160" cy="154080"/>
                          </a:xfrm>
                        </p:grpSpPr>
                        <p:sp>
                          <p:nvSpPr>
                            <p:cNvPr id="2194" name="Freeform 1839"/>
                            <p:cNvSpPr/>
                            <p:nvPr/>
                          </p:nvSpPr>
                          <p:spPr>
                            <a:xfrm flipH="1" rot="20649000">
                              <a:off x="2492280" y="335052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95" name="Freeform 1840"/>
                            <p:cNvSpPr/>
                            <p:nvPr/>
                          </p:nvSpPr>
                          <p:spPr>
                            <a:xfrm flipH="1" rot="20649000">
                              <a:off x="2498400" y="3355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96" name="Group 1841"/>
                          <p:cNvGrpSpPr/>
                          <p:nvPr/>
                        </p:nvGrpSpPr>
                        <p:grpSpPr>
                          <a:xfrm>
                            <a:off x="2379960" y="3368160"/>
                            <a:ext cx="144000" cy="160200"/>
                            <a:chOff x="2379960" y="3368160"/>
                            <a:chExt cx="144000" cy="160200"/>
                          </a:xfrm>
                        </p:grpSpPr>
                        <p:sp>
                          <p:nvSpPr>
                            <p:cNvPr id="2197" name="Freeform 1842"/>
                            <p:cNvSpPr/>
                            <p:nvPr/>
                          </p:nvSpPr>
                          <p:spPr>
                            <a:xfrm flipH="1" rot="19542600">
                              <a:off x="2408040" y="3381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98" name="Freeform 1843"/>
                            <p:cNvSpPr/>
                            <p:nvPr/>
                          </p:nvSpPr>
                          <p:spPr>
                            <a:xfrm flipH="1" rot="19542600">
                              <a:off x="2415960" y="33890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99" name="Group 1844"/>
                        <p:cNvGrpSpPr/>
                        <p:nvPr/>
                      </p:nvGrpSpPr>
                      <p:grpSpPr>
                        <a:xfrm>
                          <a:off x="2648160" y="3290040"/>
                          <a:ext cx="259920" cy="182160"/>
                          <a:chOff x="2648160" y="3290040"/>
                          <a:chExt cx="259920" cy="182160"/>
                        </a:xfrm>
                      </p:grpSpPr>
                      <p:grpSp>
                        <p:nvGrpSpPr>
                          <p:cNvPr id="2200" name="Group 1845"/>
                          <p:cNvGrpSpPr/>
                          <p:nvPr/>
                        </p:nvGrpSpPr>
                        <p:grpSpPr>
                          <a:xfrm>
                            <a:off x="2648160" y="3290040"/>
                            <a:ext cx="89640" cy="137520"/>
                            <a:chOff x="2648160" y="3290040"/>
                            <a:chExt cx="89640" cy="137520"/>
                          </a:xfrm>
                        </p:grpSpPr>
                        <p:sp>
                          <p:nvSpPr>
                            <p:cNvPr id="2201" name="Freeform 1846"/>
                            <p:cNvSpPr/>
                            <p:nvPr/>
                          </p:nvSpPr>
                          <p:spPr>
                            <a:xfrm rot="21544800">
                              <a:off x="2648880" y="32907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2" name="Freeform 1847"/>
                            <p:cNvSpPr/>
                            <p:nvPr/>
                          </p:nvSpPr>
                          <p:spPr>
                            <a:xfrm rot="21544800">
                              <a:off x="2675880" y="3291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03" name="Group 1848"/>
                          <p:cNvGrpSpPr/>
                          <p:nvPr/>
                        </p:nvGrpSpPr>
                        <p:grpSpPr>
                          <a:xfrm>
                            <a:off x="2701440" y="3303720"/>
                            <a:ext cx="101520" cy="145440"/>
                            <a:chOff x="2701440" y="3303720"/>
                            <a:chExt cx="101520" cy="145440"/>
                          </a:xfrm>
                        </p:grpSpPr>
                        <p:sp>
                          <p:nvSpPr>
                            <p:cNvPr id="2204" name="Freeform 1849"/>
                            <p:cNvSpPr/>
                            <p:nvPr/>
                          </p:nvSpPr>
                          <p:spPr>
                            <a:xfrm rot="395400">
                              <a:off x="2708280" y="3308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5" name="Freeform 1850"/>
                            <p:cNvSpPr/>
                            <p:nvPr/>
                          </p:nvSpPr>
                          <p:spPr>
                            <a:xfrm rot="395400">
                              <a:off x="2734560" y="3310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06" name="Group 1851"/>
                          <p:cNvGrpSpPr/>
                          <p:nvPr/>
                        </p:nvGrpSpPr>
                        <p:grpSpPr>
                          <a:xfrm>
                            <a:off x="2774880" y="3312360"/>
                            <a:ext cx="133200" cy="159840"/>
                            <a:chOff x="2774880" y="3312360"/>
                            <a:chExt cx="133200" cy="159840"/>
                          </a:xfrm>
                        </p:grpSpPr>
                        <p:sp>
                          <p:nvSpPr>
                            <p:cNvPr id="2207" name="Freeform 1852"/>
                            <p:cNvSpPr/>
                            <p:nvPr/>
                          </p:nvSpPr>
                          <p:spPr>
                            <a:xfrm rot="1501800">
                              <a:off x="2797560" y="3324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08" name="Freeform 1853"/>
                            <p:cNvSpPr/>
                            <p:nvPr/>
                          </p:nvSpPr>
                          <p:spPr>
                            <a:xfrm rot="1501800">
                              <a:off x="2821320" y="33314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09" name="Group 1854"/>
                      <p:cNvGrpSpPr/>
                      <p:nvPr/>
                    </p:nvGrpSpPr>
                    <p:grpSpPr>
                      <a:xfrm>
                        <a:off x="2793600" y="3290040"/>
                        <a:ext cx="528120" cy="238320"/>
                        <a:chOff x="2793600" y="3290040"/>
                        <a:chExt cx="528120" cy="238320"/>
                      </a:xfrm>
                    </p:grpSpPr>
                    <p:grpSp>
                      <p:nvGrpSpPr>
                        <p:cNvPr id="2210" name="Group 1855"/>
                        <p:cNvGrpSpPr/>
                        <p:nvPr/>
                      </p:nvGrpSpPr>
                      <p:grpSpPr>
                        <a:xfrm>
                          <a:off x="3056400" y="3318120"/>
                          <a:ext cx="265320" cy="210240"/>
                          <a:chOff x="3056400" y="3318120"/>
                          <a:chExt cx="265320" cy="210240"/>
                        </a:xfrm>
                      </p:grpSpPr>
                      <p:grpSp>
                        <p:nvGrpSpPr>
                          <p:cNvPr id="2211" name="Group 1856"/>
                          <p:cNvGrpSpPr/>
                          <p:nvPr/>
                        </p:nvGrpSpPr>
                        <p:grpSpPr>
                          <a:xfrm>
                            <a:off x="3056400" y="3318120"/>
                            <a:ext cx="104400" cy="147600"/>
                            <a:chOff x="3056400" y="3318120"/>
                            <a:chExt cx="104400" cy="147600"/>
                          </a:xfrm>
                        </p:grpSpPr>
                        <p:sp>
                          <p:nvSpPr>
                            <p:cNvPr id="2212" name="Freeform 1857"/>
                            <p:cNvSpPr/>
                            <p:nvPr/>
                          </p:nvSpPr>
                          <p:spPr>
                            <a:xfrm rot="500400">
                              <a:off x="3065040" y="332352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0 w 87120"/>
                                <a:gd name="textAreaRight" fmla="*/ 8748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13" name="Freeform 1858"/>
                            <p:cNvSpPr/>
                            <p:nvPr/>
                          </p:nvSpPr>
                          <p:spPr>
                            <a:xfrm rot="500400">
                              <a:off x="3090960" y="332676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14" name="Group 1859"/>
                          <p:cNvGrpSpPr/>
                          <p:nvPr/>
                        </p:nvGrpSpPr>
                        <p:grpSpPr>
                          <a:xfrm>
                            <a:off x="3105720" y="3341160"/>
                            <a:ext cx="118800" cy="154080"/>
                            <a:chOff x="3105720" y="3341160"/>
                            <a:chExt cx="118800" cy="154080"/>
                          </a:xfrm>
                        </p:grpSpPr>
                        <p:sp>
                          <p:nvSpPr>
                            <p:cNvPr id="2215" name="Freeform 1860"/>
                            <p:cNvSpPr/>
                            <p:nvPr/>
                          </p:nvSpPr>
                          <p:spPr>
                            <a:xfrm rot="951000">
                              <a:off x="3121200" y="335052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16" name="Freeform 1861"/>
                            <p:cNvSpPr/>
                            <p:nvPr/>
                          </p:nvSpPr>
                          <p:spPr>
                            <a:xfrm rot="951000">
                              <a:off x="3145680" y="335520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17" name="Group 1862"/>
                          <p:cNvGrpSpPr/>
                          <p:nvPr/>
                        </p:nvGrpSpPr>
                        <p:grpSpPr>
                          <a:xfrm>
                            <a:off x="3177720" y="3368160"/>
                            <a:ext cx="144000" cy="160200"/>
                            <a:chOff x="3177720" y="3368160"/>
                            <a:chExt cx="144000" cy="160200"/>
                          </a:xfrm>
                        </p:grpSpPr>
                        <p:sp>
                          <p:nvSpPr>
                            <p:cNvPr id="2218" name="Freeform 1863"/>
                            <p:cNvSpPr/>
                            <p:nvPr/>
                          </p:nvSpPr>
                          <p:spPr>
                            <a:xfrm rot="2057400">
                              <a:off x="3205800" y="3381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19" name="Freeform 1864"/>
                            <p:cNvSpPr/>
                            <p:nvPr/>
                          </p:nvSpPr>
                          <p:spPr>
                            <a:xfrm rot="2057400">
                              <a:off x="3228480" y="338904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20" name="Group 1865"/>
                        <p:cNvGrpSpPr/>
                        <p:nvPr/>
                      </p:nvGrpSpPr>
                      <p:grpSpPr>
                        <a:xfrm>
                          <a:off x="2793600" y="3290040"/>
                          <a:ext cx="259920" cy="182160"/>
                          <a:chOff x="2793600" y="3290040"/>
                          <a:chExt cx="259920" cy="182160"/>
                        </a:xfrm>
                      </p:grpSpPr>
                      <p:grpSp>
                        <p:nvGrpSpPr>
                          <p:cNvPr id="2221" name="Group 1866"/>
                          <p:cNvGrpSpPr/>
                          <p:nvPr/>
                        </p:nvGrpSpPr>
                        <p:grpSpPr>
                          <a:xfrm>
                            <a:off x="2963880" y="3290040"/>
                            <a:ext cx="89640" cy="137520"/>
                            <a:chOff x="2963880" y="3290040"/>
                            <a:chExt cx="89640" cy="137520"/>
                          </a:xfrm>
                        </p:grpSpPr>
                        <p:sp>
                          <p:nvSpPr>
                            <p:cNvPr id="2222" name="Freeform 1867"/>
                            <p:cNvSpPr/>
                            <p:nvPr/>
                          </p:nvSpPr>
                          <p:spPr>
                            <a:xfrm flipH="1" rot="55200">
                              <a:off x="2964240" y="32904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23" name="Freeform 1868"/>
                            <p:cNvSpPr/>
                            <p:nvPr/>
                          </p:nvSpPr>
                          <p:spPr>
                            <a:xfrm flipH="1" rot="55200">
                              <a:off x="2968920" y="32918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24" name="Group 1869"/>
                          <p:cNvGrpSpPr/>
                          <p:nvPr/>
                        </p:nvGrpSpPr>
                        <p:grpSpPr>
                          <a:xfrm>
                            <a:off x="2898720" y="3303720"/>
                            <a:ext cx="101520" cy="145440"/>
                            <a:chOff x="2898720" y="3303720"/>
                            <a:chExt cx="101520" cy="145440"/>
                          </a:xfrm>
                        </p:grpSpPr>
                        <p:sp>
                          <p:nvSpPr>
                            <p:cNvPr id="2225" name="Freeform 1870"/>
                            <p:cNvSpPr/>
                            <p:nvPr/>
                          </p:nvSpPr>
                          <p:spPr>
                            <a:xfrm flipH="1" rot="21204600">
                              <a:off x="2905560" y="330804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26" name="Freeform 1871"/>
                            <p:cNvSpPr/>
                            <p:nvPr/>
                          </p:nvSpPr>
                          <p:spPr>
                            <a:xfrm flipH="1" rot="21204600">
                              <a:off x="2909520" y="331092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27" name="Group 1872"/>
                          <p:cNvGrpSpPr/>
                          <p:nvPr/>
                        </p:nvGrpSpPr>
                        <p:grpSpPr>
                          <a:xfrm>
                            <a:off x="2793600" y="3312360"/>
                            <a:ext cx="133200" cy="159840"/>
                            <a:chOff x="2793600" y="3312360"/>
                            <a:chExt cx="133200" cy="159840"/>
                          </a:xfrm>
                        </p:grpSpPr>
                        <p:sp>
                          <p:nvSpPr>
                            <p:cNvPr id="2228" name="Freeform 1873"/>
                            <p:cNvSpPr/>
                            <p:nvPr/>
                          </p:nvSpPr>
                          <p:spPr>
                            <a:xfrm flipH="1" rot="20098200">
                              <a:off x="2816280" y="3324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29" name="Freeform 1874"/>
                            <p:cNvSpPr/>
                            <p:nvPr/>
                          </p:nvSpPr>
                          <p:spPr>
                            <a:xfrm flipH="1" rot="20098200">
                              <a:off x="2823480" y="333144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230" name="Line 1875"/>
                    <p:cNvSpPr/>
                    <p:nvPr/>
                  </p:nvSpPr>
                  <p:spPr>
                    <a:xfrm flipV="1">
                      <a:off x="2685240" y="2352240"/>
                      <a:ext cx="195120" cy="1150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31" name="Group 1878"/>
                    <p:cNvGrpSpPr/>
                    <p:nvPr/>
                  </p:nvGrpSpPr>
                  <p:grpSpPr>
                    <a:xfrm>
                      <a:off x="1654560" y="2503080"/>
                      <a:ext cx="462240" cy="497520"/>
                      <a:chOff x="1654560" y="2503080"/>
                      <a:chExt cx="462240" cy="497520"/>
                    </a:xfrm>
                  </p:grpSpPr>
                  <p:grpSp>
                    <p:nvGrpSpPr>
                      <p:cNvPr id="2232" name="Group 1879"/>
                      <p:cNvGrpSpPr/>
                      <p:nvPr/>
                    </p:nvGrpSpPr>
                    <p:grpSpPr>
                      <a:xfrm>
                        <a:off x="1654560" y="2685600"/>
                        <a:ext cx="247320" cy="315000"/>
                        <a:chOff x="1654560" y="2685600"/>
                        <a:chExt cx="247320" cy="315000"/>
                      </a:xfrm>
                    </p:grpSpPr>
                    <p:grpSp>
                      <p:nvGrpSpPr>
                        <p:cNvPr id="2233" name="Group 1880"/>
                        <p:cNvGrpSpPr/>
                        <p:nvPr/>
                      </p:nvGrpSpPr>
                      <p:grpSpPr>
                        <a:xfrm>
                          <a:off x="1654560" y="2814840"/>
                          <a:ext cx="138600" cy="185760"/>
                          <a:chOff x="1654560" y="2814840"/>
                          <a:chExt cx="138600" cy="185760"/>
                        </a:xfrm>
                      </p:grpSpPr>
                      <p:grpSp>
                        <p:nvGrpSpPr>
                          <p:cNvPr id="2234" name="Group 1881"/>
                          <p:cNvGrpSpPr/>
                          <p:nvPr/>
                        </p:nvGrpSpPr>
                        <p:grpSpPr>
                          <a:xfrm>
                            <a:off x="1686240" y="2814840"/>
                            <a:ext cx="106920" cy="100800"/>
                            <a:chOff x="1686240" y="2814840"/>
                            <a:chExt cx="106920" cy="100800"/>
                          </a:xfrm>
                        </p:grpSpPr>
                        <p:sp>
                          <p:nvSpPr>
                            <p:cNvPr id="2235" name="Freeform 1882"/>
                            <p:cNvSpPr/>
                            <p:nvPr/>
                          </p:nvSpPr>
                          <p:spPr>
                            <a:xfrm flipH="1" rot="18240000">
                              <a:off x="1708560" y="28206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36" name="Freeform 1883"/>
                            <p:cNvSpPr/>
                            <p:nvPr/>
                          </p:nvSpPr>
                          <p:spPr>
                            <a:xfrm flipH="1" rot="18240000">
                              <a:off x="1717560" y="28267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37" name="Group 1884"/>
                          <p:cNvGrpSpPr/>
                          <p:nvPr/>
                        </p:nvGrpSpPr>
                        <p:grpSpPr>
                          <a:xfrm>
                            <a:off x="1673640" y="2859120"/>
                            <a:ext cx="105480" cy="94320"/>
                            <a:chOff x="1673640" y="2859120"/>
                            <a:chExt cx="105480" cy="94320"/>
                          </a:xfrm>
                        </p:grpSpPr>
                        <p:sp>
                          <p:nvSpPr>
                            <p:cNvPr id="2238" name="Freeform 1885"/>
                            <p:cNvSpPr/>
                            <p:nvPr/>
                          </p:nvSpPr>
                          <p:spPr>
                            <a:xfrm flipH="1" rot="17789400">
                              <a:off x="1695240" y="28620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39" name="Freeform 1886"/>
                            <p:cNvSpPr/>
                            <p:nvPr/>
                          </p:nvSpPr>
                          <p:spPr>
                            <a:xfrm flipH="1" rot="17789400">
                              <a:off x="1706040" y="28688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40" name="Group 1887"/>
                          <p:cNvGrpSpPr/>
                          <p:nvPr/>
                        </p:nvGrpSpPr>
                        <p:grpSpPr>
                          <a:xfrm>
                            <a:off x="1654560" y="2927880"/>
                            <a:ext cx="98640" cy="72720"/>
                            <a:chOff x="1654560" y="2927880"/>
                            <a:chExt cx="98640" cy="72720"/>
                          </a:xfrm>
                        </p:grpSpPr>
                        <p:sp>
                          <p:nvSpPr>
                            <p:cNvPr id="2241" name="Freeform 1888"/>
                            <p:cNvSpPr/>
                            <p:nvPr/>
                          </p:nvSpPr>
                          <p:spPr>
                            <a:xfrm flipH="1" rot="16683000">
                              <a:off x="1670760" y="292068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2" name="Freeform 1889"/>
                            <p:cNvSpPr/>
                            <p:nvPr/>
                          </p:nvSpPr>
                          <p:spPr>
                            <a:xfrm flipH="1" rot="16683000">
                              <a:off x="1684800" y="29260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43" name="Group 1890"/>
                        <p:cNvGrpSpPr/>
                        <p:nvPr/>
                      </p:nvGrpSpPr>
                      <p:grpSpPr>
                        <a:xfrm>
                          <a:off x="1716480" y="2685600"/>
                          <a:ext cx="185400" cy="164880"/>
                          <a:chOff x="1716480" y="2685600"/>
                          <a:chExt cx="185400" cy="164880"/>
                        </a:xfrm>
                      </p:grpSpPr>
                      <p:grpSp>
                        <p:nvGrpSpPr>
                          <p:cNvPr id="2244" name="Group 1891"/>
                          <p:cNvGrpSpPr/>
                          <p:nvPr/>
                        </p:nvGrpSpPr>
                        <p:grpSpPr>
                          <a:xfrm>
                            <a:off x="1716480" y="2746800"/>
                            <a:ext cx="108720" cy="103680"/>
                            <a:chOff x="1716480" y="2746800"/>
                            <a:chExt cx="108720" cy="103680"/>
                          </a:xfrm>
                        </p:grpSpPr>
                        <p:sp>
                          <p:nvSpPr>
                            <p:cNvPr id="2245" name="Freeform 1892"/>
                            <p:cNvSpPr/>
                            <p:nvPr/>
                          </p:nvSpPr>
                          <p:spPr>
                            <a:xfrm rot="18685200">
                              <a:off x="1738800" y="27547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6" name="Freeform 1893"/>
                            <p:cNvSpPr/>
                            <p:nvPr/>
                          </p:nvSpPr>
                          <p:spPr>
                            <a:xfrm rot="18685200">
                              <a:off x="1757520" y="27486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47" name="Group 1894"/>
                          <p:cNvGrpSpPr/>
                          <p:nvPr/>
                        </p:nvGrpSpPr>
                        <p:grpSpPr>
                          <a:xfrm>
                            <a:off x="1754640" y="2722680"/>
                            <a:ext cx="105840" cy="106200"/>
                            <a:chOff x="1754640" y="2722680"/>
                            <a:chExt cx="105840" cy="106200"/>
                          </a:xfrm>
                        </p:grpSpPr>
                        <p:sp>
                          <p:nvSpPr>
                            <p:cNvPr id="2248" name="Freeform 1895"/>
                            <p:cNvSpPr/>
                            <p:nvPr/>
                          </p:nvSpPr>
                          <p:spPr>
                            <a:xfrm rot="19135800">
                              <a:off x="1775520" y="273204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49" name="Freeform 1896"/>
                            <p:cNvSpPr/>
                            <p:nvPr/>
                          </p:nvSpPr>
                          <p:spPr>
                            <a:xfrm rot="19135800">
                              <a:off x="1794960" y="27270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0" name="Group 1897"/>
                          <p:cNvGrpSpPr/>
                          <p:nvPr/>
                        </p:nvGrpSpPr>
                        <p:grpSpPr>
                          <a:xfrm>
                            <a:off x="1811880" y="2685600"/>
                            <a:ext cx="90000" cy="104040"/>
                            <a:chOff x="1811880" y="2685600"/>
                            <a:chExt cx="90000" cy="104040"/>
                          </a:xfrm>
                        </p:grpSpPr>
                        <p:sp>
                          <p:nvSpPr>
                            <p:cNvPr id="2251" name="Freeform 1898"/>
                            <p:cNvSpPr/>
                            <p:nvPr/>
                          </p:nvSpPr>
                          <p:spPr>
                            <a:xfrm rot="20242800">
                              <a:off x="1826280" y="26935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52" name="Freeform 1899"/>
                            <p:cNvSpPr/>
                            <p:nvPr/>
                          </p:nvSpPr>
                          <p:spPr>
                            <a:xfrm rot="20242800">
                              <a:off x="1845720" y="269136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53" name="Group 1900"/>
                      <p:cNvGrpSpPr/>
                      <p:nvPr/>
                    </p:nvGrpSpPr>
                    <p:grpSpPr>
                      <a:xfrm>
                        <a:off x="1814760" y="2503080"/>
                        <a:ext cx="302040" cy="267120"/>
                        <a:chOff x="1814760" y="2503080"/>
                        <a:chExt cx="302040" cy="267120"/>
                      </a:xfrm>
                    </p:grpSpPr>
                    <p:grpSp>
                      <p:nvGrpSpPr>
                        <p:cNvPr id="2254" name="Group 1901"/>
                        <p:cNvGrpSpPr/>
                        <p:nvPr/>
                      </p:nvGrpSpPr>
                      <p:grpSpPr>
                        <a:xfrm>
                          <a:off x="1929960" y="2503080"/>
                          <a:ext cx="186840" cy="149760"/>
                          <a:chOff x="1929960" y="2503080"/>
                          <a:chExt cx="186840" cy="149760"/>
                        </a:xfrm>
                      </p:grpSpPr>
                      <p:grpSp>
                        <p:nvGrpSpPr>
                          <p:cNvPr id="2255" name="Group 1902"/>
                          <p:cNvGrpSpPr/>
                          <p:nvPr/>
                        </p:nvGrpSpPr>
                        <p:grpSpPr>
                          <a:xfrm>
                            <a:off x="1929960" y="2545920"/>
                            <a:ext cx="104400" cy="106920"/>
                            <a:chOff x="1929960" y="2545920"/>
                            <a:chExt cx="104400" cy="106920"/>
                          </a:xfrm>
                        </p:grpSpPr>
                        <p:sp>
                          <p:nvSpPr>
                            <p:cNvPr id="2256" name="Freeform 1903"/>
                            <p:cNvSpPr/>
                            <p:nvPr/>
                          </p:nvSpPr>
                          <p:spPr>
                            <a:xfrm rot="19240800">
                              <a:off x="1950840" y="2555280"/>
                              <a:ext cx="61200" cy="8784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840"/>
                                <a:gd name="textAreaBottom" fmla="*/ 8820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400" bIns="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57" name="Freeform 1904"/>
                            <p:cNvSpPr/>
                            <p:nvPr/>
                          </p:nvSpPr>
                          <p:spPr>
                            <a:xfrm rot="19240800">
                              <a:off x="1969560" y="25506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58" name="Group 1905"/>
                          <p:cNvGrpSpPr/>
                          <p:nvPr/>
                        </p:nvGrpSpPr>
                        <p:grpSpPr>
                          <a:xfrm>
                            <a:off x="1972080" y="2529360"/>
                            <a:ext cx="99360" cy="106560"/>
                            <a:chOff x="1972080" y="2529360"/>
                            <a:chExt cx="99360" cy="106560"/>
                          </a:xfrm>
                        </p:grpSpPr>
                        <p:sp>
                          <p:nvSpPr>
                            <p:cNvPr id="2259" name="Freeform 1906"/>
                            <p:cNvSpPr/>
                            <p:nvPr/>
                          </p:nvSpPr>
                          <p:spPr>
                            <a:xfrm rot="19691400">
                              <a:off x="1990440" y="253908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60" name="Freeform 1907"/>
                            <p:cNvSpPr/>
                            <p:nvPr/>
                          </p:nvSpPr>
                          <p:spPr>
                            <a:xfrm rot="19691400">
                              <a:off x="2010240" y="2535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61" name="Group 1908"/>
                          <p:cNvGrpSpPr/>
                          <p:nvPr/>
                        </p:nvGrpSpPr>
                        <p:grpSpPr>
                          <a:xfrm>
                            <a:off x="2037240" y="2503080"/>
                            <a:ext cx="79560" cy="101160"/>
                            <a:chOff x="2037240" y="2503080"/>
                            <a:chExt cx="79560" cy="101160"/>
                          </a:xfrm>
                        </p:grpSpPr>
                        <p:sp>
                          <p:nvSpPr>
                            <p:cNvPr id="2262" name="Freeform 1909"/>
                            <p:cNvSpPr/>
                            <p:nvPr/>
                          </p:nvSpPr>
                          <p:spPr>
                            <a:xfrm rot="20797800">
                              <a:off x="2046240" y="250884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63" name="Freeform 1910"/>
                            <p:cNvSpPr/>
                            <p:nvPr/>
                          </p:nvSpPr>
                          <p:spPr>
                            <a:xfrm rot="20797800">
                              <a:off x="2065680" y="2508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64" name="Group 1911"/>
                        <p:cNvGrpSpPr/>
                        <p:nvPr/>
                      </p:nvGrpSpPr>
                      <p:grpSpPr>
                        <a:xfrm>
                          <a:off x="1814760" y="2583000"/>
                          <a:ext cx="156240" cy="187200"/>
                          <a:chOff x="1814760" y="2583000"/>
                          <a:chExt cx="156240" cy="187200"/>
                        </a:xfrm>
                      </p:grpSpPr>
                      <p:grpSp>
                        <p:nvGrpSpPr>
                          <p:cNvPr id="2265" name="Group 1912"/>
                          <p:cNvGrpSpPr/>
                          <p:nvPr/>
                        </p:nvGrpSpPr>
                        <p:grpSpPr>
                          <a:xfrm>
                            <a:off x="1865520" y="2583000"/>
                            <a:ext cx="105480" cy="106560"/>
                            <a:chOff x="1865520" y="2583000"/>
                            <a:chExt cx="105480" cy="106560"/>
                          </a:xfrm>
                        </p:grpSpPr>
                        <p:sp>
                          <p:nvSpPr>
                            <p:cNvPr id="2266" name="Freeform 1913"/>
                            <p:cNvSpPr/>
                            <p:nvPr/>
                          </p:nvSpPr>
                          <p:spPr>
                            <a:xfrm flipH="1" rot="18795600">
                              <a:off x="1886760" y="25912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67" name="Freeform 1914"/>
                            <p:cNvSpPr/>
                            <p:nvPr/>
                          </p:nvSpPr>
                          <p:spPr>
                            <a:xfrm flipH="1" rot="18795600">
                              <a:off x="1895400" y="25970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68" name="Group 1915"/>
                          <p:cNvGrpSpPr/>
                          <p:nvPr/>
                        </p:nvGrpSpPr>
                        <p:grpSpPr>
                          <a:xfrm>
                            <a:off x="1845720" y="2624040"/>
                            <a:ext cx="106920" cy="101880"/>
                            <a:chOff x="1845720" y="2624040"/>
                            <a:chExt cx="106920" cy="101880"/>
                          </a:xfrm>
                        </p:grpSpPr>
                        <p:sp>
                          <p:nvSpPr>
                            <p:cNvPr id="2269" name="Freeform 1916"/>
                            <p:cNvSpPr/>
                            <p:nvPr/>
                          </p:nvSpPr>
                          <p:spPr>
                            <a:xfrm flipH="1" rot="18345000">
                              <a:off x="1868400" y="26305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0" name="Freeform 1917"/>
                            <p:cNvSpPr/>
                            <p:nvPr/>
                          </p:nvSpPr>
                          <p:spPr>
                            <a:xfrm flipH="1" rot="18345000">
                              <a:off x="1877040" y="26366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71" name="Group 1918"/>
                          <p:cNvGrpSpPr/>
                          <p:nvPr/>
                        </p:nvGrpSpPr>
                        <p:grpSpPr>
                          <a:xfrm>
                            <a:off x="1814760" y="2685960"/>
                            <a:ext cx="101880" cy="84240"/>
                            <a:chOff x="1814760" y="2685960"/>
                            <a:chExt cx="101880" cy="84240"/>
                          </a:xfrm>
                        </p:grpSpPr>
                        <p:sp>
                          <p:nvSpPr>
                            <p:cNvPr id="2272" name="Freeform 1919"/>
                            <p:cNvSpPr/>
                            <p:nvPr/>
                          </p:nvSpPr>
                          <p:spPr>
                            <a:xfrm flipH="1" rot="17238600">
                              <a:off x="1834560" y="2684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3" name="Freeform 1920"/>
                            <p:cNvSpPr/>
                            <p:nvPr/>
                          </p:nvSpPr>
                          <p:spPr>
                            <a:xfrm flipH="1" rot="17238600">
                              <a:off x="1846080" y="2690640"/>
                              <a:ext cx="39600" cy="9216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274" name="Group 1921"/>
                    <p:cNvGrpSpPr/>
                    <p:nvPr/>
                  </p:nvGrpSpPr>
                  <p:grpSpPr>
                    <a:xfrm>
                      <a:off x="1496880" y="2830320"/>
                      <a:ext cx="342360" cy="589320"/>
                      <a:chOff x="1496880" y="2830320"/>
                      <a:chExt cx="342360" cy="589320"/>
                    </a:xfrm>
                  </p:grpSpPr>
                  <p:grpSp>
                    <p:nvGrpSpPr>
                      <p:cNvPr id="2275" name="Group 1922"/>
                      <p:cNvGrpSpPr/>
                      <p:nvPr/>
                    </p:nvGrpSpPr>
                    <p:grpSpPr>
                      <a:xfrm>
                        <a:off x="1496880" y="3069000"/>
                        <a:ext cx="186480" cy="350640"/>
                        <a:chOff x="1496880" y="3069000"/>
                        <a:chExt cx="186480" cy="350640"/>
                      </a:xfrm>
                    </p:grpSpPr>
                    <p:grpSp>
                      <p:nvGrpSpPr>
                        <p:cNvPr id="2276" name="Group 1923"/>
                        <p:cNvGrpSpPr/>
                        <p:nvPr/>
                      </p:nvGrpSpPr>
                      <p:grpSpPr>
                        <a:xfrm>
                          <a:off x="1496880" y="3234600"/>
                          <a:ext cx="106920" cy="185040"/>
                          <a:chOff x="1496880" y="3234600"/>
                          <a:chExt cx="106920" cy="185040"/>
                        </a:xfrm>
                      </p:grpSpPr>
                      <p:grpSp>
                        <p:nvGrpSpPr>
                          <p:cNvPr id="2277" name="Group 1924"/>
                          <p:cNvGrpSpPr/>
                          <p:nvPr/>
                        </p:nvGrpSpPr>
                        <p:grpSpPr>
                          <a:xfrm>
                            <a:off x="1501920" y="3234600"/>
                            <a:ext cx="101880" cy="85320"/>
                            <a:chOff x="1501920" y="3234600"/>
                            <a:chExt cx="101880" cy="85320"/>
                          </a:xfrm>
                        </p:grpSpPr>
                        <p:sp>
                          <p:nvSpPr>
                            <p:cNvPr id="2278" name="Freeform 1925"/>
                            <p:cNvSpPr/>
                            <p:nvPr/>
                          </p:nvSpPr>
                          <p:spPr>
                            <a:xfrm flipH="1" rot="17272800">
                              <a:off x="1521720" y="3233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9" name="Freeform 1926"/>
                            <p:cNvSpPr/>
                            <p:nvPr/>
                          </p:nvSpPr>
                          <p:spPr>
                            <a:xfrm flipH="1" rot="17272800">
                              <a:off x="1533240" y="32392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0" name="Group 1927"/>
                          <p:cNvGrpSpPr/>
                          <p:nvPr/>
                        </p:nvGrpSpPr>
                        <p:grpSpPr>
                          <a:xfrm>
                            <a:off x="1503360" y="3282480"/>
                            <a:ext cx="99720" cy="75960"/>
                            <a:chOff x="1503360" y="3282480"/>
                            <a:chExt cx="99720" cy="75960"/>
                          </a:xfrm>
                        </p:grpSpPr>
                        <p:sp>
                          <p:nvSpPr>
                            <p:cNvPr id="2281" name="Freeform 1928"/>
                            <p:cNvSpPr/>
                            <p:nvPr/>
                          </p:nvSpPr>
                          <p:spPr>
                            <a:xfrm flipH="1" rot="16822200">
                              <a:off x="1521000" y="32763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82" name="Freeform 1929"/>
                            <p:cNvSpPr/>
                            <p:nvPr/>
                          </p:nvSpPr>
                          <p:spPr>
                            <a:xfrm flipH="1" rot="16822200">
                              <a:off x="1533600" y="32824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3" name="Group 1930"/>
                          <p:cNvGrpSpPr/>
                          <p:nvPr/>
                        </p:nvGrpSpPr>
                        <p:grpSpPr>
                          <a:xfrm>
                            <a:off x="1496880" y="3346920"/>
                            <a:ext cx="100800" cy="72720"/>
                            <a:chOff x="1496880" y="3346920"/>
                            <a:chExt cx="100800" cy="72720"/>
                          </a:xfrm>
                        </p:grpSpPr>
                        <p:sp>
                          <p:nvSpPr>
                            <p:cNvPr id="2284" name="Freeform 1931"/>
                            <p:cNvSpPr/>
                            <p:nvPr/>
                          </p:nvSpPr>
                          <p:spPr>
                            <a:xfrm flipH="1" rot="15715800">
                              <a:off x="1513800" y="333972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85" name="Freeform 1932"/>
                            <p:cNvSpPr/>
                            <p:nvPr/>
                          </p:nvSpPr>
                          <p:spPr>
                            <a:xfrm flipH="1" rot="15715800">
                              <a:off x="1528920" y="33436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286" name="Group 1933"/>
                        <p:cNvGrpSpPr/>
                        <p:nvPr/>
                      </p:nvGrpSpPr>
                      <p:grpSpPr>
                        <a:xfrm>
                          <a:off x="1510920" y="3069000"/>
                          <a:ext cx="172440" cy="182520"/>
                          <a:chOff x="1510920" y="3069000"/>
                          <a:chExt cx="172440" cy="182520"/>
                        </a:xfrm>
                      </p:grpSpPr>
                      <p:grpSp>
                        <p:nvGrpSpPr>
                          <p:cNvPr id="2287" name="Group 1934"/>
                          <p:cNvGrpSpPr/>
                          <p:nvPr/>
                        </p:nvGrpSpPr>
                        <p:grpSpPr>
                          <a:xfrm>
                            <a:off x="1510920" y="3158640"/>
                            <a:ext cx="109080" cy="92880"/>
                            <a:chOff x="1510920" y="3158640"/>
                            <a:chExt cx="109080" cy="92880"/>
                          </a:xfrm>
                        </p:grpSpPr>
                        <p:sp>
                          <p:nvSpPr>
                            <p:cNvPr id="2288" name="Freeform 1935"/>
                            <p:cNvSpPr/>
                            <p:nvPr/>
                          </p:nvSpPr>
                          <p:spPr>
                            <a:xfrm rot="17718000">
                              <a:off x="1532880" y="3161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89" name="Freeform 1936"/>
                            <p:cNvSpPr/>
                            <p:nvPr/>
                          </p:nvSpPr>
                          <p:spPr>
                            <a:xfrm rot="17718000">
                              <a:off x="1549800" y="31528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90" name="Group 1937"/>
                          <p:cNvGrpSpPr/>
                          <p:nvPr/>
                        </p:nvGrpSpPr>
                        <p:grpSpPr>
                          <a:xfrm>
                            <a:off x="1539360" y="3123720"/>
                            <a:ext cx="110520" cy="99000"/>
                            <a:chOff x="1539360" y="3123720"/>
                            <a:chExt cx="110520" cy="99000"/>
                          </a:xfrm>
                        </p:grpSpPr>
                        <p:sp>
                          <p:nvSpPr>
                            <p:cNvPr id="2291" name="Freeform 1938"/>
                            <p:cNvSpPr/>
                            <p:nvPr/>
                          </p:nvSpPr>
                          <p:spPr>
                            <a:xfrm rot="18168600">
                              <a:off x="1562040" y="31291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92" name="Freeform 1939"/>
                            <p:cNvSpPr/>
                            <p:nvPr/>
                          </p:nvSpPr>
                          <p:spPr>
                            <a:xfrm rot="18168600">
                              <a:off x="1580040" y="312156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93" name="Group 1940"/>
                          <p:cNvGrpSpPr/>
                          <p:nvPr/>
                        </p:nvGrpSpPr>
                        <p:grpSpPr>
                          <a:xfrm>
                            <a:off x="1578960" y="3069000"/>
                            <a:ext cx="104400" cy="106560"/>
                            <a:chOff x="1578960" y="3069000"/>
                            <a:chExt cx="104400" cy="106560"/>
                          </a:xfrm>
                        </p:grpSpPr>
                        <p:sp>
                          <p:nvSpPr>
                            <p:cNvPr id="2294" name="Freeform 1941"/>
                            <p:cNvSpPr/>
                            <p:nvPr/>
                          </p:nvSpPr>
                          <p:spPr>
                            <a:xfrm rot="19275000">
                              <a:off x="1599480" y="30783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95" name="Freeform 1942"/>
                            <p:cNvSpPr/>
                            <p:nvPr/>
                          </p:nvSpPr>
                          <p:spPr>
                            <a:xfrm rot="19275000">
                              <a:off x="1618920" y="30736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296" name="Group 1943"/>
                      <p:cNvGrpSpPr/>
                      <p:nvPr/>
                    </p:nvGrpSpPr>
                    <p:grpSpPr>
                      <a:xfrm>
                        <a:off x="1591560" y="2830320"/>
                        <a:ext cx="247680" cy="311760"/>
                        <a:chOff x="1591560" y="2830320"/>
                        <a:chExt cx="247680" cy="311760"/>
                      </a:xfrm>
                    </p:grpSpPr>
                    <p:grpSp>
                      <p:nvGrpSpPr>
                        <p:cNvPr id="2297" name="Group 1944"/>
                        <p:cNvGrpSpPr/>
                        <p:nvPr/>
                      </p:nvGrpSpPr>
                      <p:grpSpPr>
                        <a:xfrm>
                          <a:off x="1658160" y="2830320"/>
                          <a:ext cx="181080" cy="174600"/>
                          <a:chOff x="1658160" y="2830320"/>
                          <a:chExt cx="181080" cy="174600"/>
                        </a:xfrm>
                      </p:grpSpPr>
                      <p:grpSp>
                        <p:nvGrpSpPr>
                          <p:cNvPr id="2298" name="Group 1945"/>
                          <p:cNvGrpSpPr/>
                          <p:nvPr/>
                        </p:nvGrpSpPr>
                        <p:grpSpPr>
                          <a:xfrm>
                            <a:off x="1658160" y="2904840"/>
                            <a:ext cx="109800" cy="100080"/>
                            <a:chOff x="1658160" y="2904840"/>
                            <a:chExt cx="109800" cy="100080"/>
                          </a:xfrm>
                        </p:grpSpPr>
                        <p:sp>
                          <p:nvSpPr>
                            <p:cNvPr id="2299" name="Freeform 1946"/>
                            <p:cNvSpPr/>
                            <p:nvPr/>
                          </p:nvSpPr>
                          <p:spPr>
                            <a:xfrm rot="18273600">
                              <a:off x="1680840" y="2910960"/>
                              <a:ext cx="61200" cy="8784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840"/>
                                <a:gd name="textAreaBottom" fmla="*/ 8820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400" bIns="414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0" name="Freeform 1947"/>
                            <p:cNvSpPr/>
                            <p:nvPr/>
                          </p:nvSpPr>
                          <p:spPr>
                            <a:xfrm rot="18273600">
                              <a:off x="1698840" y="2904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01" name="Group 1948"/>
                          <p:cNvGrpSpPr/>
                          <p:nvPr/>
                        </p:nvGrpSpPr>
                        <p:grpSpPr>
                          <a:xfrm>
                            <a:off x="1692360" y="2876040"/>
                            <a:ext cx="108360" cy="103680"/>
                            <a:chOff x="1692360" y="2876040"/>
                            <a:chExt cx="108360" cy="103680"/>
                          </a:xfrm>
                        </p:grpSpPr>
                        <p:sp>
                          <p:nvSpPr>
                            <p:cNvPr id="2302" name="Freeform 1949"/>
                            <p:cNvSpPr/>
                            <p:nvPr/>
                          </p:nvSpPr>
                          <p:spPr>
                            <a:xfrm rot="18724200">
                              <a:off x="1714320" y="288396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3" name="Freeform 1950"/>
                            <p:cNvSpPr/>
                            <p:nvPr/>
                          </p:nvSpPr>
                          <p:spPr>
                            <a:xfrm rot="18724200">
                              <a:off x="1733400" y="28778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04" name="Group 1951"/>
                          <p:cNvGrpSpPr/>
                          <p:nvPr/>
                        </p:nvGrpSpPr>
                        <p:grpSpPr>
                          <a:xfrm>
                            <a:off x="1742400" y="2830320"/>
                            <a:ext cx="96840" cy="106200"/>
                            <a:chOff x="1742400" y="2830320"/>
                            <a:chExt cx="96840" cy="106200"/>
                          </a:xfrm>
                        </p:grpSpPr>
                        <p:sp>
                          <p:nvSpPr>
                            <p:cNvPr id="2305" name="Freeform 1952"/>
                            <p:cNvSpPr/>
                            <p:nvPr/>
                          </p:nvSpPr>
                          <p:spPr>
                            <a:xfrm rot="19830600">
                              <a:off x="1759680" y="283968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6" name="Freeform 1953"/>
                            <p:cNvSpPr/>
                            <p:nvPr/>
                          </p:nvSpPr>
                          <p:spPr>
                            <a:xfrm rot="19830600">
                              <a:off x="1779480" y="28368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07" name="Group 1954"/>
                        <p:cNvGrpSpPr/>
                        <p:nvPr/>
                      </p:nvGrpSpPr>
                      <p:grpSpPr>
                        <a:xfrm>
                          <a:off x="1591560" y="2959920"/>
                          <a:ext cx="122400" cy="182160"/>
                          <a:chOff x="1591560" y="2959920"/>
                          <a:chExt cx="122400" cy="182160"/>
                        </a:xfrm>
                      </p:grpSpPr>
                      <p:grpSp>
                        <p:nvGrpSpPr>
                          <p:cNvPr id="2308" name="Group 1955"/>
                          <p:cNvGrpSpPr/>
                          <p:nvPr/>
                        </p:nvGrpSpPr>
                        <p:grpSpPr>
                          <a:xfrm>
                            <a:off x="1608120" y="2959920"/>
                            <a:ext cx="105840" cy="94680"/>
                            <a:chOff x="1608120" y="2959920"/>
                            <a:chExt cx="105840" cy="94680"/>
                          </a:xfrm>
                        </p:grpSpPr>
                        <p:sp>
                          <p:nvSpPr>
                            <p:cNvPr id="2309" name="Freeform 1956"/>
                            <p:cNvSpPr/>
                            <p:nvPr/>
                          </p:nvSpPr>
                          <p:spPr>
                            <a:xfrm flipH="1" rot="17828400">
                              <a:off x="1630080" y="2963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10" name="Freeform 1957"/>
                            <p:cNvSpPr/>
                            <p:nvPr/>
                          </p:nvSpPr>
                          <p:spPr>
                            <a:xfrm flipH="1" rot="17828400">
                              <a:off x="1640160" y="29696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11" name="Group 1958"/>
                          <p:cNvGrpSpPr/>
                          <p:nvPr/>
                        </p:nvGrpSpPr>
                        <p:grpSpPr>
                          <a:xfrm>
                            <a:off x="1602000" y="3006360"/>
                            <a:ext cx="102960" cy="87120"/>
                            <a:chOff x="1602000" y="3006360"/>
                            <a:chExt cx="102960" cy="87120"/>
                          </a:xfrm>
                        </p:grpSpPr>
                        <p:sp>
                          <p:nvSpPr>
                            <p:cNvPr id="2312" name="Freeform 1959"/>
                            <p:cNvSpPr/>
                            <p:nvPr/>
                          </p:nvSpPr>
                          <p:spPr>
                            <a:xfrm flipH="1" rot="17377800">
                              <a:off x="1622880" y="30060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13" name="Freeform 1960"/>
                            <p:cNvSpPr/>
                            <p:nvPr/>
                          </p:nvSpPr>
                          <p:spPr>
                            <a:xfrm flipH="1" rot="17377800">
                              <a:off x="1633680" y="3012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14" name="Group 1961"/>
                          <p:cNvGrpSpPr/>
                          <p:nvPr/>
                        </p:nvGrpSpPr>
                        <p:grpSpPr>
                          <a:xfrm>
                            <a:off x="1591560" y="3079080"/>
                            <a:ext cx="94320" cy="63000"/>
                            <a:chOff x="1591560" y="3079080"/>
                            <a:chExt cx="94320" cy="63000"/>
                          </a:xfrm>
                        </p:grpSpPr>
                        <p:sp>
                          <p:nvSpPr>
                            <p:cNvPr id="2315" name="Freeform 1962"/>
                            <p:cNvSpPr/>
                            <p:nvPr/>
                          </p:nvSpPr>
                          <p:spPr>
                            <a:xfrm flipH="1" rot="16271400">
                              <a:off x="1604880" y="306684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16" name="Freeform 1963"/>
                            <p:cNvSpPr/>
                            <p:nvPr/>
                          </p:nvSpPr>
                          <p:spPr>
                            <a:xfrm flipH="1" rot="16271400">
                              <a:off x="1619640" y="3072600"/>
                              <a:ext cx="39600" cy="9216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317" name="Group 1964"/>
                    <p:cNvGrpSpPr/>
                    <p:nvPr/>
                  </p:nvGrpSpPr>
                  <p:grpSpPr>
                    <a:xfrm>
                      <a:off x="1486800" y="3213000"/>
                      <a:ext cx="162720" cy="656280"/>
                      <a:chOff x="1486800" y="3213000"/>
                      <a:chExt cx="162720" cy="656280"/>
                    </a:xfrm>
                  </p:grpSpPr>
                  <p:grpSp>
                    <p:nvGrpSpPr>
                      <p:cNvPr id="2318" name="Group 1965"/>
                      <p:cNvGrpSpPr/>
                      <p:nvPr/>
                    </p:nvGrpSpPr>
                    <p:grpSpPr>
                      <a:xfrm>
                        <a:off x="1486800" y="3501360"/>
                        <a:ext cx="162720" cy="367920"/>
                        <a:chOff x="1486800" y="3501360"/>
                        <a:chExt cx="162720" cy="367920"/>
                      </a:xfrm>
                    </p:grpSpPr>
                    <p:grpSp>
                      <p:nvGrpSpPr>
                        <p:cNvPr id="2319" name="Group 1966"/>
                        <p:cNvGrpSpPr/>
                        <p:nvPr/>
                      </p:nvGrpSpPr>
                      <p:grpSpPr>
                        <a:xfrm>
                          <a:off x="1505520" y="3684240"/>
                          <a:ext cx="144000" cy="185040"/>
                          <a:chOff x="1505520" y="3684240"/>
                          <a:chExt cx="144000" cy="185040"/>
                        </a:xfrm>
                      </p:grpSpPr>
                      <p:grpSp>
                        <p:nvGrpSpPr>
                          <p:cNvPr id="2320" name="Group 1967"/>
                          <p:cNvGrpSpPr/>
                          <p:nvPr/>
                        </p:nvGrpSpPr>
                        <p:grpSpPr>
                          <a:xfrm>
                            <a:off x="1505520" y="3684240"/>
                            <a:ext cx="100800" cy="73080"/>
                            <a:chOff x="1505520" y="3684240"/>
                            <a:chExt cx="100800" cy="73080"/>
                          </a:xfrm>
                        </p:grpSpPr>
                        <p:sp>
                          <p:nvSpPr>
                            <p:cNvPr id="2321" name="Freeform 1968"/>
                            <p:cNvSpPr/>
                            <p:nvPr/>
                          </p:nvSpPr>
                          <p:spPr>
                            <a:xfrm flipH="1" rot="15699600">
                              <a:off x="1522080" y="36766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22" name="Freeform 1969"/>
                            <p:cNvSpPr/>
                            <p:nvPr/>
                          </p:nvSpPr>
                          <p:spPr>
                            <a:xfrm flipH="1" rot="15699600">
                              <a:off x="1537560" y="36817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23" name="Group 1970"/>
                          <p:cNvGrpSpPr/>
                          <p:nvPr/>
                        </p:nvGrpSpPr>
                        <p:grpSpPr>
                          <a:xfrm>
                            <a:off x="1521360" y="3718440"/>
                            <a:ext cx="105840" cy="82800"/>
                            <a:chOff x="1521360" y="3718440"/>
                            <a:chExt cx="105840" cy="82800"/>
                          </a:xfrm>
                        </p:grpSpPr>
                        <p:sp>
                          <p:nvSpPr>
                            <p:cNvPr id="2324" name="Freeform 1971"/>
                            <p:cNvSpPr/>
                            <p:nvPr/>
                          </p:nvSpPr>
                          <p:spPr>
                            <a:xfrm flipH="1" rot="15249000">
                              <a:off x="1540800" y="37159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25" name="Freeform 1972"/>
                            <p:cNvSpPr/>
                            <p:nvPr/>
                          </p:nvSpPr>
                          <p:spPr>
                            <a:xfrm flipH="1" rot="15249000">
                              <a:off x="1557000" y="37202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26" name="Group 1973"/>
                          <p:cNvGrpSpPr/>
                          <p:nvPr/>
                        </p:nvGrpSpPr>
                        <p:grpSpPr>
                          <a:xfrm>
                            <a:off x="1539360" y="3769560"/>
                            <a:ext cx="110160" cy="99720"/>
                            <a:chOff x="1539360" y="3769560"/>
                            <a:chExt cx="110160" cy="99720"/>
                          </a:xfrm>
                        </p:grpSpPr>
                        <p:sp>
                          <p:nvSpPr>
                            <p:cNvPr id="2327" name="Freeform 1974"/>
                            <p:cNvSpPr/>
                            <p:nvPr/>
                          </p:nvSpPr>
                          <p:spPr>
                            <a:xfrm flipH="1" rot="14142600">
                              <a:off x="1562040" y="377604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28" name="Freeform 1975"/>
                            <p:cNvSpPr/>
                            <p:nvPr/>
                          </p:nvSpPr>
                          <p:spPr>
                            <a:xfrm flipH="1" rot="14142600">
                              <a:off x="1580040" y="37774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29" name="Group 1976"/>
                        <p:cNvGrpSpPr/>
                        <p:nvPr/>
                      </p:nvGrpSpPr>
                      <p:grpSpPr>
                        <a:xfrm>
                          <a:off x="1486800" y="3501360"/>
                          <a:ext cx="124560" cy="181440"/>
                          <a:chOff x="1486800" y="3501360"/>
                          <a:chExt cx="124560" cy="181440"/>
                        </a:xfrm>
                      </p:grpSpPr>
                      <p:grpSp>
                        <p:nvGrpSpPr>
                          <p:cNvPr id="2330" name="Group 1977"/>
                          <p:cNvGrpSpPr/>
                          <p:nvPr/>
                        </p:nvGrpSpPr>
                        <p:grpSpPr>
                          <a:xfrm>
                            <a:off x="1486800" y="3620160"/>
                            <a:ext cx="94320" cy="62640"/>
                            <a:chOff x="1486800" y="3620160"/>
                            <a:chExt cx="94320" cy="62640"/>
                          </a:xfrm>
                        </p:grpSpPr>
                        <p:sp>
                          <p:nvSpPr>
                            <p:cNvPr id="2331" name="Freeform 1978"/>
                            <p:cNvSpPr/>
                            <p:nvPr/>
                          </p:nvSpPr>
                          <p:spPr>
                            <a:xfrm rot="16144800">
                              <a:off x="1500480" y="36075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32" name="Freeform 1979"/>
                            <p:cNvSpPr/>
                            <p:nvPr/>
                          </p:nvSpPr>
                          <p:spPr>
                            <a:xfrm rot="16144800">
                              <a:off x="1514520" y="3597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33" name="Group 1980"/>
                          <p:cNvGrpSpPr/>
                          <p:nvPr/>
                        </p:nvGrpSpPr>
                        <p:grpSpPr>
                          <a:xfrm>
                            <a:off x="1496160" y="3574440"/>
                            <a:ext cx="99720" cy="70920"/>
                            <a:chOff x="1496160" y="3574440"/>
                            <a:chExt cx="99720" cy="70920"/>
                          </a:xfrm>
                        </p:grpSpPr>
                        <p:sp>
                          <p:nvSpPr>
                            <p:cNvPr id="2334" name="Freeform 1981"/>
                            <p:cNvSpPr/>
                            <p:nvPr/>
                          </p:nvSpPr>
                          <p:spPr>
                            <a:xfrm rot="16595400">
                              <a:off x="1512360" y="3566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35" name="Freeform 1982"/>
                            <p:cNvSpPr/>
                            <p:nvPr/>
                          </p:nvSpPr>
                          <p:spPr>
                            <a:xfrm rot="16595400">
                              <a:off x="1527480" y="35557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36" name="Group 1983"/>
                          <p:cNvGrpSpPr/>
                          <p:nvPr/>
                        </p:nvGrpSpPr>
                        <p:grpSpPr>
                          <a:xfrm>
                            <a:off x="1501920" y="3501360"/>
                            <a:ext cx="109440" cy="92520"/>
                            <a:chOff x="1501920" y="3501360"/>
                            <a:chExt cx="109440" cy="92520"/>
                          </a:xfrm>
                        </p:grpSpPr>
                        <p:sp>
                          <p:nvSpPr>
                            <p:cNvPr id="2337" name="Freeform 1984"/>
                            <p:cNvSpPr/>
                            <p:nvPr/>
                          </p:nvSpPr>
                          <p:spPr>
                            <a:xfrm rot="17701800">
                              <a:off x="1523880" y="35035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38" name="Freeform 1985"/>
                            <p:cNvSpPr/>
                            <p:nvPr/>
                          </p:nvSpPr>
                          <p:spPr>
                            <a:xfrm rot="17701800">
                              <a:off x="1541160" y="34956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339" name="Group 1986"/>
                      <p:cNvGrpSpPr/>
                      <p:nvPr/>
                    </p:nvGrpSpPr>
                    <p:grpSpPr>
                      <a:xfrm>
                        <a:off x="1486800" y="3213000"/>
                        <a:ext cx="162720" cy="367920"/>
                        <a:chOff x="1486800" y="3213000"/>
                        <a:chExt cx="162720" cy="367920"/>
                      </a:xfrm>
                    </p:grpSpPr>
                    <p:grpSp>
                      <p:nvGrpSpPr>
                        <p:cNvPr id="2340" name="Group 1987"/>
                        <p:cNvGrpSpPr/>
                        <p:nvPr/>
                      </p:nvGrpSpPr>
                      <p:grpSpPr>
                        <a:xfrm>
                          <a:off x="1505520" y="3213000"/>
                          <a:ext cx="144000" cy="185040"/>
                          <a:chOff x="1505520" y="3213000"/>
                          <a:chExt cx="144000" cy="185040"/>
                        </a:xfrm>
                      </p:grpSpPr>
                      <p:grpSp>
                        <p:nvGrpSpPr>
                          <p:cNvPr id="2341" name="Group 1988"/>
                          <p:cNvGrpSpPr/>
                          <p:nvPr/>
                        </p:nvGrpSpPr>
                        <p:grpSpPr>
                          <a:xfrm>
                            <a:off x="1505520" y="3324960"/>
                            <a:ext cx="100800" cy="73080"/>
                            <a:chOff x="1505520" y="3324960"/>
                            <a:chExt cx="100800" cy="73080"/>
                          </a:xfrm>
                        </p:grpSpPr>
                        <p:sp>
                          <p:nvSpPr>
                            <p:cNvPr id="2342" name="Freeform 1989"/>
                            <p:cNvSpPr/>
                            <p:nvPr/>
                          </p:nvSpPr>
                          <p:spPr>
                            <a:xfrm rot="16700400">
                              <a:off x="1522800" y="3317400"/>
                              <a:ext cx="61200" cy="8784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840"/>
                                <a:gd name="textAreaBottom" fmla="*/ 8820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400" bIns="414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43" name="Freeform 1990"/>
                            <p:cNvSpPr/>
                            <p:nvPr/>
                          </p:nvSpPr>
                          <p:spPr>
                            <a:xfrm rot="16700400">
                              <a:off x="1537920" y="33076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44" name="Group 1991"/>
                          <p:cNvGrpSpPr/>
                          <p:nvPr/>
                        </p:nvGrpSpPr>
                        <p:grpSpPr>
                          <a:xfrm>
                            <a:off x="1521360" y="3281040"/>
                            <a:ext cx="105840" cy="82800"/>
                            <a:chOff x="1521360" y="3281040"/>
                            <a:chExt cx="105840" cy="82800"/>
                          </a:xfrm>
                        </p:grpSpPr>
                        <p:sp>
                          <p:nvSpPr>
                            <p:cNvPr id="2345" name="Freeform 1992"/>
                            <p:cNvSpPr/>
                            <p:nvPr/>
                          </p:nvSpPr>
                          <p:spPr>
                            <a:xfrm rot="17151000">
                              <a:off x="1540800" y="327888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46" name="Freeform 1993"/>
                            <p:cNvSpPr/>
                            <p:nvPr/>
                          </p:nvSpPr>
                          <p:spPr>
                            <a:xfrm rot="17151000">
                              <a:off x="1557360" y="326916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47" name="Group 1994"/>
                          <p:cNvGrpSpPr/>
                          <p:nvPr/>
                        </p:nvGrpSpPr>
                        <p:grpSpPr>
                          <a:xfrm>
                            <a:off x="1539360" y="3213000"/>
                            <a:ext cx="110160" cy="99360"/>
                            <a:chOff x="1539360" y="3213000"/>
                            <a:chExt cx="110160" cy="99360"/>
                          </a:xfrm>
                        </p:grpSpPr>
                        <p:sp>
                          <p:nvSpPr>
                            <p:cNvPr id="2348" name="Freeform 1995"/>
                            <p:cNvSpPr/>
                            <p:nvPr/>
                          </p:nvSpPr>
                          <p:spPr>
                            <a:xfrm rot="18257400">
                              <a:off x="1561680" y="321876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49" name="Freeform 1996"/>
                            <p:cNvSpPr/>
                            <p:nvPr/>
                          </p:nvSpPr>
                          <p:spPr>
                            <a:xfrm rot="18257400">
                              <a:off x="1580400" y="32119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50" name="Group 1997"/>
                        <p:cNvGrpSpPr/>
                        <p:nvPr/>
                      </p:nvGrpSpPr>
                      <p:grpSpPr>
                        <a:xfrm>
                          <a:off x="1486800" y="3399480"/>
                          <a:ext cx="124560" cy="181440"/>
                          <a:chOff x="1486800" y="3399480"/>
                          <a:chExt cx="124560" cy="181440"/>
                        </a:xfrm>
                      </p:grpSpPr>
                      <p:grpSp>
                        <p:nvGrpSpPr>
                          <p:cNvPr id="2351" name="Group 1998"/>
                          <p:cNvGrpSpPr/>
                          <p:nvPr/>
                        </p:nvGrpSpPr>
                        <p:grpSpPr>
                          <a:xfrm>
                            <a:off x="1486800" y="3399480"/>
                            <a:ext cx="94320" cy="62640"/>
                            <a:chOff x="1486800" y="3399480"/>
                            <a:chExt cx="94320" cy="62640"/>
                          </a:xfrm>
                        </p:grpSpPr>
                        <p:sp>
                          <p:nvSpPr>
                            <p:cNvPr id="2352" name="Freeform 1999"/>
                            <p:cNvSpPr/>
                            <p:nvPr/>
                          </p:nvSpPr>
                          <p:spPr>
                            <a:xfrm flipH="1" rot="16255200">
                              <a:off x="1500120" y="33868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3" name="Freeform 2000"/>
                            <p:cNvSpPr/>
                            <p:nvPr/>
                          </p:nvSpPr>
                          <p:spPr>
                            <a:xfrm flipH="1" rot="16255200">
                              <a:off x="1514160" y="33922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54" name="Group 2001"/>
                          <p:cNvGrpSpPr/>
                          <p:nvPr/>
                        </p:nvGrpSpPr>
                        <p:grpSpPr>
                          <a:xfrm>
                            <a:off x="1496160" y="3436920"/>
                            <a:ext cx="99720" cy="70920"/>
                            <a:chOff x="1496160" y="3436920"/>
                            <a:chExt cx="99720" cy="70920"/>
                          </a:xfrm>
                        </p:grpSpPr>
                        <p:sp>
                          <p:nvSpPr>
                            <p:cNvPr id="2355" name="Freeform 2002"/>
                            <p:cNvSpPr/>
                            <p:nvPr/>
                          </p:nvSpPr>
                          <p:spPr>
                            <a:xfrm flipH="1" rot="15804600">
                              <a:off x="1512000" y="34282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6" name="Freeform 2003"/>
                            <p:cNvSpPr/>
                            <p:nvPr/>
                          </p:nvSpPr>
                          <p:spPr>
                            <a:xfrm flipH="1" rot="15804600">
                              <a:off x="1527840" y="34336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57" name="Group 2004"/>
                          <p:cNvGrpSpPr/>
                          <p:nvPr/>
                        </p:nvGrpSpPr>
                        <p:grpSpPr>
                          <a:xfrm>
                            <a:off x="1501920" y="3488400"/>
                            <a:ext cx="109440" cy="92520"/>
                            <a:chOff x="1501920" y="3488400"/>
                            <a:chExt cx="109440" cy="92520"/>
                          </a:xfrm>
                        </p:grpSpPr>
                        <p:sp>
                          <p:nvSpPr>
                            <p:cNvPr id="2358" name="Freeform 2005"/>
                            <p:cNvSpPr/>
                            <p:nvPr/>
                          </p:nvSpPr>
                          <p:spPr>
                            <a:xfrm flipH="1" rot="14698200">
                              <a:off x="1523520" y="34909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59" name="Freeform 2006"/>
                            <p:cNvSpPr/>
                            <p:nvPr/>
                          </p:nvSpPr>
                          <p:spPr>
                            <a:xfrm flipH="1" rot="14698200">
                              <a:off x="1540800" y="3494160"/>
                              <a:ext cx="39600" cy="9216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360" name="Group 2007"/>
                    <p:cNvGrpSpPr/>
                    <p:nvPr/>
                  </p:nvGrpSpPr>
                  <p:grpSpPr>
                    <a:xfrm>
                      <a:off x="1621440" y="3557160"/>
                      <a:ext cx="371880" cy="567720"/>
                      <a:chOff x="1621440" y="3557160"/>
                      <a:chExt cx="371880" cy="567720"/>
                    </a:xfrm>
                  </p:grpSpPr>
                  <p:grpSp>
                    <p:nvGrpSpPr>
                      <p:cNvPr id="2361" name="Group 2008"/>
                      <p:cNvGrpSpPr/>
                      <p:nvPr/>
                    </p:nvGrpSpPr>
                    <p:grpSpPr>
                      <a:xfrm>
                        <a:off x="1730880" y="3822120"/>
                        <a:ext cx="262440" cy="302760"/>
                        <a:chOff x="1730880" y="3822120"/>
                        <a:chExt cx="262440" cy="302760"/>
                      </a:xfrm>
                    </p:grpSpPr>
                    <p:grpSp>
                      <p:nvGrpSpPr>
                        <p:cNvPr id="2362" name="Group 2009"/>
                        <p:cNvGrpSpPr/>
                        <p:nvPr/>
                      </p:nvGrpSpPr>
                      <p:grpSpPr>
                        <a:xfrm>
                          <a:off x="1809720" y="3955680"/>
                          <a:ext cx="183600" cy="169200"/>
                          <a:chOff x="1809720" y="3955680"/>
                          <a:chExt cx="183600" cy="169200"/>
                        </a:xfrm>
                      </p:grpSpPr>
                      <p:grpSp>
                        <p:nvGrpSpPr>
                          <p:cNvPr id="2363" name="Group 2010"/>
                          <p:cNvGrpSpPr/>
                          <p:nvPr/>
                        </p:nvGrpSpPr>
                        <p:grpSpPr>
                          <a:xfrm>
                            <a:off x="1809720" y="3955680"/>
                            <a:ext cx="109440" cy="102240"/>
                            <a:chOff x="1809720" y="3955680"/>
                            <a:chExt cx="109440" cy="102240"/>
                          </a:xfrm>
                        </p:grpSpPr>
                        <p:sp>
                          <p:nvSpPr>
                            <p:cNvPr id="2364" name="Freeform 2011"/>
                            <p:cNvSpPr/>
                            <p:nvPr/>
                          </p:nvSpPr>
                          <p:spPr>
                            <a:xfrm flipH="1" rot="13890000">
                              <a:off x="1832040" y="39628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65" name="Freeform 2012"/>
                            <p:cNvSpPr/>
                            <p:nvPr/>
                          </p:nvSpPr>
                          <p:spPr>
                            <a:xfrm flipH="1" rot="13890000">
                              <a:off x="1850400" y="39646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66" name="Group 2013"/>
                          <p:cNvGrpSpPr/>
                          <p:nvPr/>
                        </p:nvGrpSpPr>
                        <p:grpSpPr>
                          <a:xfrm>
                            <a:off x="1846440" y="3978720"/>
                            <a:ext cx="106920" cy="105480"/>
                            <a:chOff x="1846440" y="3978720"/>
                            <a:chExt cx="106920" cy="105480"/>
                          </a:xfrm>
                        </p:grpSpPr>
                        <p:sp>
                          <p:nvSpPr>
                            <p:cNvPr id="2367" name="Freeform 2014"/>
                            <p:cNvSpPr/>
                            <p:nvPr/>
                          </p:nvSpPr>
                          <p:spPr>
                            <a:xfrm flipH="1" rot="13439400">
                              <a:off x="1867680" y="39877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68" name="Freeform 2015"/>
                            <p:cNvSpPr/>
                            <p:nvPr/>
                          </p:nvSpPr>
                          <p:spPr>
                            <a:xfrm flipH="1" rot="13439400">
                              <a:off x="1886760" y="398808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69" name="Group 2016"/>
                          <p:cNvGrpSpPr/>
                          <p:nvPr/>
                        </p:nvGrpSpPr>
                        <p:grpSpPr>
                          <a:xfrm>
                            <a:off x="1900440" y="4019760"/>
                            <a:ext cx="92880" cy="105120"/>
                            <a:chOff x="1900440" y="4019760"/>
                            <a:chExt cx="92880" cy="105120"/>
                          </a:xfrm>
                        </p:grpSpPr>
                        <p:sp>
                          <p:nvSpPr>
                            <p:cNvPr id="2370" name="Freeform 2017"/>
                            <p:cNvSpPr/>
                            <p:nvPr/>
                          </p:nvSpPr>
                          <p:spPr>
                            <a:xfrm flipH="1" rot="12333000">
                              <a:off x="1915560" y="402876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71" name="Freeform 2018"/>
                            <p:cNvSpPr/>
                            <p:nvPr/>
                          </p:nvSpPr>
                          <p:spPr>
                            <a:xfrm flipH="1" rot="12333000">
                              <a:off x="1935360" y="40262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72" name="Group 2019"/>
                        <p:cNvGrpSpPr/>
                        <p:nvPr/>
                      </p:nvGrpSpPr>
                      <p:grpSpPr>
                        <a:xfrm>
                          <a:off x="1730880" y="3822120"/>
                          <a:ext cx="131400" cy="184680"/>
                          <a:chOff x="1730880" y="3822120"/>
                          <a:chExt cx="131400" cy="184680"/>
                        </a:xfrm>
                      </p:grpSpPr>
                      <p:grpSp>
                        <p:nvGrpSpPr>
                          <p:cNvPr id="2373" name="Group 2020"/>
                          <p:cNvGrpSpPr/>
                          <p:nvPr/>
                        </p:nvGrpSpPr>
                        <p:grpSpPr>
                          <a:xfrm>
                            <a:off x="1755720" y="3908520"/>
                            <a:ext cx="106560" cy="98280"/>
                            <a:chOff x="1755720" y="3908520"/>
                            <a:chExt cx="106560" cy="98280"/>
                          </a:xfrm>
                        </p:grpSpPr>
                        <p:sp>
                          <p:nvSpPr>
                            <p:cNvPr id="2374" name="Freeform 2021"/>
                            <p:cNvSpPr/>
                            <p:nvPr/>
                          </p:nvSpPr>
                          <p:spPr>
                            <a:xfrm rot="14335200">
                              <a:off x="1778400" y="391392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75" name="Freeform 2022"/>
                            <p:cNvSpPr/>
                            <p:nvPr/>
                          </p:nvSpPr>
                          <p:spPr>
                            <a:xfrm rot="14335200">
                              <a:off x="1788120" y="390312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76" name="Group 2023"/>
                          <p:cNvGrpSpPr/>
                          <p:nvPr/>
                        </p:nvGrpSpPr>
                        <p:grpSpPr>
                          <a:xfrm>
                            <a:off x="1746360" y="3870360"/>
                            <a:ext cx="104760" cy="91080"/>
                            <a:chOff x="1746360" y="3870360"/>
                            <a:chExt cx="104760" cy="91080"/>
                          </a:xfrm>
                        </p:grpSpPr>
                        <p:sp>
                          <p:nvSpPr>
                            <p:cNvPr id="2377" name="Freeform 2024"/>
                            <p:cNvSpPr/>
                            <p:nvPr/>
                          </p:nvSpPr>
                          <p:spPr>
                            <a:xfrm rot="14785800">
                              <a:off x="1767960" y="387216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78" name="Freeform 2025"/>
                            <p:cNvSpPr/>
                            <p:nvPr/>
                          </p:nvSpPr>
                          <p:spPr>
                            <a:xfrm rot="14785800">
                              <a:off x="1778760" y="38606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79" name="Group 2026"/>
                          <p:cNvGrpSpPr/>
                          <p:nvPr/>
                        </p:nvGrpSpPr>
                        <p:grpSpPr>
                          <a:xfrm>
                            <a:off x="1730880" y="3822120"/>
                            <a:ext cx="97200" cy="68760"/>
                            <a:chOff x="1730880" y="3822120"/>
                            <a:chExt cx="97200" cy="68760"/>
                          </a:xfrm>
                        </p:grpSpPr>
                        <p:sp>
                          <p:nvSpPr>
                            <p:cNvPr id="2380" name="Freeform 2027"/>
                            <p:cNvSpPr/>
                            <p:nvPr/>
                          </p:nvSpPr>
                          <p:spPr>
                            <a:xfrm rot="15892200">
                              <a:off x="1746360" y="38124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81" name="Freeform 2028"/>
                            <p:cNvSpPr/>
                            <p:nvPr/>
                          </p:nvSpPr>
                          <p:spPr>
                            <a:xfrm rot="15892200">
                              <a:off x="1760400" y="380196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382" name="Group 2029"/>
                      <p:cNvGrpSpPr/>
                      <p:nvPr/>
                    </p:nvGrpSpPr>
                    <p:grpSpPr>
                      <a:xfrm>
                        <a:off x="1621440" y="3557160"/>
                        <a:ext cx="200520" cy="341640"/>
                        <a:chOff x="1621440" y="3557160"/>
                        <a:chExt cx="200520" cy="341640"/>
                      </a:xfrm>
                    </p:grpSpPr>
                    <p:grpSp>
                      <p:nvGrpSpPr>
                        <p:cNvPr id="2383" name="Group 2030"/>
                        <p:cNvGrpSpPr/>
                        <p:nvPr/>
                      </p:nvGrpSpPr>
                      <p:grpSpPr>
                        <a:xfrm>
                          <a:off x="1621440" y="3557160"/>
                          <a:ext cx="113760" cy="183600"/>
                          <a:chOff x="1621440" y="3557160"/>
                          <a:chExt cx="113760" cy="183600"/>
                        </a:xfrm>
                      </p:grpSpPr>
                      <p:grpSp>
                        <p:nvGrpSpPr>
                          <p:cNvPr id="2384" name="Group 2031"/>
                          <p:cNvGrpSpPr/>
                          <p:nvPr/>
                        </p:nvGrpSpPr>
                        <p:grpSpPr>
                          <a:xfrm>
                            <a:off x="1630800" y="3651120"/>
                            <a:ext cx="104400" cy="89640"/>
                            <a:chOff x="1630800" y="3651120"/>
                            <a:chExt cx="104400" cy="89640"/>
                          </a:xfrm>
                        </p:grpSpPr>
                        <p:sp>
                          <p:nvSpPr>
                            <p:cNvPr id="2385" name="Freeform 2032"/>
                            <p:cNvSpPr/>
                            <p:nvPr/>
                          </p:nvSpPr>
                          <p:spPr>
                            <a:xfrm rot="14890800">
                              <a:off x="1652040" y="3651840"/>
                              <a:ext cx="61200" cy="8784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840"/>
                                <a:gd name="textAreaBottom" fmla="*/ 8820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400" bIns="414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86" name="Freeform 2033"/>
                            <p:cNvSpPr/>
                            <p:nvPr/>
                          </p:nvSpPr>
                          <p:spPr>
                            <a:xfrm rot="14890800">
                              <a:off x="1662840" y="36410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87" name="Group 2034"/>
                          <p:cNvGrpSpPr/>
                          <p:nvPr/>
                        </p:nvGrpSpPr>
                        <p:grpSpPr>
                          <a:xfrm>
                            <a:off x="1629000" y="3612600"/>
                            <a:ext cx="101160" cy="81000"/>
                            <a:chOff x="1629000" y="3612600"/>
                            <a:chExt cx="101160" cy="81000"/>
                          </a:xfrm>
                        </p:grpSpPr>
                        <p:sp>
                          <p:nvSpPr>
                            <p:cNvPr id="2388" name="Freeform 2035"/>
                            <p:cNvSpPr/>
                            <p:nvPr/>
                          </p:nvSpPr>
                          <p:spPr>
                            <a:xfrm rot="15341400">
                              <a:off x="1648080" y="360936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89" name="Freeform 2036"/>
                            <p:cNvSpPr/>
                            <p:nvPr/>
                          </p:nvSpPr>
                          <p:spPr>
                            <a:xfrm rot="15341400">
                              <a:off x="1660320" y="35982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90" name="Group 2037"/>
                          <p:cNvGrpSpPr/>
                          <p:nvPr/>
                        </p:nvGrpSpPr>
                        <p:grpSpPr>
                          <a:xfrm>
                            <a:off x="1621440" y="3557160"/>
                            <a:ext cx="97560" cy="67320"/>
                            <a:chOff x="1621440" y="3557160"/>
                            <a:chExt cx="97560" cy="67320"/>
                          </a:xfrm>
                        </p:grpSpPr>
                        <p:sp>
                          <p:nvSpPr>
                            <p:cNvPr id="2391" name="Freeform 2038"/>
                            <p:cNvSpPr/>
                            <p:nvPr/>
                          </p:nvSpPr>
                          <p:spPr>
                            <a:xfrm rot="16447800">
                              <a:off x="1636200" y="3547080"/>
                              <a:ext cx="61200" cy="87120"/>
                            </a:xfrm>
                            <a:custGeom>
                              <a:avLst/>
                              <a:gdLst>
                                <a:gd name="textAreaLeft" fmla="*/ 0 w 61200"/>
                                <a:gd name="textAreaRight" fmla="*/ 61560 w 612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92" name="Freeform 2039"/>
                            <p:cNvSpPr/>
                            <p:nvPr/>
                          </p:nvSpPr>
                          <p:spPr>
                            <a:xfrm rot="16447800">
                              <a:off x="1651680" y="353664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0 w 39600"/>
                                <a:gd name="textAreaRight" fmla="*/ 3996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393" name="Group 2040"/>
                        <p:cNvGrpSpPr/>
                        <p:nvPr/>
                      </p:nvGrpSpPr>
                      <p:grpSpPr>
                        <a:xfrm>
                          <a:off x="1645200" y="3719160"/>
                          <a:ext cx="176760" cy="179640"/>
                          <a:chOff x="1645200" y="3719160"/>
                          <a:chExt cx="176760" cy="179640"/>
                        </a:xfrm>
                      </p:grpSpPr>
                      <p:grpSp>
                        <p:nvGrpSpPr>
                          <p:cNvPr id="2394" name="Group 2041"/>
                          <p:cNvGrpSpPr/>
                          <p:nvPr/>
                        </p:nvGrpSpPr>
                        <p:grpSpPr>
                          <a:xfrm>
                            <a:off x="1645200" y="3719160"/>
                            <a:ext cx="109800" cy="96120"/>
                            <a:chOff x="1645200" y="3719160"/>
                            <a:chExt cx="109800" cy="96120"/>
                          </a:xfrm>
                        </p:grpSpPr>
                        <p:sp>
                          <p:nvSpPr>
                            <p:cNvPr id="2395" name="Freeform 2042"/>
                            <p:cNvSpPr/>
                            <p:nvPr/>
                          </p:nvSpPr>
                          <p:spPr>
                            <a:xfrm flipH="1" rot="14445600">
                              <a:off x="1667160" y="372348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96" name="Freeform 2043"/>
                            <p:cNvSpPr/>
                            <p:nvPr/>
                          </p:nvSpPr>
                          <p:spPr>
                            <a:xfrm flipH="1" rot="14445600">
                              <a:off x="1685160" y="37260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397" name="Group 2044"/>
                          <p:cNvGrpSpPr/>
                          <p:nvPr/>
                        </p:nvGrpSpPr>
                        <p:grpSpPr>
                          <a:xfrm>
                            <a:off x="1676160" y="3746160"/>
                            <a:ext cx="110160" cy="101520"/>
                            <a:chOff x="1676160" y="3746160"/>
                            <a:chExt cx="110160" cy="101520"/>
                          </a:xfrm>
                        </p:grpSpPr>
                        <p:sp>
                          <p:nvSpPr>
                            <p:cNvPr id="2398" name="Freeform 2045"/>
                            <p:cNvSpPr/>
                            <p:nvPr/>
                          </p:nvSpPr>
                          <p:spPr>
                            <a:xfrm flipH="1" rot="13995000">
                              <a:off x="1698480" y="37530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99" name="Freeform 2046"/>
                            <p:cNvSpPr/>
                            <p:nvPr/>
                          </p:nvSpPr>
                          <p:spPr>
                            <a:xfrm flipH="1" rot="13995000">
                              <a:off x="1717560" y="3754800"/>
                              <a:ext cx="39600" cy="9252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520"/>
                                <a:gd name="textAreaBottom" fmla="*/ 92880 h 92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080" bIns="4608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00" name="Group 2047"/>
                          <p:cNvGrpSpPr/>
                          <p:nvPr/>
                        </p:nvGrpSpPr>
                        <p:grpSpPr>
                          <a:xfrm>
                            <a:off x="1720440" y="3791880"/>
                            <a:ext cx="101520" cy="106920"/>
                            <a:chOff x="1720440" y="3791880"/>
                            <a:chExt cx="101520" cy="106920"/>
                          </a:xfrm>
                        </p:grpSpPr>
                        <p:sp>
                          <p:nvSpPr>
                            <p:cNvPr id="2401" name="Freeform 2048"/>
                            <p:cNvSpPr/>
                            <p:nvPr/>
                          </p:nvSpPr>
                          <p:spPr>
                            <a:xfrm flipH="1" rot="12888600">
                              <a:off x="1739520" y="3801600"/>
                              <a:ext cx="61200" cy="87480"/>
                            </a:xfrm>
                            <a:custGeom>
                              <a:avLst/>
                              <a:gdLst>
                                <a:gd name="textAreaLeft" fmla="*/ 360 w 61200"/>
                                <a:gd name="textAreaRight" fmla="*/ 61920 w 61200"/>
                                <a:gd name="textAreaTop" fmla="*/ 0 h 87480"/>
                                <a:gd name="textAreaBottom" fmla="*/ 87840 h 8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1040" bIns="4104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02" name="Freeform 2049"/>
                            <p:cNvSpPr/>
                            <p:nvPr/>
                          </p:nvSpPr>
                          <p:spPr>
                            <a:xfrm flipH="1" rot="12888600">
                              <a:off x="1759320" y="3800880"/>
                              <a:ext cx="39600" cy="92160"/>
                            </a:xfrm>
                            <a:custGeom>
                              <a:avLst/>
                              <a:gdLst>
                                <a:gd name="textAreaLeft" fmla="*/ 360 w 39600"/>
                                <a:gd name="textAreaRight" fmla="*/ 40320 w 3960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403" name="Group 2050"/>
                    <p:cNvGrpSpPr/>
                    <p:nvPr/>
                  </p:nvGrpSpPr>
                  <p:grpSpPr>
                    <a:xfrm>
                      <a:off x="2743920" y="2311200"/>
                      <a:ext cx="495360" cy="299880"/>
                      <a:chOff x="2743920" y="2311200"/>
                      <a:chExt cx="495360" cy="299880"/>
                    </a:xfrm>
                  </p:grpSpPr>
                  <p:grpSp>
                    <p:nvGrpSpPr>
                      <p:cNvPr id="2404" name="Group 2051"/>
                      <p:cNvGrpSpPr/>
                      <p:nvPr/>
                    </p:nvGrpSpPr>
                    <p:grpSpPr>
                      <a:xfrm>
                        <a:off x="2743920" y="2365920"/>
                        <a:ext cx="263520" cy="245160"/>
                        <a:chOff x="2743920" y="2365920"/>
                        <a:chExt cx="263520" cy="245160"/>
                      </a:xfrm>
                    </p:grpSpPr>
                    <p:grpSp>
                      <p:nvGrpSpPr>
                        <p:cNvPr id="2405" name="Group 2052"/>
                        <p:cNvGrpSpPr/>
                        <p:nvPr/>
                      </p:nvGrpSpPr>
                      <p:grpSpPr>
                        <a:xfrm>
                          <a:off x="2878200" y="2365920"/>
                          <a:ext cx="129240" cy="158400"/>
                          <a:chOff x="2878200" y="2365920"/>
                          <a:chExt cx="129240" cy="158400"/>
                        </a:xfrm>
                      </p:grpSpPr>
                      <p:sp>
                        <p:nvSpPr>
                          <p:cNvPr id="2406" name="Freeform 2053"/>
                          <p:cNvSpPr/>
                          <p:nvPr/>
                        </p:nvSpPr>
                        <p:spPr>
                          <a:xfrm flipH="1" rot="20247600">
                            <a:off x="2898360" y="23774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07" name="Freeform 2054"/>
                          <p:cNvSpPr/>
                          <p:nvPr/>
                        </p:nvSpPr>
                        <p:spPr>
                          <a:xfrm flipH="1" rot="20247600">
                            <a:off x="2905200" y="23832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08" name="Group 2055"/>
                        <p:cNvGrpSpPr/>
                        <p:nvPr/>
                      </p:nvGrpSpPr>
                      <p:grpSpPr>
                        <a:xfrm>
                          <a:off x="2825280" y="2404440"/>
                          <a:ext cx="139680" cy="159840"/>
                          <a:chOff x="2825280" y="2404440"/>
                          <a:chExt cx="139680" cy="159840"/>
                        </a:xfrm>
                      </p:grpSpPr>
                      <p:sp>
                        <p:nvSpPr>
                          <p:cNvPr id="2409" name="Freeform 2056"/>
                          <p:cNvSpPr/>
                          <p:nvPr/>
                        </p:nvSpPr>
                        <p:spPr>
                          <a:xfrm flipH="1" rot="19797000">
                            <a:off x="2851200" y="24174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10" name="Freeform 2057"/>
                          <p:cNvSpPr/>
                          <p:nvPr/>
                        </p:nvSpPr>
                        <p:spPr>
                          <a:xfrm flipH="1" rot="19797000">
                            <a:off x="2859120" y="24242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1" name="Group 2058"/>
                        <p:cNvGrpSpPr/>
                        <p:nvPr/>
                      </p:nvGrpSpPr>
                      <p:grpSpPr>
                        <a:xfrm>
                          <a:off x="2743920" y="2457360"/>
                          <a:ext cx="153360" cy="153720"/>
                          <a:chOff x="2743920" y="2457360"/>
                          <a:chExt cx="153360" cy="153720"/>
                        </a:xfrm>
                      </p:grpSpPr>
                      <p:sp>
                        <p:nvSpPr>
                          <p:cNvPr id="2412" name="Freeform 2059"/>
                          <p:cNvSpPr/>
                          <p:nvPr/>
                        </p:nvSpPr>
                        <p:spPr>
                          <a:xfrm flipH="1" rot="18690600">
                            <a:off x="2776680" y="24685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13" name="Freeform 2060"/>
                          <p:cNvSpPr/>
                          <p:nvPr/>
                        </p:nvSpPr>
                        <p:spPr>
                          <a:xfrm flipH="1" rot="18690600">
                            <a:off x="2787840" y="24771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14" name="Group 2061"/>
                      <p:cNvGrpSpPr/>
                      <p:nvPr/>
                    </p:nvGrpSpPr>
                    <p:grpSpPr>
                      <a:xfrm>
                        <a:off x="2972880" y="2311200"/>
                        <a:ext cx="266400" cy="150840"/>
                        <a:chOff x="2972880" y="2311200"/>
                        <a:chExt cx="266400" cy="150840"/>
                      </a:xfrm>
                    </p:grpSpPr>
                    <p:grpSp>
                      <p:nvGrpSpPr>
                        <p:cNvPr id="2415" name="Group 2062"/>
                        <p:cNvGrpSpPr/>
                        <p:nvPr/>
                      </p:nvGrpSpPr>
                      <p:grpSpPr>
                        <a:xfrm>
                          <a:off x="2972880" y="2312640"/>
                          <a:ext cx="117720" cy="147240"/>
                          <a:chOff x="2972880" y="2312640"/>
                          <a:chExt cx="117720" cy="147240"/>
                        </a:xfrm>
                      </p:grpSpPr>
                      <p:sp>
                        <p:nvSpPr>
                          <p:cNvPr id="2416" name="Freeform 2063"/>
                          <p:cNvSpPr/>
                          <p:nvPr/>
                        </p:nvSpPr>
                        <p:spPr>
                          <a:xfrm rot="20692800">
                            <a:off x="2987640" y="23216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17" name="Freeform 2064"/>
                          <p:cNvSpPr/>
                          <p:nvPr/>
                        </p:nvSpPr>
                        <p:spPr>
                          <a:xfrm rot="20692800">
                            <a:off x="3015720" y="23198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18" name="Group 2065"/>
                        <p:cNvGrpSpPr/>
                        <p:nvPr/>
                      </p:nvGrpSpPr>
                      <p:grpSpPr>
                        <a:xfrm>
                          <a:off x="3042000" y="2318760"/>
                          <a:ext cx="103680" cy="143280"/>
                          <a:chOff x="3042000" y="2318760"/>
                          <a:chExt cx="103680" cy="143280"/>
                        </a:xfrm>
                      </p:grpSpPr>
                      <p:sp>
                        <p:nvSpPr>
                          <p:cNvPr id="2419" name="Freeform 2066"/>
                          <p:cNvSpPr/>
                          <p:nvPr/>
                        </p:nvSpPr>
                        <p:spPr>
                          <a:xfrm rot="21143400">
                            <a:off x="3049920" y="23238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20" name="Freeform 2067"/>
                          <p:cNvSpPr/>
                          <p:nvPr/>
                        </p:nvSpPr>
                        <p:spPr>
                          <a:xfrm rot="21143400">
                            <a:off x="3077640" y="23234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21" name="Group 2068"/>
                        <p:cNvGrpSpPr/>
                        <p:nvPr/>
                      </p:nvGrpSpPr>
                      <p:grpSpPr>
                        <a:xfrm>
                          <a:off x="3129120" y="2311200"/>
                          <a:ext cx="110160" cy="150480"/>
                          <a:chOff x="3129120" y="2311200"/>
                          <a:chExt cx="110160" cy="150480"/>
                        </a:xfrm>
                      </p:grpSpPr>
                      <p:sp>
                        <p:nvSpPr>
                          <p:cNvPr id="2422" name="Freeform 2069"/>
                          <p:cNvSpPr/>
                          <p:nvPr/>
                        </p:nvSpPr>
                        <p:spPr>
                          <a:xfrm rot="649800">
                            <a:off x="3140280" y="2318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23" name="Freeform 2070"/>
                          <p:cNvSpPr/>
                          <p:nvPr/>
                        </p:nvSpPr>
                        <p:spPr>
                          <a:xfrm rot="649800">
                            <a:off x="3166200" y="2322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424" name="Group 2071"/>
                    <p:cNvGrpSpPr/>
                    <p:nvPr/>
                  </p:nvGrpSpPr>
                  <p:grpSpPr>
                    <a:xfrm>
                      <a:off x="2002680" y="2444040"/>
                      <a:ext cx="495360" cy="299880"/>
                      <a:chOff x="2002680" y="2444040"/>
                      <a:chExt cx="495360" cy="299880"/>
                    </a:xfrm>
                  </p:grpSpPr>
                  <p:grpSp>
                    <p:nvGrpSpPr>
                      <p:cNvPr id="2425" name="Group 2072"/>
                      <p:cNvGrpSpPr/>
                      <p:nvPr/>
                    </p:nvGrpSpPr>
                    <p:grpSpPr>
                      <a:xfrm>
                        <a:off x="2002680" y="2498760"/>
                        <a:ext cx="263520" cy="245160"/>
                        <a:chOff x="2002680" y="2498760"/>
                        <a:chExt cx="263520" cy="245160"/>
                      </a:xfrm>
                    </p:grpSpPr>
                    <p:grpSp>
                      <p:nvGrpSpPr>
                        <p:cNvPr id="2426" name="Group 2073"/>
                        <p:cNvGrpSpPr/>
                        <p:nvPr/>
                      </p:nvGrpSpPr>
                      <p:grpSpPr>
                        <a:xfrm>
                          <a:off x="2136960" y="2498760"/>
                          <a:ext cx="129240" cy="158400"/>
                          <a:chOff x="2136960" y="2498760"/>
                          <a:chExt cx="129240" cy="158400"/>
                        </a:xfrm>
                      </p:grpSpPr>
                      <p:sp>
                        <p:nvSpPr>
                          <p:cNvPr id="2427" name="Freeform 2074"/>
                          <p:cNvSpPr/>
                          <p:nvPr/>
                        </p:nvSpPr>
                        <p:spPr>
                          <a:xfrm flipH="1" rot="20247600">
                            <a:off x="2157120" y="25102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28" name="Freeform 2075"/>
                          <p:cNvSpPr/>
                          <p:nvPr/>
                        </p:nvSpPr>
                        <p:spPr>
                          <a:xfrm flipH="1" rot="20247600">
                            <a:off x="2163960" y="25160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29" name="Group 2076"/>
                        <p:cNvGrpSpPr/>
                        <p:nvPr/>
                      </p:nvGrpSpPr>
                      <p:grpSpPr>
                        <a:xfrm>
                          <a:off x="2084040" y="2537280"/>
                          <a:ext cx="139680" cy="159840"/>
                          <a:chOff x="2084040" y="2537280"/>
                          <a:chExt cx="139680" cy="159840"/>
                        </a:xfrm>
                      </p:grpSpPr>
                      <p:sp>
                        <p:nvSpPr>
                          <p:cNvPr id="2430" name="Freeform 2077"/>
                          <p:cNvSpPr/>
                          <p:nvPr/>
                        </p:nvSpPr>
                        <p:spPr>
                          <a:xfrm flipH="1" rot="19797000">
                            <a:off x="2109960" y="25502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31" name="Freeform 2078"/>
                          <p:cNvSpPr/>
                          <p:nvPr/>
                        </p:nvSpPr>
                        <p:spPr>
                          <a:xfrm flipH="1" rot="19797000">
                            <a:off x="2117880" y="25570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32" name="Group 2079"/>
                        <p:cNvGrpSpPr/>
                        <p:nvPr/>
                      </p:nvGrpSpPr>
                      <p:grpSpPr>
                        <a:xfrm>
                          <a:off x="2002680" y="2590200"/>
                          <a:ext cx="153360" cy="153720"/>
                          <a:chOff x="2002680" y="2590200"/>
                          <a:chExt cx="153360" cy="153720"/>
                        </a:xfrm>
                      </p:grpSpPr>
                      <p:sp>
                        <p:nvSpPr>
                          <p:cNvPr id="2433" name="Freeform 2080"/>
                          <p:cNvSpPr/>
                          <p:nvPr/>
                        </p:nvSpPr>
                        <p:spPr>
                          <a:xfrm flipH="1" rot="18690600">
                            <a:off x="2035440" y="26013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34" name="Freeform 2081"/>
                          <p:cNvSpPr/>
                          <p:nvPr/>
                        </p:nvSpPr>
                        <p:spPr>
                          <a:xfrm flipH="1" rot="18690600">
                            <a:off x="2046600" y="26100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35" name="Group 2082"/>
                      <p:cNvGrpSpPr/>
                      <p:nvPr/>
                    </p:nvGrpSpPr>
                    <p:grpSpPr>
                      <a:xfrm>
                        <a:off x="2231640" y="2444040"/>
                        <a:ext cx="266400" cy="150840"/>
                        <a:chOff x="2231640" y="2444040"/>
                        <a:chExt cx="266400" cy="150840"/>
                      </a:xfrm>
                    </p:grpSpPr>
                    <p:grpSp>
                      <p:nvGrpSpPr>
                        <p:cNvPr id="2436" name="Group 2083"/>
                        <p:cNvGrpSpPr/>
                        <p:nvPr/>
                      </p:nvGrpSpPr>
                      <p:grpSpPr>
                        <a:xfrm>
                          <a:off x="2231640" y="2445480"/>
                          <a:ext cx="117720" cy="147240"/>
                          <a:chOff x="2231640" y="2445480"/>
                          <a:chExt cx="117720" cy="147240"/>
                        </a:xfrm>
                      </p:grpSpPr>
                      <p:sp>
                        <p:nvSpPr>
                          <p:cNvPr id="2437" name="Freeform 2084"/>
                          <p:cNvSpPr/>
                          <p:nvPr/>
                        </p:nvSpPr>
                        <p:spPr>
                          <a:xfrm rot="20692800">
                            <a:off x="2246400" y="24544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38" name="Freeform 2085"/>
                          <p:cNvSpPr/>
                          <p:nvPr/>
                        </p:nvSpPr>
                        <p:spPr>
                          <a:xfrm rot="20692800">
                            <a:off x="2274480" y="2452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39" name="Group 2086"/>
                        <p:cNvGrpSpPr/>
                        <p:nvPr/>
                      </p:nvGrpSpPr>
                      <p:grpSpPr>
                        <a:xfrm>
                          <a:off x="2300760" y="2451600"/>
                          <a:ext cx="103680" cy="143280"/>
                          <a:chOff x="2300760" y="2451600"/>
                          <a:chExt cx="103680" cy="143280"/>
                        </a:xfrm>
                      </p:grpSpPr>
                      <p:sp>
                        <p:nvSpPr>
                          <p:cNvPr id="2440" name="Freeform 2087"/>
                          <p:cNvSpPr/>
                          <p:nvPr/>
                        </p:nvSpPr>
                        <p:spPr>
                          <a:xfrm rot="21143400">
                            <a:off x="2308680" y="24566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41" name="Freeform 2088"/>
                          <p:cNvSpPr/>
                          <p:nvPr/>
                        </p:nvSpPr>
                        <p:spPr>
                          <a:xfrm rot="21143400">
                            <a:off x="2336400" y="2456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42" name="Group 2089"/>
                        <p:cNvGrpSpPr/>
                        <p:nvPr/>
                      </p:nvGrpSpPr>
                      <p:grpSpPr>
                        <a:xfrm>
                          <a:off x="2387880" y="2444040"/>
                          <a:ext cx="110160" cy="150480"/>
                          <a:chOff x="2387880" y="2444040"/>
                          <a:chExt cx="110160" cy="150480"/>
                        </a:xfrm>
                      </p:grpSpPr>
                      <p:sp>
                        <p:nvSpPr>
                          <p:cNvPr id="2443" name="Freeform 2090"/>
                          <p:cNvSpPr/>
                          <p:nvPr/>
                        </p:nvSpPr>
                        <p:spPr>
                          <a:xfrm rot="649800">
                            <a:off x="2399040" y="2450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44" name="Freeform 2091"/>
                          <p:cNvSpPr/>
                          <p:nvPr/>
                        </p:nvSpPr>
                        <p:spPr>
                          <a:xfrm rot="649800">
                            <a:off x="2424960" y="2455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445" name="Group 2092"/>
                    <p:cNvGrpSpPr/>
                    <p:nvPr/>
                  </p:nvGrpSpPr>
                  <p:grpSpPr>
                    <a:xfrm>
                      <a:off x="3096000" y="3939840"/>
                      <a:ext cx="495360" cy="299880"/>
                      <a:chOff x="3096000" y="3939840"/>
                      <a:chExt cx="495360" cy="299880"/>
                    </a:xfrm>
                  </p:grpSpPr>
                  <p:grpSp>
                    <p:nvGrpSpPr>
                      <p:cNvPr id="2446" name="Group 2093"/>
                      <p:cNvGrpSpPr/>
                      <p:nvPr/>
                    </p:nvGrpSpPr>
                    <p:grpSpPr>
                      <a:xfrm>
                        <a:off x="3096000" y="3994560"/>
                        <a:ext cx="263520" cy="245160"/>
                        <a:chOff x="3096000" y="3994560"/>
                        <a:chExt cx="263520" cy="245160"/>
                      </a:xfrm>
                    </p:grpSpPr>
                    <p:grpSp>
                      <p:nvGrpSpPr>
                        <p:cNvPr id="2447" name="Group 2094"/>
                        <p:cNvGrpSpPr/>
                        <p:nvPr/>
                      </p:nvGrpSpPr>
                      <p:grpSpPr>
                        <a:xfrm>
                          <a:off x="3230280" y="3994560"/>
                          <a:ext cx="129240" cy="158400"/>
                          <a:chOff x="3230280" y="3994560"/>
                          <a:chExt cx="129240" cy="158400"/>
                        </a:xfrm>
                      </p:grpSpPr>
                      <p:sp>
                        <p:nvSpPr>
                          <p:cNvPr id="2448" name="Freeform 2095"/>
                          <p:cNvSpPr/>
                          <p:nvPr/>
                        </p:nvSpPr>
                        <p:spPr>
                          <a:xfrm flipH="1" rot="20247600">
                            <a:off x="3250440" y="40060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49" name="Freeform 2096"/>
                          <p:cNvSpPr/>
                          <p:nvPr/>
                        </p:nvSpPr>
                        <p:spPr>
                          <a:xfrm flipH="1" rot="20247600">
                            <a:off x="3257280" y="40118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50" name="Group 2097"/>
                        <p:cNvGrpSpPr/>
                        <p:nvPr/>
                      </p:nvGrpSpPr>
                      <p:grpSpPr>
                        <a:xfrm>
                          <a:off x="3177360" y="4033080"/>
                          <a:ext cx="139680" cy="159840"/>
                          <a:chOff x="3177360" y="4033080"/>
                          <a:chExt cx="139680" cy="159840"/>
                        </a:xfrm>
                      </p:grpSpPr>
                      <p:sp>
                        <p:nvSpPr>
                          <p:cNvPr id="2451" name="Freeform 2098"/>
                          <p:cNvSpPr/>
                          <p:nvPr/>
                        </p:nvSpPr>
                        <p:spPr>
                          <a:xfrm flipH="1" rot="19797000">
                            <a:off x="3203280" y="40460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52" name="Freeform 2099"/>
                          <p:cNvSpPr/>
                          <p:nvPr/>
                        </p:nvSpPr>
                        <p:spPr>
                          <a:xfrm flipH="1" rot="19797000">
                            <a:off x="3211200" y="40528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53" name="Group 2100"/>
                        <p:cNvGrpSpPr/>
                        <p:nvPr/>
                      </p:nvGrpSpPr>
                      <p:grpSpPr>
                        <a:xfrm>
                          <a:off x="3096000" y="4086000"/>
                          <a:ext cx="153360" cy="153720"/>
                          <a:chOff x="3096000" y="4086000"/>
                          <a:chExt cx="153360" cy="153720"/>
                        </a:xfrm>
                      </p:grpSpPr>
                      <p:sp>
                        <p:nvSpPr>
                          <p:cNvPr id="2454" name="Freeform 2101"/>
                          <p:cNvSpPr/>
                          <p:nvPr/>
                        </p:nvSpPr>
                        <p:spPr>
                          <a:xfrm flipH="1" rot="18690600">
                            <a:off x="3128760" y="40971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55" name="Freeform 2102"/>
                          <p:cNvSpPr/>
                          <p:nvPr/>
                        </p:nvSpPr>
                        <p:spPr>
                          <a:xfrm flipH="1" rot="18690600">
                            <a:off x="3139920" y="41058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56" name="Group 2103"/>
                      <p:cNvGrpSpPr/>
                      <p:nvPr/>
                    </p:nvGrpSpPr>
                    <p:grpSpPr>
                      <a:xfrm>
                        <a:off x="3324960" y="3939840"/>
                        <a:ext cx="266400" cy="150840"/>
                        <a:chOff x="3324960" y="3939840"/>
                        <a:chExt cx="266400" cy="150840"/>
                      </a:xfrm>
                    </p:grpSpPr>
                    <p:grpSp>
                      <p:nvGrpSpPr>
                        <p:cNvPr id="2457" name="Group 2104"/>
                        <p:cNvGrpSpPr/>
                        <p:nvPr/>
                      </p:nvGrpSpPr>
                      <p:grpSpPr>
                        <a:xfrm>
                          <a:off x="3324960" y="3941280"/>
                          <a:ext cx="117720" cy="147240"/>
                          <a:chOff x="3324960" y="3941280"/>
                          <a:chExt cx="117720" cy="147240"/>
                        </a:xfrm>
                      </p:grpSpPr>
                      <p:sp>
                        <p:nvSpPr>
                          <p:cNvPr id="2458" name="Freeform 2105"/>
                          <p:cNvSpPr/>
                          <p:nvPr/>
                        </p:nvSpPr>
                        <p:spPr>
                          <a:xfrm rot="20692800">
                            <a:off x="3339720" y="3950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59" name="Freeform 2106"/>
                          <p:cNvSpPr/>
                          <p:nvPr/>
                        </p:nvSpPr>
                        <p:spPr>
                          <a:xfrm rot="20692800">
                            <a:off x="3367800" y="3948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60" name="Group 2107"/>
                        <p:cNvGrpSpPr/>
                        <p:nvPr/>
                      </p:nvGrpSpPr>
                      <p:grpSpPr>
                        <a:xfrm>
                          <a:off x="3394080" y="3947400"/>
                          <a:ext cx="103680" cy="143280"/>
                          <a:chOff x="3394080" y="3947400"/>
                          <a:chExt cx="103680" cy="143280"/>
                        </a:xfrm>
                      </p:grpSpPr>
                      <p:sp>
                        <p:nvSpPr>
                          <p:cNvPr id="2461" name="Freeform 2108"/>
                          <p:cNvSpPr/>
                          <p:nvPr/>
                        </p:nvSpPr>
                        <p:spPr>
                          <a:xfrm rot="21143400">
                            <a:off x="3402000" y="39524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62" name="Freeform 2109"/>
                          <p:cNvSpPr/>
                          <p:nvPr/>
                        </p:nvSpPr>
                        <p:spPr>
                          <a:xfrm rot="21143400">
                            <a:off x="3429720" y="3952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63" name="Group 2110"/>
                        <p:cNvGrpSpPr/>
                        <p:nvPr/>
                      </p:nvGrpSpPr>
                      <p:grpSpPr>
                        <a:xfrm>
                          <a:off x="3481200" y="3939840"/>
                          <a:ext cx="110160" cy="150480"/>
                          <a:chOff x="3481200" y="3939840"/>
                          <a:chExt cx="110160" cy="150480"/>
                        </a:xfrm>
                      </p:grpSpPr>
                      <p:sp>
                        <p:nvSpPr>
                          <p:cNvPr id="2464" name="Freeform 2111"/>
                          <p:cNvSpPr/>
                          <p:nvPr/>
                        </p:nvSpPr>
                        <p:spPr>
                          <a:xfrm rot="649800">
                            <a:off x="3492360" y="3946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65" name="Freeform 2112"/>
                          <p:cNvSpPr/>
                          <p:nvPr/>
                        </p:nvSpPr>
                        <p:spPr>
                          <a:xfrm rot="649800">
                            <a:off x="3518280" y="39510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466" name="Group 2113"/>
                    <p:cNvGrpSpPr/>
                    <p:nvPr/>
                  </p:nvGrpSpPr>
                  <p:grpSpPr>
                    <a:xfrm>
                      <a:off x="2939400" y="4267440"/>
                      <a:ext cx="495360" cy="299880"/>
                      <a:chOff x="2939400" y="4267440"/>
                      <a:chExt cx="495360" cy="299880"/>
                    </a:xfrm>
                  </p:grpSpPr>
                  <p:grpSp>
                    <p:nvGrpSpPr>
                      <p:cNvPr id="2467" name="Group 2114"/>
                      <p:cNvGrpSpPr/>
                      <p:nvPr/>
                    </p:nvGrpSpPr>
                    <p:grpSpPr>
                      <a:xfrm>
                        <a:off x="2939400" y="4322160"/>
                        <a:ext cx="263520" cy="245160"/>
                        <a:chOff x="2939400" y="4322160"/>
                        <a:chExt cx="263520" cy="245160"/>
                      </a:xfrm>
                    </p:grpSpPr>
                    <p:grpSp>
                      <p:nvGrpSpPr>
                        <p:cNvPr id="2468" name="Group 2115"/>
                        <p:cNvGrpSpPr/>
                        <p:nvPr/>
                      </p:nvGrpSpPr>
                      <p:grpSpPr>
                        <a:xfrm>
                          <a:off x="3073680" y="4322160"/>
                          <a:ext cx="129240" cy="158400"/>
                          <a:chOff x="3073680" y="4322160"/>
                          <a:chExt cx="129240" cy="158400"/>
                        </a:xfrm>
                      </p:grpSpPr>
                      <p:sp>
                        <p:nvSpPr>
                          <p:cNvPr id="2469" name="Freeform 2116"/>
                          <p:cNvSpPr/>
                          <p:nvPr/>
                        </p:nvSpPr>
                        <p:spPr>
                          <a:xfrm flipH="1" rot="20247600">
                            <a:off x="3093840" y="43336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70" name="Freeform 2117"/>
                          <p:cNvSpPr/>
                          <p:nvPr/>
                        </p:nvSpPr>
                        <p:spPr>
                          <a:xfrm flipH="1" rot="20247600">
                            <a:off x="3100680" y="43394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71" name="Group 2118"/>
                        <p:cNvGrpSpPr/>
                        <p:nvPr/>
                      </p:nvGrpSpPr>
                      <p:grpSpPr>
                        <a:xfrm>
                          <a:off x="3020760" y="4360680"/>
                          <a:ext cx="139680" cy="159840"/>
                          <a:chOff x="3020760" y="4360680"/>
                          <a:chExt cx="139680" cy="159840"/>
                        </a:xfrm>
                      </p:grpSpPr>
                      <p:sp>
                        <p:nvSpPr>
                          <p:cNvPr id="2472" name="Freeform 2119"/>
                          <p:cNvSpPr/>
                          <p:nvPr/>
                        </p:nvSpPr>
                        <p:spPr>
                          <a:xfrm flipH="1" rot="19797000">
                            <a:off x="3046680" y="43736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73" name="Freeform 2120"/>
                          <p:cNvSpPr/>
                          <p:nvPr/>
                        </p:nvSpPr>
                        <p:spPr>
                          <a:xfrm flipH="1" rot="19797000">
                            <a:off x="3054600" y="43804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74" name="Group 2121"/>
                        <p:cNvGrpSpPr/>
                        <p:nvPr/>
                      </p:nvGrpSpPr>
                      <p:grpSpPr>
                        <a:xfrm>
                          <a:off x="2939400" y="4413600"/>
                          <a:ext cx="153360" cy="153720"/>
                          <a:chOff x="2939400" y="4413600"/>
                          <a:chExt cx="153360" cy="153720"/>
                        </a:xfrm>
                      </p:grpSpPr>
                      <p:sp>
                        <p:nvSpPr>
                          <p:cNvPr id="2475" name="Freeform 2122"/>
                          <p:cNvSpPr/>
                          <p:nvPr/>
                        </p:nvSpPr>
                        <p:spPr>
                          <a:xfrm flipH="1" rot="18690600">
                            <a:off x="2972160" y="44247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76" name="Freeform 2123"/>
                          <p:cNvSpPr/>
                          <p:nvPr/>
                        </p:nvSpPr>
                        <p:spPr>
                          <a:xfrm flipH="1" rot="18690600">
                            <a:off x="2983320" y="4433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77" name="Group 2124"/>
                      <p:cNvGrpSpPr/>
                      <p:nvPr/>
                    </p:nvGrpSpPr>
                    <p:grpSpPr>
                      <a:xfrm>
                        <a:off x="3168360" y="4267440"/>
                        <a:ext cx="266400" cy="150840"/>
                        <a:chOff x="3168360" y="4267440"/>
                        <a:chExt cx="266400" cy="150840"/>
                      </a:xfrm>
                    </p:grpSpPr>
                    <p:grpSp>
                      <p:nvGrpSpPr>
                        <p:cNvPr id="2478" name="Group 2125"/>
                        <p:cNvGrpSpPr/>
                        <p:nvPr/>
                      </p:nvGrpSpPr>
                      <p:grpSpPr>
                        <a:xfrm>
                          <a:off x="3168360" y="4268880"/>
                          <a:ext cx="117720" cy="147240"/>
                          <a:chOff x="3168360" y="4268880"/>
                          <a:chExt cx="117720" cy="147240"/>
                        </a:xfrm>
                      </p:grpSpPr>
                      <p:sp>
                        <p:nvSpPr>
                          <p:cNvPr id="2479" name="Freeform 2126"/>
                          <p:cNvSpPr/>
                          <p:nvPr/>
                        </p:nvSpPr>
                        <p:spPr>
                          <a:xfrm rot="20692800">
                            <a:off x="3183120" y="4277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80" name="Freeform 2127"/>
                          <p:cNvSpPr/>
                          <p:nvPr/>
                        </p:nvSpPr>
                        <p:spPr>
                          <a:xfrm rot="20692800">
                            <a:off x="3211200" y="42760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81" name="Group 2128"/>
                        <p:cNvGrpSpPr/>
                        <p:nvPr/>
                      </p:nvGrpSpPr>
                      <p:grpSpPr>
                        <a:xfrm>
                          <a:off x="3237480" y="4275000"/>
                          <a:ext cx="103680" cy="143280"/>
                          <a:chOff x="3237480" y="4275000"/>
                          <a:chExt cx="103680" cy="143280"/>
                        </a:xfrm>
                      </p:grpSpPr>
                      <p:sp>
                        <p:nvSpPr>
                          <p:cNvPr id="2482" name="Freeform 2129"/>
                          <p:cNvSpPr/>
                          <p:nvPr/>
                        </p:nvSpPr>
                        <p:spPr>
                          <a:xfrm rot="21143400">
                            <a:off x="3245400" y="42800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83" name="Freeform 2130"/>
                          <p:cNvSpPr/>
                          <p:nvPr/>
                        </p:nvSpPr>
                        <p:spPr>
                          <a:xfrm rot="21143400">
                            <a:off x="3273120" y="42796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84" name="Group 2131"/>
                        <p:cNvGrpSpPr/>
                        <p:nvPr/>
                      </p:nvGrpSpPr>
                      <p:grpSpPr>
                        <a:xfrm>
                          <a:off x="3324600" y="4267440"/>
                          <a:ext cx="110160" cy="150480"/>
                          <a:chOff x="3324600" y="4267440"/>
                          <a:chExt cx="110160" cy="150480"/>
                        </a:xfrm>
                      </p:grpSpPr>
                      <p:sp>
                        <p:nvSpPr>
                          <p:cNvPr id="2485" name="Freeform 2132"/>
                          <p:cNvSpPr/>
                          <p:nvPr/>
                        </p:nvSpPr>
                        <p:spPr>
                          <a:xfrm rot="649800">
                            <a:off x="3335760" y="42742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86" name="Freeform 2133"/>
                          <p:cNvSpPr/>
                          <p:nvPr/>
                        </p:nvSpPr>
                        <p:spPr>
                          <a:xfrm rot="649800">
                            <a:off x="3361680" y="42786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487" name="Group 2134"/>
                    <p:cNvGrpSpPr/>
                    <p:nvPr/>
                  </p:nvGrpSpPr>
                  <p:grpSpPr>
                    <a:xfrm>
                      <a:off x="2354040" y="4382280"/>
                      <a:ext cx="495360" cy="299880"/>
                      <a:chOff x="2354040" y="4382280"/>
                      <a:chExt cx="495360" cy="299880"/>
                    </a:xfrm>
                  </p:grpSpPr>
                  <p:grpSp>
                    <p:nvGrpSpPr>
                      <p:cNvPr id="2488" name="Group 2135"/>
                      <p:cNvGrpSpPr/>
                      <p:nvPr/>
                    </p:nvGrpSpPr>
                    <p:grpSpPr>
                      <a:xfrm>
                        <a:off x="2354040" y="4437000"/>
                        <a:ext cx="263520" cy="245160"/>
                        <a:chOff x="2354040" y="4437000"/>
                        <a:chExt cx="263520" cy="245160"/>
                      </a:xfrm>
                    </p:grpSpPr>
                    <p:grpSp>
                      <p:nvGrpSpPr>
                        <p:cNvPr id="2489" name="Group 2136"/>
                        <p:cNvGrpSpPr/>
                        <p:nvPr/>
                      </p:nvGrpSpPr>
                      <p:grpSpPr>
                        <a:xfrm>
                          <a:off x="2488320" y="4437000"/>
                          <a:ext cx="129240" cy="158400"/>
                          <a:chOff x="2488320" y="4437000"/>
                          <a:chExt cx="129240" cy="158400"/>
                        </a:xfrm>
                      </p:grpSpPr>
                      <p:sp>
                        <p:nvSpPr>
                          <p:cNvPr id="2490" name="Freeform 2137"/>
                          <p:cNvSpPr/>
                          <p:nvPr/>
                        </p:nvSpPr>
                        <p:spPr>
                          <a:xfrm flipH="1" rot="20247600">
                            <a:off x="2508480" y="444852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91" name="Freeform 2138"/>
                          <p:cNvSpPr/>
                          <p:nvPr/>
                        </p:nvSpPr>
                        <p:spPr>
                          <a:xfrm flipH="1" rot="20247600">
                            <a:off x="2515320" y="445428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92" name="Group 2139"/>
                        <p:cNvGrpSpPr/>
                        <p:nvPr/>
                      </p:nvGrpSpPr>
                      <p:grpSpPr>
                        <a:xfrm>
                          <a:off x="2435400" y="4475520"/>
                          <a:ext cx="139680" cy="159840"/>
                          <a:chOff x="2435400" y="4475520"/>
                          <a:chExt cx="139680" cy="159840"/>
                        </a:xfrm>
                      </p:grpSpPr>
                      <p:sp>
                        <p:nvSpPr>
                          <p:cNvPr id="2493" name="Freeform 2140"/>
                          <p:cNvSpPr/>
                          <p:nvPr/>
                        </p:nvSpPr>
                        <p:spPr>
                          <a:xfrm flipH="1" rot="19797000">
                            <a:off x="2461320" y="448848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94" name="Freeform 2141"/>
                          <p:cNvSpPr/>
                          <p:nvPr/>
                        </p:nvSpPr>
                        <p:spPr>
                          <a:xfrm flipH="1" rot="19797000">
                            <a:off x="2469240" y="449532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495" name="Group 2142"/>
                        <p:cNvGrpSpPr/>
                        <p:nvPr/>
                      </p:nvGrpSpPr>
                      <p:grpSpPr>
                        <a:xfrm>
                          <a:off x="2354040" y="4528440"/>
                          <a:ext cx="153360" cy="153720"/>
                          <a:chOff x="2354040" y="4528440"/>
                          <a:chExt cx="153360" cy="153720"/>
                        </a:xfrm>
                      </p:grpSpPr>
                      <p:sp>
                        <p:nvSpPr>
                          <p:cNvPr id="2496" name="Freeform 2143"/>
                          <p:cNvSpPr/>
                          <p:nvPr/>
                        </p:nvSpPr>
                        <p:spPr>
                          <a:xfrm flipH="1" rot="18690600">
                            <a:off x="2386800" y="45396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97" name="Freeform 2144"/>
                          <p:cNvSpPr/>
                          <p:nvPr/>
                        </p:nvSpPr>
                        <p:spPr>
                          <a:xfrm flipH="1" rot="18690600">
                            <a:off x="2397960" y="45482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498" name="Group 2145"/>
                      <p:cNvGrpSpPr/>
                      <p:nvPr/>
                    </p:nvGrpSpPr>
                    <p:grpSpPr>
                      <a:xfrm>
                        <a:off x="2583000" y="4382280"/>
                        <a:ext cx="266400" cy="150840"/>
                        <a:chOff x="2583000" y="4382280"/>
                        <a:chExt cx="266400" cy="150840"/>
                      </a:xfrm>
                    </p:grpSpPr>
                    <p:grpSp>
                      <p:nvGrpSpPr>
                        <p:cNvPr id="2499" name="Group 2146"/>
                        <p:cNvGrpSpPr/>
                        <p:nvPr/>
                      </p:nvGrpSpPr>
                      <p:grpSpPr>
                        <a:xfrm>
                          <a:off x="2583000" y="4383720"/>
                          <a:ext cx="117720" cy="147240"/>
                          <a:chOff x="2583000" y="4383720"/>
                          <a:chExt cx="117720" cy="147240"/>
                        </a:xfrm>
                      </p:grpSpPr>
                      <p:sp>
                        <p:nvSpPr>
                          <p:cNvPr id="2500" name="Freeform 2147"/>
                          <p:cNvSpPr/>
                          <p:nvPr/>
                        </p:nvSpPr>
                        <p:spPr>
                          <a:xfrm rot="20692800">
                            <a:off x="2597760" y="4392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01" name="Freeform 2148"/>
                          <p:cNvSpPr/>
                          <p:nvPr/>
                        </p:nvSpPr>
                        <p:spPr>
                          <a:xfrm rot="20692800">
                            <a:off x="2625840" y="43909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02" name="Group 2149"/>
                        <p:cNvGrpSpPr/>
                        <p:nvPr/>
                      </p:nvGrpSpPr>
                      <p:grpSpPr>
                        <a:xfrm>
                          <a:off x="2652120" y="4389840"/>
                          <a:ext cx="103680" cy="143280"/>
                          <a:chOff x="2652120" y="4389840"/>
                          <a:chExt cx="103680" cy="143280"/>
                        </a:xfrm>
                      </p:grpSpPr>
                      <p:sp>
                        <p:nvSpPr>
                          <p:cNvPr id="2503" name="Freeform 2150"/>
                          <p:cNvSpPr/>
                          <p:nvPr/>
                        </p:nvSpPr>
                        <p:spPr>
                          <a:xfrm rot="21143400">
                            <a:off x="2660040" y="43948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04" name="Freeform 2151"/>
                          <p:cNvSpPr/>
                          <p:nvPr/>
                        </p:nvSpPr>
                        <p:spPr>
                          <a:xfrm rot="21143400">
                            <a:off x="2687760" y="439452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05" name="Group 2152"/>
                        <p:cNvGrpSpPr/>
                        <p:nvPr/>
                      </p:nvGrpSpPr>
                      <p:grpSpPr>
                        <a:xfrm>
                          <a:off x="2739240" y="4382280"/>
                          <a:ext cx="110160" cy="150480"/>
                          <a:chOff x="2739240" y="4382280"/>
                          <a:chExt cx="110160" cy="150480"/>
                        </a:xfrm>
                      </p:grpSpPr>
                      <p:sp>
                        <p:nvSpPr>
                          <p:cNvPr id="2506" name="Freeform 2153"/>
                          <p:cNvSpPr/>
                          <p:nvPr/>
                        </p:nvSpPr>
                        <p:spPr>
                          <a:xfrm rot="649800">
                            <a:off x="2750400" y="43891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07" name="Freeform 2154"/>
                          <p:cNvSpPr/>
                          <p:nvPr/>
                        </p:nvSpPr>
                        <p:spPr>
                          <a:xfrm rot="649800">
                            <a:off x="2776320" y="43934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508" name="Group 2155"/>
                    <p:cNvGrpSpPr/>
                    <p:nvPr/>
                  </p:nvGrpSpPr>
                  <p:grpSpPr>
                    <a:xfrm>
                      <a:off x="2315160" y="2388240"/>
                      <a:ext cx="495360" cy="299880"/>
                      <a:chOff x="2315160" y="2388240"/>
                      <a:chExt cx="495360" cy="299880"/>
                    </a:xfrm>
                  </p:grpSpPr>
                  <p:grpSp>
                    <p:nvGrpSpPr>
                      <p:cNvPr id="2509" name="Group 2156"/>
                      <p:cNvGrpSpPr/>
                      <p:nvPr/>
                    </p:nvGrpSpPr>
                    <p:grpSpPr>
                      <a:xfrm>
                        <a:off x="2315160" y="2442960"/>
                        <a:ext cx="263520" cy="245160"/>
                        <a:chOff x="2315160" y="2442960"/>
                        <a:chExt cx="263520" cy="245160"/>
                      </a:xfrm>
                    </p:grpSpPr>
                    <p:grpSp>
                      <p:nvGrpSpPr>
                        <p:cNvPr id="2510" name="Group 2157"/>
                        <p:cNvGrpSpPr/>
                        <p:nvPr/>
                      </p:nvGrpSpPr>
                      <p:grpSpPr>
                        <a:xfrm>
                          <a:off x="2449440" y="2442960"/>
                          <a:ext cx="129240" cy="158400"/>
                          <a:chOff x="2449440" y="2442960"/>
                          <a:chExt cx="129240" cy="158400"/>
                        </a:xfrm>
                      </p:grpSpPr>
                      <p:sp>
                        <p:nvSpPr>
                          <p:cNvPr id="2511" name="Freeform 2158"/>
                          <p:cNvSpPr/>
                          <p:nvPr/>
                        </p:nvSpPr>
                        <p:spPr>
                          <a:xfrm flipH="1" rot="20247600">
                            <a:off x="2469600" y="245448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2" name="Freeform 2159"/>
                          <p:cNvSpPr/>
                          <p:nvPr/>
                        </p:nvSpPr>
                        <p:spPr>
                          <a:xfrm flipH="1" rot="20247600">
                            <a:off x="2476440" y="246024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13" name="Group 2160"/>
                        <p:cNvGrpSpPr/>
                        <p:nvPr/>
                      </p:nvGrpSpPr>
                      <p:grpSpPr>
                        <a:xfrm>
                          <a:off x="2396520" y="2481480"/>
                          <a:ext cx="139680" cy="159840"/>
                          <a:chOff x="2396520" y="2481480"/>
                          <a:chExt cx="139680" cy="159840"/>
                        </a:xfrm>
                      </p:grpSpPr>
                      <p:sp>
                        <p:nvSpPr>
                          <p:cNvPr id="2514" name="Freeform 2161"/>
                          <p:cNvSpPr/>
                          <p:nvPr/>
                        </p:nvSpPr>
                        <p:spPr>
                          <a:xfrm flipH="1" rot="19797000">
                            <a:off x="2422440" y="249444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5" name="Freeform 2162"/>
                          <p:cNvSpPr/>
                          <p:nvPr/>
                        </p:nvSpPr>
                        <p:spPr>
                          <a:xfrm flipH="1" rot="19797000">
                            <a:off x="2430360" y="250128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16" name="Group 2163"/>
                        <p:cNvGrpSpPr/>
                        <p:nvPr/>
                      </p:nvGrpSpPr>
                      <p:grpSpPr>
                        <a:xfrm>
                          <a:off x="2315160" y="2534400"/>
                          <a:ext cx="153360" cy="153720"/>
                          <a:chOff x="2315160" y="2534400"/>
                          <a:chExt cx="153360" cy="153720"/>
                        </a:xfrm>
                      </p:grpSpPr>
                      <p:sp>
                        <p:nvSpPr>
                          <p:cNvPr id="2517" name="Freeform 2164"/>
                          <p:cNvSpPr/>
                          <p:nvPr/>
                        </p:nvSpPr>
                        <p:spPr>
                          <a:xfrm flipH="1" rot="18690600">
                            <a:off x="2347920" y="25455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8" name="Freeform 2165"/>
                          <p:cNvSpPr/>
                          <p:nvPr/>
                        </p:nvSpPr>
                        <p:spPr>
                          <a:xfrm flipH="1" rot="18690600">
                            <a:off x="2359080" y="25542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519" name="Group 2166"/>
                      <p:cNvGrpSpPr/>
                      <p:nvPr/>
                    </p:nvGrpSpPr>
                    <p:grpSpPr>
                      <a:xfrm>
                        <a:off x="2544120" y="2388240"/>
                        <a:ext cx="266400" cy="150840"/>
                        <a:chOff x="2544120" y="2388240"/>
                        <a:chExt cx="266400" cy="150840"/>
                      </a:xfrm>
                    </p:grpSpPr>
                    <p:grpSp>
                      <p:nvGrpSpPr>
                        <p:cNvPr id="2520" name="Group 2167"/>
                        <p:cNvGrpSpPr/>
                        <p:nvPr/>
                      </p:nvGrpSpPr>
                      <p:grpSpPr>
                        <a:xfrm>
                          <a:off x="2544120" y="2389680"/>
                          <a:ext cx="117720" cy="147240"/>
                          <a:chOff x="2544120" y="2389680"/>
                          <a:chExt cx="117720" cy="147240"/>
                        </a:xfrm>
                      </p:grpSpPr>
                      <p:sp>
                        <p:nvSpPr>
                          <p:cNvPr id="2521" name="Freeform 2168"/>
                          <p:cNvSpPr/>
                          <p:nvPr/>
                        </p:nvSpPr>
                        <p:spPr>
                          <a:xfrm rot="20692800">
                            <a:off x="2558880" y="23986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2" name="Freeform 2169"/>
                          <p:cNvSpPr/>
                          <p:nvPr/>
                        </p:nvSpPr>
                        <p:spPr>
                          <a:xfrm rot="20692800">
                            <a:off x="2586960" y="23968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23" name="Group 2170"/>
                        <p:cNvGrpSpPr/>
                        <p:nvPr/>
                      </p:nvGrpSpPr>
                      <p:grpSpPr>
                        <a:xfrm>
                          <a:off x="2613240" y="2395800"/>
                          <a:ext cx="103680" cy="143280"/>
                          <a:chOff x="2613240" y="2395800"/>
                          <a:chExt cx="103680" cy="143280"/>
                        </a:xfrm>
                      </p:grpSpPr>
                      <p:sp>
                        <p:nvSpPr>
                          <p:cNvPr id="2524" name="Freeform 2171"/>
                          <p:cNvSpPr/>
                          <p:nvPr/>
                        </p:nvSpPr>
                        <p:spPr>
                          <a:xfrm rot="21143400">
                            <a:off x="2621160" y="2400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5" name="Freeform 2172"/>
                          <p:cNvSpPr/>
                          <p:nvPr/>
                        </p:nvSpPr>
                        <p:spPr>
                          <a:xfrm rot="21143400">
                            <a:off x="2648880" y="2400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26" name="Group 2173"/>
                        <p:cNvGrpSpPr/>
                        <p:nvPr/>
                      </p:nvGrpSpPr>
                      <p:grpSpPr>
                        <a:xfrm>
                          <a:off x="2700360" y="2388240"/>
                          <a:ext cx="110160" cy="150480"/>
                          <a:chOff x="2700360" y="2388240"/>
                          <a:chExt cx="110160" cy="150480"/>
                        </a:xfrm>
                      </p:grpSpPr>
                      <p:sp>
                        <p:nvSpPr>
                          <p:cNvPr id="2527" name="Freeform 2174"/>
                          <p:cNvSpPr/>
                          <p:nvPr/>
                        </p:nvSpPr>
                        <p:spPr>
                          <a:xfrm rot="649800">
                            <a:off x="2711520" y="239508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8" name="Freeform 2175"/>
                          <p:cNvSpPr/>
                          <p:nvPr/>
                        </p:nvSpPr>
                        <p:spPr>
                          <a:xfrm rot="649800">
                            <a:off x="2737440" y="239940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529" name="Group 2176"/>
                    <p:cNvGrpSpPr/>
                    <p:nvPr/>
                  </p:nvGrpSpPr>
                  <p:grpSpPr>
                    <a:xfrm>
                      <a:off x="1612080" y="2848320"/>
                      <a:ext cx="495360" cy="299880"/>
                      <a:chOff x="1612080" y="2848320"/>
                      <a:chExt cx="495360" cy="299880"/>
                    </a:xfrm>
                  </p:grpSpPr>
                  <p:grpSp>
                    <p:nvGrpSpPr>
                      <p:cNvPr id="2530" name="Group 2177"/>
                      <p:cNvGrpSpPr/>
                      <p:nvPr/>
                    </p:nvGrpSpPr>
                    <p:grpSpPr>
                      <a:xfrm>
                        <a:off x="1612080" y="2903040"/>
                        <a:ext cx="263520" cy="245160"/>
                        <a:chOff x="1612080" y="2903040"/>
                        <a:chExt cx="263520" cy="245160"/>
                      </a:xfrm>
                    </p:grpSpPr>
                    <p:grpSp>
                      <p:nvGrpSpPr>
                        <p:cNvPr id="2531" name="Group 2178"/>
                        <p:cNvGrpSpPr/>
                        <p:nvPr/>
                      </p:nvGrpSpPr>
                      <p:grpSpPr>
                        <a:xfrm>
                          <a:off x="1746360" y="2903040"/>
                          <a:ext cx="129240" cy="158400"/>
                          <a:chOff x="1746360" y="2903040"/>
                          <a:chExt cx="129240" cy="158400"/>
                        </a:xfrm>
                      </p:grpSpPr>
                      <p:sp>
                        <p:nvSpPr>
                          <p:cNvPr id="2532" name="Freeform 2179"/>
                          <p:cNvSpPr/>
                          <p:nvPr/>
                        </p:nvSpPr>
                        <p:spPr>
                          <a:xfrm flipH="1" rot="20247600">
                            <a:off x="1766520" y="291456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3" name="Freeform 2180"/>
                          <p:cNvSpPr/>
                          <p:nvPr/>
                        </p:nvSpPr>
                        <p:spPr>
                          <a:xfrm flipH="1" rot="20247600">
                            <a:off x="1773360" y="292032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34" name="Group 2181"/>
                        <p:cNvGrpSpPr/>
                        <p:nvPr/>
                      </p:nvGrpSpPr>
                      <p:grpSpPr>
                        <a:xfrm>
                          <a:off x="1693440" y="2941560"/>
                          <a:ext cx="139680" cy="159840"/>
                          <a:chOff x="1693440" y="2941560"/>
                          <a:chExt cx="139680" cy="159840"/>
                        </a:xfrm>
                      </p:grpSpPr>
                      <p:sp>
                        <p:nvSpPr>
                          <p:cNvPr id="2535" name="Freeform 2182"/>
                          <p:cNvSpPr/>
                          <p:nvPr/>
                        </p:nvSpPr>
                        <p:spPr>
                          <a:xfrm flipH="1" rot="19797000">
                            <a:off x="1719360" y="295452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6" name="Freeform 2183"/>
                          <p:cNvSpPr/>
                          <p:nvPr/>
                        </p:nvSpPr>
                        <p:spPr>
                          <a:xfrm flipH="1" rot="19797000">
                            <a:off x="1727280" y="296136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37" name="Group 2184"/>
                        <p:cNvGrpSpPr/>
                        <p:nvPr/>
                      </p:nvGrpSpPr>
                      <p:grpSpPr>
                        <a:xfrm>
                          <a:off x="1612080" y="2994480"/>
                          <a:ext cx="153360" cy="153720"/>
                          <a:chOff x="1612080" y="2994480"/>
                          <a:chExt cx="153360" cy="153720"/>
                        </a:xfrm>
                      </p:grpSpPr>
                      <p:sp>
                        <p:nvSpPr>
                          <p:cNvPr id="2538" name="Freeform 2185"/>
                          <p:cNvSpPr/>
                          <p:nvPr/>
                        </p:nvSpPr>
                        <p:spPr>
                          <a:xfrm flipH="1" rot="18690600">
                            <a:off x="1644840" y="30056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9" name="Freeform 2186"/>
                          <p:cNvSpPr/>
                          <p:nvPr/>
                        </p:nvSpPr>
                        <p:spPr>
                          <a:xfrm flipH="1" rot="18690600">
                            <a:off x="1656000" y="30142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540" name="Group 2187"/>
                      <p:cNvGrpSpPr/>
                      <p:nvPr/>
                    </p:nvGrpSpPr>
                    <p:grpSpPr>
                      <a:xfrm>
                        <a:off x="1841040" y="2848320"/>
                        <a:ext cx="266400" cy="150840"/>
                        <a:chOff x="1841040" y="2848320"/>
                        <a:chExt cx="266400" cy="150840"/>
                      </a:xfrm>
                    </p:grpSpPr>
                    <p:grpSp>
                      <p:nvGrpSpPr>
                        <p:cNvPr id="2541" name="Group 2188"/>
                        <p:cNvGrpSpPr/>
                        <p:nvPr/>
                      </p:nvGrpSpPr>
                      <p:grpSpPr>
                        <a:xfrm>
                          <a:off x="1841040" y="2849760"/>
                          <a:ext cx="117720" cy="147240"/>
                          <a:chOff x="1841040" y="2849760"/>
                          <a:chExt cx="117720" cy="147240"/>
                        </a:xfrm>
                      </p:grpSpPr>
                      <p:sp>
                        <p:nvSpPr>
                          <p:cNvPr id="2542" name="Freeform 2189"/>
                          <p:cNvSpPr/>
                          <p:nvPr/>
                        </p:nvSpPr>
                        <p:spPr>
                          <a:xfrm rot="20692800">
                            <a:off x="1855800" y="28587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3" name="Freeform 2190"/>
                          <p:cNvSpPr/>
                          <p:nvPr/>
                        </p:nvSpPr>
                        <p:spPr>
                          <a:xfrm rot="20692800">
                            <a:off x="1883880" y="28569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44" name="Group 2191"/>
                        <p:cNvGrpSpPr/>
                        <p:nvPr/>
                      </p:nvGrpSpPr>
                      <p:grpSpPr>
                        <a:xfrm>
                          <a:off x="1910160" y="2855880"/>
                          <a:ext cx="103680" cy="143280"/>
                          <a:chOff x="1910160" y="2855880"/>
                          <a:chExt cx="103680" cy="143280"/>
                        </a:xfrm>
                      </p:grpSpPr>
                      <p:sp>
                        <p:nvSpPr>
                          <p:cNvPr id="2545" name="Freeform 2192"/>
                          <p:cNvSpPr/>
                          <p:nvPr/>
                        </p:nvSpPr>
                        <p:spPr>
                          <a:xfrm rot="21143400">
                            <a:off x="1918080" y="28609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6" name="Freeform 2193"/>
                          <p:cNvSpPr/>
                          <p:nvPr/>
                        </p:nvSpPr>
                        <p:spPr>
                          <a:xfrm rot="21143400">
                            <a:off x="1945800" y="2860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47" name="Group 2194"/>
                        <p:cNvGrpSpPr/>
                        <p:nvPr/>
                      </p:nvGrpSpPr>
                      <p:grpSpPr>
                        <a:xfrm>
                          <a:off x="1997280" y="2848320"/>
                          <a:ext cx="110160" cy="150480"/>
                          <a:chOff x="1997280" y="2848320"/>
                          <a:chExt cx="110160" cy="150480"/>
                        </a:xfrm>
                      </p:grpSpPr>
                      <p:sp>
                        <p:nvSpPr>
                          <p:cNvPr id="2548" name="Freeform 2195"/>
                          <p:cNvSpPr/>
                          <p:nvPr/>
                        </p:nvSpPr>
                        <p:spPr>
                          <a:xfrm rot="649800">
                            <a:off x="2008440" y="285516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9" name="Freeform 2196"/>
                          <p:cNvSpPr/>
                          <p:nvPr/>
                        </p:nvSpPr>
                        <p:spPr>
                          <a:xfrm rot="649800">
                            <a:off x="2034360" y="285948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550" name="Group 2197"/>
                    <p:cNvGrpSpPr/>
                    <p:nvPr/>
                  </p:nvGrpSpPr>
                  <p:grpSpPr>
                    <a:xfrm>
                      <a:off x="2666520" y="2273400"/>
                      <a:ext cx="495360" cy="299880"/>
                      <a:chOff x="2666520" y="2273400"/>
                      <a:chExt cx="495360" cy="299880"/>
                    </a:xfrm>
                  </p:grpSpPr>
                  <p:grpSp>
                    <p:nvGrpSpPr>
                      <p:cNvPr id="2551" name="Group 2198"/>
                      <p:cNvGrpSpPr/>
                      <p:nvPr/>
                    </p:nvGrpSpPr>
                    <p:grpSpPr>
                      <a:xfrm>
                        <a:off x="2666520" y="2328120"/>
                        <a:ext cx="263520" cy="245160"/>
                        <a:chOff x="2666520" y="2328120"/>
                        <a:chExt cx="263520" cy="245160"/>
                      </a:xfrm>
                    </p:grpSpPr>
                    <p:grpSp>
                      <p:nvGrpSpPr>
                        <p:cNvPr id="2552" name="Group 2199"/>
                        <p:cNvGrpSpPr/>
                        <p:nvPr/>
                      </p:nvGrpSpPr>
                      <p:grpSpPr>
                        <a:xfrm>
                          <a:off x="2800800" y="2328120"/>
                          <a:ext cx="129240" cy="158400"/>
                          <a:chOff x="2800800" y="2328120"/>
                          <a:chExt cx="129240" cy="158400"/>
                        </a:xfrm>
                      </p:grpSpPr>
                      <p:sp>
                        <p:nvSpPr>
                          <p:cNvPr id="2553" name="Freeform 2200"/>
                          <p:cNvSpPr/>
                          <p:nvPr/>
                        </p:nvSpPr>
                        <p:spPr>
                          <a:xfrm flipH="1" rot="20247600">
                            <a:off x="2820960" y="2339640"/>
                            <a:ext cx="87120" cy="127440"/>
                          </a:xfrm>
                          <a:custGeom>
                            <a:avLst/>
                            <a:gdLst>
                              <a:gd name="textAreaLeft" fmla="*/ 360 w 87120"/>
                              <a:gd name="textAreaRight" fmla="*/ 87840 w 8712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54" name="Freeform 2201"/>
                          <p:cNvSpPr/>
                          <p:nvPr/>
                        </p:nvSpPr>
                        <p:spPr>
                          <a:xfrm flipH="1" rot="20247600">
                            <a:off x="2827800" y="2345400"/>
                            <a:ext cx="56520" cy="13536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360"/>
                              <a:gd name="textAreaBottom" fmla="*/ 135720 h 13536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5" name="Group 2202"/>
                        <p:cNvGrpSpPr/>
                        <p:nvPr/>
                      </p:nvGrpSpPr>
                      <p:grpSpPr>
                        <a:xfrm>
                          <a:off x="2747880" y="2366640"/>
                          <a:ext cx="139680" cy="159840"/>
                          <a:chOff x="2747880" y="2366640"/>
                          <a:chExt cx="139680" cy="159840"/>
                        </a:xfrm>
                      </p:grpSpPr>
                      <p:sp>
                        <p:nvSpPr>
                          <p:cNvPr id="2556" name="Freeform 2203"/>
                          <p:cNvSpPr/>
                          <p:nvPr/>
                        </p:nvSpPr>
                        <p:spPr>
                          <a:xfrm flipH="1" rot="19797000">
                            <a:off x="2773800" y="2379600"/>
                            <a:ext cx="87480" cy="12780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800"/>
                              <a:gd name="textAreaBottom" fmla="*/ 128160 h 12780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57" name="Freeform 2204"/>
                          <p:cNvSpPr/>
                          <p:nvPr/>
                        </p:nvSpPr>
                        <p:spPr>
                          <a:xfrm flipH="1" rot="19797000">
                            <a:off x="2781720" y="2386440"/>
                            <a:ext cx="56520" cy="13464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4640"/>
                              <a:gd name="textAreaBottom" fmla="*/ 135000 h 13464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8" name="Group 2205"/>
                        <p:cNvGrpSpPr/>
                        <p:nvPr/>
                      </p:nvGrpSpPr>
                      <p:grpSpPr>
                        <a:xfrm>
                          <a:off x="2666520" y="2419560"/>
                          <a:ext cx="153360" cy="153720"/>
                          <a:chOff x="2666520" y="2419560"/>
                          <a:chExt cx="153360" cy="153720"/>
                        </a:xfrm>
                      </p:grpSpPr>
                      <p:sp>
                        <p:nvSpPr>
                          <p:cNvPr id="2559" name="Freeform 2206"/>
                          <p:cNvSpPr/>
                          <p:nvPr/>
                        </p:nvSpPr>
                        <p:spPr>
                          <a:xfrm flipH="1" rot="18690600">
                            <a:off x="2699280" y="243072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-360 w 87480"/>
                              <a:gd name="textAreaRight" fmla="*/ 8748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0" name="Freeform 2207"/>
                          <p:cNvSpPr/>
                          <p:nvPr/>
                        </p:nvSpPr>
                        <p:spPr>
                          <a:xfrm flipH="1" rot="18690600">
                            <a:off x="2710440" y="24393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-360 w 56520"/>
                              <a:gd name="textAreaRight" fmla="*/ 5652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 rot="10800000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561" name="Group 2208"/>
                      <p:cNvGrpSpPr/>
                      <p:nvPr/>
                    </p:nvGrpSpPr>
                    <p:grpSpPr>
                      <a:xfrm>
                        <a:off x="2895480" y="2273400"/>
                        <a:ext cx="266400" cy="150840"/>
                        <a:chOff x="2895480" y="2273400"/>
                        <a:chExt cx="266400" cy="150840"/>
                      </a:xfrm>
                    </p:grpSpPr>
                    <p:grpSp>
                      <p:nvGrpSpPr>
                        <p:cNvPr id="2562" name="Group 2209"/>
                        <p:cNvGrpSpPr/>
                        <p:nvPr/>
                      </p:nvGrpSpPr>
                      <p:grpSpPr>
                        <a:xfrm>
                          <a:off x="2895480" y="2274840"/>
                          <a:ext cx="117720" cy="147240"/>
                          <a:chOff x="2895480" y="2274840"/>
                          <a:chExt cx="117720" cy="147240"/>
                        </a:xfrm>
                      </p:grpSpPr>
                      <p:sp>
                        <p:nvSpPr>
                          <p:cNvPr id="2563" name="Freeform 2210"/>
                          <p:cNvSpPr/>
                          <p:nvPr/>
                        </p:nvSpPr>
                        <p:spPr>
                          <a:xfrm rot="20692800">
                            <a:off x="2910240" y="22838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4" name="Freeform 2211"/>
                          <p:cNvSpPr/>
                          <p:nvPr/>
                        </p:nvSpPr>
                        <p:spPr>
                          <a:xfrm rot="20692800">
                            <a:off x="2938320" y="22820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65" name="Group 2212"/>
                        <p:cNvGrpSpPr/>
                        <p:nvPr/>
                      </p:nvGrpSpPr>
                      <p:grpSpPr>
                        <a:xfrm>
                          <a:off x="2964600" y="2280960"/>
                          <a:ext cx="103680" cy="143280"/>
                          <a:chOff x="2964600" y="2280960"/>
                          <a:chExt cx="103680" cy="143280"/>
                        </a:xfrm>
                      </p:grpSpPr>
                      <p:sp>
                        <p:nvSpPr>
                          <p:cNvPr id="2566" name="Freeform 2213"/>
                          <p:cNvSpPr/>
                          <p:nvPr/>
                        </p:nvSpPr>
                        <p:spPr>
                          <a:xfrm rot="21143400">
                            <a:off x="2972520" y="228600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67" name="Freeform 2214"/>
                          <p:cNvSpPr/>
                          <p:nvPr/>
                        </p:nvSpPr>
                        <p:spPr>
                          <a:xfrm rot="21143400">
                            <a:off x="3000240" y="228564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68" name="Group 2215"/>
                        <p:cNvGrpSpPr/>
                        <p:nvPr/>
                      </p:nvGrpSpPr>
                      <p:grpSpPr>
                        <a:xfrm>
                          <a:off x="3051720" y="2273400"/>
                          <a:ext cx="110160" cy="150480"/>
                          <a:chOff x="3051720" y="2273400"/>
                          <a:chExt cx="110160" cy="150480"/>
                        </a:xfrm>
                      </p:grpSpPr>
                      <p:sp>
                        <p:nvSpPr>
                          <p:cNvPr id="2569" name="Freeform 2216"/>
                          <p:cNvSpPr/>
                          <p:nvPr/>
                        </p:nvSpPr>
                        <p:spPr>
                          <a:xfrm rot="649800">
                            <a:off x="3062880" y="2280240"/>
                            <a:ext cx="87480" cy="127440"/>
                          </a:xfrm>
                          <a:custGeom>
                            <a:avLst/>
                            <a:gdLst>
                              <a:gd name="textAreaLeft" fmla="*/ 0 w 87480"/>
                              <a:gd name="textAreaRight" fmla="*/ 87840 w 87480"/>
                              <a:gd name="textAreaTop" fmla="*/ 0 h 127440"/>
                              <a:gd name="textAreaBottom" fmla="*/ 127800 h 127440"/>
                            </a:gdLst>
                            <a:ahLst/>
                            <a:rect l="textAreaLeft" t="textAreaTop" r="textAreaRight" b="textAreaBottom"/>
                            <a:pathLst>
                              <a:path w="136" h="318">
                                <a:moveTo>
                                  <a:pt x="136" y="0"/>
                                </a:moveTo>
                                <a:cubicBezTo>
                                  <a:pt x="102" y="42"/>
                                  <a:pt x="69" y="84"/>
                                  <a:pt x="46" y="137"/>
                                </a:cubicBezTo>
                                <a:cubicBezTo>
                                  <a:pt x="23" y="190"/>
                                  <a:pt x="11" y="254"/>
                                  <a:pt x="0" y="318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0" name="Freeform 2217"/>
                          <p:cNvSpPr/>
                          <p:nvPr/>
                        </p:nvSpPr>
                        <p:spPr>
                          <a:xfrm rot="649800">
                            <a:off x="3088800" y="2284560"/>
                            <a:ext cx="56520" cy="135000"/>
                          </a:xfrm>
                          <a:custGeom>
                            <a:avLst/>
                            <a:gdLst>
                              <a:gd name="textAreaLeft" fmla="*/ 0 w 56520"/>
                              <a:gd name="textAreaRight" fmla="*/ 56880 w 565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88" h="336">
                                <a:moveTo>
                                  <a:pt x="88" y="0"/>
                                </a:moveTo>
                                <a:cubicBezTo>
                                  <a:pt x="76" y="33"/>
                                  <a:pt x="31" y="144"/>
                                  <a:pt x="16" y="200"/>
                                </a:cubicBezTo>
                                <a:cubicBezTo>
                                  <a:pt x="1" y="256"/>
                                  <a:pt x="3" y="308"/>
                                  <a:pt x="0" y="336"/>
                                </a:cubicBezTo>
                              </a:path>
                            </a:pathLst>
                          </a:custGeom>
                          <a:solidFill>
                            <a:srgbClr val="66ff66"/>
                          </a:solidFill>
                          <a:ln w="28440">
                            <a:solidFill>
                              <a:srgbClr val="33cc33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571" name="Group 2258"/>
                  <p:cNvGrpSpPr/>
                  <p:nvPr/>
                </p:nvGrpSpPr>
                <p:grpSpPr>
                  <a:xfrm>
                    <a:off x="242640" y="2534400"/>
                    <a:ext cx="4516200" cy="2656800"/>
                    <a:chOff x="242640" y="2534400"/>
                    <a:chExt cx="4516200" cy="2656800"/>
                  </a:xfrm>
                </p:grpSpPr>
                <p:grpSp>
                  <p:nvGrpSpPr>
                    <p:cNvPr id="2572" name="Group 2239"/>
                    <p:cNvGrpSpPr/>
                    <p:nvPr/>
                  </p:nvGrpSpPr>
                  <p:grpSpPr>
                    <a:xfrm>
                      <a:off x="324000" y="4002480"/>
                      <a:ext cx="825120" cy="613800"/>
                      <a:chOff x="324000" y="4002480"/>
                      <a:chExt cx="825120" cy="613800"/>
                    </a:xfrm>
                  </p:grpSpPr>
                  <p:sp>
                    <p:nvSpPr>
                      <p:cNvPr id="2573" name="plant"/>
                      <p:cNvSpPr/>
                      <p:nvPr/>
                    </p:nvSpPr>
                    <p:spPr>
                      <a:xfrm>
                        <a:off x="324000" y="4002480"/>
                        <a:ext cx="825120" cy="613800"/>
                      </a:xfrm>
                      <a:custGeom>
                        <a:avLst/>
                        <a:gdLst>
                          <a:gd name="textAreaLeft" fmla="*/ 271080 w 825120"/>
                          <a:gd name="textAreaRight" fmla="*/ 555840 w 825120"/>
                          <a:gd name="textAreaTop" fmla="*/ 286560 h 613800"/>
                          <a:gd name="textAreaBottom" fmla="*/ 385200 h 613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9368" y="9002"/>
                            </a:moveTo>
                            <a:lnTo>
                              <a:pt x="9254" y="8422"/>
                            </a:lnTo>
                            <a:lnTo>
                              <a:pt x="9139" y="7935"/>
                            </a:lnTo>
                            <a:lnTo>
                              <a:pt x="8819" y="7355"/>
                            </a:lnTo>
                            <a:lnTo>
                              <a:pt x="8475" y="6728"/>
                            </a:lnTo>
                            <a:lnTo>
                              <a:pt x="8040" y="6287"/>
                            </a:lnTo>
                            <a:lnTo>
                              <a:pt x="7421" y="5707"/>
                            </a:lnTo>
                            <a:lnTo>
                              <a:pt x="6574" y="5429"/>
                            </a:lnTo>
                            <a:lnTo>
                              <a:pt x="5452" y="5313"/>
                            </a:lnTo>
                            <a:lnTo>
                              <a:pt x="4856" y="5220"/>
                            </a:lnTo>
                            <a:lnTo>
                              <a:pt x="4169" y="5220"/>
                            </a:lnTo>
                            <a:lnTo>
                              <a:pt x="3665" y="5104"/>
                            </a:lnTo>
                            <a:lnTo>
                              <a:pt x="3001" y="4872"/>
                            </a:lnTo>
                            <a:lnTo>
                              <a:pt x="2497" y="4756"/>
                            </a:lnTo>
                            <a:lnTo>
                              <a:pt x="2062" y="4408"/>
                            </a:lnTo>
                            <a:lnTo>
                              <a:pt x="1603" y="4083"/>
                            </a:lnTo>
                            <a:lnTo>
                              <a:pt x="1283" y="3689"/>
                            </a:lnTo>
                            <a:lnTo>
                              <a:pt x="1283" y="4315"/>
                            </a:lnTo>
                            <a:lnTo>
                              <a:pt x="1489" y="5104"/>
                            </a:lnTo>
                            <a:lnTo>
                              <a:pt x="1832" y="6055"/>
                            </a:lnTo>
                            <a:lnTo>
                              <a:pt x="2382" y="6914"/>
                            </a:lnTo>
                            <a:lnTo>
                              <a:pt x="2680" y="7471"/>
                            </a:lnTo>
                            <a:lnTo>
                              <a:pt x="3115" y="7935"/>
                            </a:lnTo>
                            <a:lnTo>
                              <a:pt x="3573" y="8213"/>
                            </a:lnTo>
                            <a:lnTo>
                              <a:pt x="4077" y="8654"/>
                            </a:lnTo>
                            <a:lnTo>
                              <a:pt x="4627" y="9002"/>
                            </a:lnTo>
                            <a:lnTo>
                              <a:pt x="5245" y="9234"/>
                            </a:lnTo>
                            <a:lnTo>
                              <a:pt x="6024" y="9443"/>
                            </a:lnTo>
                            <a:lnTo>
                              <a:pt x="6757" y="9628"/>
                            </a:lnTo>
                            <a:lnTo>
                              <a:pt x="5177" y="10069"/>
                            </a:lnTo>
                            <a:lnTo>
                              <a:pt x="3963" y="10649"/>
                            </a:lnTo>
                            <a:lnTo>
                              <a:pt x="3344" y="11044"/>
                            </a:lnTo>
                            <a:lnTo>
                              <a:pt x="2886" y="11600"/>
                            </a:lnTo>
                            <a:lnTo>
                              <a:pt x="2497" y="12041"/>
                            </a:lnTo>
                            <a:lnTo>
                              <a:pt x="1947" y="12343"/>
                            </a:lnTo>
                            <a:lnTo>
                              <a:pt x="1168" y="12668"/>
                            </a:lnTo>
                            <a:lnTo>
                              <a:pt x="0" y="12900"/>
                            </a:lnTo>
                            <a:lnTo>
                              <a:pt x="435" y="13248"/>
                            </a:lnTo>
                            <a:lnTo>
                              <a:pt x="779" y="13456"/>
                            </a:lnTo>
                            <a:lnTo>
                              <a:pt x="1283" y="13642"/>
                            </a:lnTo>
                            <a:lnTo>
                              <a:pt x="1718" y="13758"/>
                            </a:lnTo>
                            <a:lnTo>
                              <a:pt x="2680" y="13851"/>
                            </a:lnTo>
                            <a:lnTo>
                              <a:pt x="3573" y="13758"/>
                            </a:lnTo>
                            <a:lnTo>
                              <a:pt x="4512" y="13526"/>
                            </a:lnTo>
                            <a:lnTo>
                              <a:pt x="5360" y="13248"/>
                            </a:lnTo>
                            <a:lnTo>
                              <a:pt x="6139" y="12900"/>
                            </a:lnTo>
                            <a:lnTo>
                              <a:pt x="6757" y="12552"/>
                            </a:lnTo>
                            <a:lnTo>
                              <a:pt x="6459" y="13132"/>
                            </a:lnTo>
                            <a:lnTo>
                              <a:pt x="6139" y="13642"/>
                            </a:lnTo>
                            <a:lnTo>
                              <a:pt x="5910" y="14199"/>
                            </a:lnTo>
                            <a:lnTo>
                              <a:pt x="5681" y="14663"/>
                            </a:lnTo>
                            <a:lnTo>
                              <a:pt x="5681" y="15150"/>
                            </a:lnTo>
                            <a:lnTo>
                              <a:pt x="5681" y="15730"/>
                            </a:lnTo>
                            <a:lnTo>
                              <a:pt x="5681" y="16241"/>
                            </a:lnTo>
                            <a:lnTo>
                              <a:pt x="5795" y="16913"/>
                            </a:lnTo>
                            <a:lnTo>
                              <a:pt x="5910" y="17586"/>
                            </a:lnTo>
                            <a:lnTo>
                              <a:pt x="5910" y="18213"/>
                            </a:lnTo>
                            <a:lnTo>
                              <a:pt x="5795" y="18885"/>
                            </a:lnTo>
                            <a:lnTo>
                              <a:pt x="5566" y="19396"/>
                            </a:lnTo>
                            <a:lnTo>
                              <a:pt x="5245" y="19976"/>
                            </a:lnTo>
                            <a:lnTo>
                              <a:pt x="4971" y="20370"/>
                            </a:lnTo>
                            <a:lnTo>
                              <a:pt x="4512" y="20811"/>
                            </a:lnTo>
                            <a:lnTo>
                              <a:pt x="4077" y="21043"/>
                            </a:lnTo>
                            <a:lnTo>
                              <a:pt x="5177" y="20927"/>
                            </a:lnTo>
                            <a:lnTo>
                              <a:pt x="6253" y="20486"/>
                            </a:lnTo>
                            <a:lnTo>
                              <a:pt x="7421" y="19976"/>
                            </a:lnTo>
                            <a:lnTo>
                              <a:pt x="8361" y="19187"/>
                            </a:lnTo>
                            <a:lnTo>
                              <a:pt x="8819" y="18769"/>
                            </a:lnTo>
                            <a:lnTo>
                              <a:pt x="9139" y="18213"/>
                            </a:lnTo>
                            <a:lnTo>
                              <a:pt x="9437" y="17772"/>
                            </a:lnTo>
                            <a:lnTo>
                              <a:pt x="9643" y="17261"/>
                            </a:lnTo>
                            <a:lnTo>
                              <a:pt x="9872" y="16681"/>
                            </a:lnTo>
                            <a:lnTo>
                              <a:pt x="9872" y="16171"/>
                            </a:lnTo>
                            <a:lnTo>
                              <a:pt x="9872" y="15614"/>
                            </a:lnTo>
                            <a:lnTo>
                              <a:pt x="9758" y="15057"/>
                            </a:lnTo>
                            <a:lnTo>
                              <a:pt x="10216" y="15498"/>
                            </a:lnTo>
                            <a:lnTo>
                              <a:pt x="10537" y="16241"/>
                            </a:lnTo>
                            <a:lnTo>
                              <a:pt x="10834" y="17145"/>
                            </a:lnTo>
                            <a:lnTo>
                              <a:pt x="11041" y="18213"/>
                            </a:lnTo>
                            <a:lnTo>
                              <a:pt x="11155" y="19187"/>
                            </a:lnTo>
                            <a:lnTo>
                              <a:pt x="11155" y="20185"/>
                            </a:lnTo>
                            <a:lnTo>
                              <a:pt x="11155" y="20579"/>
                            </a:lnTo>
                            <a:lnTo>
                              <a:pt x="11041" y="21043"/>
                            </a:lnTo>
                            <a:lnTo>
                              <a:pt x="10926" y="21391"/>
                            </a:lnTo>
                            <a:lnTo>
                              <a:pt x="10766" y="21600"/>
                            </a:lnTo>
                            <a:lnTo>
                              <a:pt x="11499" y="21484"/>
                            </a:lnTo>
                            <a:lnTo>
                              <a:pt x="12323" y="21043"/>
                            </a:lnTo>
                            <a:lnTo>
                              <a:pt x="13102" y="20370"/>
                            </a:lnTo>
                            <a:lnTo>
                              <a:pt x="13606" y="19628"/>
                            </a:lnTo>
                            <a:lnTo>
                              <a:pt x="13950" y="19071"/>
                            </a:lnTo>
                            <a:lnTo>
                              <a:pt x="14064" y="18677"/>
                            </a:lnTo>
                            <a:lnTo>
                              <a:pt x="14179" y="18097"/>
                            </a:lnTo>
                            <a:lnTo>
                              <a:pt x="14293" y="17586"/>
                            </a:lnTo>
                            <a:lnTo>
                              <a:pt x="14179" y="16913"/>
                            </a:lnTo>
                            <a:lnTo>
                              <a:pt x="14064" y="16241"/>
                            </a:lnTo>
                            <a:lnTo>
                              <a:pt x="13835" y="15614"/>
                            </a:lnTo>
                            <a:lnTo>
                              <a:pt x="13560" y="14872"/>
                            </a:lnTo>
                            <a:lnTo>
                              <a:pt x="13950" y="14941"/>
                            </a:lnTo>
                            <a:lnTo>
                              <a:pt x="14408" y="15150"/>
                            </a:lnTo>
                            <a:lnTo>
                              <a:pt x="14843" y="15266"/>
                            </a:lnTo>
                            <a:lnTo>
                              <a:pt x="15232" y="15614"/>
                            </a:lnTo>
                            <a:lnTo>
                              <a:pt x="15576" y="15846"/>
                            </a:lnTo>
                            <a:lnTo>
                              <a:pt x="15897" y="16171"/>
                            </a:lnTo>
                            <a:lnTo>
                              <a:pt x="16126" y="16473"/>
                            </a:lnTo>
                            <a:lnTo>
                              <a:pt x="16240" y="16913"/>
                            </a:lnTo>
                            <a:lnTo>
                              <a:pt x="16515" y="17261"/>
                            </a:lnTo>
                            <a:lnTo>
                              <a:pt x="17088" y="17586"/>
                            </a:lnTo>
                            <a:lnTo>
                              <a:pt x="17798" y="17865"/>
                            </a:lnTo>
                            <a:lnTo>
                              <a:pt x="18576" y="18097"/>
                            </a:lnTo>
                            <a:lnTo>
                              <a:pt x="19424" y="18213"/>
                            </a:lnTo>
                            <a:lnTo>
                              <a:pt x="20317" y="18213"/>
                            </a:lnTo>
                            <a:lnTo>
                              <a:pt x="21050" y="18213"/>
                            </a:lnTo>
                            <a:lnTo>
                              <a:pt x="21600" y="17865"/>
                            </a:lnTo>
                            <a:lnTo>
                              <a:pt x="21165" y="17656"/>
                            </a:lnTo>
                            <a:lnTo>
                              <a:pt x="20592" y="17470"/>
                            </a:lnTo>
                            <a:lnTo>
                              <a:pt x="20088" y="17029"/>
                            </a:lnTo>
                            <a:lnTo>
                              <a:pt x="19653" y="16681"/>
                            </a:lnTo>
                            <a:lnTo>
                              <a:pt x="19195" y="16241"/>
                            </a:lnTo>
                            <a:lnTo>
                              <a:pt x="18920" y="15962"/>
                            </a:lnTo>
                            <a:lnTo>
                              <a:pt x="18576" y="15498"/>
                            </a:lnTo>
                            <a:lnTo>
                              <a:pt x="18576" y="15057"/>
                            </a:lnTo>
                            <a:lnTo>
                              <a:pt x="18485" y="14756"/>
                            </a:lnTo>
                            <a:lnTo>
                              <a:pt x="18256" y="14199"/>
                            </a:lnTo>
                            <a:lnTo>
                              <a:pt x="17912" y="13526"/>
                            </a:lnTo>
                            <a:lnTo>
                              <a:pt x="17523" y="13016"/>
                            </a:lnTo>
                            <a:lnTo>
                              <a:pt x="16973" y="12436"/>
                            </a:lnTo>
                            <a:lnTo>
                              <a:pt x="16355" y="12041"/>
                            </a:lnTo>
                            <a:lnTo>
                              <a:pt x="16011" y="11832"/>
                            </a:lnTo>
                            <a:lnTo>
                              <a:pt x="15690" y="11716"/>
                            </a:lnTo>
                            <a:lnTo>
                              <a:pt x="15232" y="11716"/>
                            </a:lnTo>
                            <a:lnTo>
                              <a:pt x="14843" y="11716"/>
                            </a:lnTo>
                            <a:lnTo>
                              <a:pt x="15461" y="11252"/>
                            </a:lnTo>
                            <a:lnTo>
                              <a:pt x="16126" y="10858"/>
                            </a:lnTo>
                            <a:lnTo>
                              <a:pt x="16973" y="10649"/>
                            </a:lnTo>
                            <a:lnTo>
                              <a:pt x="17798" y="10417"/>
                            </a:lnTo>
                            <a:lnTo>
                              <a:pt x="18806" y="10301"/>
                            </a:lnTo>
                            <a:lnTo>
                              <a:pt x="19653" y="10301"/>
                            </a:lnTo>
                            <a:lnTo>
                              <a:pt x="20478" y="10417"/>
                            </a:lnTo>
                            <a:lnTo>
                              <a:pt x="21256" y="10533"/>
                            </a:lnTo>
                            <a:lnTo>
                              <a:pt x="20707" y="9837"/>
                            </a:lnTo>
                            <a:lnTo>
                              <a:pt x="19859" y="9234"/>
                            </a:lnTo>
                            <a:lnTo>
                              <a:pt x="18806" y="8538"/>
                            </a:lnTo>
                            <a:lnTo>
                              <a:pt x="17637" y="8144"/>
                            </a:lnTo>
                            <a:lnTo>
                              <a:pt x="16973" y="8027"/>
                            </a:lnTo>
                            <a:lnTo>
                              <a:pt x="16355" y="7935"/>
                            </a:lnTo>
                            <a:lnTo>
                              <a:pt x="15805" y="7935"/>
                            </a:lnTo>
                            <a:lnTo>
                              <a:pt x="15118" y="8027"/>
                            </a:lnTo>
                            <a:lnTo>
                              <a:pt x="14614" y="8144"/>
                            </a:lnTo>
                            <a:lnTo>
                              <a:pt x="14064" y="8422"/>
                            </a:lnTo>
                            <a:lnTo>
                              <a:pt x="13606" y="8886"/>
                            </a:lnTo>
                            <a:lnTo>
                              <a:pt x="13217" y="9327"/>
                            </a:lnTo>
                            <a:lnTo>
                              <a:pt x="13606" y="8538"/>
                            </a:lnTo>
                            <a:lnTo>
                              <a:pt x="13950" y="7935"/>
                            </a:lnTo>
                            <a:lnTo>
                              <a:pt x="14293" y="7123"/>
                            </a:lnTo>
                            <a:lnTo>
                              <a:pt x="14499" y="6519"/>
                            </a:lnTo>
                            <a:lnTo>
                              <a:pt x="14614" y="5823"/>
                            </a:lnTo>
                            <a:lnTo>
                              <a:pt x="14614" y="5220"/>
                            </a:lnTo>
                            <a:lnTo>
                              <a:pt x="14408" y="4524"/>
                            </a:lnTo>
                            <a:lnTo>
                              <a:pt x="14064" y="3898"/>
                            </a:lnTo>
                            <a:lnTo>
                              <a:pt x="13606" y="3225"/>
                            </a:lnTo>
                            <a:lnTo>
                              <a:pt x="13331" y="2598"/>
                            </a:lnTo>
                            <a:lnTo>
                              <a:pt x="13102" y="2042"/>
                            </a:lnTo>
                            <a:lnTo>
                              <a:pt x="12896" y="1485"/>
                            </a:lnTo>
                            <a:lnTo>
                              <a:pt x="12781" y="1090"/>
                            </a:lnTo>
                            <a:lnTo>
                              <a:pt x="12667" y="626"/>
                            </a:lnTo>
                            <a:lnTo>
                              <a:pt x="12667" y="278"/>
                            </a:lnTo>
                            <a:lnTo>
                              <a:pt x="12667" y="0"/>
                            </a:lnTo>
                            <a:lnTo>
                              <a:pt x="12163" y="394"/>
                            </a:lnTo>
                            <a:lnTo>
                              <a:pt x="11728" y="974"/>
                            </a:lnTo>
                            <a:lnTo>
                              <a:pt x="11155" y="1601"/>
                            </a:lnTo>
                            <a:lnTo>
                              <a:pt x="10766" y="2390"/>
                            </a:lnTo>
                            <a:lnTo>
                              <a:pt x="10330" y="3109"/>
                            </a:lnTo>
                            <a:lnTo>
                              <a:pt x="10101" y="3898"/>
                            </a:lnTo>
                            <a:lnTo>
                              <a:pt x="9987" y="4524"/>
                            </a:lnTo>
                            <a:lnTo>
                              <a:pt x="10101" y="5220"/>
                            </a:lnTo>
                            <a:lnTo>
                              <a:pt x="10216" y="5823"/>
                            </a:lnTo>
                            <a:lnTo>
                              <a:pt x="10330" y="6403"/>
                            </a:lnTo>
                            <a:lnTo>
                              <a:pt x="10330" y="6914"/>
                            </a:lnTo>
                            <a:lnTo>
                              <a:pt x="10216" y="7471"/>
                            </a:lnTo>
                            <a:lnTo>
                              <a:pt x="10101" y="7935"/>
                            </a:lnTo>
                            <a:lnTo>
                              <a:pt x="9872" y="8329"/>
                            </a:lnTo>
                            <a:lnTo>
                              <a:pt x="9643" y="8654"/>
                            </a:lnTo>
                            <a:lnTo>
                              <a:pt x="9368" y="900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9360">
                        <a:solidFill>
                          <a:srgbClr val="00ff00"/>
                        </a:solidFill>
                        <a:miter/>
                      </a:ln>
                      <a:effectLst>
                        <a:outerShdw dist="107932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4" name="AutoShape 2241"/>
                      <p:cNvSpPr/>
                      <p:nvPr/>
                    </p:nvSpPr>
                    <p:spPr>
                      <a:xfrm>
                        <a:off x="557640" y="4155840"/>
                        <a:ext cx="468000" cy="343800"/>
                      </a:xfrm>
                      <a:prstGeom prst="irregularSeal1">
                        <a:avLst/>
                      </a:prstGeom>
                      <a:gradFill rotWithShape="0">
                        <a:gsLst>
                          <a:gs pos="0">
                            <a:srgbClr val="ff0000"/>
                          </a:gs>
                          <a:gs pos="100000">
                            <a:srgbClr val="006699"/>
                          </a:gs>
                        </a:gsLst>
                        <a:lin ang="5400000"/>
                      </a:gra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5" name="Oval 2242"/>
                      <p:cNvSpPr/>
                      <p:nvPr/>
                    </p:nvSpPr>
                    <p:spPr>
                      <a:xfrm>
                        <a:off x="713880" y="4270680"/>
                        <a:ext cx="116640" cy="114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560" bIns="34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76" name="Group 2219"/>
                    <p:cNvGrpSpPr/>
                    <p:nvPr/>
                  </p:nvGrpSpPr>
                  <p:grpSpPr>
                    <a:xfrm>
                      <a:off x="459720" y="3273480"/>
                      <a:ext cx="825120" cy="613800"/>
                      <a:chOff x="459720" y="3273480"/>
                      <a:chExt cx="825120" cy="613800"/>
                    </a:xfrm>
                  </p:grpSpPr>
                  <p:sp>
                    <p:nvSpPr>
                      <p:cNvPr id="2577" name="plant"/>
                      <p:cNvSpPr/>
                      <p:nvPr/>
                    </p:nvSpPr>
                    <p:spPr>
                      <a:xfrm>
                        <a:off x="459720" y="3273480"/>
                        <a:ext cx="825120" cy="613800"/>
                      </a:xfrm>
                      <a:custGeom>
                        <a:avLst/>
                        <a:gdLst>
                          <a:gd name="textAreaLeft" fmla="*/ 271080 w 825120"/>
                          <a:gd name="textAreaRight" fmla="*/ 555840 w 825120"/>
                          <a:gd name="textAreaTop" fmla="*/ 286560 h 613800"/>
                          <a:gd name="textAreaBottom" fmla="*/ 385200 h 613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9368" y="9002"/>
                            </a:moveTo>
                            <a:lnTo>
                              <a:pt x="9254" y="8422"/>
                            </a:lnTo>
                            <a:lnTo>
                              <a:pt x="9139" y="7935"/>
                            </a:lnTo>
                            <a:lnTo>
                              <a:pt x="8819" y="7355"/>
                            </a:lnTo>
                            <a:lnTo>
                              <a:pt x="8475" y="6728"/>
                            </a:lnTo>
                            <a:lnTo>
                              <a:pt x="8040" y="6287"/>
                            </a:lnTo>
                            <a:lnTo>
                              <a:pt x="7421" y="5707"/>
                            </a:lnTo>
                            <a:lnTo>
                              <a:pt x="6574" y="5429"/>
                            </a:lnTo>
                            <a:lnTo>
                              <a:pt x="5452" y="5313"/>
                            </a:lnTo>
                            <a:lnTo>
                              <a:pt x="4856" y="5220"/>
                            </a:lnTo>
                            <a:lnTo>
                              <a:pt x="4169" y="5220"/>
                            </a:lnTo>
                            <a:lnTo>
                              <a:pt x="3665" y="5104"/>
                            </a:lnTo>
                            <a:lnTo>
                              <a:pt x="3001" y="4872"/>
                            </a:lnTo>
                            <a:lnTo>
                              <a:pt x="2497" y="4756"/>
                            </a:lnTo>
                            <a:lnTo>
                              <a:pt x="2062" y="4408"/>
                            </a:lnTo>
                            <a:lnTo>
                              <a:pt x="1603" y="4083"/>
                            </a:lnTo>
                            <a:lnTo>
                              <a:pt x="1283" y="3689"/>
                            </a:lnTo>
                            <a:lnTo>
                              <a:pt x="1283" y="4315"/>
                            </a:lnTo>
                            <a:lnTo>
                              <a:pt x="1489" y="5104"/>
                            </a:lnTo>
                            <a:lnTo>
                              <a:pt x="1832" y="6055"/>
                            </a:lnTo>
                            <a:lnTo>
                              <a:pt x="2382" y="6914"/>
                            </a:lnTo>
                            <a:lnTo>
                              <a:pt x="2680" y="7471"/>
                            </a:lnTo>
                            <a:lnTo>
                              <a:pt x="3115" y="7935"/>
                            </a:lnTo>
                            <a:lnTo>
                              <a:pt x="3573" y="8213"/>
                            </a:lnTo>
                            <a:lnTo>
                              <a:pt x="4077" y="8654"/>
                            </a:lnTo>
                            <a:lnTo>
                              <a:pt x="4627" y="9002"/>
                            </a:lnTo>
                            <a:lnTo>
                              <a:pt x="5245" y="9234"/>
                            </a:lnTo>
                            <a:lnTo>
                              <a:pt x="6024" y="9443"/>
                            </a:lnTo>
                            <a:lnTo>
                              <a:pt x="6757" y="9628"/>
                            </a:lnTo>
                            <a:lnTo>
                              <a:pt x="5177" y="10069"/>
                            </a:lnTo>
                            <a:lnTo>
                              <a:pt x="3963" y="10649"/>
                            </a:lnTo>
                            <a:lnTo>
                              <a:pt x="3344" y="11044"/>
                            </a:lnTo>
                            <a:lnTo>
                              <a:pt x="2886" y="11600"/>
                            </a:lnTo>
                            <a:lnTo>
                              <a:pt x="2497" y="12041"/>
                            </a:lnTo>
                            <a:lnTo>
                              <a:pt x="1947" y="12343"/>
                            </a:lnTo>
                            <a:lnTo>
                              <a:pt x="1168" y="12668"/>
                            </a:lnTo>
                            <a:lnTo>
                              <a:pt x="0" y="12900"/>
                            </a:lnTo>
                            <a:lnTo>
                              <a:pt x="435" y="13248"/>
                            </a:lnTo>
                            <a:lnTo>
                              <a:pt x="779" y="13456"/>
                            </a:lnTo>
                            <a:lnTo>
                              <a:pt x="1283" y="13642"/>
                            </a:lnTo>
                            <a:lnTo>
                              <a:pt x="1718" y="13758"/>
                            </a:lnTo>
                            <a:lnTo>
                              <a:pt x="2680" y="13851"/>
                            </a:lnTo>
                            <a:lnTo>
                              <a:pt x="3573" y="13758"/>
                            </a:lnTo>
                            <a:lnTo>
                              <a:pt x="4512" y="13526"/>
                            </a:lnTo>
                            <a:lnTo>
                              <a:pt x="5360" y="13248"/>
                            </a:lnTo>
                            <a:lnTo>
                              <a:pt x="6139" y="12900"/>
                            </a:lnTo>
                            <a:lnTo>
                              <a:pt x="6757" y="12552"/>
                            </a:lnTo>
                            <a:lnTo>
                              <a:pt x="6459" y="13132"/>
                            </a:lnTo>
                            <a:lnTo>
                              <a:pt x="6139" y="13642"/>
                            </a:lnTo>
                            <a:lnTo>
                              <a:pt x="5910" y="14199"/>
                            </a:lnTo>
                            <a:lnTo>
                              <a:pt x="5681" y="14663"/>
                            </a:lnTo>
                            <a:lnTo>
                              <a:pt x="5681" y="15150"/>
                            </a:lnTo>
                            <a:lnTo>
                              <a:pt x="5681" y="15730"/>
                            </a:lnTo>
                            <a:lnTo>
                              <a:pt x="5681" y="16241"/>
                            </a:lnTo>
                            <a:lnTo>
                              <a:pt x="5795" y="16913"/>
                            </a:lnTo>
                            <a:lnTo>
                              <a:pt x="5910" y="17586"/>
                            </a:lnTo>
                            <a:lnTo>
                              <a:pt x="5910" y="18213"/>
                            </a:lnTo>
                            <a:lnTo>
                              <a:pt x="5795" y="18885"/>
                            </a:lnTo>
                            <a:lnTo>
                              <a:pt x="5566" y="19396"/>
                            </a:lnTo>
                            <a:lnTo>
                              <a:pt x="5245" y="19976"/>
                            </a:lnTo>
                            <a:lnTo>
                              <a:pt x="4971" y="20370"/>
                            </a:lnTo>
                            <a:lnTo>
                              <a:pt x="4512" y="20811"/>
                            </a:lnTo>
                            <a:lnTo>
                              <a:pt x="4077" y="21043"/>
                            </a:lnTo>
                            <a:lnTo>
                              <a:pt x="5177" y="20927"/>
                            </a:lnTo>
                            <a:lnTo>
                              <a:pt x="6253" y="20486"/>
                            </a:lnTo>
                            <a:lnTo>
                              <a:pt x="7421" y="19976"/>
                            </a:lnTo>
                            <a:lnTo>
                              <a:pt x="8361" y="19187"/>
                            </a:lnTo>
                            <a:lnTo>
                              <a:pt x="8819" y="18769"/>
                            </a:lnTo>
                            <a:lnTo>
                              <a:pt x="9139" y="18213"/>
                            </a:lnTo>
                            <a:lnTo>
                              <a:pt x="9437" y="17772"/>
                            </a:lnTo>
                            <a:lnTo>
                              <a:pt x="9643" y="17261"/>
                            </a:lnTo>
                            <a:lnTo>
                              <a:pt x="9872" y="16681"/>
                            </a:lnTo>
                            <a:lnTo>
                              <a:pt x="9872" y="16171"/>
                            </a:lnTo>
                            <a:lnTo>
                              <a:pt x="9872" y="15614"/>
                            </a:lnTo>
                            <a:lnTo>
                              <a:pt x="9758" y="15057"/>
                            </a:lnTo>
                            <a:lnTo>
                              <a:pt x="10216" y="15498"/>
                            </a:lnTo>
                            <a:lnTo>
                              <a:pt x="10537" y="16241"/>
                            </a:lnTo>
                            <a:lnTo>
                              <a:pt x="10834" y="17145"/>
                            </a:lnTo>
                            <a:lnTo>
                              <a:pt x="11041" y="18213"/>
                            </a:lnTo>
                            <a:lnTo>
                              <a:pt x="11155" y="19187"/>
                            </a:lnTo>
                            <a:lnTo>
                              <a:pt x="11155" y="20185"/>
                            </a:lnTo>
                            <a:lnTo>
                              <a:pt x="11155" y="20579"/>
                            </a:lnTo>
                            <a:lnTo>
                              <a:pt x="11041" y="21043"/>
                            </a:lnTo>
                            <a:lnTo>
                              <a:pt x="10926" y="21391"/>
                            </a:lnTo>
                            <a:lnTo>
                              <a:pt x="10766" y="21600"/>
                            </a:lnTo>
                            <a:lnTo>
                              <a:pt x="11499" y="21484"/>
                            </a:lnTo>
                            <a:lnTo>
                              <a:pt x="12323" y="21043"/>
                            </a:lnTo>
                            <a:lnTo>
                              <a:pt x="13102" y="20370"/>
                            </a:lnTo>
                            <a:lnTo>
                              <a:pt x="13606" y="19628"/>
                            </a:lnTo>
                            <a:lnTo>
                              <a:pt x="13950" y="19071"/>
                            </a:lnTo>
                            <a:lnTo>
                              <a:pt x="14064" y="18677"/>
                            </a:lnTo>
                            <a:lnTo>
                              <a:pt x="14179" y="18097"/>
                            </a:lnTo>
                            <a:lnTo>
                              <a:pt x="14293" y="17586"/>
                            </a:lnTo>
                            <a:lnTo>
                              <a:pt x="14179" y="16913"/>
                            </a:lnTo>
                            <a:lnTo>
                              <a:pt x="14064" y="16241"/>
                            </a:lnTo>
                            <a:lnTo>
                              <a:pt x="13835" y="15614"/>
                            </a:lnTo>
                            <a:lnTo>
                              <a:pt x="13560" y="14872"/>
                            </a:lnTo>
                            <a:lnTo>
                              <a:pt x="13950" y="14941"/>
                            </a:lnTo>
                            <a:lnTo>
                              <a:pt x="14408" y="15150"/>
                            </a:lnTo>
                            <a:lnTo>
                              <a:pt x="14843" y="15266"/>
                            </a:lnTo>
                            <a:lnTo>
                              <a:pt x="15232" y="15614"/>
                            </a:lnTo>
                            <a:lnTo>
                              <a:pt x="15576" y="15846"/>
                            </a:lnTo>
                            <a:lnTo>
                              <a:pt x="15897" y="16171"/>
                            </a:lnTo>
                            <a:lnTo>
                              <a:pt x="16126" y="16473"/>
                            </a:lnTo>
                            <a:lnTo>
                              <a:pt x="16240" y="16913"/>
                            </a:lnTo>
                            <a:lnTo>
                              <a:pt x="16515" y="17261"/>
                            </a:lnTo>
                            <a:lnTo>
                              <a:pt x="17088" y="17586"/>
                            </a:lnTo>
                            <a:lnTo>
                              <a:pt x="17798" y="17865"/>
                            </a:lnTo>
                            <a:lnTo>
                              <a:pt x="18576" y="18097"/>
                            </a:lnTo>
                            <a:lnTo>
                              <a:pt x="19424" y="18213"/>
                            </a:lnTo>
                            <a:lnTo>
                              <a:pt x="20317" y="18213"/>
                            </a:lnTo>
                            <a:lnTo>
                              <a:pt x="21050" y="18213"/>
                            </a:lnTo>
                            <a:lnTo>
                              <a:pt x="21600" y="17865"/>
                            </a:lnTo>
                            <a:lnTo>
                              <a:pt x="21165" y="17656"/>
                            </a:lnTo>
                            <a:lnTo>
                              <a:pt x="20592" y="17470"/>
                            </a:lnTo>
                            <a:lnTo>
                              <a:pt x="20088" y="17029"/>
                            </a:lnTo>
                            <a:lnTo>
                              <a:pt x="19653" y="16681"/>
                            </a:lnTo>
                            <a:lnTo>
                              <a:pt x="19195" y="16241"/>
                            </a:lnTo>
                            <a:lnTo>
                              <a:pt x="18920" y="15962"/>
                            </a:lnTo>
                            <a:lnTo>
                              <a:pt x="18576" y="15498"/>
                            </a:lnTo>
                            <a:lnTo>
                              <a:pt x="18576" y="15057"/>
                            </a:lnTo>
                            <a:lnTo>
                              <a:pt x="18485" y="14756"/>
                            </a:lnTo>
                            <a:lnTo>
                              <a:pt x="18256" y="14199"/>
                            </a:lnTo>
                            <a:lnTo>
                              <a:pt x="17912" y="13526"/>
                            </a:lnTo>
                            <a:lnTo>
                              <a:pt x="17523" y="13016"/>
                            </a:lnTo>
                            <a:lnTo>
                              <a:pt x="16973" y="12436"/>
                            </a:lnTo>
                            <a:lnTo>
                              <a:pt x="16355" y="12041"/>
                            </a:lnTo>
                            <a:lnTo>
                              <a:pt x="16011" y="11832"/>
                            </a:lnTo>
                            <a:lnTo>
                              <a:pt x="15690" y="11716"/>
                            </a:lnTo>
                            <a:lnTo>
                              <a:pt x="15232" y="11716"/>
                            </a:lnTo>
                            <a:lnTo>
                              <a:pt x="14843" y="11716"/>
                            </a:lnTo>
                            <a:lnTo>
                              <a:pt x="15461" y="11252"/>
                            </a:lnTo>
                            <a:lnTo>
                              <a:pt x="16126" y="10858"/>
                            </a:lnTo>
                            <a:lnTo>
                              <a:pt x="16973" y="10649"/>
                            </a:lnTo>
                            <a:lnTo>
                              <a:pt x="17798" y="10417"/>
                            </a:lnTo>
                            <a:lnTo>
                              <a:pt x="18806" y="10301"/>
                            </a:lnTo>
                            <a:lnTo>
                              <a:pt x="19653" y="10301"/>
                            </a:lnTo>
                            <a:lnTo>
                              <a:pt x="20478" y="10417"/>
                            </a:lnTo>
                            <a:lnTo>
                              <a:pt x="21256" y="10533"/>
                            </a:lnTo>
                            <a:lnTo>
                              <a:pt x="20707" y="9837"/>
                            </a:lnTo>
                            <a:lnTo>
                              <a:pt x="19859" y="9234"/>
                            </a:lnTo>
                            <a:lnTo>
                              <a:pt x="18806" y="8538"/>
                            </a:lnTo>
                            <a:lnTo>
                              <a:pt x="17637" y="8144"/>
                            </a:lnTo>
                            <a:lnTo>
                              <a:pt x="16973" y="8027"/>
                            </a:lnTo>
                            <a:lnTo>
                              <a:pt x="16355" y="7935"/>
                            </a:lnTo>
                            <a:lnTo>
                              <a:pt x="15805" y="7935"/>
                            </a:lnTo>
                            <a:lnTo>
                              <a:pt x="15118" y="8027"/>
                            </a:lnTo>
                            <a:lnTo>
                              <a:pt x="14614" y="8144"/>
                            </a:lnTo>
                            <a:lnTo>
                              <a:pt x="14064" y="8422"/>
                            </a:lnTo>
                            <a:lnTo>
                              <a:pt x="13606" y="8886"/>
                            </a:lnTo>
                            <a:lnTo>
                              <a:pt x="13217" y="9327"/>
                            </a:lnTo>
                            <a:lnTo>
                              <a:pt x="13606" y="8538"/>
                            </a:lnTo>
                            <a:lnTo>
                              <a:pt x="13950" y="7935"/>
                            </a:lnTo>
                            <a:lnTo>
                              <a:pt x="14293" y="7123"/>
                            </a:lnTo>
                            <a:lnTo>
                              <a:pt x="14499" y="6519"/>
                            </a:lnTo>
                            <a:lnTo>
                              <a:pt x="14614" y="5823"/>
                            </a:lnTo>
                            <a:lnTo>
                              <a:pt x="14614" y="5220"/>
                            </a:lnTo>
                            <a:lnTo>
                              <a:pt x="14408" y="4524"/>
                            </a:lnTo>
                            <a:lnTo>
                              <a:pt x="14064" y="3898"/>
                            </a:lnTo>
                            <a:lnTo>
                              <a:pt x="13606" y="3225"/>
                            </a:lnTo>
                            <a:lnTo>
                              <a:pt x="13331" y="2598"/>
                            </a:lnTo>
                            <a:lnTo>
                              <a:pt x="13102" y="2042"/>
                            </a:lnTo>
                            <a:lnTo>
                              <a:pt x="12896" y="1485"/>
                            </a:lnTo>
                            <a:lnTo>
                              <a:pt x="12781" y="1090"/>
                            </a:lnTo>
                            <a:lnTo>
                              <a:pt x="12667" y="626"/>
                            </a:lnTo>
                            <a:lnTo>
                              <a:pt x="12667" y="278"/>
                            </a:lnTo>
                            <a:lnTo>
                              <a:pt x="12667" y="0"/>
                            </a:lnTo>
                            <a:lnTo>
                              <a:pt x="12163" y="394"/>
                            </a:lnTo>
                            <a:lnTo>
                              <a:pt x="11728" y="974"/>
                            </a:lnTo>
                            <a:lnTo>
                              <a:pt x="11155" y="1601"/>
                            </a:lnTo>
                            <a:lnTo>
                              <a:pt x="10766" y="2390"/>
                            </a:lnTo>
                            <a:lnTo>
                              <a:pt x="10330" y="3109"/>
                            </a:lnTo>
                            <a:lnTo>
                              <a:pt x="10101" y="3898"/>
                            </a:lnTo>
                            <a:lnTo>
                              <a:pt x="9987" y="4524"/>
                            </a:lnTo>
                            <a:lnTo>
                              <a:pt x="10101" y="5220"/>
                            </a:lnTo>
                            <a:lnTo>
                              <a:pt x="10216" y="5823"/>
                            </a:lnTo>
                            <a:lnTo>
                              <a:pt x="10330" y="6403"/>
                            </a:lnTo>
                            <a:lnTo>
                              <a:pt x="10330" y="6914"/>
                            </a:lnTo>
                            <a:lnTo>
                              <a:pt x="10216" y="7471"/>
                            </a:lnTo>
                            <a:lnTo>
                              <a:pt x="10101" y="7935"/>
                            </a:lnTo>
                            <a:lnTo>
                              <a:pt x="9872" y="8329"/>
                            </a:lnTo>
                            <a:lnTo>
                              <a:pt x="9643" y="8654"/>
                            </a:lnTo>
                            <a:lnTo>
                              <a:pt x="9368" y="900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9360">
                        <a:solidFill>
                          <a:srgbClr val="00ff00"/>
                        </a:solidFill>
                        <a:miter/>
                      </a:ln>
                      <a:effectLst>
                        <a:outerShdw dist="107932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8" name="AutoShape 2221"/>
                      <p:cNvSpPr/>
                      <p:nvPr/>
                    </p:nvSpPr>
                    <p:spPr>
                      <a:xfrm>
                        <a:off x="691920" y="3426840"/>
                        <a:ext cx="468000" cy="343800"/>
                      </a:xfrm>
                      <a:prstGeom prst="irregularSeal1">
                        <a:avLst/>
                      </a:prstGeom>
                      <a:gradFill rotWithShape="0">
                        <a:gsLst>
                          <a:gs pos="0">
                            <a:srgbClr val="ff0000"/>
                          </a:gs>
                          <a:gs pos="100000">
                            <a:srgbClr val="006699"/>
                          </a:gs>
                        </a:gsLst>
                        <a:lin ang="5400000"/>
                      </a:gra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9" name="Oval 2222"/>
                      <p:cNvSpPr/>
                      <p:nvPr/>
                    </p:nvSpPr>
                    <p:spPr>
                      <a:xfrm>
                        <a:off x="847800" y="3541680"/>
                        <a:ext cx="116640" cy="114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560" bIns="34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80" name="Group 2223"/>
                    <p:cNvGrpSpPr/>
                    <p:nvPr/>
                  </p:nvGrpSpPr>
                  <p:grpSpPr>
                    <a:xfrm>
                      <a:off x="772200" y="4577400"/>
                      <a:ext cx="825120" cy="613800"/>
                      <a:chOff x="772200" y="4577400"/>
                      <a:chExt cx="825120" cy="613800"/>
                    </a:xfrm>
                  </p:grpSpPr>
                  <p:sp>
                    <p:nvSpPr>
                      <p:cNvPr id="2581" name="plant"/>
                      <p:cNvSpPr/>
                      <p:nvPr/>
                    </p:nvSpPr>
                    <p:spPr>
                      <a:xfrm>
                        <a:off x="772200" y="4577400"/>
                        <a:ext cx="825120" cy="613800"/>
                      </a:xfrm>
                      <a:custGeom>
                        <a:avLst/>
                        <a:gdLst>
                          <a:gd name="textAreaLeft" fmla="*/ 271080 w 825120"/>
                          <a:gd name="textAreaRight" fmla="*/ 555840 w 825120"/>
                          <a:gd name="textAreaTop" fmla="*/ 286560 h 613800"/>
                          <a:gd name="textAreaBottom" fmla="*/ 385200 h 613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9368" y="9002"/>
                            </a:moveTo>
                            <a:lnTo>
                              <a:pt x="9254" y="8422"/>
                            </a:lnTo>
                            <a:lnTo>
                              <a:pt x="9139" y="7935"/>
                            </a:lnTo>
                            <a:lnTo>
                              <a:pt x="8819" y="7355"/>
                            </a:lnTo>
                            <a:lnTo>
                              <a:pt x="8475" y="6728"/>
                            </a:lnTo>
                            <a:lnTo>
                              <a:pt x="8040" y="6287"/>
                            </a:lnTo>
                            <a:lnTo>
                              <a:pt x="7421" y="5707"/>
                            </a:lnTo>
                            <a:lnTo>
                              <a:pt x="6574" y="5429"/>
                            </a:lnTo>
                            <a:lnTo>
                              <a:pt x="5452" y="5313"/>
                            </a:lnTo>
                            <a:lnTo>
                              <a:pt x="4856" y="5220"/>
                            </a:lnTo>
                            <a:lnTo>
                              <a:pt x="4169" y="5220"/>
                            </a:lnTo>
                            <a:lnTo>
                              <a:pt x="3665" y="5104"/>
                            </a:lnTo>
                            <a:lnTo>
                              <a:pt x="3001" y="4872"/>
                            </a:lnTo>
                            <a:lnTo>
                              <a:pt x="2497" y="4756"/>
                            </a:lnTo>
                            <a:lnTo>
                              <a:pt x="2062" y="4408"/>
                            </a:lnTo>
                            <a:lnTo>
                              <a:pt x="1603" y="4083"/>
                            </a:lnTo>
                            <a:lnTo>
                              <a:pt x="1283" y="3689"/>
                            </a:lnTo>
                            <a:lnTo>
                              <a:pt x="1283" y="4315"/>
                            </a:lnTo>
                            <a:lnTo>
                              <a:pt x="1489" y="5104"/>
                            </a:lnTo>
                            <a:lnTo>
                              <a:pt x="1832" y="6055"/>
                            </a:lnTo>
                            <a:lnTo>
                              <a:pt x="2382" y="6914"/>
                            </a:lnTo>
                            <a:lnTo>
                              <a:pt x="2680" y="7471"/>
                            </a:lnTo>
                            <a:lnTo>
                              <a:pt x="3115" y="7935"/>
                            </a:lnTo>
                            <a:lnTo>
                              <a:pt x="3573" y="8213"/>
                            </a:lnTo>
                            <a:lnTo>
                              <a:pt x="4077" y="8654"/>
                            </a:lnTo>
                            <a:lnTo>
                              <a:pt x="4627" y="9002"/>
                            </a:lnTo>
                            <a:lnTo>
                              <a:pt x="5245" y="9234"/>
                            </a:lnTo>
                            <a:lnTo>
                              <a:pt x="6024" y="9443"/>
                            </a:lnTo>
                            <a:lnTo>
                              <a:pt x="6757" y="9628"/>
                            </a:lnTo>
                            <a:lnTo>
                              <a:pt x="5177" y="10069"/>
                            </a:lnTo>
                            <a:lnTo>
                              <a:pt x="3963" y="10649"/>
                            </a:lnTo>
                            <a:lnTo>
                              <a:pt x="3344" y="11044"/>
                            </a:lnTo>
                            <a:lnTo>
                              <a:pt x="2886" y="11600"/>
                            </a:lnTo>
                            <a:lnTo>
                              <a:pt x="2497" y="12041"/>
                            </a:lnTo>
                            <a:lnTo>
                              <a:pt x="1947" y="12343"/>
                            </a:lnTo>
                            <a:lnTo>
                              <a:pt x="1168" y="12668"/>
                            </a:lnTo>
                            <a:lnTo>
                              <a:pt x="0" y="12900"/>
                            </a:lnTo>
                            <a:lnTo>
                              <a:pt x="435" y="13248"/>
                            </a:lnTo>
                            <a:lnTo>
                              <a:pt x="779" y="13456"/>
                            </a:lnTo>
                            <a:lnTo>
                              <a:pt x="1283" y="13642"/>
                            </a:lnTo>
                            <a:lnTo>
                              <a:pt x="1718" y="13758"/>
                            </a:lnTo>
                            <a:lnTo>
                              <a:pt x="2680" y="13851"/>
                            </a:lnTo>
                            <a:lnTo>
                              <a:pt x="3573" y="13758"/>
                            </a:lnTo>
                            <a:lnTo>
                              <a:pt x="4512" y="13526"/>
                            </a:lnTo>
                            <a:lnTo>
                              <a:pt x="5360" y="13248"/>
                            </a:lnTo>
                            <a:lnTo>
                              <a:pt x="6139" y="12900"/>
                            </a:lnTo>
                            <a:lnTo>
                              <a:pt x="6757" y="12552"/>
                            </a:lnTo>
                            <a:lnTo>
                              <a:pt x="6459" y="13132"/>
                            </a:lnTo>
                            <a:lnTo>
                              <a:pt x="6139" y="13642"/>
                            </a:lnTo>
                            <a:lnTo>
                              <a:pt x="5910" y="14199"/>
                            </a:lnTo>
                            <a:lnTo>
                              <a:pt x="5681" y="14663"/>
                            </a:lnTo>
                            <a:lnTo>
                              <a:pt x="5681" y="15150"/>
                            </a:lnTo>
                            <a:lnTo>
                              <a:pt x="5681" y="15730"/>
                            </a:lnTo>
                            <a:lnTo>
                              <a:pt x="5681" y="16241"/>
                            </a:lnTo>
                            <a:lnTo>
                              <a:pt x="5795" y="16913"/>
                            </a:lnTo>
                            <a:lnTo>
                              <a:pt x="5910" y="17586"/>
                            </a:lnTo>
                            <a:lnTo>
                              <a:pt x="5910" y="18213"/>
                            </a:lnTo>
                            <a:lnTo>
                              <a:pt x="5795" y="18885"/>
                            </a:lnTo>
                            <a:lnTo>
                              <a:pt x="5566" y="19396"/>
                            </a:lnTo>
                            <a:lnTo>
                              <a:pt x="5245" y="19976"/>
                            </a:lnTo>
                            <a:lnTo>
                              <a:pt x="4971" y="20370"/>
                            </a:lnTo>
                            <a:lnTo>
                              <a:pt x="4512" y="20811"/>
                            </a:lnTo>
                            <a:lnTo>
                              <a:pt x="4077" y="21043"/>
                            </a:lnTo>
                            <a:lnTo>
                              <a:pt x="5177" y="20927"/>
                            </a:lnTo>
                            <a:lnTo>
                              <a:pt x="6253" y="20486"/>
                            </a:lnTo>
                            <a:lnTo>
                              <a:pt x="7421" y="19976"/>
                            </a:lnTo>
                            <a:lnTo>
                              <a:pt x="8361" y="19187"/>
                            </a:lnTo>
                            <a:lnTo>
                              <a:pt x="8819" y="18769"/>
                            </a:lnTo>
                            <a:lnTo>
                              <a:pt x="9139" y="18213"/>
                            </a:lnTo>
                            <a:lnTo>
                              <a:pt x="9437" y="17772"/>
                            </a:lnTo>
                            <a:lnTo>
                              <a:pt x="9643" y="17261"/>
                            </a:lnTo>
                            <a:lnTo>
                              <a:pt x="9872" y="16681"/>
                            </a:lnTo>
                            <a:lnTo>
                              <a:pt x="9872" y="16171"/>
                            </a:lnTo>
                            <a:lnTo>
                              <a:pt x="9872" y="15614"/>
                            </a:lnTo>
                            <a:lnTo>
                              <a:pt x="9758" y="15057"/>
                            </a:lnTo>
                            <a:lnTo>
                              <a:pt x="10216" y="15498"/>
                            </a:lnTo>
                            <a:lnTo>
                              <a:pt x="10537" y="16241"/>
                            </a:lnTo>
                            <a:lnTo>
                              <a:pt x="10834" y="17145"/>
                            </a:lnTo>
                            <a:lnTo>
                              <a:pt x="11041" y="18213"/>
                            </a:lnTo>
                            <a:lnTo>
                              <a:pt x="11155" y="19187"/>
                            </a:lnTo>
                            <a:lnTo>
                              <a:pt x="11155" y="20185"/>
                            </a:lnTo>
                            <a:lnTo>
                              <a:pt x="11155" y="20579"/>
                            </a:lnTo>
                            <a:lnTo>
                              <a:pt x="11041" y="21043"/>
                            </a:lnTo>
                            <a:lnTo>
                              <a:pt x="10926" y="21391"/>
                            </a:lnTo>
                            <a:lnTo>
                              <a:pt x="10766" y="21600"/>
                            </a:lnTo>
                            <a:lnTo>
                              <a:pt x="11499" y="21484"/>
                            </a:lnTo>
                            <a:lnTo>
                              <a:pt x="12323" y="21043"/>
                            </a:lnTo>
                            <a:lnTo>
                              <a:pt x="13102" y="20370"/>
                            </a:lnTo>
                            <a:lnTo>
                              <a:pt x="13606" y="19628"/>
                            </a:lnTo>
                            <a:lnTo>
                              <a:pt x="13950" y="19071"/>
                            </a:lnTo>
                            <a:lnTo>
                              <a:pt x="14064" y="18677"/>
                            </a:lnTo>
                            <a:lnTo>
                              <a:pt x="14179" y="18097"/>
                            </a:lnTo>
                            <a:lnTo>
                              <a:pt x="14293" y="17586"/>
                            </a:lnTo>
                            <a:lnTo>
                              <a:pt x="14179" y="16913"/>
                            </a:lnTo>
                            <a:lnTo>
                              <a:pt x="14064" y="16241"/>
                            </a:lnTo>
                            <a:lnTo>
                              <a:pt x="13835" y="15614"/>
                            </a:lnTo>
                            <a:lnTo>
                              <a:pt x="13560" y="14872"/>
                            </a:lnTo>
                            <a:lnTo>
                              <a:pt x="13950" y="14941"/>
                            </a:lnTo>
                            <a:lnTo>
                              <a:pt x="14408" y="15150"/>
                            </a:lnTo>
                            <a:lnTo>
                              <a:pt x="14843" y="15266"/>
                            </a:lnTo>
                            <a:lnTo>
                              <a:pt x="15232" y="15614"/>
                            </a:lnTo>
                            <a:lnTo>
                              <a:pt x="15576" y="15846"/>
                            </a:lnTo>
                            <a:lnTo>
                              <a:pt x="15897" y="16171"/>
                            </a:lnTo>
                            <a:lnTo>
                              <a:pt x="16126" y="16473"/>
                            </a:lnTo>
                            <a:lnTo>
                              <a:pt x="16240" y="16913"/>
                            </a:lnTo>
                            <a:lnTo>
                              <a:pt x="16515" y="17261"/>
                            </a:lnTo>
                            <a:lnTo>
                              <a:pt x="17088" y="17586"/>
                            </a:lnTo>
                            <a:lnTo>
                              <a:pt x="17798" y="17865"/>
                            </a:lnTo>
                            <a:lnTo>
                              <a:pt x="18576" y="18097"/>
                            </a:lnTo>
                            <a:lnTo>
                              <a:pt x="19424" y="18213"/>
                            </a:lnTo>
                            <a:lnTo>
                              <a:pt x="20317" y="18213"/>
                            </a:lnTo>
                            <a:lnTo>
                              <a:pt x="21050" y="18213"/>
                            </a:lnTo>
                            <a:lnTo>
                              <a:pt x="21600" y="17865"/>
                            </a:lnTo>
                            <a:lnTo>
                              <a:pt x="21165" y="17656"/>
                            </a:lnTo>
                            <a:lnTo>
                              <a:pt x="20592" y="17470"/>
                            </a:lnTo>
                            <a:lnTo>
                              <a:pt x="20088" y="17029"/>
                            </a:lnTo>
                            <a:lnTo>
                              <a:pt x="19653" y="16681"/>
                            </a:lnTo>
                            <a:lnTo>
                              <a:pt x="19195" y="16241"/>
                            </a:lnTo>
                            <a:lnTo>
                              <a:pt x="18920" y="15962"/>
                            </a:lnTo>
                            <a:lnTo>
                              <a:pt x="18576" y="15498"/>
                            </a:lnTo>
                            <a:lnTo>
                              <a:pt x="18576" y="15057"/>
                            </a:lnTo>
                            <a:lnTo>
                              <a:pt x="18485" y="14756"/>
                            </a:lnTo>
                            <a:lnTo>
                              <a:pt x="18256" y="14199"/>
                            </a:lnTo>
                            <a:lnTo>
                              <a:pt x="17912" y="13526"/>
                            </a:lnTo>
                            <a:lnTo>
                              <a:pt x="17523" y="13016"/>
                            </a:lnTo>
                            <a:lnTo>
                              <a:pt x="16973" y="12436"/>
                            </a:lnTo>
                            <a:lnTo>
                              <a:pt x="16355" y="12041"/>
                            </a:lnTo>
                            <a:lnTo>
                              <a:pt x="16011" y="11832"/>
                            </a:lnTo>
                            <a:lnTo>
                              <a:pt x="15690" y="11716"/>
                            </a:lnTo>
                            <a:lnTo>
                              <a:pt x="15232" y="11716"/>
                            </a:lnTo>
                            <a:lnTo>
                              <a:pt x="14843" y="11716"/>
                            </a:lnTo>
                            <a:lnTo>
                              <a:pt x="15461" y="11252"/>
                            </a:lnTo>
                            <a:lnTo>
                              <a:pt x="16126" y="10858"/>
                            </a:lnTo>
                            <a:lnTo>
                              <a:pt x="16973" y="10649"/>
                            </a:lnTo>
                            <a:lnTo>
                              <a:pt x="17798" y="10417"/>
                            </a:lnTo>
                            <a:lnTo>
                              <a:pt x="18806" y="10301"/>
                            </a:lnTo>
                            <a:lnTo>
                              <a:pt x="19653" y="10301"/>
                            </a:lnTo>
                            <a:lnTo>
                              <a:pt x="20478" y="10417"/>
                            </a:lnTo>
                            <a:lnTo>
                              <a:pt x="21256" y="10533"/>
                            </a:lnTo>
                            <a:lnTo>
                              <a:pt x="20707" y="9837"/>
                            </a:lnTo>
                            <a:lnTo>
                              <a:pt x="19859" y="9234"/>
                            </a:lnTo>
                            <a:lnTo>
                              <a:pt x="18806" y="8538"/>
                            </a:lnTo>
                            <a:lnTo>
                              <a:pt x="17637" y="8144"/>
                            </a:lnTo>
                            <a:lnTo>
                              <a:pt x="16973" y="8027"/>
                            </a:lnTo>
                            <a:lnTo>
                              <a:pt x="16355" y="7935"/>
                            </a:lnTo>
                            <a:lnTo>
                              <a:pt x="15805" y="7935"/>
                            </a:lnTo>
                            <a:lnTo>
                              <a:pt x="15118" y="8027"/>
                            </a:lnTo>
                            <a:lnTo>
                              <a:pt x="14614" y="8144"/>
                            </a:lnTo>
                            <a:lnTo>
                              <a:pt x="14064" y="8422"/>
                            </a:lnTo>
                            <a:lnTo>
                              <a:pt x="13606" y="8886"/>
                            </a:lnTo>
                            <a:lnTo>
                              <a:pt x="13217" y="9327"/>
                            </a:lnTo>
                            <a:lnTo>
                              <a:pt x="13606" y="8538"/>
                            </a:lnTo>
                            <a:lnTo>
                              <a:pt x="13950" y="7935"/>
                            </a:lnTo>
                            <a:lnTo>
                              <a:pt x="14293" y="7123"/>
                            </a:lnTo>
                            <a:lnTo>
                              <a:pt x="14499" y="6519"/>
                            </a:lnTo>
                            <a:lnTo>
                              <a:pt x="14614" y="5823"/>
                            </a:lnTo>
                            <a:lnTo>
                              <a:pt x="14614" y="5220"/>
                            </a:lnTo>
                            <a:lnTo>
                              <a:pt x="14408" y="4524"/>
                            </a:lnTo>
                            <a:lnTo>
                              <a:pt x="14064" y="3898"/>
                            </a:lnTo>
                            <a:lnTo>
                              <a:pt x="13606" y="3225"/>
                            </a:lnTo>
                            <a:lnTo>
                              <a:pt x="13331" y="2598"/>
                            </a:lnTo>
                            <a:lnTo>
                              <a:pt x="13102" y="2042"/>
                            </a:lnTo>
                            <a:lnTo>
                              <a:pt x="12896" y="1485"/>
                            </a:lnTo>
                            <a:lnTo>
                              <a:pt x="12781" y="1090"/>
                            </a:lnTo>
                            <a:lnTo>
                              <a:pt x="12667" y="626"/>
                            </a:lnTo>
                            <a:lnTo>
                              <a:pt x="12667" y="278"/>
                            </a:lnTo>
                            <a:lnTo>
                              <a:pt x="12667" y="0"/>
                            </a:lnTo>
                            <a:lnTo>
                              <a:pt x="12163" y="394"/>
                            </a:lnTo>
                            <a:lnTo>
                              <a:pt x="11728" y="974"/>
                            </a:lnTo>
                            <a:lnTo>
                              <a:pt x="11155" y="1601"/>
                            </a:lnTo>
                            <a:lnTo>
                              <a:pt x="10766" y="2390"/>
                            </a:lnTo>
                            <a:lnTo>
                              <a:pt x="10330" y="3109"/>
                            </a:lnTo>
                            <a:lnTo>
                              <a:pt x="10101" y="3898"/>
                            </a:lnTo>
                            <a:lnTo>
                              <a:pt x="9987" y="4524"/>
                            </a:lnTo>
                            <a:lnTo>
                              <a:pt x="10101" y="5220"/>
                            </a:lnTo>
                            <a:lnTo>
                              <a:pt x="10216" y="5823"/>
                            </a:lnTo>
                            <a:lnTo>
                              <a:pt x="10330" y="6403"/>
                            </a:lnTo>
                            <a:lnTo>
                              <a:pt x="10330" y="6914"/>
                            </a:lnTo>
                            <a:lnTo>
                              <a:pt x="10216" y="7471"/>
                            </a:lnTo>
                            <a:lnTo>
                              <a:pt x="10101" y="7935"/>
                            </a:lnTo>
                            <a:lnTo>
                              <a:pt x="9872" y="8329"/>
                            </a:lnTo>
                            <a:lnTo>
                              <a:pt x="9643" y="8654"/>
                            </a:lnTo>
                            <a:lnTo>
                              <a:pt x="9368" y="900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9360">
                        <a:solidFill>
                          <a:srgbClr val="00ff00"/>
                        </a:solidFill>
                        <a:miter/>
                      </a:ln>
                      <a:effectLst>
                        <a:outerShdw dist="107932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2" name="AutoShape 2225"/>
                      <p:cNvSpPr/>
                      <p:nvPr/>
                    </p:nvSpPr>
                    <p:spPr>
                      <a:xfrm>
                        <a:off x="972720" y="4770360"/>
                        <a:ext cx="468000" cy="343800"/>
                      </a:xfrm>
                      <a:prstGeom prst="irregularSeal1">
                        <a:avLst/>
                      </a:prstGeom>
                      <a:blipFill rotWithShape="0">
                        <a:blip r:embed="rId4"/>
                        <a:srcRect/>
                        <a:tile tx="0" ty="0" sx="100000" sy="100000" algn="ctr"/>
                      </a:blipFill>
                      <a:ln w="9360">
                        <a:solidFill>
                          <a:srgbClr val="8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3" name="Oval 2226"/>
                      <p:cNvSpPr/>
                      <p:nvPr/>
                    </p:nvSpPr>
                    <p:spPr>
                      <a:xfrm>
                        <a:off x="1167840" y="4885200"/>
                        <a:ext cx="116640" cy="114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560" bIns="34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84" name="Group 2257"/>
                    <p:cNvGrpSpPr/>
                    <p:nvPr/>
                  </p:nvGrpSpPr>
                  <p:grpSpPr>
                    <a:xfrm>
                      <a:off x="2504520" y="2697840"/>
                      <a:ext cx="2254320" cy="2004480"/>
                      <a:chOff x="2504520" y="2697840"/>
                      <a:chExt cx="2254320" cy="2004480"/>
                    </a:xfrm>
                  </p:grpSpPr>
                  <p:grpSp>
                    <p:nvGrpSpPr>
                      <p:cNvPr id="2585" name="Group 88"/>
                      <p:cNvGrpSpPr/>
                      <p:nvPr/>
                    </p:nvGrpSpPr>
                    <p:grpSpPr>
                      <a:xfrm>
                        <a:off x="2504520" y="4443480"/>
                        <a:ext cx="521280" cy="258840"/>
                        <a:chOff x="2504520" y="4443480"/>
                        <a:chExt cx="521280" cy="258840"/>
                      </a:xfrm>
                    </p:grpSpPr>
                    <p:grpSp>
                      <p:nvGrpSpPr>
                        <p:cNvPr id="2586" name="Group 89"/>
                        <p:cNvGrpSpPr/>
                        <p:nvPr/>
                      </p:nvGrpSpPr>
                      <p:grpSpPr>
                        <a:xfrm>
                          <a:off x="2759400" y="4443480"/>
                          <a:ext cx="266400" cy="222840"/>
                          <a:chOff x="2759400" y="4443480"/>
                          <a:chExt cx="266400" cy="222840"/>
                        </a:xfrm>
                      </p:grpSpPr>
                      <p:grpSp>
                        <p:nvGrpSpPr>
                          <p:cNvPr id="2587" name="Group 90"/>
                          <p:cNvGrpSpPr/>
                          <p:nvPr/>
                        </p:nvGrpSpPr>
                        <p:grpSpPr>
                          <a:xfrm>
                            <a:off x="2759400" y="4514040"/>
                            <a:ext cx="113040" cy="152280"/>
                            <a:chOff x="2759400" y="4514040"/>
                            <a:chExt cx="113040" cy="152280"/>
                          </a:xfrm>
                        </p:grpSpPr>
                        <p:sp>
                          <p:nvSpPr>
                            <p:cNvPr id="2588" name="Freeform 91"/>
                            <p:cNvSpPr/>
                            <p:nvPr/>
                          </p:nvSpPr>
                          <p:spPr>
                            <a:xfrm flipH="1" rot="10031400">
                              <a:off x="2772360" y="4530600"/>
                              <a:ext cx="87120" cy="127440"/>
                            </a:xfrm>
                            <a:custGeom>
                              <a:avLst/>
                              <a:gdLst>
                                <a:gd name="textAreaLeft" fmla="*/ 360 w 87120"/>
                                <a:gd name="textAreaRight" fmla="*/ 87840 w 8712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89" name="Freeform 92"/>
                            <p:cNvSpPr/>
                            <p:nvPr/>
                          </p:nvSpPr>
                          <p:spPr>
                            <a:xfrm flipH="1" rot="10031400">
                              <a:off x="2797560" y="4518720"/>
                              <a:ext cx="56520" cy="13536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90" name="Group 93"/>
                          <p:cNvGrpSpPr/>
                          <p:nvPr/>
                        </p:nvGrpSpPr>
                        <p:grpSpPr>
                          <a:xfrm>
                            <a:off x="2806920" y="4480920"/>
                            <a:ext cx="126360" cy="156960"/>
                            <a:chOff x="2806920" y="4480920"/>
                            <a:chExt cx="126360" cy="156960"/>
                          </a:xfrm>
                        </p:grpSpPr>
                        <p:sp>
                          <p:nvSpPr>
                            <p:cNvPr id="2591" name="Freeform 94"/>
                            <p:cNvSpPr/>
                            <p:nvPr/>
                          </p:nvSpPr>
                          <p:spPr>
                            <a:xfrm flipH="1" rot="9580800">
                              <a:off x="2826000" y="4498560"/>
                              <a:ext cx="87480" cy="12780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800"/>
                                <a:gd name="textAreaBottom" fmla="*/ 128160 h 12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92" name="Freeform 95"/>
                            <p:cNvSpPr/>
                            <p:nvPr/>
                          </p:nvSpPr>
                          <p:spPr>
                            <a:xfrm flipH="1" rot="9580800">
                              <a:off x="2849760" y="4486680"/>
                              <a:ext cx="56520" cy="13464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4640"/>
                                <a:gd name="textAreaBottom" fmla="*/ 135000 h 134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93" name="Group 96"/>
                          <p:cNvGrpSpPr/>
                          <p:nvPr/>
                        </p:nvGrpSpPr>
                        <p:grpSpPr>
                          <a:xfrm>
                            <a:off x="2877840" y="4443480"/>
                            <a:ext cx="147960" cy="159120"/>
                            <a:chOff x="2877840" y="4443480"/>
                            <a:chExt cx="147960" cy="159120"/>
                          </a:xfrm>
                        </p:grpSpPr>
                        <p:sp>
                          <p:nvSpPr>
                            <p:cNvPr id="2594" name="Freeform 97"/>
                            <p:cNvSpPr/>
                            <p:nvPr/>
                          </p:nvSpPr>
                          <p:spPr>
                            <a:xfrm flipH="1" rot="8474400">
                              <a:off x="2907360" y="446148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-360 w 87480"/>
                                <a:gd name="textAreaRight" fmla="*/ 8748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95" name="Freeform 98"/>
                            <p:cNvSpPr/>
                            <p:nvPr/>
                          </p:nvSpPr>
                          <p:spPr>
                            <a:xfrm flipH="1" rot="8474400">
                              <a:off x="2928960" y="4446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-360 w 56520"/>
                                <a:gd name="textAreaRight" fmla="*/ 5652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96" name="Group 99"/>
                        <p:cNvGrpSpPr/>
                        <p:nvPr/>
                      </p:nvGrpSpPr>
                      <p:grpSpPr>
                        <a:xfrm>
                          <a:off x="2504520" y="4529880"/>
                          <a:ext cx="263880" cy="172440"/>
                          <a:chOff x="2504520" y="4529880"/>
                          <a:chExt cx="263880" cy="172440"/>
                        </a:xfrm>
                      </p:grpSpPr>
                      <p:grpSp>
                        <p:nvGrpSpPr>
                          <p:cNvPr id="2597" name="Group 100"/>
                          <p:cNvGrpSpPr/>
                          <p:nvPr/>
                        </p:nvGrpSpPr>
                        <p:grpSpPr>
                          <a:xfrm>
                            <a:off x="2669400" y="4560840"/>
                            <a:ext cx="99000" cy="141480"/>
                            <a:chOff x="2669400" y="4560840"/>
                            <a:chExt cx="99000" cy="141480"/>
                          </a:xfrm>
                        </p:grpSpPr>
                        <p:sp>
                          <p:nvSpPr>
                            <p:cNvPr id="2598" name="Freeform 101"/>
                            <p:cNvSpPr/>
                            <p:nvPr/>
                          </p:nvSpPr>
                          <p:spPr>
                            <a:xfrm rot="10476600">
                              <a:off x="2674800" y="457092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599" name="Freeform 102"/>
                            <p:cNvSpPr/>
                            <p:nvPr/>
                          </p:nvSpPr>
                          <p:spPr>
                            <a:xfrm rot="10476600">
                              <a:off x="2678760" y="45630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00" name="Group 103"/>
                          <p:cNvGrpSpPr/>
                          <p:nvPr/>
                        </p:nvGrpSpPr>
                        <p:grpSpPr>
                          <a:xfrm>
                            <a:off x="2612160" y="4547520"/>
                            <a:ext cx="92160" cy="139680"/>
                            <a:chOff x="2612160" y="4547520"/>
                            <a:chExt cx="92160" cy="139680"/>
                          </a:xfrm>
                        </p:grpSpPr>
                        <p:sp>
                          <p:nvSpPr>
                            <p:cNvPr id="2601" name="Freeform 104"/>
                            <p:cNvSpPr/>
                            <p:nvPr/>
                          </p:nvSpPr>
                          <p:spPr>
                            <a:xfrm rot="10927200">
                              <a:off x="2614320" y="455796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02" name="Freeform 105"/>
                            <p:cNvSpPr/>
                            <p:nvPr/>
                          </p:nvSpPr>
                          <p:spPr>
                            <a:xfrm rot="10927200">
                              <a:off x="2618280" y="454860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03" name="Group 106"/>
                          <p:cNvGrpSpPr/>
                          <p:nvPr/>
                        </p:nvGrpSpPr>
                        <p:grpSpPr>
                          <a:xfrm>
                            <a:off x="2504520" y="4529880"/>
                            <a:ext cx="126720" cy="157680"/>
                            <a:chOff x="2504520" y="4529880"/>
                            <a:chExt cx="126720" cy="157680"/>
                          </a:xfrm>
                        </p:grpSpPr>
                        <p:sp>
                          <p:nvSpPr>
                            <p:cNvPr id="2604" name="Freeform 107"/>
                            <p:cNvSpPr/>
                            <p:nvPr/>
                          </p:nvSpPr>
                          <p:spPr>
                            <a:xfrm rot="12033600">
                              <a:off x="2523960" y="4548600"/>
                              <a:ext cx="87480" cy="127440"/>
                            </a:xfrm>
                            <a:custGeom>
                              <a:avLst/>
                              <a:gdLst>
                                <a:gd name="textAreaLeft" fmla="*/ 0 w 87480"/>
                                <a:gd name="textAreaRight" fmla="*/ 87840 w 87480"/>
                                <a:gd name="textAreaTop" fmla="*/ 0 h 127440"/>
                                <a:gd name="textAreaBottom" fmla="*/ 127800 h 127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05" name="Freeform 108"/>
                            <p:cNvSpPr/>
                            <p:nvPr/>
                          </p:nvSpPr>
                          <p:spPr>
                            <a:xfrm rot="12033600">
                              <a:off x="2530440" y="4535280"/>
                              <a:ext cx="56520" cy="13500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5000"/>
                                <a:gd name="textAreaBottom" fmla="*/ 135360 h 135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 rot="10800000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606" name="Group 172"/>
                      <p:cNvGrpSpPr/>
                      <p:nvPr/>
                    </p:nvGrpSpPr>
                    <p:grpSpPr>
                      <a:xfrm>
                        <a:off x="3663360" y="3130560"/>
                        <a:ext cx="228960" cy="521280"/>
                        <a:chOff x="3663360" y="3130560"/>
                        <a:chExt cx="228960" cy="521280"/>
                      </a:xfrm>
                    </p:grpSpPr>
                    <p:grpSp>
                      <p:nvGrpSpPr>
                        <p:cNvPr id="2607" name="Group 173"/>
                        <p:cNvGrpSpPr/>
                        <p:nvPr/>
                      </p:nvGrpSpPr>
                      <p:grpSpPr>
                        <a:xfrm>
                          <a:off x="3709440" y="3130560"/>
                          <a:ext cx="172080" cy="262080"/>
                          <a:chOff x="3709440" y="3130560"/>
                          <a:chExt cx="172080" cy="262080"/>
                        </a:xfrm>
                      </p:grpSpPr>
                      <p:grpSp>
                        <p:nvGrpSpPr>
                          <p:cNvPr id="2608" name="Group 174"/>
                          <p:cNvGrpSpPr/>
                          <p:nvPr/>
                        </p:nvGrpSpPr>
                        <p:grpSpPr>
                          <a:xfrm>
                            <a:off x="3735360" y="3290760"/>
                            <a:ext cx="146160" cy="101880"/>
                            <a:chOff x="3735360" y="3290760"/>
                            <a:chExt cx="146160" cy="101880"/>
                          </a:xfrm>
                        </p:grpSpPr>
                        <p:sp>
                          <p:nvSpPr>
                            <p:cNvPr id="2609" name="Freeform 175"/>
                            <p:cNvSpPr/>
                            <p:nvPr/>
                          </p:nvSpPr>
                          <p:spPr>
                            <a:xfrm flipH="1" rot="5839200">
                              <a:off x="3767760" y="3276360"/>
                              <a:ext cx="86040" cy="129960"/>
                            </a:xfrm>
                            <a:custGeom>
                              <a:avLst/>
                              <a:gdLst>
                                <a:gd name="textAreaLeft" fmla="*/ -360 w 86040"/>
                                <a:gd name="textAreaRight" fmla="*/ 86040 w 8604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0" name="Freeform 176"/>
                            <p:cNvSpPr/>
                            <p:nvPr/>
                          </p:nvSpPr>
                          <p:spPr>
                            <a:xfrm flipH="1" rot="5839200">
                              <a:off x="3778920" y="3260880"/>
                              <a:ext cx="55800" cy="137520"/>
                            </a:xfrm>
                            <a:custGeom>
                              <a:avLst/>
                              <a:gdLst>
                                <a:gd name="textAreaLeft" fmla="*/ -360 w 55800"/>
                                <a:gd name="textAreaRight" fmla="*/ 55800 w 5580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11" name="Group 177"/>
                          <p:cNvGrpSpPr/>
                          <p:nvPr/>
                        </p:nvGrpSpPr>
                        <p:grpSpPr>
                          <a:xfrm>
                            <a:off x="3725280" y="3238560"/>
                            <a:ext cx="140400" cy="86040"/>
                            <a:chOff x="3725280" y="3238560"/>
                            <a:chExt cx="140400" cy="86040"/>
                          </a:xfrm>
                        </p:grpSpPr>
                        <p:sp>
                          <p:nvSpPr>
                            <p:cNvPr id="2612" name="Freeform 178"/>
                            <p:cNvSpPr/>
                            <p:nvPr/>
                          </p:nvSpPr>
                          <p:spPr>
                            <a:xfrm flipH="1" rot="5388600">
                              <a:off x="3757320" y="3216600"/>
                              <a:ext cx="85680" cy="129960"/>
                            </a:xfrm>
                            <a:custGeom>
                              <a:avLst/>
                              <a:gdLst>
                                <a:gd name="textAreaLeft" fmla="*/ 360 w 85680"/>
                                <a:gd name="textAreaRight" fmla="*/ 86400 w 8568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3" name="Freeform 179"/>
                            <p:cNvSpPr/>
                            <p:nvPr/>
                          </p:nvSpPr>
                          <p:spPr>
                            <a:xfrm flipH="1" rot="5388600">
                              <a:off x="3765960" y="3201120"/>
                              <a:ext cx="55440" cy="137520"/>
                            </a:xfrm>
                            <a:custGeom>
                              <a:avLst/>
                              <a:gdLst>
                                <a:gd name="textAreaLeft" fmla="*/ 360 w 55440"/>
                                <a:gd name="textAreaRight" fmla="*/ 56160 w 5544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14" name="Group 180"/>
                          <p:cNvGrpSpPr/>
                          <p:nvPr/>
                        </p:nvGrpSpPr>
                        <p:grpSpPr>
                          <a:xfrm>
                            <a:off x="3709440" y="3130560"/>
                            <a:ext cx="158400" cy="123120"/>
                            <a:chOff x="3709440" y="3130560"/>
                            <a:chExt cx="158400" cy="123120"/>
                          </a:xfrm>
                        </p:grpSpPr>
                        <p:sp>
                          <p:nvSpPr>
                            <p:cNvPr id="2615" name="Freeform 181"/>
                            <p:cNvSpPr/>
                            <p:nvPr/>
                          </p:nvSpPr>
                          <p:spPr>
                            <a:xfrm flipH="1" rot="4282200">
                              <a:off x="3749400" y="3126600"/>
                              <a:ext cx="86040" cy="129960"/>
                            </a:xfrm>
                            <a:custGeom>
                              <a:avLst/>
                              <a:gdLst>
                                <a:gd name="textAreaLeft" fmla="*/ -360 w 86040"/>
                                <a:gd name="textAreaRight" fmla="*/ 86040 w 8604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16" name="Freeform 182"/>
                            <p:cNvSpPr/>
                            <p:nvPr/>
                          </p:nvSpPr>
                          <p:spPr>
                            <a:xfrm flipH="1" rot="4282200">
                              <a:off x="3755520" y="3114360"/>
                              <a:ext cx="55800" cy="137520"/>
                            </a:xfrm>
                            <a:custGeom>
                              <a:avLst/>
                              <a:gdLst>
                                <a:gd name="textAreaLeft" fmla="*/ -360 w 55800"/>
                                <a:gd name="textAreaRight" fmla="*/ 55800 w 5580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17" name="Group 183"/>
                        <p:cNvGrpSpPr/>
                        <p:nvPr/>
                      </p:nvGrpSpPr>
                      <p:grpSpPr>
                        <a:xfrm>
                          <a:off x="3663360" y="3387600"/>
                          <a:ext cx="228960" cy="264240"/>
                          <a:chOff x="3663360" y="3387600"/>
                          <a:chExt cx="228960" cy="264240"/>
                        </a:xfrm>
                      </p:grpSpPr>
                      <p:grpSp>
                        <p:nvGrpSpPr>
                          <p:cNvPr id="2618" name="Group 184"/>
                          <p:cNvGrpSpPr/>
                          <p:nvPr/>
                        </p:nvGrpSpPr>
                        <p:grpSpPr>
                          <a:xfrm>
                            <a:off x="3736800" y="3387600"/>
                            <a:ext cx="155520" cy="116280"/>
                            <a:chOff x="3736800" y="3387600"/>
                            <a:chExt cx="155520" cy="116280"/>
                          </a:xfrm>
                        </p:grpSpPr>
                        <p:sp>
                          <p:nvSpPr>
                            <p:cNvPr id="2619" name="Freeform 185"/>
                            <p:cNvSpPr/>
                            <p:nvPr/>
                          </p:nvSpPr>
                          <p:spPr>
                            <a:xfrm rot="6284400">
                              <a:off x="3775320" y="3380760"/>
                              <a:ext cx="86040" cy="129960"/>
                            </a:xfrm>
                            <a:custGeom>
                              <a:avLst/>
                              <a:gdLst>
                                <a:gd name="textAreaLeft" fmla="*/ 0 w 86040"/>
                                <a:gd name="textAreaRight" fmla="*/ 86400 w 8604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0" name="Freeform 186"/>
                            <p:cNvSpPr/>
                            <p:nvPr/>
                          </p:nvSpPr>
                          <p:spPr>
                            <a:xfrm rot="6284400">
                              <a:off x="3782520" y="3386160"/>
                              <a:ext cx="55800" cy="137520"/>
                            </a:xfrm>
                            <a:custGeom>
                              <a:avLst/>
                              <a:gdLst>
                                <a:gd name="textAreaLeft" fmla="*/ 0 w 55800"/>
                                <a:gd name="textAreaRight" fmla="*/ 56160 w 5580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21" name="Group 187"/>
                          <p:cNvGrpSpPr/>
                          <p:nvPr/>
                        </p:nvGrpSpPr>
                        <p:grpSpPr>
                          <a:xfrm>
                            <a:off x="3702240" y="3432600"/>
                            <a:ext cx="160200" cy="128880"/>
                            <a:chOff x="3702240" y="3432600"/>
                            <a:chExt cx="160200" cy="128880"/>
                          </a:xfrm>
                        </p:grpSpPr>
                        <p:sp>
                          <p:nvSpPr>
                            <p:cNvPr id="2622" name="Freeform 188"/>
                            <p:cNvSpPr/>
                            <p:nvPr/>
                          </p:nvSpPr>
                          <p:spPr>
                            <a:xfrm rot="6735000">
                              <a:off x="3742920" y="3431880"/>
                              <a:ext cx="86040" cy="129960"/>
                            </a:xfrm>
                            <a:custGeom>
                              <a:avLst/>
                              <a:gdLst>
                                <a:gd name="textAreaLeft" fmla="*/ 0 w 86040"/>
                                <a:gd name="textAreaRight" fmla="*/ 86400 w 8604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3" name="Freeform 189"/>
                            <p:cNvSpPr/>
                            <p:nvPr/>
                          </p:nvSpPr>
                          <p:spPr>
                            <a:xfrm rot="6735000">
                              <a:off x="3748320" y="3436560"/>
                              <a:ext cx="55800" cy="137520"/>
                            </a:xfrm>
                            <a:custGeom>
                              <a:avLst/>
                              <a:gdLst>
                                <a:gd name="textAreaLeft" fmla="*/ 0 w 55800"/>
                                <a:gd name="textAreaRight" fmla="*/ 56160 w 5580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24" name="Group 190"/>
                          <p:cNvGrpSpPr/>
                          <p:nvPr/>
                        </p:nvGrpSpPr>
                        <p:grpSpPr>
                          <a:xfrm>
                            <a:off x="3663360" y="3502080"/>
                            <a:ext cx="159480" cy="149760"/>
                            <a:chOff x="3663360" y="3502080"/>
                            <a:chExt cx="159480" cy="149760"/>
                          </a:xfrm>
                        </p:grpSpPr>
                        <p:sp>
                          <p:nvSpPr>
                            <p:cNvPr id="2625" name="Freeform 191"/>
                            <p:cNvSpPr/>
                            <p:nvPr/>
                          </p:nvSpPr>
                          <p:spPr>
                            <a:xfrm rot="7841400">
                              <a:off x="3702240" y="3511800"/>
                              <a:ext cx="86040" cy="129960"/>
                            </a:xfrm>
                            <a:custGeom>
                              <a:avLst/>
                              <a:gdLst>
                                <a:gd name="textAreaLeft" fmla="*/ 0 w 86040"/>
                                <a:gd name="textAreaRight" fmla="*/ 86400 w 86040"/>
                                <a:gd name="textAreaTop" fmla="*/ 0 h 129960"/>
                                <a:gd name="textAreaBottom" fmla="*/ 130320 h 12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318">
                                  <a:moveTo>
                                    <a:pt x="136" y="0"/>
                                  </a:moveTo>
                                  <a:cubicBezTo>
                                    <a:pt x="102" y="42"/>
                                    <a:pt x="69" y="84"/>
                                    <a:pt x="46" y="137"/>
                                  </a:cubicBezTo>
                                  <a:cubicBezTo>
                                    <a:pt x="23" y="190"/>
                                    <a:pt x="11" y="254"/>
                                    <a:pt x="0" y="318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26" name="Freeform 192"/>
                            <p:cNvSpPr/>
                            <p:nvPr/>
                          </p:nvSpPr>
                          <p:spPr>
                            <a:xfrm rot="7841400">
                              <a:off x="3705840" y="3512880"/>
                              <a:ext cx="55800" cy="137520"/>
                            </a:xfrm>
                            <a:custGeom>
                              <a:avLst/>
                              <a:gdLst>
                                <a:gd name="textAreaLeft" fmla="*/ 0 w 55800"/>
                                <a:gd name="textAreaRight" fmla="*/ 56160 w 55800"/>
                                <a:gd name="textAreaTop" fmla="*/ 0 h 137520"/>
                                <a:gd name="textAreaBottom" fmla="*/ 137880 h 13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" h="336">
                                  <a:moveTo>
                                    <a:pt x="88" y="0"/>
                                  </a:moveTo>
                                  <a:cubicBezTo>
                                    <a:pt x="76" y="33"/>
                                    <a:pt x="31" y="144"/>
                                    <a:pt x="16" y="200"/>
                                  </a:cubicBezTo>
                                  <a:cubicBezTo>
                                    <a:pt x="1" y="256"/>
                                    <a:pt x="3" y="308"/>
                                    <a:pt x="0" y="336"/>
                                  </a:cubicBezTo>
                                </a:path>
                              </a:pathLst>
                            </a:custGeom>
                            <a:solidFill>
                              <a:srgbClr val="66ff66"/>
                            </a:solidFill>
                            <a:ln w="28440">
                              <a:solidFill>
                                <a:srgbClr val="33cc33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627" name="Group 2227"/>
                      <p:cNvGrpSpPr/>
                      <p:nvPr/>
                    </p:nvGrpSpPr>
                    <p:grpSpPr>
                      <a:xfrm>
                        <a:off x="3933720" y="3887280"/>
                        <a:ext cx="825120" cy="613800"/>
                        <a:chOff x="3933720" y="3887280"/>
                        <a:chExt cx="825120" cy="613800"/>
                      </a:xfrm>
                    </p:grpSpPr>
                    <p:sp>
                      <p:nvSpPr>
                        <p:cNvPr id="2628" name="plant"/>
                        <p:cNvSpPr/>
                        <p:nvPr/>
                      </p:nvSpPr>
                      <p:spPr>
                        <a:xfrm>
                          <a:off x="3933720" y="3887280"/>
                          <a:ext cx="825120" cy="613800"/>
                        </a:xfrm>
                        <a:custGeom>
                          <a:avLst/>
                          <a:gdLst>
                            <a:gd name="textAreaLeft" fmla="*/ 271080 w 825120"/>
                            <a:gd name="textAreaRight" fmla="*/ 555840 w 825120"/>
                            <a:gd name="textAreaTop" fmla="*/ 286560 h 613800"/>
                            <a:gd name="textAreaBottom" fmla="*/ 385200 h 61380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9368" y="9002"/>
                              </a:moveTo>
                              <a:lnTo>
                                <a:pt x="9254" y="8422"/>
                              </a:lnTo>
                              <a:lnTo>
                                <a:pt x="9139" y="7935"/>
                              </a:lnTo>
                              <a:lnTo>
                                <a:pt x="8819" y="7355"/>
                              </a:lnTo>
                              <a:lnTo>
                                <a:pt x="8475" y="6728"/>
                              </a:lnTo>
                              <a:lnTo>
                                <a:pt x="8040" y="6287"/>
                              </a:lnTo>
                              <a:lnTo>
                                <a:pt x="7421" y="5707"/>
                              </a:lnTo>
                              <a:lnTo>
                                <a:pt x="6574" y="5429"/>
                              </a:lnTo>
                              <a:lnTo>
                                <a:pt x="5452" y="5313"/>
                              </a:lnTo>
                              <a:lnTo>
                                <a:pt x="4856" y="5220"/>
                              </a:lnTo>
                              <a:lnTo>
                                <a:pt x="4169" y="5220"/>
                              </a:lnTo>
                              <a:lnTo>
                                <a:pt x="3665" y="5104"/>
                              </a:lnTo>
                              <a:lnTo>
                                <a:pt x="3001" y="4872"/>
                              </a:lnTo>
                              <a:lnTo>
                                <a:pt x="2497" y="4756"/>
                              </a:lnTo>
                              <a:lnTo>
                                <a:pt x="2062" y="4408"/>
                              </a:lnTo>
                              <a:lnTo>
                                <a:pt x="1603" y="4083"/>
                              </a:lnTo>
                              <a:lnTo>
                                <a:pt x="1283" y="3689"/>
                              </a:lnTo>
                              <a:lnTo>
                                <a:pt x="1283" y="4315"/>
                              </a:lnTo>
                              <a:lnTo>
                                <a:pt x="1489" y="5104"/>
                              </a:lnTo>
                              <a:lnTo>
                                <a:pt x="1832" y="6055"/>
                              </a:lnTo>
                              <a:lnTo>
                                <a:pt x="2382" y="6914"/>
                              </a:lnTo>
                              <a:lnTo>
                                <a:pt x="2680" y="7471"/>
                              </a:lnTo>
                              <a:lnTo>
                                <a:pt x="3115" y="7935"/>
                              </a:lnTo>
                              <a:lnTo>
                                <a:pt x="3573" y="8213"/>
                              </a:lnTo>
                              <a:lnTo>
                                <a:pt x="4077" y="8654"/>
                              </a:lnTo>
                              <a:lnTo>
                                <a:pt x="4627" y="9002"/>
                              </a:lnTo>
                              <a:lnTo>
                                <a:pt x="5245" y="9234"/>
                              </a:lnTo>
                              <a:lnTo>
                                <a:pt x="6024" y="9443"/>
                              </a:lnTo>
                              <a:lnTo>
                                <a:pt x="6757" y="9628"/>
                              </a:lnTo>
                              <a:lnTo>
                                <a:pt x="5177" y="10069"/>
                              </a:lnTo>
                              <a:lnTo>
                                <a:pt x="3963" y="10649"/>
                              </a:lnTo>
                              <a:lnTo>
                                <a:pt x="3344" y="11044"/>
                              </a:lnTo>
                              <a:lnTo>
                                <a:pt x="2886" y="11600"/>
                              </a:lnTo>
                              <a:lnTo>
                                <a:pt x="2497" y="12041"/>
                              </a:lnTo>
                              <a:lnTo>
                                <a:pt x="1947" y="12343"/>
                              </a:lnTo>
                              <a:lnTo>
                                <a:pt x="1168" y="12668"/>
                              </a:lnTo>
                              <a:lnTo>
                                <a:pt x="0" y="12900"/>
                              </a:lnTo>
                              <a:lnTo>
                                <a:pt x="435" y="13248"/>
                              </a:lnTo>
                              <a:lnTo>
                                <a:pt x="779" y="13456"/>
                              </a:lnTo>
                              <a:lnTo>
                                <a:pt x="1283" y="13642"/>
                              </a:lnTo>
                              <a:lnTo>
                                <a:pt x="1718" y="13758"/>
                              </a:lnTo>
                              <a:lnTo>
                                <a:pt x="2680" y="13851"/>
                              </a:lnTo>
                              <a:lnTo>
                                <a:pt x="3573" y="13758"/>
                              </a:lnTo>
                              <a:lnTo>
                                <a:pt x="4512" y="13526"/>
                              </a:lnTo>
                              <a:lnTo>
                                <a:pt x="5360" y="13248"/>
                              </a:lnTo>
                              <a:lnTo>
                                <a:pt x="6139" y="12900"/>
                              </a:lnTo>
                              <a:lnTo>
                                <a:pt x="6757" y="12552"/>
                              </a:lnTo>
                              <a:lnTo>
                                <a:pt x="6459" y="13132"/>
                              </a:lnTo>
                              <a:lnTo>
                                <a:pt x="6139" y="13642"/>
                              </a:lnTo>
                              <a:lnTo>
                                <a:pt x="5910" y="14199"/>
                              </a:lnTo>
                              <a:lnTo>
                                <a:pt x="5681" y="14663"/>
                              </a:lnTo>
                              <a:lnTo>
                                <a:pt x="5681" y="15150"/>
                              </a:lnTo>
                              <a:lnTo>
                                <a:pt x="5681" y="15730"/>
                              </a:lnTo>
                              <a:lnTo>
                                <a:pt x="5681" y="16241"/>
                              </a:lnTo>
                              <a:lnTo>
                                <a:pt x="5795" y="16913"/>
                              </a:lnTo>
                              <a:lnTo>
                                <a:pt x="5910" y="17586"/>
                              </a:lnTo>
                              <a:lnTo>
                                <a:pt x="5910" y="18213"/>
                              </a:lnTo>
                              <a:lnTo>
                                <a:pt x="5795" y="18885"/>
                              </a:lnTo>
                              <a:lnTo>
                                <a:pt x="5566" y="19396"/>
                              </a:lnTo>
                              <a:lnTo>
                                <a:pt x="5245" y="19976"/>
                              </a:lnTo>
                              <a:lnTo>
                                <a:pt x="4971" y="20370"/>
                              </a:lnTo>
                              <a:lnTo>
                                <a:pt x="4512" y="20811"/>
                              </a:lnTo>
                              <a:lnTo>
                                <a:pt x="4077" y="21043"/>
                              </a:lnTo>
                              <a:lnTo>
                                <a:pt x="5177" y="20927"/>
                              </a:lnTo>
                              <a:lnTo>
                                <a:pt x="6253" y="20486"/>
                              </a:lnTo>
                              <a:lnTo>
                                <a:pt x="7421" y="19976"/>
                              </a:lnTo>
                              <a:lnTo>
                                <a:pt x="8361" y="19187"/>
                              </a:lnTo>
                              <a:lnTo>
                                <a:pt x="8819" y="18769"/>
                              </a:lnTo>
                              <a:lnTo>
                                <a:pt x="9139" y="18213"/>
                              </a:lnTo>
                              <a:lnTo>
                                <a:pt x="9437" y="17772"/>
                              </a:lnTo>
                              <a:lnTo>
                                <a:pt x="9643" y="17261"/>
                              </a:lnTo>
                              <a:lnTo>
                                <a:pt x="9872" y="16681"/>
                              </a:lnTo>
                              <a:lnTo>
                                <a:pt x="9872" y="16171"/>
                              </a:lnTo>
                              <a:lnTo>
                                <a:pt x="9872" y="15614"/>
                              </a:lnTo>
                              <a:lnTo>
                                <a:pt x="9758" y="15057"/>
                              </a:lnTo>
                              <a:lnTo>
                                <a:pt x="10216" y="15498"/>
                              </a:lnTo>
                              <a:lnTo>
                                <a:pt x="10537" y="16241"/>
                              </a:lnTo>
                              <a:lnTo>
                                <a:pt x="10834" y="17145"/>
                              </a:lnTo>
                              <a:lnTo>
                                <a:pt x="11041" y="18213"/>
                              </a:lnTo>
                              <a:lnTo>
                                <a:pt x="11155" y="19187"/>
                              </a:lnTo>
                              <a:lnTo>
                                <a:pt x="11155" y="20185"/>
                              </a:lnTo>
                              <a:lnTo>
                                <a:pt x="11155" y="20579"/>
                              </a:lnTo>
                              <a:lnTo>
                                <a:pt x="11041" y="21043"/>
                              </a:lnTo>
                              <a:lnTo>
                                <a:pt x="10926" y="21391"/>
                              </a:lnTo>
                              <a:lnTo>
                                <a:pt x="10766" y="21600"/>
                              </a:lnTo>
                              <a:lnTo>
                                <a:pt x="11499" y="21484"/>
                              </a:lnTo>
                              <a:lnTo>
                                <a:pt x="12323" y="21043"/>
                              </a:lnTo>
                              <a:lnTo>
                                <a:pt x="13102" y="20370"/>
                              </a:lnTo>
                              <a:lnTo>
                                <a:pt x="13606" y="19628"/>
                              </a:lnTo>
                              <a:lnTo>
                                <a:pt x="13950" y="19071"/>
                              </a:lnTo>
                              <a:lnTo>
                                <a:pt x="14064" y="18677"/>
                              </a:lnTo>
                              <a:lnTo>
                                <a:pt x="14179" y="18097"/>
                              </a:lnTo>
                              <a:lnTo>
                                <a:pt x="14293" y="17586"/>
                              </a:lnTo>
                              <a:lnTo>
                                <a:pt x="14179" y="16913"/>
                              </a:lnTo>
                              <a:lnTo>
                                <a:pt x="14064" y="16241"/>
                              </a:lnTo>
                              <a:lnTo>
                                <a:pt x="13835" y="15614"/>
                              </a:lnTo>
                              <a:lnTo>
                                <a:pt x="13560" y="14872"/>
                              </a:lnTo>
                              <a:lnTo>
                                <a:pt x="13950" y="14941"/>
                              </a:lnTo>
                              <a:lnTo>
                                <a:pt x="14408" y="15150"/>
                              </a:lnTo>
                              <a:lnTo>
                                <a:pt x="14843" y="15266"/>
                              </a:lnTo>
                              <a:lnTo>
                                <a:pt x="15232" y="15614"/>
                              </a:lnTo>
                              <a:lnTo>
                                <a:pt x="15576" y="15846"/>
                              </a:lnTo>
                              <a:lnTo>
                                <a:pt x="15897" y="16171"/>
                              </a:lnTo>
                              <a:lnTo>
                                <a:pt x="16126" y="16473"/>
                              </a:lnTo>
                              <a:lnTo>
                                <a:pt x="16240" y="16913"/>
                              </a:lnTo>
                              <a:lnTo>
                                <a:pt x="16515" y="17261"/>
                              </a:lnTo>
                              <a:lnTo>
                                <a:pt x="17088" y="17586"/>
                              </a:lnTo>
                              <a:lnTo>
                                <a:pt x="17798" y="17865"/>
                              </a:lnTo>
                              <a:lnTo>
                                <a:pt x="18576" y="18097"/>
                              </a:lnTo>
                              <a:lnTo>
                                <a:pt x="19424" y="18213"/>
                              </a:lnTo>
                              <a:lnTo>
                                <a:pt x="20317" y="18213"/>
                              </a:lnTo>
                              <a:lnTo>
                                <a:pt x="21050" y="18213"/>
                              </a:lnTo>
                              <a:lnTo>
                                <a:pt x="21600" y="17865"/>
                              </a:lnTo>
                              <a:lnTo>
                                <a:pt x="21165" y="17656"/>
                              </a:lnTo>
                              <a:lnTo>
                                <a:pt x="20592" y="17470"/>
                              </a:lnTo>
                              <a:lnTo>
                                <a:pt x="20088" y="17029"/>
                              </a:lnTo>
                              <a:lnTo>
                                <a:pt x="19653" y="16681"/>
                              </a:lnTo>
                              <a:lnTo>
                                <a:pt x="19195" y="16241"/>
                              </a:lnTo>
                              <a:lnTo>
                                <a:pt x="18920" y="15962"/>
                              </a:lnTo>
                              <a:lnTo>
                                <a:pt x="18576" y="15498"/>
                              </a:lnTo>
                              <a:lnTo>
                                <a:pt x="18576" y="15057"/>
                              </a:lnTo>
                              <a:lnTo>
                                <a:pt x="18485" y="14756"/>
                              </a:lnTo>
                              <a:lnTo>
                                <a:pt x="18256" y="14199"/>
                              </a:lnTo>
                              <a:lnTo>
                                <a:pt x="17912" y="13526"/>
                              </a:lnTo>
                              <a:lnTo>
                                <a:pt x="17523" y="13016"/>
                              </a:lnTo>
                              <a:lnTo>
                                <a:pt x="16973" y="12436"/>
                              </a:lnTo>
                              <a:lnTo>
                                <a:pt x="16355" y="12041"/>
                              </a:lnTo>
                              <a:lnTo>
                                <a:pt x="16011" y="11832"/>
                              </a:lnTo>
                              <a:lnTo>
                                <a:pt x="15690" y="11716"/>
                              </a:lnTo>
                              <a:lnTo>
                                <a:pt x="15232" y="11716"/>
                              </a:lnTo>
                              <a:lnTo>
                                <a:pt x="14843" y="11716"/>
                              </a:lnTo>
                              <a:lnTo>
                                <a:pt x="15461" y="11252"/>
                              </a:lnTo>
                              <a:lnTo>
                                <a:pt x="16126" y="10858"/>
                              </a:lnTo>
                              <a:lnTo>
                                <a:pt x="16973" y="10649"/>
                              </a:lnTo>
                              <a:lnTo>
                                <a:pt x="17798" y="10417"/>
                              </a:lnTo>
                              <a:lnTo>
                                <a:pt x="18806" y="10301"/>
                              </a:lnTo>
                              <a:lnTo>
                                <a:pt x="19653" y="10301"/>
                              </a:lnTo>
                              <a:lnTo>
                                <a:pt x="20478" y="10417"/>
                              </a:lnTo>
                              <a:lnTo>
                                <a:pt x="21256" y="10533"/>
                              </a:lnTo>
                              <a:lnTo>
                                <a:pt x="20707" y="9837"/>
                              </a:lnTo>
                              <a:lnTo>
                                <a:pt x="19859" y="9234"/>
                              </a:lnTo>
                              <a:lnTo>
                                <a:pt x="18806" y="8538"/>
                              </a:lnTo>
                              <a:lnTo>
                                <a:pt x="17637" y="8144"/>
                              </a:lnTo>
                              <a:lnTo>
                                <a:pt x="16973" y="8027"/>
                              </a:lnTo>
                              <a:lnTo>
                                <a:pt x="16355" y="7935"/>
                              </a:lnTo>
                              <a:lnTo>
                                <a:pt x="15805" y="7935"/>
                              </a:lnTo>
                              <a:lnTo>
                                <a:pt x="15118" y="8027"/>
                              </a:lnTo>
                              <a:lnTo>
                                <a:pt x="14614" y="8144"/>
                              </a:lnTo>
                              <a:lnTo>
                                <a:pt x="14064" y="8422"/>
                              </a:lnTo>
                              <a:lnTo>
                                <a:pt x="13606" y="8886"/>
                              </a:lnTo>
                              <a:lnTo>
                                <a:pt x="13217" y="9327"/>
                              </a:lnTo>
                              <a:lnTo>
                                <a:pt x="13606" y="8538"/>
                              </a:lnTo>
                              <a:lnTo>
                                <a:pt x="13950" y="7935"/>
                              </a:lnTo>
                              <a:lnTo>
                                <a:pt x="14293" y="7123"/>
                              </a:lnTo>
                              <a:lnTo>
                                <a:pt x="14499" y="6519"/>
                              </a:lnTo>
                              <a:lnTo>
                                <a:pt x="14614" y="5823"/>
                              </a:lnTo>
                              <a:lnTo>
                                <a:pt x="14614" y="5220"/>
                              </a:lnTo>
                              <a:lnTo>
                                <a:pt x="14408" y="4524"/>
                              </a:lnTo>
                              <a:lnTo>
                                <a:pt x="14064" y="3898"/>
                              </a:lnTo>
                              <a:lnTo>
                                <a:pt x="13606" y="3225"/>
                              </a:lnTo>
                              <a:lnTo>
                                <a:pt x="13331" y="2598"/>
                              </a:lnTo>
                              <a:lnTo>
                                <a:pt x="13102" y="2042"/>
                              </a:lnTo>
                              <a:lnTo>
                                <a:pt x="12896" y="1485"/>
                              </a:lnTo>
                              <a:lnTo>
                                <a:pt x="12781" y="1090"/>
                              </a:lnTo>
                              <a:lnTo>
                                <a:pt x="12667" y="626"/>
                              </a:lnTo>
                              <a:lnTo>
                                <a:pt x="12667" y="278"/>
                              </a:lnTo>
                              <a:lnTo>
                                <a:pt x="12667" y="0"/>
                              </a:lnTo>
                              <a:lnTo>
                                <a:pt x="12163" y="394"/>
                              </a:lnTo>
                              <a:lnTo>
                                <a:pt x="11728" y="974"/>
                              </a:lnTo>
                              <a:lnTo>
                                <a:pt x="11155" y="1601"/>
                              </a:lnTo>
                              <a:lnTo>
                                <a:pt x="10766" y="2390"/>
                              </a:lnTo>
                              <a:lnTo>
                                <a:pt x="10330" y="3109"/>
                              </a:lnTo>
                              <a:lnTo>
                                <a:pt x="10101" y="3898"/>
                              </a:lnTo>
                              <a:lnTo>
                                <a:pt x="9987" y="4524"/>
                              </a:lnTo>
                              <a:lnTo>
                                <a:pt x="10101" y="5220"/>
                              </a:lnTo>
                              <a:lnTo>
                                <a:pt x="10216" y="5823"/>
                              </a:lnTo>
                              <a:lnTo>
                                <a:pt x="10330" y="6403"/>
                              </a:lnTo>
                              <a:lnTo>
                                <a:pt x="10330" y="6914"/>
                              </a:lnTo>
                              <a:lnTo>
                                <a:pt x="10216" y="7471"/>
                              </a:lnTo>
                              <a:lnTo>
                                <a:pt x="10101" y="7935"/>
                              </a:lnTo>
                              <a:lnTo>
                                <a:pt x="9872" y="8329"/>
                              </a:lnTo>
                              <a:lnTo>
                                <a:pt x="9643" y="8654"/>
                              </a:lnTo>
                              <a:lnTo>
                                <a:pt x="9368" y="900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00"/>
                        </a:solidFill>
                        <a:ln w="9360">
                          <a:solidFill>
                            <a:srgbClr val="00ff00"/>
                          </a:solidFill>
                          <a:miter/>
                        </a:ln>
                        <a:effectLst>
                          <a:outerShdw dist="107932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9" name="AutoShape 2229"/>
                        <p:cNvSpPr/>
                        <p:nvPr/>
                      </p:nvSpPr>
                      <p:spPr>
                        <a:xfrm>
                          <a:off x="4130640" y="4090320"/>
                          <a:ext cx="468000" cy="343800"/>
                        </a:xfrm>
                        <a:prstGeom prst="irregularSeal1">
                          <a:avLst/>
                        </a:prstGeom>
                        <a:gradFill rotWithShape="0">
                          <a:gsLst>
                            <a:gs pos="0">
                              <a:srgbClr val="3399ff"/>
                            </a:gs>
                            <a:gs pos="100000">
                              <a:srgbClr val="006699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3366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0" name="Oval 2230"/>
                        <p:cNvSpPr/>
                        <p:nvPr/>
                      </p:nvSpPr>
                      <p:spPr>
                        <a:xfrm>
                          <a:off x="4326120" y="4205160"/>
                          <a:ext cx="117000" cy="114480"/>
                        </a:xfrm>
                        <a:prstGeom prst="ellipse">
                          <a:avLst/>
                        </a:prstGeom>
                        <a:solidFill>
                          <a:srgbClr val="ffff00"/>
                        </a:solidFill>
                        <a:ln w="9360">
                          <a:solidFill>
                            <a:srgbClr val="ff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4560" bIns="3456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31" name="Group 2231"/>
                      <p:cNvGrpSpPr/>
                      <p:nvPr/>
                    </p:nvGrpSpPr>
                    <p:grpSpPr>
                      <a:xfrm>
                        <a:off x="3933720" y="2697840"/>
                        <a:ext cx="825120" cy="613800"/>
                        <a:chOff x="3933720" y="2697840"/>
                        <a:chExt cx="825120" cy="613800"/>
                      </a:xfrm>
                    </p:grpSpPr>
                    <p:sp>
                      <p:nvSpPr>
                        <p:cNvPr id="2632" name="plant"/>
                        <p:cNvSpPr/>
                        <p:nvPr/>
                      </p:nvSpPr>
                      <p:spPr>
                        <a:xfrm>
                          <a:off x="3933720" y="2697840"/>
                          <a:ext cx="825120" cy="613800"/>
                        </a:xfrm>
                        <a:custGeom>
                          <a:avLst/>
                          <a:gdLst>
                            <a:gd name="textAreaLeft" fmla="*/ 271080 w 825120"/>
                            <a:gd name="textAreaRight" fmla="*/ 555840 w 825120"/>
                            <a:gd name="textAreaTop" fmla="*/ 286560 h 613800"/>
                            <a:gd name="textAreaBottom" fmla="*/ 385200 h 61380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9368" y="9002"/>
                              </a:moveTo>
                              <a:lnTo>
                                <a:pt x="9254" y="8422"/>
                              </a:lnTo>
                              <a:lnTo>
                                <a:pt x="9139" y="7935"/>
                              </a:lnTo>
                              <a:lnTo>
                                <a:pt x="8819" y="7355"/>
                              </a:lnTo>
                              <a:lnTo>
                                <a:pt x="8475" y="6728"/>
                              </a:lnTo>
                              <a:lnTo>
                                <a:pt x="8040" y="6287"/>
                              </a:lnTo>
                              <a:lnTo>
                                <a:pt x="7421" y="5707"/>
                              </a:lnTo>
                              <a:lnTo>
                                <a:pt x="6574" y="5429"/>
                              </a:lnTo>
                              <a:lnTo>
                                <a:pt x="5452" y="5313"/>
                              </a:lnTo>
                              <a:lnTo>
                                <a:pt x="4856" y="5220"/>
                              </a:lnTo>
                              <a:lnTo>
                                <a:pt x="4169" y="5220"/>
                              </a:lnTo>
                              <a:lnTo>
                                <a:pt x="3665" y="5104"/>
                              </a:lnTo>
                              <a:lnTo>
                                <a:pt x="3001" y="4872"/>
                              </a:lnTo>
                              <a:lnTo>
                                <a:pt x="2497" y="4756"/>
                              </a:lnTo>
                              <a:lnTo>
                                <a:pt x="2062" y="4408"/>
                              </a:lnTo>
                              <a:lnTo>
                                <a:pt x="1603" y="4083"/>
                              </a:lnTo>
                              <a:lnTo>
                                <a:pt x="1283" y="3689"/>
                              </a:lnTo>
                              <a:lnTo>
                                <a:pt x="1283" y="4315"/>
                              </a:lnTo>
                              <a:lnTo>
                                <a:pt x="1489" y="5104"/>
                              </a:lnTo>
                              <a:lnTo>
                                <a:pt x="1832" y="6055"/>
                              </a:lnTo>
                              <a:lnTo>
                                <a:pt x="2382" y="6914"/>
                              </a:lnTo>
                              <a:lnTo>
                                <a:pt x="2680" y="7471"/>
                              </a:lnTo>
                              <a:lnTo>
                                <a:pt x="3115" y="7935"/>
                              </a:lnTo>
                              <a:lnTo>
                                <a:pt x="3573" y="8213"/>
                              </a:lnTo>
                              <a:lnTo>
                                <a:pt x="4077" y="8654"/>
                              </a:lnTo>
                              <a:lnTo>
                                <a:pt x="4627" y="9002"/>
                              </a:lnTo>
                              <a:lnTo>
                                <a:pt x="5245" y="9234"/>
                              </a:lnTo>
                              <a:lnTo>
                                <a:pt x="6024" y="9443"/>
                              </a:lnTo>
                              <a:lnTo>
                                <a:pt x="6757" y="9628"/>
                              </a:lnTo>
                              <a:lnTo>
                                <a:pt x="5177" y="10069"/>
                              </a:lnTo>
                              <a:lnTo>
                                <a:pt x="3963" y="10649"/>
                              </a:lnTo>
                              <a:lnTo>
                                <a:pt x="3344" y="11044"/>
                              </a:lnTo>
                              <a:lnTo>
                                <a:pt x="2886" y="11600"/>
                              </a:lnTo>
                              <a:lnTo>
                                <a:pt x="2497" y="12041"/>
                              </a:lnTo>
                              <a:lnTo>
                                <a:pt x="1947" y="12343"/>
                              </a:lnTo>
                              <a:lnTo>
                                <a:pt x="1168" y="12668"/>
                              </a:lnTo>
                              <a:lnTo>
                                <a:pt x="0" y="12900"/>
                              </a:lnTo>
                              <a:lnTo>
                                <a:pt x="435" y="13248"/>
                              </a:lnTo>
                              <a:lnTo>
                                <a:pt x="779" y="13456"/>
                              </a:lnTo>
                              <a:lnTo>
                                <a:pt x="1283" y="13642"/>
                              </a:lnTo>
                              <a:lnTo>
                                <a:pt x="1718" y="13758"/>
                              </a:lnTo>
                              <a:lnTo>
                                <a:pt x="2680" y="13851"/>
                              </a:lnTo>
                              <a:lnTo>
                                <a:pt x="3573" y="13758"/>
                              </a:lnTo>
                              <a:lnTo>
                                <a:pt x="4512" y="13526"/>
                              </a:lnTo>
                              <a:lnTo>
                                <a:pt x="5360" y="13248"/>
                              </a:lnTo>
                              <a:lnTo>
                                <a:pt x="6139" y="12900"/>
                              </a:lnTo>
                              <a:lnTo>
                                <a:pt x="6757" y="12552"/>
                              </a:lnTo>
                              <a:lnTo>
                                <a:pt x="6459" y="13132"/>
                              </a:lnTo>
                              <a:lnTo>
                                <a:pt x="6139" y="13642"/>
                              </a:lnTo>
                              <a:lnTo>
                                <a:pt x="5910" y="14199"/>
                              </a:lnTo>
                              <a:lnTo>
                                <a:pt x="5681" y="14663"/>
                              </a:lnTo>
                              <a:lnTo>
                                <a:pt x="5681" y="15150"/>
                              </a:lnTo>
                              <a:lnTo>
                                <a:pt x="5681" y="15730"/>
                              </a:lnTo>
                              <a:lnTo>
                                <a:pt x="5681" y="16241"/>
                              </a:lnTo>
                              <a:lnTo>
                                <a:pt x="5795" y="16913"/>
                              </a:lnTo>
                              <a:lnTo>
                                <a:pt x="5910" y="17586"/>
                              </a:lnTo>
                              <a:lnTo>
                                <a:pt x="5910" y="18213"/>
                              </a:lnTo>
                              <a:lnTo>
                                <a:pt x="5795" y="18885"/>
                              </a:lnTo>
                              <a:lnTo>
                                <a:pt x="5566" y="19396"/>
                              </a:lnTo>
                              <a:lnTo>
                                <a:pt x="5245" y="19976"/>
                              </a:lnTo>
                              <a:lnTo>
                                <a:pt x="4971" y="20370"/>
                              </a:lnTo>
                              <a:lnTo>
                                <a:pt x="4512" y="20811"/>
                              </a:lnTo>
                              <a:lnTo>
                                <a:pt x="4077" y="21043"/>
                              </a:lnTo>
                              <a:lnTo>
                                <a:pt x="5177" y="20927"/>
                              </a:lnTo>
                              <a:lnTo>
                                <a:pt x="6253" y="20486"/>
                              </a:lnTo>
                              <a:lnTo>
                                <a:pt x="7421" y="19976"/>
                              </a:lnTo>
                              <a:lnTo>
                                <a:pt x="8361" y="19187"/>
                              </a:lnTo>
                              <a:lnTo>
                                <a:pt x="8819" y="18769"/>
                              </a:lnTo>
                              <a:lnTo>
                                <a:pt x="9139" y="18213"/>
                              </a:lnTo>
                              <a:lnTo>
                                <a:pt x="9437" y="17772"/>
                              </a:lnTo>
                              <a:lnTo>
                                <a:pt x="9643" y="17261"/>
                              </a:lnTo>
                              <a:lnTo>
                                <a:pt x="9872" y="16681"/>
                              </a:lnTo>
                              <a:lnTo>
                                <a:pt x="9872" y="16171"/>
                              </a:lnTo>
                              <a:lnTo>
                                <a:pt x="9872" y="15614"/>
                              </a:lnTo>
                              <a:lnTo>
                                <a:pt x="9758" y="15057"/>
                              </a:lnTo>
                              <a:lnTo>
                                <a:pt x="10216" y="15498"/>
                              </a:lnTo>
                              <a:lnTo>
                                <a:pt x="10537" y="16241"/>
                              </a:lnTo>
                              <a:lnTo>
                                <a:pt x="10834" y="17145"/>
                              </a:lnTo>
                              <a:lnTo>
                                <a:pt x="11041" y="18213"/>
                              </a:lnTo>
                              <a:lnTo>
                                <a:pt x="11155" y="19187"/>
                              </a:lnTo>
                              <a:lnTo>
                                <a:pt x="11155" y="20185"/>
                              </a:lnTo>
                              <a:lnTo>
                                <a:pt x="11155" y="20579"/>
                              </a:lnTo>
                              <a:lnTo>
                                <a:pt x="11041" y="21043"/>
                              </a:lnTo>
                              <a:lnTo>
                                <a:pt x="10926" y="21391"/>
                              </a:lnTo>
                              <a:lnTo>
                                <a:pt x="10766" y="21600"/>
                              </a:lnTo>
                              <a:lnTo>
                                <a:pt x="11499" y="21484"/>
                              </a:lnTo>
                              <a:lnTo>
                                <a:pt x="12323" y="21043"/>
                              </a:lnTo>
                              <a:lnTo>
                                <a:pt x="13102" y="20370"/>
                              </a:lnTo>
                              <a:lnTo>
                                <a:pt x="13606" y="19628"/>
                              </a:lnTo>
                              <a:lnTo>
                                <a:pt x="13950" y="19071"/>
                              </a:lnTo>
                              <a:lnTo>
                                <a:pt x="14064" y="18677"/>
                              </a:lnTo>
                              <a:lnTo>
                                <a:pt x="14179" y="18097"/>
                              </a:lnTo>
                              <a:lnTo>
                                <a:pt x="14293" y="17586"/>
                              </a:lnTo>
                              <a:lnTo>
                                <a:pt x="14179" y="16913"/>
                              </a:lnTo>
                              <a:lnTo>
                                <a:pt x="14064" y="16241"/>
                              </a:lnTo>
                              <a:lnTo>
                                <a:pt x="13835" y="15614"/>
                              </a:lnTo>
                              <a:lnTo>
                                <a:pt x="13560" y="14872"/>
                              </a:lnTo>
                              <a:lnTo>
                                <a:pt x="13950" y="14941"/>
                              </a:lnTo>
                              <a:lnTo>
                                <a:pt x="14408" y="15150"/>
                              </a:lnTo>
                              <a:lnTo>
                                <a:pt x="14843" y="15266"/>
                              </a:lnTo>
                              <a:lnTo>
                                <a:pt x="15232" y="15614"/>
                              </a:lnTo>
                              <a:lnTo>
                                <a:pt x="15576" y="15846"/>
                              </a:lnTo>
                              <a:lnTo>
                                <a:pt x="15897" y="16171"/>
                              </a:lnTo>
                              <a:lnTo>
                                <a:pt x="16126" y="16473"/>
                              </a:lnTo>
                              <a:lnTo>
                                <a:pt x="16240" y="16913"/>
                              </a:lnTo>
                              <a:lnTo>
                                <a:pt x="16515" y="17261"/>
                              </a:lnTo>
                              <a:lnTo>
                                <a:pt x="17088" y="17586"/>
                              </a:lnTo>
                              <a:lnTo>
                                <a:pt x="17798" y="17865"/>
                              </a:lnTo>
                              <a:lnTo>
                                <a:pt x="18576" y="18097"/>
                              </a:lnTo>
                              <a:lnTo>
                                <a:pt x="19424" y="18213"/>
                              </a:lnTo>
                              <a:lnTo>
                                <a:pt x="20317" y="18213"/>
                              </a:lnTo>
                              <a:lnTo>
                                <a:pt x="21050" y="18213"/>
                              </a:lnTo>
                              <a:lnTo>
                                <a:pt x="21600" y="17865"/>
                              </a:lnTo>
                              <a:lnTo>
                                <a:pt x="21165" y="17656"/>
                              </a:lnTo>
                              <a:lnTo>
                                <a:pt x="20592" y="17470"/>
                              </a:lnTo>
                              <a:lnTo>
                                <a:pt x="20088" y="17029"/>
                              </a:lnTo>
                              <a:lnTo>
                                <a:pt x="19653" y="16681"/>
                              </a:lnTo>
                              <a:lnTo>
                                <a:pt x="19195" y="16241"/>
                              </a:lnTo>
                              <a:lnTo>
                                <a:pt x="18920" y="15962"/>
                              </a:lnTo>
                              <a:lnTo>
                                <a:pt x="18576" y="15498"/>
                              </a:lnTo>
                              <a:lnTo>
                                <a:pt x="18576" y="15057"/>
                              </a:lnTo>
                              <a:lnTo>
                                <a:pt x="18485" y="14756"/>
                              </a:lnTo>
                              <a:lnTo>
                                <a:pt x="18256" y="14199"/>
                              </a:lnTo>
                              <a:lnTo>
                                <a:pt x="17912" y="13526"/>
                              </a:lnTo>
                              <a:lnTo>
                                <a:pt x="17523" y="13016"/>
                              </a:lnTo>
                              <a:lnTo>
                                <a:pt x="16973" y="12436"/>
                              </a:lnTo>
                              <a:lnTo>
                                <a:pt x="16355" y="12041"/>
                              </a:lnTo>
                              <a:lnTo>
                                <a:pt x="16011" y="11832"/>
                              </a:lnTo>
                              <a:lnTo>
                                <a:pt x="15690" y="11716"/>
                              </a:lnTo>
                              <a:lnTo>
                                <a:pt x="15232" y="11716"/>
                              </a:lnTo>
                              <a:lnTo>
                                <a:pt x="14843" y="11716"/>
                              </a:lnTo>
                              <a:lnTo>
                                <a:pt x="15461" y="11252"/>
                              </a:lnTo>
                              <a:lnTo>
                                <a:pt x="16126" y="10858"/>
                              </a:lnTo>
                              <a:lnTo>
                                <a:pt x="16973" y="10649"/>
                              </a:lnTo>
                              <a:lnTo>
                                <a:pt x="17798" y="10417"/>
                              </a:lnTo>
                              <a:lnTo>
                                <a:pt x="18806" y="10301"/>
                              </a:lnTo>
                              <a:lnTo>
                                <a:pt x="19653" y="10301"/>
                              </a:lnTo>
                              <a:lnTo>
                                <a:pt x="20478" y="10417"/>
                              </a:lnTo>
                              <a:lnTo>
                                <a:pt x="21256" y="10533"/>
                              </a:lnTo>
                              <a:lnTo>
                                <a:pt x="20707" y="9837"/>
                              </a:lnTo>
                              <a:lnTo>
                                <a:pt x="19859" y="9234"/>
                              </a:lnTo>
                              <a:lnTo>
                                <a:pt x="18806" y="8538"/>
                              </a:lnTo>
                              <a:lnTo>
                                <a:pt x="17637" y="8144"/>
                              </a:lnTo>
                              <a:lnTo>
                                <a:pt x="16973" y="8027"/>
                              </a:lnTo>
                              <a:lnTo>
                                <a:pt x="16355" y="7935"/>
                              </a:lnTo>
                              <a:lnTo>
                                <a:pt x="15805" y="7935"/>
                              </a:lnTo>
                              <a:lnTo>
                                <a:pt x="15118" y="8027"/>
                              </a:lnTo>
                              <a:lnTo>
                                <a:pt x="14614" y="8144"/>
                              </a:lnTo>
                              <a:lnTo>
                                <a:pt x="14064" y="8422"/>
                              </a:lnTo>
                              <a:lnTo>
                                <a:pt x="13606" y="8886"/>
                              </a:lnTo>
                              <a:lnTo>
                                <a:pt x="13217" y="9327"/>
                              </a:lnTo>
                              <a:lnTo>
                                <a:pt x="13606" y="8538"/>
                              </a:lnTo>
                              <a:lnTo>
                                <a:pt x="13950" y="7935"/>
                              </a:lnTo>
                              <a:lnTo>
                                <a:pt x="14293" y="7123"/>
                              </a:lnTo>
                              <a:lnTo>
                                <a:pt x="14499" y="6519"/>
                              </a:lnTo>
                              <a:lnTo>
                                <a:pt x="14614" y="5823"/>
                              </a:lnTo>
                              <a:lnTo>
                                <a:pt x="14614" y="5220"/>
                              </a:lnTo>
                              <a:lnTo>
                                <a:pt x="14408" y="4524"/>
                              </a:lnTo>
                              <a:lnTo>
                                <a:pt x="14064" y="3898"/>
                              </a:lnTo>
                              <a:lnTo>
                                <a:pt x="13606" y="3225"/>
                              </a:lnTo>
                              <a:lnTo>
                                <a:pt x="13331" y="2598"/>
                              </a:lnTo>
                              <a:lnTo>
                                <a:pt x="13102" y="2042"/>
                              </a:lnTo>
                              <a:lnTo>
                                <a:pt x="12896" y="1485"/>
                              </a:lnTo>
                              <a:lnTo>
                                <a:pt x="12781" y="1090"/>
                              </a:lnTo>
                              <a:lnTo>
                                <a:pt x="12667" y="626"/>
                              </a:lnTo>
                              <a:lnTo>
                                <a:pt x="12667" y="278"/>
                              </a:lnTo>
                              <a:lnTo>
                                <a:pt x="12667" y="0"/>
                              </a:lnTo>
                              <a:lnTo>
                                <a:pt x="12163" y="394"/>
                              </a:lnTo>
                              <a:lnTo>
                                <a:pt x="11728" y="974"/>
                              </a:lnTo>
                              <a:lnTo>
                                <a:pt x="11155" y="1601"/>
                              </a:lnTo>
                              <a:lnTo>
                                <a:pt x="10766" y="2390"/>
                              </a:lnTo>
                              <a:lnTo>
                                <a:pt x="10330" y="3109"/>
                              </a:lnTo>
                              <a:lnTo>
                                <a:pt x="10101" y="3898"/>
                              </a:lnTo>
                              <a:lnTo>
                                <a:pt x="9987" y="4524"/>
                              </a:lnTo>
                              <a:lnTo>
                                <a:pt x="10101" y="5220"/>
                              </a:lnTo>
                              <a:lnTo>
                                <a:pt x="10216" y="5823"/>
                              </a:lnTo>
                              <a:lnTo>
                                <a:pt x="10330" y="6403"/>
                              </a:lnTo>
                              <a:lnTo>
                                <a:pt x="10330" y="6914"/>
                              </a:lnTo>
                              <a:lnTo>
                                <a:pt x="10216" y="7471"/>
                              </a:lnTo>
                              <a:lnTo>
                                <a:pt x="10101" y="7935"/>
                              </a:lnTo>
                              <a:lnTo>
                                <a:pt x="9872" y="8329"/>
                              </a:lnTo>
                              <a:lnTo>
                                <a:pt x="9643" y="8654"/>
                              </a:lnTo>
                              <a:lnTo>
                                <a:pt x="9368" y="900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00"/>
                        </a:solidFill>
                        <a:ln w="9360">
                          <a:solidFill>
                            <a:srgbClr val="00ff00"/>
                          </a:solidFill>
                          <a:miter/>
                        </a:ln>
                        <a:effectLst>
                          <a:outerShdw dist="107932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3" name="AutoShape 2233"/>
                        <p:cNvSpPr/>
                        <p:nvPr/>
                      </p:nvSpPr>
                      <p:spPr>
                        <a:xfrm>
                          <a:off x="4130640" y="2850120"/>
                          <a:ext cx="468000" cy="343800"/>
                        </a:xfrm>
                        <a:prstGeom prst="irregularSeal1">
                          <a:avLst/>
                        </a:prstGeom>
                        <a:gradFill rotWithShape="0">
                          <a:gsLst>
                            <a:gs pos="0">
                              <a:srgbClr val="000082"/>
                            </a:gs>
                            <a:gs pos="100000">
                              <a:srgbClr val="ff82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4" name="Oval 2234"/>
                        <p:cNvSpPr/>
                        <p:nvPr/>
                      </p:nvSpPr>
                      <p:spPr>
                        <a:xfrm>
                          <a:off x="4325760" y="2964960"/>
                          <a:ext cx="117000" cy="114480"/>
                        </a:xfrm>
                        <a:prstGeom prst="ellipse">
                          <a:avLst/>
                        </a:prstGeom>
                        <a:solidFill>
                          <a:srgbClr val="ffff00"/>
                        </a:solidFill>
                        <a:ln w="9360">
                          <a:solidFill>
                            <a:srgbClr val="ff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4560" bIns="3456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635" name="Group 2253"/>
                    <p:cNvGrpSpPr/>
                    <p:nvPr/>
                  </p:nvGrpSpPr>
                  <p:grpSpPr>
                    <a:xfrm>
                      <a:off x="242640" y="2534400"/>
                      <a:ext cx="988200" cy="864360"/>
                      <a:chOff x="242640" y="2534400"/>
                      <a:chExt cx="988200" cy="864360"/>
                    </a:xfrm>
                  </p:grpSpPr>
                  <p:sp>
                    <p:nvSpPr>
                      <p:cNvPr id="2636" name="plant"/>
                      <p:cNvSpPr/>
                      <p:nvPr/>
                    </p:nvSpPr>
                    <p:spPr>
                      <a:xfrm rot="20367600">
                        <a:off x="324000" y="2659320"/>
                        <a:ext cx="825120" cy="613800"/>
                      </a:xfrm>
                      <a:custGeom>
                        <a:avLst/>
                        <a:gdLst>
                          <a:gd name="textAreaLeft" fmla="*/ 271080 w 825120"/>
                          <a:gd name="textAreaRight" fmla="*/ 555840 w 825120"/>
                          <a:gd name="textAreaTop" fmla="*/ 286560 h 613800"/>
                          <a:gd name="textAreaBottom" fmla="*/ 385200 h 6138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9368" y="9002"/>
                            </a:moveTo>
                            <a:lnTo>
                              <a:pt x="9254" y="8422"/>
                            </a:lnTo>
                            <a:lnTo>
                              <a:pt x="9139" y="7935"/>
                            </a:lnTo>
                            <a:lnTo>
                              <a:pt x="8819" y="7355"/>
                            </a:lnTo>
                            <a:lnTo>
                              <a:pt x="8475" y="6728"/>
                            </a:lnTo>
                            <a:lnTo>
                              <a:pt x="8040" y="6287"/>
                            </a:lnTo>
                            <a:lnTo>
                              <a:pt x="7421" y="5707"/>
                            </a:lnTo>
                            <a:lnTo>
                              <a:pt x="6574" y="5429"/>
                            </a:lnTo>
                            <a:lnTo>
                              <a:pt x="5452" y="5313"/>
                            </a:lnTo>
                            <a:lnTo>
                              <a:pt x="4856" y="5220"/>
                            </a:lnTo>
                            <a:lnTo>
                              <a:pt x="4169" y="5220"/>
                            </a:lnTo>
                            <a:lnTo>
                              <a:pt x="3665" y="5104"/>
                            </a:lnTo>
                            <a:lnTo>
                              <a:pt x="3001" y="4872"/>
                            </a:lnTo>
                            <a:lnTo>
                              <a:pt x="2497" y="4756"/>
                            </a:lnTo>
                            <a:lnTo>
                              <a:pt x="2062" y="4408"/>
                            </a:lnTo>
                            <a:lnTo>
                              <a:pt x="1603" y="4083"/>
                            </a:lnTo>
                            <a:lnTo>
                              <a:pt x="1283" y="3689"/>
                            </a:lnTo>
                            <a:lnTo>
                              <a:pt x="1283" y="4315"/>
                            </a:lnTo>
                            <a:lnTo>
                              <a:pt x="1489" y="5104"/>
                            </a:lnTo>
                            <a:lnTo>
                              <a:pt x="1832" y="6055"/>
                            </a:lnTo>
                            <a:lnTo>
                              <a:pt x="2382" y="6914"/>
                            </a:lnTo>
                            <a:lnTo>
                              <a:pt x="2680" y="7471"/>
                            </a:lnTo>
                            <a:lnTo>
                              <a:pt x="3115" y="7935"/>
                            </a:lnTo>
                            <a:lnTo>
                              <a:pt x="3573" y="8213"/>
                            </a:lnTo>
                            <a:lnTo>
                              <a:pt x="4077" y="8654"/>
                            </a:lnTo>
                            <a:lnTo>
                              <a:pt x="4627" y="9002"/>
                            </a:lnTo>
                            <a:lnTo>
                              <a:pt x="5245" y="9234"/>
                            </a:lnTo>
                            <a:lnTo>
                              <a:pt x="6024" y="9443"/>
                            </a:lnTo>
                            <a:lnTo>
                              <a:pt x="6757" y="9628"/>
                            </a:lnTo>
                            <a:lnTo>
                              <a:pt x="5177" y="10069"/>
                            </a:lnTo>
                            <a:lnTo>
                              <a:pt x="3963" y="10649"/>
                            </a:lnTo>
                            <a:lnTo>
                              <a:pt x="3344" y="11044"/>
                            </a:lnTo>
                            <a:lnTo>
                              <a:pt x="2886" y="11600"/>
                            </a:lnTo>
                            <a:lnTo>
                              <a:pt x="2497" y="12041"/>
                            </a:lnTo>
                            <a:lnTo>
                              <a:pt x="1947" y="12343"/>
                            </a:lnTo>
                            <a:lnTo>
                              <a:pt x="1168" y="12668"/>
                            </a:lnTo>
                            <a:lnTo>
                              <a:pt x="0" y="12900"/>
                            </a:lnTo>
                            <a:lnTo>
                              <a:pt x="435" y="13248"/>
                            </a:lnTo>
                            <a:lnTo>
                              <a:pt x="779" y="13456"/>
                            </a:lnTo>
                            <a:lnTo>
                              <a:pt x="1283" y="13642"/>
                            </a:lnTo>
                            <a:lnTo>
                              <a:pt x="1718" y="13758"/>
                            </a:lnTo>
                            <a:lnTo>
                              <a:pt x="2680" y="13851"/>
                            </a:lnTo>
                            <a:lnTo>
                              <a:pt x="3573" y="13758"/>
                            </a:lnTo>
                            <a:lnTo>
                              <a:pt x="4512" y="13526"/>
                            </a:lnTo>
                            <a:lnTo>
                              <a:pt x="5360" y="13248"/>
                            </a:lnTo>
                            <a:lnTo>
                              <a:pt x="6139" y="12900"/>
                            </a:lnTo>
                            <a:lnTo>
                              <a:pt x="6757" y="12552"/>
                            </a:lnTo>
                            <a:lnTo>
                              <a:pt x="6459" y="13132"/>
                            </a:lnTo>
                            <a:lnTo>
                              <a:pt x="6139" y="13642"/>
                            </a:lnTo>
                            <a:lnTo>
                              <a:pt x="5910" y="14199"/>
                            </a:lnTo>
                            <a:lnTo>
                              <a:pt x="5681" y="14663"/>
                            </a:lnTo>
                            <a:lnTo>
                              <a:pt x="5681" y="15150"/>
                            </a:lnTo>
                            <a:lnTo>
                              <a:pt x="5681" y="15730"/>
                            </a:lnTo>
                            <a:lnTo>
                              <a:pt x="5681" y="16241"/>
                            </a:lnTo>
                            <a:lnTo>
                              <a:pt x="5795" y="16913"/>
                            </a:lnTo>
                            <a:lnTo>
                              <a:pt x="5910" y="17586"/>
                            </a:lnTo>
                            <a:lnTo>
                              <a:pt x="5910" y="18213"/>
                            </a:lnTo>
                            <a:lnTo>
                              <a:pt x="5795" y="18885"/>
                            </a:lnTo>
                            <a:lnTo>
                              <a:pt x="5566" y="19396"/>
                            </a:lnTo>
                            <a:lnTo>
                              <a:pt x="5245" y="19976"/>
                            </a:lnTo>
                            <a:lnTo>
                              <a:pt x="4971" y="20370"/>
                            </a:lnTo>
                            <a:lnTo>
                              <a:pt x="4512" y="20811"/>
                            </a:lnTo>
                            <a:lnTo>
                              <a:pt x="4077" y="21043"/>
                            </a:lnTo>
                            <a:lnTo>
                              <a:pt x="5177" y="20927"/>
                            </a:lnTo>
                            <a:lnTo>
                              <a:pt x="6253" y="20486"/>
                            </a:lnTo>
                            <a:lnTo>
                              <a:pt x="7421" y="19976"/>
                            </a:lnTo>
                            <a:lnTo>
                              <a:pt x="8361" y="19187"/>
                            </a:lnTo>
                            <a:lnTo>
                              <a:pt x="8819" y="18769"/>
                            </a:lnTo>
                            <a:lnTo>
                              <a:pt x="9139" y="18213"/>
                            </a:lnTo>
                            <a:lnTo>
                              <a:pt x="9437" y="17772"/>
                            </a:lnTo>
                            <a:lnTo>
                              <a:pt x="9643" y="17261"/>
                            </a:lnTo>
                            <a:lnTo>
                              <a:pt x="9872" y="16681"/>
                            </a:lnTo>
                            <a:lnTo>
                              <a:pt x="9872" y="16171"/>
                            </a:lnTo>
                            <a:lnTo>
                              <a:pt x="9872" y="15614"/>
                            </a:lnTo>
                            <a:lnTo>
                              <a:pt x="9758" y="15057"/>
                            </a:lnTo>
                            <a:lnTo>
                              <a:pt x="10216" y="15498"/>
                            </a:lnTo>
                            <a:lnTo>
                              <a:pt x="10537" y="16241"/>
                            </a:lnTo>
                            <a:lnTo>
                              <a:pt x="10834" y="17145"/>
                            </a:lnTo>
                            <a:lnTo>
                              <a:pt x="11041" y="18213"/>
                            </a:lnTo>
                            <a:lnTo>
                              <a:pt x="11155" y="19187"/>
                            </a:lnTo>
                            <a:lnTo>
                              <a:pt x="11155" y="20185"/>
                            </a:lnTo>
                            <a:lnTo>
                              <a:pt x="11155" y="20579"/>
                            </a:lnTo>
                            <a:lnTo>
                              <a:pt x="11041" y="21043"/>
                            </a:lnTo>
                            <a:lnTo>
                              <a:pt x="10926" y="21391"/>
                            </a:lnTo>
                            <a:lnTo>
                              <a:pt x="10766" y="21600"/>
                            </a:lnTo>
                            <a:lnTo>
                              <a:pt x="11499" y="21484"/>
                            </a:lnTo>
                            <a:lnTo>
                              <a:pt x="12323" y="21043"/>
                            </a:lnTo>
                            <a:lnTo>
                              <a:pt x="13102" y="20370"/>
                            </a:lnTo>
                            <a:lnTo>
                              <a:pt x="13606" y="19628"/>
                            </a:lnTo>
                            <a:lnTo>
                              <a:pt x="13950" y="19071"/>
                            </a:lnTo>
                            <a:lnTo>
                              <a:pt x="14064" y="18677"/>
                            </a:lnTo>
                            <a:lnTo>
                              <a:pt x="14179" y="18097"/>
                            </a:lnTo>
                            <a:lnTo>
                              <a:pt x="14293" y="17586"/>
                            </a:lnTo>
                            <a:lnTo>
                              <a:pt x="14179" y="16913"/>
                            </a:lnTo>
                            <a:lnTo>
                              <a:pt x="14064" y="16241"/>
                            </a:lnTo>
                            <a:lnTo>
                              <a:pt x="13835" y="15614"/>
                            </a:lnTo>
                            <a:lnTo>
                              <a:pt x="13560" y="14872"/>
                            </a:lnTo>
                            <a:lnTo>
                              <a:pt x="13950" y="14941"/>
                            </a:lnTo>
                            <a:lnTo>
                              <a:pt x="14408" y="15150"/>
                            </a:lnTo>
                            <a:lnTo>
                              <a:pt x="14843" y="15266"/>
                            </a:lnTo>
                            <a:lnTo>
                              <a:pt x="15232" y="15614"/>
                            </a:lnTo>
                            <a:lnTo>
                              <a:pt x="15576" y="15846"/>
                            </a:lnTo>
                            <a:lnTo>
                              <a:pt x="15897" y="16171"/>
                            </a:lnTo>
                            <a:lnTo>
                              <a:pt x="16126" y="16473"/>
                            </a:lnTo>
                            <a:lnTo>
                              <a:pt x="16240" y="16913"/>
                            </a:lnTo>
                            <a:lnTo>
                              <a:pt x="16515" y="17261"/>
                            </a:lnTo>
                            <a:lnTo>
                              <a:pt x="17088" y="17586"/>
                            </a:lnTo>
                            <a:lnTo>
                              <a:pt x="17798" y="17865"/>
                            </a:lnTo>
                            <a:lnTo>
                              <a:pt x="18576" y="18097"/>
                            </a:lnTo>
                            <a:lnTo>
                              <a:pt x="19424" y="18213"/>
                            </a:lnTo>
                            <a:lnTo>
                              <a:pt x="20317" y="18213"/>
                            </a:lnTo>
                            <a:lnTo>
                              <a:pt x="21050" y="18213"/>
                            </a:lnTo>
                            <a:lnTo>
                              <a:pt x="21600" y="17865"/>
                            </a:lnTo>
                            <a:lnTo>
                              <a:pt x="21165" y="17656"/>
                            </a:lnTo>
                            <a:lnTo>
                              <a:pt x="20592" y="17470"/>
                            </a:lnTo>
                            <a:lnTo>
                              <a:pt x="20088" y="17029"/>
                            </a:lnTo>
                            <a:lnTo>
                              <a:pt x="19653" y="16681"/>
                            </a:lnTo>
                            <a:lnTo>
                              <a:pt x="19195" y="16241"/>
                            </a:lnTo>
                            <a:lnTo>
                              <a:pt x="18920" y="15962"/>
                            </a:lnTo>
                            <a:lnTo>
                              <a:pt x="18576" y="15498"/>
                            </a:lnTo>
                            <a:lnTo>
                              <a:pt x="18576" y="15057"/>
                            </a:lnTo>
                            <a:lnTo>
                              <a:pt x="18485" y="14756"/>
                            </a:lnTo>
                            <a:lnTo>
                              <a:pt x="18256" y="14199"/>
                            </a:lnTo>
                            <a:lnTo>
                              <a:pt x="17912" y="13526"/>
                            </a:lnTo>
                            <a:lnTo>
                              <a:pt x="17523" y="13016"/>
                            </a:lnTo>
                            <a:lnTo>
                              <a:pt x="16973" y="12436"/>
                            </a:lnTo>
                            <a:lnTo>
                              <a:pt x="16355" y="12041"/>
                            </a:lnTo>
                            <a:lnTo>
                              <a:pt x="16011" y="11832"/>
                            </a:lnTo>
                            <a:lnTo>
                              <a:pt x="15690" y="11716"/>
                            </a:lnTo>
                            <a:lnTo>
                              <a:pt x="15232" y="11716"/>
                            </a:lnTo>
                            <a:lnTo>
                              <a:pt x="14843" y="11716"/>
                            </a:lnTo>
                            <a:lnTo>
                              <a:pt x="15461" y="11252"/>
                            </a:lnTo>
                            <a:lnTo>
                              <a:pt x="16126" y="10858"/>
                            </a:lnTo>
                            <a:lnTo>
                              <a:pt x="16973" y="10649"/>
                            </a:lnTo>
                            <a:lnTo>
                              <a:pt x="17798" y="10417"/>
                            </a:lnTo>
                            <a:lnTo>
                              <a:pt x="18806" y="10301"/>
                            </a:lnTo>
                            <a:lnTo>
                              <a:pt x="19653" y="10301"/>
                            </a:lnTo>
                            <a:lnTo>
                              <a:pt x="20478" y="10417"/>
                            </a:lnTo>
                            <a:lnTo>
                              <a:pt x="21256" y="10533"/>
                            </a:lnTo>
                            <a:lnTo>
                              <a:pt x="20707" y="9837"/>
                            </a:lnTo>
                            <a:lnTo>
                              <a:pt x="19859" y="9234"/>
                            </a:lnTo>
                            <a:lnTo>
                              <a:pt x="18806" y="8538"/>
                            </a:lnTo>
                            <a:lnTo>
                              <a:pt x="17637" y="8144"/>
                            </a:lnTo>
                            <a:lnTo>
                              <a:pt x="16973" y="8027"/>
                            </a:lnTo>
                            <a:lnTo>
                              <a:pt x="16355" y="7935"/>
                            </a:lnTo>
                            <a:lnTo>
                              <a:pt x="15805" y="7935"/>
                            </a:lnTo>
                            <a:lnTo>
                              <a:pt x="15118" y="8027"/>
                            </a:lnTo>
                            <a:lnTo>
                              <a:pt x="14614" y="8144"/>
                            </a:lnTo>
                            <a:lnTo>
                              <a:pt x="14064" y="8422"/>
                            </a:lnTo>
                            <a:lnTo>
                              <a:pt x="13606" y="8886"/>
                            </a:lnTo>
                            <a:lnTo>
                              <a:pt x="13217" y="9327"/>
                            </a:lnTo>
                            <a:lnTo>
                              <a:pt x="13606" y="8538"/>
                            </a:lnTo>
                            <a:lnTo>
                              <a:pt x="13950" y="7935"/>
                            </a:lnTo>
                            <a:lnTo>
                              <a:pt x="14293" y="7123"/>
                            </a:lnTo>
                            <a:lnTo>
                              <a:pt x="14499" y="6519"/>
                            </a:lnTo>
                            <a:lnTo>
                              <a:pt x="14614" y="5823"/>
                            </a:lnTo>
                            <a:lnTo>
                              <a:pt x="14614" y="5220"/>
                            </a:lnTo>
                            <a:lnTo>
                              <a:pt x="14408" y="4524"/>
                            </a:lnTo>
                            <a:lnTo>
                              <a:pt x="14064" y="3898"/>
                            </a:lnTo>
                            <a:lnTo>
                              <a:pt x="13606" y="3225"/>
                            </a:lnTo>
                            <a:lnTo>
                              <a:pt x="13331" y="2598"/>
                            </a:lnTo>
                            <a:lnTo>
                              <a:pt x="13102" y="2042"/>
                            </a:lnTo>
                            <a:lnTo>
                              <a:pt x="12896" y="1485"/>
                            </a:lnTo>
                            <a:lnTo>
                              <a:pt x="12781" y="1090"/>
                            </a:lnTo>
                            <a:lnTo>
                              <a:pt x="12667" y="626"/>
                            </a:lnTo>
                            <a:lnTo>
                              <a:pt x="12667" y="278"/>
                            </a:lnTo>
                            <a:lnTo>
                              <a:pt x="12667" y="0"/>
                            </a:lnTo>
                            <a:lnTo>
                              <a:pt x="12163" y="394"/>
                            </a:lnTo>
                            <a:lnTo>
                              <a:pt x="11728" y="974"/>
                            </a:lnTo>
                            <a:lnTo>
                              <a:pt x="11155" y="1601"/>
                            </a:lnTo>
                            <a:lnTo>
                              <a:pt x="10766" y="2390"/>
                            </a:lnTo>
                            <a:lnTo>
                              <a:pt x="10330" y="3109"/>
                            </a:lnTo>
                            <a:lnTo>
                              <a:pt x="10101" y="3898"/>
                            </a:lnTo>
                            <a:lnTo>
                              <a:pt x="9987" y="4524"/>
                            </a:lnTo>
                            <a:lnTo>
                              <a:pt x="10101" y="5220"/>
                            </a:lnTo>
                            <a:lnTo>
                              <a:pt x="10216" y="5823"/>
                            </a:lnTo>
                            <a:lnTo>
                              <a:pt x="10330" y="6403"/>
                            </a:lnTo>
                            <a:lnTo>
                              <a:pt x="10330" y="6914"/>
                            </a:lnTo>
                            <a:lnTo>
                              <a:pt x="10216" y="7471"/>
                            </a:lnTo>
                            <a:lnTo>
                              <a:pt x="10101" y="7935"/>
                            </a:lnTo>
                            <a:lnTo>
                              <a:pt x="9872" y="8329"/>
                            </a:lnTo>
                            <a:lnTo>
                              <a:pt x="9643" y="8654"/>
                            </a:lnTo>
                            <a:lnTo>
                              <a:pt x="9368" y="900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9360">
                        <a:solidFill>
                          <a:srgbClr val="00ff00"/>
                        </a:solidFill>
                        <a:miter/>
                      </a:ln>
                      <a:effectLst>
                        <a:outerShdw dist="107932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7" name="AutoShape 2255"/>
                      <p:cNvSpPr/>
                      <p:nvPr/>
                    </p:nvSpPr>
                    <p:spPr>
                      <a:xfrm rot="20367600">
                        <a:off x="572040" y="2803320"/>
                        <a:ext cx="468000" cy="343800"/>
                      </a:xfrm>
                      <a:prstGeom prst="irregularSeal1">
                        <a:avLst/>
                      </a:prstGeom>
                      <a:gradFill rotWithShape="0">
                        <a:gsLst>
                          <a:gs pos="0">
                            <a:srgbClr val="ff0000"/>
                          </a:gs>
                          <a:gs pos="100000">
                            <a:srgbClr val="006699"/>
                          </a:gs>
                        </a:gsLst>
                        <a:lin ang="5400000"/>
                      </a:gradFill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8" name="Oval 2256"/>
                      <p:cNvSpPr/>
                      <p:nvPr/>
                    </p:nvSpPr>
                    <p:spPr>
                      <a:xfrm rot="20367600">
                        <a:off x="729360" y="2925360"/>
                        <a:ext cx="116640" cy="114480"/>
                      </a:xfrm>
                      <a:prstGeom prst="ellipse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ff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4560" bIns="3456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2639" name="Picture 2251" descr="8a1[1]"/>
          <p:cNvPicPr/>
          <p:nvPr/>
        </p:nvPicPr>
        <p:blipFill>
          <a:blip r:embed="rId5"/>
          <a:stretch/>
        </p:blipFill>
        <p:spPr>
          <a:xfrm>
            <a:off x="3492360" y="4724280"/>
            <a:ext cx="446400" cy="273240"/>
          </a:xfrm>
          <a:prstGeom prst="rect">
            <a:avLst/>
          </a:prstGeom>
          <a:ln w="0">
            <a:noFill/>
          </a:ln>
        </p:spPr>
      </p:pic>
      <p:pic>
        <p:nvPicPr>
          <p:cNvPr id="2640" name="Picture 2252" descr="8a1[1]"/>
          <p:cNvPicPr/>
          <p:nvPr/>
        </p:nvPicPr>
        <p:blipFill>
          <a:blip r:embed="rId6"/>
          <a:stretch/>
        </p:blipFill>
        <p:spPr>
          <a:xfrm>
            <a:off x="4140360" y="2781360"/>
            <a:ext cx="374400" cy="330120"/>
          </a:xfrm>
          <a:prstGeom prst="rect">
            <a:avLst/>
          </a:prstGeom>
          <a:ln w="0">
            <a:noFill/>
          </a:ln>
        </p:spPr>
      </p:pic>
      <p:pic>
        <p:nvPicPr>
          <p:cNvPr id="2641" name="Picture 2251" descr="8a1[1]"/>
          <p:cNvPicPr/>
          <p:nvPr/>
        </p:nvPicPr>
        <p:blipFill>
          <a:blip r:embed="rId7"/>
          <a:stretch/>
        </p:blipFill>
        <p:spPr>
          <a:xfrm>
            <a:off x="539640" y="4149720"/>
            <a:ext cx="446040" cy="272880"/>
          </a:xfrm>
          <a:prstGeom prst="rect">
            <a:avLst/>
          </a:prstGeom>
          <a:ln w="0">
            <a:noFill/>
          </a:ln>
        </p:spPr>
      </p:pic>
      <p:sp>
        <p:nvSpPr>
          <p:cNvPr id="2642" name="Oval 2"/>
          <p:cNvSpPr/>
          <p:nvPr/>
        </p:nvSpPr>
        <p:spPr>
          <a:xfrm>
            <a:off x="5508720" y="1916280"/>
            <a:ext cx="3132000" cy="32414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Oval 3"/>
          <p:cNvSpPr/>
          <p:nvPr/>
        </p:nvSpPr>
        <p:spPr>
          <a:xfrm>
            <a:off x="5850000" y="2263680"/>
            <a:ext cx="2452680" cy="253836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Line 22"/>
          <p:cNvSpPr/>
          <p:nvPr/>
        </p:nvSpPr>
        <p:spPr>
          <a:xfrm>
            <a:off x="7064280" y="3527280"/>
            <a:ext cx="1214640" cy="18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Text Box 23"/>
          <p:cNvSpPr/>
          <p:nvPr/>
        </p:nvSpPr>
        <p:spPr>
          <a:xfrm>
            <a:off x="7259760" y="307980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4"/>
          <p:cNvSpPr/>
          <p:nvPr/>
        </p:nvSpPr>
        <p:spPr>
          <a:xfrm>
            <a:off x="468360" y="40464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338120"/>
                <a:tab algn="l" pos="5830920"/>
                <a:tab algn="l" pos="6294600"/>
                <a:tab algn="l" pos="7553160"/>
                <a:tab algn="l" pos="8812080"/>
                <a:tab algn="l" pos="100710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Интеллектуальная викторина - 2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8120"/>
                <a:tab algn="l" pos="5830920"/>
                <a:tab algn="l" pos="6294600"/>
                <a:tab algn="l" pos="7553160"/>
                <a:tab algn="l" pos="8812080"/>
                <a:tab algn="l" pos="10071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7" name="Picture 2" descr="H:\Documents and Settings\Admin\Рабочий стол\смайлики\36_1_11.gif"/>
          <p:cNvPicPr/>
          <p:nvPr/>
        </p:nvPicPr>
        <p:blipFill>
          <a:blip r:embed="rId1"/>
          <a:stretch/>
        </p:blipFill>
        <p:spPr>
          <a:xfrm>
            <a:off x="6084720" y="1341360"/>
            <a:ext cx="2500560" cy="2271960"/>
          </a:xfrm>
          <a:prstGeom prst="rect">
            <a:avLst/>
          </a:prstGeom>
          <a:ln w="0">
            <a:noFill/>
          </a:ln>
        </p:spPr>
      </p:pic>
      <p:pic>
        <p:nvPicPr>
          <p:cNvPr id="2648" name="Picture 3" descr="H:\Documents and Settings\Admin\Рабочий стол\смайлики\36_13_3.gif"/>
          <p:cNvPicPr/>
          <p:nvPr/>
        </p:nvPicPr>
        <p:blipFill>
          <a:blip r:embed="rId2"/>
          <a:stretch/>
        </p:blipFill>
        <p:spPr>
          <a:xfrm>
            <a:off x="3203640" y="4292640"/>
            <a:ext cx="2928960" cy="2047680"/>
          </a:xfrm>
          <a:prstGeom prst="rect">
            <a:avLst/>
          </a:prstGeom>
          <a:ln w="0">
            <a:noFill/>
          </a:ln>
        </p:spPr>
      </p:pic>
      <p:pic>
        <p:nvPicPr>
          <p:cNvPr id="2649" name="Picture 4" descr="H:\Documents and Settings\Admin\Рабочий стол\смайлики\36_19_5.gif"/>
          <p:cNvPicPr/>
          <p:nvPr/>
        </p:nvPicPr>
        <p:blipFill>
          <a:blip r:embed="rId3"/>
          <a:stretch/>
        </p:blipFill>
        <p:spPr>
          <a:xfrm>
            <a:off x="539640" y="1700280"/>
            <a:ext cx="2786040" cy="1957320"/>
          </a:xfrm>
          <a:prstGeom prst="rect">
            <a:avLst/>
          </a:prstGeom>
          <a:ln w="0">
            <a:noFill/>
          </a:ln>
        </p:spPr>
      </p:pic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Оцени свое на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6"/>
          <p:cNvGrpSpPr/>
          <p:nvPr/>
        </p:nvGrpSpPr>
        <p:grpSpPr>
          <a:xfrm>
            <a:off x="857160" y="357120"/>
            <a:ext cx="7500240" cy="5904360"/>
            <a:chOff x="857160" y="357120"/>
            <a:chExt cx="7500240" cy="5904360"/>
          </a:xfrm>
        </p:grpSpPr>
        <p:sp>
          <p:nvSpPr>
            <p:cNvPr id="304" name="WordArt 32"/>
            <p:cNvSpPr txBox="1"/>
            <p:nvPr/>
          </p:nvSpPr>
          <p:spPr>
            <a:xfrm>
              <a:off x="857160" y="357120"/>
              <a:ext cx="2548800" cy="88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3366"/>
                    </a:solidFill>
                    <a:miter/>
                  </a:ln>
                  <a:solidFill>
                    <a:srgbClr val="333399"/>
                  </a:solidFill>
                  <a:latin typeface="Garamond"/>
                </a:rPr>
                <a:t>Задачи урока:</a:t>
              </a:r>
              <a:endParaRPr b="1" lang="en-US" sz="18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333399"/>
                </a:solidFill>
                <a:latin typeface="Garamond"/>
                <a:ea typeface="Garamond"/>
              </a:endParaRPr>
            </a:p>
          </p:txBody>
        </p:sp>
        <p:grpSp>
          <p:nvGrpSpPr>
            <p:cNvPr id="305" name="Group 8"/>
            <p:cNvGrpSpPr/>
            <p:nvPr/>
          </p:nvGrpSpPr>
          <p:grpSpPr>
            <a:xfrm>
              <a:off x="892440" y="1020240"/>
              <a:ext cx="7464960" cy="5241240"/>
              <a:chOff x="892440" y="1020240"/>
              <a:chExt cx="7464960" cy="5241240"/>
            </a:xfrm>
          </p:grpSpPr>
          <p:grpSp>
            <p:nvGrpSpPr>
              <p:cNvPr id="306" name="Group 16"/>
              <p:cNvGrpSpPr/>
              <p:nvPr/>
            </p:nvGrpSpPr>
            <p:grpSpPr>
              <a:xfrm>
                <a:off x="3471840" y="1020240"/>
                <a:ext cx="2345760" cy="1503360"/>
                <a:chOff x="3471840" y="1020240"/>
                <a:chExt cx="2345760" cy="1503360"/>
              </a:xfrm>
            </p:grpSpPr>
            <p:sp>
              <p:nvSpPr>
                <p:cNvPr id="307" name="Oval 9"/>
                <p:cNvSpPr/>
                <p:nvPr/>
              </p:nvSpPr>
              <p:spPr>
                <a:xfrm>
                  <a:off x="3471840" y="1020240"/>
                  <a:ext cx="2345760" cy="150336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cccc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WordArt 16"/>
                <p:cNvSpPr txBox="1"/>
                <p:nvPr/>
              </p:nvSpPr>
              <p:spPr>
                <a:xfrm>
                  <a:off x="3672720" y="1285200"/>
                  <a:ext cx="1969920" cy="1071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Повторить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основные понятия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 </a:t>
                  </a: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и определения 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</p:txBody>
            </p:sp>
          </p:grpSp>
          <p:grpSp>
            <p:nvGrpSpPr>
              <p:cNvPr id="309" name="Group 17"/>
              <p:cNvGrpSpPr/>
              <p:nvPr/>
            </p:nvGrpSpPr>
            <p:grpSpPr>
              <a:xfrm>
                <a:off x="6213960" y="4642560"/>
                <a:ext cx="2143440" cy="1500120"/>
                <a:chOff x="6213960" y="4642560"/>
                <a:chExt cx="2143440" cy="1500120"/>
              </a:xfrm>
            </p:grpSpPr>
            <p:sp>
              <p:nvSpPr>
                <p:cNvPr id="310" name="Oval 23"/>
                <p:cNvSpPr/>
                <p:nvPr/>
              </p:nvSpPr>
              <p:spPr>
                <a:xfrm>
                  <a:off x="6213960" y="4642560"/>
                  <a:ext cx="2143440" cy="150012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cccc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WordArt 24"/>
                <p:cNvSpPr txBox="1"/>
                <p:nvPr/>
              </p:nvSpPr>
              <p:spPr>
                <a:xfrm>
                  <a:off x="6428160" y="5000040"/>
                  <a:ext cx="1714680" cy="785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44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Повторить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основные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формулы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</p:txBody>
            </p:sp>
          </p:grpSp>
          <p:grpSp>
            <p:nvGrpSpPr>
              <p:cNvPr id="312" name="Group 15"/>
              <p:cNvGrpSpPr/>
              <p:nvPr/>
            </p:nvGrpSpPr>
            <p:grpSpPr>
              <a:xfrm>
                <a:off x="892440" y="4595400"/>
                <a:ext cx="2345760" cy="1666080"/>
                <a:chOff x="892440" y="4595400"/>
                <a:chExt cx="2345760" cy="1666080"/>
              </a:xfrm>
            </p:grpSpPr>
            <p:sp>
              <p:nvSpPr>
                <p:cNvPr id="313" name="Oval 25"/>
                <p:cNvSpPr/>
                <p:nvPr/>
              </p:nvSpPr>
              <p:spPr>
                <a:xfrm>
                  <a:off x="892440" y="4595400"/>
                  <a:ext cx="2345760" cy="166608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cccc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WordArt 26"/>
                <p:cNvSpPr txBox="1"/>
                <p:nvPr/>
              </p:nvSpPr>
              <p:spPr>
                <a:xfrm>
                  <a:off x="1391760" y="4951440"/>
                  <a:ext cx="1500120" cy="856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Решение 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993366"/>
                      </a:solidFill>
                      <a:latin typeface="Garamond"/>
                    </a:rPr>
                    <a:t>задач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latin typeface="Garamond"/>
                    <a:ea typeface="Garamond"/>
                  </a:endParaRPr>
                </a:p>
              </p:txBody>
            </p:sp>
          </p:grpSp>
          <p:grpSp>
            <p:nvGrpSpPr>
              <p:cNvPr id="315" name="Group 18"/>
              <p:cNvGrpSpPr/>
              <p:nvPr/>
            </p:nvGrpSpPr>
            <p:grpSpPr>
              <a:xfrm>
                <a:off x="3392280" y="3023280"/>
                <a:ext cx="2286720" cy="1285560"/>
                <a:chOff x="3392280" y="3023280"/>
                <a:chExt cx="2286720" cy="1285560"/>
              </a:xfrm>
            </p:grpSpPr>
            <p:sp>
              <p:nvSpPr>
                <p:cNvPr id="316" name="Oval 27"/>
                <p:cNvSpPr/>
                <p:nvPr/>
              </p:nvSpPr>
              <p:spPr>
                <a:xfrm>
                  <a:off x="3392280" y="3023280"/>
                  <a:ext cx="2286720" cy="1285560"/>
                </a:xfrm>
                <a:prstGeom prst="ellipse">
                  <a:avLst/>
                </a:prstGeom>
                <a:solidFill>
                  <a:srgbClr val="00ffff"/>
                </a:solidFill>
                <a:ln w="7632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WordArt 31"/>
                <p:cNvSpPr txBox="1"/>
                <p:nvPr/>
              </p:nvSpPr>
              <p:spPr>
                <a:xfrm>
                  <a:off x="3677400" y="3237840"/>
                  <a:ext cx="1714320" cy="9280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333399"/>
                      </a:solidFill>
                      <a:latin typeface="Garamond"/>
                    </a:rPr>
                    <a:t>Длина окружности,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333399"/>
                    </a:solidFill>
                    <a:latin typeface="Garamond"/>
                    <a:ea typeface="Garamond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solidFill>
                        <a:srgbClr val="333399"/>
                      </a:solidFill>
                      <a:latin typeface="Garamond"/>
                    </a:rPr>
                    <a:t>площадь круга</a:t>
                  </a:r>
                  <a:endParaRPr b="1" lang="en-US" sz="1800" spc="1" strike="noStrike">
                    <a:ln w="0">
                      <a:noFill/>
                    </a:ln>
                    <a:solidFill>
                      <a:srgbClr val="333399"/>
                    </a:solidFill>
                    <a:latin typeface="Garamond"/>
                    <a:ea typeface="Garamond"/>
                  </a:endParaRPr>
                </a:p>
              </p:txBody>
            </p:sp>
          </p:grpSp>
          <p:cxnSp>
            <p:nvCxnSpPr>
              <p:cNvPr id="318" name="AutoShape 19"/>
              <p:cNvCxnSpPr>
                <a:stCxn id="316" idx="0"/>
                <a:endCxn id="307" idx="4"/>
              </p:cNvCxnSpPr>
              <p:nvPr/>
            </p:nvCxnSpPr>
            <p:spPr>
              <a:xfrm flipV="1">
                <a:off x="4535280" y="2522160"/>
                <a:ext cx="109800" cy="5011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cxnSp>
            <p:nvCxnSpPr>
              <p:cNvPr id="319" name="AutoShape 20"/>
              <p:cNvCxnSpPr>
                <a:stCxn id="316" idx="6"/>
                <a:endCxn id="310" idx="0"/>
              </p:cNvCxnSpPr>
              <p:nvPr/>
            </p:nvCxnSpPr>
            <p:spPr>
              <a:xfrm>
                <a:off x="5678640" y="3666600"/>
                <a:ext cx="1607400" cy="9781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cxnSp>
            <p:nvCxnSpPr>
              <p:cNvPr id="320" name="AutoShape 21"/>
              <p:cNvCxnSpPr>
                <a:stCxn id="316" idx="2"/>
              </p:cNvCxnSpPr>
              <p:nvPr/>
            </p:nvCxnSpPr>
            <p:spPr>
              <a:xfrm flipH="1">
                <a:off x="2249280" y="3666960"/>
                <a:ext cx="1143000" cy="928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</p:grpSp>
      <p:cxnSp>
        <p:nvCxnSpPr>
          <p:cNvPr id="321" name="AutoShape 20"/>
          <p:cNvCxnSpPr>
            <a:stCxn id="316" idx="4"/>
            <a:endCxn id="322" idx="0"/>
          </p:cNvCxnSpPr>
          <p:nvPr/>
        </p:nvCxnSpPr>
        <p:spPr>
          <a:xfrm>
            <a:off x="4534560" y="4309560"/>
            <a:ext cx="37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22" name="Oval 25"/>
          <p:cNvSpPr/>
          <p:nvPr/>
        </p:nvSpPr>
        <p:spPr>
          <a:xfrm>
            <a:off x="3643200" y="5072040"/>
            <a:ext cx="1857600" cy="1214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993366"/>
                </a:solidFill>
                <a:latin typeface="Garamond"/>
              </a:rPr>
              <a:t>с жизн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 txBox="1"/>
          <p:nvPr/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равь ошибку (задание на карточк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площадь 5-рублевой мон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орческое зад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7d"/>
                </a:solidFill>
                <a:latin typeface="Arial"/>
              </a:rPr>
              <a:t>а)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и решить задачу по теме площадь круга и длина окружности с иллюстрацией на альбомном лис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200" spc="-1" strike="noStrike">
                <a:solidFill>
                  <a:srgbClr val="00007d"/>
                </a:solidFill>
                <a:latin typeface="Arial"/>
              </a:rPr>
              <a:t>б).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мишени имеются четыре окружности с общим центром, радиусы которых равны 1, 2, 3, 4. Найти площадь наименьшего круга, а также площадь каждого из трех колец мишени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терии оцено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3» - задание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4» - задание 1 и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5» - задание 1, 2 и одно  творческое (любо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5», «5» - задание 1, 2 и оба творческ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Рейтинговая самостоятель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 txBox="1"/>
          <p:nvPr/>
        </p:nvSpPr>
        <p:spPr>
          <a:xfrm>
            <a:off x="457200" y="1499760"/>
            <a:ext cx="404352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вариа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(0-3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йти длин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ности, ес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=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(0- 4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йти площад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штрихованной фигуры, если радиу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а равен 6см, а сторона квадрата 2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(0-5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ина окружности 46,5см. Найдите площадь 1/3 круга, ограниченного этой окружностью (число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округлите до десят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714920" y="1428480"/>
            <a:ext cx="396864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вариа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(0-3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йти площадь круга, ес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(0- 4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йти площадь заштрихованной фигуры, если радиус круга равен 2см, а сторона квадрата 6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(0-5 б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ина окружности 40,3см. Найдите площадь 1/5 круга, ограниченного этой окружностью (число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округлите до десяты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6" name="Picture 5" descr=""/>
          <p:cNvPicPr/>
          <p:nvPr/>
        </p:nvPicPr>
        <p:blipFill>
          <a:blip r:embed="rId1"/>
          <a:srcRect l="16032" t="22439" r="47056" b="29320"/>
          <a:stretch/>
        </p:blipFill>
        <p:spPr>
          <a:xfrm>
            <a:off x="5867280" y="2997360"/>
            <a:ext cx="1152720" cy="1130040"/>
          </a:xfrm>
          <a:prstGeom prst="rect">
            <a:avLst/>
          </a:prstGeom>
          <a:ln w="0">
            <a:noFill/>
          </a:ln>
        </p:spPr>
      </p:pic>
      <p:pic>
        <p:nvPicPr>
          <p:cNvPr id="2657" name="Picture 7" descr=""/>
          <p:cNvPicPr/>
          <p:nvPr/>
        </p:nvPicPr>
        <p:blipFill>
          <a:blip r:embed="rId2"/>
          <a:srcRect l="24154" t="27366" r="42611" b="27366"/>
          <a:stretch/>
        </p:blipFill>
        <p:spPr>
          <a:xfrm>
            <a:off x="1619280" y="3068640"/>
            <a:ext cx="1128600" cy="1152360"/>
          </a:xfrm>
          <a:prstGeom prst="rect">
            <a:avLst/>
          </a:prstGeom>
          <a:ln w="0">
            <a:noFill/>
          </a:ln>
        </p:spPr>
      </p:pic>
      <p:sp>
        <p:nvSpPr>
          <p:cNvPr id="2658" name="Text Box 9"/>
          <p:cNvSpPr/>
          <p:nvPr/>
        </p:nvSpPr>
        <p:spPr>
          <a:xfrm>
            <a:off x="3276720" y="53737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3-4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5-6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7-9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от предмет изобрел очень талантливый юноша, который придумал гончарный круг и первую в мире пилу. Под пеплом города Помпеи археологи обнаружили много таких предметов, изготовленных из бронзы. В нашей стране это было обнаружено при раскопках в Нижнем Новгороде. В Древней Греции умение пользоваться этим предметом считалось верхом совершенства, а уж умение решать задачи с его помощью – признаком высокого положения в обществе и большого ума. Этот предмет незаменим в архитектуре и строительстве. За многие сотни лет конструкция этого предмета не изменилась. В настоящее время им умеет пользоваться любой школьник. Что же это за предмет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ешение С.Р. -  1 вариант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 = 2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2•3,14•5 = 6,28•5 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1,4 (с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фиг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3,14•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36 – 4 = 113,04 – 4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109,04 (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π = 46,5:3,1=15(с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2 = 15:2 = 7,5(с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7,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56,25=176,625(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6,25:3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8,875 (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ешение С.Р. - 2 вариан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 txBox="1"/>
          <p:nvPr/>
        </p:nvSpPr>
        <p:spPr>
          <a:xfrm>
            <a:off x="395280" y="1628640"/>
            <a:ext cx="829152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фиг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в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3,14•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6 – 12,56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3,44 (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π = 40,3:3,1=13 (с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2 = 13:2 = 6,5 (с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6,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3,14•42,25=132,665(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2,665:5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6,533 (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/>
          </p:nvPr>
        </p:nvSpPr>
        <p:spPr>
          <a:xfrm>
            <a:off x="826560" y="4770000"/>
            <a:ext cx="7921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ти периметр и площадь заштрихованной фигуры, если сторона квадрата 4 см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Rectangle 9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7" name="Picture 13" descr=""/>
          <p:cNvPicPr/>
          <p:nvPr/>
        </p:nvPicPr>
        <p:blipFill>
          <a:blip r:embed="rId1"/>
          <a:srcRect l="23423" t="26367" r="31544" b="34247"/>
          <a:stretch/>
        </p:blipFill>
        <p:spPr>
          <a:xfrm>
            <a:off x="2411280" y="1844640"/>
            <a:ext cx="4392720" cy="2881440"/>
          </a:xfrm>
          <a:prstGeom prst="rect">
            <a:avLst/>
          </a:prstGeom>
          <a:ln w="0">
            <a:noFill/>
          </a:ln>
        </p:spPr>
      </p:pic>
      <p:sp>
        <p:nvSpPr>
          <p:cNvPr id="2668" name="Rectangle 6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Интеллектуальная игра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916000" y="1844640"/>
            <a:ext cx="64436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то ничего не замечает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Тот ничего не изучает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то ничего не изучает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Тот вечно хнычет и скуча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2916360" y="1052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Дев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:\Documents and Settings\Admin\Рабочий стол\смайлики\36_1_11.gif"/>
          <p:cNvPicPr/>
          <p:nvPr/>
        </p:nvPicPr>
        <p:blipFill>
          <a:blip r:embed="rId1"/>
          <a:stretch/>
        </p:blipFill>
        <p:spPr>
          <a:xfrm>
            <a:off x="6084720" y="1341360"/>
            <a:ext cx="2500560" cy="22719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H:\Documents and Settings\Admin\Рабочий стол\смайлики\36_13_3.gif"/>
          <p:cNvPicPr/>
          <p:nvPr/>
        </p:nvPicPr>
        <p:blipFill>
          <a:blip r:embed="rId2"/>
          <a:stretch/>
        </p:blipFill>
        <p:spPr>
          <a:xfrm>
            <a:off x="3203640" y="4292640"/>
            <a:ext cx="2928960" cy="2047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H:\Documents and Settings\Admin\Рабочий стол\смайлики\36_19_5.gif"/>
          <p:cNvPicPr/>
          <p:nvPr/>
        </p:nvPicPr>
        <p:blipFill>
          <a:blip r:embed="rId3"/>
          <a:stretch/>
        </p:blipFill>
        <p:spPr>
          <a:xfrm>
            <a:off x="539640" y="1700280"/>
            <a:ext cx="2786040" cy="1957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Оцени свое на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Назови объекты, имеющие форму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380360" y="3284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ис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2"/>
          <p:cNvGrpSpPr/>
          <p:nvPr/>
        </p:nvGrpSpPr>
        <p:grpSpPr>
          <a:xfrm>
            <a:off x="826920" y="1052640"/>
            <a:ext cx="7417080" cy="4895280"/>
            <a:chOff x="826920" y="1052640"/>
            <a:chExt cx="7417080" cy="4895280"/>
          </a:xfrm>
        </p:grpSpPr>
        <p:pic>
          <p:nvPicPr>
            <p:cNvPr id="332" name="Picture 3" descr="images[39]"/>
            <p:cNvPicPr/>
            <p:nvPr/>
          </p:nvPicPr>
          <p:blipFill>
            <a:blip r:embed="rId1"/>
            <a:stretch/>
          </p:blipFill>
          <p:spPr>
            <a:xfrm>
              <a:off x="5076720" y="1052640"/>
              <a:ext cx="2303640" cy="23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" descr="38r4[1]"/>
            <p:cNvPicPr/>
            <p:nvPr/>
          </p:nvPicPr>
          <p:blipFill>
            <a:blip r:embed="rId2"/>
            <a:stretch/>
          </p:blipFill>
          <p:spPr>
            <a:xfrm flipH="1">
              <a:off x="1692360" y="3644640"/>
              <a:ext cx="2303280" cy="23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5" descr="images[5]"/>
            <p:cNvPicPr/>
            <p:nvPr/>
          </p:nvPicPr>
          <p:blipFill>
            <a:blip r:embed="rId3"/>
            <a:stretch/>
          </p:blipFill>
          <p:spPr>
            <a:xfrm>
              <a:off x="1835280" y="1052640"/>
              <a:ext cx="2303280" cy="23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6" descr="38r5[1]"/>
            <p:cNvPicPr/>
            <p:nvPr/>
          </p:nvPicPr>
          <p:blipFill>
            <a:blip r:embed="rId4"/>
            <a:stretch/>
          </p:blipFill>
          <p:spPr>
            <a:xfrm>
              <a:off x="5148360" y="3644640"/>
              <a:ext cx="230508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8"/>
            <p:cNvSpPr/>
            <p:nvPr/>
          </p:nvSpPr>
          <p:spPr>
            <a:xfrm>
              <a:off x="826920" y="263664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Arial"/>
                </a:rPr>
                <a:t>Рис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0"/>
            <p:cNvSpPr/>
            <p:nvPr/>
          </p:nvSpPr>
          <p:spPr>
            <a:xfrm>
              <a:off x="971640" y="53719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Arial"/>
                </a:rPr>
                <a:t>Рис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7236000" y="54450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7d"/>
                  </a:solidFill>
                  <a:latin typeface="Arial"/>
                </a:rPr>
                <a:t>Рис 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7"/>
          <p:cNvSpPr/>
          <p:nvPr/>
        </p:nvSpPr>
        <p:spPr>
          <a:xfrm>
            <a:off x="395280" y="609300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На рис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. найдите кольцо и окруж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img[4]"/>
          <p:cNvPicPr/>
          <p:nvPr/>
        </p:nvPicPr>
        <p:blipFill>
          <a:blip r:embed="rId1"/>
          <a:stretch/>
        </p:blipFill>
        <p:spPr>
          <a:xfrm>
            <a:off x="684360" y="2060640"/>
            <a:ext cx="3457440" cy="3600360"/>
          </a:xfrm>
          <a:prstGeom prst="rect">
            <a:avLst/>
          </a:prstGeom>
          <a:ln w="57240">
            <a:solidFill>
              <a:srgbClr val="00007d"/>
            </a:solidFill>
            <a:miter/>
          </a:ln>
          <a:effectLst>
            <a:outerShdw dist="171040" dir="2520846" blurRad="0" rotWithShape="0">
              <a:srgbClr val="666699">
                <a:alpha val="50000"/>
              </a:srgbClr>
            </a:outerShdw>
          </a:effectLst>
        </p:spPr>
      </p:pic>
      <p:pic>
        <p:nvPicPr>
          <p:cNvPr id="341" name="Picture 5" descr="ton40[1]"/>
          <p:cNvPicPr/>
          <p:nvPr/>
        </p:nvPicPr>
        <p:blipFill>
          <a:blip r:embed="rId2"/>
          <a:stretch/>
        </p:blipFill>
        <p:spPr>
          <a:xfrm>
            <a:off x="4859280" y="2060640"/>
            <a:ext cx="3456000" cy="3608280"/>
          </a:xfrm>
          <a:prstGeom prst="rect">
            <a:avLst/>
          </a:prstGeom>
          <a:ln w="57240">
            <a:solidFill>
              <a:srgbClr val="00007d"/>
            </a:solidFill>
            <a:miter/>
          </a:ln>
          <a:effectLst>
            <a:outerShdw dist="161899" dir="2700000" blurRad="0" rotWithShape="0">
              <a:srgbClr val="666699">
                <a:alpha val="50000"/>
              </a:srgbClr>
            </a:outerShdw>
          </a:effectLst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Назови объекты, имеющие форму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Интеллектуальная викторина.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1 эта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ериферия» (греч.) – «жрустьокно» (ру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площ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ради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пица колеса» по латыни – э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ее расстояние между точка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ности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диа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длины окру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ется число ≈3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й, доказавший, что        величина постоя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4932360" y="5734080"/>
                <a:ext cx="32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Интеллектуальная викторина.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1 этап – провер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483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ериферия» (греч.) – «жрустьокно» (ру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е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е ради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пица колеса» по латыни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е расстояние между точками окружности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е ди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е длины окр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ется число ≈3,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ый, доказавший, что        величина постоя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372000" y="1980720"/>
            <a:ext cx="2314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4356000" y="5445000"/>
                <a:ext cx="195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914400" y="149976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к уроку 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Длина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круг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ца 6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тунова По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2T20:36:36Z</dcterms:modified>
  <cp:revision>92</cp:revision>
  <dc:subject/>
  <dc:title>Слайд 1</dc:title>
</cp:coreProperties>
</file>