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A24-A618-4E7B-92F6-C42D8C169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43E-7FBB-4E7D-A5C2-C53E2B17824D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FA5E-5ABB-4805-9C6B-2918AC4FC025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9F0-53A5-42BA-AAC7-6A1FD87D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FAC-EE9A-45DD-B6EB-E761F3FD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D9F-E76A-4FEB-900E-9419B663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B98-3A01-4D0D-A892-BDECA36A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AEA3-791E-4CF2-A90C-18EF07A1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A8BF-0D2F-4183-B6A5-01EEE381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DA54-5692-49A7-ACCE-1A20060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C97-58B4-4FAF-998B-BEE0B76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C09-0DA4-4704-B659-26E58B92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9E4-65E9-4DE3-9D2A-2D1A7D9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E19-0C36-4322-BE7B-51FE8BA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E05-4E8E-4B76-8280-1A8A1B5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480-9FC4-4380-9596-97C3542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A3C5-D3C1-43E7-9F24-85A9399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CCF8-1A32-4976-8715-E76A710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2D80-128F-42C2-916D-61FF6F0B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CFC8-3FA5-478B-A879-2F1EB433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38B4-5A91-43BB-A386-73B23AF1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AAA6-C3AF-42D8-99EC-6D398949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C650-A84B-41F5-B985-AE593FD2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8DD7-8B78-470D-90AB-91C946D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9111-6DCE-43FB-8CA4-A524144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6C4-16D3-44DF-ABC0-B374945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C804-FCBF-42AC-AA1B-AFBEE883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CBD2-D944-4925-988C-21DA8A8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67A3-801A-4389-8859-7FD9593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34A4-4EDE-4CB0-A05F-45D088A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219F-437B-4526-A0AD-00FB6D9A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736A-8CDD-470C-903B-FCD26097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C175-B974-4A1E-85A0-9DF31CA6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362-7965-438E-B641-8D3BDC9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50F-099F-4F0B-9748-00427C1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3A7-2A85-4132-A8AA-24E4B99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B6C-AA5D-4583-AD09-B908B19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E60-512B-447B-8CF1-49B1AF9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D34-3E14-4B35-91CF-5B329E7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E013-451B-4C95-A0DF-9906ABF3471C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F7D8-0676-45F7-8E9E-8C8A0D9C99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45E-5E21-4CA3-8395-0F84E586EE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5"/>
          <p:cNvSpPr/>
          <p:nvPr/>
        </p:nvSpPr>
        <p:spPr>
          <a:xfrm>
            <a:off x="4191120" y="5029200"/>
            <a:ext cx="43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219320"/>
            <a:ext cx="672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Духовно – нравственное воспитание дошкольников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267080"/>
            <a:ext cx="267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тарший воспитател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ГБДОУ №78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Гасанова О.Б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051360" y="586728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анкт – Петербург 2013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1"/>
          <p:cNvSpPr/>
          <p:nvPr/>
        </p:nvSpPr>
        <p:spPr>
          <a:xfrm>
            <a:off x="2438280" y="457200"/>
            <a:ext cx="36576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Я и мои ценности»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руд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57200" y="1600200"/>
            <a:ext cx="243828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еседы о профессиях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3429000" y="1600200"/>
            <a:ext cx="2438280" cy="1371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кскурсии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ому саду. школу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6477120" y="1600200"/>
            <a:ext cx="220968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южетно-ролевые игры по мотивам професси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609480" y="3124080"/>
            <a:ext cx="2362320" cy="152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голки дежурств: по столовой, по природе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 подготовке 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3429000" y="3352680"/>
            <a:ext cx="2438280" cy="1676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о труде взросл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работа с пословицам и поговоркам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6553080" y="3048120"/>
            <a:ext cx="22100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удовые поруч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взаимопомощ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6553080" y="4343400"/>
            <a:ext cx="2210040" cy="144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учно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ллективны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озяйственно-бытово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3505320" y="5334120"/>
            <a:ext cx="228600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имопомощь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49" name="Прямая со стрелкой 15"/>
          <p:cNvCxnSpPr/>
          <p:nvPr/>
        </p:nvCxnSpPr>
        <p:spPr>
          <a:xfrm flipH="1">
            <a:off x="1599480" y="1142640"/>
            <a:ext cx="686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/>
          <p:nvPr/>
        </p:nvCxnSpPr>
        <p:spPr>
          <a:xfrm flipH="1">
            <a:off x="2894760" y="1523880"/>
            <a:ext cx="381960" cy="152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1" name="Прямая со стрелкой 20"/>
          <p:cNvCxnSpPr>
            <a:stCxn id="240" idx="2"/>
          </p:cNvCxnSpPr>
          <p:nvPr/>
        </p:nvCxnSpPr>
        <p:spPr>
          <a:xfrm>
            <a:off x="4266720" y="12949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2" name="Прямая со стрелкой 22"/>
          <p:cNvCxnSpPr/>
          <p:nvPr/>
        </p:nvCxnSpPr>
        <p:spPr>
          <a:xfrm>
            <a:off x="4495320" y="30477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3" name="Прямая со стрелкой 24"/>
          <p:cNvCxnSpPr/>
          <p:nvPr/>
        </p:nvCxnSpPr>
        <p:spPr>
          <a:xfrm>
            <a:off x="4495320" y="502884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4" name="Прямая со стрелкой 26"/>
          <p:cNvCxnSpPr/>
          <p:nvPr/>
        </p:nvCxnSpPr>
        <p:spPr>
          <a:xfrm>
            <a:off x="6324120" y="990720"/>
            <a:ext cx="11437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Прямая со стрелкой 28"/>
          <p:cNvCxnSpPr>
            <a:stCxn id="243" idx="2"/>
          </p:cNvCxnSpPr>
          <p:nvPr/>
        </p:nvCxnSpPr>
        <p:spPr>
          <a:xfrm>
            <a:off x="7581960" y="2742840"/>
            <a:ext cx="388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Прямая со стрелкой 30"/>
          <p:cNvCxnSpPr>
            <a:stCxn id="246" idx="2"/>
            <a:endCxn id="247" idx="0"/>
          </p:cNvCxnSpPr>
          <p:nvPr/>
        </p:nvCxnSpPr>
        <p:spPr>
          <a:xfrm>
            <a:off x="7657920" y="411444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Скругленный прямоугольник 2"/>
          <p:cNvSpPr/>
          <p:nvPr/>
        </p:nvSpPr>
        <p:spPr>
          <a:xfrm>
            <a:off x="2286000" y="609480"/>
            <a:ext cx="472428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я Родина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533520" y="1828800"/>
            <a:ext cx="2895480" cy="1219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3657600" y="1828800"/>
            <a:ext cx="281952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аздники посвященные русским обычаям и традициям,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асленица», «Новый год»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629400" y="1828800"/>
            <a:ext cx="213372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атриотические праздники с родителями «День Победы», «День защитника Отечест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ен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орода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533520" y="3276720"/>
            <a:ext cx="281916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,Совместная деятельность с воспитателем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3657600" y="3733920"/>
            <a:ext cx="281952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ербурговедени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6705720" y="3733920"/>
            <a:ext cx="20574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ые даты этнокалендар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3429000" y="5029200"/>
            <a:ext cx="175248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ект «Моя Родина Росси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533520" y="4191120"/>
            <a:ext cx="28191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астие в конкурсе «С чего начинается Родина» 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5791320" y="5029200"/>
            <a:ext cx="21333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оздание книг О Родин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67" name="Прямая со стрелкой 14"/>
          <p:cNvCxnSpPr/>
          <p:nvPr/>
        </p:nvCxnSpPr>
        <p:spPr>
          <a:xfrm flipH="1">
            <a:off x="2437560" y="1218960"/>
            <a:ext cx="11437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>
            <a:off x="4723920" y="1218960"/>
            <a:ext cx="108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/>
          <p:nvPr/>
        </p:nvCxnSpPr>
        <p:spPr>
          <a:xfrm>
            <a:off x="6095880" y="1219320"/>
            <a:ext cx="13723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1"/>
          <p:cNvSpPr/>
          <p:nvPr/>
        </p:nvSpPr>
        <p:spPr>
          <a:xfrm>
            <a:off x="2743200" y="457200"/>
            <a:ext cx="35053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я Родина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Природа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609480" y="1143000"/>
            <a:ext cx="2133720" cy="190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астие в конкурсе поделок из природного материа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«Щедрая Осень»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971800" y="1600200"/>
            <a:ext cx="3200400" cy="838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рческие проекты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тицы –братья наши меньши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6629400" y="1219320"/>
            <a:ext cx="2057400" cy="1523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гул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971800" y="4114800"/>
            <a:ext cx="3429000" cy="129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накомство с праздниками «Международный день птиц», «Всемирный день Воды»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048120" y="2666880"/>
            <a:ext cx="3200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 и совместная деятельность воспитателя с детьм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6705720" y="2895480"/>
            <a:ext cx="2057400" cy="221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смотр видеофильмов о природе, рассматривание картин и иллюстраци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2971800" y="5638680"/>
            <a:ext cx="342900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разучивание стихов о природе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609480" y="3200400"/>
            <a:ext cx="213372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блюдения в уголке природы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79" name="Прямая со стрелкой 15"/>
          <p:cNvCxnSpPr/>
          <p:nvPr/>
        </p:nvCxnSpPr>
        <p:spPr>
          <a:xfrm flipH="1">
            <a:off x="1447560" y="685440"/>
            <a:ext cx="13723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Прямая со стрелкой 17"/>
          <p:cNvCxnSpPr>
            <a:stCxn id="270" idx="2"/>
          </p:cNvCxnSpPr>
          <p:nvPr/>
        </p:nvCxnSpPr>
        <p:spPr>
          <a:xfrm>
            <a:off x="4495320" y="137124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1" name="Прямая со стрелкой 19"/>
          <p:cNvCxnSpPr/>
          <p:nvPr/>
        </p:nvCxnSpPr>
        <p:spPr>
          <a:xfrm>
            <a:off x="6171840" y="762120"/>
            <a:ext cx="12200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981080" y="4572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Духовно – нравственный портрет ребенка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04920" y="126828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ый, не причиняющий зла живому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естный и справедл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юбящий и заботл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удолюбивый и настойч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ворящий и оберегающий красоту мира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ремящийся к знаниям и критично мыслящи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лый и решительный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бодолюбивый и ответственн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стоятельный и законопослушн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увствующий свою связь со своим народом, страно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льтуро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режно относящийся к слову, к своим речевым поступкам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триотичный (готовый поступиться своими интересами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олерантный (уважающий других, не похожих на него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C98-865D-4F28-8E23-D42C82638F07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1066680" y="1295280"/>
            <a:ext cx="5181840" cy="175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627120" y="1269720"/>
            <a:ext cx="8192880" cy="3885480"/>
          </a:xfrm>
          <a:prstGeom prst="roundRect">
            <a:avLst>
              <a:gd name="adj" fmla="val 16667"/>
            </a:avLst>
          </a:prstGeom>
          <a:solidFill>
            <a:srgbClr val="bdf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ое воспитание  детей сводится к доброму примеру. Живите хорошо  или хоть старайтесь жить хорошо  вы по мере вашего успеха в хорошей жизни хорошо воспитаете детей.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.Н. Толстой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1143000" y="145080"/>
            <a:ext cx="662940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Духовность </a:t>
            </a: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–свойство души, состоящее в преобладании духовных, нравственных и интеллектуальных интересов над материальными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Нравственность </a:t>
            </a: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– принятие на себя ответственности за свои поступки, то есть действовать согласно своей совести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Духовно-нравственное воспитание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 представляет собой процесс организованного, целенаправленного  воздействия на духовно-нравственную сферу личности ребенка. Его показателями могут быть: сформированость духовно-нравственных ценностей, уровень развития самосознания, богатство духовных запросов. </a:t>
            </a: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Стрелка вниз 10"/>
          <p:cNvSpPr/>
          <p:nvPr/>
        </p:nvSpPr>
        <p:spPr>
          <a:xfrm>
            <a:off x="4038480" y="4572000"/>
            <a:ext cx="6098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2057400" y="5105520"/>
            <a:ext cx="4267080" cy="68580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Педагог-Родител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Ребён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115-5523-411F-942B-6F1F9ED4EB46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416520"/>
            <a:ext cx="8001000" cy="5947560"/>
          </a:xfrm>
          <a:prstGeom prst="rect">
            <a:avLst/>
          </a:prstGeom>
          <a:solidFill>
            <a:srgbClr val="bdf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дачи духовно-нравственного воспитания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формирование национальных базовых ценностей, через духовно-нравственно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спитание  личности ребенка как гражданина России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расширение социального опыта, принятия общепринятых норм и правил жизни через организацию игровой, проектной деятельности, вовлечение родителей в процесс социализации детей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формирование начальных основ сотрудничества  в триаде педагог-ребенок – родитель в процессе игрового взаимодействия в ведущей деятельности каждого возрастного этапа: раннее детство – общение и предметная деятельность, дошкольное детство – общение и игра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380880" y="609480"/>
            <a:ext cx="83059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сновные ценности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любовь к Родине, своему краю, своему народу, служение Отечеству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ая солидарно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свобода личная и национальная; уважение и доверие к людям, институтам государства и гражданского общества; справедливость, равноправие, милосердие, честь, достоинство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любовь и верность, забота, помощь и поддержка, равноправие, здоровье, достаток, уважение к родителям, забота о старших и младших, забота о продолжении рода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бота о своем здоровье, форми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ие привычки к здоровому образу жизн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 и творчест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уважение к труду, творчество и созидание, целеустремлённость и настойчивость, трудолюбие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у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ценность знания, стремление к познанию и истине, научная картина мира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ирод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— родная земля, заповедная природа, планета Земля, экологическое созн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"/>
          <p:cNvSpPr/>
          <p:nvPr/>
        </p:nvSpPr>
        <p:spPr>
          <a:xfrm>
            <a:off x="1828800" y="457200"/>
            <a:ext cx="50292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сточники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уховно-нравственного воспитания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685800" y="2362320"/>
            <a:ext cx="12952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2514600" y="2743200"/>
            <a:ext cx="121932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4267080" y="22860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7086600" y="3886200"/>
            <a:ext cx="144792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685800" y="3505320"/>
            <a:ext cx="13716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4343400" y="34290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ра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6248520" y="27432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лая Роди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2590920" y="4419720"/>
            <a:ext cx="121896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4495680" y="4648320"/>
            <a:ext cx="20574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ногонациональный народ РФ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73" name="Прямая со стрелкой 14"/>
          <p:cNvCxnSpPr/>
          <p:nvPr/>
        </p:nvCxnSpPr>
        <p:spPr>
          <a:xfrm flipH="1">
            <a:off x="2057040" y="1905120"/>
            <a:ext cx="534240" cy="38160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16"/>
          <p:cNvCxnSpPr>
            <a:endCxn id="165" idx="0"/>
          </p:cNvCxnSpPr>
          <p:nvPr/>
        </p:nvCxnSpPr>
        <p:spPr>
          <a:xfrm>
            <a:off x="3123720" y="1980720"/>
            <a:ext cx="10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Прямая со стрелкой 19"/>
          <p:cNvCxnSpPr/>
          <p:nvPr/>
        </p:nvCxnSpPr>
        <p:spPr>
          <a:xfrm flipH="1">
            <a:off x="1980360" y="1904760"/>
            <a:ext cx="686520" cy="144828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1"/>
          <p:cNvCxnSpPr/>
          <p:nvPr/>
        </p:nvCxnSpPr>
        <p:spPr>
          <a:xfrm>
            <a:off x="4723920" y="1905120"/>
            <a:ext cx="108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23"/>
          <p:cNvCxnSpPr/>
          <p:nvPr/>
        </p:nvCxnSpPr>
        <p:spPr>
          <a:xfrm>
            <a:off x="6248520" y="1905120"/>
            <a:ext cx="9151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25"/>
          <p:cNvCxnSpPr/>
          <p:nvPr/>
        </p:nvCxnSpPr>
        <p:spPr>
          <a:xfrm>
            <a:off x="6095880" y="1981080"/>
            <a:ext cx="76680" cy="24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30"/>
          <p:cNvCxnSpPr/>
          <p:nvPr/>
        </p:nvCxnSpPr>
        <p:spPr>
          <a:xfrm flipH="1">
            <a:off x="3733200" y="1904760"/>
            <a:ext cx="76680" cy="24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32"/>
          <p:cNvCxnSpPr/>
          <p:nvPr/>
        </p:nvCxnSpPr>
        <p:spPr>
          <a:xfrm>
            <a:off x="3962520" y="1980720"/>
            <a:ext cx="457920" cy="25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Прямая со стрелкой 34"/>
          <p:cNvCxnSpPr/>
          <p:nvPr/>
        </p:nvCxnSpPr>
        <p:spPr>
          <a:xfrm>
            <a:off x="472392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36"/>
          <p:cNvCxnSpPr/>
          <p:nvPr/>
        </p:nvCxnSpPr>
        <p:spPr>
          <a:xfrm>
            <a:off x="6552720" y="1905120"/>
            <a:ext cx="205776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057400" y="533520"/>
            <a:ext cx="4952880" cy="838080"/>
          </a:xfrm>
          <a:prstGeom prst="rect">
            <a:avLst/>
          </a:prstGeom>
          <a:solidFill>
            <a:srgbClr val="bdfc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Направления духовно-нравственного воспитания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09480" y="1752480"/>
            <a:ext cx="28195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е здоровье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657600" y="1752480"/>
            <a:ext cx="25909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и ценности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6400800" y="17524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я родина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609480" y="2514600"/>
            <a:ext cx="2895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ценностного отношения к своему здоровью через формирование представлений о  ЗОЖ, воспитание КГН, развитие физических качеств и умений, формирование основ безопасности собственной жизни, обеспечение благоприятного психологического климат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3657600" y="251460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любви и уважение к семье ,как основной ценности; приобщение детей к элементарным общепринятым нормам  и правилам взаимоотношения со сверстниками и взрослыми; приобщение к общечеловеческим ценностям; воспитание ценностного отношения к труду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6553080" y="2514600"/>
            <a:ext cx="2590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патриотических чувств, осознанное принятие ребенком традиций и культуры родного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од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района, страны, наполнение конкретным содержанием понятий: «малая родина», «родная земля», «Отечество», «родной язык», «моя семья»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90" name="Прямая со стрелкой 13"/>
          <p:cNvCxnSpPr/>
          <p:nvPr/>
        </p:nvCxnSpPr>
        <p:spPr>
          <a:xfrm flipH="1">
            <a:off x="761760" y="1066680"/>
            <a:ext cx="1219680" cy="534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Прямая со стрелкой 15"/>
          <p:cNvCxnSpPr/>
          <p:nvPr/>
        </p:nvCxnSpPr>
        <p:spPr>
          <a:xfrm>
            <a:off x="4800240" y="14475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Прямая со стрелкой 17"/>
          <p:cNvCxnSpPr/>
          <p:nvPr/>
        </p:nvCxnSpPr>
        <p:spPr>
          <a:xfrm>
            <a:off x="7162560" y="1066680"/>
            <a:ext cx="9910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уховно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– нравственное воспитание реализуется через: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тельную деятельность, направленную в первую очередь на то, чтобы ребенок ощущал живую связь познаваемого с действительностью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етическую деятельность, направленную на закрепление положительных образов и чувств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ую деятельность, направленную на воспитание положительного отношения к труду, воспитания у детей чувства товарищества, желание оказать помощь други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кругленный прямоугольник 1"/>
          <p:cNvSpPr/>
          <p:nvPr/>
        </p:nvSpPr>
        <p:spPr>
          <a:xfrm>
            <a:off x="3809880" y="533520"/>
            <a:ext cx="2819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е здоровье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533520" y="457200"/>
            <a:ext cx="2361960" cy="167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тренняя гимнастик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изкультминут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3200400" y="1600200"/>
            <a:ext cx="24382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гулки на свежем воздух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6248520" y="1523880"/>
            <a:ext cx="213336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каливающие процедур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609480" y="2438280"/>
            <a:ext cx="236232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по физической культур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3276720" y="2514600"/>
            <a:ext cx="23619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дение подвижных игр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1" name="Прямоугольник 8"/>
          <p:cNvSpPr/>
          <p:nvPr/>
        </p:nvSpPr>
        <p:spPr>
          <a:xfrm>
            <a:off x="6248520" y="2514600"/>
            <a:ext cx="22860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одрящая  гимнастика после с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3352680" y="3581280"/>
            <a:ext cx="228600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дение спортивных досугов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533520" y="3505320"/>
            <a:ext cx="2514600" cy="19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ие здоровьесберегающих технологий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седы о здоровом образе жизн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4" name="Прямоугольник 11"/>
          <p:cNvSpPr/>
          <p:nvPr/>
        </p:nvSpPr>
        <p:spPr>
          <a:xfrm>
            <a:off x="6248520" y="3657600"/>
            <a:ext cx="236196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изкультурный уго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5" name="Прямоугольник 12"/>
          <p:cNvSpPr/>
          <p:nvPr/>
        </p:nvSpPr>
        <p:spPr>
          <a:xfrm>
            <a:off x="6248520" y="4724280"/>
            <a:ext cx="24382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6" name="Прямоугольник 13"/>
          <p:cNvSpPr/>
          <p:nvPr/>
        </p:nvSpPr>
        <p:spPr>
          <a:xfrm>
            <a:off x="6324480" y="5486400"/>
            <a:ext cx="23623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формационный уголок здоров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7" name="Прямоугольник 14"/>
          <p:cNvSpPr/>
          <p:nvPr/>
        </p:nvSpPr>
        <p:spPr>
          <a:xfrm>
            <a:off x="3200400" y="5334120"/>
            <a:ext cx="25909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ониторинг самочувстви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Наше настроени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8" name="Прямоугольник 15"/>
          <p:cNvSpPr/>
          <p:nvPr/>
        </p:nvSpPr>
        <p:spPr>
          <a:xfrm>
            <a:off x="3352680" y="4572000"/>
            <a:ext cx="236232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деля или день здоров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09" name="Прямая со стрелкой 22"/>
          <p:cNvCxnSpPr/>
          <p:nvPr/>
        </p:nvCxnSpPr>
        <p:spPr>
          <a:xfrm>
            <a:off x="6095520" y="1142640"/>
            <a:ext cx="1296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Прямая со стрелкой 42"/>
          <p:cNvCxnSpPr/>
          <p:nvPr/>
        </p:nvCxnSpPr>
        <p:spPr>
          <a:xfrm flipH="1">
            <a:off x="3047760" y="990720"/>
            <a:ext cx="121968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Прямая со стрелкой 44"/>
          <p:cNvCxnSpPr/>
          <p:nvPr/>
        </p:nvCxnSpPr>
        <p:spPr>
          <a:xfrm>
            <a:off x="5105160" y="137124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13" name="Прямая со стрелкой 52"/>
          <p:cNvCxnSpPr/>
          <p:nvPr/>
        </p:nvCxnSpPr>
        <p:spPr>
          <a:xfrm flipH="1">
            <a:off x="2666160" y="2057040"/>
            <a:ext cx="3819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Прямая со стрелкой 54"/>
          <p:cNvCxnSpPr/>
          <p:nvPr/>
        </p:nvCxnSpPr>
        <p:spPr>
          <a:xfrm flipH="1">
            <a:off x="2971080" y="312372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6"/>
          <p:cNvCxnSpPr/>
          <p:nvPr/>
        </p:nvCxnSpPr>
        <p:spPr>
          <a:xfrm>
            <a:off x="5791320" y="2057400"/>
            <a:ext cx="4579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61"/>
          <p:cNvCxnSpPr/>
          <p:nvPr/>
        </p:nvCxnSpPr>
        <p:spPr>
          <a:xfrm>
            <a:off x="5791320" y="2895480"/>
            <a:ext cx="38160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Прямая со стрелкой 63"/>
          <p:cNvCxnSpPr/>
          <p:nvPr/>
        </p:nvCxnSpPr>
        <p:spPr>
          <a:xfrm>
            <a:off x="5866920" y="3885840"/>
            <a:ext cx="381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Прямая со стрелкой 65"/>
          <p:cNvCxnSpPr/>
          <p:nvPr/>
        </p:nvCxnSpPr>
        <p:spPr>
          <a:xfrm>
            <a:off x="5866920" y="4648320"/>
            <a:ext cx="305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Прямая со стрелкой 67"/>
          <p:cNvCxnSpPr/>
          <p:nvPr/>
        </p:nvCxnSpPr>
        <p:spPr>
          <a:xfrm>
            <a:off x="5866920" y="5409720"/>
            <a:ext cx="3056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0" name="Прямая со стрелкой 69"/>
          <p:cNvCxnSpPr/>
          <p:nvPr/>
        </p:nvCxnSpPr>
        <p:spPr>
          <a:xfrm flipH="1">
            <a:off x="4647600" y="2285640"/>
            <a:ext cx="2293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1" name="Прямая со стрелкой 73"/>
          <p:cNvCxnSpPr>
            <a:endCxn id="202" idx="0"/>
          </p:cNvCxnSpPr>
          <p:nvPr/>
        </p:nvCxnSpPr>
        <p:spPr>
          <a:xfrm flipH="1">
            <a:off x="4495320" y="3428640"/>
            <a:ext cx="1533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2" name="Прямая со стрелкой 76"/>
          <p:cNvCxnSpPr/>
          <p:nvPr/>
        </p:nvCxnSpPr>
        <p:spPr>
          <a:xfrm flipH="1">
            <a:off x="4495320" y="4343040"/>
            <a:ext cx="153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3" name="Прямая со стрелкой 78"/>
          <p:cNvCxnSpPr/>
          <p:nvPr/>
        </p:nvCxnSpPr>
        <p:spPr>
          <a:xfrm flipH="1">
            <a:off x="4419360" y="5105160"/>
            <a:ext cx="3052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2"/>
          <p:cNvSpPr/>
          <p:nvPr/>
        </p:nvSpPr>
        <p:spPr>
          <a:xfrm>
            <a:off x="2666880" y="457200"/>
            <a:ext cx="3200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«Я и мои ценности»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Семья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304920" y="1371600"/>
            <a:ext cx="20574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знавательные беседы о семь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3048120" y="1676520"/>
            <a:ext cx="25905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аздники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5867280" y="1371600"/>
            <a:ext cx="2667240" cy="144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ворческие проекты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о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80880" y="2514600"/>
            <a:ext cx="205740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еседы о профессиях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3124080" y="2895480"/>
            <a:ext cx="2362320" cy="3124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формление выставок с участием родителей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одительские собрания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6019920" y="3276720"/>
            <a:ext cx="243828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ьбом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ша дружна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четворче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6095880" y="4572000"/>
            <a:ext cx="24386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формационный стенд для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32" name="Прямая со стрелкой 14"/>
          <p:cNvCxnSpPr/>
          <p:nvPr/>
        </p:nvCxnSpPr>
        <p:spPr>
          <a:xfrm flipH="1">
            <a:off x="1447560" y="762120"/>
            <a:ext cx="9151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16"/>
          <p:cNvCxnSpPr/>
          <p:nvPr/>
        </p:nvCxnSpPr>
        <p:spPr>
          <a:xfrm flipH="1">
            <a:off x="2361960" y="1218960"/>
            <a:ext cx="457920" cy="106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18"/>
          <p:cNvCxnSpPr/>
          <p:nvPr/>
        </p:nvCxnSpPr>
        <p:spPr>
          <a:xfrm>
            <a:off x="4190760" y="12193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5" name="Прямая со стрелкой 20"/>
          <p:cNvCxnSpPr/>
          <p:nvPr/>
        </p:nvCxnSpPr>
        <p:spPr>
          <a:xfrm>
            <a:off x="5943240" y="837720"/>
            <a:ext cx="160092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37" name="Прямая со стрелкой 23"/>
          <p:cNvCxnSpPr>
            <a:stCxn id="226" idx="2"/>
          </p:cNvCxnSpPr>
          <p:nvPr/>
        </p:nvCxnSpPr>
        <p:spPr>
          <a:xfrm>
            <a:off x="4343040" y="25905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8" name="Прямая со стрелкой 25"/>
          <p:cNvCxnSpPr/>
          <p:nvPr/>
        </p:nvCxnSpPr>
        <p:spPr>
          <a:xfrm>
            <a:off x="723852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9" name="Прямая со стрелкой 27"/>
          <p:cNvCxnSpPr>
            <a:stCxn id="230" idx="2"/>
          </p:cNvCxnSpPr>
          <p:nvPr/>
        </p:nvCxnSpPr>
        <p:spPr>
          <a:xfrm>
            <a:off x="7238520" y="42667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3-04-09T09:08:15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