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BEA7-736C-4319-9333-02B98A147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DFE-9254-4C9C-93D2-989A205D698E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382-D427-422E-80E1-075FFEF84766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08E-92C8-47AE-B160-CEF68BF2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C6F-446C-403C-A31E-3C2A8069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905-57C7-4ABE-9B9C-E4FFDA08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85E-3AD6-4C3F-92B7-A33F3D3A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769E-41DD-4030-99C3-78E6A0C8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3A03-BFA3-4E45-8278-D1BC0BE7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6794-79D1-4DD9-9157-2A1C2C3C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9DC3-4F5C-4CB2-8310-23693F1F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258-125B-417E-B56F-168B0AD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7028-F662-4920-AE19-602FE269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7806-EC12-447D-BFA6-45702B04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813-AD71-43AE-887B-620ADACF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683B-2538-4F3A-B8D9-54E0176E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F460-5C3C-4F31-ADE0-D48256E9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E842-6360-4484-8CFA-89E8FDE5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FDAD-AA9F-407E-8B50-D13C5505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CB23-D2C0-4BA9-A334-2C7EC12A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D0B2-113F-409A-BE45-D48EA51F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697A-89EC-4E37-B3C4-BC84B303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8F9F-B32A-4890-A901-0FA91DBC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B1A1-A980-4298-AAA1-4FD777B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AC88-6909-47D6-9B50-6521E11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FC9-89D4-4D29-8C2A-61E2C474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E8E2-58B9-4F14-80B8-E2F114A9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B05C-2DC1-4230-A7C9-FC40084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DF1C-EF83-4F83-831F-20DAE8B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644C-1D27-4D41-A00E-9ED8ACEA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DB95-3331-444A-81F1-E6D7D89C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0E5F-447C-42DC-BCE1-9B0DB294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F019-E526-4BB1-A861-F15D7DAA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9DA-1089-4764-8B4B-706870F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8E1-2E08-49C1-990E-90836E9C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C35-AFDA-46B5-B6AC-B090AA76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39E-90E3-4B07-B6E3-0FC949C1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0CC-D887-4026-B901-E231B43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7E2-7AE6-4FF0-BD40-5FC59D1A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54A7-A3AC-4BED-84EA-E65E2828A064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379-5472-4026-B0C1-86D484FC26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3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4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0000"/>
                </a:solidFill>
                <a:latin typeface="Comic Sans MS"/>
              </a:endParaRPr>
            </a:p>
          </p:txBody>
        </p:sp>
        <p:grpSp>
          <p:nvGrpSpPr>
            <p:cNvPr id="97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8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F6CA-3498-4D7E-95F4-427C01587A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fc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5"/>
          <p:cNvSpPr/>
          <p:nvPr/>
        </p:nvSpPr>
        <p:spPr>
          <a:xfrm>
            <a:off x="4191120" y="5029200"/>
            <a:ext cx="43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219320"/>
            <a:ext cx="672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Духовно – нравственное воспитание дошкольников</a:t>
            </a:r>
            <a:endParaRPr b="0" lang="en-US" sz="4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267080"/>
            <a:ext cx="267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тарший воспитатель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ГБДОУ №78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Гасанова О.Б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051360" y="586728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Санкт – Петербург 2013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1"/>
          <p:cNvSpPr/>
          <p:nvPr/>
        </p:nvSpPr>
        <p:spPr>
          <a:xfrm>
            <a:off x="2438280" y="457200"/>
            <a:ext cx="365760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Я и мои ценности»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руд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457200" y="1600200"/>
            <a:ext cx="243828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еседы о профессиях родител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3429000" y="1600200"/>
            <a:ext cx="2438280" cy="1371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кскурсии п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скому саду. школу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6477120" y="1600200"/>
            <a:ext cx="220968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южетно-ролевые игры по мотивам професси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4" name="Прямоугольник 5"/>
          <p:cNvSpPr/>
          <p:nvPr/>
        </p:nvSpPr>
        <p:spPr>
          <a:xfrm>
            <a:off x="609480" y="3124080"/>
            <a:ext cx="2362320" cy="152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голки дежурств: по столовой, по природе,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 подготовке 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3429000" y="3352680"/>
            <a:ext cx="2438280" cy="1676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о труде взрослы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работа с пословицам и поговоркам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6553080" y="3048120"/>
            <a:ext cx="221004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рудовые поруч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взаимопомощь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6553080" y="4343400"/>
            <a:ext cx="2210040" cy="1447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учной 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ллективный 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озяйственно-бытовой 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48" name="Прямоугольник 9"/>
          <p:cNvSpPr/>
          <p:nvPr/>
        </p:nvSpPr>
        <p:spPr>
          <a:xfrm>
            <a:off x="3505320" y="5334120"/>
            <a:ext cx="2286000" cy="761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имопомощь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49" name="Прямая со стрелкой 15"/>
          <p:cNvCxnSpPr/>
          <p:nvPr/>
        </p:nvCxnSpPr>
        <p:spPr>
          <a:xfrm flipH="1">
            <a:off x="1599480" y="1142640"/>
            <a:ext cx="686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/>
          <p:nvPr/>
        </p:nvCxnSpPr>
        <p:spPr>
          <a:xfrm flipH="1">
            <a:off x="2894760" y="1523880"/>
            <a:ext cx="381960" cy="152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1" name="Прямая со стрелкой 20"/>
          <p:cNvCxnSpPr>
            <a:stCxn id="240" idx="2"/>
          </p:cNvCxnSpPr>
          <p:nvPr/>
        </p:nvCxnSpPr>
        <p:spPr>
          <a:xfrm>
            <a:off x="4266720" y="129492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2" name="Прямая со стрелкой 22"/>
          <p:cNvCxnSpPr/>
          <p:nvPr/>
        </p:nvCxnSpPr>
        <p:spPr>
          <a:xfrm>
            <a:off x="4495320" y="30477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3" name="Прямая со стрелкой 24"/>
          <p:cNvCxnSpPr/>
          <p:nvPr/>
        </p:nvCxnSpPr>
        <p:spPr>
          <a:xfrm>
            <a:off x="4495320" y="502884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4" name="Прямая со стрелкой 26"/>
          <p:cNvCxnSpPr/>
          <p:nvPr/>
        </p:nvCxnSpPr>
        <p:spPr>
          <a:xfrm>
            <a:off x="6324120" y="990720"/>
            <a:ext cx="11437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Прямая со стрелкой 28"/>
          <p:cNvCxnSpPr>
            <a:stCxn id="243" idx="2"/>
          </p:cNvCxnSpPr>
          <p:nvPr/>
        </p:nvCxnSpPr>
        <p:spPr>
          <a:xfrm>
            <a:off x="7581960" y="2742840"/>
            <a:ext cx="388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Прямая со стрелкой 30"/>
          <p:cNvCxnSpPr>
            <a:stCxn id="246" idx="2"/>
            <a:endCxn id="247" idx="0"/>
          </p:cNvCxnSpPr>
          <p:nvPr/>
        </p:nvCxnSpPr>
        <p:spPr>
          <a:xfrm>
            <a:off x="7657920" y="411444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Скругленный прямоугольник 2"/>
          <p:cNvSpPr/>
          <p:nvPr/>
        </p:nvSpPr>
        <p:spPr>
          <a:xfrm>
            <a:off x="2286000" y="609480"/>
            <a:ext cx="4724280" cy="83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Я и моя Родина»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533520" y="1828800"/>
            <a:ext cx="2895480" cy="1219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ение художественной литературы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3657600" y="1828800"/>
            <a:ext cx="2819520" cy="1752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аздники посвященные русским обычаям и традициям,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Масленица», «Новый год»и др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6629400" y="1828800"/>
            <a:ext cx="2133720" cy="1752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атриотические праздники с родителями «День Победы», «День защитника Отечест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ен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орода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533520" y="3276720"/>
            <a:ext cx="2819160" cy="761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Д ,Совместная деятельность с воспитателем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3657600" y="3733920"/>
            <a:ext cx="281952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тербурговедени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6705720" y="3733920"/>
            <a:ext cx="20574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ые даты этнокалендар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3429000" y="5029200"/>
            <a:ext cx="175248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ект «Моя Родина Росси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5" name="Прямоугольник 11"/>
          <p:cNvSpPr/>
          <p:nvPr/>
        </p:nvSpPr>
        <p:spPr>
          <a:xfrm>
            <a:off x="533520" y="4191120"/>
            <a:ext cx="28191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частие в конкурсе «С чего начинается Родина» и др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5791320" y="5029200"/>
            <a:ext cx="21333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оздание книг О Родин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67" name="Прямая со стрелкой 14"/>
          <p:cNvCxnSpPr/>
          <p:nvPr/>
        </p:nvCxnSpPr>
        <p:spPr>
          <a:xfrm flipH="1">
            <a:off x="2437560" y="1218960"/>
            <a:ext cx="11437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>
            <a:off x="4723920" y="1218960"/>
            <a:ext cx="108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9" name="Прямая со стрелкой 18"/>
          <p:cNvCxnSpPr/>
          <p:nvPr/>
        </p:nvCxnSpPr>
        <p:spPr>
          <a:xfrm>
            <a:off x="6095880" y="1219320"/>
            <a:ext cx="13723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1"/>
          <p:cNvSpPr/>
          <p:nvPr/>
        </p:nvSpPr>
        <p:spPr>
          <a:xfrm>
            <a:off x="2743200" y="457200"/>
            <a:ext cx="35053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Я и моя Родина»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Природа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609480" y="1143000"/>
            <a:ext cx="2133720" cy="1905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частие в конкурсе поделок из природного материа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«Щедрая Осень»и др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971800" y="1600200"/>
            <a:ext cx="3200400" cy="838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рческие проекты 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тицы –братья наши меньши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6629400" y="1219320"/>
            <a:ext cx="2057400" cy="1523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гулк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2971800" y="4114800"/>
            <a:ext cx="3429000" cy="129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накомство с праздниками «Международный день птиц», «Всемирный день Воды»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3048120" y="2666880"/>
            <a:ext cx="3200400" cy="1143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Д  и совместная деятельность воспитателя с детьми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6705720" y="2895480"/>
            <a:ext cx="2057400" cy="221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смотр видеофильмов о природе, рассматривание картин и иллюстраци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2971800" y="5638680"/>
            <a:ext cx="3429000" cy="762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ение разучивание стихов о природе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609480" y="3200400"/>
            <a:ext cx="213372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блюдения в уголке природы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79" name="Прямая со стрелкой 15"/>
          <p:cNvCxnSpPr/>
          <p:nvPr/>
        </p:nvCxnSpPr>
        <p:spPr>
          <a:xfrm flipH="1">
            <a:off x="1447560" y="685440"/>
            <a:ext cx="13723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0" name="Прямая со стрелкой 17"/>
          <p:cNvCxnSpPr>
            <a:stCxn id="270" idx="2"/>
          </p:cNvCxnSpPr>
          <p:nvPr/>
        </p:nvCxnSpPr>
        <p:spPr>
          <a:xfrm>
            <a:off x="4495320" y="1371240"/>
            <a:ext cx="108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1" name="Прямая со стрелкой 19"/>
          <p:cNvCxnSpPr/>
          <p:nvPr/>
        </p:nvCxnSpPr>
        <p:spPr>
          <a:xfrm>
            <a:off x="6171840" y="762120"/>
            <a:ext cx="12200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1981080" y="45720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Духовно – нравственный портрет ребенка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04920" y="1268280"/>
            <a:ext cx="853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брый, не причиняющий зла живому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естный и справедлив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юбящий и заботлив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удолюбивый и настойчив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ворящий и оберегающий красоту мира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ремящийся к знаниям и критично мыслящи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мелый и решительный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ободолюбивый и ответственн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стоятельный и законопослушны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увствующий свою связь со своим народом, страно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ультурой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режно относящийся к слову, к своим речевым поступкам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триотичный (готовый поступиться своими интересами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олерантный (уважающий других, не похожих на него)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9E8D-0B32-4A87-921F-3A7F8AC3A22F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5" name="Скругленный прямоугольник 4"/>
          <p:cNvSpPr/>
          <p:nvPr/>
        </p:nvSpPr>
        <p:spPr>
          <a:xfrm>
            <a:off x="1066680" y="1295280"/>
            <a:ext cx="5181840" cy="175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86" name="Скругленный прямоугольник 5"/>
          <p:cNvSpPr/>
          <p:nvPr/>
        </p:nvSpPr>
        <p:spPr>
          <a:xfrm>
            <a:off x="627120" y="1269720"/>
            <a:ext cx="8192880" cy="3885480"/>
          </a:xfrm>
          <a:prstGeom prst="roundRect">
            <a:avLst>
              <a:gd name="adj" fmla="val 16667"/>
            </a:avLst>
          </a:prstGeom>
          <a:solidFill>
            <a:srgbClr val="bdf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ё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ое воспитание  детей сводится к доброму примеру. Живите хорошо  или хоть старайтесь жить хорошо  вы по мере вашего успеха в хорошей жизни хорошо воспитаете детей.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.Н. Толстой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1143000" y="145080"/>
            <a:ext cx="6629400" cy="47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Духовность </a:t>
            </a: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–свойство души, состоящее в преобладании духовных, нравственных и интеллектуальных интересов над материальными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Нравственность </a:t>
            </a:r>
            <a:r>
              <a:rPr b="1" i="1" lang="ru-RU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– принятие на себя ответственности за свои поступки, то есть действовать согласно своей совести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Духовно-нравственное воспитание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3366"/>
                </a:solidFill>
                <a:latin typeface="Comic Sans MS"/>
              </a:rPr>
              <a:t> представляет собой процесс организованного, целенаправленного  воздействия на духовно-нравственную сферу личности ребенка. Его показателями могут быть: сформированость духовно-нравственных ценностей, уровень развития самосознания, богатство духовных запросов. </a:t>
            </a:r>
            <a:br>
              <a:rPr sz="1800"/>
            </a:b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8" name="Стрелка вниз 10"/>
          <p:cNvSpPr/>
          <p:nvPr/>
        </p:nvSpPr>
        <p:spPr>
          <a:xfrm>
            <a:off x="4038480" y="4572000"/>
            <a:ext cx="6098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9" name="Прямоугольник 11"/>
          <p:cNvSpPr/>
          <p:nvPr/>
        </p:nvSpPr>
        <p:spPr>
          <a:xfrm>
            <a:off x="2057400" y="5105520"/>
            <a:ext cx="4267080" cy="68580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Педагог-Родител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Ребён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D9B-4742-4C44-91A6-1F9B5CE18CAA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3520" y="416520"/>
            <a:ext cx="8001000" cy="5947560"/>
          </a:xfrm>
          <a:prstGeom prst="rect">
            <a:avLst/>
          </a:prstGeom>
          <a:solidFill>
            <a:srgbClr val="bdf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адачи духовно-нравственного воспитания</a:t>
            </a:r>
            <a:endParaRPr b="0" lang="en-US" sz="32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формирование национальных базовых ценностей, через духовно-нравственно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спитание  личности ребенка как гражданина России;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расширение социального опыта, принятия общепринятых норм и правил жизни через организацию игровой, проектной деятельности, вовлечение родителей в процесс социализации детей;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формирование начальных основ сотрудничества  в триаде педагог-ребенок – родитель в процессе игрового взаимодействия в ведущей деятельности каждого возрастного этапа: раннее детство – общение и предметная деятельность, дошкольное детство – общение и игра;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становление творческого начала, развитие воображения ребенка посредством вовлечения его в активный процесс познания.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380880" y="609480"/>
            <a:ext cx="830592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сновные ценности: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триотиз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любовь к Родине, своему краю, своему народу, служение Отечеству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ая солидарност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свобода личная и национальная; уважение и доверие к людям, институтам государства и гражданского общества; справедливость, равноправие, милосердие, честь, достоинство,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ь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любовь и верность, забота, помощь и поддержка, равноправие, здоровье, достаток, уважение к родителям, забота о старших и младших, забота о продолжении рода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ь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бота о своем здоровье, форми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ие привычки к здоровому образу жизни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 и творчеств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уважение к труду, творчество и созидание, целеустремлённость и настойчивость, трудолюбие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у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ценность знания, стремление к познанию и истине, научная картина мира;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ирод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— родная земля, заповедная природа, планета Земля, экологическое созна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"/>
          <p:cNvSpPr/>
          <p:nvPr/>
        </p:nvSpPr>
        <p:spPr>
          <a:xfrm>
            <a:off x="1828800" y="457200"/>
            <a:ext cx="5029200" cy="1371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Источники 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духовно-нравственного воспитания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685800" y="2362320"/>
            <a:ext cx="12952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2514600" y="2743200"/>
            <a:ext cx="121932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4267080" y="2286000"/>
            <a:ext cx="16002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7086600" y="3886200"/>
            <a:ext cx="144792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скусство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685800" y="3505320"/>
            <a:ext cx="13716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щество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4343400" y="3429000"/>
            <a:ext cx="16002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ран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0" name="Прямоугольник 8"/>
          <p:cNvSpPr/>
          <p:nvPr/>
        </p:nvSpPr>
        <p:spPr>
          <a:xfrm>
            <a:off x="6248520" y="2743200"/>
            <a:ext cx="16002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лая Родин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2590920" y="4419720"/>
            <a:ext cx="121896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2" name="Прямоугольник 10"/>
          <p:cNvSpPr/>
          <p:nvPr/>
        </p:nvSpPr>
        <p:spPr>
          <a:xfrm>
            <a:off x="4495680" y="4648320"/>
            <a:ext cx="20574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ногонациональный народ РФ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173" name="Прямая со стрелкой 14"/>
          <p:cNvCxnSpPr/>
          <p:nvPr/>
        </p:nvCxnSpPr>
        <p:spPr>
          <a:xfrm flipH="1">
            <a:off x="2057040" y="1905120"/>
            <a:ext cx="534240" cy="38160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Прямая со стрелкой 16"/>
          <p:cNvCxnSpPr>
            <a:endCxn id="165" idx="0"/>
          </p:cNvCxnSpPr>
          <p:nvPr/>
        </p:nvCxnSpPr>
        <p:spPr>
          <a:xfrm>
            <a:off x="3123720" y="1980720"/>
            <a:ext cx="108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Прямая со стрелкой 19"/>
          <p:cNvCxnSpPr/>
          <p:nvPr/>
        </p:nvCxnSpPr>
        <p:spPr>
          <a:xfrm flipH="1">
            <a:off x="1980360" y="1904760"/>
            <a:ext cx="686520" cy="144828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21"/>
          <p:cNvCxnSpPr/>
          <p:nvPr/>
        </p:nvCxnSpPr>
        <p:spPr>
          <a:xfrm>
            <a:off x="4723920" y="1905120"/>
            <a:ext cx="108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23"/>
          <p:cNvCxnSpPr/>
          <p:nvPr/>
        </p:nvCxnSpPr>
        <p:spPr>
          <a:xfrm>
            <a:off x="6248520" y="1905120"/>
            <a:ext cx="91512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25"/>
          <p:cNvCxnSpPr/>
          <p:nvPr/>
        </p:nvCxnSpPr>
        <p:spPr>
          <a:xfrm>
            <a:off x="6095880" y="1981080"/>
            <a:ext cx="76680" cy="24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30"/>
          <p:cNvCxnSpPr/>
          <p:nvPr/>
        </p:nvCxnSpPr>
        <p:spPr>
          <a:xfrm flipH="1">
            <a:off x="3733200" y="1904760"/>
            <a:ext cx="76680" cy="2439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Прямая со стрелкой 32"/>
          <p:cNvCxnSpPr/>
          <p:nvPr/>
        </p:nvCxnSpPr>
        <p:spPr>
          <a:xfrm>
            <a:off x="3962520" y="1980720"/>
            <a:ext cx="457920" cy="25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Прямая со стрелкой 34"/>
          <p:cNvCxnSpPr/>
          <p:nvPr/>
        </p:nvCxnSpPr>
        <p:spPr>
          <a:xfrm>
            <a:off x="4723920" y="289512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2" name="Прямая со стрелкой 36"/>
          <p:cNvCxnSpPr/>
          <p:nvPr/>
        </p:nvCxnSpPr>
        <p:spPr>
          <a:xfrm>
            <a:off x="6552720" y="1905120"/>
            <a:ext cx="205776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057400" y="533520"/>
            <a:ext cx="4952880" cy="838080"/>
          </a:xfrm>
          <a:prstGeom prst="rect">
            <a:avLst/>
          </a:prstGeom>
          <a:solidFill>
            <a:srgbClr val="bdfc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Направления духовно-нравственного воспитания </a:t>
            </a:r>
            <a:endParaRPr b="0" lang="en-US" sz="2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609480" y="1752480"/>
            <a:ext cx="281952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«Я и мое здоровье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3657600" y="1752480"/>
            <a:ext cx="259092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«Я и мои ценности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6400800" y="17524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«Я и моя родина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609480" y="2514600"/>
            <a:ext cx="2895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спитание ценностного отношения к своему здоровью через формирование представлений о  ЗОЖ, воспитание КГН, развитие физических качеств и умений, формирование основ безопасности собственной жизни, обеспечение благоприятного психологического климат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3657600" y="2514600"/>
            <a:ext cx="2743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спитание любви и уважение к семье ,как основной ценности; приобщение детей к элементарным общепринятым нормам  и правилам взаимоотношения со сверстниками и взрослыми; приобщение к общечеловеческим ценностям; воспитание ценностного отношения к труду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6553080" y="2514600"/>
            <a:ext cx="2590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спитание патриотических чувств, осознанное принятие ребенком традиций и культуры родного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род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района, страны, наполнение конкретным содержанием понятий: «малая родина», «родная земля», «Отечество», «родной язык», «моя семья»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190" name="Прямая со стрелкой 13"/>
          <p:cNvCxnSpPr/>
          <p:nvPr/>
        </p:nvCxnSpPr>
        <p:spPr>
          <a:xfrm flipH="1">
            <a:off x="761760" y="1066680"/>
            <a:ext cx="1219680" cy="534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1" name="Прямая со стрелкой 15"/>
          <p:cNvCxnSpPr/>
          <p:nvPr/>
        </p:nvCxnSpPr>
        <p:spPr>
          <a:xfrm>
            <a:off x="4800240" y="14475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2" name="Прямая со стрелкой 17"/>
          <p:cNvCxnSpPr/>
          <p:nvPr/>
        </p:nvCxnSpPr>
        <p:spPr>
          <a:xfrm>
            <a:off x="7162560" y="1066680"/>
            <a:ext cx="9910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уховно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– нравственное воспитание реализуется через: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вательную деятельность, направленную в первую очередь на то, чтобы ребенок ощущал живую связь познаваемого с действительностью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етическую деятельность, направленную на закрепление положительных образов и чувств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ую деятельность, направленную на воспитание положительного отношения к труду, воспитания у детей чувства товарищества, желание оказать помощь другим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Скругленный прямоугольник 1"/>
          <p:cNvSpPr/>
          <p:nvPr/>
        </p:nvSpPr>
        <p:spPr>
          <a:xfrm>
            <a:off x="3809880" y="533520"/>
            <a:ext cx="28195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«Я и мое здоровье»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533520" y="457200"/>
            <a:ext cx="2361960" cy="167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тренняя гимнастик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изкультминутки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3200400" y="1600200"/>
            <a:ext cx="24382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гулки на свежем воздух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6248520" y="1523880"/>
            <a:ext cx="213336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каливающие процедуры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609480" y="2438280"/>
            <a:ext cx="236232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Д по физической культур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3276720" y="2514600"/>
            <a:ext cx="23619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ведение подвижных игр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1" name="Прямоугольник 8"/>
          <p:cNvSpPr/>
          <p:nvPr/>
        </p:nvSpPr>
        <p:spPr>
          <a:xfrm>
            <a:off x="6248520" y="2514600"/>
            <a:ext cx="22860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одрящая  гимнастика после сна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2" name="Прямоугольник 9"/>
          <p:cNvSpPr/>
          <p:nvPr/>
        </p:nvSpPr>
        <p:spPr>
          <a:xfrm>
            <a:off x="3352680" y="3581280"/>
            <a:ext cx="228600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ведение спортивных досугов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3" name="Прямоугольник 10"/>
          <p:cNvSpPr/>
          <p:nvPr/>
        </p:nvSpPr>
        <p:spPr>
          <a:xfrm>
            <a:off x="533520" y="3505320"/>
            <a:ext cx="2514600" cy="19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ование здоровьесберегающих технологий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седы о здоровом образе жизни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4" name="Прямоугольник 11"/>
          <p:cNvSpPr/>
          <p:nvPr/>
        </p:nvSpPr>
        <p:spPr>
          <a:xfrm>
            <a:off x="6248520" y="3657600"/>
            <a:ext cx="236196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изкультурный уголок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5" name="Прямоугольник 12"/>
          <p:cNvSpPr/>
          <p:nvPr/>
        </p:nvSpPr>
        <p:spPr>
          <a:xfrm>
            <a:off x="6248520" y="4724280"/>
            <a:ext cx="24382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6" name="Прямоугольник 13"/>
          <p:cNvSpPr/>
          <p:nvPr/>
        </p:nvSpPr>
        <p:spPr>
          <a:xfrm>
            <a:off x="6324480" y="5486400"/>
            <a:ext cx="236232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формационный уголок здоровь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7" name="Прямоугольник 14"/>
          <p:cNvSpPr/>
          <p:nvPr/>
        </p:nvSpPr>
        <p:spPr>
          <a:xfrm>
            <a:off x="3200400" y="5334120"/>
            <a:ext cx="259092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ониторинг самочувстви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Наше настроени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08" name="Прямоугольник 15"/>
          <p:cNvSpPr/>
          <p:nvPr/>
        </p:nvSpPr>
        <p:spPr>
          <a:xfrm>
            <a:off x="3352680" y="4572000"/>
            <a:ext cx="236232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деля или день здоровья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09" name="Прямая со стрелкой 22"/>
          <p:cNvCxnSpPr/>
          <p:nvPr/>
        </p:nvCxnSpPr>
        <p:spPr>
          <a:xfrm>
            <a:off x="6095520" y="1142640"/>
            <a:ext cx="12963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Прямая со стрелкой 42"/>
          <p:cNvCxnSpPr/>
          <p:nvPr/>
        </p:nvCxnSpPr>
        <p:spPr>
          <a:xfrm flipH="1">
            <a:off x="3047760" y="990720"/>
            <a:ext cx="121968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1" name="Прямая со стрелкой 44"/>
          <p:cNvCxnSpPr/>
          <p:nvPr/>
        </p:nvCxnSpPr>
        <p:spPr>
          <a:xfrm>
            <a:off x="5105160" y="1371240"/>
            <a:ext cx="108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2" name="Прямая соединительная линия 48"/>
          <p:cNvSpPr/>
          <p:nvPr/>
        </p:nvSpPr>
        <p:spPr>
          <a:xfrm>
            <a:off x="4419720" y="2286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13" name="Прямая со стрелкой 52"/>
          <p:cNvCxnSpPr/>
          <p:nvPr/>
        </p:nvCxnSpPr>
        <p:spPr>
          <a:xfrm flipH="1">
            <a:off x="2666160" y="2057040"/>
            <a:ext cx="3819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Прямая со стрелкой 54"/>
          <p:cNvCxnSpPr/>
          <p:nvPr/>
        </p:nvCxnSpPr>
        <p:spPr>
          <a:xfrm flipH="1">
            <a:off x="2971080" y="3123720"/>
            <a:ext cx="2293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6"/>
          <p:cNvCxnSpPr/>
          <p:nvPr/>
        </p:nvCxnSpPr>
        <p:spPr>
          <a:xfrm>
            <a:off x="5791320" y="2057400"/>
            <a:ext cx="4579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61"/>
          <p:cNvCxnSpPr/>
          <p:nvPr/>
        </p:nvCxnSpPr>
        <p:spPr>
          <a:xfrm>
            <a:off x="5791320" y="2895480"/>
            <a:ext cx="38160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Прямая со стрелкой 63"/>
          <p:cNvCxnSpPr/>
          <p:nvPr/>
        </p:nvCxnSpPr>
        <p:spPr>
          <a:xfrm>
            <a:off x="5866920" y="3885840"/>
            <a:ext cx="3819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Прямая со стрелкой 65"/>
          <p:cNvCxnSpPr/>
          <p:nvPr/>
        </p:nvCxnSpPr>
        <p:spPr>
          <a:xfrm>
            <a:off x="5866920" y="4648320"/>
            <a:ext cx="3056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9" name="Прямая со стрелкой 67"/>
          <p:cNvCxnSpPr/>
          <p:nvPr/>
        </p:nvCxnSpPr>
        <p:spPr>
          <a:xfrm>
            <a:off x="5866920" y="5409720"/>
            <a:ext cx="30564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0" name="Прямая со стрелкой 69"/>
          <p:cNvCxnSpPr/>
          <p:nvPr/>
        </p:nvCxnSpPr>
        <p:spPr>
          <a:xfrm flipH="1">
            <a:off x="4647600" y="2285640"/>
            <a:ext cx="2293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1" name="Прямая со стрелкой 73"/>
          <p:cNvCxnSpPr>
            <a:endCxn id="202" idx="0"/>
          </p:cNvCxnSpPr>
          <p:nvPr/>
        </p:nvCxnSpPr>
        <p:spPr>
          <a:xfrm flipH="1">
            <a:off x="4495320" y="3428640"/>
            <a:ext cx="1533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2" name="Прямая со стрелкой 76"/>
          <p:cNvCxnSpPr/>
          <p:nvPr/>
        </p:nvCxnSpPr>
        <p:spPr>
          <a:xfrm flipH="1">
            <a:off x="4495320" y="4343040"/>
            <a:ext cx="1533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3" name="Прямая со стрелкой 78"/>
          <p:cNvCxnSpPr/>
          <p:nvPr/>
        </p:nvCxnSpPr>
        <p:spPr>
          <a:xfrm flipH="1">
            <a:off x="4419360" y="5105160"/>
            <a:ext cx="3052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кругленный прямоугольник 2"/>
          <p:cNvSpPr/>
          <p:nvPr/>
        </p:nvSpPr>
        <p:spPr>
          <a:xfrm>
            <a:off x="2666880" y="457200"/>
            <a:ext cx="3200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«Я и мои ценности»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Семья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304920" y="1371600"/>
            <a:ext cx="2057400" cy="609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ознавательные беседы о семье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3048120" y="1676520"/>
            <a:ext cx="25905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аздники с участием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5867280" y="1371600"/>
            <a:ext cx="2667240" cy="1447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ворческие проекты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«Моя семь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380880" y="2514600"/>
            <a:ext cx="2057400" cy="1752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еседы о профессиях родителей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29" name="Прямоугольник 7"/>
          <p:cNvSpPr/>
          <p:nvPr/>
        </p:nvSpPr>
        <p:spPr>
          <a:xfrm>
            <a:off x="3124080" y="2895480"/>
            <a:ext cx="2362320" cy="3124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формление выставок с участием родителей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одительские собрания.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6019920" y="3276720"/>
            <a:ext cx="243828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льбом 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ша дружная семья»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четворчество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6095880" y="4572000"/>
            <a:ext cx="2438640" cy="10666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формационный стенд для родителей</a:t>
            </a: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32" name="Прямая со стрелкой 14"/>
          <p:cNvCxnSpPr/>
          <p:nvPr/>
        </p:nvCxnSpPr>
        <p:spPr>
          <a:xfrm flipH="1">
            <a:off x="1447560" y="762120"/>
            <a:ext cx="9151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16"/>
          <p:cNvCxnSpPr/>
          <p:nvPr/>
        </p:nvCxnSpPr>
        <p:spPr>
          <a:xfrm flipH="1">
            <a:off x="2361960" y="1218960"/>
            <a:ext cx="457920" cy="106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18"/>
          <p:cNvCxnSpPr/>
          <p:nvPr/>
        </p:nvCxnSpPr>
        <p:spPr>
          <a:xfrm>
            <a:off x="4190760" y="121932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5" name="Прямая со стрелкой 20"/>
          <p:cNvCxnSpPr/>
          <p:nvPr/>
        </p:nvCxnSpPr>
        <p:spPr>
          <a:xfrm>
            <a:off x="5943240" y="837720"/>
            <a:ext cx="160092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Прямоугольник 21"/>
          <p:cNvSpPr/>
          <p:nvPr/>
        </p:nvSpPr>
        <p:spPr>
          <a:xfrm>
            <a:off x="4191120" y="2666880"/>
            <a:ext cx="46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omic Sans MS"/>
            </a:endParaRPr>
          </a:p>
        </p:txBody>
      </p:sp>
      <p:cxnSp>
        <p:nvCxnSpPr>
          <p:cNvPr id="237" name="Прямая со стрелкой 23"/>
          <p:cNvCxnSpPr>
            <a:stCxn id="226" idx="2"/>
          </p:cNvCxnSpPr>
          <p:nvPr/>
        </p:nvCxnSpPr>
        <p:spPr>
          <a:xfrm>
            <a:off x="4343040" y="259056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8" name="Прямая со стрелкой 25"/>
          <p:cNvCxnSpPr/>
          <p:nvPr/>
        </p:nvCxnSpPr>
        <p:spPr>
          <a:xfrm>
            <a:off x="7238520" y="2895120"/>
            <a:ext cx="108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9" name="Прямая со стрелкой 27"/>
          <p:cNvCxnSpPr>
            <a:stCxn id="230" idx="2"/>
          </p:cNvCxnSpPr>
          <p:nvPr/>
        </p:nvCxnSpPr>
        <p:spPr>
          <a:xfrm>
            <a:off x="7238520" y="4266720"/>
            <a:ext cx="10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3-04-09T09:08:15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