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82B-2CA4-4227-9A8A-AEA87DFF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1B2-1D43-46C4-BC6A-B520EEEA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032-89A9-4F4E-BAD8-01914D9F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C36-395C-4D2A-93FE-AA2EF195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863A5-875D-4F7C-B6B2-9AD60BDE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757E-3F9F-42D3-B8B1-EDFFC24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D55EE-3F89-4157-82BF-157B109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17A0C-1529-4EF1-B7DD-1E6D0BF5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B75D-B901-44C3-AAF4-A8AE040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1803A-9C89-415F-AE93-9F980BF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E1C49-0B10-4BD2-B37F-0544C28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068-5FA4-4837-8B7C-9F5A140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A64C-D0E2-4FC9-BD91-23D2C86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04A9-BD8E-496C-BFCF-93090E7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23E85-9B85-4036-9228-51B97635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3FE29-4F44-4621-8B20-5131BE84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1233-6C4B-4563-8D86-6D08377D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B77A-E11E-42D6-BC1C-42FAEF91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63CE-FEB9-46D8-9B98-889F8626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A5A7-A06F-4D90-8C53-42FAEA6F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D0D5-96B8-43AA-A656-078EF18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5679-37DF-4102-8D7D-CB24EDFA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02F-8A68-44A3-8176-78B4BA6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EFD9-FCAF-4C73-9C6C-AF5B0BF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B924-1B99-4A1F-8526-D20CD89B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8E66-19EF-478B-9C35-4C34626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14D7-D903-4E46-A94D-D266841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16B5-52D7-4003-96A5-7CAAA6E4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FB98-0A4E-4030-BE66-1E2EDB87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DAB3-F556-4466-912F-9C67C42F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99E3-BC39-4783-8E98-A2A3B52B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3C43-C178-489A-8057-7FFED21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5DEC-60DD-431A-AD2D-A278A8D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A4F-BB6D-41EE-A4D3-EDA8590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E735-49BA-45E3-A133-E2F6A8B6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AE36-6D41-43E6-A032-2D8B80E2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2535-ED0C-4003-A9BC-01A8612E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477D-FDB5-4900-B0E7-C4898AE0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3368-40DD-4EFE-B341-A0FA02D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9B42-1193-443B-99C5-3FA3F56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8DD0-0B1B-4AE1-9955-5B80715D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4F98-019D-46E9-8338-AD21FCE4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B689-A991-4E88-BDCC-12DBCE10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986-B141-4BC8-9DE2-77C16E18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2F7-5531-4B59-9244-948CDD3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F56-0281-419D-8748-5D89389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AE5-B56A-49F2-8489-03DF14A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579-A016-4499-924A-8D72DA8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377-7E58-4830-9AA8-C1066F32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875-2196-4530-8C19-BAC60812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6A6-3982-4DF0-8CD2-6E9C8F585C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9406-6FAD-49E4-B942-67DE40D528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Гриб-осьмино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резентация ученицы 3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Кита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аи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риб-осьминог очень похож на своего морского колле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873080" cy="1316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793960" cy="2031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780000" y="3141720"/>
            <a:ext cx="23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началу гриб и по форме и по размерам напоминает куриное яйцо наполовину вросшее в зем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87280" y="270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292720" y="2954160"/>
            <a:ext cx="2735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о в процессе созревания оно коричневеет , а потом лопается и выпускает наружу красные «щупальцы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на щупальцах неприятно пахнущие чёрные пятна слиз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03640" y="328284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476360" y="4292640"/>
            <a:ext cx="2664000" cy="431640"/>
          </a:xfrm>
          <a:prstGeom prst="rightArrow">
            <a:avLst>
              <a:gd name="adj1" fmla="val 50000"/>
              <a:gd name="adj2" fmla="val 15429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292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ятна сли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 вкус этот гриб не очень прия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гриб содержит много полезных веществ, спортсмены едят его для улучшения физических показ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261936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64000" y="3860640"/>
            <a:ext cx="2663640" cy="289080"/>
          </a:xfrm>
          <a:prstGeom prst="rightArrow">
            <a:avLst>
              <a:gd name="adj1" fmla="val 50000"/>
              <a:gd name="adj2" fmla="val 23035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48000" y="3789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портсмены любят этот гри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517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5:06:26Z</dcterms:created>
  <dc:creator>Alena</dc:creator>
  <dc:description/>
  <dc:language>en-US</dc:language>
  <cp:lastModifiedBy>Alena</cp:lastModifiedBy>
  <dcterms:modified xsi:type="dcterms:W3CDTF">2012-12-17T16:49:00Z</dcterms:modified>
  <cp:revision>5</cp:revision>
  <dc:subject/>
  <dc:title>Гриб-осьминог</dc:title>
</cp:coreProperties>
</file>