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F20-DABB-4F5D-8CA1-5A6F28CD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8D59-41A9-4A86-A71F-3A1413DF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80E-1A37-4D67-A85C-32E6A71A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548-2B92-4B9C-BC07-525D9D52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72FE7-A249-4B83-B380-CCA87EF4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1F58E-C894-4BBF-86B1-30EF9ECF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522BE-2961-4675-95B1-FA9FCDB9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0D2CE-C2DB-4FC2-AC32-39B8F41B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0C446-DF72-4F2E-BF40-68DE85F0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D8765-9AD2-4434-8C2C-C93A5F1E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D50EF-88DE-45AF-8496-20090772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F2BB-3924-436E-BCAA-69A6906A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E92FD-D30A-41F3-9CE6-C3593965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F0B16-E51E-4551-82B4-56DBC2C1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E27D4-1625-4453-AFD5-5DA05C50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C24F7-16C2-4DC8-BDD4-6A3C04CD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4A7CE-62F9-40B5-82BD-3EB65B45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87F1C-35C4-474B-ABD9-16272CCA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3FDCB-5117-4909-B5CE-B0C77F89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EDC83-B460-482C-BFCE-D0E542E8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07F59-677C-4FCA-A320-8403D6D4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F4BEE-8F6D-45A4-90B5-E6517CDA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261C-7D9E-4005-9795-7D8FE882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6F5F5-2780-4EE7-B219-7000D92E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1EAE-03AA-48D9-9AE8-0F6EE758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B3BA1-95D5-4388-BC1F-B67E0989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2BEAC-96C7-4444-9591-EDF7A944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D2913-1A87-4CD0-8835-A82803A3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B4B53-A0E2-40FF-8073-3BDA469B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5B79C-F46C-453D-A3AD-4A9AF69A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11545-B305-462D-AB0F-8BEEC2C4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8C68A-0210-4C10-8CD1-5672D5EC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A005C-2C59-4C87-9A82-451B956A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70C5-E57F-4DD7-B857-51C3B4E7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45DE6-ED2C-4FDC-A274-A86A1A8A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988C5-BE05-4D5C-B57D-03089D7F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89547-7340-4FCC-B0B1-E71C445E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21FCD-349F-4662-AB8E-3DFD51B8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70B01-6647-471A-9E14-377CA2EE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9B82E-D5F1-4ABD-9AF9-A5076436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0B1C6-53F6-460E-987D-55755A1C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FD0A9-690B-45C0-A53D-8682E963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62EBE-6DE6-4911-9B80-850F1A91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AB5B-2105-41A8-B548-7FBC3586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19E-8FED-401C-A244-A3E662DA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215-62FA-4F9C-AEE8-8B1FA74B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2F7-8E4B-4E28-A527-03F7C0F6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556-F641-483A-B3DA-99E6957F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86FA-ACE5-452F-B917-019B4E4AE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0B8F-30EC-4A6E-BBC7-793C3FF01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8633-10A8-4919-920A-F24873A561A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9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2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3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5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18E5-8334-4ADC-A554-A593E4FAC68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Гриб-осьмино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Презентация ученицы 3 «А»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Китаев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Таи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Гриб-осьминог очень похож на своего морского коллег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020000" y="1989000"/>
            <a:ext cx="1873080" cy="1316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2793960" cy="20318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3780000" y="3141720"/>
            <a:ext cx="2376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оначалу гриб и по форме и по размерам напоминает куриное яйцо наполовину вросшее в земл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187280" y="27082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5292720" y="2954160"/>
            <a:ext cx="273528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Но в процессе созревания оно коричневеет , а потом лопается и выпускает наружу красные «щупальцы»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 на щупальцах неприятно пахнущие чёрные пятна слиз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203640" y="3282840"/>
            <a:ext cx="3313080" cy="24861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476360" y="4292640"/>
            <a:ext cx="2664000" cy="431640"/>
          </a:xfrm>
          <a:prstGeom prst="rightArrow">
            <a:avLst>
              <a:gd name="adj1" fmla="val 50000"/>
              <a:gd name="adj2" fmla="val 15429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4292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ятна слиз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На вкус этот гриб не очень прия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о гриб содержит много полезных веществ, спортсмены едят его для улучшения физических показ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900000" y="3716280"/>
            <a:ext cx="2619360" cy="600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564000" y="3860640"/>
            <a:ext cx="2663640" cy="289080"/>
          </a:xfrm>
          <a:prstGeom prst="rightArrow">
            <a:avLst>
              <a:gd name="adj1" fmla="val 50000"/>
              <a:gd name="adj2" fmla="val 23035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372360" y="3068640"/>
            <a:ext cx="2305080" cy="14288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348000" y="378936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Спортсмены любят этот гри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dff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351792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15:06:26Z</dcterms:created>
  <dc:creator>Alena</dc:creator>
  <dc:description/>
  <dc:language>en-US</dc:language>
  <cp:lastModifiedBy>Alena</cp:lastModifiedBy>
  <dcterms:modified xsi:type="dcterms:W3CDTF">2012-12-17T16:49:00Z</dcterms:modified>
  <cp:revision>5</cp:revision>
  <dc:subject/>
  <dc:title>Гриб-осьминог</dc:title>
</cp:coreProperties>
</file>