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6D5-8CD3-4AB2-ABDB-CA65A641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31A-D2EC-4423-908D-C0BA51EC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FAB-5F0C-4198-9217-7278917C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FFD-9750-45C0-B7CC-EF1799E7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6B8E-DE8E-446B-9EFA-09A37280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7EA0-69A1-42A2-AFBB-B56DA827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2F38-603D-4A37-BB96-7AA8C4AD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FE5F-1AE9-4F7A-A302-EC4FCA84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513B-AC94-4BD7-BFA1-B10731C1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0D46-74EE-4722-A1AF-8457DBBF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F617-0B0C-4A67-9EB2-AFF46237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F70-A420-4D38-9060-F93BB8C6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E985-6D26-4648-8B4F-839FEAB0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70E0-E52C-48DA-9E4E-72D6093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775E-AF25-4027-8A64-F1166094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5C38-B4B6-4B30-BA68-2692E8B0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2CA8-F768-42A0-8E43-76649860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A85-D007-4EC7-9C96-241F0A9F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8BD-2ADC-466C-8D25-CFC915EB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4A9-F7EB-47FA-930B-0F303D11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067-5F55-454A-9A42-575AFBF4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E7F-3BA5-4100-B446-7984F00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000-C8B4-42CA-8470-BAF66774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1F1-4E3F-4F66-98C0-5EC903FB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DB0E-5426-425F-8929-54C82D88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6069-7488-4A26-A722-29A4BFD8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62120" y="304920"/>
            <a:ext cx="8137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ная игра,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вящённая жизни и творчеству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. В. Гоголя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3429000" y="2362320"/>
            <a:ext cx="2657520" cy="32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акой подарок готовил кузнец Океане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2438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Сундук.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Монисто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-main-pic" descr="Картинка 27 из 277"/>
          <p:cNvPicPr/>
          <p:nvPr/>
        </p:nvPicPr>
        <p:blipFill>
          <a:blip r:embed="rId1"/>
          <a:stretch/>
        </p:blipFill>
        <p:spPr>
          <a:xfrm>
            <a:off x="3276720" y="4038480"/>
            <a:ext cx="1922400" cy="2133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638680" y="2057400"/>
            <a:ext cx="297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Черев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Коль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ак звали ведьму, и кем она приходилась кузнецу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Солоха, мать.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Солоха, сестра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8120" y="3733920"/>
            <a:ext cx="2427120" cy="2361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876920" y="2057400"/>
            <a:ext cx="373356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Ганна, 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Ганна, мач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то угодил в мешки в избе Солохи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200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Чер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Голова.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666880" cy="1943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638680" y="1981080"/>
            <a:ext cx="2895840" cy="30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Дья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Ч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уда отправился Вакула, попав в Санкт - Петербург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К знакомым запорожц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К цар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3733920"/>
            <a:ext cx="1733760" cy="2514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198108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К родствен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В г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ак запорожцы называли царицу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505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А. Ва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величество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В. Мамо.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14600" y="3962520"/>
            <a:ext cx="2514600" cy="2260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05520" y="20574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М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Ва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ия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ак кузнец «отблагодарил» черта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19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Отвесил черту три удара пал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Перекрестил 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352680" y="3809880"/>
            <a:ext cx="1443240" cy="2438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48320" y="1905120"/>
            <a:ext cx="419076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Отвесил черту три удара хворости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Отпустил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84596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развивать познавательные способности учащихся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воспитывать любовь к литературе и художественному слову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6666"/>
                </a:solidFill>
                <a:latin typeface="Arial"/>
              </a:rPr>
              <a:t>учить внимательному прочтению авторского текст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71600" y="457200"/>
            <a:ext cx="6697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и литературной игры 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336666"/>
                </a:solidFill>
                <a:latin typeface="Arial"/>
              </a:rPr>
              <a:t>Игру можно проводить после изучения повести «Ночь перед Рождеством».    Практическая значимость заключается в возможности использования данных материалов в школьном учебном процессе, на уроках литературы, при изучении соответствующих хронологических периодов жизни и творчества Н.В.Гогол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81080" y="45720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нотация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В каком году родился Н. В. Гоголь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600" y="2133360"/>
            <a:ext cx="302112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В 1805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В 1807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43240" y="2133720"/>
            <a:ext cx="304812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С. В 180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. В 1811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Гоголь"/>
          <p:cNvPicPr/>
          <p:nvPr/>
        </p:nvPicPr>
        <p:blipFill>
          <a:blip r:embed="rId1"/>
          <a:stretch/>
        </p:blipFill>
        <p:spPr>
          <a:xfrm>
            <a:off x="457200" y="1600200"/>
            <a:ext cx="1971720" cy="2505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Усадьба Н.В. Гоголя"/>
          <p:cNvPicPr/>
          <p:nvPr/>
        </p:nvPicPr>
        <p:blipFill>
          <a:blip r:embed="rId2"/>
          <a:stretch/>
        </p:blipFill>
        <p:spPr>
          <a:xfrm>
            <a:off x="3809880" y="4114800"/>
            <a:ext cx="3124440" cy="2158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05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900" spc="-1" strike="noStrike">
                <a:solidFill>
                  <a:srgbClr val="d60093"/>
                </a:solidFill>
                <a:latin typeface="Arial Black"/>
              </a:rPr>
              <a:t>Какое место считается родиной Н. В. Гоголя?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90920" y="2058480"/>
            <a:ext cx="286200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А. Полт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В. Сорочин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638320" y="2057400"/>
            <a:ext cx="318132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С. Мирг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. Неж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Усадьба Н.В. Гоголя"/>
          <p:cNvPicPr/>
          <p:nvPr/>
        </p:nvPicPr>
        <p:blipFill>
          <a:blip r:embed="rId1"/>
          <a:stretch/>
        </p:blipFill>
        <p:spPr>
          <a:xfrm>
            <a:off x="3124080" y="4114800"/>
            <a:ext cx="3124440" cy="208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1797120" cy="201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4596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d60093"/>
                </a:solidFill>
                <a:latin typeface="Arial Black"/>
              </a:rPr>
              <a:t>Сколько лет было Гоголю, когда отец привез его в Нежинскую гимназию?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04960" y="2133360"/>
            <a:ext cx="206676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12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8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19560" y="2133720"/>
            <a:ext cx="26622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С. 9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.1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67080" y="4191120"/>
            <a:ext cx="2473560" cy="1971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1655640" cy="2521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Что ведьма собирала в рукав в ночь перед Рождеством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04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. Звё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. Снеж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98108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С. Ёлочные ве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Д. Луну и меся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20574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4145040"/>
            <a:ext cx="2286000" cy="21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Как ведьма и черт попали в хату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3238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Через ок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Через тру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60960" y="2133720"/>
            <a:ext cx="306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Через д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Они уже были 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2200320" cy="22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d60093"/>
                </a:solidFill>
                <a:latin typeface="Arial Black"/>
              </a:rPr>
              <a:t>Сколько лет было Оксане?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72200" y="4419720"/>
            <a:ext cx="2424240" cy="1603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2438280"/>
            <a:ext cx="1905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А. 15-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В. 16-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2514600"/>
            <a:ext cx="2057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С. 17-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Д. 18-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онахина О. А.</a:t>
            </a:r>
          </a:p>
        </p:txBody>
      </p:sp>
    </p:spTree>
  </p:cSld>
  <p:transition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1:22:09Z</dcterms:created>
  <dc:creator>User</dc:creator>
  <dc:description/>
  <dc:language>en-US</dc:language>
  <cp:lastModifiedBy>User</cp:lastModifiedBy>
  <dcterms:modified xsi:type="dcterms:W3CDTF">2012-11-02T17:55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