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FB9-A184-45A2-8823-A63EEEDA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EEE-9722-4FD7-A6D1-4D82F266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080C-3A43-4B15-9769-3CD01454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03A-10ED-40BB-95CE-3452069C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9B68-47FB-4D92-B06F-D514935A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97E6-9780-435D-B3F9-9D3DC473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6DB3-004D-49B3-AF21-60FDABF7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98C1-67CC-4A25-9ED4-589FBE21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6208-B174-4433-98E3-3C933B9F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5ABA-F4B0-4EED-B615-2D87FAF5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0C06-3CF0-4062-8C43-D8014A1F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771-1D21-4147-91A9-8F9BD6A8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E068-730D-433B-BDDB-F4E3845A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F69A-B8BA-4D4D-9BC8-314D8B3A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70DA-5271-4182-9F62-E5142B17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210A-419E-44A4-A30E-2348C4BB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10B7-F066-4952-A3CF-1EB8E06A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B12-81D9-4E92-A9AC-CB27DAE6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45C-58A4-43A8-A68C-7054D025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7C30-ADA0-4255-9726-FA750F6E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232-240B-4B90-9541-189E4BD8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D56-5A5F-4CA1-9D22-DE3BB084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CEB-39F4-4AD0-9F35-1F984305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5A9-495D-455B-A92A-FA449DDA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D6DE-A095-4D6F-AF6B-51D0BB964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CC8F-F8EB-4A26-A5EB-382D67A3B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62120" y="304920"/>
            <a:ext cx="81374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тературная игра,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вящённая жизни и творчеству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. В. Гоголя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3429000" y="2362320"/>
            <a:ext cx="2657520" cy="32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Какой подарок готовил кузнец Океане?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2438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А. Сундук.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В. Монисто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i-main-pic" descr="Картинка 27 из 277"/>
          <p:cNvPicPr/>
          <p:nvPr/>
        </p:nvPicPr>
        <p:blipFill>
          <a:blip r:embed="rId1"/>
          <a:stretch/>
        </p:blipFill>
        <p:spPr>
          <a:xfrm>
            <a:off x="3276720" y="4038480"/>
            <a:ext cx="1922400" cy="2133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638680" y="2057400"/>
            <a:ext cx="2971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С. Черев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Д. Кольц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Как звали ведьму, и кем она приходилась кузнецу?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342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А. Солоха, мать.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В. Солоха, сестра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8120" y="3733920"/>
            <a:ext cx="2427120" cy="2361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876920" y="2057400"/>
            <a:ext cx="3733560" cy="22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С. Ганна, м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Д. Ганна, мач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Кто угодил в мешки в избе Солохи?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200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А. Чер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В. Голова.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2666880" cy="1943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638680" y="1981080"/>
            <a:ext cx="2895840" cy="30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С. Дья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Д. Ч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Куда отправился Вакула, попав в Санкт - Петербург?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819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А. К знакомым запорожц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В. К цар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124080" y="3733920"/>
            <a:ext cx="1733760" cy="2514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0" y="1981080"/>
            <a:ext cx="3886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С. К родственн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Д. В г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Как запорожцы называли царицу?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505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А. Ва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величество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В. Мамо.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14600" y="3962520"/>
            <a:ext cx="2514600" cy="2260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105520" y="2057400"/>
            <a:ext cx="403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С. М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Д. Ваш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сиятель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Как кузнец «отблагодарил» черта?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419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А. Отвесил черту три удара пал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В. Перекрестил 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352680" y="3809880"/>
            <a:ext cx="1443240" cy="2438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48320" y="1905120"/>
            <a:ext cx="4190760" cy="36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С. Отвесил черту три удара хворости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Д. Отпустил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4000" y="1600200"/>
            <a:ext cx="84596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6666"/>
                </a:solidFill>
                <a:latin typeface="Arial"/>
              </a:rPr>
              <a:t>развивать познавательные способности учащихся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6666"/>
                </a:solidFill>
                <a:latin typeface="Arial"/>
              </a:rPr>
              <a:t>воспитывать любовь к литературе и художественному слову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6666"/>
                </a:solidFill>
                <a:latin typeface="Arial"/>
              </a:rPr>
              <a:t>учить внимательному прочтению авторского текст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371600" y="457200"/>
            <a:ext cx="6697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и литературной игры 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700" spc="-1" strike="noStrike">
                <a:solidFill>
                  <a:srgbClr val="336666"/>
                </a:solidFill>
                <a:latin typeface="Arial"/>
              </a:rPr>
              <a:t>Игру можно проводить после изучения повести «Ночь перед Рождеством».    Практическая значимость заключается в возможности использования данных материалов в школьном учебном процессе, на уроках литературы, при изучении соответствующих хронологических периодов жизни и творчества Н.В.Гоголя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981080" y="457200"/>
            <a:ext cx="4724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нотация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В каком году родился Н. В. Гоголь?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14600" y="2133360"/>
            <a:ext cx="302112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А. В 1805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В. В 1807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943240" y="2133720"/>
            <a:ext cx="304812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С. В 1809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. В 1811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Гоголь"/>
          <p:cNvPicPr/>
          <p:nvPr/>
        </p:nvPicPr>
        <p:blipFill>
          <a:blip r:embed="rId1"/>
          <a:stretch/>
        </p:blipFill>
        <p:spPr>
          <a:xfrm>
            <a:off x="457200" y="1600200"/>
            <a:ext cx="1971720" cy="2505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Усадьба Н.В. Гоголя"/>
          <p:cNvPicPr/>
          <p:nvPr/>
        </p:nvPicPr>
        <p:blipFill>
          <a:blip r:embed="rId2"/>
          <a:stretch/>
        </p:blipFill>
        <p:spPr>
          <a:xfrm>
            <a:off x="3809880" y="4114800"/>
            <a:ext cx="3124440" cy="2158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05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60093"/>
                </a:solidFill>
                <a:latin typeface="Arial Black"/>
              </a:rPr>
              <a:t> </a:t>
            </a:r>
            <a:r>
              <a:rPr b="1" lang="en-US" sz="2900" spc="-1" strike="noStrike">
                <a:solidFill>
                  <a:srgbClr val="d60093"/>
                </a:solidFill>
                <a:latin typeface="Arial Black"/>
              </a:rPr>
              <a:t>Какое место считается родиной Н. В. Гоголя?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90920" y="2058480"/>
            <a:ext cx="286200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А. Полт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В. Сорочин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638320" y="2057400"/>
            <a:ext cx="318132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С. Мирго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. Неж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Усадьба Н.В. Гоголя"/>
          <p:cNvPicPr/>
          <p:nvPr/>
        </p:nvPicPr>
        <p:blipFill>
          <a:blip r:embed="rId1"/>
          <a:stretch/>
        </p:blipFill>
        <p:spPr>
          <a:xfrm>
            <a:off x="3124080" y="4114800"/>
            <a:ext cx="3124440" cy="208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1797120" cy="2017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4596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60093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d60093"/>
                </a:solidFill>
                <a:latin typeface="Arial Black"/>
              </a:rPr>
              <a:t>Сколько лет было Гоголю, когда отец привез его в Нежинскую гимназию?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04960" y="2133360"/>
            <a:ext cx="206676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А. 12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В. 8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19560" y="2133720"/>
            <a:ext cx="266220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С. 9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.10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67080" y="4191120"/>
            <a:ext cx="2473560" cy="1971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1655640" cy="2521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Что ведьма собирала в рукав в ночь перед Рождеством?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047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. Звёз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В. Снеж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98108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С. Ёлочные ве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Д. Луну и меся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20574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95480" y="4145040"/>
            <a:ext cx="2286000" cy="210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Как ведьма и черт попали в хату?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238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А. Через ок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В. Через тру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60960" y="2133720"/>
            <a:ext cx="3068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С. Через д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Д. Они уже были в д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95480" y="4038480"/>
            <a:ext cx="2200320" cy="221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Сколько лет было Оксане?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72200" y="4419720"/>
            <a:ext cx="2424240" cy="1603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2438280"/>
            <a:ext cx="1905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А. 15-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В. 16-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2514600"/>
            <a:ext cx="2057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С. 17-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Д. 18-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1:22:09Z</dcterms:created>
  <dc:creator>User</dc:creator>
  <dc:description/>
  <dc:language>en-US</dc:language>
  <cp:lastModifiedBy>User</cp:lastModifiedBy>
  <dcterms:modified xsi:type="dcterms:W3CDTF">2012-11-02T17:55:1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