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55C-DE06-41F7-BB4A-0182E1DA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8EA-8D5B-448A-8D2B-968E60F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676-A9A3-4A0B-9610-B95BB3AD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482-E997-4D15-B3A0-B53E9477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181-5BDE-4A75-9952-B469DB86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A09D-C81B-449F-A52D-3B10D5B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2EEF-C661-46E2-A7FE-37C0934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09E-9D5B-4E44-AD35-A18D89D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2433-BF36-43AE-A09C-E12A4C4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C157-ACF3-4EF8-A045-D34E3B7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0D90-BEB3-4090-819B-1F3EDA7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D0F-3FF4-4E0D-BA1B-4D99D1BC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16C-9E49-4D85-BDA7-94B0ACC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414-246F-48B3-AD25-AF14533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9C2A-E24F-4D7D-928B-6CE4D64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43D-1CE2-4558-81BB-FC23E805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260-A1E7-4FEF-9234-0D78A8FF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84F7-CE40-42F1-AD99-BC1E4B86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B3C3-A190-41CF-86D4-B3E36D3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D1A8-2E77-4509-BCDA-DD32B5FD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B0CE-CC95-4D91-AB2E-FA3D3D5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6E18-01C3-4B5D-AA6A-9D9527E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468-D890-4DC3-957C-A26BFD5E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94DB-1134-468C-BB89-5187913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202B-A684-479C-BFA6-46F4444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BD33-F741-4DA9-8868-2EF0B49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307F-7D7E-4444-B70A-3AC9DCF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2A6F-5710-4611-83C3-85290C8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2438-FCF4-42C4-B593-E81FB900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490C-022E-4AAA-819A-1C94EB9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F760-74E6-4CAE-9899-D0BD48A6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52C9C-51CD-49A9-843E-DB11D2AD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C16CF-F4A9-4392-9B31-BAE07366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CD2-7ABD-48DC-85A1-33A88DC4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244D-164C-4712-8849-B7BDBA10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6A97-C646-4FBB-851C-5EEB19A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4A3F-31C1-41C4-A92E-9AA56B23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A110-3903-4B19-A257-8F52735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382C-4FC3-4D30-B053-7579E3E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6B3C-ACF5-4DC3-B2A5-81CC7A4C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16D9-D76D-4B9E-8C49-4117E47D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514F-414A-4C74-8FF8-B3CF2AC8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9016-4D83-4AD9-9FC4-043E047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19C-037C-43AF-A345-782A8F48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2BF-2FC0-4E40-A2C5-0D5FC79A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A4-1B2A-4FF4-A672-815832C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3C5-B422-492D-9758-9F21547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8A3-9878-48E0-A625-D791334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B4A-65DB-499C-9408-E0A098DD71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E0E-FE66-4C8C-8DEE-A0217DE9C7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2E1F-C47B-44A4-BEBA-29A598597F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560B-795F-4C04-B49A-66499993B2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549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zarinov Mich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ttp://www.geo-photo.ru/data/media/101/novostrojka_pyati3taha.jpg"/>
          <p:cNvPicPr/>
          <p:nvPr/>
        </p:nvPicPr>
        <p:blipFill>
          <a:blip r:embed="rId2"/>
          <a:stretch/>
        </p:blipFill>
        <p:spPr>
          <a:xfrm>
            <a:off x="0" y="3108240"/>
            <a:ext cx="5000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7168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ll, a kitchen, a bedroom, a bathroom and a toilet i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studio.atlaskit.com/wp-content/uploads/2011/01/panorama-room.jpg"/>
          <p:cNvPicPr/>
          <p:nvPr/>
        </p:nvPicPr>
        <p:blipFill>
          <a:blip r:embed="rId1"/>
          <a:stretch/>
        </p:blipFill>
        <p:spPr>
          <a:xfrm>
            <a:off x="1071720" y="2928960"/>
            <a:ext cx="62150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a chair, an armchair, a sofa, a fireplace and a TV in my haI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gedeon42.ru/wp-content/uploads/2012/09/Interior_Hall_and_home_theater_012360_.jpg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itch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 is   a cooker, a  fridge, a sink, a shelf and a cup -board in my kitch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okt-mebel.ru/img/kuhni-kuhnj2222.jpg"/>
          <p:cNvPicPr/>
          <p:nvPr/>
        </p:nvPicPr>
        <p:blipFill>
          <a:blip r:embed="rId1"/>
          <a:stretch/>
        </p:blipFill>
        <p:spPr>
          <a:xfrm>
            <a:off x="4143240" y="2770200"/>
            <a:ext cx="50007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dro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 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d, a bedside table and a wardrobe  i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bed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stroyka-remontt.ru/wp-content/uploads/2013/05/spalnj.jpg"/>
          <p:cNvPicPr/>
          <p:nvPr/>
        </p:nvPicPr>
        <p:blipFill>
          <a:blip r:embed="rId1"/>
          <a:stretch/>
        </p:blipFill>
        <p:spPr>
          <a:xfrm>
            <a:off x="928800" y="27860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thro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 is  a basin, a shampoo and a shower  in my bath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kursremonta.ru/wp-content/uploads/interer-vannoj-komnaty.jpg"/>
          <p:cNvPicPr/>
          <p:nvPr/>
        </p:nvPicPr>
        <p:blipFill>
          <a:blip r:embed="rId1"/>
          <a:stretch/>
        </p:blipFill>
        <p:spPr>
          <a:xfrm>
            <a:off x="3000240" y="2643120"/>
            <a:ext cx="52149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 for attentio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http://www.tonnel.ru/calendar/kniga/228885170_tonnel.gif"/>
          <p:cNvPicPr/>
          <p:nvPr/>
        </p:nvPicPr>
        <p:blipFill>
          <a:blip r:embed="rId1"/>
          <a:stretch/>
        </p:blipFill>
        <p:spPr>
          <a:xfrm>
            <a:off x="2428920" y="257184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4:30:20Z</dcterms:created>
  <dc:creator>мишаня</dc:creator>
  <dc:description/>
  <dc:language>en-US</dc:language>
  <cp:lastModifiedBy>Галина</cp:lastModifiedBy>
  <dcterms:modified xsi:type="dcterms:W3CDTF">2014-01-22T14:30:35Z</dcterms:modified>
  <cp:revision>24</cp:revision>
  <dc:subject/>
  <dc:title>My home</dc:title>
</cp:coreProperties>
</file>