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13F-D8A4-4AC1-AB0F-74F9B6BE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3C2-51DA-44DE-BDC2-CB1A08A9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A37-5BDE-4CF8-9C44-14F1BD26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76F-7A25-4E11-AEA6-C3ABA437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14E-5D31-4657-AAB7-A436A6C6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AE01-122D-4C79-9C7B-C2C9C127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FC69-B11E-4CA3-9CDD-9B0881E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690-993C-450A-A445-DC40C891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2D2-FD17-4CE4-869D-210A21CC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6751-B09D-495F-9636-A5E2B8BB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CF5-ACCC-46DC-809A-84DFE00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424-5B5E-4210-9713-FFC0A73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56C-FF6C-4B7E-9F0D-9DE9FBE6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CC7-330E-4544-9D8A-CA20518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E201-22FE-44D1-8025-412F1F3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77F-ECDB-45E5-A2FF-C4E24997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FA4D-657B-44A0-AD30-073ECF1A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BCA4-A4D3-4370-A5DC-385ABD2C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6F85-CEE3-4DEF-9912-E58E3C4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B3AD-50C6-4F38-A369-AC8C2AB4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10A2-6C8F-42E4-AAAC-0EBAFD0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5733-90C4-400B-BB43-2BC444F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1F6-B153-4E04-9935-377CD46A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5D41-6BF5-46CA-BF9F-68B718E2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C11F-DD42-4032-B2FA-29F10829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15BB-330E-40C2-AB92-CC8A6F8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E419-505A-43D5-91FD-E22D95B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3E06-BAD1-4AF2-A7E3-CB0D678B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172B-2780-4E19-8FAC-3473DB90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4578-128B-4532-B4ED-E355C990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D737-31B7-4BDA-8B04-A75BCA81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57FF-A197-4E04-94A9-228AB31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F285-FEA5-4A92-9282-D23840C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28F-3EC3-4D7C-B4F1-01A27DB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FA1A-4721-4338-A83B-A0485075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7FAF-0002-41B4-A327-83455F4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223B2-3455-49FE-A60A-F60CC690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BA75-A3F2-477D-AA38-A03BA4F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54DF1-C014-4816-873F-520C091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3A49-5B7F-43C1-B6B7-052F895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1F38-F1BE-424E-8BB4-4EC64A89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8E9B-131E-4AEA-97E8-B251F3F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D79C-BDC2-49A5-A251-A1F1B6C0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F4C-A9EF-4320-9518-463D8E7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217-A806-4A59-94DB-1739B2BD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9ED-AC3D-44E5-8368-8AB8C58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A10-597C-41E1-9869-EEDCE71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565-4D90-4B4E-8797-69D1328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DF1A-19E5-404B-94AC-A09AC011C18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722-C291-41A7-BAED-4B2BB1AD75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22D-A742-43DF-B6D7-DCCE82120F2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87A-8870-4C22-A5B0-B187874B2E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549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zarinov Mich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ttp://www.geo-photo.ru/data/media/101/novostrojka_pyati3taha.jpg"/>
          <p:cNvPicPr/>
          <p:nvPr/>
        </p:nvPicPr>
        <p:blipFill>
          <a:blip r:embed="rId2"/>
          <a:stretch/>
        </p:blipFill>
        <p:spPr>
          <a:xfrm>
            <a:off x="0" y="3108240"/>
            <a:ext cx="5000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7168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ll, a kitchen, a bedroom, a bathroom and a toilet i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studio.atlaskit.com/wp-content/uploads/2011/01/panorama-room.jpg"/>
          <p:cNvPicPr/>
          <p:nvPr/>
        </p:nvPicPr>
        <p:blipFill>
          <a:blip r:embed="rId1"/>
          <a:stretch/>
        </p:blipFill>
        <p:spPr>
          <a:xfrm>
            <a:off x="1071720" y="2928960"/>
            <a:ext cx="62150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a chair, an armchair, a sofa, a fireplace and a TV in my haI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gedeon42.ru/wp-content/uploads/2012/09/Interior_Hall_and_home_theater_012360_.jpg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itch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 is   a cooker, a  fridge, a sink, a shelf and a cup -board in my kitch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http://okt-mebel.ru/img/kuhni-kuhnj2222.jpg"/>
          <p:cNvPicPr/>
          <p:nvPr/>
        </p:nvPicPr>
        <p:blipFill>
          <a:blip r:embed="rId1"/>
          <a:stretch/>
        </p:blipFill>
        <p:spPr>
          <a:xfrm>
            <a:off x="4143240" y="2770200"/>
            <a:ext cx="50007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edro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 a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d, a bedside table and a wardrobe  in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bed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stroyka-remontt.ru/wp-content/uploads/2013/05/spalnj.jpg"/>
          <p:cNvPicPr/>
          <p:nvPr/>
        </p:nvPicPr>
        <p:blipFill>
          <a:blip r:embed="rId1"/>
          <a:stretch/>
        </p:blipFill>
        <p:spPr>
          <a:xfrm>
            <a:off x="928800" y="27860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thro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 is  a basin, a shampoo and a shower  in my bath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kursremonta.ru/wp-content/uploads/interer-vannoj-komnaty.jpg"/>
          <p:cNvPicPr/>
          <p:nvPr/>
        </p:nvPicPr>
        <p:blipFill>
          <a:blip r:embed="rId1"/>
          <a:stretch/>
        </p:blipFill>
        <p:spPr>
          <a:xfrm>
            <a:off x="3000240" y="2643120"/>
            <a:ext cx="52149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 for attention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http://www.tonnel.ru/calendar/kniga/228885170_tonnel.gif"/>
          <p:cNvPicPr/>
          <p:nvPr/>
        </p:nvPicPr>
        <p:blipFill>
          <a:blip r:embed="rId1"/>
          <a:stretch/>
        </p:blipFill>
        <p:spPr>
          <a:xfrm>
            <a:off x="2428920" y="257184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4:30:20Z</dcterms:created>
  <dc:creator>мишаня</dc:creator>
  <dc:description/>
  <dc:language>en-US</dc:language>
  <cp:lastModifiedBy>Галина</cp:lastModifiedBy>
  <dcterms:modified xsi:type="dcterms:W3CDTF">2014-01-22T14:30:35Z</dcterms:modified>
  <cp:revision>24</cp:revision>
  <dc:subject/>
  <dc:title>My home</dc:title>
</cp:coreProperties>
</file>