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55E-5764-411D-AA75-84A68B50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E4F-4805-4F01-9949-026DD3D7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690-A07E-4716-80B5-D331F9BC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AF8-4449-4403-96DB-CD4BE51D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BE1E-F0DF-46F7-82CF-CEA09881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217-7863-447E-A405-5B1FB2E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8BA-A9A7-4078-84D3-8ADC86F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DFC0-3AB4-4095-8E26-4272D75B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CD1C-1B11-490F-9068-214C48D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F2F1-9701-4039-997B-069ABE38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9007-E138-45BB-BCA0-FE1CFA4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65A-FB14-42BF-8D61-B5F92957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B92B-B60A-42C3-B58F-7403768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4313-F1D5-4B6C-978C-740E50D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FDB-D22B-49D7-A32B-D1E9FE75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529-6BF3-41B1-BD84-981F43DE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7DC-4FE7-4874-9311-939B201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6B84-4FC3-4B54-AD44-8A82FCF9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DEA1-8227-4EE2-89AA-FA46746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EE2F-B2D0-4A31-8830-37DEF97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23CF-5EA5-4EB0-978E-A23AACFC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325F-E401-495A-A761-61002BE1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F4A-09E2-4DF7-A9FB-9051537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F974-8A22-4FAD-9B18-12147B5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7F50-478D-45F9-8AC5-789C714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BC62-597B-416F-AB32-AB5923A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7A2A-040B-4583-9E3C-0B145D7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4B2E-76C1-47A9-916E-A5F3642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6FA9-9C39-4718-9E0D-3864512A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51BA-21F6-4521-AD55-95EE3998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D7E3-E540-43A4-8192-B7189938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A086-1776-47E1-B715-72EFB7F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EDCF-D7A3-4F4A-B367-B8087515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E9F-9B9A-4CEB-9333-734280B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3B46-0662-4FE2-88EC-955D0C1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DD3E-F0A2-4DB6-9BD9-4F152E54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4835-FB93-48EE-916D-B83DCA3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99C9-BBA0-458B-9CF8-61FB63E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47B0-F2FD-4D3D-AC98-0DF1DA2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40EA-6980-4101-9FDB-12B5E37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1A9E3-C4B5-4C2A-9174-963E3C2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006C-DAD0-4DBE-AF30-BB8E4AE2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5AC4-29AC-4969-B3EA-0901B1D5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FBF8-2458-4597-B2E1-3C30A5C5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0ED-67D1-4F24-8F62-487E85D6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25B0-0E6F-4513-9C8C-DE3702A6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4AFFF-287F-4B7A-A76E-14277F63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7B83-C818-4715-9239-EA90C13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A12AD-8CCF-403B-975E-E0CA575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579F-6BF9-42E0-803F-20CA5D0C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5EF8-7AD9-46C7-A0DF-2DC793C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4321-DF7A-4AC7-89D3-BCFEBDF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E684-9B70-470B-9A33-12FE4AF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5C14-0760-4222-B708-A25D4A31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F45F-A6C7-4E85-B112-D99E3A43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734-20D2-4296-AF4D-6B61262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65C2-0687-4FD9-A538-E0FFC78E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FCC2-801A-4142-A0E4-44D9FE9A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7647-6CE6-469A-BBCD-C493BBDA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1F6B-37EE-4B5E-86BA-CF85304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7066-13A0-466F-AF7C-D667F1D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7C57-BDA4-4AFC-A50F-E70E5F0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4D76-F577-4421-B239-8107C11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C1BF-FE49-43EA-B4BD-AC02A55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F6EB-3745-47B6-9864-191A3B4E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7203-3A0C-47C4-87A8-3F63929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B45-37F2-46B3-9D08-0D3D825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F865-F555-4FE5-820B-97C93DD2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760F4-7E22-4E3A-991E-8F67DEDB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958C-8274-405A-BE9D-0062B1D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DF3B-33FF-4741-AC14-DBBA321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534C-321C-4CDF-9E70-A811BF12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A9F5-8E0D-460F-9619-C74953D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01FE9-B35D-4279-B6D1-6D38B554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6EDA-24FF-4232-B455-D1F324F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612E-FDE6-4747-9A2C-2AC1E0C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21C8-7D94-4DB9-9227-6C970E5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6E8-234F-4F7A-9C4E-36763B4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FF84-C83D-452E-AA8E-F24A0D3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88A4-96D8-462D-A1C9-52B761D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779B9-C67F-43F1-989E-C564DB3D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4425-BBF9-4D62-AC62-DE15FB7B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6BF7-A6D9-443F-A53C-4F275892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B5F-203F-4C03-A471-B8D4F92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D342-351C-488B-A4F5-AA456173033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4E20-1025-48B9-B855-00D139735A3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A4FE-0644-4E27-8BA9-05CB8D15E0A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536-81E1-4ECF-8805-A7F1644CB80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7FF-2289-46CA-ACAB-E46D289BE98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FBB3-B4F4-4E6F-9159-0FC4163C9FD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93C-2E6B-458F-BD61-675B02F33C4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4712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073160" y="5022720"/>
            <a:ext cx="817416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571680" y="5143680"/>
            <a:ext cx="97156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is is my best friend Evelina.  She`s thirteen years old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Evelina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 got long black hair and dark  eyes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C:\Documents and Settings\User\Рабочий стол\pzgAGrLORa4.jpg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85480" y="142560"/>
            <a:ext cx="37148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e`s tall for her age and quite slim. Evelina is playing with her friends in the park. She  likes playing in the park  in her free ti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2" descr="C:\Documents and Settings\User\Рабочий стол\NAEcHKXu9Xo.jpg"/>
          <p:cNvPicPr/>
          <p:nvPr/>
        </p:nvPicPr>
        <p:blipFill>
          <a:blip r:embed="rId1"/>
          <a:stretch/>
        </p:blipFill>
        <p:spPr>
          <a:xfrm>
            <a:off x="4071960" y="214200"/>
            <a:ext cx="4857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28760" y="142920"/>
            <a:ext cx="828648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velina  is a good friend and we do a lot of things  togeth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C:\Documents and Settings\User\Рабочий стол\G_jb8fIIViw.jpg"/>
          <p:cNvPicPr/>
          <p:nvPr/>
        </p:nvPicPr>
        <p:blipFill>
          <a:blip r:embed="rId1"/>
          <a:stretch/>
        </p:blipFill>
        <p:spPr>
          <a:xfrm>
            <a:off x="0" y="1393920"/>
            <a:ext cx="72867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4-01-22T14:33:17Z</dcterms:modified>
  <cp:revision>20</cp:revision>
  <dc:subject/>
  <dc:title>Слайд 1</dc:title>
</cp:coreProperties>
</file>