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16AA-F8EE-4D24-86DF-3FBC4EF1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76D-A44E-4E75-BF75-04C55ED8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B44-CE2E-4242-8EC3-B9480F0F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534-6314-4674-8C2D-6DFCC558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2E46-1CA6-4282-A606-F7764F7A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7805-0B01-41F1-AA3B-34D8A7F2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81EC-7EB1-4F1B-AFB5-F70A9E4E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B282-43D8-4817-9D47-C5037519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0B1E-530E-49E2-B918-9C900320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1657-502C-4893-BB09-EE2C586E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9EB5-E0CC-411A-8837-36FF357D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C9C-AADC-4A71-A8F4-1E1623DC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50D0-ACA1-4893-9D59-B1F6105A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7DCA-53AB-47D9-A9D9-CB6B5500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7B4C-01F0-4F4F-9141-23FAFF32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24CD-2596-4F02-9C63-BF229D0F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D037-A0F7-4881-8859-7003CDEE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9F9CA-0269-4DB9-827C-90E4A602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CB646-5C29-4B94-BA03-55E7B81E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8BCD7-695B-40F9-9152-C7759E10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C2251-F4EB-41B4-AF03-B8AE6632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8A837-13C0-412D-B9F2-1A498B32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EFB-681B-41D1-B5AC-4464927D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ED3DC-EC36-4E72-B567-E3D14355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D4802-7704-4794-935C-7C0ED8D1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311A4-9B78-4CB9-AEA4-9FEC21C4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C1CC3-2AE2-4A45-B6E4-536A00AC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3ED03-9F35-4073-81CF-6DD4C6E0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2917F-F25B-467F-8B6D-2ABBADED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1B3BA-7989-4635-A90A-18EFAE45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D75C6-E50F-4D22-98B1-6DC7F5DB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72A62-C20F-4E0D-9A8A-37699FAE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C1694-12A9-4FF8-A5F4-C8BC7C51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677-D2B8-4965-AA76-DEDD0F14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C222B-1239-404E-9046-0D3BDAE6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E9E59-3921-4539-9500-A5DEDF7C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5127F-460D-43CF-8F78-756BF28D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AF5C3-1D08-4D10-8D3F-0A1D444F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33934-3990-43DE-BAEB-E8425AAE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D036E-302F-47DC-8703-1D5F23E8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CB486-5A9A-4C68-9F15-3A8D9EBE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1CAC9-CECB-49B7-9591-F1A80E71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08B76-5E0B-464A-AAF9-D801A247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7BF05-C9C0-4FC0-A08B-2858B2E0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644-55A0-4602-8F2C-E001599A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9F0FC-7323-4F28-AEAE-2DE0D898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28D33-1221-4856-B116-F0355043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76770-9827-4C4A-AEB1-E383F200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8F9B1-9ABF-4AC4-A93D-D8CC8E5D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F6A2E-8966-4058-8D7A-8B3804C9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3F917-DF36-4141-B81A-4C7AFAB8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C0B17-AF34-4E26-9633-0AAD6416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24492-980D-4CC7-92BC-474150EB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54271-FF5A-4115-9B7C-BC585B33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077C7-160B-4895-937D-7B63D1DC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0CC-E41B-4308-9977-81C5397D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187EA-FC1E-40FC-BA44-F6242BD0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A70BC-8F31-4974-9279-B77D7498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07ACB-F341-42FE-AD18-36D0841A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D80D9-08FF-475E-AD55-0B0E10DF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C5671-1EA2-4835-963E-C5140022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FC68D-6D28-4E1C-99B9-4F225B15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E16C4-3D5F-410E-AD09-68A7E4F1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71EA9-738D-42A4-8C92-B9617747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1AE8D-7698-4010-B82E-28FB2126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CC11C-6E30-464A-9AE4-FE40B2AF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AC1A-08BF-4823-A5C3-8A4842A7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D25C0-F79F-4102-921D-1C7E0BF0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40CDA-4CBB-4B0A-8621-B7858709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5731F-4B43-403E-9389-6614CB6C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2554B-E458-4B66-B993-48EE529D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F1AE2-1F38-46E5-8CCC-E79027B9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1FD49-9B63-455D-A3F6-9136E958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C2533-AAAC-491E-A42A-31A78320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E55BB-0E3F-4C49-B4B1-B794E727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DAAB4-7452-4D5A-AD59-EDEBCEA6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45D34-CD41-4DE3-90D3-E0896E22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F4F-58BC-4DEC-8B69-690A0A7C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3EEF2-6CCB-4E89-9790-022E5363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69D99-F7CD-424C-BCDF-DC59B228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1DCB0-D2F0-4B80-A2D3-6A1AD22E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442A3-4993-454B-8A8D-E889B59C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C19B9-6D58-4D74-B3A7-8775986C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F1E-C85D-404E-A52D-D7542DBE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0FD6-6314-4CD9-B373-8D016BB09F0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948B-AE37-4400-8111-2286271741ED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68B2-852E-4B33-B6CE-CCD9B0C807F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D245-D50C-49C1-879A-62BC3645F2C7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2CE3-2AA6-4CB2-B91A-DE7553D1E78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42E1-67ED-4B17-ADEE-18AF3F69FA15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1736-778F-4EFE-B362-F00BD1174223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54712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1073160" y="5022720"/>
            <a:ext cx="817416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571680" y="5143680"/>
            <a:ext cx="97156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This is my best friend Evelina.  She`s thirteen years old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Evelina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as got long black hair and dark  eyes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5" name="Picture 2" descr="C:\Documents and Settings\User\Рабочий стол\pzgAGrLORa4.jpg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285480" y="142560"/>
            <a:ext cx="371484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he`s tall for her age and quite slim. Evelina is playing with her friends in the park. She  likes playing in the park  in her free time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Picture 2" descr="C:\Documents and Settings\User\Рабочий стол\NAEcHKXu9Xo.jpg"/>
          <p:cNvPicPr/>
          <p:nvPr/>
        </p:nvPicPr>
        <p:blipFill>
          <a:blip r:embed="rId1"/>
          <a:stretch/>
        </p:blipFill>
        <p:spPr>
          <a:xfrm>
            <a:off x="4071960" y="214200"/>
            <a:ext cx="48578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28760" y="142920"/>
            <a:ext cx="828648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velina  is a good friend and we do a lot of things  togeth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2" descr="C:\Documents and Settings\User\Рабочий стол\G_jb8fIIViw.jpg"/>
          <p:cNvPicPr/>
          <p:nvPr/>
        </p:nvPicPr>
        <p:blipFill>
          <a:blip r:embed="rId1"/>
          <a:stretch/>
        </p:blipFill>
        <p:spPr>
          <a:xfrm>
            <a:off x="0" y="1393920"/>
            <a:ext cx="728676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14-01-22T14:33:17Z</dcterms:modified>
  <cp:revision>20</cp:revision>
  <dc:subject/>
  <dc:title>Слайд 1</dc:title>
</cp:coreProperties>
</file>