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9B5-F4E1-4A7F-BEED-103FF3E1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1F7-7980-45BD-A980-5D4A3DDC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92C82-E00D-4D43-A861-A7E21527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269CD-E198-49DD-84ED-39E1769C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A7EE6-7F54-440C-81D4-36121BD8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1D7B0-B996-4A8C-BBF4-968C88A5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08756-EE80-4D78-A365-27C378E6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E43DB-9A57-4364-A938-BD7943A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28B06-2578-43D2-940A-9E317EB4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1EA28-00FC-4CE7-953F-3661B227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E1ADA-724D-4164-A4DA-9387F78A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158-2706-4DC6-8B12-6A748615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707-327F-46D9-A4DA-516434D3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CE7F-7147-4FC6-8A25-B5D905F5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8E3C-3D1F-479E-AEB1-4B64B4E1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2102-E63C-4F14-B36E-E05662FD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D2C0-1134-4392-AA25-6B801165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948B-399E-4A53-A596-CD9B8118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5E18-0261-4A32-A2F7-7F665E04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1632-159F-4186-95A4-DDABA27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FEE-C56A-44A0-B5E8-E70DF534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385E-F165-4C1C-8F48-93F7ACDD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C703-8589-4328-89E3-7B60287B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E6BC-E8E1-4299-8E3E-23733F08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0880-7C44-4289-9437-08177D30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6D1A-B6DD-41A1-BBB0-CD0393DB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7640-654F-4121-9854-575811DA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848D-5FC6-4E68-B39D-BA28529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3C88-1EB6-41C9-AEC1-C73B5D9C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1410-360C-4D86-B151-38D0904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D3BF-8F4D-47A9-B4D8-7687BB59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BD6-BDD7-4C70-913F-D1CAC66F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5E422-5838-463D-8430-CF5E1764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0972-8A8C-4245-B3CB-B2A75BB4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1EFE-F991-475C-9096-0FC3BAE3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86C3A-80C1-4A9C-99E9-122BEDE4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5F56-7E7F-4D31-991E-D99DF952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46B4-3521-4125-846A-560E5215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7D90-1817-4D02-82FB-3A555AB2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6EDF2-083E-45EB-98D6-61C31BE2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EB9C-7B2B-43F6-87C6-B17453A2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EC7C-BE40-44C2-82BD-EA0F765B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44A-6C7A-4321-8E28-54B7142C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3F92-D5BF-45D4-B27A-1D72DC6F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1951-E913-4C93-9E4C-F8C23646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562D-4560-42EF-A5C7-24071B16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EE1E8-2CD8-4D8D-ADE9-1E166C39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CF7E6-66AB-4FEF-A9C1-E7ACDA8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8896-AE56-45FF-ADE1-B228697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AF8D9-48E1-48C0-AFBD-91D31C5C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5964-0278-43D8-9774-B61B7E40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15AA-1672-49B5-AF8C-A6269550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1DE1-DAEA-4B4D-8D8A-D8165837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E4B-701F-4628-B2B1-AEDDAA84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AD26-9042-4342-BCB1-954178A9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DFBAD-9CE9-4B16-98A7-CF2F0855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934F-7CAF-4232-AA89-502D7FFF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8B9D-E251-4216-938C-52CD7BE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7AA71-5433-499A-9232-A3A24312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1CC87-3F1D-490A-9C85-AE3682CB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89F30-7F7C-4C63-9A4A-E41E2075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F80C7-718A-457A-B6EF-4EC9733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03A23-AE43-43EA-8E3C-7D2EDBAA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3CC22-3DF9-47F5-8891-56B50590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AA1-CADB-4DE7-8058-8A857607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C0835-3901-437F-83D3-842D982F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BCC22-7ACC-4CBB-BD58-A17A94B0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5ED3E-B559-41C1-9BED-DB2A97C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658F2-119B-4088-9677-2ECCD9AF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FD8FD-DCDF-4CEE-BC03-56B91F3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D520A-C953-4256-B97C-E0E931D7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2F85F-2B09-4F43-8E45-BDFA3CC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8EFE7-240D-4F61-A250-20826469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99BB3-9066-437D-9EC2-3C7395D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5BF5D-2F31-4F51-B118-AC8A804F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E47-E411-45CF-8AE9-B34760A2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EA12E-2862-4A6B-A07E-B80B97E2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A6847-3B39-4891-B7AF-17526410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C4AA7-728D-4052-95A1-F74CF963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61FCF-C9EB-4C82-8AE6-D7A9F970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9FF3D-95E4-483B-B2F5-CDA9926D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62EF5-64E8-48F9-8CA4-98DAA36C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60A17-6C82-452F-BDC6-DADC2AB0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89814-CBF0-429E-8DCF-9A65D700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A8992-9BF7-4320-AA2A-EF61ABBE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F4624-B5E3-4B0F-B8E2-FD317FAD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AD0-B295-4E70-A0C2-BFCA605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A7D9E-EFB2-43F0-871D-824EF83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D333C-93FA-4A7B-86DF-9E32EEF1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7930-E429-4C53-9B07-50C010F5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DCBD2-B57B-443D-8094-8F7B3A5B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6126F-8ADD-46CC-92FF-375D077B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5DCF7-643F-48D3-A516-C6AC1198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2562-B645-470B-879D-6175AA28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106A1-A3A2-44C3-9994-05C56310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0DB50-D47B-45A9-9ABB-0CC86CC8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D2246-0C0E-4598-9DB2-1660A4B5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46B-DB22-4092-B84D-A5932308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D9F6D-04F4-476D-87D2-41B605C0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67AA6-330A-45D1-839C-7A52BDD8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A0C5D-8631-4995-9820-91B2419B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EE0E-DA4E-4828-9477-074C06BE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80F5B-A8F2-47EE-A6E1-F5DC8BFA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6FDF1-5759-497D-84CF-92F9CFB9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D666-57ED-4586-8AC4-C26AD639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8B3FB-A6C4-4437-B422-5A9F205C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6B48E-6292-4426-8450-FF84F267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8C72A-0C37-4F46-89DC-0651F835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9F1C-93CD-4DE1-904A-35D663BBED3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7AB2-B31A-4178-837C-71BD8A6B7F6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B901-D352-4553-A017-ABE18CAAE39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186D-42F7-47F7-97AA-FA1608676EB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A7AA-9BDC-4F75-B367-DAA453B2A6C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D260-7E7D-461C-989D-85119C4FCC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4EDB-815D-4B9E-9BF2-31187660F1F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698A-7235-4EA2-A0A1-42C47B94FA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61D1-0F8A-46A8-9227-807088B646E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E358-A4B8-470A-AA36-995C6FC1AF1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81E6-9BEB-45A2-8DCF-E064252FD4A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C25F-F635-45B6-B9B0-4CD8A460AC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2293-EF51-435E-A1D9-187F130D76A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3F65-F855-4E39-B89B-ADF2FF63E6B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B1B5-FA98-4DE4-8B11-645F16F8E38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1D6C-AC98-465E-A2E7-427757D5A1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6ED0-F50B-458B-86A1-FD75A46FA84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F3D1-04AA-42FB-B7FF-950202E2D7A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7200" y="646200"/>
            <a:ext cx="8686800" cy="1493640"/>
          </a:xfrm>
          <a:prstGeom prst="rect">
            <a:avLst/>
          </a:prstGeom>
          <a:ln w="0">
            <a:noFill/>
          </a:ln>
        </p:spPr>
      </p:pic>
      <p:pic>
        <p:nvPicPr>
          <p:cNvPr id="400" name="Овал 3" descr=""/>
          <p:cNvPicPr/>
          <p:nvPr/>
        </p:nvPicPr>
        <p:blipFill>
          <a:blip r:embed="rId2"/>
          <a:stretch/>
        </p:blipFill>
        <p:spPr>
          <a:xfrm>
            <a:off x="2060640" y="3048120"/>
            <a:ext cx="2097000" cy="1242720"/>
          </a:xfrm>
          <a:prstGeom prst="rect">
            <a:avLst/>
          </a:prstGeom>
          <a:ln w="0">
            <a:noFill/>
          </a:ln>
        </p:spPr>
      </p:pic>
      <p:sp>
        <p:nvSpPr>
          <p:cNvPr id="401" name="Нижний колонтитул 9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1143000" y="2214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w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357120" y="27860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4200" y="3357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te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4"/>
          <p:cNvSpPr/>
          <p:nvPr/>
        </p:nvSpPr>
        <p:spPr>
          <a:xfrm>
            <a:off x="428760" y="3929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k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5"/>
          <p:cNvSpPr/>
          <p:nvPr/>
        </p:nvSpPr>
        <p:spPr>
          <a:xfrm>
            <a:off x="714240" y="442908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kate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6"/>
          <p:cNvSpPr/>
          <p:nvPr/>
        </p:nvSpPr>
        <p:spPr>
          <a:xfrm>
            <a:off x="1714680" y="5000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as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Овал 17" descr=""/>
          <p:cNvPicPr/>
          <p:nvPr/>
        </p:nvPicPr>
        <p:blipFill>
          <a:blip r:embed="rId3"/>
          <a:stretch/>
        </p:blipFill>
        <p:spPr>
          <a:xfrm>
            <a:off x="5419800" y="2975040"/>
            <a:ext cx="209052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9"/>
          <p:cNvSpPr/>
          <p:nvPr/>
        </p:nvSpPr>
        <p:spPr>
          <a:xfrm>
            <a:off x="6715080" y="2143080"/>
            <a:ext cx="12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hoc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0"/>
          <p:cNvSpPr/>
          <p:nvPr/>
        </p:nvSpPr>
        <p:spPr>
          <a:xfrm>
            <a:off x="7429680" y="26431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k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1"/>
          <p:cNvSpPr/>
          <p:nvPr/>
        </p:nvSpPr>
        <p:spPr>
          <a:xfrm>
            <a:off x="785808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2"/>
          <p:cNvSpPr/>
          <p:nvPr/>
        </p:nvSpPr>
        <p:spPr>
          <a:xfrm>
            <a:off x="7500960" y="37148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3"/>
          <p:cNvSpPr/>
          <p:nvPr/>
        </p:nvSpPr>
        <p:spPr>
          <a:xfrm>
            <a:off x="6858000" y="435780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now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4"/>
          <p:cNvSpPr/>
          <p:nvPr/>
        </p:nvSpPr>
        <p:spPr>
          <a:xfrm>
            <a:off x="2214720" y="200016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g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6"/>
          <p:cNvSpPr/>
          <p:nvPr/>
        </p:nvSpPr>
        <p:spPr>
          <a:xfrm>
            <a:off x="6715080" y="2143080"/>
            <a:ext cx="2428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hockey 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with a p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ere do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play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hocke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304920" y="1554120"/>
          <a:ext cx="5790960" cy="4479840"/>
        </p:xfrm>
        <a:graphic>
          <a:graphicData uri="http://schemas.openxmlformats.org/drawingml/2006/table">
            <a:tbl>
              <a:tblPr/>
              <a:tblGrid>
                <a:gridCol w="695160"/>
                <a:gridCol w="5095800"/>
              </a:tblGrid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то ты любишь делать зимой/лет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 любишь играть в / кататься на / плав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 хороший игрок / пловец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жешь ты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 тебя ест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уда ты ходиш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кем ты ходиш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304920" y="1554120"/>
          <a:ext cx="8686800" cy="4479840"/>
        </p:xfrm>
        <a:graphic>
          <a:graphicData uri="http://schemas.openxmlformats.org/drawingml/2006/table">
            <a:tbl>
              <a:tblPr/>
              <a:tblGrid>
                <a:gridCol w="695160"/>
                <a:gridCol w="5095800"/>
                <a:gridCol w="2895840"/>
              </a:tblGrid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то ты любишь делать зимой/лето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hat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 любишь играть в / кататься на / плав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D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ы хороший игрок / пловец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A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ожешь ты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Ca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 тебя ест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Hav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уда ты ходиш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here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кем ты ходишь …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480" rIns="96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th wh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anks for Your attention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at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i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her nam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ere do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liv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at do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lik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_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, winter or summer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hat do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want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_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to b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Ha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got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kates or skie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Who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teache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her to play hocke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y name is Bess. Now I live in Russia and I like winter very much. I like winter sports and I want to be a good skater. I have got skates and my brother Nick teaches me to play hockey. He can play very well. He plays hockey with his friend on the pond. I go with him to the pond and play with bo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Can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she play hockey well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WE LIKE SPORT - Часникова Е.В. "2Г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6:39:12Z</dcterms:created>
  <dc:creator>nik</dc:creator>
  <dc:description/>
  <dc:language>en-US</dc:language>
  <cp:lastModifiedBy>Наталья</cp:lastModifiedBy>
  <dcterms:modified xsi:type="dcterms:W3CDTF">2014-01-22T15:31:57Z</dcterms:modified>
  <cp:revision>63</cp:revision>
  <dc:subject/>
  <dc:title>Слайд 1</dc:title>
</cp:coreProperties>
</file>