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6EE-5518-49D6-B07A-8ED60018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F49-989A-42B1-B96E-4CD75F6B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8299B-956A-4A6D-97BD-8DBD0C1F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34958-99B6-4677-80DF-3F1A22D2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E2A7A-6F16-4586-82A9-FACF73DC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8F875-3E2D-48B8-A713-BB40CE3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18A6B-DD65-4490-8A82-5984A12C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62500-396E-4BE9-A8AC-5C5744B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E493C-F280-4824-B547-45CF0D9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8A1FF-7754-4A39-B5B1-D930F1F2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D2AAD-9085-47D1-909C-B296D9A9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51A-3CF1-40E4-BB23-833E5888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3BC-7443-46E0-8AAB-4664F4F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548A-2E3F-4FBA-889D-BBB6B08C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BFB-C2D1-4962-883E-263060AC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BAC-0760-491B-BAC4-4AD76E87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B66-859A-4F63-9ECE-9CD37AF0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BAF-D2D4-4F7E-B1C3-15AB5AF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7F80-EEB1-4D0E-959D-AD765DD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D9EE-455C-4AB3-88DE-C358DCD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A24-EE43-44FB-A140-F7D4E06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C0CF-21EE-4458-A415-16BB430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7BFE-6C62-48E0-BCF4-B3717C7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5A31-A4B4-48F9-957C-995F4D1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F4DD-81DB-44C2-B01C-3EFA53C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8054-32C1-45E4-A3F7-D39046D7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2469-FAB2-41F5-9450-B1DB6414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BAFA-001F-4A48-8947-B8A4DE4A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62CE-89E1-49A7-A305-C8FA1C5A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DC77-41D6-4166-9710-FE598CF5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36BC-99AD-47A9-BA78-F4879648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BF0-B1A7-4417-819F-E54C442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E85B-FF32-4938-81AA-F94929E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8C22-FC74-4679-88F3-0EE6BEB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C234-8D65-472E-8678-BB0B592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5184-4AB0-4332-9D6A-07187C4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A18E-727D-4D82-8C4D-194A721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21E7-9AE8-4A68-B756-087FBD6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B9AB-66B5-437A-8AFD-6481857D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9DFF-524E-4047-AF45-C7FB8545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2B95-BD37-4EBC-9816-47719C2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C6DB-AB04-40F5-A930-0CDACD57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6E6-18EF-46E7-9662-3AC5368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8A77-83B8-4615-88A3-FFDEA0F7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7322-9283-4127-87C4-F12D448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7B44-414D-46F1-9FB4-1ED7AD9F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A308-DBB9-4910-8E4C-EDC5391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1795-F3A8-4571-A7B3-374F1B1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F6E2-9794-472E-987D-D95977C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F83B-3616-49A6-B056-2C5813A7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EF4B-5825-4A02-83F9-4A436406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467B-ECEA-4529-8E88-DEA3C5FE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854C-763F-4416-81F2-F4100A6A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E95-DF68-4E86-985D-90D63D4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C560-CA98-48D5-8312-53221CD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E326-8440-4E9F-B784-7461F39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4862-0D79-481B-9893-21F670C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850A3-89D9-4EF3-9A6D-EF8E6E7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6A5B-4C7D-45D5-9836-26294B56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8E40-7134-4952-9E5E-070B60D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10BE4-DAB8-431A-8ADF-F236E00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6AC42-03BA-4116-9AEF-6CF6E93F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8442-3AA5-440A-AE64-55F5B52A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AC95-AD1D-46C5-91AE-B740B0CA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0C3-8DAC-427E-906E-BB7242C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DCA3-916B-4855-91E1-F5BA56DC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2FDF-9C0D-4B77-869E-2F7AE5CC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816E3-4D8D-45F4-A39B-12EE29B5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FB62-155B-488A-A40B-852CA5A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76F3-B8E2-439C-8E27-C6EFC8D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22C4-3842-4E14-8CCA-B28CDB69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061C9-0E27-4F20-93EF-84DCD30D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3669C-1FF7-45D1-8EF9-7BD112EE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924C-C5DB-4105-80AF-1C8F71A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997D-FE7A-421F-A173-CAA231E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638-BD1F-4269-8BD8-0993C23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23BEC-75EC-4970-9EB7-7F6E9D6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23B0F-FFFF-4DB2-90DF-3BAAB692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29C3-C30F-46DE-935F-1DC7CF56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56F2-DF55-4C01-8515-14D74278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2B7B-2A42-4857-ACD9-EB7D7652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2685-2C65-4AF7-9770-184D635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FD4C-EFD3-45D7-9C6B-7A3D9A20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44B79-0981-40FD-980E-4BF9A6E2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8D2F3-3B95-42CE-9F54-4D07717E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A46E-FA41-4821-84EC-AD809F3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E6F-FCFD-46DF-BEA5-DE62F41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E046-5797-4B05-9C07-2632456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BF114-018B-4467-BB75-A64B6B2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5488-A113-4711-B0B2-F948EBE3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CF1A-B489-4B8A-A28F-08E00F1A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1C427-89DA-4337-A5AD-1FA0C500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A037-9AD5-4F56-BFDA-B12AC788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EB98C-3100-463E-BFD1-8E78BC38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FFE3-5A90-4B4F-9D23-95161A89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D32C1-C7B3-47CF-BFD0-2928429C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1618-8937-425C-A975-54C79F8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4F5-014D-4AF6-8C7D-9F9C4D98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F31D-35FC-4453-97F2-C23A181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7C5D-2C86-4C4E-BB11-2D0FAC3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3512-1F41-4934-BD38-E553D45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72053-AF75-43A9-844E-AEF0BD5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B016-8F86-4796-A8B5-8CF006A1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0FC7A-0224-422E-B505-12FAD7F8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23CE-6A55-4665-8521-E006E87D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74CDA-EA3E-4754-AFF0-6ECE3061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C324-F9CE-437C-9CE3-40E8F08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E1DC5-6296-4106-A5DC-F8942F07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5D1-5877-4178-9981-A39B08BDED6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44E-805C-40F9-B770-C3D261A508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8DE-292E-4A82-B025-2043C3C9A4E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466A-6F21-4E4B-9006-CB90E8570F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5C2F-A1C8-44E3-9165-5B98D266330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A06D-ADFF-4531-8A2E-72F2BF960D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E7C6-53EC-4659-86AD-298670C896E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3E2-C49E-4991-AEEE-4DC9821223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CCDE-2592-44C0-8D06-C3725BFAF7E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62F1-A9A7-440E-AD2B-00B0015A17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B22-180F-41C0-88C4-ED7AAA8A08F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81C8-86B3-4CC2-BB7D-C27A5EAFB4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A438-5B0A-4FDE-9751-ACCA393481F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516-2A11-4C51-8132-1A09C00025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8934-E407-4773-B56B-A8190EDBB54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03EC-3C56-45AF-A1D1-AC5C937FED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E81B-0748-49E0-B6C2-1B1284FDBDD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2F3-CB7C-4E1F-BD16-7F1B053516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7200" y="646200"/>
            <a:ext cx="8686800" cy="1493640"/>
          </a:xfrm>
          <a:prstGeom prst="rect">
            <a:avLst/>
          </a:prstGeom>
          <a:ln w="0">
            <a:noFill/>
          </a:ln>
        </p:spPr>
      </p:pic>
      <p:pic>
        <p:nvPicPr>
          <p:cNvPr id="400" name="Овал 3" descr=""/>
          <p:cNvPicPr/>
          <p:nvPr/>
        </p:nvPicPr>
        <p:blipFill>
          <a:blip r:embed="rId2"/>
          <a:stretch/>
        </p:blipFill>
        <p:spPr>
          <a:xfrm>
            <a:off x="2060640" y="3048120"/>
            <a:ext cx="2097000" cy="1242720"/>
          </a:xfrm>
          <a:prstGeom prst="rect">
            <a:avLst/>
          </a:prstGeom>
          <a:ln w="0">
            <a:noFill/>
          </a:ln>
        </p:spPr>
      </p:pic>
      <p:sp>
        <p:nvSpPr>
          <p:cNvPr id="401" name="Нижний колонтитул 9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14300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357120" y="27860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4200" y="3357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t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428760" y="3929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714240" y="442908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ate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6"/>
          <p:cNvSpPr/>
          <p:nvPr/>
        </p:nvSpPr>
        <p:spPr>
          <a:xfrm>
            <a:off x="1714680" y="5000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Овал 17" descr=""/>
          <p:cNvPicPr/>
          <p:nvPr/>
        </p:nvPicPr>
        <p:blipFill>
          <a:blip r:embed="rId3"/>
          <a:stretch/>
        </p:blipFill>
        <p:spPr>
          <a:xfrm>
            <a:off x="5419800" y="2975040"/>
            <a:ext cx="209052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9"/>
          <p:cNvSpPr/>
          <p:nvPr/>
        </p:nvSpPr>
        <p:spPr>
          <a:xfrm>
            <a:off x="6715080" y="2143080"/>
            <a:ext cx="12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ho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7429680" y="26431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785808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2"/>
          <p:cNvSpPr/>
          <p:nvPr/>
        </p:nvSpPr>
        <p:spPr>
          <a:xfrm>
            <a:off x="7500960" y="37148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3"/>
          <p:cNvSpPr/>
          <p:nvPr/>
        </p:nvSpPr>
        <p:spPr>
          <a:xfrm>
            <a:off x="6858000" y="435780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now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4"/>
          <p:cNvSpPr/>
          <p:nvPr/>
        </p:nvSpPr>
        <p:spPr>
          <a:xfrm>
            <a:off x="2214720" y="20001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g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6"/>
          <p:cNvSpPr/>
          <p:nvPr/>
        </p:nvSpPr>
        <p:spPr>
          <a:xfrm>
            <a:off x="6715080" y="2143080"/>
            <a:ext cx="2428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hockey 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with a p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ere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play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hock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304920" y="1554120"/>
          <a:ext cx="5790960" cy="4479840"/>
        </p:xfrm>
        <a:graphic>
          <a:graphicData uri="http://schemas.openxmlformats.org/drawingml/2006/table">
            <a:tbl>
              <a:tblPr/>
              <a:tblGrid>
                <a:gridCol w="695160"/>
                <a:gridCol w="5095800"/>
              </a:tblGrid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то ты любишь делать зимой/лет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любишь играть в / кататься на / плав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хороший игрок / пловец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жешь ты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тебя ест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уда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кем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304920" y="1554120"/>
          <a:ext cx="8686800" cy="4479840"/>
        </p:xfrm>
        <a:graphic>
          <a:graphicData uri="http://schemas.openxmlformats.org/drawingml/2006/table">
            <a:tbl>
              <a:tblPr/>
              <a:tblGrid>
                <a:gridCol w="695160"/>
                <a:gridCol w="5095800"/>
                <a:gridCol w="2895840"/>
              </a:tblGrid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то ты любишь делать зимой/лет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hat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любишь играть в / кататься на / плав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хороший игрок / пловец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жешь ты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Ca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тебя ест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Hav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уда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here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кем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th wh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nks for Your attention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i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her nam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ere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liv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lik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, winter or summer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want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o b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Ha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got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kates or skie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Who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teach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her to play hock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Can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play hockey well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39:12Z</dcterms:created>
  <dc:creator>nik</dc:creator>
  <dc:description/>
  <dc:language>en-US</dc:language>
  <cp:lastModifiedBy>Наталья</cp:lastModifiedBy>
  <dcterms:modified xsi:type="dcterms:W3CDTF">2014-01-22T15:31:57Z</dcterms:modified>
  <cp:revision>63</cp:revision>
  <dc:subject/>
  <dc:title>Слайд 1</dc:title>
</cp:coreProperties>
</file>