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DCE-7DAF-4D97-BA7F-A12DB1CE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691-240B-40E3-8AA4-1767404D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074-1D3A-4FBF-841C-C4F6559D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FF3-E9C4-4042-B15F-26323A87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160D-53AC-46AE-9670-BEB7741C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CE7D-800D-4FA5-A8F3-52114B7E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1E37-3710-4412-B8A2-371A16A6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AB38-348C-4960-B167-AD806E59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1577-669E-4D95-ADFE-369F30B4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F523-DD19-4349-966F-0BAD4722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16E4-DA48-438F-831D-D1F21FC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00E-5D69-4961-A358-6CBCDC8B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00C8-F593-4746-96BA-F53FA036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E726-5AF9-4CC6-B1B9-17EF8F59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F48C-0ECD-4981-8CB4-864E41E1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8ACB-3261-4769-A076-E349BEAF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C207-D187-434E-B045-E25EE166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C04-66B0-4ED7-9BBF-2B2650FD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0EB-F9B7-4B8A-A524-E4A367B3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0B3-1E00-4075-B121-044D298C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839-2AA4-43AA-9886-31643EA5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A60-473B-45DE-A619-0D36F321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303-87D4-4AEF-B54B-095C317A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743-51F9-422C-960D-773729D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8A88-36A0-4EB2-ACC3-91572E098F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C143-B7C9-4131-AFC9-606E38CEBE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ЕГЭ 2013: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то ново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 чего ждать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454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ственный организатор проводит инструктаж участников ЕГЭ о порядке проведения экзамена, правилах заполнения бланков ЕГЭ, продолжительности экзамена, правилах подачи апелляции о нарушении установленного порядка проведения ЕГЭ, о несогласии с выставленными баллами по ЕГЭ, о случаях удаления с экза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завершения заполнения регистрационных полей бланков ЕГЭ всеми участниками ЕГЭ ответственный организатор объявляет о начале экзамена и фиксирует время начала и окончания экзамена на школьной доске. Время, отведённое на инструктаж и заполнение регистрационных полей бланков ЕГЭ, в общее время экзамена не включ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лучае если участнику ЕГЭ оказалось недостаточно одного бланка ответов № 2, организатор выдает дополнительный бланк ответов № 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лучае неполного заполнения бланка ответов № 2 ответы, внесенные на дополнительный бланк ответов № 2, оцениваться не буд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участнику ЕГЭ необходимо покинуть аудиторию по уважительной причине, то он может выйти из аудитор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опровожде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дного из дежурных по этажу, предварительно сдав бланки ЕГЭ ответственному организатору по ауд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участник ЕГЭ по объективным причинам не может завершить выполнение экзаменационной работы, то данный участник может досрочно покинуть аудиторию и ППЭ до завершения экзамена. В этом случае в пропуске участника ЕГЭ делается запись «Не закончил экзамен по объективной (уважительной) причин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30 мину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 окончания экзамена организатор в аудитории информирует участников ЕГЭ о времени, оставшемся до конца экзам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Завершение ЕГЭ в аудитории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стечении времени экзамена ответственный организатор объявляет окончание экзамена и просит все материалы положить на край рабочего стола. При этом все участники ЕГЭ должны оставаться на своих мес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торы в аудитории собирают ЭМ у участников ЕГ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боре ЭМ организатору необходимо в бланке ответов № 2 (или в дополнительном бланке ответов № 2) поставить прочерк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в самом конце всех ответов на оставшемся пустом месте бла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тогам сбора ЭМ у участников ЕГЭ организатор формиру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опок материалов: бланки регистрации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нки ответов №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нки ответов № 2, в том чи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е бланки ответов №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в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рием апелляций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ник ЕГЭ имеет право подать в письменной форме апелляцию: о нарушении установленного порядка проведения ЕГЭ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 день экзамена до выхода из ПП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о несогласии с выставленными баллами по ЕГЭ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 течение двух рабочих дней со дня объявления результатов ЕГ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соответствующему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одачи апелляции о нарушении установленного порядка проведения экзамена участнику ЕГЭ необходимо обратиться к ответственному организатору в аудитории или руководителю ППЭ, которые обязаны предоставить участнику экзамена форму заявления на апелляцию о нарушении установленного порядка проведения экза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ник ЕГЭ должен заполнить данную форму в двух экземплярах и лично передать заявление уполномоченному представителю ГЭК в ППЭ. Оба экземпляра апелляционной формы удостоверяет уполномоченный представитель ГЭК. Один экземпляр формы остается у участника экзамена, второй экземпляр передается уполномоченному представителю ГЭК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ная комиссия рассматривает апелляцию не более четырех рабочих дней с момента ее подачи участником ЕГЭ и принимает одно из решен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 отклонении апелляции и сохранении выставленных бал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 удовлетворении апелляции и выставлении других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ыявления ошибок в обработке и  проверке экзаме-национной работы участника ЕГЭ КК передает соответствую-щую информацию в РЦОИ для передачи в уполномоченную организацию с целью пересчета результатов ЕГ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 о результатах рассмотрения апелляции передается КК в уполномоченную организацию в течение двух календарных дней с момента принятия решения К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Коды предметов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56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1447920"/>
          <a:ext cx="8076960" cy="4647960"/>
        </p:xfrm>
        <a:graphic>
          <a:graphicData uri="http://schemas.openxmlformats.org/drawingml/2006/table">
            <a:tbl>
              <a:tblPr/>
              <a:tblGrid>
                <a:gridCol w="3276360"/>
                <a:gridCol w="4114800"/>
                <a:gridCol w="685800"/>
              </a:tblGrid>
              <a:tr h="464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 – 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 – 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 – 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 – хим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 – информа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 – 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 – 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 – географ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 - англий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- немец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- француз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 - обществозн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- испански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 – 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Приказ ОО ААМР </a:t>
            </a:r>
            <a:br>
              <a:rPr sz="32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«О порядке окончания 2012-2013 учебного года»</a:t>
            </a:r>
            <a:r>
              <a:rPr b="1" lang="en-US" sz="2500" spc="-1" strike="noStrike">
                <a:solidFill>
                  <a:srgbClr val="330033"/>
                </a:solidFill>
                <a:latin typeface="Times New Roman"/>
              </a:rPr>
              <a:t>             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546640"/>
            <a:ext cx="800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31920" y="3430440"/>
          <a:ext cx="5943600" cy="51768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28600" y="1676520"/>
            <a:ext cx="89154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Закончить 2012 - 2013 учебный год в общеобразовательных учреж-дениях района в следующие с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первых, выпускны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классах -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25 мая 2013 г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 вторых – восьмых, десятых классах - 30 мая 201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Торжественные линейки, посвященные окончанию учебного года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классах (праздник «Последний звонок»), провести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25 мая      2013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овести педагогические советы общеобразовательных учрежде­ний по допуску выпускник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классов к государственной (итоговой) аттестации не позднее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24 мая 201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твердить следующие сроки проведения государственной (итоговой) аттес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  за курс основного общего образования - с 28 мая 2013 года по 14 июня 2013 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-  за курс среднего (полного) общего образования - с 27 мая  по 19 июня 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Провести организованное вручение аттестатов об основном общем образовании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17 июня 201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Провести торжественное вручение аттестатов о сред­нем (полном) общем образовании,  выпускные вечера </a:t>
            </a: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20 июня 201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Письмо министерства образования Ставропольского кра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1- 54/073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О проведении разъяснитель-ной работы по подготовке и проведению государственной (итоговой ) аттест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уем при проведении информационно-разъяснительной работы  с выпускниками 11 (12) классов и их родителями (законными представите­лями) особое внимание обратить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Выпускники 11 (12) классов должны в полной мере воспользоваться своим правом на выбор экзамен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собенности проведения в 2013 году государственной (итоговой) аттестации за курс среднего (полного) общего образования, в том числе на изменения в Порядке проведения ЕГ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Порядок работы психолого-медико-педагогической коми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330033"/>
                </a:solidFill>
                <a:uFillTx/>
                <a:latin typeface="Times New Roman"/>
              </a:rPr>
              <a:t>Федеральный закон от 2 февраля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2011 года № 2-ФЗ "</a:t>
            </a:r>
            <a:r>
              <a:rPr b="1" lang="en-US" sz="1800" spc="-1" strike="noStrike" u="sng">
                <a:solidFill>
                  <a:srgbClr val="330033"/>
                </a:solidFill>
                <a:uFillTx/>
                <a:latin typeface="Times New Roman"/>
              </a:rPr>
              <a:t>О внесении изменений в Закон Российской Федерации «Об образовании»  и статьи 11 и 24 Федерального закона «О высшем и послевузовском профессиональном образовании» в части  совершенствования единого государственного экза­мена "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  вступает в силу 15 февраля 2011 года.</a:t>
            </a:r>
            <a:br>
              <a:rPr sz="18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щаем Ваше внимание, что данным Федеральным законом установлено, что: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едставляет собой форму объективной оценки качества подгот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иц, освоивших образо­вательные программы среднего (полного) общего образования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использованием контрольных измерительных материал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едставляющих собой комплексы заданий стандартизированной формы (КИ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дения, содержащиеся в контрольных измерительных материалах, относятся к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нформации ограниченного досту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Чего ждать от ЕГЭ 2013?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822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основной волне в ЕГЭ 2012 года приняли участие 843 766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сдали ЕГЭ 2012 более 25 тысяч школьников, что составляет 2,96% от всех принявших участие в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2012 году ЕГЭ по математике сдавало более 800 тыс. человек, по русскому языку - 827 тыс. человек. На третьем месте идет обществознание - 515 тыс. жела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,5% учеников не сдало ЕГЭ по математике, более 3% не справились с русским язы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ксимальный бал ЕГЭ по математике набрали всего 51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ксимальный бал ЕГЭ по русскому языку набрали 1897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ца, привлекаемые к проведению ЕГЭ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в период проведения ЕГЭ такж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ц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дававшие ЕГЭ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с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ответствии с законодательством Российской Федерац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ственность за разглашение содержащихся в контрольных измерительных материалах с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местах проведения ЕГЭ, государственной (итоговой) аттестации обучающихс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мых образовательными учреждениями во время проведения ЕГЭ  запрещается размещать в сети Интерне КИМ или информацию из КИМ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частникам указанных мероприятий и лицам, привлекаемым к их проведению, запрещается иметь при себе и использов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редства связи и электронно-вычислительной техники (в том числе калькуляторы), за исключением случаев, установленных нормативными правовыми актами Российской Федерации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деральным законом предусмотрено, что  сведения, содержащиеся в контрольно-измерительных материалах, используемых при проведении ЕГЭ относятся к информации ограниченного доступа, за разглашение  которой  лица, привлекаемые к проведению ЕГЭ, и его участники несут установленную законодательством Российской Федерации ответствен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Условные обозначения сокращения и термин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Э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-   это   Государственная   экзаменационная   комисс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ПЭ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ункт проведения экза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контрольно-измерительный материал - это комплект тестовых   заданий   разного  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ПОИ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  первичный   пункт   обработки  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ЦО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егиональный центр обработк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детельство ЕГ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это именной документ с результатами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ФИП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Федеральный институт педагогических измерений при Министерстве образования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кзаменацион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индивидуальный комплект участника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 конфликтная коми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Сколько предметов сдавать </a:t>
            </a:r>
            <a:br>
              <a:rPr sz="34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в ЕГЭ 2013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287440"/>
            <a:ext cx="77724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язательных -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атематика и русский язык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Остальные сдаются по желанию (можно выбрать все, можно и не выбира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Что нового планируется в 2013 году?</a:t>
            </a:r>
            <a:br>
              <a:rPr sz="38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ируемые изменения в КИ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зменений по многим предметам практически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 русскому языку, географии, биологии обществознанию,  физике и химии планируются непринципиальные изме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 истории внесены существенные из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Минимальные баллы ЕГЭ </a:t>
            </a:r>
            <a:br>
              <a:rPr sz="34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на 2013 год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ий язык                         -  36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ка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24 бал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ка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6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мия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6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ология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6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рия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2 бал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а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2 бал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ознание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9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я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37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тика и ИКТ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40 бал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остранные языки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20 б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Уважительные причины пропуска ЕГЭ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13480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иеся, по каким-либо уважительным причинам не сдавшие ЕГЭ в срок, имеют возможность сдать экзамен после прохождения основной волны сдачи ЕГЭ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болезнь или иные обстоятельства, подтвержденные документаль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е выполнение экзаменационной работы (болезнь или иные обстоятельства, подтвержденные документаль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езультаты ЕГЭ, которые были отменены (например, в случае нарушений при проведении ЕГЭ со стороны организато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для пересдачи обязательно потребуется официальный документ, подтверждающий обоснованность причины, по которой экзамен не мог быть сдан в с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Допуск участников ЕГЭ в ППЭ и распределение по аудиториям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45 мину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начала экзамена руководитель ППЭ выдает помощникам списки участников ЕГЭ и дает указание начать допуск участников ЕГЭ в ПП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ководитель ППЭ организует и контролирует допуск участников ЕГЭ в ППЭ, контролирует проверку документов, удостоверяющих личность и документа, выданного при регистрации на сдачу ЕГЭ (пропус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Начало проведения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ЕГЭ в аудитории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озднее, чем за 15 мину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начала экзамена руководитель ППЭ выдает организаторам доставочные спецпакеты с ИК ЭМ, необходимое количество черновиков, дополнительные бланки ответов №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ственный организатор фиксирует количество выданных и неиспользованных ИК в аудитории в ведомости выдачи и возврата ЭМ по аудиториям ПП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0:00 (по местному времени) организатор вскрывает доставочные спецпакеты и фиксирует дату и время вскрытия в протоколе проведения ЕГЭ в аудитор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торы выдают ИК и черновики участникам ЕГЭ. ИК состоит из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М, бланка регистрации, бланка ответов № 1, бланка ответов №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0:05 (по местному времени) ответственный организатор дает указание участникам ЕГЭ вскрыть ИК и проверить их содержи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вуч</cp:lastModifiedBy>
  <dcterms:modified xsi:type="dcterms:W3CDTF">2013-04-16T08:10:2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