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4E1-D9EB-4A27-93C8-85C422BC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9FE-8A14-48C2-B036-6EBCBA55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BEA-F09B-4CDA-96F0-710F7E9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C99-490E-4889-A478-BD2FD27D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B44-D8B7-4F4A-BBE2-B403651D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8A2-0AE5-4D27-A794-B3D0E24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F40-5B9C-44C1-92BC-43D36F0C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7EC-20FE-47F1-83CF-0A803B6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843-C8E0-4182-A11F-C7B610EC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691-A839-404D-9EFA-81F5B4E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A18-68D8-441E-B4DB-D14918B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B86-008C-42C4-A5DD-9DA411A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E0FB-67AF-44BA-AEB9-F90B7692D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115920"/>
            <a:ext cx="784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МБОУ Комаров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cc"/>
                </a:solidFill>
                <a:latin typeface="Arial Black"/>
              </a:rPr>
              <a:t>НИЖНИЙ НОВГОР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64000" y="436572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Автор:                Иванова  Аня,                                     3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31880" y="630864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libri"/>
              </a:rPr>
              <a:t>п.Кудьма,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Речной вокза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800px-Nizhny_Novgorod_Riverside_Terminal"/>
          <p:cNvPicPr/>
          <p:nvPr/>
        </p:nvPicPr>
        <p:blipFill>
          <a:blip r:embed="rId2"/>
          <a:stretch/>
        </p:blipFill>
        <p:spPr>
          <a:xfrm>
            <a:off x="900000" y="1341360"/>
            <a:ext cx="72010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осковский во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Nizhny-Novgorod-Moscow-Station-mosaic-1594"/>
          <p:cNvPicPr/>
          <p:nvPr/>
        </p:nvPicPr>
        <p:blipFill>
          <a:blip r:embed="rId2"/>
          <a:stretch/>
        </p:blipFill>
        <p:spPr>
          <a:xfrm>
            <a:off x="1258920" y="1413000"/>
            <a:ext cx="666288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ланетарий и Цир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800px-Nizhny_Novgorod_Planetarium_%26_Circus"/>
          <p:cNvPicPr/>
          <p:nvPr/>
        </p:nvPicPr>
        <p:blipFill>
          <a:blip r:embed="rId2"/>
          <a:stretch/>
        </p:blipFill>
        <p:spPr>
          <a:xfrm>
            <a:off x="728640" y="1600200"/>
            <a:ext cx="76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Рождественская церков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troganovskaya"/>
          <p:cNvPicPr/>
          <p:nvPr/>
        </p:nvPicPr>
        <p:blipFill>
          <a:blip r:embed="rId2"/>
          <a:stretch/>
        </p:blipFill>
        <p:spPr>
          <a:xfrm>
            <a:off x="1908000" y="1349280"/>
            <a:ext cx="49690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чёрский Вознесенский монасты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800px-Nizhny_Novgorod_Pechersky_Monastery"/>
          <p:cNvPicPr/>
          <p:nvPr/>
        </p:nvPicPr>
        <p:blipFill>
          <a:blip r:embed="rId2"/>
          <a:stretch/>
        </p:blipFill>
        <p:spPr>
          <a:xfrm>
            <a:off x="324000" y="1628640"/>
            <a:ext cx="8615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042920" y="227664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3"/>
          <p:cNvSpPr/>
          <p:nvPr/>
        </p:nvSpPr>
        <p:spPr>
          <a:xfrm>
            <a:off x="611280" y="836640"/>
            <a:ext cx="792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ижний Новгород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— город в России, расположен в месте слияния двух рек Оки и Волги. С 1932 по 1990 год  город носил название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ький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(в честь русского советского писателя Максима Горьког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4360" y="549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Флаг Нижнего Нов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upload.wikimedia.org/wikipedia/commons/b/b5/Coat_of_Arms_of_Nizhniy_Novgorod_%28Nizhniy_Novgorod_oblast%29_%282006%29.png"/>
          <p:cNvPicPr/>
          <p:nvPr/>
        </p:nvPicPr>
        <p:blipFill>
          <a:blip r:embed="rId2"/>
          <a:stretch/>
        </p:blipFill>
        <p:spPr>
          <a:xfrm>
            <a:off x="250920" y="1341360"/>
            <a:ext cx="3957480" cy="518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39640" y="333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ерб Нижнего Нов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29272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00720" y="1557360"/>
            <a:ext cx="4319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редставляет собой           «в белом поле красный олень на четырёхугольном, с закруглёнными нижними углами, заострённом щите, рога и копыта чёрны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лень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является символом благородства, чистоты, жизни, мудрости и 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оро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— символ достижения высокой ступени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трана - Рос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Субъект  - Нижегород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лава города - Олег Валентинович Соро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ан в 1221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режние названия до 1932 года —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ижний Новгород,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до 1990 года — город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лощадь – 410 км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аселени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1 января 2010 года: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 278 800 человек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125360"/>
            <a:ext cx="80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ан князем Юрием (Георгием) Всеволодовичем в 1221 году у места слияния двух великих русских рек Волги и Оки. C 7 октября 1932 года город носил имя писателя Максима Горького. 22 октября 1990 года городу было возвращено историческое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Нижний Новгород — пятый по численности населения город России с населением 1 278 800 человек, важный экономический, транспортный и культурный центр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еограф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4000" y="1052640"/>
            <a:ext cx="8516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ород расположен на месте впадения Оки в Волгу, на правом берегу Волги. Ока делит город на две части. В верхней — находится исторический центр города (Нижегородский, Советский, Приокский районы), в нижней — Сормовский, Канавинский, Московский, Автозаводский и Ленинский районы.                                  Площадь города — 410 км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лижайшие города: город Бор (на левом берегу Волги), Дзержинск, Кстово, Богородск, Балахна – на правом берегу Вол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ид на центр города с Канавинского м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00px-Nizhny_Novgorod_View_from_Kanavinsky_bridge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103626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ижегород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433px-Nischni_Nowgorod_Kreml_2004-07-09"/>
          <p:cNvPicPr/>
          <p:nvPr/>
        </p:nvPicPr>
        <p:blipFill>
          <a:blip r:embed="rId2"/>
          <a:stretch/>
        </p:blipFill>
        <p:spPr>
          <a:xfrm>
            <a:off x="1763640" y="1484280"/>
            <a:ext cx="5664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0:42:28Z</dcterms:created>
  <dc:creator>comp-2</dc:creator>
  <dc:description/>
  <dc:language>en-US</dc:language>
  <cp:lastModifiedBy>Лариса Юрьевна</cp:lastModifiedBy>
  <dcterms:modified xsi:type="dcterms:W3CDTF">2014-01-22T13:51:11Z</dcterms:modified>
  <cp:revision>34</cp:revision>
  <dc:subject/>
  <dc:title>МОУ Центр внешкольной работы</dc:title>
</cp:coreProperties>
</file>