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7FC8-C61F-4D9A-8E46-69605791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8361-CE41-439A-99F6-864289DD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CD6-F240-4657-B068-5BF5B56B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B90F-1F4D-487F-8EF6-91A39084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4E2-4013-43B9-9789-15346318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E780-48A0-4F94-9A75-916AC8D7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9D5C-1005-4184-B6B0-6F726861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8882-B410-4AB2-AD5C-B5A23E58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30F-E774-4E82-9AAF-08E4E686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C38-F1F5-407F-B47D-965433D2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84A-F3E9-4947-A46A-366F450B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07B-51A6-40D8-8B23-429B8FD4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BBD9-62C8-4489-B723-4F275B2034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560" y="115920"/>
            <a:ext cx="7845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МБОУ Комаровская С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5280" y="1341000"/>
            <a:ext cx="8424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cc"/>
                </a:solidFill>
                <a:latin typeface="Arial Black"/>
              </a:rPr>
              <a:t>НИЖНИЙ НОВГОР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364000" y="436572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Автор:                Иванова  Аня,                                     3а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431880" y="630864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п.Кудьма,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Речной вокза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800px-Nizhny_Novgorod_Riverside_Terminal"/>
          <p:cNvPicPr/>
          <p:nvPr/>
        </p:nvPicPr>
        <p:blipFill>
          <a:blip r:embed="rId2"/>
          <a:stretch/>
        </p:blipFill>
        <p:spPr>
          <a:xfrm>
            <a:off x="900000" y="1341360"/>
            <a:ext cx="720108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Московский вокз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800px-Nizhny-Novgorod-Moscow-Station-mosaic-1594"/>
          <p:cNvPicPr/>
          <p:nvPr/>
        </p:nvPicPr>
        <p:blipFill>
          <a:blip r:embed="rId2"/>
          <a:stretch/>
        </p:blipFill>
        <p:spPr>
          <a:xfrm>
            <a:off x="1258920" y="1413000"/>
            <a:ext cx="666288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ланетарий и Цир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800px-Nizhny_Novgorod_Planetarium_%26_Circus"/>
          <p:cNvPicPr/>
          <p:nvPr/>
        </p:nvPicPr>
        <p:blipFill>
          <a:blip r:embed="rId2"/>
          <a:stretch/>
        </p:blipFill>
        <p:spPr>
          <a:xfrm>
            <a:off x="728640" y="1600200"/>
            <a:ext cx="768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Рождественская церков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Stroganovskaya"/>
          <p:cNvPicPr/>
          <p:nvPr/>
        </p:nvPicPr>
        <p:blipFill>
          <a:blip r:embed="rId2"/>
          <a:stretch/>
        </p:blipFill>
        <p:spPr>
          <a:xfrm>
            <a:off x="1908000" y="1349280"/>
            <a:ext cx="496908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ечёрский Вознесенский монастыр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800px-Nizhny_Novgorod_Pechersky_Monastery"/>
          <p:cNvPicPr/>
          <p:nvPr/>
        </p:nvPicPr>
        <p:blipFill>
          <a:blip r:embed="rId2"/>
          <a:stretch/>
        </p:blipFill>
        <p:spPr>
          <a:xfrm>
            <a:off x="324000" y="1628640"/>
            <a:ext cx="86151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042920" y="2276640"/>
            <a:ext cx="69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3"/>
          <p:cNvSpPr/>
          <p:nvPr/>
        </p:nvSpPr>
        <p:spPr>
          <a:xfrm>
            <a:off x="611280" y="836640"/>
            <a:ext cx="7921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Нижний Новгород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 — город в России, расположен в месте слияния двух рек Оки и Волги. С 1932 по 1990 год  город носил название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Горький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 (в честь русского советского писателя Максима Горького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84360" y="54936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Флаг Нижнего Нов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upload.wikimedia.org/wikipedia/commons/b/b5/Coat_of_Arms_of_Nizhniy_Novgorod_%28Nizhniy_Novgorod_oblast%29_%282006%29.png"/>
          <p:cNvPicPr/>
          <p:nvPr/>
        </p:nvPicPr>
        <p:blipFill>
          <a:blip r:embed="rId2"/>
          <a:stretch/>
        </p:blipFill>
        <p:spPr>
          <a:xfrm>
            <a:off x="250920" y="1341360"/>
            <a:ext cx="3957480" cy="5183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539640" y="33336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Герб Нижнего Нов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292720" y="177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500720" y="1557360"/>
            <a:ext cx="4319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редставляет собой           «в белом поле красный олень на четырёхугольном, с закруглёнными нижними углами, заострённом щите, рога и копыта чёрны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Олень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является символом благородства, чистоты, жизни, мудрости и справедл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орон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— символ достижения высокой ступени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Общие с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95280" y="1341360"/>
            <a:ext cx="821844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Страна - Росс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Субъект  - Нижегородская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Глава города - Олег Валентинович Соро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снован в 1221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режние названия до 1932 года —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Нижний Новгород,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до 1990 года — город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Гор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лощадь – 410 к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Население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а 1 января 2010 года: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1 278 800 человек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Истор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539640" y="1125360"/>
            <a:ext cx="8064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снован князем Юрием (Георгием) Всеволодовичем в 1221 году у места слияния двух великих русских рек Волги и Оки. C 7 октября 1932 года город носил имя писателя Максима Горького. 22 октября 1990 года городу было возвращено историческое наз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Нижний Новгород — пятый по численности населения город России с населением 1 278 800 человек, важный экономический, транспортный и культурный центр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Географ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24000" y="1052640"/>
            <a:ext cx="85168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ород расположен на месте впадения Оки в Волгу, на правом берегу Волги. Ока делит город на две части. В верхней — находится исторический центр города (Нижегородский, Советский, Приокский районы), в нижней — Сормовский, Канавинский, Московский, Автозаводский и Ленинский районы.                                  Площадь города — 410 км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лижайшие города: город Бор (на левом берегу Волги), Дзержинск, Кстово, Богородск, Балахна – на правом берегу Волг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Вид на центр города с Канавинского мо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800px-Nizhny_Novgorod_View_from_Kanavinsky_bridge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Нижегородский крем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433px-Nischni_Nowgorod_Kreml_2004-07-09"/>
          <p:cNvPicPr/>
          <p:nvPr/>
        </p:nvPicPr>
        <p:blipFill>
          <a:blip r:embed="rId2"/>
          <a:stretch/>
        </p:blipFill>
        <p:spPr>
          <a:xfrm>
            <a:off x="1763640" y="1484280"/>
            <a:ext cx="5664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0:42:28Z</dcterms:created>
  <dc:creator>comp-2</dc:creator>
  <dc:description/>
  <dc:language>en-US</dc:language>
  <cp:lastModifiedBy>Лариса Юрьевна</cp:lastModifiedBy>
  <dcterms:modified xsi:type="dcterms:W3CDTF">2014-01-22T13:51:11Z</dcterms:modified>
  <cp:revision>34</cp:revision>
  <dc:subject/>
  <dc:title>МОУ Центр внешкольной работы</dc:title>
</cp:coreProperties>
</file>