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AD3-A3FC-4534-915B-B25BF38D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59A-9666-4C83-A005-00DFAE09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25E-98B5-4CAA-8F0C-C8D6381B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08B-4921-4774-94CA-ECF5FFA8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71FD-EE8C-4803-AEFF-E0242E07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6AF0-BBFA-47B0-8BE2-9CC8690D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9D83-E2B6-456A-BEBE-75D29E51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AF9D-1475-4178-9A0E-6FEDB01C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6E01-E745-4F05-8DBA-08097945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D736-A33D-470C-BA30-8C30CAB6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3566-3E02-4167-9D33-035B574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79D-AFE3-4355-ADC3-C28276D8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1D1C-A676-464A-A6C0-90452AFF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5B52-18FA-4ACA-B517-13C7A97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3615-D218-4E87-AE06-A9A7E5EB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42D3-228B-4B7C-880F-3F39BA5D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3C07-5282-46C3-AD83-322B477C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9E5-88D5-45EF-B3F1-A0A9CDD2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6DB-6AB1-454A-AD00-253D9958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A8F-82EE-42E8-83A5-9157CBD0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B08-BCE2-4841-888A-09AF907C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369-0274-4D76-8EA5-20C565D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90D-06EE-45C6-94F2-71D1EF69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644-DFB2-4C04-84B6-D0841F27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2CA4-EC22-457A-A788-AE4C956D4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4F38-3483-411D-A5D4-D6BED9052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stisbelarus.sourceforge.net/images/e/ea/&#1057;&#1077;&#1088;&#1099;&#1081;_&#1078;&#1091;&#1088;&#1072;&#1074;&#1083;&#1100;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ЕРЫЙ ЖУРАВЛ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07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355640" y="404280"/>
            <a:ext cx="44895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ый журав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упная птица с длинными ногами и шеей, маленькой головой и острым прямым, но недлинным клювом. Длина тела 1,0-1,4 м, размах крыльев 1,8-2,4 м. Оперение взрослых птиц пепельно-серое, концы крыльев чёрные. Третьестепенные маховые перья длинные, изогнутые, у стоящей птицы прикрывают часть спины и хвост. Щёки и бока шеи белые, лоб и горло чёрные, на затылке пятно голой красной кожи. Клюв желтовато-серый, ноги тёмны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тается зерном, ягодами, насекомыми, водными растениями и беспозвоночными, лягушками, змеями, мелкими рыбами, грызунами и др. Крайне осторожен – не подпускает человека ближе нескольких сотен метров. Перелётная птиц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Файл:Серый журавль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3887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0000" y="244440"/>
            <a:ext cx="326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Серый журавль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360" y="981000"/>
            <a:ext cx="37688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лос журавля чрезвычайно звучный, громкий и приятный. Когда стая этих птиц несется высоко в воздухе, при постоянной перекличке ее членов, курлыканье журавлей раздается совершенно как отдаленный трубный звук. Но в разных случаях голос журавля довольно разнообразен. Обеспокоенная чем-нибудь птица издает отрывочное и не особенно громкое "кру"; простое удивление передается следующими друг за другом с довольно большими перерывами "курр"; отвечая на ласку или требуя корма, журавль издает довольно резкие звуки - "кир, кир"; рассерженный, часто и громко повторяет "куррр" или "киррр" </a:t>
            </a:r>
            <a:br>
              <a:rPr sz="1600"/>
            </a:br>
            <a:br>
              <a:rPr sz="16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0000" cy="626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00920" y="5813280"/>
            <a:ext cx="1741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3313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сленность популяции серого журавля медленно сокращается. К сокращению численности привело уничтожение местообитаний в результате осушения болот и добычи торфа, беспокойство на гнездовьях и в местах предотлётных скоплений, браконьерский отстрел, использование в сельском хозяйстве ядохимикатов и удобрений, приводящее к отравлению птиц во время кормёжки на предотлётных скоплениях, поэтому серый журавль занесен в Красную книг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тегория и статус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– редкий ви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532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6:06:19Z</dcterms:created>
  <dc:creator>Oleg</dc:creator>
  <dc:description/>
  <dc:language>en-US</dc:language>
  <cp:lastModifiedBy>Oleg</cp:lastModifiedBy>
  <dcterms:modified xsi:type="dcterms:W3CDTF">2013-11-26T10:32:35Z</dcterms:modified>
  <cp:revision>3</cp:revision>
  <dc:subject/>
  <dc:title>СЕРЫЙ ЖУРАВЛЬ</dc:title>
</cp:coreProperties>
</file>