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D5D-9B32-4B69-8FFC-A1A8C7BB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F27-5297-4AAB-AB52-6D659D28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79E-47F5-4C57-B8FC-0C1365CB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911-78DC-4E95-AC76-296FE4F5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E28-314C-4C2A-8CA3-602C775E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8B1B-DFCC-4192-819C-C9F0B9D4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3EA1-FA30-4B21-BD1D-401C9EE5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AC64-41C4-44EF-B30A-096A8D74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E3D3-329D-4451-BBC1-796C79F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CD4A-78A2-4957-B56D-A6F20D09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EAF2-4295-4166-BE0E-9958862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2E3-C8F8-4931-B950-2A87657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EA74-7532-44CD-8818-EDE7146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7010-83D0-4990-A28E-34DEF1B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BC90-591C-4BBA-AAA7-24DB3C2D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DC41-12AC-4EC2-8977-A4BC2FA6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5C2-40BC-4F70-825E-229C773F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641-2BC0-4FEB-8904-3E4F77C4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63C-C999-412F-B784-70475E15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2AE-3E91-479E-97D2-C4EFFD1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D3E-A95E-44F6-9274-0572551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30C-A504-4596-8FEA-1393F705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57F-198B-4037-9FEA-0F9AC63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AEB-8041-415A-8CA3-EDBEF9E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F17D-6B0E-4A40-ADFC-DE84765F0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1CA2-BD70-48C4-A1E2-EB95C53CC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stisbelarus.sourceforge.net/images/e/ea/&#1057;&#1077;&#1088;&#1099;&#1081;_&#1078;&#1091;&#1088;&#1072;&#1074;&#1083;&#1100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ЕРЫЙ ЖУРАВЛЬ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0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355640" y="404280"/>
            <a:ext cx="4489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ый журав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упная птица с длинными ногами и шеей, маленькой головой и острым прямым, но недлинным клювом. Длина тела 1,0-1,4 м, размах крыльев 1,8-2,4 м. Оперение взрослых птиц пепельно-серое, концы крыльев чёрные. Третьестепенные маховые перья длинные, изогнутые, у стоящей птицы прикрывают часть спины и хвост. Щёки и бока шеи белые, лоб и горло чёрные, на затылке пятно голой красной кожи. Клюв желтовато-серый, ноги тёмны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тается зерном, ягодами, насекомыми, водными растениями и беспозвоночными, лягушками, змеями, мелкими рыбами, грызунами и др. Крайне осторожен – не подпускает человека ближе нескольких сотен метров. Перелётная птиц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Файл:Серый журавль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887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0" y="244440"/>
            <a:ext cx="326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Серый журавль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360" y="981000"/>
            <a:ext cx="37688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лос журавля чрезвычайно звучный, громкий и приятный. Когда стая этих птиц несется высоко в воздухе, при постоянной перекличке ее членов, курлыканье журавлей раздается совершенно как отдаленный трубный звук. Но в разных случаях голос журавля довольно разнообразен. Обеспокоенная чем-нибудь птица издает отрывочное и не особенно громкое "кру"; простое удивление передается следующими друг за другом с довольно большими перерывами "курр"; отвечая на ласку или требуя корма, журавль издает довольно резкие звуки - "кир, кир"; рассерженный, часто и громко повторяет "куррр" или "киррр" </a:t>
            </a:r>
            <a:br>
              <a:rPr sz="1600"/>
            </a:br>
            <a:br>
              <a:rPr sz="16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626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00920" y="5813280"/>
            <a:ext cx="1741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3313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ленность популяции серого журавля медленно сокращается. К сокращению численности привело уничтожение местообитаний в результате осушения болот и добычи торфа, беспокойство на гнездовьях и в местах предотлётных скоплений, браконьерский отстрел, использование в сельском хозяйстве ядохимикатов и удобрений, приводящее к отравлению птиц во время кормёжки на предотлётных скоплениях, поэтому серый журавль занесен в Красную книг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тегория и статус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– редкий ви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532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6:06:19Z</dcterms:created>
  <dc:creator>Oleg</dc:creator>
  <dc:description/>
  <dc:language>en-US</dc:language>
  <cp:lastModifiedBy>Oleg</cp:lastModifiedBy>
  <dcterms:modified xsi:type="dcterms:W3CDTF">2013-11-26T10:32:35Z</dcterms:modified>
  <cp:revision>3</cp:revision>
  <dc:subject/>
  <dc:title>СЕРЫЙ ЖУРАВЛЬ</dc:title>
</cp:coreProperties>
</file>