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47A-EFD8-4A7F-A10D-F5C8F63C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A70-EBD3-4926-86EB-62A67B34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986-AF49-4A61-B062-49556040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2947-5837-4CFB-A978-C39A0582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03D2-E3D2-4AC8-8F8D-E3ECFAC4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82D5-CBB5-4CF7-BC22-E1CC09A9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56A3-CECE-4C4D-8812-6D11B824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A52E-C0A0-4B8F-9603-ABA31FA7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8D0B-728E-4365-A69F-668F0DFE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418D-DC58-480F-B251-B9EA0C9D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B632-9EA4-4730-98C6-D81F3911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AB9-C8E6-4E25-881F-60FEFA4D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08D3-48CD-487A-AFFB-C2718105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4DC8-8ED1-449A-9D8A-CEE3875D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C480-E1D8-404F-B704-D4ED6DF5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3DD4-8757-47CA-8223-1C52EC8B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0F36-5B3F-4D52-9215-B7BAFA7E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00C-861A-4016-A60A-F1807581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38C2-BF88-49A6-A8AF-33EFE65B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A47-DCC3-4897-948B-B8C09C0B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37F-1136-4D50-AADA-3ECE1C92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4946-D670-4A9D-8A00-95AE7F47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BEA3-40C3-438C-BF0C-8D76AE39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F63-87B8-4698-AE74-FDB4F63E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92c29"/>
                </a:gs>
                <a:gs pos="50000">
                  <a:srgbClr val="c16059"/>
                </a:gs>
                <a:gs pos="100000">
                  <a:srgbClr val="592c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50000">
                  <a:srgbClr val="dc893e"/>
                </a:gs>
                <a:gs pos="100000">
                  <a:srgbClr val="7a9c7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DBE2-765C-43D9-8719-F7E241ABF6F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92c29"/>
                </a:gs>
                <a:gs pos="50000">
                  <a:srgbClr val="c16059"/>
                </a:gs>
                <a:gs pos="100000">
                  <a:srgbClr val="592c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50000">
                  <a:srgbClr val="dc893e"/>
                </a:gs>
                <a:gs pos="100000">
                  <a:srgbClr val="7a9c7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DD89-DA83-4B25-836E-4B42EE096D67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bebc3"/>
                </a:solidFill>
                <a:latin typeface="Arial"/>
              </a:rPr>
              <a:t>СЛАВЯНСКИЕ ПЕРВОУЧИТЕЛИ КИРИЛЛ И МЕФОДИЙ</a:t>
            </a:r>
            <a:endParaRPr b="0" lang="en-US" sz="36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193" name="Picture 7" descr="Рисунок1"/>
          <p:cNvPicPr/>
          <p:nvPr/>
        </p:nvPicPr>
        <p:blipFill>
          <a:blip r:embed="rId1"/>
          <a:stretch/>
        </p:blipFill>
        <p:spPr>
          <a:xfrm>
            <a:off x="1357200" y="1500120"/>
            <a:ext cx="5400720" cy="50230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6"/>
          <p:cNvSpPr/>
          <p:nvPr/>
        </p:nvSpPr>
        <p:spPr>
          <a:xfrm>
            <a:off x="857160" y="5857920"/>
            <a:ext cx="700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5f2"/>
                </a:solidFill>
                <a:latin typeface="Arial"/>
              </a:rPr>
              <a:t>Работа ученика 3 и класса Зубатенко Савели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bebc3"/>
                </a:solidFill>
                <a:latin typeface="Arial"/>
              </a:rPr>
              <a:t>РОДИЛИСЬ В ГРЕЧЕСКОМ ГОРОДЕ СОЛУНИ (САЛОНИКИ)</a:t>
            </a:r>
            <a:endParaRPr b="0" lang="en-US" sz="36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196" name="Picture 4" descr="0011-011-Kirill-i-Mefodij"/>
          <p:cNvPicPr/>
          <p:nvPr/>
        </p:nvPicPr>
        <p:blipFill>
          <a:blip r:embed="rId1"/>
          <a:stretch/>
        </p:blipFill>
        <p:spPr>
          <a:xfrm>
            <a:off x="684360" y="1598760"/>
            <a:ext cx="6840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612144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bebc3"/>
                </a:solidFill>
                <a:latin typeface="Arial"/>
              </a:rPr>
              <a:t>СОЗДАЛИ ПЕРВЫЙ АЛФАВИТ</a:t>
            </a:r>
            <a:endParaRPr b="0" lang="en-US" sz="36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198" name="Picture 13" descr="iCANSGJMW"/>
          <p:cNvPicPr/>
          <p:nvPr/>
        </p:nvPicPr>
        <p:blipFill>
          <a:blip r:embed="rId1"/>
          <a:stretch/>
        </p:blipFill>
        <p:spPr>
          <a:xfrm>
            <a:off x="539640" y="1844640"/>
            <a:ext cx="6985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74768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bebc3"/>
                </a:solidFill>
                <a:latin typeface="Arial"/>
              </a:rPr>
              <a:t>ДЛЯ ЗАПИСИ ТЕКСТОВ СОЗДАЛИ СПЕЦИАЛЬНУЮ АЗБУКУ – ГЛАГОЛИЦУ, ЗАТЕМ КИРИЛЛИЦУ.</a:t>
            </a:r>
            <a:br>
              <a:rPr sz="2800"/>
            </a:br>
            <a:r>
              <a:rPr b="1" i="1" lang="ru-RU" sz="2800" spc="-1" strike="noStrike">
                <a:solidFill>
                  <a:srgbClr val="fbebc3"/>
                </a:solidFill>
                <a:latin typeface="Arial"/>
              </a:rPr>
              <a:t>КИРИЛЛИЦА – ЭТО АЗБУКА, КОТОРУЮ ИСПОЛЬЗУЮТ СЕГОДНЯ БОЛГАРЫ, РУССКИЕ, СЕРБЫ, УКРАИНЦЫ</a:t>
            </a:r>
            <a:endParaRPr b="0" lang="en-US" sz="28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00" name="Picture 4" descr="0012-012-Kirillitsa"/>
          <p:cNvPicPr/>
          <p:nvPr/>
        </p:nvPicPr>
        <p:blipFill>
          <a:blip r:embed="rId1"/>
          <a:stretch/>
        </p:blipFill>
        <p:spPr>
          <a:xfrm>
            <a:off x="539640" y="3068640"/>
            <a:ext cx="691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6912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bebc3"/>
                </a:solidFill>
                <a:latin typeface="Arial"/>
              </a:rPr>
              <a:t>КИРИЛЛ И МЕФОДИЙ БЫЛИ ПЕРВЫМИ ПЕРЕВОДЧИКАМИ БОГОСЛУЖИВЫХ КНИГ</a:t>
            </a:r>
            <a:endParaRPr b="0" lang="en-US" sz="36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02" name="Picture 4" descr="3fb8fee69ed88695379e06a05ad45cb4"/>
          <p:cNvPicPr/>
          <p:nvPr/>
        </p:nvPicPr>
        <p:blipFill>
          <a:blip r:embed="rId1"/>
          <a:stretch/>
        </p:blipFill>
        <p:spPr>
          <a:xfrm>
            <a:off x="755640" y="2276640"/>
            <a:ext cx="66247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300800" cy="23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bebc3"/>
                </a:solidFill>
                <a:latin typeface="Arial"/>
              </a:rPr>
              <a:t>24 МАЯ – ДЕНЬ СЛАВЯНСКОЙ ПИСЬМЕННОСТИ И КУЛЬТУРЫ. ДЕНЬ ПАМЯТИ СВЯТЫХ КИРИЛЛА И МЕФОДИЯ</a:t>
            </a:r>
            <a:endParaRPr b="0" lang="en-US" sz="3200" spc="-1" strike="noStrike">
              <a:solidFill>
                <a:srgbClr val="fbebc3"/>
              </a:solidFill>
              <a:latin typeface="Arial"/>
            </a:endParaRPr>
          </a:p>
        </p:txBody>
      </p:sp>
      <p:pic>
        <p:nvPicPr>
          <p:cNvPr id="204" name="Picture 4" descr="0001-001-Kirill-i-Mefodij-sozdajut-azbuku-dlja-slavjan"/>
          <p:cNvPicPr/>
          <p:nvPr/>
        </p:nvPicPr>
        <p:blipFill>
          <a:blip r:embed="rId1"/>
          <a:stretch/>
        </p:blipFill>
        <p:spPr>
          <a:xfrm>
            <a:off x="324000" y="2611440"/>
            <a:ext cx="71485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3e1b77"/>
                </a:solidFill>
                <a:latin typeface="Arial"/>
              </a:rPr>
              <a:t>УЧИТЕ РОДНОЙ ЯЗЫК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e1b77"/>
                </a:solidFill>
                <a:latin typeface="Arial"/>
              </a:rPr>
              <a:t>КАК НИ ГОВОРИ, А РОДНОЙ ЯЗЫК ВСЕГДА ОСТАНЕТСЯ РОДНЫМ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e1b77"/>
                </a:solidFill>
                <a:latin typeface="Arial"/>
              </a:rPr>
              <a:t>БЕРЕГИ РОДНОЙ ЯЗЫК КАК СВЯТЫНЮ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e1b77"/>
                </a:solidFill>
                <a:latin typeface="Arial"/>
              </a:rPr>
              <a:t>В СЛОВАХ И ЗВУКАХ – ВЕЧНЫЙ КЛЮЧ СЕРДЕЦ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e1b77"/>
                </a:solidFill>
                <a:latin typeface="Arial"/>
              </a:rPr>
              <a:t>СЛОВО – ДЕЛО ВЕЛИКОЕ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14:27:36Z</dcterms:created>
  <dc:creator>евросеть</dc:creator>
  <dc:description/>
  <dc:language>en-US</dc:language>
  <cp:lastModifiedBy>Татьяна</cp:lastModifiedBy>
  <dcterms:modified xsi:type="dcterms:W3CDTF">2014-01-22T15:23:36Z</dcterms:modified>
  <cp:revision>3</cp:revision>
  <dc:subject/>
  <dc:title>СЛАВЯНСКИЕ ПЕРВОУЧИТЕЛИ КИРИЛЛ И МЕФОДИЙ</dc:title>
</cp:coreProperties>
</file>