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F61-50AA-4541-AD72-61FEC688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4BC-FA36-4D25-BF72-7C1C1E0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9B4-1850-444D-97CE-7EE4A67D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127-C4FE-4B2C-8B27-E7D65784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A484-65C6-4369-8C4A-B5A4734A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BD34-FBC5-4982-ADD5-7AA1075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A840-391D-44B5-94B1-1BF11D84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B738-BC64-4D00-ADD0-50035DD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AEC0-A2D3-4A1E-885E-65240A62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9914-0177-407B-8A08-2DC97E6C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043D-56FA-43DC-9E91-117C48CB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74A-46BA-461F-ACBC-98DF59E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7567-8AE4-422B-9EEF-2B2AE2F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4FBD-5D58-4A32-9F2A-F3F53E3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4E2-8F51-4C1F-8739-30D5F0F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3142-A6A1-4DE6-836A-58FA4056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BD38-C3AC-440A-8C7F-9F4B4065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C1A-411B-45A7-AC00-FA14D1BD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A88-BB9E-4261-96A7-22E8C73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202-C439-4E28-AA6E-25239A9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F7D-D7CD-4B14-A30C-A04B90C6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50E-55D4-47BB-A5F9-0BE6B0A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4A3-66D5-4CFA-B70E-69963D8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629-3837-4317-A36C-158C347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A824-5F72-44B4-B550-37DD9A7C70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5B3E-C9B3-4474-96DD-62B75659B82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СЛАВЯНСКИЕ ПЕРВОУЧИТЕЛИ КИРИЛЛ И МЕФОДИЙ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193" name="Picture 7" descr="Рисунок1"/>
          <p:cNvPicPr/>
          <p:nvPr/>
        </p:nvPicPr>
        <p:blipFill>
          <a:blip r:embed="rId1"/>
          <a:stretch/>
        </p:blipFill>
        <p:spPr>
          <a:xfrm>
            <a:off x="1357200" y="1500120"/>
            <a:ext cx="5400720" cy="50230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857160" y="58579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5f2"/>
                </a:solidFill>
                <a:latin typeface="Arial"/>
              </a:rPr>
              <a:t>Работа ученика 3 и класса Зубатенко Савел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РОДИЛИСЬ В ГРЕЧЕСКОМ ГОРОДЕ СОЛУНИ (САЛОНИКИ)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196" name="Picture 4" descr="0011-011-Kirill-i-Mefodij"/>
          <p:cNvPicPr/>
          <p:nvPr/>
        </p:nvPicPr>
        <p:blipFill>
          <a:blip r:embed="rId1"/>
          <a:stretch/>
        </p:blipFill>
        <p:spPr>
          <a:xfrm>
            <a:off x="684360" y="1598760"/>
            <a:ext cx="684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1214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СОЗДАЛИ ПЕРВЫЙ АЛФАВИТ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198" name="Picture 13" descr="iCANSGJMW"/>
          <p:cNvPicPr/>
          <p:nvPr/>
        </p:nvPicPr>
        <p:blipFill>
          <a:blip r:embed="rId1"/>
          <a:stretch/>
        </p:blipFill>
        <p:spPr>
          <a:xfrm>
            <a:off x="539640" y="1844640"/>
            <a:ext cx="698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768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bebc3"/>
                </a:solidFill>
                <a:latin typeface="Arial"/>
              </a:rPr>
              <a:t>ДЛЯ ЗАПИСИ ТЕКСТОВ СОЗДАЛИ СПЕЦИАЛЬНУЮ АЗБУКУ – ГЛАГОЛИЦУ, ЗАТЕМ КИРИЛЛИЦУ.</a:t>
            </a:r>
            <a:br>
              <a:rPr sz="2800"/>
            </a:br>
            <a:r>
              <a:rPr b="1" i="1" lang="ru-RU" sz="2800" spc="-1" strike="noStrike">
                <a:solidFill>
                  <a:srgbClr val="fbebc3"/>
                </a:solidFill>
                <a:latin typeface="Arial"/>
              </a:rPr>
              <a:t>КИРИЛЛИЦА – ЭТО АЗБУКА, КОТОРУЮ ИСПОЛЬЗУЮТ СЕГОДНЯ БОЛГАРЫ, РУССКИЕ, СЕРБЫ, УКРАИНЦЫ</a:t>
            </a:r>
            <a:endParaRPr b="0" lang="en-US" sz="28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0" name="Picture 4" descr="0012-012-Kirillitsa"/>
          <p:cNvPicPr/>
          <p:nvPr/>
        </p:nvPicPr>
        <p:blipFill>
          <a:blip r:embed="rId1"/>
          <a:stretch/>
        </p:blipFill>
        <p:spPr>
          <a:xfrm>
            <a:off x="539640" y="3068640"/>
            <a:ext cx="69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6912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КИРИЛЛ И МЕФОДИЙ БЫЛИ ПЕРВЫМИ ПЕРЕВОДЧИКАМИ БОГОСЛУЖИВЫХ КНИГ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2" name="Picture 4" descr="3fb8fee69ed88695379e06a05ad45cb4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300800" cy="23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ebc3"/>
                </a:solidFill>
                <a:latin typeface="Arial"/>
              </a:rPr>
              <a:t>24 МАЯ – ДЕНЬ СЛАВЯНСКОЙ ПИСЬМЕННОСТИ И КУЛЬТУРЫ. ДЕНЬ ПАМЯТИ СВЯТЫХ КИРИЛЛА И МЕФОДИЯ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4" name="Picture 4" descr="0001-001-Kirill-i-Mefodij-sozdajut-azbuku-dlja-slavjan"/>
          <p:cNvPicPr/>
          <p:nvPr/>
        </p:nvPicPr>
        <p:blipFill>
          <a:blip r:embed="rId1"/>
          <a:stretch/>
        </p:blipFill>
        <p:spPr>
          <a:xfrm>
            <a:off x="324000" y="2611440"/>
            <a:ext cx="7148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УЧИТЕ РОДНОЙ ЯЗЫК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КАК НИ ГОВОРИ, А РОДНОЙ ЯЗЫК ВСЕГДА ОСТАНЕТСЯ РОДНЫМ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БЕРЕГИ РОДНОЙ ЯЗЫК КАК СВЯТЫНЮ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В СЛОВАХ И ЗВУКАХ – ВЕЧНЫЙ КЛЮЧ СЕРДЕЦ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СЛОВО – ДЕЛО ВЕЛИКО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4:27:36Z</dcterms:created>
  <dc:creator>евросеть</dc:creator>
  <dc:description/>
  <dc:language>en-US</dc:language>
  <cp:lastModifiedBy>Татьяна</cp:lastModifiedBy>
  <dcterms:modified xsi:type="dcterms:W3CDTF">2014-01-22T15:23:36Z</dcterms:modified>
  <cp:revision>3</cp:revision>
  <dc:subject/>
  <dc:title>СЛАВЯНСКИЕ ПЕРВОУЧИТЕЛИ КИРИЛЛ И МЕФОДИЙ</dc:title>
</cp:coreProperties>
</file>