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003-906C-466B-BC6D-3DE32B9E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B4-AFE5-4D00-89E6-31F1684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34B-9C9F-4842-8D1B-CBAF0210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A64-B034-4779-824B-94472AF8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2BF-55D7-45D1-BFA4-D8D976C1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A25-0894-45CB-8914-D236F18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6EB-DBBE-43F6-B790-6731F5D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1C-B5EC-490D-ADCB-2CA5FDD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6EE-9B74-44D6-BF22-4EC120E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DE3-10F6-4789-BBCC-C0D5D72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262-6D8E-45A6-97D2-C4FAA28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450-57C8-4D23-971E-C676F06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88f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E029-6DFF-4E5F-B38A-EBD3766CD7F3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illkommen nach Deutschland!</a:t>
            </a:r>
            <a:br>
              <a:rPr sz="8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ева Ирина Михайло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У гимназия № 48 г.о. Тольят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 Stadt liegt zwischen der Oder und der Elbe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 der Spre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\\192.168.48.5\Doc\Teachers\IMGaraeva\Немецкий презентация\шпр 1.jpg"/>
          <p:cNvPicPr/>
          <p:nvPr/>
        </p:nvPicPr>
        <p:blipFill>
          <a:blip r:embed="rId1"/>
          <a:stretch/>
        </p:blipFill>
        <p:spPr>
          <a:xfrm>
            <a:off x="500040" y="4500720"/>
            <a:ext cx="3071880" cy="192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\\192.168.48.5\Doc\Teachers\IMGaraeva\Немецкий презентация\шпр 2.jpg"/>
          <p:cNvPicPr/>
          <p:nvPr/>
        </p:nvPicPr>
        <p:blipFill>
          <a:blip r:embed="rId2"/>
          <a:stretch/>
        </p:blipFill>
        <p:spPr>
          <a:xfrm>
            <a:off x="4643280" y="4500720"/>
            <a:ext cx="364356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\\192.168.48.5\Doc\Teachers\IMGaraeva\Немецкий презентация\шпр 5.jpg"/>
          <p:cNvPicPr/>
          <p:nvPr/>
        </p:nvPicPr>
        <p:blipFill>
          <a:blip r:embed="rId3"/>
          <a:stretch/>
        </p:blipFill>
        <p:spPr>
          <a:xfrm>
            <a:off x="1000080" y="1928880"/>
            <a:ext cx="328608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\\192.168.48.5\Doc\Teachers\IMGaraeva\Немецкий презентация\шпр 3.jpg"/>
          <p:cNvPicPr/>
          <p:nvPr/>
        </p:nvPicPr>
        <p:blipFill>
          <a:blip r:embed="rId4"/>
          <a:stretch/>
        </p:blipFill>
        <p:spPr>
          <a:xfrm>
            <a:off x="5143680" y="2000160"/>
            <a:ext cx="2857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s Wahrzeichen von Berlin ist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das Branderburger 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Ворота)))"/>
          <p:cNvPicPr/>
          <p:nvPr/>
        </p:nvPicPr>
        <p:blipFill>
          <a:blip r:embed="rId1"/>
          <a:stretch/>
        </p:blipFill>
        <p:spPr>
          <a:xfrm>
            <a:off x="214200" y="1428840"/>
            <a:ext cx="8643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ordArt 52" descr=""/>
          <p:cNvPicPr/>
          <p:nvPr/>
        </p:nvPicPr>
        <p:blipFill>
          <a:blip r:embed="rId1"/>
          <a:stretch/>
        </p:blipFill>
        <p:spPr>
          <a:xfrm>
            <a:off x="1109520" y="420840"/>
            <a:ext cx="740124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3" descr="00000010834_120"/>
          <p:cNvPicPr/>
          <p:nvPr/>
        </p:nvPicPr>
        <p:blipFill>
          <a:blip r:embed="rId2"/>
          <a:stretch/>
        </p:blipFill>
        <p:spPr>
          <a:xfrm>
            <a:off x="5572080" y="3643200"/>
            <a:ext cx="3036960" cy="202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i_231_11_50_34"/>
          <p:cNvPicPr/>
          <p:nvPr/>
        </p:nvPicPr>
        <p:blipFill>
          <a:blip r:embed="rId3"/>
          <a:stretch/>
        </p:blipFill>
        <p:spPr>
          <a:xfrm>
            <a:off x="1571760" y="3643200"/>
            <a:ext cx="321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3840" y="142560"/>
            <a:ext cx="84013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chulsystem hat drei Stufen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die Primarstu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ie Sekundarstufe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№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ekundarstufe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№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Jungen und Madchen, die am 30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Juni sechs Jahre alt sind, gehen im Herbst in die Sch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urinaLI"/>
          <p:cNvPicPr/>
          <p:nvPr/>
        </p:nvPicPr>
        <p:blipFill>
          <a:blip r:embed="rId1"/>
          <a:stretch/>
        </p:blipFill>
        <p:spPr>
          <a:xfrm>
            <a:off x="324000" y="549360"/>
            <a:ext cx="2755800" cy="191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urinaLI 002"/>
          <p:cNvPicPr/>
          <p:nvPr/>
        </p:nvPicPr>
        <p:blipFill>
          <a:blip r:embed="rId2"/>
          <a:stretch/>
        </p:blipFill>
        <p:spPr>
          <a:xfrm>
            <a:off x="1403280" y="2565360"/>
            <a:ext cx="4168800" cy="19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urinaLI 001"/>
          <p:cNvPicPr/>
          <p:nvPr/>
        </p:nvPicPr>
        <p:blipFill>
          <a:blip r:embed="rId3"/>
          <a:stretch/>
        </p:blipFill>
        <p:spPr>
          <a:xfrm>
            <a:off x="5148360" y="4365720"/>
            <a:ext cx="3573360" cy="2116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/>
          <p:cNvSpPr/>
          <p:nvPr/>
        </p:nvSpPr>
        <p:spPr>
          <a:xfrm>
            <a:off x="4067280" y="260280"/>
            <a:ext cx="4608360" cy="792360"/>
          </a:xfrm>
          <a:prstGeom prst="borderCallout1">
            <a:avLst>
              <a:gd name="adj1" fmla="val 18750"/>
              <a:gd name="adj2" fmla="val -8333"/>
              <a:gd name="adj3" fmla="val 213625"/>
              <a:gd name="adj4" fmla="val -2183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e Grundschule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284720" y="1628640"/>
            <a:ext cx="4572000" cy="609840"/>
          </a:xfrm>
          <a:prstGeom prst="borderCallout1">
            <a:avLst>
              <a:gd name="adj1" fmla="val 18750"/>
              <a:gd name="adj2" fmla="val -8333"/>
              <a:gd name="adj3" fmla="val 183333"/>
              <a:gd name="adj4" fmla="val -25624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e Hauptschule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250920" y="5186520"/>
            <a:ext cx="4392360" cy="547560"/>
          </a:xfrm>
          <a:prstGeom prst="borderCallout1">
            <a:avLst>
              <a:gd name="adj1" fmla="val 18750"/>
              <a:gd name="adj2" fmla="val -8333"/>
              <a:gd name="adj3" fmla="val 100000"/>
              <a:gd name="adj4" fmla="val 109865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Das Gymnasium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Arial"/>
              </a:rPr>
              <a:t>Das Schulsystem in Deutschl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836640"/>
          <a:ext cx="8229600" cy="5675400"/>
        </p:xfrm>
        <a:graphic>
          <a:graphicData uri="http://schemas.openxmlformats.org/drawingml/2006/table">
            <a:tbl>
              <a:tblPr/>
              <a:tblGrid>
                <a:gridCol w="1279800"/>
                <a:gridCol w="1153800"/>
                <a:gridCol w="1409760"/>
                <a:gridCol w="3162240"/>
                <a:gridCol w="1224000"/>
              </a:tblGrid>
              <a:tr h="420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ittlerer Schulabschluss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upt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660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al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esamt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660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ymnasium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gridSpan="4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artabhangige oder schulartunabhangige Orientierungsstufe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8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 gridSpan="4"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rundschule</a:t>
                      </a:r>
                      <a:endParaRPr b="1" lang="en-US" sz="2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6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4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5160">
                <a:tc gridSpan="4"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Kindergarten</a:t>
                      </a:r>
                      <a:endParaRPr b="1" lang="en-US" sz="32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6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lter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 liegt die B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Sü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tel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Osten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Norden grenzt Deutschland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änemark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Wieviel Nachbahrstadten hat Deutsch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 gibt es in der Staatswappen Deutsch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Bä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Lö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Adl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s wieviel Ländern besteht die B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 gibt es in Berlins W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A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Bä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ist das Wahrzeichen von Ber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Alexanderpl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s Reichstagsgebä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Branderburger 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An welcher Fluss liegt Ber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cusstelm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hbahcrNsta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äuneslndBe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Hutshulc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2876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Stasapetnwa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Busndeepulbik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secuhanDt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ff"/>
                </a:solidFill>
                <a:latin typeface="Arial"/>
              </a:rPr>
              <a:t>DIE BUNDESREPUBLIK DEUTSCH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7120" y="1785960"/>
            <a:ext cx="7143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egt im Herzen Europ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t neun Nachbahrsta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hlt rund 82 Millionen Einwoh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eht aus 16 Bundeslä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\\192.168.48.5\Doc\Teachers\IMGaraeva\Немецкий презентация\карта.jpg"/>
          <p:cNvPicPr/>
          <p:nvPr/>
        </p:nvPicPr>
        <p:blipFill>
          <a:blip r:embed="rId1"/>
          <a:stretch/>
        </p:blipFill>
        <p:spPr>
          <a:xfrm>
            <a:off x="5643720" y="4071960"/>
            <a:ext cx="273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Das ist richti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ul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hbahrstad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ndeslä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upt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ul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hbahrstad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ndeslä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upt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eutschland Hamburg, München, Die grösste Städte, Berlin, Köln,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uropas, Deutschland liegt, Die Bundesrepublik, Herzen, 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der Spree, zwischen, der Oder, Die Stadt, und, der Elbe, Die Stadt, lie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at, in, Das Schulsystem, Stufen, drei,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Jungen, die Sch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ädchen, und im Herst, in, Die Kinder, ge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kommen, Ostern, die Ostereier, Die Kinder, 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ringt, die Ostereier, Der Hase, den deutschen Kin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Ratet - m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43000"/>
          <a:ext cx="8229600" cy="5357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Ä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7064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Im Staatswappen Deutschlands ist </a:t>
            </a: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der Adl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Орёл)))"/>
          <p:cNvPicPr/>
          <p:nvPr/>
        </p:nvPicPr>
        <p:blipFill>
          <a:blip r:embed="rId1"/>
          <a:stretch/>
        </p:blipFill>
        <p:spPr>
          <a:xfrm>
            <a:off x="2643120" y="1785960"/>
            <a:ext cx="391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Sie ist von 9 Nachbahrstaaten umgeb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on 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nemark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No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n Niederlanden, Belgien, Luxemburg, Frankreich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Wes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r Schweiz und Österreich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Sü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r Tschechischen Republik und Polen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Osten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024"/>
          <p:cNvGraphicFramePr/>
          <p:nvPr/>
        </p:nvGraphicFramePr>
        <p:xfrm>
          <a:off x="3965400" y="304920"/>
          <a:ext cx="12114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5400" y="304920"/>
                    <a:ext cx="1211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e F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che der BRD is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57 Tausend 2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Grenzen haben eine Länge von insgesamt 3758 k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e BR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t nach der Russischen 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deration de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völkungsreichste Staat Europ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und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2 Millionen Mensc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eutschland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а)))"/>
          <p:cNvPicPr/>
          <p:nvPr/>
        </p:nvPicPr>
        <p:blipFill>
          <a:blip r:embed="rId1"/>
          <a:stretch/>
        </p:blipFill>
        <p:spPr>
          <a:xfrm>
            <a:off x="3203640" y="1025640"/>
            <a:ext cx="4214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ie gr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ößten Städte Deutschland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65200" y="3380400"/>
            <a:ext cx="1347120" cy="1239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034"/>
          <p:cNvSpPr/>
          <p:nvPr/>
        </p:nvSpPr>
        <p:spPr>
          <a:xfrm>
            <a:off x="5638680" y="1219320"/>
            <a:ext cx="1381320" cy="13716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l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8" name="Oval 1035"/>
          <p:cNvSpPr/>
          <p:nvPr/>
        </p:nvSpPr>
        <p:spPr>
          <a:xfrm>
            <a:off x="7010280" y="1752480"/>
            <a:ext cx="1295640" cy="1295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kfurt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Oval 1036"/>
          <p:cNvSpPr/>
          <p:nvPr/>
        </p:nvSpPr>
        <p:spPr>
          <a:xfrm>
            <a:off x="4114800" y="11430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nch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Oval 1037"/>
          <p:cNvSpPr/>
          <p:nvPr/>
        </p:nvSpPr>
        <p:spPr>
          <a:xfrm>
            <a:off x="2438280" y="1295280"/>
            <a:ext cx="1600200" cy="15242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1" name="Oval 1038"/>
          <p:cNvSpPr/>
          <p:nvPr/>
        </p:nvSpPr>
        <p:spPr>
          <a:xfrm>
            <a:off x="7467480" y="31240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Oval 1039"/>
          <p:cNvSpPr/>
          <p:nvPr/>
        </p:nvSpPr>
        <p:spPr>
          <a:xfrm>
            <a:off x="7391520" y="4419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tmund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3" name="Oval 1040"/>
          <p:cNvSpPr/>
          <p:nvPr/>
        </p:nvSpPr>
        <p:spPr>
          <a:xfrm>
            <a:off x="6553080" y="54100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ttgard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Oval 1041"/>
          <p:cNvSpPr/>
          <p:nvPr/>
        </p:nvSpPr>
        <p:spPr>
          <a:xfrm>
            <a:off x="5257800" y="571500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sseldorf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Oval 1042"/>
          <p:cNvSpPr/>
          <p:nvPr/>
        </p:nvSpPr>
        <p:spPr>
          <a:xfrm>
            <a:off x="4076640" y="5867280"/>
            <a:ext cx="990720" cy="9907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m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Oval 1043"/>
          <p:cNvSpPr/>
          <p:nvPr/>
        </p:nvSpPr>
        <p:spPr>
          <a:xfrm>
            <a:off x="2819520" y="56386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isbu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Oval 1044"/>
          <p:cNvSpPr/>
          <p:nvPr/>
        </p:nvSpPr>
        <p:spPr>
          <a:xfrm>
            <a:off x="1752480" y="5181480"/>
            <a:ext cx="990720" cy="9144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nover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Oval 1045"/>
          <p:cNvSpPr/>
          <p:nvPr/>
        </p:nvSpPr>
        <p:spPr>
          <a:xfrm>
            <a:off x="1371600" y="4114800"/>
            <a:ext cx="990720" cy="9144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rnbe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Oval 1046"/>
          <p:cNvSpPr/>
          <p:nvPr/>
        </p:nvSpPr>
        <p:spPr>
          <a:xfrm>
            <a:off x="1295280" y="316224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sd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0" name="Oval 1047"/>
          <p:cNvSpPr/>
          <p:nvPr/>
        </p:nvSpPr>
        <p:spPr>
          <a:xfrm>
            <a:off x="160020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Berlin ist hauptstadt Deutschland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erlin 4"/>
          <p:cNvPicPr/>
          <p:nvPr/>
        </p:nvPicPr>
        <p:blipFill>
          <a:blip r:embed="rId1"/>
          <a:stretch/>
        </p:blipFill>
        <p:spPr>
          <a:xfrm>
            <a:off x="2124000" y="1773360"/>
            <a:ext cx="6553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le Historiken verbinden das Wort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Berlin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t dem Wort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der B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är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786040" y="3357720"/>
            <a:ext cx="6215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</a:rPr>
              <a:t>Im Wapp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r Stadt gibt es</a:t>
            </a:r>
            <a:r>
              <a:rPr b="1" lang="en-US" sz="48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</a:rPr>
              <a:t>ein B</a:t>
            </a: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är</a:t>
            </a: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Медведь)))"/>
          <p:cNvPicPr/>
          <p:nvPr/>
        </p:nvPicPr>
        <p:blipFill>
          <a:blip r:embed="rId1"/>
          <a:stretch/>
        </p:blipFill>
        <p:spPr>
          <a:xfrm>
            <a:off x="357120" y="1500120"/>
            <a:ext cx="223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6:29Z</dcterms:created>
  <dc:creator>kostya</dc:creator>
  <dc:description/>
  <dc:language>en-US</dc:language>
  <cp:lastModifiedBy>imgaraeva</cp:lastModifiedBy>
  <dcterms:modified xsi:type="dcterms:W3CDTF">2013-11-01T17:09:56Z</dcterms:modified>
  <cp:revision>43</cp:revision>
  <dc:subject/>
  <dc:title>DEUTSCHLAND</dc:title>
</cp:coreProperties>
</file>