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D3D-B271-4A83-AB89-2BA73C1E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1496-F411-41DD-A839-BD8A97F7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9D3-A197-402A-BF56-58A2D166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7EF1-4153-4D74-860D-60E36564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BD7-8BAC-44F3-BA83-F598C5DD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B914-8126-402E-A457-F5CEC6CB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FA4-EDC0-40E9-A85F-D937836E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312-758A-4DDD-8082-A7862037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CA4-7200-4949-BDB0-9538A6B1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D32-123D-497B-8C02-D9569157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B82-020E-4AAB-9C83-4FA311F3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CC2-B8A6-4A56-A49B-6AC9CA17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B538-C03E-449C-8875-71055D5C77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cad=rja&amp;docid=qp8BQY74zMPo5M&amp;tbnid=q6O87qGjT6_4QM:&amp;ved=0CAUQjRw&amp;url=http://www.transsib.ru/Gudok/article-gudok191201.htm&amp;ei=zGGcUvTwMKWJ5ASOsoC4BA&amp;bvm=bv.57155469,d.bGE&amp;psig=AFQjCNEMR8uhmwihsCldqxVwUvXvglcNDw&amp;ust=1386066621599198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авная осень! Здоровый, ядрены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здух усталые силы бодрит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F:\106333315_1382429504_989857818.gif"/>
          <p:cNvPicPr/>
          <p:nvPr/>
        </p:nvPicPr>
        <p:blipFill>
          <a:blip r:embed="rId1"/>
          <a:stretch/>
        </p:blipFill>
        <p:spPr>
          <a:xfrm>
            <a:off x="857160" y="1428840"/>
            <a:ext cx="7380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928692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уд этот, Ваня, был страшно громаден –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 по плечу одном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F:\f_095_0.jpg"/>
          <p:cNvPicPr/>
          <p:nvPr/>
        </p:nvPicPr>
        <p:blipFill>
          <a:blip r:embed="rId1"/>
          <a:stretch/>
        </p:blipFill>
        <p:spPr>
          <a:xfrm>
            <a:off x="357120" y="1714680"/>
            <a:ext cx="82692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арвары! Дикое скопищ пьяниц!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F:\il8-029.jpg"/>
          <p:cNvPicPr/>
          <p:nvPr/>
        </p:nvPicPr>
        <p:blipFill>
          <a:blip r:embed="rId1"/>
          <a:stretch/>
        </p:blipFill>
        <p:spPr>
          <a:xfrm>
            <a:off x="357120" y="1428840"/>
            <a:ext cx="850104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арвары! Дикое скопищ пьяниц!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transsib.ru/Photo/Old/old-82.jpg">
            <a:hlinkClick r:id="rId1"/>
          </p:cNvPr>
          <p:cNvPicPr/>
          <p:nvPr/>
        </p:nvPicPr>
        <p:blipFill>
          <a:blip r:embed="rId2"/>
          <a:srcRect l="0" t="15545" r="0" b="0"/>
          <a:stretch/>
        </p:blipFill>
        <p:spPr>
          <a:xfrm>
            <a:off x="463680" y="1714680"/>
            <a:ext cx="80200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нес и эту дорогу железную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F:\пртр.jpg"/>
          <p:cNvPicPr/>
          <p:nvPr/>
        </p:nvPicPr>
        <p:blipFill>
          <a:blip r:embed="rId1"/>
          <a:stretch/>
        </p:blipFill>
        <p:spPr>
          <a:xfrm>
            <a:off x="1143000" y="1643040"/>
            <a:ext cx="62960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360"/>
            <a:ext cx="8893080" cy="15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«Вот они – нашей дороги строители!..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0" y="2068560"/>
            <a:ext cx="43308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По стихотворению  Н.А. Некрасова «Железная дорога»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G:\images.jpg"/>
          <p:cNvPicPr/>
          <p:nvPr/>
        </p:nvPicPr>
        <p:blipFill>
          <a:blip r:embed="rId1"/>
          <a:stretch/>
        </p:blipFill>
        <p:spPr>
          <a:xfrm>
            <a:off x="-20520" y="1406520"/>
            <a:ext cx="38574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920" y="999720"/>
            <a:ext cx="8786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накомиться, как изображает Некрасов гнетущие картины подневольного тру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яснить точку зрения поэта о роли народа в строительстве дорог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вать навыки анализировать художественный текст, видеть средства художественной вырази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20:53:07Z</dcterms:created>
  <dc:creator>XP GAME 2009</dc:creator>
  <dc:description/>
  <dc:language>en-US</dc:language>
  <cp:lastModifiedBy>Красновская</cp:lastModifiedBy>
  <dcterms:modified xsi:type="dcterms:W3CDTF">2013-12-14T06:58:05Z</dcterms:modified>
  <cp:revision>17</cp:revision>
  <dc:subject/>
  <dc:title>Учимся общению без предрассудков</dc:title>
</cp:coreProperties>
</file>