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AEA-4246-4CB3-B55B-DC7DA421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053-6A36-4454-B940-E2249634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47E-D290-47E9-B21B-460A5434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6DC-08B1-447F-AD5E-6B28804C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946-DF6F-4031-99FA-4EF970B3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43B-82B6-4816-9DAE-7E67C91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C04-0CA2-48E9-9150-C8E80A5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37C-10BA-445E-8595-0965100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0AD-41D8-4657-B336-63FF2970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BF4-546A-4DDD-9EA1-EAC0F85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C73-CE68-4754-B4BB-63ADF8D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894-8112-4DC6-A37B-D1E4E05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22F3-469F-402A-BB8A-8792AF205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docid=qp8BQY74zMPo5M&amp;tbnid=q6O87qGjT6_4QM:&amp;ved=0CAUQjRw&amp;url=http://www.transsib.ru/Gudok/article-gudok191201.htm&amp;ei=zGGcUvTwMKWJ5ASOsoC4BA&amp;bvm=bv.57155469,d.bGE&amp;psig=AFQjCNEMR8uhmwihsCldqxVwUvXvglcNDw&amp;ust=138606662159919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авная осень! Здоровый, ядрены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дух усталые силы бодри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F:\106333315_1382429504_989857818.gif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28692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уд этот, Ваня, был страшно громаден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по плечу одном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F:\f_095_0.jpg"/>
          <p:cNvPicPr/>
          <p:nvPr/>
        </p:nvPicPr>
        <p:blipFill>
          <a:blip r:embed="rId1"/>
          <a:stretch/>
        </p:blipFill>
        <p:spPr>
          <a:xfrm>
            <a:off x="357120" y="1714680"/>
            <a:ext cx="82692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вары! Дикое скопищ пьяниц!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il8-029.jpg"/>
          <p:cNvPicPr/>
          <p:nvPr/>
        </p:nvPicPr>
        <p:blipFill>
          <a:blip r:embed="rId1"/>
          <a:stretch/>
        </p:blipFill>
        <p:spPr>
          <a:xfrm>
            <a:off x="357120" y="1428840"/>
            <a:ext cx="85010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рвары! Дикое скопищ пьяниц!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transsib.ru/Photo/Old/old-82.jpg">
            <a:hlinkClick r:id="rId1"/>
          </p:cNvPr>
          <p:cNvPicPr/>
          <p:nvPr/>
        </p:nvPicPr>
        <p:blipFill>
          <a:blip r:embed="rId2"/>
          <a:srcRect l="0" t="15545" r="0" b="0"/>
          <a:stretch/>
        </p:blipFill>
        <p:spPr>
          <a:xfrm>
            <a:off x="463680" y="1714680"/>
            <a:ext cx="80200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нес и эту дорогу железную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F:\пртр.jpg"/>
          <p:cNvPicPr/>
          <p:nvPr/>
        </p:nvPicPr>
        <p:blipFill>
          <a:blip r:embed="rId1"/>
          <a:stretch/>
        </p:blipFill>
        <p:spPr>
          <a:xfrm>
            <a:off x="1143000" y="1643040"/>
            <a:ext cx="62960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360"/>
            <a:ext cx="8893080" cy="15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Вот они – нашей дороги строители!..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0" y="2068560"/>
            <a:ext cx="4330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По стихотворению  Н.А. Некрасова «Железная дорога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G:\images.jpg"/>
          <p:cNvPicPr/>
          <p:nvPr/>
        </p:nvPicPr>
        <p:blipFill>
          <a:blip r:embed="rId1"/>
          <a:stretch/>
        </p:blipFill>
        <p:spPr>
          <a:xfrm>
            <a:off x="-20520" y="1406520"/>
            <a:ext cx="38574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99972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комиться, как изображает Некрасов гнетущие картины подневольного тру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снить точку зрения поэта о роли народа в строительстве дорог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вать навыки анализировать художественный текст, видеть средства художественной вырази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20:53:07Z</dcterms:created>
  <dc:creator>XP GAME 2009</dc:creator>
  <dc:description/>
  <dc:language>en-US</dc:language>
  <cp:lastModifiedBy>Красновская</cp:lastModifiedBy>
  <dcterms:modified xsi:type="dcterms:W3CDTF">2013-12-14T06:58:05Z</dcterms:modified>
  <cp:revision>17</cp:revision>
  <dc:subject/>
  <dc:title>Учимся общению без предрассудков</dc:title>
</cp:coreProperties>
</file>