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CE5-33C8-4050-A6EF-F786F4F4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578-E087-47E2-AB51-D15D238C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83D-C52B-49B1-9CE6-2CF15116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CFA-A295-4B21-AAF3-8E7F6518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184-831A-460A-BD4B-041841F8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321-4DD3-48F5-B9B4-316CA6B6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A7B-F94C-454A-B529-ABB57845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F7D-FC05-43F2-855B-8D4C5A46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B3B-F254-427F-A81E-E99F198D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0CB-DB49-449B-AB2F-C82D28B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705-6413-4B20-AB18-5EA80969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26E-D188-4E2C-B5D1-689624CD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F533-6EB3-4FFE-BC90-0EB97C799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ЗНАТОКИ ПРАВ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9196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В 1959 году Генеральная Ассамблея Организации объединенных Наций приняла Декларацию прав ребён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Отсканировано 03"/>
          <p:cNvPicPr/>
          <p:nvPr/>
        </p:nvPicPr>
        <p:blipFill>
          <a:blip r:embed="rId2"/>
          <a:srcRect l="25919" t="19956" r="21736" b="5536"/>
          <a:stretch/>
        </p:blipFill>
        <p:spPr>
          <a:xfrm>
            <a:off x="2895480" y="3230640"/>
            <a:ext cx="3886200" cy="32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ЛАВНЫЕ ВОПРО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Что люди могут делать и чего не могу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Что обязаны делать и чего не обяза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На что имеют право и на что не име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ОН (1945г.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– Организация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– Объединенных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– Наций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Главная цель: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стремление избавить грядущее поколение от бедствий вой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Отсканировано 03"/>
          <p:cNvPicPr/>
          <p:nvPr/>
        </p:nvPicPr>
        <p:blipFill>
          <a:blip r:embed="rId2"/>
          <a:srcRect l="10349" t="19546" r="14517" b="19804"/>
          <a:stretch/>
        </p:blipFill>
        <p:spPr>
          <a:xfrm>
            <a:off x="2743200" y="3886200"/>
            <a:ext cx="35053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еждународные документы о правах ребён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Конвен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(договор, соглаш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обязательно для  государств подписавших догов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Деклар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(высказыва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рекомендации; не имеет обязательной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1676520" y="1676520"/>
            <a:ext cx="16761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5105520" y="1676520"/>
            <a:ext cx="19810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КИЕ ГЕРОИ ЛИШЕНЫ СЛЕДУЮЩИХ ПРА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жизнь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лоб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т в сапог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неприкосновенность жилища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Сестрица Алён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Три поросё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лоб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свободный труд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расная Шап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ал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свободное вступление в брак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Дюймов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Алён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владение личным имуществом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расная шап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урати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аба Я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 МЕНЯ ЕС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имя, отчество и фамил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знать своих родителей, совместно с ними прожива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боту и 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общение со своими родителями, бабушками, дедушками, братьями и сёстр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щиту и 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общение с обоими род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выражать своё мн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уважение человеческого достоин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щиту своих прав и законных интере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личное имущество, на получение содержания от р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0-18T08:57:3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