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814-BE2C-47CE-8896-8AD696DA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2FB-BE91-4077-BA30-2315AC8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E79-4045-4971-9660-10776FA5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43F-34C7-4D3F-ACF1-D6E36C60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308-E7B0-48DD-A304-15F2C7F5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CB5-B898-43DB-94F1-364889D8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C63-5932-481C-9CEB-CD64978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EC2-C96A-4DC7-8024-D7E5BA60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40C-5BBC-4834-B944-B84BEB8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6F1-FEE5-4FAA-A4E7-04BC018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7B7-BEF8-4AF4-B4AD-CEABA0BE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D51-1073-422B-BA8E-523C99A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285-49BA-4224-9994-0CA106D0D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ЗНАТОКИ ПРАВ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9196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В 1959 году Генеральная Ассамблея Организации объединенных Наций приняла Декларацию прав ребён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Отсканировано 03"/>
          <p:cNvPicPr/>
          <p:nvPr/>
        </p:nvPicPr>
        <p:blipFill>
          <a:blip r:embed="rId2"/>
          <a:srcRect l="25919" t="19956" r="21736" b="5536"/>
          <a:stretch/>
        </p:blipFill>
        <p:spPr>
          <a:xfrm>
            <a:off x="2895480" y="3230640"/>
            <a:ext cx="388620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ЛАВНЫЕ 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люди могут делать и чего не могу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обязаны делать и чего не обяз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На что имеют право и на что не име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ОН (1945г.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– Организация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Объединенных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Наций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Главная цель: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стремление избавить грядущее поколение от бедствий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Отсканировано 03"/>
          <p:cNvPicPr/>
          <p:nvPr/>
        </p:nvPicPr>
        <p:blipFill>
          <a:blip r:embed="rId2"/>
          <a:srcRect l="10349" t="19546" r="14517" b="19804"/>
          <a:stretch/>
        </p:blipFill>
        <p:spPr>
          <a:xfrm>
            <a:off x="2743200" y="3886200"/>
            <a:ext cx="35053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ждународные документы о правах ребён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Конвен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договор, соглаш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обязательно для  государств подписавших догов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Деклар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высказы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рекомендации; не имеет обязательной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1676520" y="1676520"/>
            <a:ext cx="16761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105520" y="1676520"/>
            <a:ext cx="19810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КИЕ ГЕРОИ ЛИШЕНЫ СЛЕДУЮЩИХ ПР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жизнь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т в сапог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неприкосновенность жилища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Сестрица 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Три порос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ый труд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л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ое вступление в брак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Дюймов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владение личным имуществом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урати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ба Я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 МЕНЯ Е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имя, отчество и фами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знать своих родителей, совместно с ними прожив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бо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о своими родителями, бабушками, дедушками, братьями и сёстр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 обоими род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выражать своё мн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уважение человеческого достоин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своих прав и законных интере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личное имущество, на получение содержания от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18T08:57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