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54EE-8A84-4A48-9EC4-53C4D6088F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8E99-927A-40B2-80D2-690430A9676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бирай год Чемпионата. И читай информацию.</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6E4DD-31D1-4592-8543-5AF6A91B3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C9CFF-B48C-4BDA-98DB-D45FE0B00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834AE-02EE-43A1-86FA-2A0086FF1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9D849-1F22-4AE9-9D5E-E5AE3BC3A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B5ACA-3EEE-4908-A50A-C7ECBEC04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81B9E-3FAA-4CEF-812A-1D8B1E637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E77F7-7FBA-4C8C-8389-511EEFCF6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DD55C-CED2-411C-804B-EB717D370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9263E-5367-4FEF-AAE0-05F0F18EA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A09FE-7346-49E7-84BA-80809654F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206B5-AEDB-40C2-A05D-D71537750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FF6F8-85BE-43CB-A27B-50E79EA7F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E768-11B1-4E40-A334-08D77313A478}"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5" descr="1"/>
          <p:cNvPicPr/>
          <p:nvPr/>
        </p:nvPicPr>
        <p:blipFill>
          <a:blip r:embed="rId1"/>
          <a:stretch/>
        </p:blipFill>
        <p:spPr>
          <a:xfrm>
            <a:off x="-304920" y="-228600"/>
            <a:ext cx="9753840" cy="7315200"/>
          </a:xfrm>
          <a:prstGeom prst="rect">
            <a:avLst/>
          </a:prstGeom>
          <a:ln w="0">
            <a:noFill/>
          </a:ln>
        </p:spPr>
      </p:pic>
      <p:sp>
        <p:nvSpPr>
          <p:cNvPr id="49" name="PlaceHolder 1"/>
          <p:cNvSpPr>
            <a:spLocks noGrp="1"/>
          </p:cNvSpPr>
          <p:nvPr>
            <p:ph type="title"/>
          </p:nvPr>
        </p:nvSpPr>
        <p:spPr>
          <a:xfrm>
            <a:off x="685800" y="580536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3ebf1"/>
                </a:solidFill>
                <a:latin typeface="Arial"/>
              </a:rPr>
              <a:t>Выполнил:  ученик 10 класса</a:t>
            </a:r>
            <a:br>
              <a:rPr sz="1400"/>
            </a:br>
            <a:r>
              <a:rPr b="0" lang="ru-RU" sz="1400" spc="-1" strike="noStrike">
                <a:solidFill>
                  <a:srgbClr val="e3ebf1"/>
                </a:solidFill>
                <a:latin typeface="Arial"/>
              </a:rPr>
              <a:t>Куриленко Евгений</a:t>
            </a:r>
            <a:endParaRPr b="0" lang="en-US" sz="1400" spc="-1" strike="noStrike">
              <a:solidFill>
                <a:srgbClr val="e3ebf1"/>
              </a:solidFill>
              <a:latin typeface="Arial"/>
            </a:endParaRPr>
          </a:p>
        </p:txBody>
      </p:sp>
      <p:sp>
        <p:nvSpPr>
          <p:cNvPr id="50" name="WordArt 12"/>
          <p:cNvSpPr txBox="1"/>
          <p:nvPr/>
        </p:nvSpPr>
        <p:spPr>
          <a:xfrm>
            <a:off x="395280" y="1125360"/>
            <a:ext cx="8229600" cy="114300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effectLst>
                  <a:outerShdw dist="17819" dir="2700000" blurRad="0" rotWithShape="0">
                    <a:srgbClr val="c0c0c0">
                      <a:alpha val="80000"/>
                    </a:srgbClr>
                  </a:outerShdw>
                </a:effectLst>
                <a:latin typeface="Impact"/>
              </a:rPr>
              <a:t>Чемпионаты Мира по Футболу</a:t>
            </a:r>
            <a:endParaRPr b="1" lang="en-US" sz="1800" spc="1" strike="noStrike">
              <a:ln w="9360">
                <a:solidFill>
                  <a:srgbClr val="000000"/>
                </a:solidFill>
                <a:miter/>
              </a:ln>
              <a:solidFill>
                <a:srgbClr val="00ff00"/>
              </a:solidFill>
              <a:effectLst>
                <a:outerShdw dist="17819" dir="2700000" blurRad="0" rotWithShape="0">
                  <a:srgbClr val="c0c0c0">
                    <a:alpha val="80000"/>
                  </a:srgbClr>
                </a:outerShdw>
              </a:effectLst>
              <a:latin typeface="Impact"/>
              <a:ea typeface="Impact"/>
            </a:endParaRPr>
          </a:p>
        </p:txBody>
      </p:sp>
      <p:sp>
        <p:nvSpPr>
          <p:cNvPr id="51" name="WordArt 13"/>
          <p:cNvSpPr txBox="1"/>
          <p:nvPr/>
        </p:nvSpPr>
        <p:spPr>
          <a:xfrm>
            <a:off x="1692360" y="2492280"/>
            <a:ext cx="5472000" cy="1873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 </a:t>
            </a:r>
            <a:endParaRPr b="1" lang="en-US" sz="1800" spc="1" strike="noStrike">
              <a:ln w="9360">
                <a:solidFill>
                  <a:srgbClr val="000000"/>
                </a:solidFill>
                <a:miter/>
              </a:ln>
              <a:solidFill>
                <a:srgbClr val="ff0000"/>
              </a:solidFill>
              <a:latin typeface="Times New Roman"/>
              <a:ea typeface="Times New Roman"/>
            </a:endParaRPr>
          </a:p>
        </p:txBody>
      </p:sp>
      <p:pic>
        <p:nvPicPr>
          <p:cNvPr id="52" name="CLHymn.mp3" descr=""/>
          <p:cNvPicPr/>
          <p:nvPr/>
        </p:nvPicPr>
        <p:blipFill>
          <a:blip r:embed="rId2"/>
          <a:stretch/>
        </p:blipFill>
        <p:spPr>
          <a:xfrm>
            <a:off x="8991720" y="6858000"/>
            <a:ext cx="304560" cy="304920"/>
          </a:xfrm>
          <a:prstGeom prst="rect">
            <a:avLst/>
          </a:prstGeom>
          <a:ln w="0">
            <a:noFill/>
          </a:ln>
        </p:spPr>
      </p:pic>
      <p:sp>
        <p:nvSpPr>
          <p:cNvPr id="53" name="Прямоугольник 10"/>
          <p:cNvSpPr/>
          <p:nvPr/>
        </p:nvSpPr>
        <p:spPr>
          <a:xfrm>
            <a:off x="2286000" y="2828880"/>
            <a:ext cx="4572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52"/>
                                        </p:tgtEl>
                                      </p:cBhvr>
                                    </p:cmd>
                                  </p:childTnLst>
                                </p:cTn>
                              </p:par>
                            </p:childTnLst>
                          </p:cTn>
                        </p:par>
                        <p:par>
                          <p:cTn id="7" fill="hold">
                            <p:stCondLst>
                              <p:cond delay="0"/>
                            </p:stCondLst>
                            <p:childTnLst>
                              <p:par>
                                <p:cTn id="8" nodeType="afterEffect" fill="hold" presetClass="entr" presetID="53">
                                  <p:stCondLst>
                                    <p:cond delay="0"/>
                                  </p:stCondLst>
                                  <p:childTnLst>
                                    <p:set>
                                      <p:cBhvr>
                                        <p:cTn id="9" dur="1" fill="hold">
                                          <p:stCondLst>
                                            <p:cond delay="0"/>
                                          </p:stCondLst>
                                        </p:cTn>
                                        <p:tgtEl>
                                          <p:spTgt spid="50"/>
                                        </p:tgtEl>
                                        <p:attrNameLst>
                                          <p:attrName>style.visibility</p:attrName>
                                        </p:attrNameLst>
                                      </p:cBhvr>
                                      <p:to>
                                        <p:strVal val="visible"/>
                                      </p:to>
                                    </p:set>
                                    <p:anim calcmode="lin" valueType="num">
                                      <p:cBhvr additive="repl">
                                        <p:cTn id="10" dur="500" fill="hold"/>
                                        <p:tgtEl>
                                          <p:spTgt spid="50"/>
                                        </p:tgtEl>
                                        <p:attrNameLst>
                                          <p:attrName>ppt_w</p:attrName>
                                        </p:attrNameLst>
                                      </p:cBhvr>
                                      <p:tavLst>
                                        <p:tav tm="0">
                                          <p:val>
                                            <p:fltVal val="0"/>
                                          </p:val>
                                        </p:tav>
                                        <p:tav tm="100000">
                                          <p:val>
                                            <p:strVal val="#ppt_w"/>
                                          </p:val>
                                        </p:tav>
                                      </p:tavLst>
                                    </p:anim>
                                    <p:anim calcmode="lin" valueType="num">
                                      <p:cBhvr additive="repl">
                                        <p:cTn id="11" dur="500" fill="hold"/>
                                        <p:tgtEl>
                                          <p:spTgt spid="50"/>
                                        </p:tgtEl>
                                        <p:attrNameLst>
                                          <p:attrName>ppt_h</p:attrName>
                                        </p:attrNameLst>
                                      </p:cBhvr>
                                      <p:tavLst>
                                        <p:tav tm="0">
                                          <p:val>
                                            <p:fltVal val="0"/>
                                          </p:val>
                                        </p:tav>
                                        <p:tav tm="100000">
                                          <p:val>
                                            <p:strVal val="#ppt_h"/>
                                          </p:val>
                                        </p:tav>
                                      </p:tavLst>
                                    </p:anim>
                                    <p:animEffect filter="fade" transition="in">
                                      <p:cBhvr additive="repl">
                                        <p:cTn id="12" dur="500"/>
                                        <p:tgtEl>
                                          <p:spTgt spid="50"/>
                                        </p:tgtEl>
                                      </p:cBhvr>
                                    </p:animEffect>
                                  </p:childTnLst>
                                </p:cTn>
                              </p:par>
                              <p:par>
                                <p:cTn id="13" nodeType="withEffect" fill="hold" presetClass="entr" presetID="26">
                                  <p:stCondLst>
                                    <p:cond delay="0"/>
                                  </p:stCondLst>
                                  <p:endCondLst>
                                    <p:cond evt="begin"/>
                                  </p:endCondLst>
                                  <p:childTnLst>
                                    <p:set>
                                      <p:cBhvr>
                                        <p:cTn id="14" dur="1" fill="hold">
                                          <p:stCondLst>
                                            <p:cond delay="0"/>
                                          </p:stCondLst>
                                        </p:cTn>
                                        <p:tgtEl>
                                          <p:spTgt spid="51"/>
                                        </p:tgtEl>
                                        <p:attrNameLst>
                                          <p:attrName>style.visibility</p:attrName>
                                        </p:attrNameLst>
                                      </p:cBhvr>
                                      <p:to>
                                        <p:strVal val="visible"/>
                                      </p:to>
                                    </p:set>
                                    <p:animEffect filter="wipe(down)" transition="in">
                                      <p:cBhvr additive="repl">
                                        <p:cTn id="15" dur="580">
                                          <p:stCondLst>
                                            <p:cond delay="0"/>
                                          </p:stCondLst>
                                        </p:cTn>
                                        <p:tgtEl>
                                          <p:spTgt spid="51"/>
                                        </p:tgtEl>
                                      </p:cBhvr>
                                    </p:animEffect>
                                    <p:anim calcmode="lin" valueType="num">
                                      <p:cBhvr additive="repl">
                                        <p:cTn id="16"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7"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18"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19"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0"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1" dur="26" fill="hold">
                                          <p:stCondLst>
                                            <p:cond delay="650"/>
                                          </p:stCondLst>
                                        </p:cTn>
                                        <p:tgtEl>
                                          <p:spTgt spid="51"/>
                                        </p:tgtEl>
                                      </p:cBhvr>
                                      <p:to x="100000" y="60000"/>
                                    </p:animScale>
                                    <p:animScale>
                                      <p:cBhvr>
                                        <p:cTn id="22" dur="166" fill="hold">
                                          <p:stCondLst>
                                            <p:cond delay="676"/>
                                          </p:stCondLst>
                                        </p:cTn>
                                        <p:tgtEl>
                                          <p:spTgt spid="51"/>
                                        </p:tgtEl>
                                      </p:cBhvr>
                                      <p:to x="100000" y="100000"/>
                                    </p:animScale>
                                    <p:animScale>
                                      <p:cBhvr>
                                        <p:cTn id="23" dur="26" fill="hold">
                                          <p:stCondLst>
                                            <p:cond delay="1312"/>
                                          </p:stCondLst>
                                        </p:cTn>
                                        <p:tgtEl>
                                          <p:spTgt spid="51"/>
                                        </p:tgtEl>
                                      </p:cBhvr>
                                      <p:to x="100000" y="80000"/>
                                    </p:animScale>
                                    <p:animScale>
                                      <p:cBhvr>
                                        <p:cTn id="24" dur="166" fill="hold">
                                          <p:stCondLst>
                                            <p:cond delay="1338"/>
                                          </p:stCondLst>
                                        </p:cTn>
                                        <p:tgtEl>
                                          <p:spTgt spid="51"/>
                                        </p:tgtEl>
                                      </p:cBhvr>
                                      <p:to x="100000" y="100000"/>
                                    </p:animScale>
                                    <p:animScale>
                                      <p:cBhvr>
                                        <p:cTn id="25" dur="26" fill="hold">
                                          <p:stCondLst>
                                            <p:cond delay="1642"/>
                                          </p:stCondLst>
                                        </p:cTn>
                                        <p:tgtEl>
                                          <p:spTgt spid="51"/>
                                        </p:tgtEl>
                                      </p:cBhvr>
                                      <p:to x="100000" y="90000"/>
                                    </p:animScale>
                                    <p:animScale>
                                      <p:cBhvr>
                                        <p:cTn id="26" dur="166" fill="hold">
                                          <p:stCondLst>
                                            <p:cond delay="1668"/>
                                          </p:stCondLst>
                                        </p:cTn>
                                        <p:tgtEl>
                                          <p:spTgt spid="51"/>
                                        </p:tgtEl>
                                      </p:cBhvr>
                                      <p:to x="100000" y="100000"/>
                                    </p:animScale>
                                    <p:animScale>
                                      <p:cBhvr>
                                        <p:cTn id="27" dur="26" fill="hold">
                                          <p:stCondLst>
                                            <p:cond delay="1808"/>
                                          </p:stCondLst>
                                        </p:cTn>
                                        <p:tgtEl>
                                          <p:spTgt spid="51"/>
                                        </p:tgtEl>
                                      </p:cBhvr>
                                      <p:to x="100000" y="95000"/>
                                    </p:animScale>
                                    <p:animScale>
                                      <p:cBhvr>
                                        <p:cTn id="28" dur="166" fill="hold">
                                          <p:stCondLst>
                                            <p:cond delay="1834"/>
                                          </p:stCondLst>
                                        </p:cTn>
                                        <p:tgtEl>
                                          <p:spTgt spid="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инал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ругвай - Аргентина 4:2 (1:2)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радо, Сеа, Ириарте, Кастро - Пеуселле, Стабиле)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РУГВАЙ: Баллестерос, Насацци (капитан), Масчерони, Андраде, Фернандес, Гестидо, Дорадо, Скароне, Кастро, Сеа, Ириарте.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РГЕНТИНА: Ботассо, Делла Торре, Патерностер, X. Эваристо, Монти, Суарес, Пеуселле, Варальо, Стабиле, Феррейра (капитан), М. Эваристо.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учшие бомбардир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8 Стабиле (Аргентина);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Сеа (Уругвай).</a:t>
            </a:r>
            <a:endParaRPr b="0" lang="en-US" sz="2000" spc="-1" strike="noStrike">
              <a:solidFill>
                <a:srgbClr val="ffffff"/>
              </a:solidFill>
              <a:latin typeface="Arial"/>
            </a:endParaRPr>
          </a:p>
        </p:txBody>
      </p:sp>
      <p:sp>
        <p:nvSpPr>
          <p:cNvPr id="97" name="WordArt 5"/>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981000"/>
            <a:ext cx="9144000" cy="551664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ругвайская сборная не поехала на следующий чемпионат мира. Это был первый и единственный случай в истории первенства, когда победители отказались защищать свой титул. Все еще обиженные на европейцев за то, что те практически проигнорировали чемпионат 1930 г., и обеспокоенные собственными проблемами (забастовками игроков), уругвайцы остались дома. Заявку на участие подали 32 страны: 22 от Европы, 8 от Америки и по одной - от Азии и Африки. Пришлось провести отборочный турнир, в котором участвовали даже хозяева чемпионата итальянцы. Сборная США вышла в финальный турнир, обыграв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Риме сборную Мексики. однако "вылетела" уже в 1/8 финала, потерпев сокрушительное поражение от итальянцев в Турине (1:7). Из 16 команд, которые вышли в финальную часть чемпионата, бесспорными фаворитами считались сборная Италии и австрийская "Вундертим" Хуго Майзля. Однако австрийцы на тот момент уже миновали пик своей формы, и в первом же матче им пришлось буквально вырывать победу у французов в дополнительное время. В первом тайме матча Бельгия - Германия бельгийцы вели 2:1, но затем центральный нападающий немцев Конен сделал хет-трик и помог своей команде добиться победы (5:2).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истема первенства была чисто кубковой, так что бразильцам, уступившим Испании (1:3), и аргентинцам, "обиженным" шведами (2:3), пришлось отправляться домой за 8000 миль, сыграв на чемпионате один-единственный матч.</a:t>
            </a:r>
            <a:endParaRPr b="0" lang="en-US" sz="1800" spc="-1" strike="noStrike">
              <a:solidFill>
                <a:srgbClr val="ffffff"/>
              </a:solidFill>
              <a:latin typeface="Arial"/>
            </a:endParaRPr>
          </a:p>
        </p:txBody>
      </p:sp>
      <p:sp>
        <p:nvSpPr>
          <p:cNvPr id="99" name="WordArt 4"/>
          <p:cNvSpPr txBox="1"/>
          <p:nvPr/>
        </p:nvSpPr>
        <p:spPr>
          <a:xfrm>
            <a:off x="250920" y="189000"/>
            <a:ext cx="835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34 года в Итал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0" name="WordArt 5"/>
          <p:cNvSpPr txBox="1"/>
          <p:nvPr/>
        </p:nvSpPr>
        <p:spPr>
          <a:xfrm>
            <a:off x="788508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01" name="WordArt 6"/>
          <p:cNvSpPr txBox="1"/>
          <p:nvPr/>
        </p:nvSpPr>
        <p:spPr>
          <a:xfrm>
            <a:off x="658800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49">
                                  <p:stCondLst>
                                    <p:cond delay="0"/>
                                  </p:stCondLst>
                                  <p:childTnLst>
                                    <p:set>
                                      <p:cBhvr>
                                        <p:cTn id="120" dur="1" fill="hold">
                                          <p:stCondLst>
                                            <p:cond delay="0"/>
                                          </p:stCondLst>
                                        </p:cTn>
                                        <p:tgtEl>
                                          <p:spTgt spid="99"/>
                                        </p:tgtEl>
                                        <p:attrNameLst>
                                          <p:attrName>style.visibility</p:attrName>
                                        </p:attrNameLst>
                                      </p:cBhvr>
                                      <p:to>
                                        <p:strVal val="visible"/>
                                      </p:to>
                                    </p:set>
                                    <p:anim calcmode="lin" valueType="num">
                                      <p:cBhvr additive="repl">
                                        <p:cTn id="121" dur="500" fill="hold"/>
                                        <p:tgtEl>
                                          <p:spTgt spid="99"/>
                                        </p:tgtEl>
                                        <p:attrNameLst>
                                          <p:attrName>ppt_w</p:attrName>
                                        </p:attrNameLst>
                                      </p:cBhvr>
                                      <p:tavLst>
                                        <p:tav tm="0">
                                          <p:val>
                                            <p:fltVal val="0"/>
                                          </p:val>
                                        </p:tav>
                                        <p:tav tm="100000">
                                          <p:val>
                                            <p:strVal val="#ppt_w"/>
                                          </p:val>
                                        </p:tav>
                                      </p:tavLst>
                                    </p:anim>
                                    <p:anim calcmode="lin" valueType="num">
                                      <p:cBhvr additive="repl">
                                        <p:cTn id="122" dur="500" fill="hold"/>
                                        <p:tgtEl>
                                          <p:spTgt spid="99"/>
                                        </p:tgtEl>
                                        <p:attrNameLst>
                                          <p:attrName>ppt_h</p:attrName>
                                        </p:attrNameLst>
                                      </p:cBhvr>
                                      <p:tavLst>
                                        <p:tav tm="0">
                                          <p:val>
                                            <p:fltVal val="0"/>
                                          </p:val>
                                        </p:tav>
                                        <p:tav tm="100000">
                                          <p:val>
                                            <p:strVal val="#ppt_h"/>
                                          </p:val>
                                        </p:tav>
                                      </p:tavLst>
                                    </p:anim>
                                    <p:anim calcmode="lin" valueType="num">
                                      <p:cBhvr additive="repl">
                                        <p:cTn id="123" dur="500" fill="hold"/>
                                        <p:tgtEl>
                                          <p:spTgt spid="99"/>
                                        </p:tgtEl>
                                        <p:attrNameLst>
                                          <p:attrName>r</p:attrName>
                                        </p:attrNameLst>
                                      </p:cBhvr>
                                      <p:tavLst>
                                        <p:tav tm="0">
                                          <p:val>
                                            <p:strVal val="360"/>
                                          </p:val>
                                        </p:tav>
                                        <p:tav tm="100000">
                                          <p:val>
                                            <p:strVal val="0"/>
                                          </p:val>
                                        </p:tav>
                                      </p:tavLst>
                                    </p:anim>
                                    <p:animEffect filter="fade" transition="in">
                                      <p:cBhvr additive="repl">
                                        <p:cTn id="12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12"/>
          <p:cNvSpPr txBox="1"/>
          <p:nvPr/>
        </p:nvSpPr>
        <p:spPr>
          <a:xfrm>
            <a:off x="324000" y="0"/>
            <a:ext cx="849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38 года во Франц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3" name="Rectangle 13"/>
          <p:cNvSpPr/>
          <p:nvPr/>
        </p:nvSpPr>
        <p:spPr>
          <a:xfrm>
            <a:off x="0" y="2205000"/>
            <a:ext cx="9144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литическая обстановка в Европе в то время была очень неспокойной. Аргентина и Уругвай не поехали во Францию, но зато в мировом первенстве впервые приняли участие сборные Кубы, Польши и Нидерландской Ост-Индии.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первом круге только Венгрии, обыгравшей Ост-Индию со счетом 6:0, и Франции, выигравшей у бельгийцев 3:1, удалось уложиться в основные 90 минут. Bceм остальным пришлось выяснять отношения в дополнительное время или в переигровках. В составе неофициальных чемпионов по игре в обороне итальянцев великолепно действовал голкипер Оливьери, который на последних минутах матча невероятным образом спас свою команду после удара центр форварда сборной Норвегии Брунильдсена. Игра перешила в дополнительное время, а уже там победу сборной Италии принес точный удар Пиолы. </a:t>
            </a:r>
            <a:endParaRPr b="0" lang="en-US" sz="1800" spc="-1" strike="noStrike">
              <a:solidFill>
                <a:srgbClr val="ffffff"/>
              </a:solidFill>
              <a:latin typeface="Arial"/>
            </a:endParaRPr>
          </a:p>
        </p:txBody>
      </p:sp>
      <p:sp>
        <p:nvSpPr>
          <p:cNvPr id="104" name="WordArt 14"/>
          <p:cNvSpPr txBox="1"/>
          <p:nvPr/>
        </p:nvSpPr>
        <p:spPr>
          <a:xfrm>
            <a:off x="788508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179280" y="476280"/>
            <a:ext cx="8675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Страсбурге на размокшем от дождя поле бразильцы одержали победу над Польшей. Это была настоящая феерия голов. Хет-трик Леонидаса позволил южноамериканцам уйти на перерыв, ведя в счете 3:1. Виллимовски в дополнительное время вывел поляков вперед, но усилиями Леонидаса, сделавшего покер, бразильцы вырвали победу со счетом 6:5. Во втором круге поду ставшим бразильцам потребовалось две игры для того, чтобы пройти Чехословакию. Но они все же выиграли и вышли в полуфинал, где их ждали итальянцы. Победу европейцам принес точный удар с 11 -метровой отметки их капитана Меацца. В другом полуфинале венгры разгромили шведов со счетом 5: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так. Финал. Италия - Венгрия. Колаусси в самом начале матча, просверлив оборону соперника, вывел Италию вперед. Шесть минут спустя блеснул Бьявати, обойдя с мячом практически всех соперников. Но Титкошу удалось сравнять счет. У итальянцев в великолепной форме находились инсайды Меацца и Феррари, и в конце концов все встало на свои места. Пиола забил на 15-й минуте, а на 35-й минуте Колаусси сделал счет 3:1. На 65-й минуте Шароши заставил-таки мяч пересечь линию ворот итальянцев. Но все решил потрясающий пас пяткой Бьявати, и Пиола смачным ударом забил решающий гол.</a:t>
            </a:r>
            <a:endParaRPr b="0" lang="en-US" sz="1800" spc="-1" strike="noStrike">
              <a:solidFill>
                <a:srgbClr val="ffffff"/>
              </a:solidFill>
              <a:latin typeface="Arial"/>
            </a:endParaRPr>
          </a:p>
        </p:txBody>
      </p:sp>
      <p:sp>
        <p:nvSpPr>
          <p:cNvPr id="106" name="WordArt 5"/>
          <p:cNvSpPr txBox="1"/>
          <p:nvPr/>
        </p:nvSpPr>
        <p:spPr>
          <a:xfrm>
            <a:off x="536400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5"/>
          <p:cNvSpPr txBox="1"/>
          <p:nvPr/>
        </p:nvSpPr>
        <p:spPr>
          <a:xfrm>
            <a:off x="250920" y="0"/>
            <a:ext cx="8569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50 года в Бразил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8" name="Rectangle 6"/>
          <p:cNvSpPr/>
          <p:nvPr/>
        </p:nvSpPr>
        <p:spPr>
          <a:xfrm>
            <a:off x="250920" y="1341360"/>
            <a:ext cx="8675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й турнир после. Второй мировой войны, названный трофеем Жюля Риме в честь основателя чемпионата мира, походил на захватывающий триллер. Аргентина отказалась играть в соседней Бразилии. Ввиду экономических трудностей последовал отказ от Чехословакии и Шотландии. Зато впервые на чемпионате выступили родоначальники футбола - англичан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и на первом чемпионате мира, соревнования проводились по круговой системе. Бразилия первенствовала в первой группе, несмотря на ничью со Швейцарией (2:2). В четвертой группе Уругвай оказался вдвоем с Боливией и разгромил ее со счетом 8:0. Сенсационно завершились соревнования во второй и третьей группах. Итальянцы стартовали вполне прилично. В матче со Швецией Рикардо Карапеллезе уже на 7-й минуте вывел свою команду вперед. Но к концу первого тайма итальянцы проигрывали со счетом 1:2 (у шведов забили Иеппсон и Сане Андерссон). Во втором тайме Иеппсон забил еще один мяч. И хотя итальянцы сумели сократить счет (отличился Муччинелли) и даже могли бы сравнять его, если бы мяч после удара Карапеллезе не попал в штангу, это был не их день. В итоге Швеция победила 3:2. </a:t>
            </a:r>
            <a:endParaRPr b="0" lang="en-US" sz="1800" spc="-1" strike="noStrike">
              <a:solidFill>
                <a:srgbClr val="ffffff"/>
              </a:solidFill>
              <a:latin typeface="Arial"/>
            </a:endParaRPr>
          </a:p>
        </p:txBody>
      </p:sp>
      <p:sp>
        <p:nvSpPr>
          <p:cNvPr id="109" name="WordArt 7"/>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нгры приехали в Цюрих безусловными фаворитами чемпионата. Поразительное мастерство Пушкаша, Хидегкути и Кочиша уже давно покорило весь мир и еще не успели забыть, что венгерская сборная не знала себе равных на Олимпиаде 1952 г. Казалось, венгры действительно непобедим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т почему ни для кого не явились сюрпризом 17 голов, забитых "венгерскими волшебниками" в двух играх группового турнира с Кореей и ФРГ. В матче с ФРГ Кочиш забил четыре мяча, но и немцы оставили о себе "добрую" память. Их центральный полузащитник Вернер Либрих ударил Пушкаша по ноге, и травмированному венгру пришлось уйти с поля на 30-й минуте. До конца чемпионата Пушкаш так и не оправился от этой травмы. Но даже без Пушкаша венгры легко вышли в четвертьфинал, где сокрушили Бразилию (4:2). А вот ФРГ понадобилась переигровка с Турцией, чтобы выйти на второе место в группе и пройти в четвертьфинал. Там ей предстояло встретиться с Югославией.</a:t>
            </a:r>
            <a:endParaRPr b="0" lang="en-US" sz="2000" spc="-1" strike="noStrike">
              <a:solidFill>
                <a:srgbClr val="ffffff"/>
              </a:solidFill>
              <a:latin typeface="Arial"/>
            </a:endParaRPr>
          </a:p>
        </p:txBody>
      </p:sp>
      <p:sp>
        <p:nvSpPr>
          <p:cNvPr id="111" name="WordArt 6"/>
          <p:cNvSpPr txBox="1"/>
          <p:nvPr/>
        </p:nvSpPr>
        <p:spPr>
          <a:xfrm>
            <a:off x="468360" y="0"/>
            <a:ext cx="8048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54 года в Швейцар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2" name="WordArt 7"/>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95280" y="1052640"/>
            <a:ext cx="8291520" cy="543384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нглия начала групповой турнир ничьей (4:4) с Бельгией, однако сумела обеспечить себе путевку в четвертьфинал, обыграв Швейцарию (2:0). А вот шотландцам не повезло. У себя в группе они не забили ни одного мяча и проиграли Австрии и Уругваю, которые в свою очередь, наоборот, не пропустили ни одного мяча в свои ворота. В четвертьфинале Стэнли Мэтьюз и Скиаффино показали чудеса индивидуальной игры, но Уругвай обыграл Англию (4:2). Матч Венгрия - Бразилия был омрачен массовой потасовкой на поле, известной впоследствии как "битва в Берне". Судья удалил с поля трех игроков, а после матча драка возобновилась в раздевалках. Зато встреча Австрия - Швейцария была просто невероятной. За 20 минут швейцарцы забили три гола, но буквально за три минуты австрийцы смогли отыграться и сравнять счет. За какие-то семь минут было забито в общей сложности пять голов! А в итоге Австрия победила 7:5.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ушкаш вышел на поле в финале. И это было его ошибкой. Хотя он и забил первый гол в матче (а венгры вообще начали потрясающе и уже после 8 минут вели в счете 2:0), больная нога все же давала о себе знать. На 11-й минуте Морлок отыграл один мяч, а потом Ран провел еще два мяча (причем второй мяч - за 7 минут до окончания основного времени), и ФРГ стала чемпионом мира.</a:t>
            </a:r>
            <a:endParaRPr b="0" lang="en-US" sz="1800" spc="-1" strike="noStrike">
              <a:solidFill>
                <a:srgbClr val="ffffff"/>
              </a:solidFill>
              <a:latin typeface="Arial"/>
            </a:endParaRPr>
          </a:p>
        </p:txBody>
      </p:sp>
      <p:sp>
        <p:nvSpPr>
          <p:cNvPr id="114" name="WordArt 4"/>
          <p:cNvSpPr txBox="1"/>
          <p:nvPr/>
        </p:nvSpPr>
        <p:spPr>
          <a:xfrm>
            <a:off x="536400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этом чемпионате сборная Бразилии продемонстрировала всему футбольному миру новую тактическую схему 4-2-4 и высокие индивидуальные качества Диди Гарринчи, Вава и совсем еще юного Пеле. Французы, у которых роли лидеров играли Жюст Фонтен и Раймон Копа, тоже продемонстрировали замечательный футбол. Вместе с тем, хозяева чемпионата - шведы преподнесли сюрприз.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падногерманские футболисты, занявшие первое место в первой группе, не смогли переиграть в очном споре североирландцев, выбивших в отборочном турнире сильную сборную Италии. Североирландцы наделали много шума, обыграв Чехословакию в дополнительном матче за второе место в группе. Но в четвертьфинале они уступили сборной Франции - лидеру второй группы, опередившей югославов. Уэльс также сумел пробиться в четвертьфинал, благодаря победе над Венгрией в переигровке. Уэльсу оставалось только гордиться тем, что в четвертьфинале бразильские "кудесники футбола" забили им только один мяч, проведенный юным Пеле. Бразилия одержала уверенную победу в четвертой группе, не пропустив в свои ворота ни одного гола. А вот англичане выбыли из борьбы, уступив в переигровке сборной СССР (0:1).</a:t>
            </a:r>
            <a:endParaRPr b="0" lang="en-US" sz="1800" spc="-1" strike="noStrike">
              <a:solidFill>
                <a:srgbClr val="ffffff"/>
              </a:solidFill>
              <a:latin typeface="Arial"/>
            </a:endParaRPr>
          </a:p>
        </p:txBody>
      </p:sp>
      <p:sp>
        <p:nvSpPr>
          <p:cNvPr id="116" name="WordArt 5"/>
          <p:cNvSpPr txBox="1"/>
          <p:nvPr/>
        </p:nvSpPr>
        <p:spPr>
          <a:xfrm>
            <a:off x="684360" y="260280"/>
            <a:ext cx="7324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58 года в Швец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7"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18" name="WordArt 7"/>
          <p:cNvSpPr txBox="1"/>
          <p:nvPr/>
        </p:nvSpPr>
        <p:spPr>
          <a:xfrm>
            <a:off x="5796000" y="6237360"/>
            <a:ext cx="10285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1268280"/>
            <a:ext cx="8507520" cy="489744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Бразильцы защитили свой титул чемпионов мира. Они перешли на схему 4-3-3 с Гарринчей в центре атаки, и это себя оправдайте. Однако этот чемпионат запомнился явно неспортивным поведением некоторых футболистов.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В первой группе СССР и Югославия уверенно обошли Уругвай и Колумбию. В третьей группе победита Бразилия. Единственным огорчением для бразильцев стала нулевая ничья с Чехословакией, которая преподнесла еще немало сюрпризов в чемпионате.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борная Англии стартовала плохо. В матче с Венгрией у себя в группе она проигрывала с самого начала. Мощным дальним ударом нападающий венгерской сборной Тихи, пробил вратаря Спринджетта, и после этого англичане никак не могли пробиться сквозь защиту венгров. Все же им удалось сравнять счет с пенальти, реализованного Роном Флауэрсом. На 18-й минуте впечатляющий сольный гол Альберта вновь вывел венгров вперед. К следующему матчу англичане смогли собраться и победили Аргентину (3:1). Благодаря еще одному пенальти, забитому Флауэрсом, а также мастерской игре Бобби Чарльтона и Джимми Гривса, англичане сумели одержать первую с 1954 г. победу' в финальном турнире чемпионата мира.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Матч Чили-Италия во второй группе вылился в настоящее побоище с взаимными ударами по ногам, плевками и рукоприкладством. Арбитр Кен Астон удалил в этом матче всего двух игроков, что было удивительно для игры, которая дискредитировала само понятие футбола. Бразильцы продолжали поражать своей игрой, несмотря на отсутствие травмированного Пеле, который завершил свое участие в чемпионате после матча группового турнира с Мексикой. Гарринча сделал игру с Англией в четвертьфинале. Он буквально "громил" чилийцев и в полуфинале. Но был удален с поля за грубое нарушение правил.</a:t>
            </a:r>
            <a:endParaRPr b="0" lang="en-US" sz="1400" spc="-1" strike="noStrike">
              <a:solidFill>
                <a:srgbClr val="ffffff"/>
              </a:solidFill>
              <a:latin typeface="Arial"/>
            </a:endParaRPr>
          </a:p>
        </p:txBody>
      </p:sp>
      <p:sp>
        <p:nvSpPr>
          <p:cNvPr id="120" name="WordArt 5"/>
          <p:cNvSpPr txBox="1"/>
          <p:nvPr/>
        </p:nvSpPr>
        <p:spPr>
          <a:xfrm>
            <a:off x="468360" y="0"/>
            <a:ext cx="7632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62 года в Чил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21" name="WordArt 6"/>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22" name="WordArt 7"/>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3068640"/>
            <a:ext cx="8229600" cy="144000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Только 5000 зрителей пришли на стадион в Винья-дель-Маре, где проходил полуфинал Чехословакия-Югославия. В финал вышли чехи, причем у них были все шансы победить действующих чемпионов мира - бразильцев. На 16-й минуте Масопуст вывел чехов вперед. Но Амарилдо, занявший место травмированного Пеле, быстро сравнял счет. Вперед бразильцы смогли выйти лишь на 69-й минуте благодаря голу Зито. А потом Вава сделал счет 3:1. Бразилия во второй раз стала чемпионом мира.</a:t>
            </a:r>
            <a:endParaRPr b="0" lang="en-US" sz="1400" spc="-1" strike="noStrike">
              <a:solidFill>
                <a:srgbClr val="ffffff"/>
              </a:solidFill>
              <a:latin typeface="Arial"/>
            </a:endParaRPr>
          </a:p>
        </p:txBody>
      </p:sp>
      <p:sp>
        <p:nvSpPr>
          <p:cNvPr id="124" name="WordArt 4"/>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3ebf1"/>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56" name="Picture 8" descr="jqb1kfx4emjan981xieb3kp3dykdsgah_2"/>
          <p:cNvPicPr/>
          <p:nvPr/>
        </p:nvPicPr>
        <p:blipFill>
          <a:blip r:embed="rId1"/>
          <a:stretch/>
        </p:blipFill>
        <p:spPr>
          <a:xfrm>
            <a:off x="-304920" y="-603360"/>
            <a:ext cx="9753840" cy="8136000"/>
          </a:xfrm>
          <a:prstGeom prst="rect">
            <a:avLst/>
          </a:prstGeom>
          <a:ln w="0">
            <a:noFill/>
          </a:ln>
        </p:spPr>
      </p:pic>
      <p:sp>
        <p:nvSpPr>
          <p:cNvPr id="57" name="WordArt 9"/>
          <p:cNvSpPr txBox="1"/>
          <p:nvPr/>
        </p:nvSpPr>
        <p:spPr>
          <a:xfrm>
            <a:off x="324000" y="472428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solidFill>
                    <a:srgbClr val="000099"/>
                  </a:solidFill>
                </a:ln>
                <a:solidFill>
                  <a:srgbClr val="33ccff"/>
                </a:solidFill>
                <a:effectLst>
                  <a:outerShdw dist="125751" dir="18900000" blurRad="0" rotWithShape="0">
                    <a:srgbClr val="000099"/>
                  </a:outerShdw>
                </a:effectLst>
                <a:latin typeface="Impact"/>
              </a:rPr>
              <a:t>1930</a:t>
            </a:r>
            <a:endParaRPr b="0" lang="en-US" sz="2000" spc="1" strike="noStrike">
              <a:ln w="0">
                <a:solidFill>
                  <a:srgbClr val="000099"/>
                </a:solidFill>
              </a:ln>
              <a:solidFill>
                <a:srgbClr val="33ccff"/>
              </a:solidFill>
              <a:effectLst>
                <a:outerShdw dist="125751" dir="18900000" blurRad="0" rotWithShape="0">
                  <a:srgbClr val="000099"/>
                </a:outerShdw>
              </a:effectLst>
              <a:latin typeface="Impact"/>
              <a:ea typeface="Impact"/>
            </a:endParaRPr>
          </a:p>
        </p:txBody>
      </p:sp>
      <p:sp>
        <p:nvSpPr>
          <p:cNvPr id="58" name="WordArt 10"/>
          <p:cNvSpPr txBox="1"/>
          <p:nvPr/>
        </p:nvSpPr>
        <p:spPr>
          <a:xfrm>
            <a:off x="1332000" y="4724280"/>
            <a:ext cx="49536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34</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WordArt 11"/>
          <p:cNvSpPr txBox="1"/>
          <p:nvPr/>
        </p:nvSpPr>
        <p:spPr>
          <a:xfrm>
            <a:off x="2484360" y="4653000"/>
            <a:ext cx="50508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38</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0" name="WordArt 12"/>
          <p:cNvSpPr txBox="1"/>
          <p:nvPr/>
        </p:nvSpPr>
        <p:spPr>
          <a:xfrm>
            <a:off x="250920" y="1844640"/>
            <a:ext cx="3132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Быбирай го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1" name="WordArt 13"/>
          <p:cNvSpPr txBox="1"/>
          <p:nvPr/>
        </p:nvSpPr>
        <p:spPr>
          <a:xfrm>
            <a:off x="0" y="522936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50</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2" name="WordArt 14"/>
          <p:cNvSpPr txBox="1"/>
          <p:nvPr/>
        </p:nvSpPr>
        <p:spPr>
          <a:xfrm>
            <a:off x="1042920" y="530064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54</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3" name="WordArt 15"/>
          <p:cNvSpPr txBox="1"/>
          <p:nvPr/>
        </p:nvSpPr>
        <p:spPr>
          <a:xfrm>
            <a:off x="2124000" y="5229360"/>
            <a:ext cx="50508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58</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4" name="WordArt 16"/>
          <p:cNvSpPr txBox="1"/>
          <p:nvPr/>
        </p:nvSpPr>
        <p:spPr>
          <a:xfrm>
            <a:off x="3276720" y="515772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62</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5" name="WordArt 17"/>
          <p:cNvSpPr txBox="1"/>
          <p:nvPr/>
        </p:nvSpPr>
        <p:spPr>
          <a:xfrm>
            <a:off x="250920" y="587700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66</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WordArt 18"/>
          <p:cNvSpPr txBox="1"/>
          <p:nvPr/>
        </p:nvSpPr>
        <p:spPr>
          <a:xfrm>
            <a:off x="1332000" y="580536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70</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7" name="WordArt 19"/>
          <p:cNvSpPr txBox="1"/>
          <p:nvPr/>
        </p:nvSpPr>
        <p:spPr>
          <a:xfrm>
            <a:off x="2484360" y="5734080"/>
            <a:ext cx="50508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74</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8" name="WordArt 20"/>
          <p:cNvSpPr txBox="1"/>
          <p:nvPr/>
        </p:nvSpPr>
        <p:spPr>
          <a:xfrm>
            <a:off x="3708360" y="566100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78</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9" name="WordArt 21"/>
          <p:cNvSpPr txBox="1"/>
          <p:nvPr/>
        </p:nvSpPr>
        <p:spPr>
          <a:xfrm>
            <a:off x="826920" y="6308640"/>
            <a:ext cx="50508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82</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0" name="WordArt 22"/>
          <p:cNvSpPr txBox="1"/>
          <p:nvPr/>
        </p:nvSpPr>
        <p:spPr>
          <a:xfrm>
            <a:off x="1908000" y="6308640"/>
            <a:ext cx="50508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86</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1" name="WordArt 23"/>
          <p:cNvSpPr txBox="1"/>
          <p:nvPr/>
        </p:nvSpPr>
        <p:spPr>
          <a:xfrm>
            <a:off x="2843280" y="623736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90</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2" name="WordArt 24"/>
          <p:cNvSpPr txBox="1"/>
          <p:nvPr/>
        </p:nvSpPr>
        <p:spPr>
          <a:xfrm>
            <a:off x="3851280" y="623736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94</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 name="WordArt 25"/>
          <p:cNvSpPr txBox="1"/>
          <p:nvPr/>
        </p:nvSpPr>
        <p:spPr>
          <a:xfrm>
            <a:off x="4716360" y="6308640"/>
            <a:ext cx="50508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98</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blinds dir="horz"/>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1" presetSubtype="4">
                                  <p:stCondLst>
                                    <p:cond delay="0"/>
                                  </p:stCondLst>
                                  <p:childTnLst>
                                    <p:set>
                                      <p:cBhvr>
                                        <p:cTn id="34" dur="1" fill="hold">
                                          <p:stCondLst>
                                            <p:cond delay="0"/>
                                          </p:stCondLst>
                                        </p:cTn>
                                        <p:tgtEl>
                                          <p:spTgt spid="60"/>
                                        </p:tgtEl>
                                        <p:attrNameLst>
                                          <p:attrName>style.visibility</p:attrName>
                                        </p:attrNameLst>
                                      </p:cBhvr>
                                      <p:to>
                                        <p:strVal val="visible"/>
                                      </p:to>
                                    </p:set>
                                    <p:animEffect filter="wheel(4)" transition="in">
                                      <p:cBhvr additive="repl">
                                        <p:cTn id="35" dur="1000"/>
                                        <p:tgtEl>
                                          <p:spTgt spid="60"/>
                                        </p:tgtEl>
                                      </p:cBhvr>
                                    </p:animEffect>
                                  </p:childTnLst>
                                </p:cTn>
                              </p:par>
                            </p:childTnLst>
                          </p:cTn>
                        </p:par>
                        <p:par>
                          <p:cTn id="36" fill="hold">
                            <p:stCondLst>
                              <p:cond delay="1000"/>
                            </p:stCondLst>
                            <p:childTnLst>
                              <p:par>
                                <p:cTn id="37" nodeType="afterEffect" fill="hold" presetClass="entr" presetID="10">
                                  <p:stCondLst>
                                    <p:cond delay="0"/>
                                  </p:stCondLst>
                                  <p:childTnLst>
                                    <p:set>
                                      <p:cBhvr>
                                        <p:cTn id="38" dur="1" fill="hold">
                                          <p:stCondLst>
                                            <p:cond delay="0"/>
                                          </p:stCondLst>
                                        </p:cTn>
                                        <p:tgtEl>
                                          <p:spTgt spid="57"/>
                                        </p:tgtEl>
                                        <p:attrNameLst>
                                          <p:attrName>style.visibility</p:attrName>
                                        </p:attrNameLst>
                                      </p:cBhvr>
                                      <p:to>
                                        <p:strVal val="visible"/>
                                      </p:to>
                                    </p:set>
                                    <p:animEffect filter="fade" transition="in">
                                      <p:cBhvr additive="repl">
                                        <p:cTn id="39" dur="2000"/>
                                        <p:tgtEl>
                                          <p:spTgt spid="57"/>
                                        </p:tgtEl>
                                      </p:cBhvr>
                                    </p:animEffect>
                                  </p:childTnLst>
                                </p:cTn>
                              </p:par>
                              <p:par>
                                <p:cTn id="40" nodeType="withEffect" fill="hold" presetClass="entr" presetID="10">
                                  <p:stCondLst>
                                    <p:cond delay="0"/>
                                  </p:stCondLst>
                                  <p:childTnLst>
                                    <p:set>
                                      <p:cBhvr>
                                        <p:cTn id="41" dur="1" fill="hold">
                                          <p:stCondLst>
                                            <p:cond delay="0"/>
                                          </p:stCondLst>
                                        </p:cTn>
                                        <p:tgtEl>
                                          <p:spTgt spid="58"/>
                                        </p:tgtEl>
                                        <p:attrNameLst>
                                          <p:attrName>style.visibility</p:attrName>
                                        </p:attrNameLst>
                                      </p:cBhvr>
                                      <p:to>
                                        <p:strVal val="visible"/>
                                      </p:to>
                                    </p:set>
                                    <p:animEffect filter="fade" transition="in">
                                      <p:cBhvr additive="repl">
                                        <p:cTn id="42" dur="2000"/>
                                        <p:tgtEl>
                                          <p:spTgt spid="58"/>
                                        </p:tgtEl>
                                      </p:cBhvr>
                                    </p:animEffect>
                                  </p:childTnLst>
                                </p:cTn>
                              </p:par>
                              <p:par>
                                <p:cTn id="43" nodeType="withEffect" fill="hold" presetClass="entr" presetID="10">
                                  <p:stCondLst>
                                    <p:cond delay="0"/>
                                  </p:stCondLst>
                                  <p:childTnLst>
                                    <p:set>
                                      <p:cBhvr>
                                        <p:cTn id="44" dur="1" fill="hold">
                                          <p:stCondLst>
                                            <p:cond delay="0"/>
                                          </p:stCondLst>
                                        </p:cTn>
                                        <p:tgtEl>
                                          <p:spTgt spid="59"/>
                                        </p:tgtEl>
                                        <p:attrNameLst>
                                          <p:attrName>style.visibility</p:attrName>
                                        </p:attrNameLst>
                                      </p:cBhvr>
                                      <p:to>
                                        <p:strVal val="visible"/>
                                      </p:to>
                                    </p:set>
                                    <p:animEffect filter="fade" transition="in">
                                      <p:cBhvr additive="repl">
                                        <p:cTn id="45" dur="2000"/>
                                        <p:tgtEl>
                                          <p:spTgt spid="59"/>
                                        </p:tgtEl>
                                      </p:cBhvr>
                                    </p:animEffect>
                                  </p:childTnLst>
                                </p:cTn>
                              </p:par>
                              <p:par>
                                <p:cTn id="46" nodeType="withEffect" fill="hold" presetClass="entr" presetID="10">
                                  <p:stCondLst>
                                    <p:cond delay="0"/>
                                  </p:stCondLst>
                                  <p:childTnLst>
                                    <p:set>
                                      <p:cBhvr>
                                        <p:cTn id="47" dur="1" fill="hold">
                                          <p:stCondLst>
                                            <p:cond delay="0"/>
                                          </p:stCondLst>
                                        </p:cTn>
                                        <p:tgtEl>
                                          <p:spTgt spid="61"/>
                                        </p:tgtEl>
                                        <p:attrNameLst>
                                          <p:attrName>style.visibility</p:attrName>
                                        </p:attrNameLst>
                                      </p:cBhvr>
                                      <p:to>
                                        <p:strVal val="visible"/>
                                      </p:to>
                                    </p:set>
                                    <p:animEffect filter="fade" transition="in">
                                      <p:cBhvr additive="repl">
                                        <p:cTn id="48" dur="2000"/>
                                        <p:tgtEl>
                                          <p:spTgt spid="61"/>
                                        </p:tgtEl>
                                      </p:cBhvr>
                                    </p:animEffect>
                                  </p:childTnLst>
                                </p:cTn>
                              </p:par>
                              <p:par>
                                <p:cTn id="49" nodeType="withEffect" fill="hold" presetClass="entr" presetID="10">
                                  <p:stCondLst>
                                    <p:cond delay="0"/>
                                  </p:stCondLst>
                                  <p:childTnLst>
                                    <p:set>
                                      <p:cBhvr>
                                        <p:cTn id="50" dur="1" fill="hold">
                                          <p:stCondLst>
                                            <p:cond delay="0"/>
                                          </p:stCondLst>
                                        </p:cTn>
                                        <p:tgtEl>
                                          <p:spTgt spid="62"/>
                                        </p:tgtEl>
                                        <p:attrNameLst>
                                          <p:attrName>style.visibility</p:attrName>
                                        </p:attrNameLst>
                                      </p:cBhvr>
                                      <p:to>
                                        <p:strVal val="visible"/>
                                      </p:to>
                                    </p:set>
                                    <p:animEffect filter="fade" transition="in">
                                      <p:cBhvr additive="repl">
                                        <p:cTn id="51" dur="2000"/>
                                        <p:tgtEl>
                                          <p:spTgt spid="62"/>
                                        </p:tgtEl>
                                      </p:cBhvr>
                                    </p:animEffect>
                                  </p:childTnLst>
                                </p:cTn>
                              </p:par>
                              <p:par>
                                <p:cTn id="52" nodeType="withEffect" fill="hold" presetClass="entr" presetID="10">
                                  <p:stCondLst>
                                    <p:cond delay="0"/>
                                  </p:stCondLst>
                                  <p:childTnLst>
                                    <p:set>
                                      <p:cBhvr>
                                        <p:cTn id="53" dur="1" fill="hold">
                                          <p:stCondLst>
                                            <p:cond delay="0"/>
                                          </p:stCondLst>
                                        </p:cTn>
                                        <p:tgtEl>
                                          <p:spTgt spid="63"/>
                                        </p:tgtEl>
                                        <p:attrNameLst>
                                          <p:attrName>style.visibility</p:attrName>
                                        </p:attrNameLst>
                                      </p:cBhvr>
                                      <p:to>
                                        <p:strVal val="visible"/>
                                      </p:to>
                                    </p:set>
                                    <p:animEffect filter="fade" transition="in">
                                      <p:cBhvr additive="repl">
                                        <p:cTn id="54" dur="2000"/>
                                        <p:tgtEl>
                                          <p:spTgt spid="63"/>
                                        </p:tgtEl>
                                      </p:cBhvr>
                                    </p:animEffect>
                                  </p:childTnLst>
                                </p:cTn>
                              </p:par>
                              <p:par>
                                <p:cTn id="55" nodeType="withEffect" fill="hold" presetClass="entr" presetID="10">
                                  <p:stCondLst>
                                    <p:cond delay="0"/>
                                  </p:stCondLst>
                                  <p:childTnLst>
                                    <p:set>
                                      <p:cBhvr>
                                        <p:cTn id="56" dur="1" fill="hold">
                                          <p:stCondLst>
                                            <p:cond delay="0"/>
                                          </p:stCondLst>
                                        </p:cTn>
                                        <p:tgtEl>
                                          <p:spTgt spid="64"/>
                                        </p:tgtEl>
                                        <p:attrNameLst>
                                          <p:attrName>style.visibility</p:attrName>
                                        </p:attrNameLst>
                                      </p:cBhvr>
                                      <p:to>
                                        <p:strVal val="visible"/>
                                      </p:to>
                                    </p:set>
                                    <p:animEffect filter="fade" transition="in">
                                      <p:cBhvr additive="repl">
                                        <p:cTn id="57" dur="2000"/>
                                        <p:tgtEl>
                                          <p:spTgt spid="64"/>
                                        </p:tgtEl>
                                      </p:cBhvr>
                                    </p:animEffect>
                                  </p:childTnLst>
                                </p:cTn>
                              </p:par>
                              <p:par>
                                <p:cTn id="58" nodeType="withEffect" fill="hold" presetClass="entr" presetID="10">
                                  <p:stCondLst>
                                    <p:cond delay="0"/>
                                  </p:stCondLst>
                                  <p:childTnLst>
                                    <p:set>
                                      <p:cBhvr>
                                        <p:cTn id="59" dur="1" fill="hold">
                                          <p:stCondLst>
                                            <p:cond delay="0"/>
                                          </p:stCondLst>
                                        </p:cTn>
                                        <p:tgtEl>
                                          <p:spTgt spid="65"/>
                                        </p:tgtEl>
                                        <p:attrNameLst>
                                          <p:attrName>style.visibility</p:attrName>
                                        </p:attrNameLst>
                                      </p:cBhvr>
                                      <p:to>
                                        <p:strVal val="visible"/>
                                      </p:to>
                                    </p:set>
                                    <p:animEffect filter="fade" transition="in">
                                      <p:cBhvr additive="repl">
                                        <p:cTn id="60" dur="2000"/>
                                        <p:tgtEl>
                                          <p:spTgt spid="65"/>
                                        </p:tgtEl>
                                      </p:cBhvr>
                                    </p:animEffect>
                                  </p:childTnLst>
                                </p:cTn>
                              </p:par>
                              <p:par>
                                <p:cTn id="61" nodeType="withEffect" fill="hold" presetClass="entr" presetID="10">
                                  <p:stCondLst>
                                    <p:cond delay="0"/>
                                  </p:stCondLst>
                                  <p:childTnLst>
                                    <p:set>
                                      <p:cBhvr>
                                        <p:cTn id="62" dur="1" fill="hold">
                                          <p:stCondLst>
                                            <p:cond delay="0"/>
                                          </p:stCondLst>
                                        </p:cTn>
                                        <p:tgtEl>
                                          <p:spTgt spid="66"/>
                                        </p:tgtEl>
                                        <p:attrNameLst>
                                          <p:attrName>style.visibility</p:attrName>
                                        </p:attrNameLst>
                                      </p:cBhvr>
                                      <p:to>
                                        <p:strVal val="visible"/>
                                      </p:to>
                                    </p:set>
                                    <p:animEffect filter="fade" transition="in">
                                      <p:cBhvr additive="repl">
                                        <p:cTn id="63" dur="2000"/>
                                        <p:tgtEl>
                                          <p:spTgt spid="66"/>
                                        </p:tgtEl>
                                      </p:cBhvr>
                                    </p:animEffect>
                                  </p:childTnLst>
                                </p:cTn>
                              </p:par>
                              <p:par>
                                <p:cTn id="64" nodeType="withEffect" fill="hold" presetClass="entr" presetID="10">
                                  <p:stCondLst>
                                    <p:cond delay="0"/>
                                  </p:stCondLst>
                                  <p:childTnLst>
                                    <p:set>
                                      <p:cBhvr>
                                        <p:cTn id="65" dur="1" fill="hold">
                                          <p:stCondLst>
                                            <p:cond delay="0"/>
                                          </p:stCondLst>
                                        </p:cTn>
                                        <p:tgtEl>
                                          <p:spTgt spid="67"/>
                                        </p:tgtEl>
                                        <p:attrNameLst>
                                          <p:attrName>style.visibility</p:attrName>
                                        </p:attrNameLst>
                                      </p:cBhvr>
                                      <p:to>
                                        <p:strVal val="visible"/>
                                      </p:to>
                                    </p:set>
                                    <p:animEffect filter="fade" transition="in">
                                      <p:cBhvr additive="repl">
                                        <p:cTn id="66" dur="2000"/>
                                        <p:tgtEl>
                                          <p:spTgt spid="67"/>
                                        </p:tgtEl>
                                      </p:cBhvr>
                                    </p:animEffect>
                                  </p:childTnLst>
                                </p:cTn>
                              </p:par>
                              <p:par>
                                <p:cTn id="67" nodeType="withEffect" fill="hold" presetClass="entr" presetID="10">
                                  <p:stCondLst>
                                    <p:cond delay="0"/>
                                  </p:stCondLst>
                                  <p:childTnLst>
                                    <p:set>
                                      <p:cBhvr>
                                        <p:cTn id="68" dur="1" fill="hold">
                                          <p:stCondLst>
                                            <p:cond delay="0"/>
                                          </p:stCondLst>
                                        </p:cTn>
                                        <p:tgtEl>
                                          <p:spTgt spid="68"/>
                                        </p:tgtEl>
                                        <p:attrNameLst>
                                          <p:attrName>style.visibility</p:attrName>
                                        </p:attrNameLst>
                                      </p:cBhvr>
                                      <p:to>
                                        <p:strVal val="visible"/>
                                      </p:to>
                                    </p:set>
                                    <p:animEffect filter="fade" transition="in">
                                      <p:cBhvr additive="repl">
                                        <p:cTn id="69" dur="2000"/>
                                        <p:tgtEl>
                                          <p:spTgt spid="68"/>
                                        </p:tgtEl>
                                      </p:cBhvr>
                                    </p:animEffect>
                                  </p:childTnLst>
                                </p:cTn>
                              </p:par>
                              <p:par>
                                <p:cTn id="70" nodeType="withEffect" fill="hold" presetClass="entr" presetID="10">
                                  <p:stCondLst>
                                    <p:cond delay="0"/>
                                  </p:stCondLst>
                                  <p:childTnLst>
                                    <p:set>
                                      <p:cBhvr>
                                        <p:cTn id="71" dur="1" fill="hold">
                                          <p:stCondLst>
                                            <p:cond delay="0"/>
                                          </p:stCondLst>
                                        </p:cTn>
                                        <p:tgtEl>
                                          <p:spTgt spid="69"/>
                                        </p:tgtEl>
                                        <p:attrNameLst>
                                          <p:attrName>style.visibility</p:attrName>
                                        </p:attrNameLst>
                                      </p:cBhvr>
                                      <p:to>
                                        <p:strVal val="visible"/>
                                      </p:to>
                                    </p:set>
                                    <p:animEffect filter="fade" transition="in">
                                      <p:cBhvr additive="repl">
                                        <p:cTn id="72" dur="2000"/>
                                        <p:tgtEl>
                                          <p:spTgt spid="69"/>
                                        </p:tgtEl>
                                      </p:cBhvr>
                                    </p:animEffect>
                                  </p:childTnLst>
                                </p:cTn>
                              </p:par>
                              <p:par>
                                <p:cTn id="73" nodeType="withEffect" fill="hold" presetClass="entr" presetID="10">
                                  <p:stCondLst>
                                    <p:cond delay="0"/>
                                  </p:stCondLst>
                                  <p:childTnLst>
                                    <p:set>
                                      <p:cBhvr>
                                        <p:cTn id="74" dur="1" fill="hold">
                                          <p:stCondLst>
                                            <p:cond delay="0"/>
                                          </p:stCondLst>
                                        </p:cTn>
                                        <p:tgtEl>
                                          <p:spTgt spid="70"/>
                                        </p:tgtEl>
                                        <p:attrNameLst>
                                          <p:attrName>style.visibility</p:attrName>
                                        </p:attrNameLst>
                                      </p:cBhvr>
                                      <p:to>
                                        <p:strVal val="visible"/>
                                      </p:to>
                                    </p:set>
                                    <p:animEffect filter="fade" transition="in">
                                      <p:cBhvr additive="repl">
                                        <p:cTn id="75" dur="2000"/>
                                        <p:tgtEl>
                                          <p:spTgt spid="70"/>
                                        </p:tgtEl>
                                      </p:cBhvr>
                                    </p:animEffect>
                                  </p:childTnLst>
                                </p:cTn>
                              </p:par>
                              <p:par>
                                <p:cTn id="76" nodeType="withEffect" fill="hold" presetClass="entr" presetID="10">
                                  <p:stCondLst>
                                    <p:cond delay="0"/>
                                  </p:stCondLst>
                                  <p:childTnLst>
                                    <p:set>
                                      <p:cBhvr>
                                        <p:cTn id="77" dur="1" fill="hold">
                                          <p:stCondLst>
                                            <p:cond delay="0"/>
                                          </p:stCondLst>
                                        </p:cTn>
                                        <p:tgtEl>
                                          <p:spTgt spid="71"/>
                                        </p:tgtEl>
                                        <p:attrNameLst>
                                          <p:attrName>style.visibility</p:attrName>
                                        </p:attrNameLst>
                                      </p:cBhvr>
                                      <p:to>
                                        <p:strVal val="visible"/>
                                      </p:to>
                                    </p:set>
                                    <p:animEffect filter="fade" transition="in">
                                      <p:cBhvr additive="repl">
                                        <p:cTn id="78" dur="2000"/>
                                        <p:tgtEl>
                                          <p:spTgt spid="71"/>
                                        </p:tgtEl>
                                      </p:cBhvr>
                                    </p:animEffect>
                                  </p:childTnLst>
                                </p:cTn>
                              </p:par>
                              <p:par>
                                <p:cTn id="79" nodeType="withEffect" fill="hold" presetClass="entr" presetID="10">
                                  <p:stCondLst>
                                    <p:cond delay="0"/>
                                  </p:stCondLst>
                                  <p:childTnLst>
                                    <p:set>
                                      <p:cBhvr>
                                        <p:cTn id="80" dur="1" fill="hold">
                                          <p:stCondLst>
                                            <p:cond delay="0"/>
                                          </p:stCondLst>
                                        </p:cTn>
                                        <p:tgtEl>
                                          <p:spTgt spid="72"/>
                                        </p:tgtEl>
                                        <p:attrNameLst>
                                          <p:attrName>style.visibility</p:attrName>
                                        </p:attrNameLst>
                                      </p:cBhvr>
                                      <p:to>
                                        <p:strVal val="visible"/>
                                      </p:to>
                                    </p:set>
                                    <p:animEffect filter="fade" transition="in">
                                      <p:cBhvr additive="repl">
                                        <p:cTn id="81" dur="2000"/>
                                        <p:tgtEl>
                                          <p:spTgt spid="72"/>
                                        </p:tgtEl>
                                      </p:cBhvr>
                                    </p:animEffect>
                                  </p:childTnLst>
                                </p:cTn>
                              </p:par>
                              <p:par>
                                <p:cTn id="82" nodeType="withEffect" fill="hold" presetClass="entr" presetID="10">
                                  <p:stCondLst>
                                    <p:cond delay="0"/>
                                  </p:stCondLst>
                                  <p:childTnLst>
                                    <p:set>
                                      <p:cBhvr>
                                        <p:cTn id="83" dur="1" fill="hold">
                                          <p:stCondLst>
                                            <p:cond delay="0"/>
                                          </p:stCondLst>
                                        </p:cTn>
                                        <p:tgtEl>
                                          <p:spTgt spid="73"/>
                                        </p:tgtEl>
                                        <p:attrNameLst>
                                          <p:attrName>style.visibility</p:attrName>
                                        </p:attrNameLst>
                                      </p:cBhvr>
                                      <p:to>
                                        <p:strVal val="visible"/>
                                      </p:to>
                                    </p:set>
                                    <p:animEffect filter="fade" transition="in">
                                      <p:cBhvr additive="repl">
                                        <p:cTn id="84"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первые за 32 года страна, принимавшая первенство мира, выиграла чемпионат. Это был незабываемый турнир. Здесь было все: страсти, обиды, споры и прекрасный футбол. Он также запомнился одной из самых больших сенсаций за всю историю чемпионатов мира - в групповом турнире КНДР выбила из дальнейшей борьбы Италию.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Чемпионат стартовал вяло. Матч открытия (Англия - Уругвай) завершился нулевой ничьей. Однако в группе 2 сборная ФРГ сразу взялась за дело и обыграла Швейцарию (5:0). Бразильцы - увы - разочаровали. Они выиграли у Болгарии (2:0), но уступили в уже становящемся "традиционным" противостоянии с Венгрией, игру которой в том матче сделал Альберт. Потом бразильцы проиграли португальцам, чей голеадор Эйсебио стал лучшим бомбардиром чемпионата. Сборная СССР - надежная, продуктивная и техничная команда - без особого труда прошла в четвертьфинал. А вот для Италии этот чемпионат стал большим огорчением. Она проиграла (0:1) советской сборной, и, для того чтобы выйти в четвертьфинал, им надо было выиграть у КНДР. Никто не сомневался, что это будет простая формальность. Однако предвкушение легкой победы обернулось настоящим кошмаром. На 42-й минуте Пак Ду Ик отобрал мяч у Риверы, провел его к воротам Альбертози и забил гол. Это был единственный гол в том матче.</a:t>
            </a:r>
            <a:endParaRPr b="0" lang="en-US" sz="1600" spc="-1" strike="noStrike">
              <a:solidFill>
                <a:srgbClr val="ffffff"/>
              </a:solidFill>
              <a:latin typeface="Arial"/>
            </a:endParaRPr>
          </a:p>
        </p:txBody>
      </p:sp>
      <p:sp>
        <p:nvSpPr>
          <p:cNvPr id="126" name="WordArt 4"/>
          <p:cNvSpPr txBox="1"/>
          <p:nvPr/>
        </p:nvSpPr>
        <p:spPr>
          <a:xfrm>
            <a:off x="324000" y="0"/>
            <a:ext cx="81356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66 года в Англ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27"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28"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этом чемпионате вновь восторжествовал свободный и динамичный футбол бразильцев. Несмотря на жару, тяжелый высокогорный климат и отчаянное сопротивление итальянцев (признанных мастеров защиты) в финале, Бразилия в третий раз взяла Кубок мира.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первой и второй группах не было никаких сюрпризов. СССР, Мексика, Италия и Уругвай уверенно вышли в четвертьфинал. Наиболее напряженным и зрелищным матчем в третьей группе стала встреча Бразилия - Англия. На 10-й минуте Жаирзиньо - скоростной и мощный игрок - навесил мяч от боковой линии, а Пеле рванулся вперед и успел замкнуть прострел, послав мяч головой в ворота соперников. Мяч отскочил от земли и летел в ворота впритирку с левой штангой. Болельщики уже взорвались криками "Гол!", но вратарь англичан Гордон Бэнкс, который сначала бросился в другой угол, умудрился с ходу развернуться и вытолкнуть мяч через перекладину. Это был один из самых впечатляющих бросков голкипера за всю историю чемпионатов мира.</a:t>
            </a:r>
            <a:endParaRPr b="0" lang="en-US" sz="1800" spc="-1" strike="noStrike">
              <a:solidFill>
                <a:srgbClr val="ffffff"/>
              </a:solidFill>
              <a:latin typeface="Arial"/>
            </a:endParaRPr>
          </a:p>
        </p:txBody>
      </p:sp>
      <p:sp>
        <p:nvSpPr>
          <p:cNvPr id="130" name="WordArt 4"/>
          <p:cNvSpPr txBox="1"/>
          <p:nvPr/>
        </p:nvSpPr>
        <p:spPr>
          <a:xfrm>
            <a:off x="826920" y="0"/>
            <a:ext cx="7410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70 года в Мексик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31"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2"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динственный мяч в этом матче провел во втором тайме Жаирзиньо, который забивал во всех шести играх, сыгранных бразильцами на чемпионате. Сборная Англии оступилась в четвертьфинале. В какой-то момент англичане вели в счете с разрывом в два мяча, но в дополнительное время все же уступили ФРГ. Быть может, сказалось отсутствие Гордона Бэнкса, который в тот день не вышел на поле из-за расстройства желудка.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раматично сложился полуфинал Италия - ФРГ. Гол Бонисеньи вывел итальянцев вперед, и во втором тайме они ушли в глухую защиту, чтобы сохранить свое преимущество. Взяв под контроль середину поля, немцы перехватили инициативу, однако сравняли счет лишь на 3-й минуте добавленного арбитром времени (отличился Шнеллингер). В дополнительное время голы "посыпались" один за другим: после гола Мюллера ФРГ повела 2:1, Бурньик и Рива вывели итальянцев вперед (3:2). Мюллер сравнял счет (3:3), а победную точку в матче поставил Ривера. Италия вышла в финал.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инал стал торжеством атакующего футбола. Пеле открыл счет. Потом Бонисенья сравнял его, воспользовавшись грубой ошибкой Клодоалдо. Но на 66-й минуте Жерсон вновь вывел бразильцев вперед, а голы Жаирзиньо и Карлоса Альберте закрепили победу.</a:t>
            </a:r>
            <a:endParaRPr b="0" lang="en-US" sz="1600" spc="-1" strike="noStrike">
              <a:solidFill>
                <a:srgbClr val="ffffff"/>
              </a:solidFill>
              <a:latin typeface="Arial"/>
            </a:endParaRPr>
          </a:p>
        </p:txBody>
      </p:sp>
      <p:sp>
        <p:nvSpPr>
          <p:cNvPr id="134" name="WordArt 4"/>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 этом чемпионате (когда ФРГ после 20-летнего перерыва вновь стала сильнейшей командой планеты) доминировали европейские сборные. Это был триумф созидательного футбола. Голландия и Польша, которая сенсационно выбила Англию в отборочном турнире, продемонстрировали совершенную технику и тактическое мастерство. Термин "тотальный футбол" закрепился в мировом футбольном словаре. Голландские мастера, в том числе Кройф, Неескенс и Реп, отказались от жестких схем 4-2-4 и 4-3-3 и представили новую концепцию "игры со сменой позиций", подразумевавшую стирание граней между позициями и полную взаимозаменяемость игроков на поле.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осемь из 16 команд выбыли из борьбы после первой серии групповых матчей. ФРГ и ГДР без особых проблем вышли из своей группы во второй круг. Также уверенно провели первый этап Голландия и Швеция, и Польша в четвертой группе. А вот аргентинцы "обошли" итальянцев лишь по разнице мячей, благодаря победе (4:1) над сборной Гаити, которая проиграла Италии (1:3).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амая жесткая борьба шла во второй группе. Бразилия - к сожалению, уже без Пеле, который завершил свою карьеру, - закончила встречи с Югославией и Шотландией нулевыми ничьими. Таким образом, матч с Заиром стал для нее ключевым. Шотландцы сыграли с Заиром со счетом 2:0, а югославы разгромили их (9:0) и захватили лидерство в группе по разнице мячей.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ня того чтобы выйти в следующий круг, Шотландии была нужна победа над Югославией. Однако они сыграли вничью (1:1), Бразилия буквально протиснулась на второе место, так как выиграла у Заира (3:0) и на один мяч обошла Шотландию по разнице забитых и пропущенных мячей.</a:t>
            </a:r>
            <a:endParaRPr b="0" lang="en-US" sz="1400" spc="-1" strike="noStrike">
              <a:solidFill>
                <a:srgbClr val="ffffff"/>
              </a:solidFill>
              <a:latin typeface="Arial"/>
            </a:endParaRPr>
          </a:p>
        </p:txBody>
      </p:sp>
      <p:sp>
        <p:nvSpPr>
          <p:cNvPr id="136" name="WordArt 4"/>
          <p:cNvSpPr txBox="1"/>
          <p:nvPr/>
        </p:nvSpPr>
        <p:spPr>
          <a:xfrm>
            <a:off x="684360" y="0"/>
            <a:ext cx="75596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74 года в ФРГ</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37"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8"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1197000"/>
            <a:ext cx="8229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полуфинальном турнире голландцы выглядели впечатляюще. Они заняли первое место в группе. А, не пропустив ни одного мяча, и обеспечили себе выход в финал. Сборная Бразилии - всего лишь тень несравненной команды, блиставшей на прошлом чемпионате, - не смогла выйти в финал, хотя и оставила о себе память фантастическим голом, забитым в матче с ГДР. При пробитии бразильцами штрафного Жаирзиньо пристроился с краю немецкой "стенки". Ривелино ударят в его направлении, но Жаирзиньо пригнулся, и озадаченному голкиперу Крою осталось лишь проводить взглядом мяч и вынуть его из своих ворот.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ФРГ (второй финалист) вышла из своей группы не столь уверенно. Все решилось в последнем в группе матче с Польшей. В трудных условиях, на мокром поле физическая сила немцев все-таки возобладала. Томашевский сумел отразить пенальти, пробитый Хенессом, но немец потом искупил свой промах, сделав точную передачу на Герда Мюллера по прозвищу Бомбардировщик, и тот забил гол, ставший для ФРГ путевкой в финал.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чало финального матча, было, пожалуй, самым драматичным за всю историю чемпионатов мира. Едва мяч был введен в игру, голландцы сразу перевели его на половину поля соперников. Но Хенесс сбил Кройфа в штрафной площадке, и впервые в истории чемпионатов мира арбитр назначил пенальти в финальном матче. Неескенс пробил его точно. Счет был открыт уже на первой минуте.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мцы рвались отыграться. Хельценбайн устремился с мячом к воротам голландцев, но Янсен подставил ему подножку. Теперь уже немцы заработали 11-метровый. Брайтнер реализовал его, и счет стал 1:1. А на 43-й минуте Герд Мюллер забил второй гол за ФРГ (его 68-й гол за сборную, последний и самый важный) и принес своей команде победу в мировом первенстве.</a:t>
            </a:r>
            <a:endParaRPr b="0" lang="en-US" sz="1400" spc="-1" strike="noStrike">
              <a:solidFill>
                <a:srgbClr val="ffffff"/>
              </a:solidFill>
              <a:latin typeface="Arial"/>
            </a:endParaRPr>
          </a:p>
        </p:txBody>
      </p:sp>
      <p:sp>
        <p:nvSpPr>
          <p:cNvPr id="140" name="WordArt 4"/>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341000"/>
            <a:ext cx="8686800" cy="478476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Аргентинские болельщики торжествовали: их сборная стала чемпионом мира, да еще на родной земле.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днако нейтральные любители футбола были огорчены очередной неудачей Голландии - объективно лучшей команды в мире, у которой были все права на чемпионский титул.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борная Аргентины, при фанатичной поддержке болельщиков, провела колоритный и драматичный турнир. Но путь аргентинцев к финалу нельзя назвать триумфальным шествием. В первом же матче с Венгрией им пришлось "попотеть". На 12-й минуте Зомбори забил гол, и Венгрия вышла вперед. Три минуты спустя Леопольде Луке сравнял счет. Арбитр удалил с поля двух венгерских футболистов, и Бертони удалось забить победный гол. Аргентина и Италия уже однозначно выходили во второй круг, но им еще предстояло решить в очном споре, кто займет первое место в первой группе. Итальянцы стояли насмерть, и гол Беттеги, забитый на 67-й минуте, принес им победу.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о второй группе на первое место вышли поляки. Сенсацию произвела сборная Туниса. Она на равных игра-па с ФРГ и закончила матч нулевой ничьей, причем вполне могла выиграть. В третьей группе бразильцы опять не сумели настроиться на серьезную игру и "протиснулись" в следующий крут только благодаря победе ( 1:0) над австрийцами, которые уверенно возглавляли группу. Шотландии - единственному представителю Beликобритании на чемпионате - пришлось пережить горькое унижение. Сначала шотландцы проиграли Перу со счетом 1:3, a потом их ведущий форвард Вилли Джонстон не прошел допинг контроль и был с позором отправлен домой. Ничья (1:1) с Ираном, разумеется, не подняла настроение. Но Шотландия все-таки "сохранила лицо", обыграв Голландию.</a:t>
            </a:r>
            <a:endParaRPr b="0" lang="en-US" sz="1400" spc="-1" strike="noStrike">
              <a:solidFill>
                <a:srgbClr val="ffffff"/>
              </a:solidFill>
              <a:latin typeface="Arial"/>
            </a:endParaRPr>
          </a:p>
        </p:txBody>
      </p:sp>
      <p:sp>
        <p:nvSpPr>
          <p:cNvPr id="142" name="WordArt 4"/>
          <p:cNvSpPr txBox="1"/>
          <p:nvPr/>
        </p:nvSpPr>
        <p:spPr>
          <a:xfrm>
            <a:off x="468360" y="0"/>
            <a:ext cx="7705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78 года в Аргентин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43"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44"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о втором круге (в полуфинальной группе А) матч Италия- ФРГ был построен исключительно на обороне. Команды стремились не проиграть. Зато встреча Голландия-ФРГ (своеобразный "повтор" финала 1974 г.) стала одной из лучших в этой серии. Матч закончился вничью (2:2), и голландцы вышли в финал. В группе В ситуация складывалась так: бразильцы выиграли у поляков со счетом 3:1, и, для того чтобы выйти в финал, Аргентине надо было победить Перу с разницей, как минимум, в четыре гола. Аргентинцы блестяще справились с этой задачей и выиграли даже "с запасом" (6:0). Итог этой встречи вызвал немало кривотолков, но, как бы там ни было, Аргентина обеспечила себе место в финале.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инал получился скорей драматичным, нежели сколько-нибудь выдающимся. Героем матча стал Марио Кемпес, сделавший "дубль". Аргентина стала чемпионом мира, а Голландия, как и в прошлый раз, споткнулась на самых подступах к вожделенному чемпионству.</a:t>
            </a:r>
            <a:endParaRPr b="0" lang="en-US" sz="1600" spc="-1" strike="noStrike">
              <a:solidFill>
                <a:srgbClr val="ffffff"/>
              </a:solidFill>
              <a:latin typeface="Arial"/>
            </a:endParaRPr>
          </a:p>
        </p:txBody>
      </p:sp>
      <p:sp>
        <p:nvSpPr>
          <p:cNvPr id="146" name="WordArt 4"/>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134136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тальянцы вполне заслуженно победили на этом чемпионате, пусть даже и долго раскачивались на старте: все три матча в своей первой группе они закончили вничью и вышли в следующий круг лишь за счет большего числа забитых мячей. Сборная ФРГ, которая в итоге заняла второе место на мировом первенстве, также начала неудачно. В первом же матче у себя в группе она проиграла Алжиру со счетом 1:2. Однако по ходу турнира оба будущих финалиста постепенно набрали форму.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вот Англия, наоборот, начала блестяще, но потом сбавила темп. В матче Англия - Франция капитан Брайан Робсон открыл счет уже на 27-й секунде. Однако несмотря на то, что команда Рона Гринвуда показала себя неудобным соперником, которого трудно обыграть, в отсутствие травмированных Кигана и Брукинга она все таки не сумела выйти из полуфинальной группы. Интереснейший матч состоялся во втором круге в группе С. Встречались Италия и Бразилия. Итальянцы трижды выходили вперед, бразильцы дважды их догоняли. Героем матча стал Паоло Росси, вернувшийся после двухгодичной дисквалификации. Его хет-трик принес итальянцам победу и вывел их в полуфинал.</a:t>
            </a:r>
            <a:endParaRPr b="0" lang="en-US" sz="1800" spc="-1" strike="noStrike">
              <a:solidFill>
                <a:srgbClr val="ffffff"/>
              </a:solidFill>
              <a:latin typeface="Arial"/>
            </a:endParaRPr>
          </a:p>
        </p:txBody>
      </p:sp>
      <p:sp>
        <p:nvSpPr>
          <p:cNvPr id="148" name="WordArt 4"/>
          <p:cNvSpPr txBox="1"/>
          <p:nvPr/>
        </p:nvSpPr>
        <p:spPr>
          <a:xfrm>
            <a:off x="395280" y="0"/>
            <a:ext cx="849780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82 года в Испан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49"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50"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333360"/>
            <a:ext cx="8229600" cy="54007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луфинале с Польшей Росси забил два гола. Итальянцы победили со счетом 2:0. Во втором полуфинале сборная ФРГ встречалась с командой Франции, которая в первом круге уступила Англии (1:3), но потом разыгралась и приобрела уверенность в своих силах. Этот матч стал самым драматичным на чемпионате. Платини. Трезор и Жиресс находились на тот момент на пике спортивной формы, так что многие прочили победу Франции. В первые 90 минут у французов было немало шансов увеличить разрыв в счете, но они не сумели их реализовать. Основное и дополнительное время закончились вничью. Причем немецкому голкиперу Тони Шумахеру сошел с рук очевидный фол против Баттистона. В серии после матчевых пенальти больше повело ФРГ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тот чемпионы принес немало сюрпризов. Явные аутсайдеры неожиданно продемонстрировали футбол очень высокого уровня. Привлекли внимание Алжир, Гондурас и Кувейт. А сборная Северной Ирландии, в составе которой играл 17-летний Норман Уайтсайд, самый молодой футболист, принимавший участие в финальном турнире чемпионата мира, отличилась у себя в группе победой над испанцами.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инал прошел при преимуществе итальянцев. Однако в первом тайме счет так и не был открыт, даже при том, что Кабрини бил пенальти. Во втором тайме итальянцы, воодушевленные первым голом Тарделли и мощными контратаками Бруно Конти, довели матч до победы. Италия стала второй после Бразилии командой, трижды выигрывавшей чемпионат мира.</a:t>
            </a:r>
            <a:endParaRPr b="0" lang="en-US" sz="1600" spc="-1" strike="noStrike">
              <a:solidFill>
                <a:srgbClr val="ffffff"/>
              </a:solidFill>
              <a:latin typeface="Arial"/>
            </a:endParaRPr>
          </a:p>
        </p:txBody>
      </p:sp>
      <p:sp>
        <p:nvSpPr>
          <p:cNvPr id="152" name="WordArt 4"/>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ксика стала первой в истории футбола страной, которая дважды принимала чемпионат мира. Впервые в финальной стадии мирового первенства было сыграно 52 матча при общем количестве зрителей 2 406 511.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борная ФРГ пополнила свой список достижений на чемпионатах мира. Она в пятый раз вышла в финал, вновь "выбив" в полуфинале Францию. Во втором полуфинале Аргентина обыграла Бельгию, которая произвела очень благоприятное впечатление на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емпионате, и вышла в финал третий раз. Однако ее победа (2:1) над Англией в четвертьфинальной встрече была немного подпорчена знаменитым инцидентом с "десницей Божьей", когда Марадона открыл счет в матче, подтолкнув мяч в ворота Питера Шилгона рукой. Зато второй - фантастический - гол лидера аргентинской команды был безупречным. Марадона провел мяч через всю половину поля, обыграв по пути троих английских защитников, и вколотил мяч в сетку.</a:t>
            </a:r>
            <a:endParaRPr b="0" lang="en-US" sz="2000" spc="-1" strike="noStrike">
              <a:solidFill>
                <a:srgbClr val="ffffff"/>
              </a:solidFill>
              <a:latin typeface="Arial"/>
            </a:endParaRPr>
          </a:p>
        </p:txBody>
      </p:sp>
      <p:sp>
        <p:nvSpPr>
          <p:cNvPr id="154" name="WordArt 4"/>
          <p:cNvSpPr txBox="1"/>
          <p:nvPr/>
        </p:nvSpPr>
        <p:spPr>
          <a:xfrm>
            <a:off x="395280" y="189000"/>
            <a:ext cx="853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86 года в Мексик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55"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56"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0" y="1413000"/>
            <a:ext cx="9144000" cy="630864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 первом чемпионате мира принимало участие всего 13 команд. Их разделили на                   </a:t>
            </a:r>
            <a:r>
              <a:rPr b="1" lang="en-US" sz="1600" spc="-1" strike="noStrike">
                <a:solidFill>
                  <a:srgbClr val="003366"/>
                </a:solidFill>
                <a:latin typeface="Arial"/>
              </a:rPr>
              <a:t>qqqqqqqqqqqq   </a:t>
            </a:r>
            <a:r>
              <a:rPr b="1" lang="ru-RU" sz="1600" spc="-1" strike="noStrike">
                <a:solidFill>
                  <a:srgbClr val="ffffff"/>
                </a:solidFill>
                <a:latin typeface="Arial"/>
              </a:rPr>
              <a:t>, которые возглавили Уругвай, Аргентина, Бразилия и США.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 матче открытия 13 июля Франция встречалась с Мексикой. Уже на 10-й минуте французы лишились своего вратаря Алекса Тепо, который получил травму в результате удара ногой по челюсти. В ворота встал левый полузащитник Шантрель (замены на поле будут разрешены лишь через 40 лет). Но даже оставшись вдесятером, французы блестяще провели этот матч. Голы, забитые Лораном, Ланжийе и Машино, дали им весомое преимущество перед соперником (3:0). Мексике удалось забить гол престижа. Его автором был Каррено. Но потом Машино забил свой второй мяч, и в результате Франция выиграла 4:1.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о два дня спустя французы потерпели поражение от аргентинцев - на 9-й минуте отличился Монти. Игра закончилась непонятно. Как раз в тот момент когда французы пошли в атаку и Ланжийе мог сравнять счет, бразильский арбитр Алмейда Регу дал свисток на окончание матча за 6 минут до положенного времени. В следующем матче Аргентина встречалась с Мексикой, и на поле вышел молодой Гильермо Стабиле по прозвищу "Эль Инфильтрадор" ("проникающий"). Он забил три гола (кстати, в этой игре арбитр назначил в обшей сложности 5 пенальти),в результате чего Аргентина выиграла 6:3. А Стабиле в итоге стал лучшим бомбардиром чемпионата. </a:t>
            </a:r>
            <a:endParaRPr b="0" lang="en-US" sz="1600" spc="-1" strike="noStrike">
              <a:solidFill>
                <a:srgbClr val="ffffff"/>
              </a:solidFill>
              <a:latin typeface="Arial"/>
            </a:endParaRPr>
          </a:p>
        </p:txBody>
      </p:sp>
      <p:sp>
        <p:nvSpPr>
          <p:cNvPr id="75" name="WordArt 4"/>
          <p:cNvSpPr txBox="1"/>
          <p:nvPr/>
        </p:nvSpPr>
        <p:spPr>
          <a:xfrm>
            <a:off x="7812000" y="6165720"/>
            <a:ext cx="9716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6" name="WordArt 5"/>
          <p:cNvSpPr txBox="1"/>
          <p:nvPr/>
        </p:nvSpPr>
        <p:spPr>
          <a:xfrm>
            <a:off x="755640" y="333360"/>
            <a:ext cx="7229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Чемпионат мира 1930 года в Уругвае</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7" name="WordArt 8"/>
          <p:cNvSpPr txBox="1"/>
          <p:nvPr/>
        </p:nvSpPr>
        <p:spPr>
          <a:xfrm>
            <a:off x="468360" y="1628640"/>
            <a:ext cx="16574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blipFill rotWithShape="0">
                  <a:blip r:embed="rId5"/>
                  <a:srcRect/>
                  <a:stretch/>
                </a:blipFill>
                <a:effectLst>
                  <a:outerShdw dist="17819" dir="2700000" blurRad="0" rotWithShape="0">
                    <a:srgbClr val="c0c0c0">
                      <a:alpha val="80000"/>
                    </a:srgbClr>
                  </a:outerShdw>
                </a:effectLst>
                <a:latin typeface="Impact"/>
              </a:rPr>
              <a:t>четыре группы</a:t>
            </a:r>
            <a:endParaRPr b="0" lang="en-US" sz="14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78" name="WordArt 10"/>
          <p:cNvSpPr txBox="1"/>
          <p:nvPr/>
        </p:nvSpPr>
        <p:spPr>
          <a:xfrm>
            <a:off x="6516720" y="616572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0">
                                  <p:stCondLst>
                                    <p:cond delay="0"/>
                                  </p:stCondLst>
                                  <p:childTnLst>
                                    <p:set>
                                      <p:cBhvr>
                                        <p:cTn id="90" dur="1" fill="hold">
                                          <p:stCondLst>
                                            <p:cond delay="0"/>
                                          </p:stCondLst>
                                        </p:cTn>
                                        <p:tgtEl>
                                          <p:spTgt spid="76"/>
                                        </p:tgtEl>
                                        <p:attrNameLst>
                                          <p:attrName>style.visibility</p:attrName>
                                        </p:attrNameLst>
                                      </p:cBhvr>
                                      <p:to>
                                        <p:strVal val="visible"/>
                                      </p:to>
                                    </p:set>
                                    <p:animEffect filter="wedge" transition="in">
                                      <p:cBhvr additive="repl">
                                        <p:cTn id="91" dur="500"/>
                                        <p:tgtEl>
                                          <p:spTgt spid="76"/>
                                        </p:tgtEl>
                                      </p:cBhvr>
                                    </p:animEffect>
                                  </p:childTnLst>
                                </p:cTn>
                              </p:par>
                            </p:childTnLst>
                          </p:cTn>
                        </p:par>
                        <p:par>
                          <p:cTn id="92" fill="hold">
                            <p:stCondLst>
                              <p:cond delay="500"/>
                            </p:stCondLst>
                            <p:childTnLst>
                              <p:par>
                                <p:cTn id="93" nodeType="afterEffect" fill="hold" presetClass="entr" presetID="49">
                                  <p:stCondLst>
                                    <p:cond delay="0"/>
                                  </p:stCondLst>
                                  <p:childTnLst>
                                    <p:set>
                                      <p:cBhvr>
                                        <p:cTn id="94" dur="1" fill="hold">
                                          <p:stCondLst>
                                            <p:cond delay="0"/>
                                          </p:stCondLst>
                                        </p:cTn>
                                        <p:tgtEl>
                                          <p:spTgt spid="78"/>
                                        </p:tgtEl>
                                        <p:attrNameLst>
                                          <p:attrName>style.visibility</p:attrName>
                                        </p:attrNameLst>
                                      </p:cBhvr>
                                      <p:to>
                                        <p:strVal val="visible"/>
                                      </p:to>
                                    </p:set>
                                    <p:anim calcmode="lin" valueType="num">
                                      <p:cBhvr additive="repl">
                                        <p:cTn id="95" dur="500" fill="hold"/>
                                        <p:tgtEl>
                                          <p:spTgt spid="78"/>
                                        </p:tgtEl>
                                        <p:attrNameLst>
                                          <p:attrName>ppt_w</p:attrName>
                                        </p:attrNameLst>
                                      </p:cBhvr>
                                      <p:tavLst>
                                        <p:tav tm="0">
                                          <p:val>
                                            <p:fltVal val="0"/>
                                          </p:val>
                                        </p:tav>
                                        <p:tav tm="100000">
                                          <p:val>
                                            <p:strVal val="#ppt_w"/>
                                          </p:val>
                                        </p:tav>
                                      </p:tavLst>
                                    </p:anim>
                                    <p:anim calcmode="lin" valueType="num">
                                      <p:cBhvr additive="repl">
                                        <p:cTn id="96" dur="500" fill="hold"/>
                                        <p:tgtEl>
                                          <p:spTgt spid="78"/>
                                        </p:tgtEl>
                                        <p:attrNameLst>
                                          <p:attrName>ppt_h</p:attrName>
                                        </p:attrNameLst>
                                      </p:cBhvr>
                                      <p:tavLst>
                                        <p:tav tm="0">
                                          <p:val>
                                            <p:fltVal val="0"/>
                                          </p:val>
                                        </p:tav>
                                        <p:tav tm="100000">
                                          <p:val>
                                            <p:strVal val="#ppt_h"/>
                                          </p:val>
                                        </p:tav>
                                      </p:tavLst>
                                    </p:anim>
                                    <p:anim calcmode="lin" valueType="num">
                                      <p:cBhvr additive="repl">
                                        <p:cTn id="97" dur="500" fill="hold"/>
                                        <p:tgtEl>
                                          <p:spTgt spid="78"/>
                                        </p:tgtEl>
                                        <p:attrNameLst>
                                          <p:attrName>r</p:attrName>
                                        </p:attrNameLst>
                                      </p:cBhvr>
                                      <p:tavLst>
                                        <p:tav tm="0">
                                          <p:val>
                                            <p:strVal val="360"/>
                                          </p:val>
                                        </p:tav>
                                        <p:tav tm="100000">
                                          <p:val>
                                            <p:strVal val="0"/>
                                          </p:val>
                                        </p:tav>
                                      </p:tavLst>
                                    </p:anim>
                                    <p:animEffect filter="fade" transition="in">
                                      <p:cBhvr additive="repl">
                                        <p:cTn id="98" dur="500"/>
                                        <p:tgtEl>
                                          <p:spTgt spid="78"/>
                                        </p:tgtEl>
                                      </p:cBhvr>
                                    </p:animEffect>
                                  </p:childTnLst>
                                </p:cTn>
                              </p:par>
                              <p:par>
                                <p:cTn id="99" nodeType="withEffect" fill="hold" presetClass="entr" presetID="49">
                                  <p:stCondLst>
                                    <p:cond delay="0"/>
                                  </p:stCondLst>
                                  <p:childTnLst>
                                    <p:set>
                                      <p:cBhvr>
                                        <p:cTn id="100" dur="1" fill="hold">
                                          <p:stCondLst>
                                            <p:cond delay="0"/>
                                          </p:stCondLst>
                                        </p:cTn>
                                        <p:tgtEl>
                                          <p:spTgt spid="75"/>
                                        </p:tgtEl>
                                        <p:attrNameLst>
                                          <p:attrName>style.visibility</p:attrName>
                                        </p:attrNameLst>
                                      </p:cBhvr>
                                      <p:to>
                                        <p:strVal val="visible"/>
                                      </p:to>
                                    </p:set>
                                    <p:anim calcmode="lin" valueType="num">
                                      <p:cBhvr additive="repl">
                                        <p:cTn id="101" dur="500" fill="hold"/>
                                        <p:tgtEl>
                                          <p:spTgt spid="75"/>
                                        </p:tgtEl>
                                        <p:attrNameLst>
                                          <p:attrName>ppt_w</p:attrName>
                                        </p:attrNameLst>
                                      </p:cBhvr>
                                      <p:tavLst>
                                        <p:tav tm="0">
                                          <p:val>
                                            <p:fltVal val="0"/>
                                          </p:val>
                                        </p:tav>
                                        <p:tav tm="100000">
                                          <p:val>
                                            <p:strVal val="#ppt_w"/>
                                          </p:val>
                                        </p:tav>
                                      </p:tavLst>
                                    </p:anim>
                                    <p:anim calcmode="lin" valueType="num">
                                      <p:cBhvr additive="repl">
                                        <p:cTn id="102" dur="500" fill="hold"/>
                                        <p:tgtEl>
                                          <p:spTgt spid="75"/>
                                        </p:tgtEl>
                                        <p:attrNameLst>
                                          <p:attrName>ppt_h</p:attrName>
                                        </p:attrNameLst>
                                      </p:cBhvr>
                                      <p:tavLst>
                                        <p:tav tm="0">
                                          <p:val>
                                            <p:fltVal val="0"/>
                                          </p:val>
                                        </p:tav>
                                        <p:tav tm="100000">
                                          <p:val>
                                            <p:strVal val="#ppt_h"/>
                                          </p:val>
                                        </p:tav>
                                      </p:tavLst>
                                    </p:anim>
                                    <p:anim calcmode="lin" valueType="num">
                                      <p:cBhvr additive="repl">
                                        <p:cTn id="103" dur="500" fill="hold"/>
                                        <p:tgtEl>
                                          <p:spTgt spid="75"/>
                                        </p:tgtEl>
                                        <p:attrNameLst>
                                          <p:attrName>r</p:attrName>
                                        </p:attrNameLst>
                                      </p:cBhvr>
                                      <p:tavLst>
                                        <p:tav tm="0">
                                          <p:val>
                                            <p:strVal val="360"/>
                                          </p:val>
                                        </p:tav>
                                        <p:tav tm="100000">
                                          <p:val>
                                            <p:strVal val="0"/>
                                          </p:val>
                                        </p:tav>
                                      </p:tavLst>
                                    </p:anim>
                                    <p:animEffect filter="fade" transition="in">
                                      <p:cBhvr additive="repl">
                                        <p:cTn id="10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тырнадцатый по счету чемпионат мира не оправдают ожиданий. Команды не радовали яркими выступлениями, голов забивали мало, а признанные звезды футбольного мира не смогли показать ничего выдающегося. На общем унылом фоне выделялись лишь хозяева турнира - итальянцы.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мпионат начался с сенсации. В матче группового турнира сборная Камеруна победила действующих чемпионов мира аргентинцев; единственный гол забил Омам Бийик. В итоге Камерун захватят первенство у себя в группе А Аргентина "забултыхалась" на третьем месте. Камерун преподнес сюрприз и в четвертьфинале, когда повел в счете 2:1 в матче с Англией, и англичанам пришлось поднапрячься, чтобы вырвать победу. Постоянное напряженное выражение на лице "Тото" Скиллачи, который забил единственный гол в матче с Австрией и первый во встрече с Чехословакией, отражало настрой всей итальянской сборной. Итальянцы были настроены очень серьезно и уверенно заняли первое место в группе А. Шотландия начала с поражения от Коста-Рики, потом собралась и выиграла у Швеции, но перед Бразилией уже не устояла.</a:t>
            </a:r>
            <a:endParaRPr b="0" lang="en-US" sz="1800" spc="-1" strike="noStrike">
              <a:solidFill>
                <a:srgbClr val="ffffff"/>
              </a:solidFill>
              <a:latin typeface="Arial"/>
            </a:endParaRPr>
          </a:p>
        </p:txBody>
      </p:sp>
      <p:sp>
        <p:nvSpPr>
          <p:cNvPr id="158" name="WordArt 4"/>
          <p:cNvSpPr txBox="1"/>
          <p:nvPr/>
        </p:nvSpPr>
        <p:spPr>
          <a:xfrm>
            <a:off x="468360" y="189000"/>
            <a:ext cx="82803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90 года в Итал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59"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60"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404280"/>
            <a:ext cx="8229600" cy="45262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Шотландцы отправились домой после первого круга. Зато сборная Ирландии обыграла во втором круге Румынию в серии после матчевых пенальти и прошла в четвертьфинал, где уступила хозяевам чемпионата. Сборная Бельгии уверенно вышла во второй круг, но на этом этапе сошла с дистанции. Дэвид Платт, забивший единственный гол в том матче, вывел в четвертьфинал англичан.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стоящая драма разыгралась в матче ФРГ - Колумбия в четвертой группе. Казалось, что гол Литтбарски, забитый на последних минутах, уже принес немцам победу, но Карлос Вальдеррама (один из лучших игроков чемпионата) сделал точную передачу Фредди Ринкону, и тот сравнял счет. Среди игроков запомнились чешский бомбардир Томаш Скухравы, югослав Драган Cтойкович и колумбийский голкипер Рене Игита (последний - своей суетливостью, которая приводила ко многим дурацким ошибка). Серия после матчевых пенальти в полуфинале ФРГ - Англия походила на захватывающий спектакль. Англия проиграла, и Пол Гаскойн после матча разрыдался.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борная Аргентины стала главным возмутителем спокойствия на чемпионате мира 1990 г. Во втором круге она выбила Бразилию и испортила весь "сценарий", победив в полуфинале Италию в серии после матчевых пенальти. В финале аргентинцы повели себя вызывающе: играли жестко и агрессивно, откровенно нарушая правила. Арбитр удалил с поля двух игроков аргентинской сборной, а в конце матча назначил пенальти, который и стал роковым для Аргентины.</a:t>
            </a:r>
            <a:endParaRPr b="0" lang="en-US" sz="1600" spc="-1" strike="noStrike">
              <a:solidFill>
                <a:srgbClr val="ffffff"/>
              </a:solidFill>
              <a:latin typeface="Arial"/>
            </a:endParaRPr>
          </a:p>
        </p:txBody>
      </p:sp>
      <p:sp>
        <p:nvSpPr>
          <p:cNvPr id="162" name="WordArt 4"/>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68360" y="1196640"/>
            <a:ext cx="8229600" cy="532764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 этом чемпионате бразильцы установили рекорд мирового первенства, добавив четвертый Кубок мира к своим трофеям 1958, 1962 и 1970 гг. Впервые в истории чемпионатов мира судьба золотых медалей решилась в после матчевой серии пенальти, поскольку в основное и дополнительное время финальная встреча Бразилия - Италия на "Роуз Боул" в Пасадене завершилась нулевой ничьей.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 целью повышения уровня чемпионата и футбола вообще ФИФА провела ряд радикальных реформ. Теперь за победу в матчах группового турнира стали начислять не два, а три очка. Изменилось правило о положении "вне игры": арбитр не останавливает игру, если футболист атакующей команды, находящийся в офсайде, не участвует в игровом эпизоде. Ужесточены наказания за нарушение правил и грубую игру - в частности, за подкат сзади сразу дается красная карточка. Травмированных игроков теперь немедленно забирают с поля для оказания необходимой помощи.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Чисто статистически эти реформы вылились в следующие цифры: в ходе чемпионата 15 игроков были удалены с поля, а число предупреждений подскочило до рекордной отметки - 235. Однако была и своя позитивная сторона. В 52 матчах был забит 141 гол, в среднем - 2,71 гола за матч. Да и сам чемпионат полнился намного зрелищнее и интереснее по сравнению с Италией-90.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Этот чемпионат мира был омрачен страшной трагедией. Защитник сборной Колумбии Андрее Эскобар был застрелен через несколько дней после возвращения домой в Медельин. Никто точно не знает причины убийства. Были предположения, что оно связано с игорными долгами; не исключается также, что к делу причастна местная наркомафия. На чемпионате Эскобар отличался тем, что в матче против США забил гол в свои ворота, и в результате Колумбия проиграла (1:2).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обеда США (их единственная победа в группе) стала самым значительным событием всего группового турнира, поскольку в противном случае хозяевам чемпионата не удалось бы протиснуться во второй круг. Этот успех вдохновил американцев, которые поддерживали свою сборную с искренним энтузиазмом и вообще проявили большой интерес к чемпионату.</a:t>
            </a:r>
            <a:endParaRPr b="0" lang="en-US" sz="1400" spc="-1" strike="noStrike">
              <a:solidFill>
                <a:srgbClr val="ffffff"/>
              </a:solidFill>
              <a:latin typeface="Arial"/>
            </a:endParaRPr>
          </a:p>
        </p:txBody>
      </p:sp>
      <p:sp>
        <p:nvSpPr>
          <p:cNvPr id="164" name="WordArt 4"/>
          <p:cNvSpPr txBox="1"/>
          <p:nvPr/>
        </p:nvSpPr>
        <p:spPr>
          <a:xfrm>
            <a:off x="468360" y="0"/>
            <a:ext cx="82803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94 года в СШ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65" name="WordArt 5"/>
          <p:cNvSpPr txBox="1"/>
          <p:nvPr/>
        </p:nvSpPr>
        <p:spPr>
          <a:xfrm>
            <a:off x="7956720" y="6237360"/>
            <a:ext cx="9712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66" name="WordArt 6"/>
          <p:cNvSpPr txBox="1"/>
          <p:nvPr/>
        </p:nvSpPr>
        <p:spPr>
          <a:xfrm>
            <a:off x="658800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95280" y="476280"/>
            <a:ext cx="8424720" cy="56167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Лидерство в группе А захватила сборная Румынии под предводительством своего капитана, атакующего полузащитника Георге Хаджи. Хорошо организованная швейцарская команда заняла в группе второе место, а вот Колумбия, числившаяся среди фаворитов, сыграла неубедительно, и в результате выбыла уже в первом круге.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группе В бесспорными фаворитами были бразильцы, и они не разочаровали своих болельщиков. Главную силу сборной составляла атакующая связка Ромарио - Бебето. Ромарио либо забивал сам, либо принимал непосредственное участие в 10 из II голов бразильцев. Бразилия возглавила свою группу. Второе место заняли шведы.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фициальный матч открытия состоялся в группе С. Германия (действующий чемпион) победила Боливию со счетом 1:0. Впечатление было такое, что немцы играют вымученно, с трудом. В конце группового турнира Штефан Эффенберг был исключен из сборной за неприличный жест в сторону трибуны немецких болельщиков, которые стали освистывать свою команду после трудной победы (3:2) над Южной Кореей. В группе С, как и в группе В, лишь две команды сумели выйти во второй крут: Германия, занявшая первое место, и Испания.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группе D Аргентина взяла стремительный старт. Сначала она победила Грецию (4:0), потом Нигерию (2:1). Организатором и лидером нападения был, разумеется, неподражаемый Диего Марадона. Но после матча с Нигерией он был уличен в употреблении допинга (запрещенного стимулятора эфедрина) и дисквалифицирован. Сборная Аргентины, оставшаяся без лидера, проиграла болгарам со счетом 0:2. Таким образом, Болгария вышла на второе место, несмотря на поражение в первом матче (0:3) от нигерийцев, которые в первый раз выступали в финальной части чемпионата мира и сразу заняли первое место в группе.</a:t>
            </a:r>
            <a:endParaRPr b="0" lang="en-US" sz="1600" spc="-1" strike="noStrike">
              <a:solidFill>
                <a:srgbClr val="ffffff"/>
              </a:solidFill>
              <a:latin typeface="Arial"/>
            </a:endParaRPr>
          </a:p>
        </p:txBody>
      </p:sp>
      <p:sp>
        <p:nvSpPr>
          <p:cNvPr id="168" name="WordArt 4"/>
          <p:cNvSpPr txBox="1"/>
          <p:nvPr/>
        </p:nvSpPr>
        <p:spPr>
          <a:xfrm>
            <a:off x="7956720" y="6237360"/>
            <a:ext cx="9712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В финале итальянцы пошли на двойной риск: несмотря на растяжение подколенного сухожилия, голеадор Роберто Баджо вышел на поле в основном составе. Тренер также поставят в основной состав ветерана Франке Барези, который получил травму в матче с норвежцами в первом круге и с тех пор больше не появлялся на поле.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Барези стал героем матча в составе итальянцев. Бразильцы использовали все свое техническое мастерство, пытаясь обойти организованную и сплоченную защиту итальянцев, а те отошли на свою половину поля и затаились, выжидая удобный момент для стремительной контратаки.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В той игре было немного голевых моментов, и создавали их в основном бразильцы. В первом тайме у Ромарио был отличный шанс, но он ударил неточно, а Мазиньо не смог воспользоваться благоприятной ситуацией, когда Пальюка выпустил из рук мяч, пробитый Бранко со штрафного. На 75-й минуте после дальнего удара Мауро Сильвы Пальюка вновь не удержал мяч, однако, тот ударился в штангу и отскочил прямо в руки итальянскому голкиперу. В благодарность Пальюка поцеловал штангу. Единственный по-настоящему опасный момент, созданный итальянцами, закончился ничем. Таффарел взял мяч, пробитый Массаро.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В обоих таймах дополнительного времени у Роберто Баджо были возможности забить, но он их не реализовал. На 109-й минуте бразильцы вновь пошли в атаку. Кафу навесил мяч к дальней штанге, но Ромарио с четырех метров не попал в ворота.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В после матчевой серии пенальти Таффарел сумел защитить ворота от первого же удара, пробитого Барези. Итальянец в отчаянии упал на колени. Но Пальюка взял мяч Марс и о Сантоса, и итальянцы на какое-то время вышли вперед, когда Атьбертини реализовал их второй 11-метровый. Ромарио забил за Бразилию, Эвани - за Италию, Бранко - опять за Бразилию. И вот с этой минуты для итальянцев все пошло наперекосяк. Массаро не реализовал пенальти, зато Дунга прекрасно пробил свой 11-метровый. Роберто Баджо, бивший за Италию пятым, обязательно должен был забивать. В этом случае у итальянцев оставались еще какие-то шансы. Однако Баджо пробил над перекладиной, и бразильцы в четвертый раз стали чемпионами мира.</a:t>
            </a:r>
            <a:endParaRPr b="0" lang="en-US" sz="1200" spc="-1" strike="noStrike">
              <a:solidFill>
                <a:srgbClr val="ffffff"/>
              </a:solidFill>
              <a:latin typeface="Arial"/>
            </a:endParaRPr>
          </a:p>
        </p:txBody>
      </p:sp>
      <p:sp>
        <p:nvSpPr>
          <p:cNvPr id="170" name="WordArt 4"/>
          <p:cNvSpPr txBox="1"/>
          <p:nvPr/>
        </p:nvSpPr>
        <p:spPr>
          <a:xfrm>
            <a:off x="658800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79280" y="1412640"/>
            <a:ext cx="8436240" cy="492444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ранцузы, придумавшие чемпионат мира, в 1998 г. наконец выиграли его, одержав в финале яркую победу над Бразильцами. Именно француз, Жюль Риме, впервые предложил идею проведения всемирного соревнования для национальных сборных в 1930 г. Несомненно, он был бы счастлив, что спустя 68 лет Франция приняла у себя финальный турнир и впервые стала чемпионом мира.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ще до начала турнира было объявлено, что ЧМ-98 станет крупнейшим и наиболее "массовым" по сравнению со всеми предыдущими турнирами, и не только из-за того, что в нем примут участие 32 команды, а не 24, как было до этого. Из-за возросшей популярности футбола, усиления спонсорской поддержки и широкого освещения турнира в средствах массовой информации просто невозможно было остаться в стороне от чемпионата, где бы вы ни жили.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Четыре страны - Ямайка, Япония, Южная Африка и Хорватия - дебютировали на мировом первенстве. Их выступления ждали с интересом, хотя многие предсказывали им неудачу.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 хотя выступление Хорватии стало сенсационным, чемпионат во Франции все же подтвердил статус-кво: как обычно, доминировали команды из Европы и Южной Америки, и африканские и азиатские сборные не могли составить им достойной конкуренции.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матче открытия действующие чемпионы - бразильцы победили шотландскую "клетчатую армию" - 2:1, благодаря голу, который забил в свои ворота Том Бойд. А затем "звезды самбы" разгромили Марокко (3:0) и стали первой командой, вышедшей во второй круг.</a:t>
            </a:r>
            <a:endParaRPr b="0" lang="en-US" sz="1600" spc="-1" strike="noStrike">
              <a:solidFill>
                <a:srgbClr val="ffffff"/>
              </a:solidFill>
              <a:latin typeface="Arial"/>
            </a:endParaRPr>
          </a:p>
        </p:txBody>
      </p:sp>
      <p:sp>
        <p:nvSpPr>
          <p:cNvPr id="172" name="WordArt 4"/>
          <p:cNvSpPr txBox="1"/>
          <p:nvPr/>
        </p:nvSpPr>
        <p:spPr>
          <a:xfrm>
            <a:off x="539640" y="0"/>
            <a:ext cx="82803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98 года во Франц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73" name="WordArt 5"/>
          <p:cNvSpPr txBox="1"/>
          <p:nvPr/>
        </p:nvSpPr>
        <p:spPr>
          <a:xfrm>
            <a:off x="594036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74" name="WordArt 6"/>
          <p:cNvSpPr txBox="1"/>
          <p:nvPr/>
        </p:nvSpPr>
        <p:spPr>
          <a:xfrm>
            <a:off x="745164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404280"/>
            <a:ext cx="8435880" cy="572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луфинале голландцы ни в чем не уступали бразильцам, и на 87-й минуте Патрик Клюйверт перевел матч в овертайм, ответив на гол Роналдо. Но в серии после матчевых пенальти прекрасно сыграл бразильский вратарь Таффарел, и голландцы уступили. Французская же команда, руководимая хитрым Эме Жаке, привела в восторг своих болельщиков, выиграв 2:1 у Хорватии.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ранцузы, как обычно, бились впереди, но победу им неожиданно принес правый защитник Лилиан Тюрам, забивший оба мяча. Единственным огорчением стала красная карточка, показанная Лорану Блану (это было пятнадцатое удаление на турнире) после представления, разыгранного Славеном Биличем. У хорватов забил, естественно, Шукер. Забив еще раз в Матче за третье место против Голландии, который Хорватия выиграла со счетом 2:1, Шукер с шестью мячами завоевал "Золотую бутсу" лучшего бомбардира чемпионата.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инальный матч между хозяевами чемпионата - французами и чемпионами мира бразильцами - был ярким, драматичным, но в то же время принес разочарование. Началось с того, что в заявке на игру у Бразилии отсутствовал Роналдо. Правда, через 15 минут бразильцы подали уточненный вариант стартового протокола, в котором Роналдо уже фигурировал.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зже стало известно, что утром у нападающего начались судороги, и лишь за несколько минут до начала игры стало ясно, что он сможет выйти на поле.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та история деморализовала бразильцев, которые с самого начала выглядели вялыми. Французы, напротив, играючи великолепно. Два гола (оба забил головой Зидан после подачи угловых) позволили им контролировать ход игры, а победную точку поставил Эмманюэль Пети - 3:0. (Последний раз преимущество в три мяча в финальной игре было в 1970 г., когда Бразилия выиграла у Италии 4:1.) После финала на улицы Парижа вышли миллионы людей. Празднования продолжались три дня.</a:t>
            </a:r>
            <a:endParaRPr b="0" lang="en-US" sz="1600" spc="-1" strike="noStrike">
              <a:solidFill>
                <a:srgbClr val="ffffff"/>
              </a:solidFill>
              <a:latin typeface="Arial"/>
            </a:endParaRPr>
          </a:p>
        </p:txBody>
      </p:sp>
      <p:sp>
        <p:nvSpPr>
          <p:cNvPr id="176" name="WordArt 4"/>
          <p:cNvSpPr txBox="1"/>
          <p:nvPr/>
        </p:nvSpPr>
        <p:spPr>
          <a:xfrm>
            <a:off x="594036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11"/>
          <p:cNvSpPr txBox="1"/>
          <p:nvPr/>
        </p:nvSpPr>
        <p:spPr>
          <a:xfrm>
            <a:off x="6443640" y="4365720"/>
            <a:ext cx="1352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Финал</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80" name="WordArt 13"/>
          <p:cNvSpPr txBox="1"/>
          <p:nvPr/>
        </p:nvSpPr>
        <p:spPr>
          <a:xfrm>
            <a:off x="4140360" y="836640"/>
            <a:ext cx="19238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blipFill rotWithShape="0">
                  <a:blip r:embed="rId3"/>
                  <a:srcRect/>
                  <a:stretch/>
                </a:blipFill>
                <a:effectLst>
                  <a:outerShdw dist="17819" dir="2700000" blurRad="0" rotWithShape="0">
                    <a:srgbClr val="c0c0c0">
                      <a:alpha val="80000"/>
                    </a:srgbClr>
                  </a:outerShdw>
                </a:effectLst>
                <a:latin typeface="Impact"/>
              </a:rPr>
              <a:t>Группа 2 </a:t>
            </a:r>
            <a:endParaRPr b="0" lang="en-US" sz="40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81" name="WordArt 14"/>
          <p:cNvSpPr txBox="1"/>
          <p:nvPr/>
        </p:nvSpPr>
        <p:spPr>
          <a:xfrm>
            <a:off x="684360" y="2133720"/>
            <a:ext cx="1742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Группа 3</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82" name="WordArt 15"/>
          <p:cNvSpPr txBox="1"/>
          <p:nvPr/>
        </p:nvSpPr>
        <p:spPr>
          <a:xfrm>
            <a:off x="4140360" y="2205000"/>
            <a:ext cx="1742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Группа 4</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83" name="WordArt 16"/>
          <p:cNvSpPr txBox="1"/>
          <p:nvPr/>
        </p:nvSpPr>
        <p:spPr>
          <a:xfrm>
            <a:off x="684360" y="765000"/>
            <a:ext cx="19238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blipFill rotWithShape="0">
                  <a:blip r:embed="rId9"/>
                  <a:srcRect/>
                  <a:stretch/>
                </a:blipFill>
                <a:effectLst>
                  <a:outerShdw dist="17819" dir="2700000" blurRad="0" rotWithShape="0">
                    <a:srgbClr val="c0c0c0">
                      <a:alpha val="80000"/>
                    </a:srgbClr>
                  </a:outerShdw>
                </a:effectLst>
                <a:latin typeface="Impact"/>
              </a:rPr>
              <a:t>Группа 1</a:t>
            </a:r>
            <a:endParaRPr b="0" lang="en-US" sz="40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84" name="WordArt 17"/>
          <p:cNvSpPr txBox="1"/>
          <p:nvPr/>
        </p:nvSpPr>
        <p:spPr>
          <a:xfrm>
            <a:off x="2268360" y="443700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Полуфиналы </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p:txBody>
      </p:sp>
      <p:sp>
        <p:nvSpPr>
          <p:cNvPr id="85" name="WordArt 19"/>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14"/>
                <a:srcRect/>
                <a:stretch/>
              </a:blipFill>
              <a:effectLst>
                <a:outerShdw dist="17819" dir="2700000" blurRad="0" rotWithShape="0">
                  <a:srgbClr val="c0c0c0">
                    <a:alpha val="80000"/>
                  </a:srgbClr>
                </a:outerShdw>
              </a:effectLst>
              <a:latin typeface="Impact"/>
              <a:ea typeface="Impac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уппа 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ранция - Мексика 4: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гентина - Франция 1: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или - Мексика 3: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или - Франция 1: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гентина - Мексика 6:3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гентина - Чили 3:1</a:t>
            </a:r>
            <a:endParaRPr b="0" lang="en-US" sz="3200" spc="-1" strike="noStrike">
              <a:solidFill>
                <a:srgbClr val="ffffff"/>
              </a:solidFill>
              <a:latin typeface="Arial"/>
            </a:endParaRPr>
          </a:p>
        </p:txBody>
      </p:sp>
      <p:sp>
        <p:nvSpPr>
          <p:cNvPr id="87" name="WordArt 4"/>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49">
                                  <p:stCondLst>
                                    <p:cond delay="0"/>
                                  </p:stCondLst>
                                  <p:childTnLst>
                                    <p:set>
                                      <p:cBhvr>
                                        <p:cTn id="110" dur="1" fill="hold">
                                          <p:stCondLst>
                                            <p:cond delay="0"/>
                                          </p:stCondLst>
                                        </p:cTn>
                                        <p:tgtEl>
                                          <p:spTgt spid="87"/>
                                        </p:tgtEl>
                                        <p:attrNameLst>
                                          <p:attrName>style.visibility</p:attrName>
                                        </p:attrNameLst>
                                      </p:cBhvr>
                                      <p:to>
                                        <p:strVal val="visible"/>
                                      </p:to>
                                    </p:set>
                                    <p:anim calcmode="lin" valueType="num">
                                      <p:cBhvr additive="repl">
                                        <p:cTn id="111" dur="500" fill="hold"/>
                                        <p:tgtEl>
                                          <p:spTgt spid="87"/>
                                        </p:tgtEl>
                                        <p:attrNameLst>
                                          <p:attrName>ppt_w</p:attrName>
                                        </p:attrNameLst>
                                      </p:cBhvr>
                                      <p:tavLst>
                                        <p:tav tm="0">
                                          <p:val>
                                            <p:fltVal val="0"/>
                                          </p:val>
                                        </p:tav>
                                        <p:tav tm="100000">
                                          <p:val>
                                            <p:strVal val="#ppt_w"/>
                                          </p:val>
                                        </p:tav>
                                      </p:tavLst>
                                    </p:anim>
                                    <p:anim calcmode="lin" valueType="num">
                                      <p:cBhvr additive="repl">
                                        <p:cTn id="112" dur="500" fill="hold"/>
                                        <p:tgtEl>
                                          <p:spTgt spid="87"/>
                                        </p:tgtEl>
                                        <p:attrNameLst>
                                          <p:attrName>ppt_h</p:attrName>
                                        </p:attrNameLst>
                                      </p:cBhvr>
                                      <p:tavLst>
                                        <p:tav tm="0">
                                          <p:val>
                                            <p:fltVal val="0"/>
                                          </p:val>
                                        </p:tav>
                                        <p:tav tm="100000">
                                          <p:val>
                                            <p:strVal val="#ppt_h"/>
                                          </p:val>
                                        </p:tav>
                                      </p:tavLst>
                                    </p:anim>
                                    <p:anim calcmode="lin" valueType="num">
                                      <p:cBhvr additive="repl">
                                        <p:cTn id="113" dur="500" fill="hold"/>
                                        <p:tgtEl>
                                          <p:spTgt spid="87"/>
                                        </p:tgtEl>
                                        <p:attrNameLst>
                                          <p:attrName>r</p:attrName>
                                        </p:attrNameLst>
                                      </p:cBhvr>
                                      <p:tavLst>
                                        <p:tav tm="0">
                                          <p:val>
                                            <p:strVal val="360"/>
                                          </p:val>
                                        </p:tav>
                                        <p:tav tm="100000">
                                          <p:val>
                                            <p:strVal val="0"/>
                                          </p:val>
                                        </p:tav>
                                      </p:tavLst>
                                    </p:anim>
                                    <p:animEffect filter="fade" transition="in">
                                      <p:cBhvr additive="repl">
                                        <p:cTn id="11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уппа 2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Югославия - Бразилия 2: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Югославия - Боливия 4: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разилия - Боливия 4:0</a:t>
            </a:r>
            <a:endParaRPr b="0" lang="en-US" sz="3200" spc="-1" strike="noStrike">
              <a:solidFill>
                <a:srgbClr val="ffffff"/>
              </a:solidFill>
              <a:latin typeface="Arial"/>
            </a:endParaRPr>
          </a:p>
        </p:txBody>
      </p:sp>
      <p:sp>
        <p:nvSpPr>
          <p:cNvPr id="89" name="WordArt 5"/>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уппа 3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умыния - Перу 3: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ругвай - Перу 1: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ругвай - Румыния 4:0</a:t>
            </a:r>
            <a:endParaRPr b="0" lang="en-US" sz="3200" spc="-1" strike="noStrike">
              <a:solidFill>
                <a:srgbClr val="ffffff"/>
              </a:solidFill>
              <a:latin typeface="Arial"/>
            </a:endParaRPr>
          </a:p>
        </p:txBody>
      </p:sp>
      <p:sp>
        <p:nvSpPr>
          <p:cNvPr id="91" name="WordArt 4"/>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уппа 4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ША - Бельгия 3: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ША - Парагвай 3: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арагвай - Бельгия 1:0</a:t>
            </a:r>
            <a:endParaRPr b="0" lang="en-US" sz="3200" spc="-1" strike="noStrike">
              <a:solidFill>
                <a:srgbClr val="ffffff"/>
              </a:solidFill>
              <a:latin typeface="Arial"/>
            </a:endParaRPr>
          </a:p>
        </p:txBody>
      </p:sp>
      <p:sp>
        <p:nvSpPr>
          <p:cNvPr id="93" name="WordArt 4"/>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луфиналы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гентина - США 6: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ругвай - Югославия 6:1</a:t>
            </a:r>
            <a:endParaRPr b="0" lang="en-US" sz="3200" spc="-1" strike="noStrike">
              <a:solidFill>
                <a:srgbClr val="ffffff"/>
              </a:solidFill>
              <a:latin typeface="Arial"/>
            </a:endParaRPr>
          </a:p>
        </p:txBody>
      </p:sp>
      <p:sp>
        <p:nvSpPr>
          <p:cNvPr id="95" name="WordArt 4"/>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7:34:13Z</dcterms:created>
  <dc:creator>Игорь</dc:creator>
  <dc:description/>
  <dc:language>en-US</dc:language>
  <cp:lastModifiedBy>Учитель</cp:lastModifiedBy>
  <dcterms:modified xsi:type="dcterms:W3CDTF">2014-01-23T17:42:34Z</dcterms:modified>
  <cp:revision>14</cp:revision>
  <dc:subject/>
  <dc:title>Слайд 1</dc:title>
</cp:coreProperties>
</file>