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png" ContentType="image/png"/>
  <Override PartName="/ppt/media/image3.png" ContentType="image/png"/>
  <Override PartName="/ppt/media/image4.wmf" ContentType="image/x-wmf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9.jpeg" ContentType="image/jpeg"/>
  <Override PartName="/ppt/media/image30.jpeg" ContentType="image/jpeg"/>
  <Override PartName="/ppt/media/image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jpeg" ContentType="image/jpeg"/>
  <Override PartName="/ppt/media/image23.png" ContentType="image/png"/>
  <Override PartName="/ppt/media/image27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6C0-058A-4D0C-9821-FB32F8F7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63C-441E-4479-9448-3D1978A3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2EE-B7BD-4400-A15C-848FED8C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C75-F2E9-4AEC-85FB-49D0D2BC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4679-3DEC-46C4-B245-49EBDAF2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70EE-742D-4161-AE2D-761E8C4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B0AE-AE50-4737-B048-7B3F503F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8CAE-4795-400B-942B-DE08CA5C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8DFB-A5D5-4B50-82EB-7429003F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185A-D7C6-4314-B7B4-C0556C05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2E8-E1B5-4A50-A5FC-4F94DF3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84F-034E-462C-98AE-88AB68C9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9A0C-4583-4CFE-B321-726E0E9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3F45-2820-4AA0-A797-BDAC7BB4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F7CF-166E-4181-AFF0-35D2FE09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EB3-ECAA-458B-B451-C04139F6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D9FE-0799-4290-AAB4-84BA1175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865F-222F-435A-B430-B204FA46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BCB35-06C4-4C92-8562-20CEB05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93B3-B260-43F6-A7C5-7FA53FFC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B0D24-0F64-4D2A-BF91-97B85224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D493-FAD9-4030-B440-6E838836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564-589C-4E98-9234-5859AFD1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31B3-E32D-4E27-9A68-29C9C4CC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162B-37BB-468F-835B-7371E6B0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1F49-282A-4A7C-B1A3-462AFA06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9B24-5A10-4069-94AB-62D0EBD6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E36F-41C5-4753-B1BB-AE8B53BE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441D-032A-451A-AF9A-D9DD86EC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E295-FE61-43F1-9F7B-7E547D0D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992A-6833-4CC2-94AC-09636100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62D4-DFE8-45CC-9630-D901DA13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E1EE-8BE4-477D-9C18-1B1415C4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157-B81F-49E2-B2DA-F53528B3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C4B9-382C-4846-A48F-CFBCBD70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FD85-9D44-464E-810A-4F052C78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3F98-160E-4070-A88E-218CD69A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CC27-FFA9-44B5-BCD9-A618011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086D-E7F7-49F0-934A-8C8F3F7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7097-4831-4BBC-8E34-82B93FE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FA06-C3B8-4B53-AF17-58BC1715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43E5-C2D9-410A-8E73-27B8E0B4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842C-8748-4742-8233-90B53E81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7AF3-BD31-4590-816F-DF50192F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453-BF9D-47A7-B249-59EAF1D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0ED1-4447-4EA5-9225-F4BA32D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E054-C3DB-48C5-814A-073E876C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4082-80DD-4C70-9EF9-28F7601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8D5C-91A9-445D-A45A-DFD43DD8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08EC7-015C-4B48-9761-ECB1FAE9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8A786-0538-457E-A70F-DD25B73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0165-E0B5-4E2E-8FA7-20F5E64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2E58-1C2A-4E95-BB22-A7A71FD0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C16F7-A7D0-4DA1-9040-6F8780A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518E1-543F-4381-BC25-788F3472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EAF-84CA-4EED-BD52-7C6965B1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7CAFA-97CF-4671-8231-DBCD8646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6CBC-88CE-4906-92A2-D00002E4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CBEFD-7F3C-4062-A8B9-CD196FD2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AEC4F-B0C9-4E11-87FB-F48377F4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2AE5-34A9-4FCB-B643-8304D9F9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2E01-C08E-4DC7-AC61-4F5BF2C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810DA-428E-4F4B-A6C8-AB6C7FC5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DB6A4-D96A-4E54-9914-F1E19403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2FD60-2543-4696-962C-BE4340F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E610-A6ED-4CBA-AED5-1ADC703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3F6-96FA-458D-A240-8FF0C50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CFDD0-4415-49CE-89B7-BCEFD2B4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A3F4E-F2AE-4546-B2CD-560D871D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A620E-88EA-43A1-AC18-75DBF7AE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C8F-46EA-47A0-B2EF-780DF2D9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F03-37F3-4BEA-B5FD-611B4688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197D-A749-4B93-B9D2-3B6F0CCB650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1801-B0A3-4D9B-917F-3E08137C0AF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C63A-CD9A-4BE9-BC4B-0041C75E646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9C6-141D-477C-984E-37995EAAF3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8C9F-2B40-45AD-86D7-A1F664B508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МОУ Сусанинская средняя школа, учитель биологии Карпушева А.Э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384-DFAA-479E-AE98-ABA32312C3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-12600"/>
            <a:ext cx="8369280" cy="173196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5" descr=""/>
          <p:cNvPicPr/>
          <p:nvPr/>
        </p:nvPicPr>
        <p:blipFill>
          <a:blip r:embed="rId2"/>
          <a:stretch/>
        </p:blipFill>
        <p:spPr>
          <a:xfrm>
            <a:off x="590400" y="3090960"/>
            <a:ext cx="8096400" cy="14508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4016160" y="5286240"/>
            <a:ext cx="56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7e56"/>
                </a:solidFill>
                <a:latin typeface="Monotype Corsiva"/>
              </a:rPr>
              <a:t>Учитель биологии МКОУ СОШ №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7e56"/>
                </a:solidFill>
                <a:latin typeface="Monotype Corsiva"/>
              </a:rPr>
              <a:t>с.п. Нартан Чегемского района К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7e56"/>
                </a:solidFill>
                <a:latin typeface="Monotype Corsiva"/>
              </a:rPr>
              <a:t>Бариева Залина Аулади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7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5439"/>
                </a:solidFill>
                <a:latin typeface="Monotype Corsiva"/>
              </a:rPr>
              <a:t>Голландский ученый </a:t>
            </a:r>
            <a:br>
              <a:rPr sz="4400"/>
            </a:br>
            <a:r>
              <a:rPr b="0" lang="ru-RU" sz="4400" spc="-1" strike="noStrike">
                <a:solidFill>
                  <a:srgbClr val="375439"/>
                </a:solidFill>
                <a:latin typeface="Monotype Corsiva"/>
              </a:rPr>
              <a:t>Ван Гельмонт провел </a:t>
            </a:r>
            <a:br>
              <a:rPr sz="4400"/>
            </a:br>
            <a:r>
              <a:rPr b="0" lang="ru-RU" sz="4400" spc="-1" strike="noStrike">
                <a:solidFill>
                  <a:srgbClr val="375439"/>
                </a:solidFill>
                <a:latin typeface="Monotype Corsiva"/>
              </a:rPr>
              <a:t>опыт…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05" name="Содержимое 3" descr="gelmont-225x300.jpg"/>
          <p:cNvPicPr/>
          <p:nvPr/>
        </p:nvPicPr>
        <p:blipFill>
          <a:blip r:embed="rId1"/>
          <a:stretch/>
        </p:blipFill>
        <p:spPr>
          <a:xfrm>
            <a:off x="6357960" y="21420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"/>
          <p:cNvSpPr/>
          <p:nvPr/>
        </p:nvSpPr>
        <p:spPr>
          <a:xfrm>
            <a:off x="-1336680" y="3085920"/>
            <a:ext cx="1121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зяв черенок ивы, он посадил его в бочонок с тщ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звешенной зем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крыв землю плотной крышкой с отверстием для чере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н только поливал растение в течении ни 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и мало - пяти лет! Выросло симпатичное дерев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бавив в весе более 60 кг. А повторное взвеш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казало, что её вес практически не измен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ac8ad"/>
                </a:solidFill>
                <a:latin typeface="Monotype Corsiva"/>
              </a:rPr>
              <a:t>Джозеф Пристли</a:t>
            </a:r>
            <a:endParaRPr b="0" lang="en-US" sz="6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10" name="Содержимое 3" descr="Priestley1.jpg"/>
          <p:cNvPicPr/>
          <p:nvPr/>
        </p:nvPicPr>
        <p:blipFill>
          <a:blip r:embed="rId1"/>
          <a:stretch/>
        </p:blipFill>
        <p:spPr>
          <a:xfrm>
            <a:off x="5643720" y="1357200"/>
            <a:ext cx="2786040" cy="38577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4" descr=""/>
          <p:cNvPicPr/>
          <p:nvPr/>
        </p:nvPicPr>
        <p:blipFill>
          <a:blip r:embed="rId2"/>
          <a:stretch/>
        </p:blipFill>
        <p:spPr>
          <a:xfrm>
            <a:off x="857160" y="2286000"/>
            <a:ext cx="3934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ССЛЕДОВАНИЯ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3940200"/>
            <a:ext cx="4040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4" name="Picture 8" descr="прст2"/>
          <p:cNvPicPr/>
          <p:nvPr/>
        </p:nvPicPr>
        <p:blipFill>
          <a:blip r:embed="rId1"/>
          <a:stretch/>
        </p:blipFill>
        <p:spPr>
          <a:xfrm>
            <a:off x="1600200" y="1066680"/>
            <a:ext cx="2362320" cy="21654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2"/>
          <p:cNvSpPr/>
          <p:nvPr/>
        </p:nvSpPr>
        <p:spPr>
          <a:xfrm>
            <a:off x="4343400" y="838080"/>
            <a:ext cx="1081080" cy="10083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" descr="прст3"/>
          <p:cNvPicPr/>
          <p:nvPr/>
        </p:nvPicPr>
        <p:blipFill>
          <a:blip r:embed="rId2"/>
          <a:stretch/>
        </p:blipFill>
        <p:spPr>
          <a:xfrm>
            <a:off x="5334120" y="990720"/>
            <a:ext cx="2361960" cy="2182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Марина 21"/>
          <p:cNvPicPr/>
          <p:nvPr/>
        </p:nvPicPr>
        <p:blipFill>
          <a:blip r:embed="rId3"/>
          <a:stretch/>
        </p:blipFill>
        <p:spPr>
          <a:xfrm>
            <a:off x="304920" y="3429000"/>
            <a:ext cx="5715000" cy="315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5" descr="Марина11"/>
          <p:cNvPicPr/>
          <p:nvPr/>
        </p:nvPicPr>
        <p:blipFill>
          <a:blip r:embed="rId4"/>
          <a:stretch/>
        </p:blipFill>
        <p:spPr>
          <a:xfrm>
            <a:off x="6248520" y="3429000"/>
            <a:ext cx="2565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Calibri"/>
              </a:rPr>
              <a:t>ИССЛЕДОВАНИЯ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20" name="Picture 6" descr="Марина 1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c6b8"/>
                </a:solidFill>
                <a:latin typeface="Monotype Corsiva"/>
              </a:rPr>
              <a:t>Опыт с картошкой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22" name="Содержимое 3" descr="98d1db3a17541.jpg"/>
          <p:cNvPicPr/>
          <p:nvPr/>
        </p:nvPicPr>
        <p:blipFill>
          <a:blip r:embed="rId1"/>
          <a:stretch/>
        </p:blipFill>
        <p:spPr>
          <a:xfrm>
            <a:off x="2357280" y="1357200"/>
            <a:ext cx="47149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Содержимое 3" descr="3dfa830408c31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Oval 4"/>
          <p:cNvGrpSpPr/>
          <p:nvPr/>
        </p:nvGrpSpPr>
        <p:grpSpPr>
          <a:xfrm>
            <a:off x="1987560" y="255600"/>
            <a:ext cx="5467320" cy="1427040"/>
            <a:chOff x="1987560" y="255600"/>
            <a:chExt cx="5467320" cy="1427040"/>
          </a:xfrm>
        </p:grpSpPr>
        <p:pic>
          <p:nvPicPr>
            <p:cNvPr id="325" name="Oval 4" descr=""/>
            <p:cNvPicPr/>
            <p:nvPr/>
          </p:nvPicPr>
          <p:blipFill>
            <a:blip r:embed="rId1"/>
            <a:stretch/>
          </p:blipFill>
          <p:spPr>
            <a:xfrm>
              <a:off x="1987560" y="255600"/>
              <a:ext cx="54673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5"/>
            <p:cNvSpPr/>
            <p:nvPr/>
          </p:nvSpPr>
          <p:spPr>
            <a:xfrm>
              <a:off x="2832120" y="485640"/>
              <a:ext cx="378468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d0d0d"/>
                  </a:solidFill>
                  <a:latin typeface="Cambria"/>
                </a:rPr>
                <a:t>Значение  фотосинте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Oval 11"/>
          <p:cNvGrpSpPr/>
          <p:nvPr/>
        </p:nvGrpSpPr>
        <p:grpSpPr>
          <a:xfrm>
            <a:off x="0" y="1828800"/>
            <a:ext cx="3123720" cy="1218960"/>
            <a:chOff x="0" y="1828800"/>
            <a:chExt cx="3123720" cy="1218960"/>
          </a:xfrm>
        </p:grpSpPr>
        <p:pic>
          <p:nvPicPr>
            <p:cNvPr id="328" name="Oval 11" descr=""/>
            <p:cNvPicPr/>
            <p:nvPr/>
          </p:nvPicPr>
          <p:blipFill>
            <a:blip r:embed="rId2"/>
            <a:stretch/>
          </p:blipFill>
          <p:spPr>
            <a:xfrm>
              <a:off x="0" y="1828800"/>
              <a:ext cx="31237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9"/>
            <p:cNvSpPr/>
            <p:nvPr/>
          </p:nvSpPr>
          <p:spPr>
            <a:xfrm>
              <a:off x="544680" y="2036880"/>
              <a:ext cx="203976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Преобразование</a:t>
              </a:r>
              <a:r>
                <a:rPr b="1" lang="ru-RU" sz="1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световой энерг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в химическу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Oval 12"/>
          <p:cNvGrpSpPr/>
          <p:nvPr/>
        </p:nvGrpSpPr>
        <p:grpSpPr>
          <a:xfrm>
            <a:off x="3124080" y="2590920"/>
            <a:ext cx="3200040" cy="1218600"/>
            <a:chOff x="3124080" y="2590920"/>
            <a:chExt cx="3200040" cy="1218600"/>
          </a:xfrm>
        </p:grpSpPr>
        <p:pic>
          <p:nvPicPr>
            <p:cNvPr id="331" name="Oval 12" descr=""/>
            <p:cNvPicPr/>
            <p:nvPr/>
          </p:nvPicPr>
          <p:blipFill>
            <a:blip r:embed="rId3"/>
            <a:stretch/>
          </p:blipFill>
          <p:spPr>
            <a:xfrm>
              <a:off x="3124080" y="2590920"/>
              <a:ext cx="32000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12"/>
            <p:cNvSpPr/>
            <p:nvPr/>
          </p:nvSpPr>
          <p:spPr>
            <a:xfrm>
              <a:off x="3648600" y="2799000"/>
              <a:ext cx="215532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Выделение в атмосфе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кисл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Oval 11"/>
          <p:cNvGrpSpPr/>
          <p:nvPr/>
        </p:nvGrpSpPr>
        <p:grpSpPr>
          <a:xfrm>
            <a:off x="5114880" y="4054320"/>
            <a:ext cx="3267000" cy="1260720"/>
            <a:chOff x="5114880" y="4054320"/>
            <a:chExt cx="3267000" cy="1260720"/>
          </a:xfrm>
        </p:grpSpPr>
        <p:pic>
          <p:nvPicPr>
            <p:cNvPr id="334" name="Oval 11" descr=""/>
            <p:cNvPicPr/>
            <p:nvPr/>
          </p:nvPicPr>
          <p:blipFill>
            <a:blip r:embed="rId4"/>
            <a:stretch/>
          </p:blipFill>
          <p:spPr>
            <a:xfrm>
              <a:off x="5114880" y="4054320"/>
              <a:ext cx="326700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0"/>
            <p:cNvSpPr/>
            <p:nvPr/>
          </p:nvSpPr>
          <p:spPr>
            <a:xfrm>
              <a:off x="5605560" y="4253040"/>
              <a:ext cx="22892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Контроль за содержа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углекислого г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в атмосфер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Oval 16"/>
          <p:cNvGrpSpPr/>
          <p:nvPr/>
        </p:nvGrpSpPr>
        <p:grpSpPr>
          <a:xfrm>
            <a:off x="6172200" y="1752480"/>
            <a:ext cx="2971440" cy="1218960"/>
            <a:chOff x="6172200" y="1752480"/>
            <a:chExt cx="2971440" cy="1218960"/>
          </a:xfrm>
        </p:grpSpPr>
        <p:pic>
          <p:nvPicPr>
            <p:cNvPr id="337" name="Oval 16" descr=""/>
            <p:cNvPicPr/>
            <p:nvPr/>
          </p:nvPicPr>
          <p:blipFill>
            <a:blip r:embed="rId5"/>
            <a:stretch/>
          </p:blipFill>
          <p:spPr>
            <a:xfrm>
              <a:off x="6172200" y="1752480"/>
              <a:ext cx="29714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18"/>
            <p:cNvSpPr/>
            <p:nvPr/>
          </p:nvSpPr>
          <p:spPr>
            <a:xfrm>
              <a:off x="6661080" y="1960560"/>
              <a:ext cx="199980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Образ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органическ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веще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Line 6"/>
          <p:cNvSpPr/>
          <p:nvPr/>
        </p:nvSpPr>
        <p:spPr>
          <a:xfrm flipH="1">
            <a:off x="1752120" y="1447920"/>
            <a:ext cx="129564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4800600" y="1600200"/>
            <a:ext cx="0" cy="1143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 flipH="1">
            <a:off x="2437920" y="1523880"/>
            <a:ext cx="1295640" cy="2590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5867280" y="1523880"/>
            <a:ext cx="1219320" cy="2667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6705720" y="1371600"/>
            <a:ext cx="99036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Oval 11"/>
          <p:cNvGrpSpPr/>
          <p:nvPr/>
        </p:nvGrpSpPr>
        <p:grpSpPr>
          <a:xfrm>
            <a:off x="920880" y="4133880"/>
            <a:ext cx="2992320" cy="1333440"/>
            <a:chOff x="920880" y="4133880"/>
            <a:chExt cx="2992320" cy="1333440"/>
          </a:xfrm>
        </p:grpSpPr>
        <p:pic>
          <p:nvPicPr>
            <p:cNvPr id="345" name="Oval 11" descr=""/>
            <p:cNvPicPr/>
            <p:nvPr/>
          </p:nvPicPr>
          <p:blipFill>
            <a:blip r:embed="rId6"/>
            <a:stretch/>
          </p:blipFill>
          <p:spPr>
            <a:xfrm>
              <a:off x="920880" y="4133880"/>
              <a:ext cx="29923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19"/>
            <p:cNvSpPr/>
            <p:nvPr/>
          </p:nvSpPr>
          <p:spPr>
            <a:xfrm>
              <a:off x="1373040" y="4341960"/>
              <a:ext cx="209556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Образ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озонового сло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Прямоугольник 2"/>
          <p:cNvGrpSpPr/>
          <p:nvPr/>
        </p:nvGrpSpPr>
        <p:grpSpPr>
          <a:xfrm>
            <a:off x="420840" y="317520"/>
            <a:ext cx="8302320" cy="8434800"/>
            <a:chOff x="420840" y="317520"/>
            <a:chExt cx="8302320" cy="8434800"/>
          </a:xfrm>
        </p:grpSpPr>
        <p:pic>
          <p:nvPicPr>
            <p:cNvPr id="348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420840" y="317520"/>
              <a:ext cx="8302320" cy="52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00040" y="428760"/>
              <a:ext cx="8143920" cy="83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Фотосинтез идет на свету круглый год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Он людям дает пищу и кислород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Очень важный процесс- фотосинтез, друзья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Без него на Земле обойтись нам нельзя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Фрукты, овощи, хлеб, уголь, сено, дрова 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Фотосинтез всему этому голов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Воздух чист будет, свеж, как легко им дышать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 </a:t>
              </a: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И озоновый слой будет нас защищать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7dac8"/>
                </a:solidFill>
                <a:latin typeface="Monotype Corsiva"/>
              </a:rPr>
              <a:t>Цели и задачи: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85560" y="1857240"/>
            <a:ext cx="7643880" cy="4572000"/>
          </a:xfrm>
          <a:prstGeom prst="rect">
            <a:avLst/>
          </a:prstGeom>
          <a:solidFill>
            <a:srgbClr val="b0ccb0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Monotype Corsiva"/>
              </a:rPr>
              <a:t>1. Образовательная - познакомить учащихся с сущностью процесса фотосинтеза, его значением в природе и жизни человека; работами ученых, исследовавших процесс фотосинтеза.</a:t>
            </a:r>
            <a:br>
              <a:rPr sz="2600"/>
            </a:br>
            <a:r>
              <a:rPr b="1" lang="ru-RU" sz="2600" spc="-1" strike="noStrike">
                <a:solidFill>
                  <a:srgbClr val="262626"/>
                </a:solidFill>
                <a:latin typeface="Monotype Corsiva"/>
              </a:rPr>
              <a:t>2. Развивающая - развивать у учащихся навыки выделять главное и делать выводы, обогащение специальной речи учащихся; продолжить формирование навыков работы с лабораторным оборудованием, а также умения ставить простой опыт.</a:t>
            </a:r>
            <a:br>
              <a:rPr sz="2600"/>
            </a:br>
            <a:r>
              <a:rPr b="1" lang="ru-RU" sz="2600" spc="-1" strike="noStrike">
                <a:solidFill>
                  <a:srgbClr val="262626"/>
                </a:solidFill>
                <a:latin typeface="Monotype Corsiva"/>
              </a:rPr>
              <a:t>3. Воспитательная - формирование умений учащихся работать в группах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1" name="Picture 4" descr="j0299125"/>
          <p:cNvPicPr/>
          <p:nvPr/>
        </p:nvPicPr>
        <p:blipFill>
          <a:blip r:embed="rId1"/>
          <a:stretch/>
        </p:blipFill>
        <p:spPr>
          <a:xfrm>
            <a:off x="0" y="214200"/>
            <a:ext cx="1184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07-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СПАСИБО  ЗА  ВНИМАНИЕ!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428760" y="271476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пигра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оворят, что посередине между двум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отивоположными мнениями лежит истин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икоим образом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ежду ними лежит проблема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C:\Documents and Settings\1\Мои документы\gete.jpg"/>
          <p:cNvPicPr/>
          <p:nvPr/>
        </p:nvPicPr>
        <p:blipFill>
          <a:blip r:embed="rId1"/>
          <a:stretch/>
        </p:blipFill>
        <p:spPr>
          <a:xfrm>
            <a:off x="7215120" y="285840"/>
            <a:ext cx="1609920" cy="226692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4"/>
          <p:cNvSpPr/>
          <p:nvPr/>
        </p:nvSpPr>
        <p:spPr>
          <a:xfrm>
            <a:off x="7099920" y="271476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(И.В.Гё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604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8" name="Picture 4" descr="ANDROMA"/>
          <p:cNvPicPr/>
          <p:nvPr/>
        </p:nvPicPr>
        <p:blipFill>
          <a:blip r:embed="rId1"/>
          <a:stretch/>
        </p:blipFill>
        <p:spPr>
          <a:xfrm>
            <a:off x="0" y="-765000"/>
            <a:ext cx="9144000" cy="83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1" name="Picture 4" descr="Peyzag6"/>
          <p:cNvPicPr/>
          <p:nvPr/>
        </p:nvPicPr>
        <p:blipFill>
          <a:blip r:embed="rId1"/>
          <a:stretch/>
        </p:blipFill>
        <p:spPr>
          <a:xfrm>
            <a:off x="-703440" y="-674640"/>
            <a:ext cx="1055232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4" name="Picture 4" descr="Resize of 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99840" y="1928880"/>
            <a:ext cx="4800600" cy="728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45472b"/>
                </a:solidFill>
                <a:latin typeface="Monotype Corsiva"/>
              </a:rPr>
              <a:t>ФОТОСИНТЕЗ</a:t>
            </a:r>
            <a:endParaRPr b="0" lang="en-US" sz="49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ДЕ?                                        КАК?                         ДЛЯ ЧЕГО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окализация                    Химизм                           Значение                          Условия                            процесса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Line 4"/>
          <p:cNvSpPr/>
          <p:nvPr/>
        </p:nvSpPr>
        <p:spPr>
          <a:xfrm flipH="1">
            <a:off x="1499760" y="2714760"/>
            <a:ext cx="1143000" cy="171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4714920" y="26431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6429240" y="2643120"/>
            <a:ext cx="121464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7dac8"/>
                </a:solidFill>
                <a:latin typeface="Monotype Corsiva"/>
              </a:rPr>
              <a:t>Защита проект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985080" cy="2060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ac8ad"/>
                </a:solidFill>
                <a:latin typeface="Monotype Corsiva"/>
              </a:rPr>
              <a:t>ФОТОСИНТЕЗ</a:t>
            </a:r>
            <a:endParaRPr b="0" lang="en-US" sz="6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3142800"/>
            <a:ext cx="406404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472b"/>
                </a:solidFill>
                <a:latin typeface="Monotype Corsiva"/>
              </a:rPr>
              <a:t>«ФОТО» - с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45472b"/>
                </a:solidFill>
                <a:latin typeface="Monotype Corsiva"/>
              </a:rPr>
              <a:t>« СИНТЕЗ» - образование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3" name="Picture 4" descr="266033"/>
          <p:cNvPicPr/>
          <p:nvPr/>
        </p:nvPicPr>
        <p:blipFill>
          <a:blip r:embed="rId1"/>
          <a:stretch/>
        </p:blipFill>
        <p:spPr>
          <a:xfrm>
            <a:off x="4714920" y="1714680"/>
            <a:ext cx="4203720" cy="479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07:43:02Z</dcterms:created>
  <dc:creator>1</dc:creator>
  <dc:description/>
  <dc:language>en-US</dc:language>
  <cp:lastModifiedBy>1</cp:lastModifiedBy>
  <dcterms:modified xsi:type="dcterms:W3CDTF">2014-01-23T10:01:03Z</dcterms:modified>
  <cp:revision>20</cp:revision>
  <dc:subject/>
  <dc:title>Слайд 1</dc:title>
</cp:coreProperties>
</file>