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png" ContentType="image/png"/>
  <Override PartName="/ppt/media/image3.png" ContentType="image/png"/>
  <Override PartName="/ppt/media/image4.wmf" ContentType="image/x-wmf"/>
  <Override PartName="/ppt/media/image10.jpeg" ContentType="image/jpeg"/>
  <Override PartName="/ppt/media/image8.jpeg" ContentType="image/jpeg"/>
  <Override PartName="/ppt/media/image6.jpeg" ContentType="image/jpe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9.jpeg" ContentType="image/jpeg"/>
  <Override PartName="/ppt/media/image30.jpeg" ContentType="image/jpeg"/>
  <Override PartName="/ppt/media/image2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2.jpeg" ContentType="image/jpeg"/>
  <Override PartName="/ppt/media/image23.png" ContentType="image/png"/>
  <Override PartName="/ppt/media/image27.png" ContentType="image/pn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C66-3128-4EBA-94E1-8E16BFD2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3FBC-3807-4DE3-BF69-28525461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E8C-EE2C-4F7B-8009-3A6CD2B1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238-8C8E-47A8-B11F-3DFC0B43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CA8C-8DE2-4ECB-89C2-4FADF13F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965C-3BBE-4CB6-BCA2-398E367C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D08B-24EA-42D5-820D-AB3E2471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87E8-C5DA-4DA8-A29E-C3F58D54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9019-E01B-4E73-BED3-54CC7651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8BCA-C76D-4BBC-BD8F-C5DA2E28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7BC7-298A-4625-BD0F-530DFAB3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4AE-F7FA-436E-84C0-02A4E0E5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B5D6-9A8F-4521-86E3-84488E1C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AF97-7B2B-49B8-879B-257E43C9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93BA-58D8-4BC0-805E-5D611041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247E-E868-43EF-ABB8-8B83A2E6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CD58-B613-4A72-BDF4-1A108E2E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52B78-3A1B-4FFE-9BF7-3A80C828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F7ED-5717-4DFC-B9C4-BEFFF26C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B1BED-4E4D-491E-866A-B7E7A8C0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23323-EF04-4BAA-B20F-11D3F89E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75AB3-26FA-4409-BE2C-9F78930B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795-BEBC-4111-B44F-FD4C336D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8A386-4F54-4CE7-BB69-F49C243A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BA477-6710-4CFD-B0A6-042402FA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3B6C3-1FD3-4EC6-8894-1149A028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5AF33-3A32-40E2-97D7-81CE4B20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4F06E-D342-44F4-85D0-EA53E83C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D1B57-D72E-4788-B733-D2A96B39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77717-1401-4213-B701-583E2BA5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4508D-2BAE-441C-B76E-5FA8F441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7C954-4985-4DF6-A69E-DA6B542D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95D40-71BB-49DD-AC4B-9C1020F2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6B8-FFE6-4438-BC5B-D6C740FE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3E24B-8013-40F5-82F4-1E05A24A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1D1C4-383D-4083-AECE-EA44B387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1CA60-3AA6-4FA0-80A1-0FDD572B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32FC8-665A-4D10-A37D-1DDC8A36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26913-8B15-4B49-9329-498E82C2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384A2-2D7E-4F9F-9776-5C20B71A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068BD-5AF5-4328-A6E8-F729158A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84736-8D10-40AF-BCD5-DD3FE996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DF3B9-E067-44E7-94F1-39D3EA88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4D566-FF6E-4250-A3CA-AC61C682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902-0761-4ECB-9220-C1988FB6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B9E86-1374-4B9E-A65C-BEB7F93A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D3A27-D566-443B-BD0E-92A77CF3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177CF-D0FE-49F5-A0D8-83CA7E91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EC8DB-18F7-4A0C-A6A0-7E75C6B9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4E08E-F6C4-4835-B47D-A4738164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4E233-9809-4362-A5D3-B3269210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223B0-5D62-4F31-BB1B-552DDFD0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AB81F-6C47-4480-9142-7A7F8B71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2416C-3A19-47A6-BF87-58AB5EC2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85535-98F2-4C9F-9ACF-93ED0D81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7B5-670E-4DF2-BE0A-A08F9058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9A19C-EDA5-4FFC-916F-F5AED426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93904-6527-4718-9847-24C22D63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80D7C-8D41-4157-AF12-64E06AEC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F68CA-E388-4B44-9F38-2503E5A7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D2E60-DF57-46EF-9C41-86126C0E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2D168-5448-4F6B-9D15-4DE11030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B9DB6-D3D1-4BAC-8AA8-F11C4F31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F9308-3C6F-4C09-A2CF-4D484A0E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76BB5-428E-4856-A866-209BDC32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3B3F7-C3F8-4515-8509-8BEC7C9B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4D9-E919-4A67-846C-A56D3FBB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3D981-2760-40E3-82C8-76CB1353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0D0B5-83A8-4D8A-A8D7-F4941A42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735FF-18C7-431B-8798-6DF76BFC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FEF-4C16-44FC-B0C5-1443186D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158-44B3-484E-AFCB-8B87A510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6ef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2803-AADF-4070-93AC-823FB8A1CC7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6ef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C0BE-2E97-4E40-81F3-37C1630949B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6ef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03F6-5185-4686-9887-41D1110AC77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6ef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24E6-8CEA-4BA1-92EB-2999A2FA1B7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6ef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D679-7D83-4B86-B719-C129BA1A9E2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6ef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76a5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76a55"/>
                </a:solidFill>
                <a:latin typeface="Cambria"/>
              </a:rPr>
              <a:t>МОУ Сусанинская средняя школа, учитель биологии Карпушева А.Э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A67F-C7F5-446A-AF6B-FB401BB7D49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Прямоугольник 3" descr=""/>
          <p:cNvPicPr/>
          <p:nvPr/>
        </p:nvPicPr>
        <p:blipFill>
          <a:blip r:embed="rId1"/>
          <a:stretch/>
        </p:blipFill>
        <p:spPr>
          <a:xfrm>
            <a:off x="493560" y="-12600"/>
            <a:ext cx="8369280" cy="173196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5" descr=""/>
          <p:cNvPicPr/>
          <p:nvPr/>
        </p:nvPicPr>
        <p:blipFill>
          <a:blip r:embed="rId2"/>
          <a:stretch/>
        </p:blipFill>
        <p:spPr>
          <a:xfrm>
            <a:off x="590400" y="3090960"/>
            <a:ext cx="8096400" cy="14508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7"/>
          <p:cNvSpPr/>
          <p:nvPr/>
        </p:nvSpPr>
        <p:spPr>
          <a:xfrm>
            <a:off x="4016160" y="5286240"/>
            <a:ext cx="56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27e56"/>
                </a:solidFill>
                <a:latin typeface="Monotype Corsiva"/>
              </a:rPr>
              <a:t>Учитель биологии МКОУ СОШ №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27e56"/>
                </a:solidFill>
                <a:latin typeface="Monotype Corsiva"/>
              </a:rPr>
              <a:t>с.п. Нартан Чегемского района К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27e56"/>
                </a:solidFill>
                <a:latin typeface="Monotype Corsiva"/>
              </a:rPr>
              <a:t>Бариева Залина Аулади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171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5439"/>
                </a:solidFill>
                <a:latin typeface="Monotype Corsiva"/>
              </a:rPr>
              <a:t>Голландский ученый </a:t>
            </a:r>
            <a:br>
              <a:rPr sz="4400"/>
            </a:br>
            <a:r>
              <a:rPr b="0" lang="ru-RU" sz="4400" spc="-1" strike="noStrike">
                <a:solidFill>
                  <a:srgbClr val="375439"/>
                </a:solidFill>
                <a:latin typeface="Monotype Corsiva"/>
              </a:rPr>
              <a:t>Ван Гельмонт провел </a:t>
            </a:r>
            <a:br>
              <a:rPr sz="4400"/>
            </a:br>
            <a:r>
              <a:rPr b="0" lang="ru-RU" sz="4400" spc="-1" strike="noStrike">
                <a:solidFill>
                  <a:srgbClr val="375439"/>
                </a:solidFill>
                <a:latin typeface="Monotype Corsiva"/>
              </a:rPr>
              <a:t>опыт…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05" name="Содержимое 3" descr="gelmont-225x300.jpg"/>
          <p:cNvPicPr/>
          <p:nvPr/>
        </p:nvPicPr>
        <p:blipFill>
          <a:blip r:embed="rId1"/>
          <a:stretch/>
        </p:blipFill>
        <p:spPr>
          <a:xfrm>
            <a:off x="6357960" y="214200"/>
            <a:ext cx="2143080" cy="285768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1"/>
          <p:cNvSpPr/>
          <p:nvPr/>
        </p:nvSpPr>
        <p:spPr>
          <a:xfrm>
            <a:off x="-1336680" y="3085920"/>
            <a:ext cx="1121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зяв черенок ивы, он посадил его в бочонок с тщ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звешенной зем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икрыв землю плотной крышкой с отверстием для чере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он только поливал растение в течении ни м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и мало - пяти лет! Выросло симпатичное деревц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ибавив в весе более 60 кг. А повторное взвешивание поч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оказало, что её вес практически не измен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im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aac8ad"/>
                </a:solidFill>
                <a:latin typeface="Monotype Corsiva"/>
              </a:rPr>
              <a:t>Джозеф Пристли</a:t>
            </a:r>
            <a:endParaRPr b="0" lang="en-US" sz="66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10" name="Содержимое 3" descr="Priestley1.jpg"/>
          <p:cNvPicPr/>
          <p:nvPr/>
        </p:nvPicPr>
        <p:blipFill>
          <a:blip r:embed="rId1"/>
          <a:stretch/>
        </p:blipFill>
        <p:spPr>
          <a:xfrm>
            <a:off x="5643720" y="1357200"/>
            <a:ext cx="2786040" cy="385776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4" descr=""/>
          <p:cNvPicPr/>
          <p:nvPr/>
        </p:nvPicPr>
        <p:blipFill>
          <a:blip r:embed="rId2"/>
          <a:stretch/>
        </p:blipFill>
        <p:spPr>
          <a:xfrm>
            <a:off x="857160" y="2286000"/>
            <a:ext cx="39340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2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ИССЛЕДОВАНИЯ</a:t>
            </a:r>
            <a:endParaRPr b="0" lang="en-US" sz="32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3940200"/>
            <a:ext cx="40402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4" name="Picture 8" descr="прст2"/>
          <p:cNvPicPr/>
          <p:nvPr/>
        </p:nvPicPr>
        <p:blipFill>
          <a:blip r:embed="rId1"/>
          <a:stretch/>
        </p:blipFill>
        <p:spPr>
          <a:xfrm>
            <a:off x="1600200" y="1066680"/>
            <a:ext cx="2362320" cy="216540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2"/>
          <p:cNvSpPr/>
          <p:nvPr/>
        </p:nvSpPr>
        <p:spPr>
          <a:xfrm>
            <a:off x="4343400" y="838080"/>
            <a:ext cx="1081080" cy="100836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9" descr="прст3"/>
          <p:cNvPicPr/>
          <p:nvPr/>
        </p:nvPicPr>
        <p:blipFill>
          <a:blip r:embed="rId2"/>
          <a:stretch/>
        </p:blipFill>
        <p:spPr>
          <a:xfrm>
            <a:off x="5334120" y="990720"/>
            <a:ext cx="2361960" cy="2182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4" descr="Марина 21"/>
          <p:cNvPicPr/>
          <p:nvPr/>
        </p:nvPicPr>
        <p:blipFill>
          <a:blip r:embed="rId3"/>
          <a:stretch/>
        </p:blipFill>
        <p:spPr>
          <a:xfrm>
            <a:off x="304920" y="3429000"/>
            <a:ext cx="5715000" cy="3152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5" descr="Марина11"/>
          <p:cNvPicPr/>
          <p:nvPr/>
        </p:nvPicPr>
        <p:blipFill>
          <a:blip r:embed="rId4"/>
          <a:stretch/>
        </p:blipFill>
        <p:spPr>
          <a:xfrm>
            <a:off x="6248520" y="3429000"/>
            <a:ext cx="2565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Calibri"/>
              </a:rPr>
              <a:t>ИССЛЕДОВАНИЯ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20" name="Picture 6" descr="Марина 1"/>
          <p:cNvPicPr/>
          <p:nvPr/>
        </p:nvPicPr>
        <p:blipFill>
          <a:blip r:embed="rId1"/>
          <a:stretch/>
        </p:blipFill>
        <p:spPr>
          <a:xfrm>
            <a:off x="533520" y="990720"/>
            <a:ext cx="800100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4c6b8"/>
                </a:solidFill>
                <a:latin typeface="Monotype Corsiva"/>
              </a:rPr>
              <a:t>Опыт с картошкой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322" name="Содержимое 3" descr="98d1db3a17541.jpg"/>
          <p:cNvPicPr/>
          <p:nvPr/>
        </p:nvPicPr>
        <p:blipFill>
          <a:blip r:embed="rId1"/>
          <a:stretch/>
        </p:blipFill>
        <p:spPr>
          <a:xfrm>
            <a:off x="2357280" y="1357200"/>
            <a:ext cx="47149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Содержимое 3" descr="3dfa830408c31.jpg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Oval 4"/>
          <p:cNvGrpSpPr/>
          <p:nvPr/>
        </p:nvGrpSpPr>
        <p:grpSpPr>
          <a:xfrm>
            <a:off x="1987560" y="255600"/>
            <a:ext cx="5467320" cy="1427040"/>
            <a:chOff x="1987560" y="255600"/>
            <a:chExt cx="5467320" cy="1427040"/>
          </a:xfrm>
        </p:grpSpPr>
        <p:pic>
          <p:nvPicPr>
            <p:cNvPr id="325" name="Oval 4" descr=""/>
            <p:cNvPicPr/>
            <p:nvPr/>
          </p:nvPicPr>
          <p:blipFill>
            <a:blip r:embed="rId1"/>
            <a:stretch/>
          </p:blipFill>
          <p:spPr>
            <a:xfrm>
              <a:off x="1987560" y="255600"/>
              <a:ext cx="54673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5"/>
            <p:cNvSpPr/>
            <p:nvPr/>
          </p:nvSpPr>
          <p:spPr>
            <a:xfrm>
              <a:off x="2832120" y="485640"/>
              <a:ext cx="378468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d0d0d"/>
                  </a:solidFill>
                  <a:latin typeface="Cambria"/>
                </a:rPr>
                <a:t>Значение  фотосинтез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Oval 11"/>
          <p:cNvGrpSpPr/>
          <p:nvPr/>
        </p:nvGrpSpPr>
        <p:grpSpPr>
          <a:xfrm>
            <a:off x="0" y="1828800"/>
            <a:ext cx="3123720" cy="1218960"/>
            <a:chOff x="0" y="1828800"/>
            <a:chExt cx="3123720" cy="1218960"/>
          </a:xfrm>
        </p:grpSpPr>
        <p:pic>
          <p:nvPicPr>
            <p:cNvPr id="328" name="Oval 11" descr=""/>
            <p:cNvPicPr/>
            <p:nvPr/>
          </p:nvPicPr>
          <p:blipFill>
            <a:blip r:embed="rId2"/>
            <a:stretch/>
          </p:blipFill>
          <p:spPr>
            <a:xfrm>
              <a:off x="0" y="1828800"/>
              <a:ext cx="31237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9"/>
            <p:cNvSpPr/>
            <p:nvPr/>
          </p:nvSpPr>
          <p:spPr>
            <a:xfrm>
              <a:off x="544680" y="2036880"/>
              <a:ext cx="203976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Преобразование</a:t>
              </a:r>
              <a:r>
                <a:rPr b="1" lang="ru-RU" sz="18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световой энерги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в химическу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Oval 12"/>
          <p:cNvGrpSpPr/>
          <p:nvPr/>
        </p:nvGrpSpPr>
        <p:grpSpPr>
          <a:xfrm>
            <a:off x="3124080" y="2590920"/>
            <a:ext cx="3200040" cy="1218600"/>
            <a:chOff x="3124080" y="2590920"/>
            <a:chExt cx="3200040" cy="1218600"/>
          </a:xfrm>
        </p:grpSpPr>
        <p:pic>
          <p:nvPicPr>
            <p:cNvPr id="331" name="Oval 12" descr=""/>
            <p:cNvPicPr/>
            <p:nvPr/>
          </p:nvPicPr>
          <p:blipFill>
            <a:blip r:embed="rId3"/>
            <a:stretch/>
          </p:blipFill>
          <p:spPr>
            <a:xfrm>
              <a:off x="3124080" y="2590920"/>
              <a:ext cx="3200040" cy="12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12"/>
            <p:cNvSpPr/>
            <p:nvPr/>
          </p:nvSpPr>
          <p:spPr>
            <a:xfrm>
              <a:off x="3648600" y="2799000"/>
              <a:ext cx="215532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Выделение в атмосфер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кислоро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Oval 11"/>
          <p:cNvGrpSpPr/>
          <p:nvPr/>
        </p:nvGrpSpPr>
        <p:grpSpPr>
          <a:xfrm>
            <a:off x="5114880" y="4054320"/>
            <a:ext cx="3267000" cy="1260720"/>
            <a:chOff x="5114880" y="4054320"/>
            <a:chExt cx="3267000" cy="1260720"/>
          </a:xfrm>
        </p:grpSpPr>
        <p:pic>
          <p:nvPicPr>
            <p:cNvPr id="334" name="Oval 11" descr=""/>
            <p:cNvPicPr/>
            <p:nvPr/>
          </p:nvPicPr>
          <p:blipFill>
            <a:blip r:embed="rId4"/>
            <a:stretch/>
          </p:blipFill>
          <p:spPr>
            <a:xfrm>
              <a:off x="5114880" y="4054320"/>
              <a:ext cx="3267000" cy="12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10"/>
            <p:cNvSpPr/>
            <p:nvPr/>
          </p:nvSpPr>
          <p:spPr>
            <a:xfrm>
              <a:off x="5605560" y="4253040"/>
              <a:ext cx="228924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Контроль за содержани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углекислого га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в атмосфер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Oval 16"/>
          <p:cNvGrpSpPr/>
          <p:nvPr/>
        </p:nvGrpSpPr>
        <p:grpSpPr>
          <a:xfrm>
            <a:off x="6172200" y="1752480"/>
            <a:ext cx="2971440" cy="1218960"/>
            <a:chOff x="6172200" y="1752480"/>
            <a:chExt cx="2971440" cy="1218960"/>
          </a:xfrm>
        </p:grpSpPr>
        <p:pic>
          <p:nvPicPr>
            <p:cNvPr id="337" name="Oval 16" descr=""/>
            <p:cNvPicPr/>
            <p:nvPr/>
          </p:nvPicPr>
          <p:blipFill>
            <a:blip r:embed="rId5"/>
            <a:stretch/>
          </p:blipFill>
          <p:spPr>
            <a:xfrm>
              <a:off x="6172200" y="1752480"/>
              <a:ext cx="29714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18"/>
            <p:cNvSpPr/>
            <p:nvPr/>
          </p:nvSpPr>
          <p:spPr>
            <a:xfrm>
              <a:off x="6661080" y="1960560"/>
              <a:ext cx="199980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Образова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органическ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веще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Line 6"/>
          <p:cNvSpPr/>
          <p:nvPr/>
        </p:nvSpPr>
        <p:spPr>
          <a:xfrm flipH="1">
            <a:off x="1752120" y="1447920"/>
            <a:ext cx="1295640" cy="457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4800600" y="1600200"/>
            <a:ext cx="0" cy="1143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"/>
          <p:cNvSpPr/>
          <p:nvPr/>
        </p:nvSpPr>
        <p:spPr>
          <a:xfrm flipH="1">
            <a:off x="2437920" y="1523880"/>
            <a:ext cx="1295640" cy="2590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6"/>
          <p:cNvSpPr/>
          <p:nvPr/>
        </p:nvSpPr>
        <p:spPr>
          <a:xfrm>
            <a:off x="5867280" y="1523880"/>
            <a:ext cx="1219320" cy="2667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6"/>
          <p:cNvSpPr/>
          <p:nvPr/>
        </p:nvSpPr>
        <p:spPr>
          <a:xfrm>
            <a:off x="6705720" y="1371600"/>
            <a:ext cx="990360" cy="457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Oval 11"/>
          <p:cNvGrpSpPr/>
          <p:nvPr/>
        </p:nvGrpSpPr>
        <p:grpSpPr>
          <a:xfrm>
            <a:off x="920880" y="4133880"/>
            <a:ext cx="2992320" cy="1333440"/>
            <a:chOff x="920880" y="4133880"/>
            <a:chExt cx="2992320" cy="1333440"/>
          </a:xfrm>
        </p:grpSpPr>
        <p:pic>
          <p:nvPicPr>
            <p:cNvPr id="345" name="Oval 11" descr=""/>
            <p:cNvPicPr/>
            <p:nvPr/>
          </p:nvPicPr>
          <p:blipFill>
            <a:blip r:embed="rId6"/>
            <a:stretch/>
          </p:blipFill>
          <p:spPr>
            <a:xfrm>
              <a:off x="920880" y="4133880"/>
              <a:ext cx="299232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Text Box 19"/>
            <p:cNvSpPr/>
            <p:nvPr/>
          </p:nvSpPr>
          <p:spPr>
            <a:xfrm>
              <a:off x="1373040" y="4341960"/>
              <a:ext cx="209556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Образова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mbria"/>
                </a:rPr>
                <a:t>озонового сло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Прямоугольник 2"/>
          <p:cNvGrpSpPr/>
          <p:nvPr/>
        </p:nvGrpSpPr>
        <p:grpSpPr>
          <a:xfrm>
            <a:off x="420840" y="317520"/>
            <a:ext cx="8302320" cy="8434800"/>
            <a:chOff x="420840" y="317520"/>
            <a:chExt cx="8302320" cy="8434800"/>
          </a:xfrm>
        </p:grpSpPr>
        <p:pic>
          <p:nvPicPr>
            <p:cNvPr id="348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420840" y="317520"/>
              <a:ext cx="8302320" cy="52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00040" y="428760"/>
              <a:ext cx="8143920" cy="83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d5040"/>
                  </a:solidFill>
                  <a:latin typeface="Monotype Corsiva"/>
                  <a:ea typeface="Times New Roman"/>
                </a:rPr>
                <a:t>Фотосинтез идет на свету круглый год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d5040"/>
                  </a:solidFill>
                  <a:latin typeface="Monotype Corsiva"/>
                  <a:ea typeface="Times New Roman"/>
                </a:rPr>
                <a:t>Он людям дает пищу и кислород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d5040"/>
                  </a:solidFill>
                  <a:latin typeface="Monotype Corsiva"/>
                  <a:ea typeface="Times New Roman"/>
                </a:rPr>
                <a:t>Очень важный процесс- фотосинтез, друзья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d5040"/>
                  </a:solidFill>
                  <a:latin typeface="Monotype Corsiva"/>
                  <a:ea typeface="Times New Roman"/>
                </a:rPr>
                <a:t>Без него на Земле обойтись нам нельзя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d5040"/>
                  </a:solidFill>
                  <a:latin typeface="Monotype Corsiva"/>
                  <a:ea typeface="Times New Roman"/>
                </a:rPr>
                <a:t>Фрукты, овощи, хлеб, уголь, сено, дрова 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d5040"/>
                  </a:solidFill>
                  <a:latin typeface="Monotype Corsiva"/>
                  <a:ea typeface="Times New Roman"/>
                </a:rPr>
                <a:t>Фотосинтез всему этому голова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d5040"/>
                  </a:solidFill>
                  <a:latin typeface="Monotype Corsiva"/>
                  <a:ea typeface="Times New Roman"/>
                </a:rPr>
                <a:t>Воздух чист будет, свеж, как легко им дышать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d5040"/>
                  </a:solidFill>
                  <a:latin typeface="Monotype Corsiva"/>
                  <a:ea typeface="Times New Roman"/>
                </a:rPr>
                <a:t> </a:t>
              </a:r>
              <a:r>
                <a:rPr b="1" lang="ru-RU" sz="3600" spc="-1" strike="noStrike">
                  <a:solidFill>
                    <a:srgbClr val="4d5040"/>
                  </a:solidFill>
                  <a:latin typeface="Monotype Corsiva"/>
                  <a:ea typeface="Times New Roman"/>
                </a:rPr>
                <a:t>И озоновый слой будет нас защищать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7dac8"/>
                </a:solidFill>
                <a:latin typeface="Monotype Corsiva"/>
              </a:rPr>
              <a:t>Цели и задачи: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85560" y="1857240"/>
            <a:ext cx="7643880" cy="4572000"/>
          </a:xfrm>
          <a:prstGeom prst="rect">
            <a:avLst/>
          </a:prstGeom>
          <a:solidFill>
            <a:srgbClr val="b0ccb0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62626"/>
                </a:solidFill>
                <a:latin typeface="Monotype Corsiva"/>
              </a:rPr>
              <a:t>1. Образовательная - познакомить учащихся с сущностью процесса фотосинтеза, его значением в природе и жизни человека; работами ученых, исследовавших процесс фотосинтеза.</a:t>
            </a:r>
            <a:br>
              <a:rPr sz="2600"/>
            </a:br>
            <a:r>
              <a:rPr b="1" lang="ru-RU" sz="2600" spc="-1" strike="noStrike">
                <a:solidFill>
                  <a:srgbClr val="262626"/>
                </a:solidFill>
                <a:latin typeface="Monotype Corsiva"/>
              </a:rPr>
              <a:t>2. Развивающая - развивать у учащихся навыки выделять главное и делать выводы, обогащение специальной речи учащихся; продолжить формирование навыков работы с лабораторным оборудованием, а также умения ставить простой опыт.</a:t>
            </a:r>
            <a:br>
              <a:rPr sz="2600"/>
            </a:br>
            <a:r>
              <a:rPr b="1" lang="ru-RU" sz="2600" spc="-1" strike="noStrike">
                <a:solidFill>
                  <a:srgbClr val="262626"/>
                </a:solidFill>
                <a:latin typeface="Monotype Corsiva"/>
              </a:rPr>
              <a:t>3. Воспитательная - формирование умений учащихся работать в группах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34360" indent="-234360">
              <a:lnSpc>
                <a:spcPct val="100000"/>
              </a:lnSpc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81" name="Picture 4" descr="j0299125"/>
          <p:cNvPicPr/>
          <p:nvPr/>
        </p:nvPicPr>
        <p:blipFill>
          <a:blip r:embed="rId1"/>
          <a:stretch/>
        </p:blipFill>
        <p:spPr>
          <a:xfrm>
            <a:off x="0" y="214200"/>
            <a:ext cx="11844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07-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СПАСИБО  ЗА  ВНИМАНИЕ!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428760" y="2714760"/>
            <a:ext cx="8143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Эпиграф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Говорят, что посередине между двум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ротивоположными мнениями лежит истин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икоим образом!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ежду ними лежит проблема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C:\Documents and Settings\1\Мои документы\gete.jpg"/>
          <p:cNvPicPr/>
          <p:nvPr/>
        </p:nvPicPr>
        <p:blipFill>
          <a:blip r:embed="rId1"/>
          <a:stretch/>
        </p:blipFill>
        <p:spPr>
          <a:xfrm>
            <a:off x="7215120" y="285840"/>
            <a:ext cx="1609920" cy="226692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4"/>
          <p:cNvSpPr/>
          <p:nvPr/>
        </p:nvSpPr>
        <p:spPr>
          <a:xfrm>
            <a:off x="7099920" y="2714760"/>
            <a:ext cx="18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(И.В.Гёт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6040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8" name="Picture 4" descr="ANDROMA"/>
          <p:cNvPicPr/>
          <p:nvPr/>
        </p:nvPicPr>
        <p:blipFill>
          <a:blip r:embed="rId1"/>
          <a:stretch/>
        </p:blipFill>
        <p:spPr>
          <a:xfrm>
            <a:off x="0" y="-765000"/>
            <a:ext cx="9144000" cy="83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1" name="Picture 4" descr="Peyzag6"/>
          <p:cNvPicPr/>
          <p:nvPr/>
        </p:nvPicPr>
        <p:blipFill>
          <a:blip r:embed="rId1"/>
          <a:stretch/>
        </p:blipFill>
        <p:spPr>
          <a:xfrm>
            <a:off x="-703440" y="-674640"/>
            <a:ext cx="10552320" cy="79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4" name="Picture 4" descr="Resize of 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99840" y="1928880"/>
            <a:ext cx="4800600" cy="728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45472b"/>
                </a:solidFill>
                <a:latin typeface="Monotype Corsiva"/>
              </a:rPr>
              <a:t>ФОТОСИНТЕЗ</a:t>
            </a:r>
            <a:endParaRPr b="0" lang="en-US" sz="49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ДЕ?                                        КАК?                         ДЛЯ ЧЕГО?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Локализация                    Химизм                           Значение                          Условия                            процесса   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Line 4"/>
          <p:cNvSpPr/>
          <p:nvPr/>
        </p:nvSpPr>
        <p:spPr>
          <a:xfrm flipH="1">
            <a:off x="1499760" y="2714760"/>
            <a:ext cx="1143000" cy="171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5"/>
          <p:cNvSpPr/>
          <p:nvPr/>
        </p:nvSpPr>
        <p:spPr>
          <a:xfrm>
            <a:off x="4714920" y="26431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"/>
          <p:cNvSpPr/>
          <p:nvPr/>
        </p:nvSpPr>
        <p:spPr>
          <a:xfrm>
            <a:off x="6429240" y="2643120"/>
            <a:ext cx="1214640" cy="15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7dac8"/>
                </a:solidFill>
                <a:latin typeface="Monotype Corsiva"/>
              </a:rPr>
              <a:t>Защита проект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985080" cy="20606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ac8ad"/>
                </a:solidFill>
                <a:latin typeface="Monotype Corsiva"/>
              </a:rPr>
              <a:t>ФОТОСИНТЕЗ</a:t>
            </a:r>
            <a:endParaRPr b="0" lang="en-US" sz="6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-360" y="3142800"/>
            <a:ext cx="406404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5472b"/>
                </a:solidFill>
                <a:latin typeface="Monotype Corsiva"/>
              </a:rPr>
              <a:t>«ФОТО» - свет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45472b"/>
                </a:solidFill>
                <a:latin typeface="Monotype Corsiva"/>
              </a:rPr>
              <a:t>« СИНТЕЗ» - образование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3" name="Picture 4" descr="266033"/>
          <p:cNvPicPr/>
          <p:nvPr/>
        </p:nvPicPr>
        <p:blipFill>
          <a:blip r:embed="rId1"/>
          <a:stretch/>
        </p:blipFill>
        <p:spPr>
          <a:xfrm>
            <a:off x="4714920" y="1714680"/>
            <a:ext cx="4203720" cy="479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07:43:02Z</dcterms:created>
  <dc:creator>1</dc:creator>
  <dc:description/>
  <dc:language>en-US</dc:language>
  <cp:lastModifiedBy>1</cp:lastModifiedBy>
  <dcterms:modified xsi:type="dcterms:W3CDTF">2014-01-23T10:01:03Z</dcterms:modified>
  <cp:revision>20</cp:revision>
  <dc:subject/>
  <dc:title>Слайд 1</dc:title>
</cp:coreProperties>
</file>