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png" ContentType="image/png"/>
  <Override PartName="/ppt/media/image4.jpeg" ContentType="image/jpeg"/>
  <Override PartName="/ppt/media/image5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4D90-5137-48D1-80C4-46B5C7E98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8A98-A0D6-4978-B589-6E011AD04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D586-44CC-4A43-A83E-0B0EA368A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1619-99F8-4443-AEF4-6B15A6ADD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CE3D9-5D2C-4B23-BF34-663B9F104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424B8-BDD3-4444-B1FC-1F0B7919B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73EB5-4CAF-4E85-BFE0-17024D15A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B3E19-1AE8-4F32-80CC-D45702D32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4C1E0-96F5-4CEE-B729-B940E6BB2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EA343-4D05-4475-AB41-0760BB879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69DDF-0A77-4CD3-8353-CF2C526E6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53FD-3BE2-4094-BFF6-56CE7C403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C9B06-BB54-4995-B5FA-8CE599D8A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87E49-787A-44A9-9355-369A05F3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53D9C-6B32-4CC6-BDD4-42225B56E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00DFE-2F2A-4A8D-BD14-678BAA1E1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76BEB-6A6F-4DB1-A952-9889DA8CD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1C46-3E42-4B98-8B1F-44BDC106A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B3FA-EC82-4262-A90A-F102A2971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D1C2-6BDF-47EC-895F-A99660C23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24EC-DD7C-4A39-BE6A-B6B5F78C7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8045-7998-4FD1-B53E-5696F8CCD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83E6-6F7B-4131-9FE4-820AEE206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6E3F-9423-4EEA-982E-81F7E7584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5FB76-9AB7-4B3E-8161-2F91DDB869AD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D5FA4-EEC4-436A-989D-8026B8BB3B7C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Проектно-исследовательская деятельность дошкольников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Этапы работы над проектом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Алгоритм оформления исследовательских работ учащихся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6666"/>
                </a:solidFill>
                <a:latin typeface="Arial"/>
              </a:rPr>
              <a:t>1.</a:t>
            </a:r>
            <a:endParaRPr b="1" lang="en-US" sz="7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26560" y="2637000"/>
            <a:ext cx="805500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3366"/>
                </a:solidFill>
                <a:latin typeface="Arial"/>
              </a:rPr>
              <a:t>Выбор темы</a:t>
            </a:r>
            <a:endParaRPr b="0" lang="en-US" sz="7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9" name="Picture 4" descr="image533"/>
          <p:cNvPicPr/>
          <p:nvPr/>
        </p:nvPicPr>
        <p:blipFill>
          <a:blip r:embed="rId1"/>
          <a:stretch/>
        </p:blipFill>
        <p:spPr>
          <a:xfrm>
            <a:off x="3419640" y="3860640"/>
            <a:ext cx="2158920" cy="228600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5"/>
          <p:cNvSpPr/>
          <p:nvPr/>
        </p:nvSpPr>
        <p:spPr>
          <a:xfrm>
            <a:off x="1547640" y="2205000"/>
            <a:ext cx="60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Выбор темы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26560" y="2637000"/>
            <a:ext cx="805500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Фантастически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Эмперически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Теоретически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3" name="Picture 4" descr="image533"/>
          <p:cNvPicPr/>
          <p:nvPr/>
        </p:nvPicPr>
        <p:blipFill>
          <a:blip r:embed="rId1"/>
          <a:stretch/>
        </p:blipFill>
        <p:spPr>
          <a:xfrm>
            <a:off x="3492360" y="4292640"/>
            <a:ext cx="2159280" cy="228600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5"/>
          <p:cNvSpPr/>
          <p:nvPr/>
        </p:nvSpPr>
        <p:spPr>
          <a:xfrm>
            <a:off x="1547640" y="2205000"/>
            <a:ext cx="60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900000" y="2637000"/>
            <a:ext cx="8055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27640" y="548280"/>
            <a:ext cx="8057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Тема должна быть…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1079280" y="2376000"/>
            <a:ext cx="712764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интересна ребенку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выполнима, приносить пользу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оригинальн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работа должна быть выполнена максимально быстро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827640" y="548280"/>
            <a:ext cx="8057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006666"/>
                </a:solidFill>
                <a:latin typeface="Arial"/>
              </a:rPr>
              <a:t>2.</a:t>
            </a:r>
            <a:endParaRPr b="1" lang="en-US" sz="7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079280" y="2376000"/>
            <a:ext cx="712764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3366"/>
                </a:solidFill>
                <a:latin typeface="Arial"/>
              </a:rPr>
              <a:t>Выдвижение гипотез</a:t>
            </a:r>
            <a:endParaRPr b="0" lang="en-US" sz="5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0" name="Picture 4" descr="image533"/>
          <p:cNvPicPr/>
          <p:nvPr/>
        </p:nvPicPr>
        <p:blipFill>
          <a:blip r:embed="rId1"/>
          <a:stretch/>
        </p:blipFill>
        <p:spPr>
          <a:xfrm>
            <a:off x="3276720" y="3429000"/>
            <a:ext cx="21589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0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27640" y="548280"/>
            <a:ext cx="8057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079280" y="2376000"/>
            <a:ext cx="712764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Гипотеза - основа процесса творческого мышления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Как рождается гипотеза?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0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with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827640" y="548280"/>
            <a:ext cx="8057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006666"/>
                </a:solidFill>
                <a:latin typeface="Arial"/>
              </a:rPr>
              <a:t>3.</a:t>
            </a:r>
            <a:endParaRPr b="1" lang="en-US" sz="7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079280" y="2376000"/>
            <a:ext cx="712764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Arial"/>
              </a:rPr>
              <a:t>Поиск и предложение возможных вариантов.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5" name="Picture 4" descr="image533"/>
          <p:cNvPicPr/>
          <p:nvPr/>
        </p:nvPicPr>
        <p:blipFill>
          <a:blip r:embed="rId1"/>
          <a:stretch/>
        </p:blipFill>
        <p:spPr>
          <a:xfrm>
            <a:off x="3348000" y="3716280"/>
            <a:ext cx="21589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0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827640" y="548280"/>
            <a:ext cx="8057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006666"/>
                </a:solidFill>
                <a:latin typeface="Arial"/>
              </a:rPr>
              <a:t>4.</a:t>
            </a:r>
            <a:endParaRPr b="1" lang="en-US" sz="7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079280" y="2376000"/>
            <a:ext cx="712764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3366"/>
                </a:solidFill>
                <a:latin typeface="Arial"/>
              </a:rPr>
              <a:t>Сбор материалов.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8" name="Picture 4" descr="image533"/>
          <p:cNvPicPr/>
          <p:nvPr/>
        </p:nvPicPr>
        <p:blipFill>
          <a:blip r:embed="rId1"/>
          <a:stretch/>
        </p:blipFill>
        <p:spPr>
          <a:xfrm>
            <a:off x="3348000" y="3716280"/>
            <a:ext cx="21589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0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827640" y="548280"/>
            <a:ext cx="8057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006666"/>
                </a:solidFill>
                <a:latin typeface="Arial"/>
              </a:rPr>
              <a:t>4.</a:t>
            </a:r>
            <a:endParaRPr b="1" lang="en-US" sz="7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079280" y="2376000"/>
            <a:ext cx="712764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3366"/>
                </a:solidFill>
                <a:latin typeface="Arial"/>
              </a:rPr>
              <a:t>Выбор источников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3366"/>
                </a:solidFill>
                <a:latin typeface="Arial"/>
              </a:rPr>
              <a:t>Фиксация информации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1" name="Picture 4" descr="image533"/>
          <p:cNvPicPr/>
          <p:nvPr/>
        </p:nvPicPr>
        <p:blipFill>
          <a:blip r:embed="rId1"/>
          <a:stretch/>
        </p:blipFill>
        <p:spPr>
          <a:xfrm>
            <a:off x="3348000" y="4149720"/>
            <a:ext cx="21589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0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827640" y="548280"/>
            <a:ext cx="8057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006666"/>
                </a:solidFill>
                <a:latin typeface="Arial"/>
              </a:rPr>
              <a:t>5.</a:t>
            </a:r>
            <a:endParaRPr b="1" lang="en-US" sz="7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079280" y="2376000"/>
            <a:ext cx="712764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3366"/>
                </a:solidFill>
                <a:latin typeface="Arial"/>
              </a:rPr>
              <a:t>Обобщение полученных данных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4" name="Picture 4" descr="image533"/>
          <p:cNvPicPr/>
          <p:nvPr/>
        </p:nvPicPr>
        <p:blipFill>
          <a:blip r:embed="rId1"/>
          <a:stretch/>
        </p:blipFill>
        <p:spPr>
          <a:xfrm>
            <a:off x="3348000" y="3860640"/>
            <a:ext cx="21589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0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827640" y="548280"/>
            <a:ext cx="8057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Arial"/>
              </a:rPr>
              <a:t>Задачи этапа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971280" y="2421000"/>
            <a:ext cx="712764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Проанализировать полученный материал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Обобщить его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Выделить главное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и исключить второстепенное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7" name="Picture 4" descr="image533"/>
          <p:cNvPicPr/>
          <p:nvPr/>
        </p:nvPicPr>
        <p:blipFill>
          <a:blip r:embed="rId1"/>
          <a:stretch/>
        </p:blipFill>
        <p:spPr>
          <a:xfrm>
            <a:off x="6985080" y="3860640"/>
            <a:ext cx="21589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0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2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3366"/>
                </a:solidFill>
                <a:latin typeface="Arial"/>
              </a:rPr>
              <a:t>Что же такое проектно-исследовательская деятельность?</a:t>
            </a:r>
            <a:endParaRPr b="0" lang="en-US" sz="41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827640" y="548280"/>
            <a:ext cx="8057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006666"/>
                </a:solidFill>
                <a:latin typeface="Arial"/>
              </a:rPr>
              <a:t>6.</a:t>
            </a:r>
            <a:endParaRPr b="1" lang="en-US" sz="7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1079280" y="2376000"/>
            <a:ext cx="712764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3366"/>
                </a:solidFill>
                <a:latin typeface="Arial"/>
              </a:rPr>
              <a:t>Подготовка проекта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0" name="Picture 4" descr="image533"/>
          <p:cNvPicPr/>
          <p:nvPr/>
        </p:nvPicPr>
        <p:blipFill>
          <a:blip r:embed="rId1"/>
          <a:stretch/>
        </p:blipFill>
        <p:spPr>
          <a:xfrm>
            <a:off x="3492360" y="3429000"/>
            <a:ext cx="21592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0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Формы продуктов проектной деятельност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115640" y="2421000"/>
            <a:ext cx="698508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справочник; газета; журнал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альбом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гербарий; карта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экскурсия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игра; сценарий праздника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костюм; макет; модель;  сувенир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мультимедийный продукт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учебное пособие и др.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3" name="Picture 4" descr="b21[1]"/>
          <p:cNvPicPr/>
          <p:nvPr/>
        </p:nvPicPr>
        <p:blipFill>
          <a:blip r:embed="rId1"/>
          <a:stretch/>
        </p:blipFill>
        <p:spPr>
          <a:xfrm flipH="1">
            <a:off x="7164360" y="4581360"/>
            <a:ext cx="1487520" cy="17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0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827640" y="548280"/>
            <a:ext cx="8057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006666"/>
                </a:solidFill>
                <a:latin typeface="Arial"/>
              </a:rPr>
              <a:t>7.</a:t>
            </a:r>
            <a:endParaRPr b="1" lang="en-US" sz="7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1079280" y="2376000"/>
            <a:ext cx="712764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3366"/>
                </a:solidFill>
                <a:latin typeface="Arial"/>
              </a:rPr>
              <a:t>Защита проекта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6" name="Picture 4" descr="image533"/>
          <p:cNvPicPr/>
          <p:nvPr/>
        </p:nvPicPr>
        <p:blipFill>
          <a:blip r:embed="rId1"/>
          <a:stretch/>
        </p:blipFill>
        <p:spPr>
          <a:xfrm>
            <a:off x="3492360" y="3429000"/>
            <a:ext cx="21592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0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827640" y="548280"/>
            <a:ext cx="8057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Формы презентации проектов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1079280" y="2376000"/>
            <a:ext cx="712764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демонстрация медиа – презентации, коллажа, макета, журнала, игрушек, предметов домашнего обихода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защита реферата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сюжетно-ролевая игра или экскурсия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праздник или инсценировка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демонстрация учебного пособия и т.п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1258920" y="5805360"/>
            <a:ext cx="741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Защита проектов может проходить на родительском собрании, на уроке, во внеурочное время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0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6666"/>
                </a:solidFill>
                <a:latin typeface="Arial"/>
              </a:rPr>
              <a:t>Критерии успеха работы над проектом</a:t>
            </a:r>
            <a:endParaRPr b="1" lang="en-US" sz="3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187280" y="2349000"/>
            <a:ext cx="73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Достижение конечного результата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Овладение учащимися учебными умениями, связанными с приемами самостоятельного приобретения знаний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Сплоченность участников команды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Получение полного и глубокого удовлетворения от сделанного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;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Уверенность детей в том, что они могут создавать продукт, востребованный для них и других людей.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Помните!!!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дходите к проведению работы творческ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е сдерживайте инициативы детей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ощряйте самостоятельность, избегайте прямых инструкций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е делайте за ребенка то, что он может сделать самостоятельно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е спешите с вынесением оценочных суждений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роектно-исследовательская деятельность-это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Проектирование собственного исследования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Выделение целей и задач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Выделение принципов отбора методик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Планирование хода исследования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Определение желаемых результатов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6666"/>
                </a:solidFill>
                <a:latin typeface="Arial"/>
              </a:rPr>
              <a:t>Уровни реализации «исследовательского обучения»</a:t>
            </a:r>
            <a:endParaRPr b="1" lang="en-US" sz="3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826920" y="2852640"/>
            <a:ext cx="2232360" cy="1582920"/>
          </a:xfrm>
          <a:prstGeom prst="rect">
            <a:avLst/>
          </a:prstGeom>
          <a:solidFill>
            <a:srgbClr val="b7dbb7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простой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3419640" y="2852640"/>
            <a:ext cx="2879640" cy="1513080"/>
          </a:xfrm>
          <a:prstGeom prst="rect">
            <a:avLst/>
          </a:prstGeom>
          <a:solidFill>
            <a:srgbClr val="b7dbb7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средний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6516720" y="2852640"/>
            <a:ext cx="2303280" cy="1513080"/>
          </a:xfrm>
          <a:prstGeom prst="rect">
            <a:avLst/>
          </a:prstGeom>
          <a:solidFill>
            <a:srgbClr val="b7dbb7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высокий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Picture 6" descr="computer_girl[1]"/>
          <p:cNvPicPr/>
          <p:nvPr/>
        </p:nvPicPr>
        <p:blipFill>
          <a:blip r:embed="rId1"/>
          <a:stretch/>
        </p:blipFill>
        <p:spPr>
          <a:xfrm>
            <a:off x="1116000" y="5084640"/>
            <a:ext cx="1401840" cy="15130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peo-day_dreaming[1]"/>
          <p:cNvPicPr/>
          <p:nvPr/>
        </p:nvPicPr>
        <p:blipFill>
          <a:blip r:embed="rId2"/>
          <a:stretch/>
        </p:blipFill>
        <p:spPr>
          <a:xfrm flipH="1">
            <a:off x="6732720" y="4869000"/>
            <a:ext cx="153648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6666"/>
                </a:solidFill>
                <a:latin typeface="Arial"/>
              </a:rPr>
              <a:t>Роли участников проектной деятельности</a:t>
            </a:r>
            <a:endParaRPr b="1" lang="en-US" sz="3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3132000" y="2205000"/>
            <a:ext cx="2880000" cy="503280"/>
          </a:xfrm>
          <a:prstGeom prst="rect">
            <a:avLst/>
          </a:prstGeom>
          <a:solidFill>
            <a:srgbClr val="b7dbb7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Простой уровень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826920" y="3645000"/>
            <a:ext cx="3168720" cy="1368360"/>
          </a:xfrm>
          <a:prstGeom prst="rect">
            <a:avLst/>
          </a:prstGeom>
          <a:solidFill>
            <a:srgbClr val="b7dbb7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32"/>
                </a:solidFill>
                <a:latin typeface="Arial"/>
              </a:rPr>
              <a:t>Ставит проблему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32"/>
                </a:solidFill>
                <a:latin typeface="Arial"/>
              </a:rPr>
              <a:t>Намечает стратегию 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32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32"/>
                </a:solidFill>
                <a:latin typeface="Arial"/>
              </a:rPr>
              <a:t>тактику ее решени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5508720" y="3500280"/>
            <a:ext cx="3313080" cy="1441440"/>
          </a:xfrm>
          <a:prstGeom prst="rect">
            <a:avLst/>
          </a:prstGeom>
          <a:solidFill>
            <a:srgbClr val="b7dbb7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33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32"/>
                </a:solidFill>
                <a:latin typeface="Arial"/>
              </a:rPr>
              <a:t>Находит решени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1" name="Picture 6" descr="computer_girl[1]"/>
          <p:cNvPicPr/>
          <p:nvPr/>
        </p:nvPicPr>
        <p:blipFill>
          <a:blip r:embed="rId1"/>
          <a:stretch/>
        </p:blipFill>
        <p:spPr>
          <a:xfrm>
            <a:off x="1116000" y="5084640"/>
            <a:ext cx="1401840" cy="1513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peo-day_dreaming[1]"/>
          <p:cNvPicPr/>
          <p:nvPr/>
        </p:nvPicPr>
        <p:blipFill>
          <a:blip r:embed="rId2"/>
          <a:stretch/>
        </p:blipFill>
        <p:spPr>
          <a:xfrm flipH="1">
            <a:off x="6732720" y="5013360"/>
            <a:ext cx="1536480" cy="154476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8"/>
          <p:cNvSpPr/>
          <p:nvPr/>
        </p:nvSpPr>
        <p:spPr>
          <a:xfrm>
            <a:off x="971640" y="2924280"/>
            <a:ext cx="2879640" cy="360360"/>
          </a:xfrm>
          <a:prstGeom prst="rect">
            <a:avLst/>
          </a:prstGeom>
          <a:solidFill>
            <a:srgbClr val="b7dbb7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взрослый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5651640" y="2924280"/>
            <a:ext cx="2879640" cy="360360"/>
          </a:xfrm>
          <a:prstGeom prst="rect">
            <a:avLst/>
          </a:prstGeom>
          <a:solidFill>
            <a:srgbClr val="b7dbb7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ребенок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6666"/>
                </a:solidFill>
                <a:latin typeface="Arial"/>
              </a:rPr>
              <a:t>Роли участников проектной деятельности</a:t>
            </a:r>
            <a:endParaRPr b="1" lang="en-US" sz="3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3132000" y="2205000"/>
            <a:ext cx="2880000" cy="503280"/>
          </a:xfrm>
          <a:prstGeom prst="rect">
            <a:avLst/>
          </a:prstGeom>
          <a:solidFill>
            <a:srgbClr val="b7dbb7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средний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826920" y="3645000"/>
            <a:ext cx="3168720" cy="1368360"/>
          </a:xfrm>
          <a:prstGeom prst="rect">
            <a:avLst/>
          </a:prstGeom>
          <a:solidFill>
            <a:srgbClr val="b7dbb7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32"/>
                </a:solidFill>
                <a:latin typeface="Arial"/>
              </a:rPr>
              <a:t>Ставит проблему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5508720" y="3500280"/>
            <a:ext cx="3313080" cy="1441440"/>
          </a:xfrm>
          <a:prstGeom prst="rect">
            <a:avLst/>
          </a:prstGeom>
          <a:solidFill>
            <a:srgbClr val="b7dbb7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33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Picture 6" descr="computer_girl[1]"/>
          <p:cNvPicPr/>
          <p:nvPr/>
        </p:nvPicPr>
        <p:blipFill>
          <a:blip r:embed="rId1"/>
          <a:stretch/>
        </p:blipFill>
        <p:spPr>
          <a:xfrm>
            <a:off x="1116000" y="5084640"/>
            <a:ext cx="1401840" cy="15130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peo-day_dreaming[1]"/>
          <p:cNvPicPr/>
          <p:nvPr/>
        </p:nvPicPr>
        <p:blipFill>
          <a:blip r:embed="rId2"/>
          <a:stretch/>
        </p:blipFill>
        <p:spPr>
          <a:xfrm flipH="1">
            <a:off x="6732720" y="5013360"/>
            <a:ext cx="1536480" cy="154476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8"/>
          <p:cNvSpPr/>
          <p:nvPr/>
        </p:nvSpPr>
        <p:spPr>
          <a:xfrm>
            <a:off x="971640" y="2924280"/>
            <a:ext cx="2879640" cy="360360"/>
          </a:xfrm>
          <a:prstGeom prst="rect">
            <a:avLst/>
          </a:prstGeom>
          <a:solidFill>
            <a:srgbClr val="b7dbb7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взрослый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5651640" y="2924280"/>
            <a:ext cx="2879640" cy="360360"/>
          </a:xfrm>
          <a:prstGeom prst="rect">
            <a:avLst/>
          </a:prstGeom>
          <a:solidFill>
            <a:srgbClr val="b7dbb7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ребенок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5724360" y="3716280"/>
            <a:ext cx="28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33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32"/>
                </a:solidFill>
                <a:latin typeface="Arial"/>
              </a:rPr>
              <a:t>Намечает стратегию 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32"/>
                </a:solidFill>
                <a:latin typeface="Arial"/>
              </a:rPr>
              <a:t>тактику ее решения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32"/>
                </a:solidFill>
                <a:latin typeface="Arial"/>
              </a:rPr>
              <a:t>Находит решени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6666"/>
                </a:solidFill>
                <a:latin typeface="Arial"/>
              </a:rPr>
              <a:t>Роли участников проектной деятельности</a:t>
            </a:r>
            <a:endParaRPr b="1" lang="en-US" sz="3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3132000" y="2205000"/>
            <a:ext cx="2880000" cy="503280"/>
          </a:xfrm>
          <a:prstGeom prst="rect">
            <a:avLst/>
          </a:prstGeom>
          <a:solidFill>
            <a:srgbClr val="b7dbb7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высокий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5508720" y="3500280"/>
            <a:ext cx="3313080" cy="1441440"/>
          </a:xfrm>
          <a:prstGeom prst="rect">
            <a:avLst/>
          </a:prstGeom>
          <a:solidFill>
            <a:srgbClr val="b7dbb7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33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7" name="Picture 6" descr="computer_girl[1]"/>
          <p:cNvPicPr/>
          <p:nvPr/>
        </p:nvPicPr>
        <p:blipFill>
          <a:blip r:embed="rId1"/>
          <a:stretch/>
        </p:blipFill>
        <p:spPr>
          <a:xfrm>
            <a:off x="1116000" y="5084640"/>
            <a:ext cx="1401840" cy="15130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peo-day_dreaming[1]"/>
          <p:cNvPicPr/>
          <p:nvPr/>
        </p:nvPicPr>
        <p:blipFill>
          <a:blip r:embed="rId2"/>
          <a:stretch/>
        </p:blipFill>
        <p:spPr>
          <a:xfrm flipH="1">
            <a:off x="6732720" y="5013360"/>
            <a:ext cx="1536480" cy="154476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8"/>
          <p:cNvSpPr/>
          <p:nvPr/>
        </p:nvSpPr>
        <p:spPr>
          <a:xfrm>
            <a:off x="971640" y="2924280"/>
            <a:ext cx="2879640" cy="360360"/>
          </a:xfrm>
          <a:prstGeom prst="rect">
            <a:avLst/>
          </a:prstGeom>
          <a:solidFill>
            <a:srgbClr val="b7dbb7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взрослый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Rectangle 9"/>
          <p:cNvSpPr/>
          <p:nvPr/>
        </p:nvSpPr>
        <p:spPr>
          <a:xfrm>
            <a:off x="5651640" y="2924280"/>
            <a:ext cx="2879640" cy="360360"/>
          </a:xfrm>
          <a:prstGeom prst="rect">
            <a:avLst/>
          </a:prstGeom>
          <a:solidFill>
            <a:srgbClr val="b7dbb7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ребенок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Rectangle 10"/>
          <p:cNvSpPr/>
          <p:nvPr/>
        </p:nvSpPr>
        <p:spPr>
          <a:xfrm>
            <a:off x="5724360" y="3716280"/>
            <a:ext cx="288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33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32"/>
                </a:solidFill>
                <a:latin typeface="Arial"/>
              </a:rPr>
              <a:t>Ставит проблему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32"/>
                </a:solidFill>
                <a:latin typeface="Arial"/>
              </a:rPr>
              <a:t>Намечает стратегию 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32"/>
                </a:solidFill>
                <a:latin typeface="Arial"/>
              </a:rPr>
              <a:t>тактику ее решения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32"/>
                </a:solidFill>
                <a:latin typeface="Arial"/>
              </a:rPr>
              <a:t>Находит решени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826920" y="3645000"/>
            <a:ext cx="3168720" cy="1368360"/>
          </a:xfrm>
          <a:prstGeom prst="rect">
            <a:avLst/>
          </a:prstGeom>
          <a:solidFill>
            <a:srgbClr val="b7dbb7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32"/>
                </a:solidFill>
                <a:latin typeface="Arial"/>
              </a:rPr>
              <a:t>Партнер ученик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683280" y="69264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учебного исследован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4" name="Picture 3" descr="ученик 2"/>
          <p:cNvPicPr/>
          <p:nvPr/>
        </p:nvPicPr>
        <p:blipFill>
          <a:blip r:embed="rId1"/>
          <a:stretch/>
        </p:blipFill>
        <p:spPr>
          <a:xfrm>
            <a:off x="2124000" y="2421000"/>
            <a:ext cx="4824360" cy="35622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12"/>
          <p:cNvSpPr/>
          <p:nvPr/>
        </p:nvSpPr>
        <p:spPr>
          <a:xfrm>
            <a:off x="3277440" y="542880"/>
            <a:ext cx="250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Структура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683280" y="69264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учебного исследован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7" name="Picture 3" descr="ученик 2"/>
          <p:cNvPicPr/>
          <p:nvPr/>
        </p:nvPicPr>
        <p:blipFill>
          <a:blip r:embed="rId1"/>
          <a:stretch/>
        </p:blipFill>
        <p:spPr>
          <a:xfrm>
            <a:off x="3635280" y="3429000"/>
            <a:ext cx="2438640" cy="1800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ученик 2"/>
          <p:cNvPicPr/>
          <p:nvPr/>
        </p:nvPicPr>
        <p:blipFill>
          <a:blip r:embed="rId2"/>
          <a:stretch/>
        </p:blipFill>
        <p:spPr>
          <a:xfrm>
            <a:off x="3203640" y="2997360"/>
            <a:ext cx="3527280" cy="2604960"/>
          </a:xfrm>
          <a:prstGeom prst="rect">
            <a:avLst/>
          </a:prstGeom>
          <a:ln w="0">
            <a:noFill/>
          </a:ln>
        </p:spPr>
      </p:pic>
      <p:sp>
        <p:nvSpPr>
          <p:cNvPr id="139" name="Oval 5"/>
          <p:cNvSpPr/>
          <p:nvPr/>
        </p:nvSpPr>
        <p:spPr>
          <a:xfrm>
            <a:off x="3635280" y="2133720"/>
            <a:ext cx="2089080" cy="107928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b7dbb7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6666"/>
                </a:solidFill>
                <a:latin typeface="Arial"/>
              </a:rPr>
              <a:t>2.Выдвижение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Arial"/>
              </a:rPr>
              <a:t>гипотез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Oval 6"/>
          <p:cNvSpPr/>
          <p:nvPr/>
        </p:nvSpPr>
        <p:spPr>
          <a:xfrm>
            <a:off x="5435640" y="5229360"/>
            <a:ext cx="2087640" cy="108108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b7dbb7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Arial"/>
              </a:rPr>
              <a:t>5.Обобщение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Arial"/>
              </a:rPr>
              <a:t>полученных данных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Oval 7"/>
          <p:cNvSpPr/>
          <p:nvPr/>
        </p:nvSpPr>
        <p:spPr>
          <a:xfrm>
            <a:off x="6372360" y="3860640"/>
            <a:ext cx="2232000" cy="115272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b7dbb7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Arial"/>
              </a:rPr>
              <a:t>4.Сбор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Arial"/>
              </a:rPr>
              <a:t>материала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Oval 8"/>
          <p:cNvSpPr/>
          <p:nvPr/>
        </p:nvSpPr>
        <p:spPr>
          <a:xfrm>
            <a:off x="1332000" y="2781360"/>
            <a:ext cx="2305080" cy="1008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b7dbb7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Arial"/>
              </a:rPr>
              <a:t>1.Выбор темы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Arial"/>
              </a:rPr>
              <a:t>исследования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Oval 9"/>
          <p:cNvSpPr/>
          <p:nvPr/>
        </p:nvSpPr>
        <p:spPr>
          <a:xfrm>
            <a:off x="1258920" y="4005360"/>
            <a:ext cx="2232000" cy="115092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b7dbb7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Arial"/>
              </a:rPr>
              <a:t>7.Защита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Arial"/>
              </a:rPr>
              <a:t>Проекта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Oval 10"/>
          <p:cNvSpPr/>
          <p:nvPr/>
        </p:nvSpPr>
        <p:spPr>
          <a:xfrm>
            <a:off x="2700360" y="5229360"/>
            <a:ext cx="2232000" cy="1224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b7dbb7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3366"/>
                </a:solidFill>
                <a:latin typeface="Arial"/>
              </a:rPr>
              <a:t>6.Подготовка </a:t>
            </a:r>
            <a:endParaRPr b="0" lang="en-US" sz="13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3366"/>
                </a:solidFill>
                <a:latin typeface="Arial"/>
              </a:rPr>
              <a:t>проекта</a:t>
            </a:r>
            <a:endParaRPr b="0" lang="en-US" sz="1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Oval 11"/>
          <p:cNvSpPr/>
          <p:nvPr/>
        </p:nvSpPr>
        <p:spPr>
          <a:xfrm>
            <a:off x="5940360" y="2492280"/>
            <a:ext cx="2232000" cy="115092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b7dbb7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3.Поиск и предложение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возможных вариантов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Rectangle 12"/>
          <p:cNvSpPr/>
          <p:nvPr/>
        </p:nvSpPr>
        <p:spPr>
          <a:xfrm>
            <a:off x="3277440" y="542880"/>
            <a:ext cx="250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Структура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18:49:49Z</dcterms:created>
  <dc:creator>mycomp</dc:creator>
  <dc:description/>
  <dc:language>en-US</dc:language>
  <cp:lastModifiedBy>acer</cp:lastModifiedBy>
  <dcterms:modified xsi:type="dcterms:W3CDTF">2013-12-19T16:22:05Z</dcterms:modified>
  <cp:revision>8</cp:revision>
  <dc:subject/>
  <dc:title>Слайд 1</dc:title>
</cp:coreProperties>
</file>