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D01-3AF8-42DA-B8F8-D6380055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463-6F51-42E4-B619-39F6C3F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84B-36B1-4968-95E1-6CF51A0D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48-F069-40CB-86A8-2AFECED9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AC56-5D6B-48F2-9640-5B617AC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7F5C-8366-4F2C-A11C-40B6A751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AC3B-03DD-43C5-AFE6-E274980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075-5DC0-4CBE-B3BC-D0217CB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D33-DC68-443C-A81F-00AD2255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7B2A-6FA9-45F3-910F-5EF20E0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80D-4133-4397-8A5F-09EB1A0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1CC-5092-45F2-8864-E34E23B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B0E4-F1F3-4DEF-B3C6-EC61A4E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E31D-8B36-4789-8694-8A529C4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A162-4BBF-4D6E-B2FF-5744166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18C7-0DCE-4B8B-B337-EB49D626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364-EB7D-40EF-A3F6-3E4EE9C7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138-F664-4595-A716-5E7E24F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853-6480-44CE-A7E7-99F2843F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882-9757-4CCB-9168-4DD7EDB7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9EF-9A09-473E-A26B-25B70E9C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934-5911-43C5-A8BB-E940BEE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41A-5AB5-4893-AB3A-214048F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DBF-4206-4FC4-A23D-728F99AA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999-9E97-4B01-939B-BEA830E682F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1DE-F2C0-4AED-84F8-EDEA6B5DDD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о-исследовательская деятельность дошкольни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Этапы работы над проект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Алгоритм оформления исследовательских работ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6666"/>
                </a:solidFill>
                <a:latin typeface="Arial"/>
              </a:rPr>
              <a:t>1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8055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Arial"/>
              </a:rPr>
              <a:t>Выбор темы</a:t>
            </a:r>
            <a:endParaRPr b="0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image533"/>
          <p:cNvPicPr/>
          <p:nvPr/>
        </p:nvPicPr>
        <p:blipFill>
          <a:blip r:embed="rId1"/>
          <a:stretch/>
        </p:blipFill>
        <p:spPr>
          <a:xfrm>
            <a:off x="3419640" y="386064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547640" y="2205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ыбор тем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8055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антас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мпер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оре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image533"/>
          <p:cNvPicPr/>
          <p:nvPr/>
        </p:nvPicPr>
        <p:blipFill>
          <a:blip r:embed="rId1"/>
          <a:stretch/>
        </p:blipFill>
        <p:spPr>
          <a:xfrm>
            <a:off x="3492360" y="4292640"/>
            <a:ext cx="21592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47640" y="2205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900000" y="2637000"/>
            <a:ext cx="805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 должна быть…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нтересна ребе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олнима, приносить польз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игиналь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бота должна быть выполнена максимально быст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3366"/>
                </a:solidFill>
                <a:latin typeface="Arial"/>
              </a:rPr>
              <a:t>Выдвижение гипотез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4" descr="image533"/>
          <p:cNvPicPr/>
          <p:nvPr/>
        </p:nvPicPr>
        <p:blipFill>
          <a:blip r:embed="rId1"/>
          <a:stretch/>
        </p:blipFill>
        <p:spPr>
          <a:xfrm>
            <a:off x="3276720" y="342900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ипотеза - основа процесса творческого мыш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 рождается гипотез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3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Поиск и предложение возможных вариантов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image533"/>
          <p:cNvPicPr/>
          <p:nvPr/>
        </p:nvPicPr>
        <p:blipFill>
          <a:blip r:embed="rId1"/>
          <a:stretch/>
        </p:blipFill>
        <p:spPr>
          <a:xfrm>
            <a:off x="3348000" y="37162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4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Сбор материалов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image533"/>
          <p:cNvPicPr/>
          <p:nvPr/>
        </p:nvPicPr>
        <p:blipFill>
          <a:blip r:embed="rId1"/>
          <a:stretch/>
        </p:blipFill>
        <p:spPr>
          <a:xfrm>
            <a:off x="3348000" y="37162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4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ыбор источников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Фиксация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4" descr="image533"/>
          <p:cNvPicPr/>
          <p:nvPr/>
        </p:nvPicPr>
        <p:blipFill>
          <a:blip r:embed="rId1"/>
          <a:stretch/>
        </p:blipFill>
        <p:spPr>
          <a:xfrm>
            <a:off x="3348000" y="414972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5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Обобщение полученных данных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image533"/>
          <p:cNvPicPr/>
          <p:nvPr/>
        </p:nvPicPr>
        <p:blipFill>
          <a:blip r:embed="rId1"/>
          <a:stretch/>
        </p:blipFill>
        <p:spPr>
          <a:xfrm>
            <a:off x="3348000" y="386064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Задачи этап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71280" y="2421000"/>
            <a:ext cx="7127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анализировать полученный матери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бобщить ег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делить главно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 исключить второстепен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4" descr="image533"/>
          <p:cNvPicPr/>
          <p:nvPr/>
        </p:nvPicPr>
        <p:blipFill>
          <a:blip r:embed="rId1"/>
          <a:stretch/>
        </p:blipFill>
        <p:spPr>
          <a:xfrm>
            <a:off x="6985080" y="386064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Что же такое проектно-исследовательская деятельность?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6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одготовка проект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4" descr="image533"/>
          <p:cNvPicPr/>
          <p:nvPr/>
        </p:nvPicPr>
        <p:blipFill>
          <a:blip r:embed="rId1"/>
          <a:stretch/>
        </p:blipFill>
        <p:spPr>
          <a:xfrm>
            <a:off x="3492360" y="342900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продуктов проект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5640" y="2421000"/>
            <a:ext cx="6985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равочник; газета; журна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льб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ербарий; кар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а; сценарий праздн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стюм; макет; модель;  сувени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ультимедийный продук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бное пособие и др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4" descr="b21[1]"/>
          <p:cNvPicPr/>
          <p:nvPr/>
        </p:nvPicPr>
        <p:blipFill>
          <a:blip r:embed="rId1"/>
          <a:stretch/>
        </p:blipFill>
        <p:spPr>
          <a:xfrm flipH="1">
            <a:off x="7164360" y="4581360"/>
            <a:ext cx="1487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7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Защита проект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4" descr="image533"/>
          <p:cNvPicPr/>
          <p:nvPr/>
        </p:nvPicPr>
        <p:blipFill>
          <a:blip r:embed="rId1"/>
          <a:stretch/>
        </p:blipFill>
        <p:spPr>
          <a:xfrm>
            <a:off x="3492360" y="342900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ормы презентации проект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щита рефера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южетно-ролевая игра или 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аздник или инсценировк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ация учебного пособия и т.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5892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щита проектов может проходить на родительском собрании, на уроке, во внеурочное врем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66"/>
                </a:solidFill>
                <a:latin typeface="Arial"/>
              </a:rPr>
              <a:t>Критерии успеха работы над проектом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7280" y="2349000"/>
            <a:ext cx="73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остижение конечного результат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лоченность участников команды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учение полного и глубокого удовлетворения от сделанног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омните!!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ходите к проведению работы творчес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сдерживайте инициативы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ощряйте самостоятельность, избегайте прямых инструк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делайте за ребенка то, что он может сделать самостоятель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спешите с вынесением оценочных сужд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ектно-исследовательская деятельность-это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оектирование собственного исслед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ыделение целей и зада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ыделение принципов отбора методи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ланирование хода исслед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пределение желаемых результато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Уровни реализации «исследовательского обучения»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26920" y="2852640"/>
            <a:ext cx="2232360" cy="158292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ст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419640" y="2852640"/>
            <a:ext cx="2879640" cy="15130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ред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516720" y="2852640"/>
            <a:ext cx="2303280" cy="15130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со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4869000"/>
            <a:ext cx="1536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остой уровен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ред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724360" y="3716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сок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24360" y="371628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Партнер уче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328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го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Picture 3" descr="ученик 2"/>
          <p:cNvPicPr/>
          <p:nvPr/>
        </p:nvPicPr>
        <p:blipFill>
          <a:blip r:embed="rId1"/>
          <a:stretch/>
        </p:blipFill>
        <p:spPr>
          <a:xfrm>
            <a:off x="2124000" y="2421000"/>
            <a:ext cx="482436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3277440" y="54288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328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го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3" descr="ученик 2"/>
          <p:cNvPicPr/>
          <p:nvPr/>
        </p:nvPicPr>
        <p:blipFill>
          <a:blip r:embed="rId1"/>
          <a:stretch/>
        </p:blipFill>
        <p:spPr>
          <a:xfrm>
            <a:off x="3635280" y="3429000"/>
            <a:ext cx="243864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ученик 2"/>
          <p:cNvPicPr/>
          <p:nvPr/>
        </p:nvPicPr>
        <p:blipFill>
          <a:blip r:embed="rId2"/>
          <a:stretch/>
        </p:blipFill>
        <p:spPr>
          <a:xfrm>
            <a:off x="3203640" y="2997360"/>
            <a:ext cx="3527280" cy="2604960"/>
          </a:xfrm>
          <a:prstGeom prst="rect">
            <a:avLst/>
          </a:prstGeom>
          <a:ln w="0">
            <a:noFill/>
          </a:ln>
        </p:spPr>
      </p:pic>
      <p:sp>
        <p:nvSpPr>
          <p:cNvPr id="139" name="Oval 5"/>
          <p:cNvSpPr/>
          <p:nvPr/>
        </p:nvSpPr>
        <p:spPr>
          <a:xfrm>
            <a:off x="3635280" y="2133720"/>
            <a:ext cx="208908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2.Выдвиже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гипотез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435640" y="5229360"/>
            <a:ext cx="2087640" cy="1081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5.Обобщени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полученных данны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72360" y="3860640"/>
            <a:ext cx="2232000" cy="115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4.Сбор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2781360"/>
            <a:ext cx="2305080" cy="1008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Выбор тем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иссле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1258920" y="400536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7.Защи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Проек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2700360" y="5229360"/>
            <a:ext cx="2232000" cy="1224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6.Подготовка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проект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940360" y="249228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Поиск и предложе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озможных вариан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3277440" y="54288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49:49Z</dcterms:created>
  <dc:creator>mycomp</dc:creator>
  <dc:description/>
  <dc:language>en-US</dc:language>
  <cp:lastModifiedBy>acer</cp:lastModifiedBy>
  <dcterms:modified xsi:type="dcterms:W3CDTF">2013-12-19T16:22:05Z</dcterms:modified>
  <cp:revision>8</cp:revision>
  <dc:subject/>
  <dc:title>Слайд 1</dc:title>
</cp:coreProperties>
</file>