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C0FD-C4B2-48DB-B055-0D6F93348D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813D-F13D-4599-A890-68683CE2892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C2A7-8756-448A-89D4-8B331CD90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E7A-542E-404B-A222-1C3C443A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3D44-ABE0-425A-B2FE-58A5A3F7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072B-0460-4F25-B98C-3E27FFD9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8CCF-60F0-4C05-B7A0-1275AC17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DEAB-27BC-4731-AE3E-54E2D370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A926-2448-43B6-8A31-F5A6F79A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F36B-2078-44CD-A3FC-6E906E59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F4C9-753C-4590-889B-081B1942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8E0C-4964-48C7-BD23-4A17598E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3B25-F631-4A41-AB8E-931FD7AA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F2D0-7E80-4F7B-9AD2-0C1943AB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A136-CCED-40FA-974A-1A840C21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A111-AB54-4C2F-943B-0F09DFFD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D9AA-DC6D-42EC-B27E-D50B71E0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B332-05C7-4C7B-8617-7899A081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6043-A356-4002-AA73-A99DC4BB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933A-5D61-43C1-AC05-ADFBD1AD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685F-C97C-4DE1-9830-BA906D4B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48DC-A30D-4286-8285-55B1AF0A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8EFC-72AF-46D0-A011-6190A895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9FF0-AAA1-4829-94C4-7A366FE4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BF76-E0C3-4425-9A0D-1DA9D12C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B472-B0F8-493E-86E3-22275622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C9D2-926B-426E-8680-E228322A7E7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0E8F-8826-4D1D-9879-278567C8DC9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ru.wikipedia.org/wiki/&#1043;&#1086;&#1088;&#1086;&#1076;" TargetMode="External"/><Relationship Id="rId3" Type="http://schemas.openxmlformats.org/officeDocument/2006/relationships/hyperlink" Target="http://ru.wikipedia.org/wiki/&#1043;&#1086;&#1088;&#1086;&#1076;" TargetMode="External"/><Relationship Id="rId4" Type="http://schemas.openxmlformats.org/officeDocument/2006/relationships/hyperlink" Target="http://ru.wikipedia.org/wiki/1247_&#1075;&#1086;&#1076;" TargetMode="External"/><Relationship Id="rId5" Type="http://schemas.openxmlformats.org/officeDocument/2006/relationships/hyperlink" Target="http://ru.wikipedia.org/wiki/&#1043;&#1086;&#1088;&#1086;&#1076;" TargetMode="External"/><Relationship Id="rId6" Type="http://schemas.openxmlformats.org/officeDocument/2006/relationships/hyperlink" Target="http://ru.wikipedia.org/wiki/&#1056;&#1086;&#1089;&#1089;&#1080;&#1103;" TargetMode="External"/><Relationship Id="rId7" Type="http://schemas.openxmlformats.org/officeDocument/2006/relationships/hyperlink" Target="http://ru.wikipedia.org/wiki/1247_&#1075;&#1086;&#1076;" TargetMode="External"/><Relationship Id="rId8" Type="http://schemas.openxmlformats.org/officeDocument/2006/relationships/hyperlink" Target="http://ru.wikipedia.org/wiki/&#1042;&#1086;&#1083;&#1075;&#1072;" TargetMode="External"/><Relationship Id="rId9" Type="http://schemas.openxmlformats.org/officeDocument/2006/relationships/hyperlink" Target="http://ru.wikipedia.org/wiki/1247_&#1075;&#1086;&#1076;" TargetMode="External"/><Relationship Id="rId10" Type="http://schemas.openxmlformats.org/officeDocument/2006/relationships/hyperlink" Target="http://ru.wikipedia.org/wiki/1931" TargetMode="External"/><Relationship Id="rId11" Type="http://schemas.openxmlformats.org/officeDocument/2006/relationships/hyperlink" Target="http://ru.wikipedia.org/wiki/&#1058;&#1100;&#1084;&#1072;&#1082;&#1072;" TargetMode="External"/><Relationship Id="rId12" Type="http://schemas.openxmlformats.org/officeDocument/2006/relationships/hyperlink" Target="http://ru.wikipedia.org/wiki/1931" TargetMode="External"/><Relationship Id="rId13" Type="http://schemas.openxmlformats.org/officeDocument/2006/relationships/hyperlink" Target="http://ru.wikipedia.org/wiki/&#1058;&#1074;&#1077;&#1088;&#1094;&#1072;" TargetMode="External"/><Relationship Id="rId14" Type="http://schemas.openxmlformats.org/officeDocument/2006/relationships/hyperlink" Target="http://ru.wikipedia.org/wiki/1931" TargetMode="External"/><Relationship Id="rId15" Type="http://schemas.openxmlformats.org/officeDocument/2006/relationships/hyperlink" Target="http://ru.wikipedia.org/wiki/1135_&#1075;&#1086;&#1076;" TargetMode="External"/><Relationship Id="rId16" Type="http://schemas.openxmlformats.org/officeDocument/2006/relationships/hyperlink" Target="http://ru.wikipedia.org/wiki/1931" TargetMode="External"/><Relationship Id="rId17" Type="http://schemas.openxmlformats.org/officeDocument/2006/relationships/hyperlink" Target="http://ru.wikipedia.org/wiki/1247_&#1075;&#1086;&#1076;" TargetMode="External"/><Relationship Id="rId18" Type="http://schemas.openxmlformats.org/officeDocument/2006/relationships/hyperlink" Target="http://ru.wikipedia.org/wiki/1931" TargetMode="External"/><Relationship Id="rId19" Type="http://schemas.openxmlformats.org/officeDocument/2006/relationships/hyperlink" Target="http://ru.wikipedia.org/wiki/1327_&#1075;&#1086;&#1076;" TargetMode="External"/><Relationship Id="rId20" Type="http://schemas.openxmlformats.org/officeDocument/2006/relationships/hyperlink" Target="http://ru.wikipedia.org/wiki/1931" TargetMode="External"/><Relationship Id="rId21" Type="http://schemas.openxmlformats.org/officeDocument/2006/relationships/hyperlink" Target="http://ru.wikipedia.org/wiki/&#1043;&#1086;&#1088;&#1086;&#1076;" TargetMode="External"/><Relationship Id="rId22" Type="http://schemas.openxmlformats.org/officeDocument/2006/relationships/hyperlink" Target="http://ru.wikipedia.org/wiki/1304" TargetMode="External"/><Relationship Id="rId23" Type="http://schemas.openxmlformats.org/officeDocument/2006/relationships/hyperlink" Target="http://ru.wikipedia.org/wiki/&#1043;&#1086;&#1088;&#1086;&#1076;" TargetMode="External"/><Relationship Id="rId24" Type="http://schemas.openxmlformats.org/officeDocument/2006/relationships/hyperlink" Target="http://ru.wikipedia.org/wiki/1931" TargetMode="External"/><Relationship Id="rId25" Type="http://schemas.openxmlformats.org/officeDocument/2006/relationships/hyperlink" Target="http://ru.wikipedia.org/wiki/&#1043;&#1086;&#1088;&#1086;&#1076;" TargetMode="External"/><Relationship Id="rId26" Type="http://schemas.openxmlformats.org/officeDocument/2006/relationships/hyperlink" Target="http://ru.wikipedia.org/wiki/1485_&#1075;&#1086;&#1076;" TargetMode="External"/><Relationship Id="rId27" Type="http://schemas.openxmlformats.org/officeDocument/2006/relationships/hyperlink" Target="http://ru.wikipedia.org/wiki/&#1043;&#1086;&#1088;&#1086;&#1076;" TargetMode="External"/><Relationship Id="rId28" Type="http://schemas.openxmlformats.org/officeDocument/2006/relationships/hyperlink" Target="http://ru.wikipedia.org/wiki/&#1043;&#1086;&#1088;&#1086;&#1076;_&#1074;&#1086;&#1080;&#1085;&#1089;&#1082;&#1086;&#1081;_&#1089;&#1083;&#1072;&#1074;&#1099;" TargetMode="External"/><Relationship Id="rId29" Type="http://schemas.openxmlformats.org/officeDocument/2006/relationships/hyperlink" Target="http://ru.wikipedia.org/wiki/1796_&#1075;&#1086;&#1076;" TargetMode="External"/><Relationship Id="rId30" Type="http://schemas.openxmlformats.org/officeDocument/2006/relationships/hyperlink" Target="http://ru.wikipedia.org/wiki/&#1043;&#1086;&#1088;&#1086;&#1076;_&#1074;&#1086;&#1080;&#1085;&#1089;&#1082;&#1086;&#1081;_&#1089;&#1083;&#1072;&#1074;&#1099;" TargetMode="External"/><Relationship Id="rId31" Type="http://schemas.openxmlformats.org/officeDocument/2006/relationships/hyperlink" Target="http://ru.wikipedia.org/wiki/&#1043;&#1086;&#1088;&#1086;&#1076;" TargetMode="External"/><Relationship Id="rId32" Type="http://schemas.openxmlformats.org/officeDocument/2006/relationships/hyperlink" Target="http://ru.wikipedia.org/wiki/&#1058;&#1074;&#1077;&#1088;&#1089;&#1082;&#1072;&#1103;_&#1075;&#1091;&#1073;&#1077;&#1088;&#1085;&#1080;&#1103;" TargetMode="External"/><Relationship Id="rId33" Type="http://schemas.openxmlformats.org/officeDocument/2006/relationships/hyperlink" Target="http://ru.wikipedia.org/wiki/&#1043;&#1086;&#1088;&#1086;&#1076;" TargetMode="External"/><Relationship Id="rId34" Type="http://schemas.openxmlformats.org/officeDocument/2006/relationships/hyperlink" Target="http://ru.wikipedia.org/wiki/1935_&#1075;&#1086;&#1076;" TargetMode="External"/><Relationship Id="rId35" Type="http://schemas.openxmlformats.org/officeDocument/2006/relationships/hyperlink" Target="http://ru.wikipedia.org/wiki/&#1043;&#1086;&#1088;&#1086;&#1076;" TargetMode="External"/><Relationship Id="rId36" Type="http://schemas.openxmlformats.org/officeDocument/2006/relationships/hyperlink" Target="http://ru.wikipedia.org/wiki/&#1050;&#1072;&#1083;&#1080;&#1085;&#1080;&#1085;&#1089;&#1082;&#1072;&#1103;_&#1086;&#1073;&#1083;&#1072;&#1089;&#1090;&#1100;" TargetMode="External"/><Relationship Id="rId37" Type="http://schemas.openxmlformats.org/officeDocument/2006/relationships/hyperlink" Target="http://ru.wikipedia.org/wiki/&#1043;&#1086;&#1088;&#1086;&#1076;" TargetMode="External"/><Relationship Id="rId38" Type="http://schemas.openxmlformats.org/officeDocument/2006/relationships/hyperlink" Target="http://ru.wikipedia.org/wiki/&#1058;&#1074;&#1077;&#1088;&#1089;&#1082;&#1072;&#1103;_&#1086;&#1073;&#1083;&#1072;&#1089;&#1090;&#1100;" TargetMode="External"/><Relationship Id="rId39" Type="http://schemas.openxmlformats.org/officeDocument/2006/relationships/hyperlink" Target="http://ru.wikipedia.org/wiki/&#1043;&#1086;&#1088;&#1086;&#1076;" TargetMode="External"/><Relationship Id="rId40" Type="http://schemas.openxmlformats.org/officeDocument/2006/relationships/hyperlink" Target="http://ru.wikipedia.org/wiki/1941_&#1075;&#1086;&#1076;" TargetMode="External"/><Relationship Id="rId41" Type="http://schemas.openxmlformats.org/officeDocument/2006/relationships/hyperlink" Target="http://ru.wikipedia.org/wiki/&#1043;&#1086;&#1088;&#1086;&#1076;" TargetMode="External"/><Relationship Id="rId42" Type="http://schemas.openxmlformats.org/officeDocument/2006/relationships/hyperlink" Target="http://ru.wikipedia.org/wiki/&#1054;&#1088;&#1076;&#1077;&#1085;_&#1058;&#1088;&#1091;&#1076;&#1086;&#1074;&#1086;&#1075;&#1086;_&#1050;&#1088;&#1072;&#1089;&#1085;&#1086;&#1075;&#1086;_&#1047;&#1085;&#1072;&#1084;&#1077;&#1085;&#1080;" TargetMode="External"/><Relationship Id="rId43" Type="http://schemas.openxmlformats.org/officeDocument/2006/relationships/hyperlink" Target="http://ru.wikipedia.org/wiki/&#1043;&#1086;&#1088;&#1086;&#1076;" TargetMode="External"/><Relationship Id="rId44" Type="http://schemas.openxmlformats.org/officeDocument/2006/relationships/hyperlink" Target="http://ru.wikipedia.org/wiki/&#1059;&#1082;&#1072;&#1079;_&#1055;&#1088;&#1077;&#1079;&#1080;&#1076;&#1077;&#1085;&#1090;&#1072;_&#1056;&#1086;&#1089;&#1089;&#1080;&#1081;&#1089;&#1082;&#1086;&#1081;_&#1060;&#1077;&#1076;&#1077;&#1088;&#1072;&#1094;&#1080;&#1080;" TargetMode="External"/><Relationship Id="rId45" Type="http://schemas.openxmlformats.org/officeDocument/2006/relationships/hyperlink" Target="http://ru.wikipedia.org/wiki/&#1043;&#1086;&#1088;&#1086;&#1076;" TargetMode="External"/><Relationship Id="rId46" Type="http://schemas.openxmlformats.org/officeDocument/2006/relationships/hyperlink" Target="http://ru.wikipedia.org/wiki/&#1052;&#1077;&#1076;&#1074;&#1077;&#1076;&#1077;&#1074;,_&#1044;&#1084;&#1080;&#1090;&#1088;&#1080;&#1081;_&#1040;&#1085;&#1072;&#1090;&#1086;&#1083;&#1100;&#1077;&#1074;&#1080;&#1095;" TargetMode="External"/><Relationship Id="rId47" Type="http://schemas.openxmlformats.org/officeDocument/2006/relationships/hyperlink" Target="http://ru.wikipedia.org/wiki/&#1043;&#1086;&#1088;&#1086;&#1076;" TargetMode="External"/><Relationship Id="rId48" Type="http://schemas.openxmlformats.org/officeDocument/2006/relationships/hyperlink" Target="http://ru.wikipedia.org/wiki/4_&#1085;&#1086;&#1103;&#1073;&#1088;&#1103;" TargetMode="External"/><Relationship Id="rId49" Type="http://schemas.openxmlformats.org/officeDocument/2006/relationships/hyperlink" Target="http://ru.wikipedia.org/wiki/&#1043;&#1086;&#1088;&#1086;&#1076;" TargetMode="External"/><Relationship Id="rId50" Type="http://schemas.openxmlformats.org/officeDocument/2006/relationships/hyperlink" Target="http://ru.wikipedia.org/wiki/2010_&#1075;&#1086;&#1076;" TargetMode="External"/><Relationship Id="rId51" Type="http://schemas.openxmlformats.org/officeDocument/2006/relationships/hyperlink" Target="http://ru.wikipedia.org/wiki/&#1043;&#1086;&#1088;&#1086;&#1076;" TargetMode="External"/><Relationship Id="rId52" Type="http://schemas.openxmlformats.org/officeDocument/2006/relationships/hyperlink" Target="http://ru.wikipedia.org/wiki/1931" TargetMode="External"/><Relationship Id="rId53" Type="http://schemas.openxmlformats.org/officeDocument/2006/relationships/hyperlink" Target="http://ru.wikipedia.org/wiki/&#1043;&#1086;&#1088;&#1086;&#1076;_&#1074;&#1086;&#1080;&#1085;&#1089;&#1082;&#1086;&#1081;_&#1089;&#1083;&#1072;&#1074;&#1099;" TargetMode="External"/><Relationship Id="rId54" Type="http://schemas.openxmlformats.org/officeDocument/2006/relationships/hyperlink" Target="http://ru.wikipedia.org/wiki/1931" TargetMode="External"/><Relationship Id="rId5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3" descr=""/>
          <p:cNvPicPr/>
          <p:nvPr/>
        </p:nvPicPr>
        <p:blipFill>
          <a:blip r:embed="rId2"/>
          <a:stretch/>
        </p:blipFill>
        <p:spPr>
          <a:xfrm>
            <a:off x="1096920" y="1511280"/>
            <a:ext cx="7016760" cy="2908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2286000" y="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12-2013 учебный год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6643800" y="564372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аботу выполни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удряшов Андр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ая групп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0" y="-103320"/>
            <a:ext cx="914400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Героизм комсомольца Шевляк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…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Медлить было нельзя. И тогда комсомолец Шевляков бросился на пулемет и грудью закрыл амбразуру дзота. Вражеский пулемет захлебнулся. Бойцы взвода воспользовались этим моментом и немедленно ворвались в село. Фашистский гарнизон был разгромле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5 мая 1942 года Указом Президиума Верховного Совета СССР Шевлякову Николаю Степановичу посмертно присвоено звание Героя Советского Союза. Комсомолец-герой родился в 1913 году в селе Козловка Козловского района Воронежской области. В армию призван в 1941 году. Мать героя живет в селе Козлов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Рисунок 4" descr=""/>
          <p:cNvPicPr/>
          <p:nvPr/>
        </p:nvPicPr>
        <p:blipFill>
          <a:blip r:embed="rId1"/>
          <a:stretch/>
        </p:blipFill>
        <p:spPr>
          <a:xfrm>
            <a:off x="6102360" y="4357800"/>
            <a:ext cx="304164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0" y="2448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15 декабря 30-я армия освободила город Клин. Кольцо окружения вокруг города все время сужалось. Штурм города начался в три часа тридцать минут ночи. С севера, юго-запада и юго-востока наступали части 29-й и 31-й армий. В результате штурма к 11 часам утра 16 декабря батальон старшего лейтенанта Степаненко 256-й дивизии вместе с курсантами ворвался в город. Штурмуя город, советские воины проявили образцы храбрости и героизма. Не выдержав стремительного штурма советских воинов, бросая боевую технику и вооружение, неся огромные потери, гитлеровцы поспешно откатывались на запад в направлении Старицы, Рже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429000" y="5170320"/>
            <a:ext cx="246708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6000840" y="4500720"/>
            <a:ext cx="2833560" cy="21254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"/>
          <p:cNvSpPr/>
          <p:nvPr/>
        </p:nvSpPr>
        <p:spPr>
          <a:xfrm>
            <a:off x="0" y="664920"/>
            <a:ext cx="91440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Calibri"/>
              </a:rPr>
              <a:t>16 декабря - день освобождения   города Калини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от немецко-фашистских захватчиков. Калинин был первым областным центром, освобожденным в ходе Московской битвы, ставшей началом разгрома гитлеровских войск, первым шагом к Великой Победе. Навсегда в нашей памяти останутся имена тех, кто защищал и освобождал Тверской край от ненавистного врага. Мужество и героизм советских воинов, их беззаветная преданность Отчизне и сегодня являются могучим нравственным фактором, верным ориентиром в воспитании молодого поколения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Особые слова благодарности в этот знаменательный день - солдатам великой войны и труженикам тыла. Мы восхищаемся вашими мужеством, волей, силой и самопожертвованием, которые помогли победить врага, вернуть стране экономическую мощь, возродить наш родной город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Спасибо за ваш ратный подвиг и великий труд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за ваш незабываемый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имер истин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c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тойкости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и патриот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0" y="3132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Сколько времени минуло с той поры, а отголоски Великой Отечественной живут в наших сердцах. Пожалуй, не найдется ни одной семьи, ни одного дома, где бы не побывала война, не оставила свой след, не осиротила. Но наш народ выстоял и победи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К сожалению, все меньше и меньше остается участников и свидетелей тех героических событий, но тем острее воспринимается все то, что было, тем дорож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нам те, кто жив и сегодн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рядом с нам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143760" y="5072040"/>
            <a:ext cx="2523960" cy="1571760"/>
          </a:xfrm>
          <a:prstGeom prst="rect">
            <a:avLst/>
          </a:prstGeom>
          <a:ln w="0">
            <a:noFill/>
          </a:ln>
        </p:spPr>
      </p:pic>
      <p:pic>
        <p:nvPicPr>
          <p:cNvPr id="121" name="den_pobedy(2).mp3" descr=""/>
          <p:cNvPicPr/>
          <p:nvPr/>
        </p:nvPicPr>
        <p:blipFill>
          <a:blip r:embed="rId2"/>
          <a:stretch/>
        </p:blipFill>
        <p:spPr>
          <a:xfrm>
            <a:off x="542916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3"/>
          <p:cNvSpPr/>
          <p:nvPr/>
        </p:nvSpPr>
        <p:spPr>
          <a:xfrm>
            <a:off x="0" y="0"/>
            <a:ext cx="89298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2"/>
              </a:rPr>
              <a:t>Калинин ( ныне Тверь)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 —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4"/>
              </a:rPr>
              <a:t>город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5"/>
              </a:rPr>
              <a:t>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6"/>
              </a:rPr>
              <a:t>в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7"/>
              </a:rPr>
              <a:t>России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8"/>
              </a:rPr>
              <a:t>, расположенный на берегах реки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9"/>
              </a:rPr>
              <a:t>Волги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10"/>
              </a:rPr>
              <a:t> в районе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11"/>
              </a:rPr>
              <a:t>впадения в неё рек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12"/>
              </a:rPr>
              <a:t>Тьмаки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13"/>
              </a:rPr>
              <a:t> и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14"/>
              </a:rPr>
              <a:t>Тверцы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15"/>
              </a:rPr>
              <a:t>. Калинин основан в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16"/>
              </a:rPr>
              <a:t>1135 году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17"/>
              </a:rPr>
              <a:t> на стрелке реки Тьмаки, с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18"/>
              </a:rPr>
              <a:t>1247 года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19"/>
              </a:rPr>
              <a:t> — центр Тверского княжества; во время монголо-татарского ига стала одним из центров сопротивления (крупное восстание в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20"/>
              </a:rPr>
              <a:t>1327 году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21"/>
              </a:rPr>
              <a:t>) и соперничала с Москвой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22"/>
              </a:rPr>
              <a:t>за роль центра русских земель; в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23"/>
              </a:rPr>
              <a:t>1304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24"/>
              </a:rPr>
              <a:t> г. князь Михаил получил ярлык на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25"/>
              </a:rPr>
              <a:t>великое княжение, и с этого момента, вплоть до 1327 г. Калинин являлась столицей русских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26"/>
              </a:rPr>
              <a:t>земель, с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27"/>
              </a:rPr>
              <a:t>1485 года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28"/>
              </a:rPr>
              <a:t> в составе Московского государства (впоследствии — России).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29"/>
              </a:rPr>
              <a:t>С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30"/>
              </a:rPr>
              <a:t>1796 года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31"/>
              </a:rPr>
              <a:t>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32"/>
              </a:rPr>
              <a:t>по 1929 годы — центр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33"/>
              </a:rPr>
              <a:t>Тверской губернии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34"/>
              </a:rPr>
              <a:t>, а с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35"/>
              </a:rPr>
              <a:t>1935 года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36"/>
              </a:rPr>
              <a:t> — административный центр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37"/>
              </a:rPr>
              <a:t>Калининской области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38"/>
              </a:rPr>
              <a:t> (после 1990 года —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39"/>
              </a:rPr>
              <a:t>Тверской области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40"/>
              </a:rPr>
              <a:t>). С октября по декабрь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41"/>
              </a:rPr>
              <a:t>1941 года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42"/>
              </a:rPr>
              <a:t> город был оккупирован немецкими войсками, сильно пострадал во время оккупации и боевых действий. В 1971 году награждён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43"/>
              </a:rPr>
              <a:t>орденом Трудового Красного Знамени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44"/>
              </a:rPr>
              <a:t>.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45"/>
              </a:rPr>
              <a:t>Указом Президента Российской Федерации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46"/>
              </a:rPr>
              <a:t>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47"/>
              </a:rPr>
              <a:t>Дмитрия Анатольевича Медведева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48"/>
              </a:rPr>
              <a:t> от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49"/>
              </a:rPr>
              <a:t>4 ноября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50"/>
              </a:rPr>
              <a:t>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51"/>
              </a:rPr>
              <a:t>2010 года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52"/>
              </a:rPr>
              <a:t> городу Твери «за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53"/>
              </a:rPr>
              <a:t>мужество, стойкость и массовый героизм, проявленные защитниками города в борьбе за свободу и независимость Отечества» присвоено почётное звание Российской Федерации «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54"/>
              </a:rPr>
              <a:t>Город воинской слав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линин 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— крупный промышленный, научный и культурный центр, крупный транспортный узел на пересечении железнодорожной линии Санкт-Петербург — Москва и автомагистрали «Россия» с Верхней Волгой. Площадь территории города — 152,22 км²[1], административно город разделён на 4 района (Заволжский, Московский, Пролетарский, Центральный). Население города (по данным на 2010 год) насчитывает 410 400 человек. Городское самоуправление представлено Тверской городской Думой, главой города, избранным из состава её депутатов, и местной администраци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566640" y="-648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5357880" y="4929120"/>
            <a:ext cx="3333600" cy="158112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4"/>
          <p:cNvSpPr/>
          <p:nvPr/>
        </p:nvSpPr>
        <p:spPr>
          <a:xfrm>
            <a:off x="428760" y="4929120"/>
            <a:ext cx="4572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"И пред глазами сорок первый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незапно прерванный войной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рагу навстречу шли резервы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Запад, часто сразу в бой!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Ким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Добкин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642960" y="1214280"/>
            <a:ext cx="82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июне 1941 г. многое указывало на то, что Германия развернула подготовку к войне против Советского Союза. К границе подтягивались немецкие дивиз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714240" y="22147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3 июня 1941 г. было опубликовано знаменитое официальное заявление ТАСС. В нём опровергались «слухи о близости войны между СССР и Германией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оугольник 8"/>
          <p:cNvSpPr/>
          <p:nvPr/>
        </p:nvSpPr>
        <p:spPr>
          <a:xfrm>
            <a:off x="714240" y="321480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рассвете 22 июня, в один из самых длинных дней в году, Германия начала войну против Советского Союза. В 3 часа 30 минут части Красной армии были атакованы немецкими войсками на всём протяжении грани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holly_war.mp3" descr=""/>
          <p:cNvPicPr/>
          <p:nvPr/>
        </p:nvPicPr>
        <p:blipFill>
          <a:blip r:embed="rId3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0" y="1404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В начале октября 1941 года 3-я танковая группа Готта и 9-я армия Штрауса, поддержанные авиацией, прорвали оборону Западного фронта и начали наступление на Калинин. 12 октября немцы заняли город Зубцов и станцию Осуга. Днем большие колонны немецких войск двигались из Погорелого на Старицу и от Сычевки на Зубц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http://im8-tub.yandex.net/i?id=169013334-05"/>
          <p:cNvPicPr/>
          <p:nvPr/>
        </p:nvPicPr>
        <p:blipFill>
          <a:blip r:embed="rId1"/>
          <a:stretch/>
        </p:blipFill>
        <p:spPr>
          <a:xfrm>
            <a:off x="4143240" y="3143160"/>
            <a:ext cx="421488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0" y="205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Учитывая опасность захвата немцами города Калинина, командование Западного фронта 12 октября перебросило три эшелона 5-й дивизии в Калинин в распоряжение 30-й армии, штаб которой размещался в лесу северо-западнее Завидова, а оперативная группа находилась в Калинине и руководила боем. Части 5-й дивизии по мере прибытия с ходу занимали оборону на юго-западной окраине города и вступали в бой. 13 октября были погружены на автомашины и срочно отправлены в Калинин два стрелковых и артиллерийский полки 256-й дивизии. Однако десант немецких парашютистов днем 13 октября взорвал мост через Волгу у Старицы. Это задержало подход советских войск в Калини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3" descr="http://im0-tub.yandex.net/i?id=79586230-04"/>
          <p:cNvPicPr/>
          <p:nvPr/>
        </p:nvPicPr>
        <p:blipFill>
          <a:blip r:embed="rId1"/>
          <a:stretch/>
        </p:blipFill>
        <p:spPr>
          <a:xfrm>
            <a:off x="4929120" y="4214880"/>
            <a:ext cx="357336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0" y="-16560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недельник 13 октября калининцы запомнили надолго. Вражеская авиация массированными налетами неоднократно бомбила город и расстреливала из пулеметов мирное население. В городе возникли большие пожары. Калининцы с детьми, забрав кое-что из своих вещей, покидали родной город. По проселочным дорогам и лесным тропам потянулись вереницы беженцев подальше от убийц и грабителей. В тот же лень немцы произвели интенсивный артиллерийский обстрел западной окраины города из района Черкасово, а в 18 30 немецкие танковые части, прорвав оборону на участке 142-го полка 5-й стрелковой дивизии в районе деревни Мигалово ворвались в горо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" descr="http://im6-tub.yandex.net/i?id=43946026-14"/>
          <p:cNvPicPr/>
          <p:nvPr/>
        </p:nvPicPr>
        <p:blipFill>
          <a:blip r:embed="rId1"/>
          <a:stretch/>
        </p:blipFill>
        <p:spPr>
          <a:xfrm>
            <a:off x="4500720" y="3929040"/>
            <a:ext cx="46432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0" y="2268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Истребительный отряд народного ополчения, сформированный в городе под командой старшего лейтенанта погранвойск тов. Долгорука, вел бой с фашистами в Первомайской роще, а затем у железной дороги. Много гитлеровцев было уничтожено. Но и отряд понес потери. В бою за наш город пали смертью храбрых комсомольцы Борис Миронов и Александр Кузьмин, комиссар А. П. Питкевич и другие Геройски погиб на поле боя и командир отряда Тогда командование отрядом взял на себя коммунист Р. И. Низали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" descr="http://im4-tub.yandex.net/i?id=82288073-03"/>
          <p:cNvPicPr/>
          <p:nvPr/>
        </p:nvPicPr>
        <p:blipFill>
          <a:blip r:embed="rId1"/>
          <a:stretch/>
        </p:blipFill>
        <p:spPr>
          <a:xfrm>
            <a:off x="5448240" y="4429080"/>
            <a:ext cx="36957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0" y="1512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14 октября в город вошли основные вражеские силы. 14 и 15 октября части 5-й и 256-й дивизий 30-й армии вели напряженные бои с немецкой пехотой и танками. После упорных боев части 5-й дивизии вынуждены были отступить на юго-восточную окраину города и вели бой за Перемерки. Один полк дивизии переправился на левый берег Волги и занял оборону в районе деревни Ионово. Части 256-й дивизии отбивали атаки врага у Затверецкого моста, закрыв шоссе на Бежецк. Следует сказать следующее — если на территории области были созданы укрепрайоны, обусловившие успех боя с врагом, то город Калинин не был подготовлен к обороне. Никаких оборонительных сооружений на подступах к городу и на его улицах заранее никто не строил. Это облегчило немцам задачу с ходу ворваться в Калинин и занять ег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Рисунок 4" descr=""/>
          <p:cNvPicPr/>
          <p:nvPr/>
        </p:nvPicPr>
        <p:blipFill>
          <a:blip r:embed="rId1"/>
          <a:stretch/>
        </p:blipFill>
        <p:spPr>
          <a:xfrm>
            <a:off x="1928880" y="3500280"/>
            <a:ext cx="514332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0" y="1836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Немцы, заняв Калинин, превратили его в один из крупных и сильных укрепрайонов. Они сосредоточили здесь большое количество техники, многочисленные войска. Фашистские генералы принимали все меры, чтобы удержать город в своих руках. Отсюда они поддерживали свои полчища, наступавшие на Москву, охраняя их левый фланг. Здесь они думали на теплых квартирах восстановить силы своих измотанных в боях дивизий. Но все их расчеты провалилис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3" descr="http://im2-tub.yandex.net/i?id=152159285-04"/>
          <p:cNvPicPr/>
          <p:nvPr/>
        </p:nvPicPr>
        <p:blipFill>
          <a:blip r:embed="rId1"/>
          <a:stretch/>
        </p:blipFill>
        <p:spPr>
          <a:xfrm>
            <a:off x="2428920" y="4000680"/>
            <a:ext cx="3827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08:04Z</dcterms:created>
  <dc:creator>Андрей</dc:creator>
  <dc:description/>
  <dc:language>en-US</dc:language>
  <cp:lastModifiedBy>пк</cp:lastModifiedBy>
  <dcterms:modified xsi:type="dcterms:W3CDTF">2014-01-23T09:53:40Z</dcterms:modified>
  <cp:revision>35</cp:revision>
  <dc:subject/>
  <dc:title>Слайд 1</dc:title>
</cp:coreProperties>
</file>