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B0BC-CECA-4E0F-97E5-CA23D8D75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F1ED-4175-4D01-997D-112CF0DE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B6A9-6A12-400D-8044-9DE865ED0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3B61-EDDA-48E2-B631-2BF188DE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76B9-1185-4373-9843-F4669330D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201C-E9AB-4E60-AB2C-1FC1C0B3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6DDF-93A0-41B3-8967-468D9BC0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12651-6B1D-4721-9B25-25D0D59B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43AD-CFE5-4626-8114-93F3D920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C8A1-235E-4929-AB4E-8A84C0FC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2F6E-23D0-43DD-ADD3-B813BE97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4FBF-5D51-41F1-95C3-5C481652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DC6C-62D2-4290-8C8F-1B0B82CA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F04F-873C-42EA-A124-751680AA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0EE2-4006-4006-A844-46DDDE97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908D-2276-44DB-88FA-4EF206339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6E32-B1F0-4575-B913-FBEB20A91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07C2-B425-43F8-A19E-88306D5C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A217-851D-46C9-98C0-90CDEF46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451C-877C-449B-9AA4-A5EEE84B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DA2B-5E98-4403-AC37-CF445006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411E-94B7-4BEF-9672-E060AA01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12B3-17D4-4501-9207-E891D79E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7542-B071-4B01-AB1D-54A79C4E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871A-C41F-4DF5-BC87-EEF7EA1F34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9B6F-E3A1-46B1-806B-855CC0069B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219640" y="5229360"/>
            <a:ext cx="39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59280" y="5305320"/>
            <a:ext cx="39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ок в 9 классе     Учитель православной культуры:             Ведутенко М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050920" y="115920"/>
            <a:ext cx="4716720" cy="62881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443640" y="5300640"/>
            <a:ext cx="270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тр и Феврони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. Ярослав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11640" cy="6858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4175280" y="0"/>
            <a:ext cx="496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539640" y="170028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Цели урока: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дача подрастающим поколениям ключевых представлений о нашей национальной идентич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ние ценностных идеалов и ориентир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спитание ценностных ориентиров в семейных отношения на примере жизни святых Петра и Феврон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 rot="20680800">
            <a:off x="539640" y="691920"/>
            <a:ext cx="5695920" cy="36860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195640" y="4653000"/>
            <a:ext cx="662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Любовь нашей семьи столь велика, что близкие всегда придут нам на помощь, оберегут от опасностей, подскажут, как следует поступи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4032360" cy="5445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457880" y="692280"/>
            <a:ext cx="441612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167360" cy="5715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572000" y="333360"/>
            <a:ext cx="4321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вятые благоверные супруги Петр и Феврония Муромские являются покровителями семейных отношений. Своей жизнью они отразили духовные ценности и идеалы Святой Рус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6985080" cy="49435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11280" y="5084640"/>
            <a:ext cx="79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 нового праздника очень нежный символ - ромашка. Ромашка — это самый известный и распространенный цветок в России. Также в России издревле, ромашка — это символ любв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704000" cy="51656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900000" y="508464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града, приуроченная ко Дню семьи, любви и верности - медаль за любовь и верно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4072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284720" y="115920"/>
            <a:ext cx="44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16360" y="189000"/>
            <a:ext cx="37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вято-Троицкий женский монастырь города Муро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9T18:15:11Z</dcterms:created>
  <dc:creator>User</dc:creator>
  <dc:description/>
  <dc:language>en-US</dc:language>
  <cp:lastModifiedBy>User</cp:lastModifiedBy>
  <dcterms:modified xsi:type="dcterms:W3CDTF">2011-06-09T18:47:50Z</dcterms:modified>
  <cp:revision>3</cp:revision>
  <dc:subject/>
  <dc:title>Слайд 1</dc:title>
</cp:coreProperties>
</file>