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CA8-A95C-44CE-ABCD-43D2BD44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F6B-C521-4E32-8CC6-E9E2C329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A5F-896E-42B4-8D3B-793AD336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01BD-1CCD-4CA2-948C-E1AF925C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D848-01D3-4FF6-B752-6911FED1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3242-6926-41C5-ADA4-2D6F22A7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3E0B-FABA-4C2C-B4C8-89DF87FD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EEF6-2723-43F5-8BAE-CE2AD216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92BE-81B2-4408-B667-63B84715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E0DC-91AE-4CB1-B6AC-65976DB4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3278-A860-41DE-A540-E8D01CFB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806E-35A4-4D1D-9D5D-D7CC12AF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713A-3E57-4000-BFE1-B773120A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AD75-FADE-43CF-B3C8-B9E142CA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5AA4-E409-4036-A04E-84DFBAD1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23E3-A432-4CCF-ABBC-D24BE0AB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85DD-0DB9-4EFC-ADDD-6E15913F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624-95CE-4901-B8A8-51F2649D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CDD8-5E6F-4B70-866A-655EAFCD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AC9-D7D9-47EA-B476-B38AE933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1F4-7BD2-405C-A3AA-91C30CE5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E6B-A02A-43C6-A50A-A6C35D83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1C8-F23F-4F06-8BC7-0B5AC416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2BC-7F03-4966-80FF-6DACA6FE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DD54-FE86-4264-B77D-23B7F237B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748A-9D02-4960-884A-65A3E2126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219640" y="5229360"/>
            <a:ext cx="39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59280" y="530532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к в 9 классе     Учитель православной культуры:             Ведутенко М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4716720" cy="6288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43640" y="5300640"/>
            <a:ext cx="27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тр и Февро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. Ярослав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17528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39640" y="170028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ли урока: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а подрастающим поколениям ключевых представлений о нашей национальной идентич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ценностных идеалов и ориентир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ценностных ориентиров в семейных отношения на примере жизни святых Петра и Февро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 rot="20680800">
            <a:off x="539640" y="691920"/>
            <a:ext cx="5695920" cy="36860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195640" y="4653000"/>
            <a:ext cx="66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юбовь нашей семьи столь велика, что близкие всегда придут нам на помощь, оберегут от опасностей, подскажут, как следует посту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4032360" cy="5445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457880" y="692280"/>
            <a:ext cx="441612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167360" cy="5715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572000" y="333360"/>
            <a:ext cx="432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ятые благоверные супруги Петр и Феврония Муромские являются покровителями семейных отношений. Своей жизнью они отразили духовные ценности и идеалы Святой Рус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985080" cy="4943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" y="5084640"/>
            <a:ext cx="79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нового праздника очень нежный символ - ромашка. Ромашка — это самый известный и распространенный цветок в России. Также в России издревле, ромашка — это символ любв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704000" cy="5165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00000" y="508464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града, приуроченная ко Дню семьи, любви и верности - медаль за любовь и верно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4072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284720" y="11592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16360" y="18900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вято-Троицкий женский монастырь города Мур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18:15:11Z</dcterms:created>
  <dc:creator>User</dc:creator>
  <dc:description/>
  <dc:language>en-US</dc:language>
  <cp:lastModifiedBy>User</cp:lastModifiedBy>
  <dcterms:modified xsi:type="dcterms:W3CDTF">2011-06-09T18:47:50Z</dcterms:modified>
  <cp:revision>3</cp:revision>
  <dc:subject/>
  <dc:title>Слайд 1</dc:title>
</cp:coreProperties>
</file>