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clap.wav" ContentType="audio/x-wav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065-0B20-4D8A-89A2-C665D3D2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49B-08FE-4F5C-AED8-CB3BF6E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0FB-2E43-4D76-990A-9BCD839B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ED3-59F8-4B4F-B265-7C428396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0B84-82FA-435E-B168-B4A1323C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F58C-D4F4-4D32-9E70-05B21AF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324E-B1CB-4871-8EF6-34266745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BDF-EAEF-4BF9-8718-3EB0E67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69D0-5B58-4C97-8819-EDC29E4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982A-87DB-4777-914C-A0777AB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DF46-59B2-4B8E-AC65-1FDA59E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E6C-58C5-438F-86F5-D5FC735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3539-BBCF-42DF-9012-7A61D043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72CE-B78D-4B08-86D0-CC5756C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A76-505E-4F18-93EB-0DC28A59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8543-9DCB-47BF-9980-DC5199CD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0755-46C7-46BB-9F3B-4FA33799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215-422B-4E54-A91B-5F329DC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548-9915-4B6D-8D49-D78F3160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62D-728B-46B1-B105-60F0129E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887-2E8C-4CC7-880C-70096D4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BEE-557E-4D77-A4CF-FBC7539E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812-3D0B-4137-A928-E3C060D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346-16FE-44AF-8C12-B34DFE35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075-4B5E-4EA3-9DC0-1DB79CB0F17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926-237B-44F5-A4C0-9107FD3A04D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569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Квадратичная функция. Построение графика квадратичной функции.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9600" y="2438280"/>
            <a:ext cx="7626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к контроля и коррекции знаний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Основная дидактическая цель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ыявление уровня овладения учащимися комплексом знаний и ум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00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Благодарна всем ребятам ! За урок открытый наш! Пусть удача и желанья не покинут этот класс!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Вам желаю я успехов, громких вам аплодисментов!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Ирина Юрьевна.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50760" bIns="5076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Моё настроение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76644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0" y="2879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msotw9_temp0" descr=""/>
          <p:cNvPicPr/>
          <p:nvPr/>
        </p:nvPicPr>
        <p:blipFill>
          <a:blip r:embed="rId3"/>
          <a:srcRect l="53421" t="39789" r="28465" b="44994"/>
          <a:stretch/>
        </p:blipFill>
        <p:spPr>
          <a:xfrm>
            <a:off x="1447920" y="1828800"/>
            <a:ext cx="2133360" cy="2152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72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sotw9_temp0" descr=""/>
          <p:cNvPicPr/>
          <p:nvPr/>
        </p:nvPicPr>
        <p:blipFill>
          <a:blip r:embed="rId4">
            <a:biLevel thresh="50000"/>
            <a:lum bright="-18000"/>
          </a:blip>
          <a:srcRect l="51399" t="0" r="10946" b="0"/>
          <a:stretch/>
        </p:blipFill>
        <p:spPr>
          <a:xfrm>
            <a:off x="3352680" y="3962520"/>
            <a:ext cx="1828800" cy="213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2424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sotw9_temp0" descr=""/>
          <p:cNvPicPr/>
          <p:nvPr/>
        </p:nvPicPr>
        <p:blipFill>
          <a:blip r:embed="rId5">
            <a:biLevel thresh="50000"/>
            <a:lum bright="-18000"/>
          </a:blip>
          <a:srcRect l="6224" t="11233" r="58318" b="7555"/>
          <a:stretch/>
        </p:blipFill>
        <p:spPr>
          <a:xfrm>
            <a:off x="5257800" y="1905120"/>
            <a:ext cx="1676520" cy="225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9144000" y="2701440"/>
            <a:ext cx="422424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068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msotw9_temp0" descr=""/>
          <p:cNvPicPr/>
          <p:nvPr/>
        </p:nvPicPr>
        <p:blipFill>
          <a:blip r:embed="rId6">
            <a:biLevel thresh="50000"/>
            <a:lum bright="-12000"/>
          </a:blip>
          <a:srcRect l="23925" t="39597" r="52203" b="44904"/>
          <a:stretch/>
        </p:blipFill>
        <p:spPr>
          <a:xfrm>
            <a:off x="7010280" y="3733920"/>
            <a:ext cx="1828800" cy="2361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828800" y="5029200"/>
            <a:ext cx="380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191120" y="2133720"/>
            <a:ext cx="495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2767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91320" y="4952880"/>
            <a:ext cx="4572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03848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05920" y="20574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29718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962520"/>
            <a:ext cx="457200" cy="990360"/>
          </a:xfrm>
          <a:prstGeom prst="upArrow">
            <a:avLst>
              <a:gd name="adj1" fmla="val 50000"/>
              <a:gd name="adj2" fmla="val 54154"/>
            </a:avLst>
          </a:prstGeom>
          <a:solidFill>
            <a:srgbClr val="996633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6633"/>
                </a:solidFill>
                <a:latin typeface="Times New Roman"/>
              </a:rPr>
              <a:t>Математическое кафе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79600" y="1981080"/>
            <a:ext cx="25588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19360" y="1752120"/>
            <a:ext cx="4686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Меню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а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Первые блю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Вторые блю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ладкие блюда и напи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Десер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Шеф-повар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                 </a:t>
            </a:r>
            <a:r>
              <a:rPr b="1" i="1" lang="ru-RU" sz="2800" spc="-1" strike="noStrike">
                <a:solidFill>
                  <a:srgbClr val="993366"/>
                </a:solidFill>
                <a:latin typeface="Georgia"/>
              </a:rPr>
              <a:t>И.Ю.Широ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621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Салаты</a:t>
            </a:r>
            <a:r>
              <a:rPr b="0" i="1" lang="ru-RU" sz="6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5496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2742840"/>
            <a:ext cx="4190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Работаем в группе: лист № 1. 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Время работы 2 - 3 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Работаем в паре: лист № 2 (1 и 2 задание).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</a:rPr>
              <a:t> Время работы 3 – 4 м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242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sotw9_temp0" descr=""/>
          <p:cNvPicPr/>
          <p:nvPr/>
        </p:nvPicPr>
        <p:blipFill>
          <a:blip r:embed="rId3"/>
          <a:srcRect l="3955" t="16967" r="3738" b="4983"/>
          <a:stretch/>
        </p:blipFill>
        <p:spPr>
          <a:xfrm>
            <a:off x="457200" y="205740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ервые блюда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76560" y="2133360"/>
            <a:ext cx="4228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Times New Roman"/>
              </a:rPr>
              <a:t>Фронтальная работа с классом: лист № 2 (3 и 4 зада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msotw9_temp0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Первые блюда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877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Схема построения графика квадратичной фун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строить вершину параболы О</a:t>
            </a:r>
            <a:r>
              <a:rPr b="1" lang="ru-RU" sz="28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/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х</a:t>
            </a:r>
            <a:r>
              <a:rPr b="1" lang="ru-RU" sz="2800" spc="-1" strike="noStrike" baseline="-30000">
                <a:solidFill>
                  <a:srgbClr val="cc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; у</a:t>
            </a:r>
            <a:r>
              <a:rPr b="1" lang="ru-RU" sz="2800" spc="-1" strike="noStrike" baseline="-30000">
                <a:solidFill>
                  <a:srgbClr val="cc0000"/>
                </a:solidFill>
                <a:latin typeface="Times New Roman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вести через вершину параболы прямую, параллельную оси ОУ, - ось симметрии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араболы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йти нули функции, если они есть, и построить на оси ОХ соответствующие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Дополнительные т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овести через построенные точки парабол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msotw9_temp0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048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Вторые блюда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360" y="19810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Работа с классом по схеме построения графика функции, чтение графиков (по выбору учащегос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Индивидуальная работа на компьютере: построение графика квадратичной функции в </a:t>
            </a:r>
            <a:r>
              <a:rPr b="1" lang="en-US" sz="2800" spc="-1" strike="noStrike">
                <a:solidFill>
                  <a:srgbClr val="993366"/>
                </a:solidFill>
                <a:latin typeface="Times New Roman"/>
              </a:rPr>
              <a:t>Microsoft Excel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свойства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msotw9_temp0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Сладкие блюда и напитки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419112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Подведение ито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самостоятельной рабо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Подведение итогов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msotw9_temp0" descr=""/>
          <p:cNvPicPr/>
          <p:nvPr/>
        </p:nvPicPr>
        <p:blipFill>
          <a:blip r:embed="rId3"/>
          <a:srcRect l="0" t="3706" r="0" b="0"/>
          <a:stretch/>
        </p:blipFill>
        <p:spPr>
          <a:xfrm>
            <a:off x="685800" y="19810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6633"/>
                </a:solidFill>
                <a:latin typeface="Times New Roman"/>
              </a:rPr>
              <a:t>Десерт</a:t>
            </a:r>
            <a:r>
              <a:rPr b="1" i="1" lang="ru-RU" sz="6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666880" cy="411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66"/>
                </a:solidFill>
                <a:latin typeface="Times New Roman"/>
              </a:rPr>
              <a:t>Кроссворд – переплетение слов (крестословица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8000"/>
                </a:solidFill>
                <a:latin typeface="Times New Roman"/>
              </a:rPr>
              <a:t>Чтобы разгадать кроссворд, надо слова, значения которых указаны в условии, записать по одной букве в каждую клетку фигуры, начиная с пронумерованной клетки и заканчивая последней пустой, отдельно по вертикали  и отдельно по горизонтал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0504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sotw9_temp0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4:18:17Z</dcterms:created>
  <dc:creator>user</dc:creator>
  <dc:description/>
  <dc:language>en-US</dc:language>
  <cp:lastModifiedBy>1</cp:lastModifiedBy>
  <dcterms:modified xsi:type="dcterms:W3CDTF">2014-01-22T22:26:19Z</dcterms:modified>
  <cp:revision>79</cp:revision>
  <dc:subject/>
  <dc:title>Квадратичная функция. Построение графика квадратичной функции.</dc:title>
</cp:coreProperties>
</file>