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clap.wav" ContentType="audio/x-wav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07E-1E99-459C-ACDE-094BD96C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E28-32A6-49F8-AB79-A327B9D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DED-FA8A-4F21-AF5F-0591389B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135-70A8-4F96-9EC8-C0349A36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7F06-7EEC-49E9-83BC-BDD5A290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9A12-0515-4BCE-ACE2-95E0158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44D-EBB4-4407-8FFF-5C0F6E7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1579-F310-442B-AD34-7FDE053F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62F-3C78-4201-9EA5-A486EE70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5743-D480-4283-A3EC-27878E0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A59B-D2F6-4F96-A11E-BE051AD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F4A-7332-4A98-8326-6E438D0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B249-94A6-4EE6-BFC6-B481762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84FC-B514-4A50-96A2-610A0D4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84F4-8E33-46BC-ADF7-15D8A0B9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1456-1AEE-46C0-AAD2-32B87097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9392-1242-4DBF-A833-953D6F7C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948-0C87-45C2-ABBC-2DB4AD7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F71-74F4-43FC-97E6-4856915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F9A-7576-4BC2-85A1-C7B9B528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98C-86D8-41A3-BABD-8319F157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31E-3FCE-47DA-847C-100E158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C0D-5792-42B1-B911-B121B1E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9C8-A3EA-492A-B881-32F8327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952-B2F3-4B85-A056-BFA20474BCA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E356-F32C-44BF-A659-A77D84C76A88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569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вадратичная функция. Построение графика квадратичной функции.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9600" y="2438280"/>
            <a:ext cx="7626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к контроля и коррекции знаний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Основная дидактическая цель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ыявление уровня овладения учащимися комплексом знаний и ум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00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Благодарна всем ребятам ! За урок открытый наш! Пусть удача и желанья не покинут этот класс!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Вам желаю я успехов, громких вам аплодисментов!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Ирина Юрьевна.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50760" bIns="5076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Моё настроение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76644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0" y="2879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msotw9_temp0" descr=""/>
          <p:cNvPicPr/>
          <p:nvPr/>
        </p:nvPicPr>
        <p:blipFill>
          <a:blip r:embed="rId3"/>
          <a:srcRect l="53421" t="39789" r="28465" b="44994"/>
          <a:stretch/>
        </p:blipFill>
        <p:spPr>
          <a:xfrm>
            <a:off x="1447920" y="1828800"/>
            <a:ext cx="2133360" cy="2152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72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sotw9_temp0" descr=""/>
          <p:cNvPicPr/>
          <p:nvPr/>
        </p:nvPicPr>
        <p:blipFill>
          <a:blip r:embed="rId4">
            <a:biLevel thresh="50000"/>
            <a:lum bright="-18000"/>
          </a:blip>
          <a:srcRect l="51399" t="0" r="10946" b="0"/>
          <a:stretch/>
        </p:blipFill>
        <p:spPr>
          <a:xfrm>
            <a:off x="3352680" y="3962520"/>
            <a:ext cx="1828800" cy="213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2424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sotw9_temp0" descr=""/>
          <p:cNvPicPr/>
          <p:nvPr/>
        </p:nvPicPr>
        <p:blipFill>
          <a:blip r:embed="rId5">
            <a:biLevel thresh="50000"/>
            <a:lum bright="-18000"/>
          </a:blip>
          <a:srcRect l="6224" t="11233" r="58318" b="7555"/>
          <a:stretch/>
        </p:blipFill>
        <p:spPr>
          <a:xfrm>
            <a:off x="5257800" y="1905120"/>
            <a:ext cx="1676520" cy="225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9144000" y="2701440"/>
            <a:ext cx="422424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068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msotw9_temp0" descr=""/>
          <p:cNvPicPr/>
          <p:nvPr/>
        </p:nvPicPr>
        <p:blipFill>
          <a:blip r:embed="rId6">
            <a:biLevel thresh="50000"/>
            <a:lum bright="-12000"/>
          </a:blip>
          <a:srcRect l="23925" t="39597" r="52203" b="44904"/>
          <a:stretch/>
        </p:blipFill>
        <p:spPr>
          <a:xfrm>
            <a:off x="7010280" y="3733920"/>
            <a:ext cx="1828800" cy="2361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828800" y="5029200"/>
            <a:ext cx="380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91120" y="2133720"/>
            <a:ext cx="495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91320" y="4952880"/>
            <a:ext cx="4572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03848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05920" y="20574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29718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962520"/>
            <a:ext cx="457200" cy="990360"/>
          </a:xfrm>
          <a:prstGeom prst="upArrow">
            <a:avLst>
              <a:gd name="adj1" fmla="val 50000"/>
              <a:gd name="adj2" fmla="val 54154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6633"/>
                </a:solidFill>
                <a:latin typeface="Times New Roman"/>
              </a:rPr>
              <a:t>Математическое кафе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25588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19360" y="1752120"/>
            <a:ext cx="4686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Меню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а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ервые блю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Вторые блю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ладкие блюда и напи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Десер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Шеф-повар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                 </a:t>
            </a: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И.Ю.Широ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21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Салаты</a:t>
            </a:r>
            <a:r>
              <a:rPr b="0" i="1" lang="ru-RU" sz="6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5496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2742840"/>
            <a:ext cx="4190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Работаем в группе: лист № 1. 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Время работы 2 - 3 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Работаем в паре: лист № 2 (1 и 2 задание).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 Время работы 3 – 4 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242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sotw9_temp0" descr=""/>
          <p:cNvPicPr/>
          <p:nvPr/>
        </p:nvPicPr>
        <p:blipFill>
          <a:blip r:embed="rId3"/>
          <a:srcRect l="3955" t="16967" r="3738" b="4983"/>
          <a:stretch/>
        </p:blipFill>
        <p:spPr>
          <a:xfrm>
            <a:off x="457200" y="205740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ервые блюда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76560" y="2133360"/>
            <a:ext cx="4228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Фронтальная работа с классом: лист № 2 (3 и 4 зада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sotw9_temp0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ервые блюда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877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Схема построения графика квадратичной 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строить вершину параболы О</a:t>
            </a:r>
            <a:r>
              <a:rPr b="1" lang="ru-RU" sz="28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/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х</a:t>
            </a:r>
            <a:r>
              <a:rPr b="1" lang="ru-RU" sz="2800" spc="-1" strike="noStrike" baseline="-30000">
                <a:solidFill>
                  <a:srgbClr val="cc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; у</a:t>
            </a:r>
            <a:r>
              <a:rPr b="1" lang="ru-RU" sz="2800" spc="-1" strike="noStrike" baseline="-30000">
                <a:solidFill>
                  <a:srgbClr val="cc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вести через вершину параболы прямую, параллельную оси ОУ, - ось симметрии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араболы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йти нули функции, если они есть, и построить на оси ОХ соответствующие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Дополнительные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вести через построенные точки парабол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msotw9_temp0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Вторые блюда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36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Работа с классом по схеме построения графика функции, чтение графиков (по выбору учащегос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Индивидуальная работа на компьютере: построение графика квадратичной функции в </a:t>
            </a:r>
            <a:r>
              <a:rPr b="1" lang="en-US" sz="2800" spc="-1" strike="noStrike">
                <a:solidFill>
                  <a:srgbClr val="993366"/>
                </a:solidFill>
                <a:latin typeface="Times New Roman"/>
              </a:rPr>
              <a:t>Microsoft Excel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свойства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msotw9_temp0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Сладкие блюда и напитки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самостоятельной рабо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Подведение итогов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sotw9_temp0" descr=""/>
          <p:cNvPicPr/>
          <p:nvPr/>
        </p:nvPicPr>
        <p:blipFill>
          <a:blip r:embed="rId3"/>
          <a:srcRect l="0" t="3706" r="0" b="0"/>
          <a:stretch/>
        </p:blipFill>
        <p:spPr>
          <a:xfrm>
            <a:off x="6858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Десерт</a:t>
            </a: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66688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66"/>
                </a:solidFill>
                <a:latin typeface="Times New Roman"/>
              </a:rPr>
              <a:t>Кроссворд – переплетение слов (крестословица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Чтобы разгадать кроссворд, надо слова, значения которых указаны в условии, записать по одной букве в каждую клетку фигуры, начиная с пронумерованной клетки и заканчивая последней пустой, отдельно по вертикали  и отдельно по горизонтал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050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sotw9_temp0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4:18:17Z</dcterms:created>
  <dc:creator>user</dc:creator>
  <dc:description/>
  <dc:language>en-US</dc:language>
  <cp:lastModifiedBy>1</cp:lastModifiedBy>
  <dcterms:modified xsi:type="dcterms:W3CDTF">2014-01-22T22:26:19Z</dcterms:modified>
  <cp:revision>79</cp:revision>
  <dc:subject/>
  <dc:title>Квадратичная функция. Построение графика квадратичной функции.</dc:title>
</cp:coreProperties>
</file>