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A45BC-A795-47E9-9331-CAB0B13A8A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F0674-0DF4-4E6A-B87E-E67F636E6C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ED8-1CFB-4C97-BCE9-DD811604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95F-BC45-4948-86AF-EB7321DB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D76-9F78-49A6-9C52-B62C40F1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32E-350C-4D15-B400-884164CF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BA7-454D-4248-BCB4-48BEC833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9F6-4980-4515-A93B-05E8ED68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53D-289D-4EF1-97FF-3A125BAE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78F-CEE8-4F4B-9FA9-DB2F1DBD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E65-6EFC-4431-BEE6-C00771F9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A14-DA94-4A56-8D84-BB3ECEAF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CD0-13D4-4D01-AB84-16B172C7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9D4-939D-43FD-81A2-C28FD88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96FFA7-B501-4B51-A50E-BAA195F40F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039680" y="1187280"/>
            <a:ext cx="81774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Личностно-ориентированный и индивидуальный подход в обучении учащих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алева Натал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подаватель фи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Боровичи Нов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31640" y="301320"/>
            <a:ext cx="7340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тоды и педагогическ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"/>
          <p:cNvGrpSpPr/>
          <p:nvPr/>
        </p:nvGrpSpPr>
        <p:grpSpPr>
          <a:xfrm>
            <a:off x="2087640" y="1763640"/>
            <a:ext cx="7632720" cy="5372280"/>
            <a:chOff x="2087640" y="1763640"/>
            <a:chExt cx="7632720" cy="5372280"/>
          </a:xfrm>
        </p:grpSpPr>
        <p:sp>
          <p:nvSpPr>
            <p:cNvPr id="86" name="AutoShape 21"/>
            <p:cNvSpPr/>
            <p:nvPr/>
          </p:nvSpPr>
          <p:spPr>
            <a:xfrm>
              <a:off x="2087640" y="1835280"/>
              <a:ext cx="7632720" cy="53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4811400" y="3657240"/>
              <a:ext cx="248364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Используем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метод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и педагогическ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технолог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9"/>
            <p:cNvSpPr/>
            <p:nvPr/>
          </p:nvSpPr>
          <p:spPr>
            <a:xfrm>
              <a:off x="2259360" y="3165840"/>
              <a:ext cx="1409760" cy="138780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етод проект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8"/>
            <p:cNvSpPr/>
            <p:nvPr/>
          </p:nvSpPr>
          <p:spPr>
            <a:xfrm>
              <a:off x="7275600" y="3657240"/>
              <a:ext cx="2444400" cy="153324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Уровнево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ифференци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7282440" y="5806080"/>
              <a:ext cx="170748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гров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6"/>
            <p:cNvSpPr/>
            <p:nvPr/>
          </p:nvSpPr>
          <p:spPr>
            <a:xfrm>
              <a:off x="4890960" y="5759280"/>
              <a:ext cx="220248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звивающе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уч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2087640" y="5806080"/>
              <a:ext cx="281376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овательск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4"/>
            <p:cNvSpPr/>
            <p:nvPr/>
          </p:nvSpPr>
          <p:spPr>
            <a:xfrm>
              <a:off x="7128360" y="1763640"/>
              <a:ext cx="1857600" cy="133020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блемно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уче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3"/>
            <p:cNvSpPr/>
            <p:nvPr/>
          </p:nvSpPr>
          <p:spPr>
            <a:xfrm>
              <a:off x="4728600" y="1835280"/>
              <a:ext cx="231876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дагоги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трудничеств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2"/>
            <p:cNvSpPr/>
            <p:nvPr/>
          </p:nvSpPr>
          <p:spPr>
            <a:xfrm>
              <a:off x="2131200" y="1835280"/>
              <a:ext cx="222300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остн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риентированно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3920040" y="2992320"/>
              <a:ext cx="1100160" cy="92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5772240" y="3165840"/>
              <a:ext cx="0" cy="52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9"/>
            <p:cNvSpPr/>
            <p:nvPr/>
          </p:nvSpPr>
          <p:spPr>
            <a:xfrm flipV="1">
              <a:off x="6574680" y="3051720"/>
              <a:ext cx="874800" cy="74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H="1" flipV="1">
              <a:off x="3697920" y="3937320"/>
              <a:ext cx="103248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7135200" y="4357800"/>
              <a:ext cx="14040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"/>
            <p:cNvSpPr/>
            <p:nvPr/>
          </p:nvSpPr>
          <p:spPr>
            <a:xfrm flipH="1">
              <a:off x="4051800" y="4844160"/>
              <a:ext cx="1026000" cy="10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5829840" y="5017320"/>
              <a:ext cx="0" cy="80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6574680" y="4918680"/>
              <a:ext cx="990000" cy="102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"/>
            <p:cNvSpPr/>
            <p:nvPr/>
          </p:nvSpPr>
          <p:spPr>
            <a:xfrm>
              <a:off x="2470680" y="4554720"/>
              <a:ext cx="1160280" cy="115560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К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"/>
            <p:cNvSpPr/>
            <p:nvPr/>
          </p:nvSpPr>
          <p:spPr>
            <a:xfrm flipH="1">
              <a:off x="3630960" y="4498200"/>
              <a:ext cx="1121400" cy="5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111400" y="166680"/>
            <a:ext cx="757224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Palatino Linotype"/>
              </a:rPr>
              <a:t>Педагогические технологии на основе личностно-ориентированного подх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755640" y="2016000"/>
            <a:ext cx="8485200" cy="50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1.Личностно-ориентированное об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( Якиманская И.С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2.Гуманно-личностная технология Амонашвили Ш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3.Технология саморазвива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(Селевко Г.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4.Педагогика сотрудничества («проникающая технология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5.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6.Проблем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7.Технология уровневой дифферен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465280" y="0"/>
            <a:ext cx="81201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103640" y="395280"/>
            <a:ext cx="5400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нятие личностно-ориентированного образования по И.С.Якима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2087640" y="1403280"/>
            <a:ext cx="662472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Личностно-ориентированное 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такое обучение и воспитание, которые ставят во главу уг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бы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енка, ег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ценность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бъекти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цесса учения. Это не просто учет особенностей субъекта учения, это иная методология организации обучения, которая предполагает не «учет» , а «включение» его собственно личностных функций и востребование его субъектив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Субъектный опы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А.К.Осинскому представлен компонент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.Ценностный опы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вязан с интересами, нравственными нормами, идеалами, убежд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Опыт рефлек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могает увязывать отношение и собственный опы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Опыт привычной актив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риентирует в собственных возможност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Операциональный опы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бъединяет средства преобразования ситу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ыт сотруднич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пособствует совместному решению зада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-214200" y="1403280"/>
            <a:ext cx="10294920" cy="768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48000" y="488520"/>
            <a:ext cx="6767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ичностно-ориентированное 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1825560" y="15840"/>
            <a:ext cx="78580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alatino Linotype"/>
              </a:rPr>
              <a:t>Отличия личностно- ориентированного урока от традицио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55640" y="2016000"/>
            <a:ext cx="8485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просматриваются в четырёх аспект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-в организации самого урока и деятельности на нё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-в иной позиции педагога по отношению к ученику и к учебному процессу,  к роли учителя в нё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-в иной позиции самого ученика как субъекта учебной деятельности (именно благодаря иной позиции педагога и выращивается субъектная позиция учени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-в ином характере взаимоотношений между учителем и учеником в учебном процессе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682640" y="166680"/>
            <a:ext cx="6648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alatino Linotype"/>
              </a:rPr>
              <a:t>Функции педагога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755640" y="2016000"/>
            <a:ext cx="84852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2960" indent="-37296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как собеседник (функция эмоциональной поддержк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как исследователь (исследовательская функц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как человек, создающий условия для учения (фасилитаторская функц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как эксперт (экспертная, консультативная функц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611440" y="208080"/>
            <a:ext cx="707220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Palatino Linotype"/>
              </a:rPr>
              <a:t>Главная задача учителя в личностно-ориентированном образовательном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54160" y="2192400"/>
            <a:ext cx="93582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Главное, на что работает учитель в личностно - ориентированном образова-тельном пространстве – организация «событийной  общности» с учеником, помощь ему в освоении позиции субъекта собственной жизнедеятельности. Важно, чтобы ученик сумел преодолеть пассив-ную позицию в учебном процессе и открыть себя как носителя активного преобразующего 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920" y="1993680"/>
            <a:ext cx="9069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В технологии личностно -  ориенти-рованного образования деятель-ность учителя строится на внима-тельном отношении к индивиду-альным интересам и возможностям каждого ребенка и нацелена на раз-витие в каждом ученике самостоя-тельной, инициативной и творчес-кой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Личностно - ориентированное 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2136240"/>
            <a:ext cx="90694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ставит воспитанника в новые условия, трансформирующие привычный ход его жизнедеятельности, востребующие от него новую модель поведения, чему предшествует рефлексия, осмысление, переосмысление сложившейся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5640" y="4716000"/>
            <a:ext cx="907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Palatino Linotype"/>
              </a:rPr>
              <a:t>К. Д. 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96720" y="2293920"/>
            <a:ext cx="9358560" cy="2452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Умение учителя занять во время урока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всех учащихся есть критерий достоинства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учителя.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39760" y="336240"/>
            <a:ext cx="804096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Особенности личностно - ориентирован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6720" y="1763280"/>
            <a:ext cx="942984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Ориентир на самостоятельную работу, собственные открытия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Работа с каждым учеником, выявление и учёт его склонностей и предпоч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Используется дидактический материал, соответствующий успеваемости и способностям того или иного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Устанавливается объём знаний для каждого ученика с учётом его индивидуальных способностей и подбирается соответствующий 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Сложность учебного материала выбирается учеником и варьируется учителе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Стимулируется активность каждого ученика с учётом его возможностей и индивидуальных скло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Учитель предоставляет возможность выбора групповой или только собственной работы</a:t>
            </a:r>
            <a:r>
              <a:rPr b="1" lang="ru-RU" sz="2300" spc="-1" strike="noStrike">
                <a:solidFill>
                  <a:srgbClr val="000000"/>
                </a:solidFill>
                <a:latin typeface="Palatino Linotype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55640" y="3583440"/>
            <a:ext cx="133570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5200" y="301320"/>
            <a:ext cx="7929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Arial"/>
              </a:rPr>
              <a:t>Особенности -личностно ориентированного обучения   (продолжение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5080" y="2065320"/>
            <a:ext cx="9358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Учитель предоставляет возможность выбора групповой или только собственной рабо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Темы согласуются с познавательными особенностями учащего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Получение новых знаний при совместной деятельности учителя и учащих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Сначала оценка ответа самим учащимся, потом учител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Использование количественных и качественных способов оценки и результатов позна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Возможность выбора учащимся объёма, сложности и формы домашнего зад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Учитель помогает учащимся осознать их познавательные стратегии, организует их обсуждение и “обмен” способами по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Согласование педагогом собственного обучающего стиля с познавательными предпочтениями и стилем учебной</a:t>
            </a:r>
            <a:r>
              <a:rPr b="1" lang="ru-RU" sz="19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Palatino Linotype"/>
              </a:rPr>
              <a:t>работы учащих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0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10080720" cy="109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ое 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87280" y="-360"/>
            <a:ext cx="79930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Личностно-ориентированное воспитание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Сравнительная характеристика классической формы воспитания и ЛОВ (фраг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04720" y="1907640"/>
            <a:ext cx="445320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радиционн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форма вос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спитание понимается процесс целенаправленного воздействия на личность воспитанника с целью повышения его социализации в том смысле, как это понимает 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ая цель воспитательного воздействия состоит в формировании личности по определенному образцу «заказ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 выступает в качестве средства выполнения плана учебно-воспитательн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оспитательном взаимодействии существенно доминирует роль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деры ученического коллектива назначаются или избираются под давлением классного руковод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 fontScale="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о-ориентированн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545080" y="1907640"/>
            <a:ext cx="374328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е- процесс совместной деятельности, проходящей за рамками урока и на уроке, удовлетворяющей потребности личности школьника в саморазвитии, самосовершенствовании и интеграции в общественную сре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оспитательной работы – развитие потенциальных возможностей личности средствами вос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- цель и субъект воспитательного взаим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 и учитель выступают в роли партнеров в организации совмест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альными лидерами становятся неформ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47640" y="301320"/>
            <a:ext cx="7124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 Cyr"/>
              </a:rPr>
              <a:t>Личностно-ориентированное воспитание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Times New Roman Cyr"/>
              </a:rPr>
              <a:t>Базовые положения творческого подхода (фрагмент</a:t>
            </a:r>
            <a:r>
              <a:rPr b="0" lang="ru-RU" sz="4400" spc="-1" strike="noStrike">
                <a:solidFill>
                  <a:srgbClr val="ff3300"/>
                </a:solidFill>
                <a:latin typeface="Times New Roman Cyr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ффективное воспитание опирается не на слова, а на творческую деятельность, в которой проявляются и снижаются внутренние барьеры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ие, так же как и обучение, должно опираться на потребности в самовыражении, которые присутствуют в личности любого человека; эта потребность может быть направлена как на процесс поисковой деятельности, так и на ее результа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ворческий процесс должен быть направлен на разрешение проблемы, декларируемой как очень сложная и трудноразрешимая (максимальная высота внешнего барьер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творческой деятельности должна лежать методология, как учение о принципах построения, формах и методиках научного познания; эта методология может быть представлена в доступном для учащихся виде и иметь форму самостоятельного знания, даваемого в курсе соответствующих учеб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творческой – воспитательной деятельности должны иметь социальную оценку, которая подчеркивает их значимость (выставки, семинары, конкурсы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ющий творческий труд должен выстраиваться в условиях полисубъектного взаимодействия, в котором принимают участие как взрослые (желательно имеющие отношение к науке) люди, так и творческие коллективы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школьников должно последовательно формироваться представление о существенной значимости “объективного” творчества, которое опирается на предварительное глубокое изучение предмета исследования, в то время как творческие озарения возникают в форме редких и непродолжительных актов, сопровождающих творческий труд (Д.И.Менделеев: гений – это 99% труда и 1% гениальности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пользуемая 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sychologos.ru/articles/view/lichnostno-orientirovannyy_podhod_v_prepodava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sychologos.ru/articles/view/lichnostno-orientirovannyy_podhod_v_prepodavan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гений Степа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 в педагогической деятельности. : М «Сфера»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yudyammilaya.moy.su/publ/statja_quot_lichnostno_orientirovannyj_podkhod_v_vospitanii_shkolnikov_quot/1-1-0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755640" y="168120"/>
            <a:ext cx="75754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968640" y="4724280"/>
            <a:ext cx="611208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54160" y="2637000"/>
            <a:ext cx="935820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выступает не сумма знаний, умений, навыков, а активный запас ключевых компетенций, обеспечивающих образование на современном уровне, самореализацию и успешную адапт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2521080" y="779400"/>
            <a:ext cx="70912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alatino Linotype"/>
              </a:rPr>
              <a:t>Целью российского образования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448000" y="539640"/>
            <a:ext cx="4105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ения понятий «личность» и «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431640" y="2340000"/>
            <a:ext cx="619308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Индивидуаль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человек, характеризуемый со стороны социально значимых отличий от других людей; своеобразие психики и личности индивида, ее неповтор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Лич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определяемое включенностью в общественные отношения системное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ндивида,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ормирующееся в совместной деятельности и об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3" descr=""/>
          <p:cNvPicPr/>
          <p:nvPr/>
        </p:nvPicPr>
        <p:blipFill>
          <a:blip r:embed="rId1"/>
          <a:stretch/>
        </p:blipFill>
        <p:spPr>
          <a:xfrm>
            <a:off x="6804000" y="395280"/>
            <a:ext cx="32767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6000" y="2305080"/>
            <a:ext cx="9864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 ориентированное обучение направлено на развитие личности ученика и позволяет на принципиально иных началах формировать познавательную деятельность учащихся; оно наиболее перспективно для модернизации и обновления образования в условиях постиндустриально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 ориентированное образование включает следующие подх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уровне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енцирова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ивно-личност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Palatino Linotype"/>
              </a:rPr>
              <a:t>Личностно - ориентированное обу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1224000" y="2560680"/>
            <a:ext cx="864072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Это такое обучение, которое во главу угла ставит самобытность ребёнка, его самоценность, субъективность процесса учения. ЛОО – это не просто учет особенностей субъекта учения, 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иная методология организации условий обучения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, которая предполагает не «учет», а «включение» его собственно личностных функций»            Н.А.Алексе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577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ндивидуально ориентированное образование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в условиях внешней  дифференциации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на примере уровневой дифференци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0000" y="2422440"/>
            <a:ext cx="44578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ложительные асп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ключаются неоправданные и нецелесообразные для общества уравниловка и усреднение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учителя появляется возможность помогать слабому, уделять внимание сильн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ие в группе отстающих снимает необходимость снижения уровня препода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является возможность более эффективно работать с «трудными»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уется желание «сильных» учащихся быстрее и глубже продвигаться в образов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ается уровень «Я» концеп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ается уровень мотивации 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щемуся в гомогенной группе учиться лег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13440" y="2484000"/>
            <a:ext cx="44640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трицательные асп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ение  учащихся по способностям и возможностям негума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вечивается социально-экономическое нераве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лабые» теряют возможность тянуться за «сильны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вод в «слабые» группы воспринимается студентами как ун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овершенство диагностики приводит к тому, что в разряд «слабых» попадают неординарные  учащие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слабых понижается «Я» концепция, у сильных возникает комплекс «элитар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1871640" y="-1044720"/>
            <a:ext cx="820908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Особенность личностно-ориентированного подхода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944720" y="1042920"/>
            <a:ext cx="7881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93000"/>
              </a:lnSpc>
              <a:spcBef>
                <a:spcPts val="437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Образовательный процесс должен  быть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93000"/>
              </a:lnSpc>
              <a:spcBef>
                <a:spcPts val="437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2738520" y="3621240"/>
            <a:ext cx="4603680" cy="2143080"/>
          </a:xfrm>
          <a:prstGeom prst="octagon">
            <a:avLst>
              <a:gd name="adj" fmla="val 2314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В цен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Его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кло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ровень обу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515880" y="3859200"/>
            <a:ext cx="2222640" cy="1984320"/>
          </a:xfrm>
          <a:prstGeom prst="rightArrow">
            <a:avLst>
              <a:gd name="adj1" fmla="val 50000"/>
              <a:gd name="adj2" fmla="val 2799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своение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4245120" y="1779480"/>
            <a:ext cx="1906560" cy="1819440"/>
          </a:xfrm>
          <a:prstGeom prst="downArrow">
            <a:avLst>
              <a:gd name="adj1" fmla="val 49676"/>
              <a:gd name="adj2" fmla="val 2493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 anchorCtr="1" vert="eaVer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7342200" y="3938760"/>
            <a:ext cx="2556000" cy="1984320"/>
          </a:xfrm>
          <a:prstGeom prst="leftArrow">
            <a:avLst>
              <a:gd name="adj1" fmla="val 50000"/>
              <a:gd name="adj2" fmla="val 279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пособы усво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процесс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4325760" y="5764320"/>
            <a:ext cx="1984680" cy="1587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 anchorCtr="1" vert="eaVert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творче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800360" y="4859280"/>
            <a:ext cx="5260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Заголовок 3" descr=""/>
          <p:cNvPicPr/>
          <p:nvPr/>
        </p:nvPicPr>
        <p:blipFill>
          <a:blip r:embed="rId1"/>
          <a:stretch/>
        </p:blipFill>
        <p:spPr>
          <a:xfrm>
            <a:off x="3024360" y="244440"/>
            <a:ext cx="7064280" cy="125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"/>
          <p:cNvSpPr/>
          <p:nvPr/>
        </p:nvSpPr>
        <p:spPr>
          <a:xfrm>
            <a:off x="0" y="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1511280" y="1258920"/>
            <a:ext cx="7345440" cy="5459400"/>
            <a:chOff x="1511280" y="1258920"/>
            <a:chExt cx="7345440" cy="5459400"/>
          </a:xfrm>
        </p:grpSpPr>
        <p:sp>
          <p:nvSpPr>
            <p:cNvPr id="76" name="AutoShape 9"/>
            <p:cNvSpPr/>
            <p:nvPr/>
          </p:nvSpPr>
          <p:spPr>
            <a:xfrm>
              <a:off x="1511280" y="2338920"/>
              <a:ext cx="7345440" cy="43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WordArt 8"/>
            <p:cNvSpPr txBox="1"/>
            <p:nvPr/>
          </p:nvSpPr>
          <p:spPr>
            <a:xfrm>
              <a:off x="2073600" y="1258920"/>
              <a:ext cx="6449760" cy="164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Основные компоненты 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личностно-ориентированного подход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8" name="Oval 7"/>
            <p:cNvSpPr/>
            <p:nvPr/>
          </p:nvSpPr>
          <p:spPr>
            <a:xfrm>
              <a:off x="3354480" y="2949480"/>
              <a:ext cx="4156560" cy="12070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Личностно-ориентирован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подх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6"/>
            <p:cNvSpPr/>
            <p:nvPr/>
          </p:nvSpPr>
          <p:spPr>
            <a:xfrm>
              <a:off x="6695280" y="4167720"/>
              <a:ext cx="2102040" cy="1935360"/>
            </a:xfrm>
            <a:prstGeom prst="wedgeRoundRectCallout">
              <a:avLst>
                <a:gd name="adj1" fmla="val -72814"/>
                <a:gd name="adj2" fmla="val -57875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Мето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Диало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ефлекс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Диагнос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Создание ситуации выбора и успе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"/>
            <p:cNvSpPr/>
            <p:nvPr/>
          </p:nvSpPr>
          <p:spPr>
            <a:xfrm>
              <a:off x="3911400" y="4510800"/>
              <a:ext cx="2693520" cy="2207520"/>
            </a:xfrm>
            <a:prstGeom prst="wedgeRoundRectCallout">
              <a:avLst>
                <a:gd name="adj1" fmla="val 305"/>
                <a:gd name="adj2" fmla="val -66916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Основные пон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Индивидуа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Лич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Самовыраж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ыбо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Педагогическая поддерж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Я-концеп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4"/>
            <p:cNvSpPr/>
            <p:nvPr/>
          </p:nvSpPr>
          <p:spPr>
            <a:xfrm>
              <a:off x="1511280" y="4156560"/>
              <a:ext cx="2221560" cy="1981800"/>
            </a:xfrm>
            <a:prstGeom prst="wedgeRoundRectCallout">
              <a:avLst>
                <a:gd name="adj1" fmla="val 45180"/>
                <a:gd name="adj2" fmla="val -68120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Самоактуализ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Индивидуа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Субъектив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ыб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Творчества и успе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Доверия и поддерж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8"/>
            <p:cNvSpPr txBox="1"/>
            <p:nvPr/>
          </p:nvSpPr>
          <p:spPr>
            <a:xfrm>
              <a:off x="2015640" y="1259280"/>
              <a:ext cx="6449760" cy="164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Основные компоненты 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личностно-ориентированного подход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>user</dc:creator>
  <dc:description/>
  <dc:language>en-US</dc:language>
  <cp:lastModifiedBy>user</cp:lastModifiedBy>
  <dcterms:modified xsi:type="dcterms:W3CDTF">2014-01-23T13:32:59Z</dcterms:modified>
  <cp:revision>73</cp:revision>
  <dc:subject/>
  <dc:title>Слайд 1</dc:title>
</cp:coreProperties>
</file>