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D40BA6-1CBD-42BC-88EB-EE3202DE6A6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23993D-00E4-47C5-AE6D-55BA2D6274A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A968-4B4B-4C5B-A700-115DD7BC9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B1F9-3C2E-42E8-A492-8BD1EEB58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F33E-8B4D-4FC0-812D-F8C9421D4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D616-7E09-4F5B-9512-27EBA5D8C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26EC-3995-45DF-A35E-8E740A044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3CD8-0B6D-4498-9EEE-80458A126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421A-E15F-446C-BFE7-04E309187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8236-351E-45F0-982B-96E24A2A8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2450-C399-4921-8475-65E1314C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49B6-DFD0-47D7-9D5B-E039600A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AF25-EE52-47B5-832D-D5044908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8A74-86EF-4D2C-9A8A-A94574E4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CA6F4A5-F4FB-4BB5-A9A1-3B591B59065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3"/>
          <p:cNvSpPr/>
          <p:nvPr/>
        </p:nvSpPr>
        <p:spPr>
          <a:xfrm>
            <a:off x="1039680" y="1187280"/>
            <a:ext cx="8177400" cy="31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Palatino Linotype"/>
              </a:rPr>
              <a:t>Личностно-ориентированный и индивидуальный подход в обучении учащихс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512720" y="4282560"/>
            <a:ext cx="70567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Autofit/>
          </a:bodyPr>
          <a:p>
            <a:pPr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р презента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валева Наталья Александр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подаватель физ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. Боровичи Новгородской об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014 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31640" y="301320"/>
            <a:ext cx="734076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Методы и педагогические техн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2"/>
          <p:cNvSpPr/>
          <p:nvPr/>
        </p:nvSpPr>
        <p:spPr>
          <a:xfrm>
            <a:off x="0" y="0"/>
            <a:ext cx="1008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1"/>
          <p:cNvGrpSpPr/>
          <p:nvPr/>
        </p:nvGrpSpPr>
        <p:grpSpPr>
          <a:xfrm>
            <a:off x="2087640" y="1763640"/>
            <a:ext cx="7632720" cy="5372280"/>
            <a:chOff x="2087640" y="1763640"/>
            <a:chExt cx="7632720" cy="5372280"/>
          </a:xfrm>
        </p:grpSpPr>
        <p:sp>
          <p:nvSpPr>
            <p:cNvPr id="86" name="AutoShape 21"/>
            <p:cNvSpPr/>
            <p:nvPr/>
          </p:nvSpPr>
          <p:spPr>
            <a:xfrm>
              <a:off x="2087640" y="1835280"/>
              <a:ext cx="7632720" cy="530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4811400" y="3657240"/>
              <a:ext cx="2483640" cy="1329480"/>
            </a:xfrm>
            <a:prstGeom prst="ellipse">
              <a:avLst/>
            </a:prstGeom>
            <a:gradFill rotWithShape="0">
              <a:gsLst>
                <a:gs pos="0">
                  <a:srgbClr val="fcc4f5"/>
                </a:gs>
                <a:gs pos="100000">
                  <a:srgbClr val="ecf9a1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GB" sz="1200" spc="-1" strike="noStrike">
                  <a:solidFill>
                    <a:srgbClr val="ff0066"/>
                  </a:solidFill>
                  <a:latin typeface="Arial"/>
                  <a:ea typeface="Arial"/>
                </a:rPr>
                <a:t>Используемы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GB" sz="1200" spc="-1" strike="noStrike">
                  <a:solidFill>
                    <a:srgbClr val="ff0066"/>
                  </a:solidFill>
                  <a:latin typeface="Arial"/>
                  <a:ea typeface="Arial"/>
                </a:rPr>
                <a:t> </a:t>
              </a:r>
              <a:r>
                <a:rPr b="1" lang="en-GB" sz="1200" spc="-1" strike="noStrike">
                  <a:solidFill>
                    <a:srgbClr val="ff0066"/>
                  </a:solidFill>
                  <a:latin typeface="Arial"/>
                  <a:ea typeface="Arial"/>
                </a:rPr>
                <a:t>методы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GB" sz="1200" spc="-1" strike="noStrike">
                  <a:solidFill>
                    <a:srgbClr val="ff0066"/>
                  </a:solidFill>
                  <a:latin typeface="Arial"/>
                  <a:ea typeface="Arial"/>
                </a:rPr>
                <a:t>и педагогически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GB" sz="1200" spc="-1" strike="noStrike">
                  <a:solidFill>
                    <a:srgbClr val="ff0066"/>
                  </a:solidFill>
                  <a:latin typeface="Arial"/>
                  <a:ea typeface="Arial"/>
                </a:rPr>
                <a:t>технолог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19"/>
            <p:cNvSpPr/>
            <p:nvPr/>
          </p:nvSpPr>
          <p:spPr>
            <a:xfrm>
              <a:off x="2259360" y="3165840"/>
              <a:ext cx="1409760" cy="1387800"/>
            </a:xfrm>
            <a:prstGeom prst="ellipse">
              <a:avLst/>
            </a:prstGeom>
            <a:gradFill rotWithShape="0">
              <a:gsLst>
                <a:gs pos="0">
                  <a:srgbClr val="fcc4f5"/>
                </a:gs>
                <a:gs pos="100000">
                  <a:srgbClr val="ecf9a1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Метод проект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18"/>
            <p:cNvSpPr/>
            <p:nvPr/>
          </p:nvSpPr>
          <p:spPr>
            <a:xfrm>
              <a:off x="7275600" y="3657240"/>
              <a:ext cx="2444400" cy="1533240"/>
            </a:xfrm>
            <a:prstGeom prst="ellipse">
              <a:avLst/>
            </a:prstGeom>
            <a:gradFill rotWithShape="0">
              <a:gsLst>
                <a:gs pos="0">
                  <a:srgbClr val="fcc4f5"/>
                </a:gs>
                <a:gs pos="100000">
                  <a:srgbClr val="ecf9a1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Технологи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Уровнево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дифференциаци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17"/>
            <p:cNvSpPr/>
            <p:nvPr/>
          </p:nvSpPr>
          <p:spPr>
            <a:xfrm>
              <a:off x="7282440" y="5806080"/>
              <a:ext cx="1707480" cy="1329480"/>
            </a:xfrm>
            <a:prstGeom prst="ellipse">
              <a:avLst/>
            </a:prstGeom>
            <a:gradFill rotWithShape="0">
              <a:gsLst>
                <a:gs pos="0">
                  <a:srgbClr val="fcc4f5"/>
                </a:gs>
                <a:gs pos="100000">
                  <a:srgbClr val="ecf9a1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Игровы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технологи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16"/>
            <p:cNvSpPr/>
            <p:nvPr/>
          </p:nvSpPr>
          <p:spPr>
            <a:xfrm>
              <a:off x="4890960" y="5759280"/>
              <a:ext cx="2202480" cy="1329480"/>
            </a:xfrm>
            <a:prstGeom prst="ellipse">
              <a:avLst/>
            </a:prstGeom>
            <a:gradFill rotWithShape="0">
              <a:gsLst>
                <a:gs pos="0">
                  <a:srgbClr val="fcc4f5"/>
                </a:gs>
                <a:gs pos="100000">
                  <a:srgbClr val="ecf9a1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Технологи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Развивающего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обучени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15"/>
            <p:cNvSpPr/>
            <p:nvPr/>
          </p:nvSpPr>
          <p:spPr>
            <a:xfrm>
              <a:off x="2087640" y="5806080"/>
              <a:ext cx="2813760" cy="1329480"/>
            </a:xfrm>
            <a:prstGeom prst="ellipse">
              <a:avLst/>
            </a:prstGeom>
            <a:gradFill rotWithShape="0">
              <a:gsLst>
                <a:gs pos="0">
                  <a:srgbClr val="fcc4f5"/>
                </a:gs>
                <a:gs pos="100000">
                  <a:srgbClr val="ecf9a1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Исследовательская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деятельность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14"/>
            <p:cNvSpPr/>
            <p:nvPr/>
          </p:nvSpPr>
          <p:spPr>
            <a:xfrm>
              <a:off x="7128360" y="1763640"/>
              <a:ext cx="1857600" cy="1330200"/>
            </a:xfrm>
            <a:prstGeom prst="ellipse">
              <a:avLst/>
            </a:prstGeom>
            <a:gradFill rotWithShape="0">
              <a:gsLst>
                <a:gs pos="0">
                  <a:srgbClr val="fcc4f5"/>
                </a:gs>
                <a:gs pos="100000">
                  <a:srgbClr val="ecf9a1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Проблемно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обучени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13"/>
            <p:cNvSpPr/>
            <p:nvPr/>
          </p:nvSpPr>
          <p:spPr>
            <a:xfrm>
              <a:off x="4728600" y="1835280"/>
              <a:ext cx="2318760" cy="1329480"/>
            </a:xfrm>
            <a:prstGeom prst="ellipse">
              <a:avLst/>
            </a:prstGeom>
            <a:gradFill rotWithShape="0">
              <a:gsLst>
                <a:gs pos="0">
                  <a:srgbClr val="fcc4f5"/>
                </a:gs>
                <a:gs pos="100000">
                  <a:srgbClr val="ecf9a1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едагогика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отрудничеств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12"/>
            <p:cNvSpPr/>
            <p:nvPr/>
          </p:nvSpPr>
          <p:spPr>
            <a:xfrm>
              <a:off x="2131200" y="1835280"/>
              <a:ext cx="2223000" cy="1329480"/>
            </a:xfrm>
            <a:prstGeom prst="ellipse">
              <a:avLst/>
            </a:prstGeom>
            <a:gradFill rotWithShape="0">
              <a:gsLst>
                <a:gs pos="0">
                  <a:srgbClr val="fcc4f5"/>
                </a:gs>
                <a:gs pos="100000">
                  <a:srgbClr val="ecf9a1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Личностно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риентированно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бучени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11"/>
            <p:cNvSpPr/>
            <p:nvPr/>
          </p:nvSpPr>
          <p:spPr>
            <a:xfrm>
              <a:off x="3920040" y="2992320"/>
              <a:ext cx="1100160" cy="924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10"/>
            <p:cNvSpPr/>
            <p:nvPr/>
          </p:nvSpPr>
          <p:spPr>
            <a:xfrm>
              <a:off x="5772240" y="3165840"/>
              <a:ext cx="0" cy="520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9"/>
            <p:cNvSpPr/>
            <p:nvPr/>
          </p:nvSpPr>
          <p:spPr>
            <a:xfrm flipV="1">
              <a:off x="6574680" y="3051720"/>
              <a:ext cx="874800" cy="74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8"/>
            <p:cNvSpPr/>
            <p:nvPr/>
          </p:nvSpPr>
          <p:spPr>
            <a:xfrm flipH="1" flipV="1">
              <a:off x="3697920" y="3937320"/>
              <a:ext cx="103248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7"/>
            <p:cNvSpPr/>
            <p:nvPr/>
          </p:nvSpPr>
          <p:spPr>
            <a:xfrm>
              <a:off x="7135200" y="4357800"/>
              <a:ext cx="140400" cy="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6"/>
            <p:cNvSpPr/>
            <p:nvPr/>
          </p:nvSpPr>
          <p:spPr>
            <a:xfrm flipH="1">
              <a:off x="4051800" y="4844160"/>
              <a:ext cx="1026000" cy="1055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5"/>
            <p:cNvSpPr/>
            <p:nvPr/>
          </p:nvSpPr>
          <p:spPr>
            <a:xfrm>
              <a:off x="5829840" y="5017320"/>
              <a:ext cx="0" cy="809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4"/>
            <p:cNvSpPr/>
            <p:nvPr/>
          </p:nvSpPr>
          <p:spPr>
            <a:xfrm>
              <a:off x="6574680" y="4918680"/>
              <a:ext cx="990000" cy="102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"/>
            <p:cNvSpPr/>
            <p:nvPr/>
          </p:nvSpPr>
          <p:spPr>
            <a:xfrm>
              <a:off x="2470680" y="4554720"/>
              <a:ext cx="1160280" cy="1155600"/>
            </a:xfrm>
            <a:prstGeom prst="ellipse">
              <a:avLst/>
            </a:prstGeom>
            <a:gradFill rotWithShape="0">
              <a:gsLst>
                <a:gs pos="0">
                  <a:srgbClr val="fcc4f5"/>
                </a:gs>
                <a:gs pos="100000">
                  <a:srgbClr val="ecf9a1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К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2"/>
            <p:cNvSpPr/>
            <p:nvPr/>
          </p:nvSpPr>
          <p:spPr>
            <a:xfrm flipH="1">
              <a:off x="3630960" y="4498200"/>
              <a:ext cx="1121400" cy="560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2111400" y="166680"/>
            <a:ext cx="7572240" cy="17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r>
              <a:rPr b="1" lang="ru-RU" sz="3100" spc="-1" strike="noStrike">
                <a:solidFill>
                  <a:srgbClr val="ff0000"/>
                </a:solidFill>
                <a:latin typeface="Palatino Linotype"/>
              </a:rPr>
              <a:t>Педагогические технологии на основе личностно-ориентированного подход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755640" y="2016000"/>
            <a:ext cx="8485200" cy="50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372960" indent="-372960">
              <a:lnSpc>
                <a:spcPct val="93000"/>
              </a:lnSpc>
              <a:spcBef>
                <a:spcPts val="887"/>
              </a:spcBef>
              <a:tabLst>
                <a:tab algn="l" pos="0"/>
                <a:tab algn="l" pos="372960"/>
                <a:tab algn="l" pos="866880"/>
                <a:tab algn="l" pos="1362240"/>
                <a:tab algn="l" pos="1857240"/>
                <a:tab algn="l" pos="2352600"/>
                <a:tab algn="l" pos="2847960"/>
                <a:tab algn="l" pos="3343320"/>
                <a:tab algn="l" pos="3838680"/>
                <a:tab algn="l" pos="4334040"/>
                <a:tab algn="l" pos="4829040"/>
                <a:tab algn="l" pos="5324400"/>
                <a:tab algn="l" pos="5819760"/>
                <a:tab algn="l" pos="6315120"/>
                <a:tab algn="l" pos="6810480"/>
                <a:tab algn="l" pos="7305840"/>
                <a:tab algn="l" pos="7800840"/>
                <a:tab algn="l" pos="8296200"/>
                <a:tab algn="l" pos="8790120"/>
                <a:tab algn="l" pos="9285120"/>
                <a:tab algn="l" pos="9780480"/>
                <a:tab algn="l" pos="1027584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Palatino Linotype"/>
              </a:rPr>
              <a:t>1.Личностно-ориентированное обуч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93000"/>
              </a:lnSpc>
              <a:spcBef>
                <a:spcPts val="887"/>
              </a:spcBef>
              <a:tabLst>
                <a:tab algn="l" pos="0"/>
                <a:tab algn="l" pos="372960"/>
                <a:tab algn="l" pos="866880"/>
                <a:tab algn="l" pos="1362240"/>
                <a:tab algn="l" pos="1857240"/>
                <a:tab algn="l" pos="2352600"/>
                <a:tab algn="l" pos="2847960"/>
                <a:tab algn="l" pos="3343320"/>
                <a:tab algn="l" pos="3838680"/>
                <a:tab algn="l" pos="4334040"/>
                <a:tab algn="l" pos="4829040"/>
                <a:tab algn="l" pos="5324400"/>
                <a:tab algn="l" pos="5819760"/>
                <a:tab algn="l" pos="6315120"/>
                <a:tab algn="l" pos="6810480"/>
                <a:tab algn="l" pos="7305840"/>
                <a:tab algn="l" pos="7800840"/>
                <a:tab algn="l" pos="8296200"/>
                <a:tab algn="l" pos="8790120"/>
                <a:tab algn="l" pos="9285120"/>
                <a:tab algn="l" pos="9780480"/>
                <a:tab algn="l" pos="1027584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Palatino Linotype"/>
              </a:rPr>
              <a:t>( Якиманская И.С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93000"/>
              </a:lnSpc>
              <a:spcBef>
                <a:spcPts val="887"/>
              </a:spcBef>
              <a:tabLst>
                <a:tab algn="l" pos="0"/>
                <a:tab algn="l" pos="372960"/>
                <a:tab algn="l" pos="866880"/>
                <a:tab algn="l" pos="1362240"/>
                <a:tab algn="l" pos="1857240"/>
                <a:tab algn="l" pos="2352600"/>
                <a:tab algn="l" pos="2847960"/>
                <a:tab algn="l" pos="3343320"/>
                <a:tab algn="l" pos="3838680"/>
                <a:tab algn="l" pos="4334040"/>
                <a:tab algn="l" pos="4829040"/>
                <a:tab algn="l" pos="5324400"/>
                <a:tab algn="l" pos="5819760"/>
                <a:tab algn="l" pos="6315120"/>
                <a:tab algn="l" pos="6810480"/>
                <a:tab algn="l" pos="7305840"/>
                <a:tab algn="l" pos="7800840"/>
                <a:tab algn="l" pos="8296200"/>
                <a:tab algn="l" pos="8790120"/>
                <a:tab algn="l" pos="9285120"/>
                <a:tab algn="l" pos="9780480"/>
                <a:tab algn="l" pos="1027584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Palatino Linotype"/>
              </a:rPr>
              <a:t>2.Гуманно-личностная технология Амонашвили Ш.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93000"/>
              </a:lnSpc>
              <a:spcBef>
                <a:spcPts val="887"/>
              </a:spcBef>
              <a:tabLst>
                <a:tab algn="l" pos="0"/>
                <a:tab algn="l" pos="372960"/>
                <a:tab algn="l" pos="866880"/>
                <a:tab algn="l" pos="1362240"/>
                <a:tab algn="l" pos="1857240"/>
                <a:tab algn="l" pos="2352600"/>
                <a:tab algn="l" pos="2847960"/>
                <a:tab algn="l" pos="3343320"/>
                <a:tab algn="l" pos="3838680"/>
                <a:tab algn="l" pos="4334040"/>
                <a:tab algn="l" pos="4829040"/>
                <a:tab algn="l" pos="5324400"/>
                <a:tab algn="l" pos="5819760"/>
                <a:tab algn="l" pos="6315120"/>
                <a:tab algn="l" pos="6810480"/>
                <a:tab algn="l" pos="7305840"/>
                <a:tab algn="l" pos="7800840"/>
                <a:tab algn="l" pos="8296200"/>
                <a:tab algn="l" pos="8790120"/>
                <a:tab algn="l" pos="9285120"/>
                <a:tab algn="l" pos="9780480"/>
                <a:tab algn="l" pos="1027584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Palatino Linotype"/>
              </a:rPr>
              <a:t>3.Технология саморазвивающего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93000"/>
              </a:lnSpc>
              <a:spcBef>
                <a:spcPts val="887"/>
              </a:spcBef>
              <a:tabLst>
                <a:tab algn="l" pos="0"/>
                <a:tab algn="l" pos="372960"/>
                <a:tab algn="l" pos="866880"/>
                <a:tab algn="l" pos="1362240"/>
                <a:tab algn="l" pos="1857240"/>
                <a:tab algn="l" pos="2352600"/>
                <a:tab algn="l" pos="2847960"/>
                <a:tab algn="l" pos="3343320"/>
                <a:tab algn="l" pos="3838680"/>
                <a:tab algn="l" pos="4334040"/>
                <a:tab algn="l" pos="4829040"/>
                <a:tab algn="l" pos="5324400"/>
                <a:tab algn="l" pos="5819760"/>
                <a:tab algn="l" pos="6315120"/>
                <a:tab algn="l" pos="6810480"/>
                <a:tab algn="l" pos="7305840"/>
                <a:tab algn="l" pos="7800840"/>
                <a:tab algn="l" pos="8296200"/>
                <a:tab algn="l" pos="8790120"/>
                <a:tab algn="l" pos="9285120"/>
                <a:tab algn="l" pos="9780480"/>
                <a:tab algn="l" pos="1027584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Palatino Linotype"/>
              </a:rPr>
              <a:t>(Селевко Г.К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93000"/>
              </a:lnSpc>
              <a:spcBef>
                <a:spcPts val="887"/>
              </a:spcBef>
              <a:tabLst>
                <a:tab algn="l" pos="0"/>
                <a:tab algn="l" pos="372960"/>
                <a:tab algn="l" pos="866880"/>
                <a:tab algn="l" pos="1362240"/>
                <a:tab algn="l" pos="1857240"/>
                <a:tab algn="l" pos="2352600"/>
                <a:tab algn="l" pos="2847960"/>
                <a:tab algn="l" pos="3343320"/>
                <a:tab algn="l" pos="3838680"/>
                <a:tab algn="l" pos="4334040"/>
                <a:tab algn="l" pos="4829040"/>
                <a:tab algn="l" pos="5324400"/>
                <a:tab algn="l" pos="5819760"/>
                <a:tab algn="l" pos="6315120"/>
                <a:tab algn="l" pos="6810480"/>
                <a:tab algn="l" pos="7305840"/>
                <a:tab algn="l" pos="7800840"/>
                <a:tab algn="l" pos="8296200"/>
                <a:tab algn="l" pos="8790120"/>
                <a:tab algn="l" pos="9285120"/>
                <a:tab algn="l" pos="9780480"/>
                <a:tab algn="l" pos="1027584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Palatino Linotype"/>
              </a:rPr>
              <a:t>4.Педагогика сотрудничества («проникающая технология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93000"/>
              </a:lnSpc>
              <a:spcBef>
                <a:spcPts val="887"/>
              </a:spcBef>
              <a:tabLst>
                <a:tab algn="l" pos="0"/>
                <a:tab algn="l" pos="372960"/>
                <a:tab algn="l" pos="866880"/>
                <a:tab algn="l" pos="1362240"/>
                <a:tab algn="l" pos="1857240"/>
                <a:tab algn="l" pos="2352600"/>
                <a:tab algn="l" pos="2847960"/>
                <a:tab algn="l" pos="3343320"/>
                <a:tab algn="l" pos="3838680"/>
                <a:tab algn="l" pos="4334040"/>
                <a:tab algn="l" pos="4829040"/>
                <a:tab algn="l" pos="5324400"/>
                <a:tab algn="l" pos="5819760"/>
                <a:tab algn="l" pos="6315120"/>
                <a:tab algn="l" pos="6810480"/>
                <a:tab algn="l" pos="7305840"/>
                <a:tab algn="l" pos="7800840"/>
                <a:tab algn="l" pos="8296200"/>
                <a:tab algn="l" pos="8790120"/>
                <a:tab algn="l" pos="9285120"/>
                <a:tab algn="l" pos="9780480"/>
                <a:tab algn="l" pos="1027584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Palatino Linotype"/>
              </a:rPr>
              <a:t>5.Игровые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93000"/>
              </a:lnSpc>
              <a:spcBef>
                <a:spcPts val="887"/>
              </a:spcBef>
              <a:tabLst>
                <a:tab algn="l" pos="0"/>
                <a:tab algn="l" pos="372960"/>
                <a:tab algn="l" pos="866880"/>
                <a:tab algn="l" pos="1362240"/>
                <a:tab algn="l" pos="1857240"/>
                <a:tab algn="l" pos="2352600"/>
                <a:tab algn="l" pos="2847960"/>
                <a:tab algn="l" pos="3343320"/>
                <a:tab algn="l" pos="3838680"/>
                <a:tab algn="l" pos="4334040"/>
                <a:tab algn="l" pos="4829040"/>
                <a:tab algn="l" pos="5324400"/>
                <a:tab algn="l" pos="5819760"/>
                <a:tab algn="l" pos="6315120"/>
                <a:tab algn="l" pos="6810480"/>
                <a:tab algn="l" pos="7305840"/>
                <a:tab algn="l" pos="7800840"/>
                <a:tab algn="l" pos="8296200"/>
                <a:tab algn="l" pos="8790120"/>
                <a:tab algn="l" pos="9285120"/>
                <a:tab algn="l" pos="9780480"/>
                <a:tab algn="l" pos="1027584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Palatino Linotype"/>
              </a:rPr>
              <a:t>6.Проблемное обу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93000"/>
              </a:lnSpc>
              <a:spcBef>
                <a:spcPts val="887"/>
              </a:spcBef>
              <a:tabLst>
                <a:tab algn="l" pos="0"/>
                <a:tab algn="l" pos="372960"/>
                <a:tab algn="l" pos="866880"/>
                <a:tab algn="l" pos="1362240"/>
                <a:tab algn="l" pos="1857240"/>
                <a:tab algn="l" pos="2352600"/>
                <a:tab algn="l" pos="2847960"/>
                <a:tab algn="l" pos="3343320"/>
                <a:tab algn="l" pos="3838680"/>
                <a:tab algn="l" pos="4334040"/>
                <a:tab algn="l" pos="4829040"/>
                <a:tab algn="l" pos="5324400"/>
                <a:tab algn="l" pos="5819760"/>
                <a:tab algn="l" pos="6315120"/>
                <a:tab algn="l" pos="6810480"/>
                <a:tab algn="l" pos="7305840"/>
                <a:tab algn="l" pos="7800840"/>
                <a:tab algn="l" pos="8296200"/>
                <a:tab algn="l" pos="8790120"/>
                <a:tab algn="l" pos="9285120"/>
                <a:tab algn="l" pos="9780480"/>
                <a:tab algn="l" pos="1027584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Palatino Linotype"/>
              </a:rPr>
              <a:t>7.Технология уровневой дифференци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93000"/>
              </a:lnSpc>
              <a:spcBef>
                <a:spcPts val="887"/>
              </a:spcBef>
              <a:buClr>
                <a:srgbClr val="000000"/>
              </a:buClr>
              <a:buFont typeface="Comic Sans MS"/>
              <a:buChar char="•"/>
              <a:tabLst>
                <a:tab algn="l" pos="372960"/>
                <a:tab algn="l" pos="866880"/>
                <a:tab algn="l" pos="1362240"/>
                <a:tab algn="l" pos="1857240"/>
                <a:tab algn="l" pos="2352600"/>
                <a:tab algn="l" pos="2847960"/>
                <a:tab algn="l" pos="3343320"/>
                <a:tab algn="l" pos="3838680"/>
                <a:tab algn="l" pos="4334040"/>
                <a:tab algn="l" pos="4829040"/>
                <a:tab algn="l" pos="5324400"/>
                <a:tab algn="l" pos="5819760"/>
                <a:tab algn="l" pos="6315120"/>
                <a:tab algn="l" pos="6810480"/>
                <a:tab algn="l" pos="7305840"/>
                <a:tab algn="l" pos="7800840"/>
                <a:tab algn="l" pos="8296200"/>
                <a:tab algn="l" pos="8790120"/>
                <a:tab algn="l" pos="9285120"/>
                <a:tab algn="l" pos="9780480"/>
                <a:tab algn="l" pos="1027584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2465280" y="0"/>
            <a:ext cx="8120160" cy="75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1"/>
          <p:cNvSpPr/>
          <p:nvPr/>
        </p:nvSpPr>
        <p:spPr>
          <a:xfrm>
            <a:off x="4103640" y="395280"/>
            <a:ext cx="54007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онятие личностно-ориентированного образования по И.С.Якиманс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2"/>
          <p:cNvSpPr/>
          <p:nvPr/>
        </p:nvSpPr>
        <p:spPr>
          <a:xfrm>
            <a:off x="2087640" y="1403280"/>
            <a:ext cx="6624720" cy="50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3300"/>
                </a:solidFill>
                <a:uFillTx/>
                <a:latin typeface="Arial"/>
              </a:rPr>
              <a:t>Личностно-ориентированное образов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это такое обучение и воспитание, которые ставят во главу угл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амобыт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ебенка, его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амоценность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убъектив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оцесса учения. Это не просто учет особенностей субъекта учения, это иная методология организации обучения, которая предполагает не «учет» , а «включение» его собственно личностных функций и востребование его субъективного опы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3300"/>
                </a:solidFill>
                <a:uFillTx/>
                <a:latin typeface="Arial"/>
              </a:rPr>
              <a:t>Субъектный опы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 А.К.Осинскому представлен компонента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.Ценностный опы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связан с интересами, нравственными нормами, идеалами, убеждениям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2.Опыт рефлекс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помогает увязывать отношение и собственный опы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3.Опыт привычной активиза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ориентирует в собственных возможностя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4.Операциональный опы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объединяет средства преобразования ситуац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5. Опыт сотрудничест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способствует совместному решению задач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-214200" y="1403280"/>
            <a:ext cx="10294920" cy="76899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02920" y="1768320"/>
            <a:ext cx="9069480" cy="49881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48000" y="488520"/>
            <a:ext cx="676728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Личностно-ориентированное обуч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1"/>
          <p:cNvSpPr/>
          <p:nvPr/>
        </p:nvSpPr>
        <p:spPr>
          <a:xfrm>
            <a:off x="1825560" y="15840"/>
            <a:ext cx="7858080" cy="19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Palatino Linotype"/>
              </a:rPr>
              <a:t>Отличия личностно- ориентированного урока от традиционн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755640" y="2016000"/>
            <a:ext cx="848520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378000" indent="-373320">
              <a:lnSpc>
                <a:spcPct val="80000"/>
              </a:lnSpc>
              <a:spcBef>
                <a:spcPts val="663"/>
              </a:spcBef>
              <a:tabLst>
                <a:tab algn="l" pos="0"/>
                <a:tab algn="l" pos="378000"/>
                <a:tab algn="l" pos="870120"/>
                <a:tab algn="l" pos="1365120"/>
                <a:tab algn="l" pos="1860480"/>
                <a:tab algn="l" pos="2355840"/>
                <a:tab algn="l" pos="2851200"/>
                <a:tab algn="l" pos="3346560"/>
                <a:tab algn="l" pos="3841920"/>
                <a:tab algn="l" pos="4336920"/>
                <a:tab algn="l" pos="4832280"/>
                <a:tab algn="l" pos="5327640"/>
                <a:tab algn="l" pos="5823000"/>
                <a:tab algn="l" pos="6318360"/>
                <a:tab algn="l" pos="6813720"/>
                <a:tab algn="l" pos="7308720"/>
                <a:tab algn="l" pos="7804080"/>
                <a:tab algn="l" pos="8299440"/>
                <a:tab algn="l" pos="8794800"/>
                <a:tab algn="l" pos="9290160"/>
                <a:tab algn="l" pos="9785520"/>
                <a:tab algn="l" pos="1028052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Palatino Linotype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Palatino Linotype"/>
              </a:rPr>
              <a:t>просматриваются в четырёх аспектах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3320">
              <a:lnSpc>
                <a:spcPct val="80000"/>
              </a:lnSpc>
              <a:spcBef>
                <a:spcPts val="663"/>
              </a:spcBef>
              <a:tabLst>
                <a:tab algn="l" pos="0"/>
                <a:tab algn="l" pos="378000"/>
                <a:tab algn="l" pos="870120"/>
                <a:tab algn="l" pos="1365120"/>
                <a:tab algn="l" pos="1860480"/>
                <a:tab algn="l" pos="2355840"/>
                <a:tab algn="l" pos="2851200"/>
                <a:tab algn="l" pos="3346560"/>
                <a:tab algn="l" pos="3841920"/>
                <a:tab algn="l" pos="4336920"/>
                <a:tab algn="l" pos="4832280"/>
                <a:tab algn="l" pos="5327640"/>
                <a:tab algn="l" pos="5823000"/>
                <a:tab algn="l" pos="6318360"/>
                <a:tab algn="l" pos="6813720"/>
                <a:tab algn="l" pos="7308720"/>
                <a:tab algn="l" pos="7804080"/>
                <a:tab algn="l" pos="8299440"/>
                <a:tab algn="l" pos="8794800"/>
                <a:tab algn="l" pos="9290160"/>
                <a:tab algn="l" pos="9785520"/>
                <a:tab algn="l" pos="102805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3320">
              <a:lnSpc>
                <a:spcPct val="80000"/>
              </a:lnSpc>
              <a:spcBef>
                <a:spcPts val="663"/>
              </a:spcBef>
              <a:tabLst>
                <a:tab algn="l" pos="0"/>
                <a:tab algn="l" pos="378000"/>
                <a:tab algn="l" pos="870120"/>
                <a:tab algn="l" pos="1365120"/>
                <a:tab algn="l" pos="1860480"/>
                <a:tab algn="l" pos="2355840"/>
                <a:tab algn="l" pos="2851200"/>
                <a:tab algn="l" pos="3346560"/>
                <a:tab algn="l" pos="3841920"/>
                <a:tab algn="l" pos="4336920"/>
                <a:tab algn="l" pos="4832280"/>
                <a:tab algn="l" pos="5327640"/>
                <a:tab algn="l" pos="5823000"/>
                <a:tab algn="l" pos="6318360"/>
                <a:tab algn="l" pos="6813720"/>
                <a:tab algn="l" pos="7308720"/>
                <a:tab algn="l" pos="7804080"/>
                <a:tab algn="l" pos="8299440"/>
                <a:tab algn="l" pos="8794800"/>
                <a:tab algn="l" pos="9290160"/>
                <a:tab algn="l" pos="9785520"/>
                <a:tab algn="l" pos="1028052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Palatino Linotype"/>
              </a:rPr>
              <a:t>-в организации самого урока и деятельности на нё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3320">
              <a:lnSpc>
                <a:spcPct val="80000"/>
              </a:lnSpc>
              <a:spcBef>
                <a:spcPts val="663"/>
              </a:spcBef>
              <a:tabLst>
                <a:tab algn="l" pos="0"/>
                <a:tab algn="l" pos="378000"/>
                <a:tab algn="l" pos="870120"/>
                <a:tab algn="l" pos="1365120"/>
                <a:tab algn="l" pos="1860480"/>
                <a:tab algn="l" pos="2355840"/>
                <a:tab algn="l" pos="2851200"/>
                <a:tab algn="l" pos="3346560"/>
                <a:tab algn="l" pos="3841920"/>
                <a:tab algn="l" pos="4336920"/>
                <a:tab algn="l" pos="4832280"/>
                <a:tab algn="l" pos="5327640"/>
                <a:tab algn="l" pos="5823000"/>
                <a:tab algn="l" pos="6318360"/>
                <a:tab algn="l" pos="6813720"/>
                <a:tab algn="l" pos="7308720"/>
                <a:tab algn="l" pos="7804080"/>
                <a:tab algn="l" pos="8299440"/>
                <a:tab algn="l" pos="8794800"/>
                <a:tab algn="l" pos="9290160"/>
                <a:tab algn="l" pos="9785520"/>
                <a:tab algn="l" pos="1028052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Palatino Linotype"/>
              </a:rPr>
              <a:t>-в иной позиции педагога по отношению к ученику и к учебному процессу,  к роли учителя в нё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3320">
              <a:lnSpc>
                <a:spcPct val="80000"/>
              </a:lnSpc>
              <a:spcBef>
                <a:spcPts val="663"/>
              </a:spcBef>
              <a:tabLst>
                <a:tab algn="l" pos="0"/>
                <a:tab algn="l" pos="378000"/>
                <a:tab algn="l" pos="870120"/>
                <a:tab algn="l" pos="1365120"/>
                <a:tab algn="l" pos="1860480"/>
                <a:tab algn="l" pos="2355840"/>
                <a:tab algn="l" pos="2851200"/>
                <a:tab algn="l" pos="3346560"/>
                <a:tab algn="l" pos="3841920"/>
                <a:tab algn="l" pos="4336920"/>
                <a:tab algn="l" pos="4832280"/>
                <a:tab algn="l" pos="5327640"/>
                <a:tab algn="l" pos="5823000"/>
                <a:tab algn="l" pos="6318360"/>
                <a:tab algn="l" pos="6813720"/>
                <a:tab algn="l" pos="7308720"/>
                <a:tab algn="l" pos="7804080"/>
                <a:tab algn="l" pos="8299440"/>
                <a:tab algn="l" pos="8794800"/>
                <a:tab algn="l" pos="9290160"/>
                <a:tab algn="l" pos="9785520"/>
                <a:tab algn="l" pos="1028052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Palatino Linotype"/>
              </a:rPr>
              <a:t>-в иной позиции самого ученика как субъекта учебной деятельности (именно благодаря иной позиции педагога и выращивается субъектная позиция ученика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3320">
              <a:lnSpc>
                <a:spcPct val="80000"/>
              </a:lnSpc>
              <a:spcBef>
                <a:spcPts val="663"/>
              </a:spcBef>
              <a:tabLst>
                <a:tab algn="l" pos="0"/>
                <a:tab algn="l" pos="378000"/>
                <a:tab algn="l" pos="870120"/>
                <a:tab algn="l" pos="1365120"/>
                <a:tab algn="l" pos="1860480"/>
                <a:tab algn="l" pos="2355840"/>
                <a:tab algn="l" pos="2851200"/>
                <a:tab algn="l" pos="3346560"/>
                <a:tab algn="l" pos="3841920"/>
                <a:tab algn="l" pos="4336920"/>
                <a:tab algn="l" pos="4832280"/>
                <a:tab algn="l" pos="5327640"/>
                <a:tab algn="l" pos="5823000"/>
                <a:tab algn="l" pos="6318360"/>
                <a:tab algn="l" pos="6813720"/>
                <a:tab algn="l" pos="7308720"/>
                <a:tab algn="l" pos="7804080"/>
                <a:tab algn="l" pos="8299440"/>
                <a:tab algn="l" pos="8794800"/>
                <a:tab algn="l" pos="9290160"/>
                <a:tab algn="l" pos="9785520"/>
                <a:tab algn="l" pos="1028052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Palatino Linotype"/>
              </a:rPr>
              <a:t>-в ином характере взаимоотношений между учителем и учеником в учебном процессе</a:t>
            </a:r>
            <a:r>
              <a:rPr b="1" lang="ru-RU" sz="28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1682640" y="166680"/>
            <a:ext cx="6648480" cy="11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Palatino Linotype"/>
              </a:rPr>
              <a:t>Функции педагога</a:t>
            </a:r>
            <a:r>
              <a:rPr b="1" lang="ru-RU" sz="3600" spc="-1" strike="noStrike">
                <a:solidFill>
                  <a:srgbClr val="ff0000"/>
                </a:solidFill>
                <a:latin typeface="Palatino Linotype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755640" y="2016000"/>
            <a:ext cx="848520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372960" indent="-372960">
              <a:lnSpc>
                <a:spcPct val="93000"/>
              </a:lnSpc>
              <a:spcBef>
                <a:spcPts val="774"/>
              </a:spcBef>
              <a:buClr>
                <a:srgbClr val="000000"/>
              </a:buClr>
              <a:buFont typeface="Comic Sans MS"/>
              <a:buChar char="•"/>
              <a:tabLst>
                <a:tab algn="l" pos="372960"/>
                <a:tab algn="l" pos="866880"/>
                <a:tab algn="l" pos="1362240"/>
                <a:tab algn="l" pos="1857240"/>
                <a:tab algn="l" pos="2352600"/>
                <a:tab algn="l" pos="2847960"/>
                <a:tab algn="l" pos="3343320"/>
                <a:tab algn="l" pos="3838680"/>
                <a:tab algn="l" pos="4334040"/>
                <a:tab algn="l" pos="4829040"/>
                <a:tab algn="l" pos="5324400"/>
                <a:tab algn="l" pos="5819760"/>
                <a:tab algn="l" pos="6315120"/>
                <a:tab algn="l" pos="6810480"/>
                <a:tab algn="l" pos="7305840"/>
                <a:tab algn="l" pos="7800840"/>
                <a:tab algn="l" pos="8296200"/>
                <a:tab algn="l" pos="8790120"/>
                <a:tab algn="l" pos="9285120"/>
                <a:tab algn="l" pos="9780480"/>
                <a:tab algn="l" pos="1027584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Palatino Linotype"/>
              </a:rPr>
              <a:t>Учитель как собеседник (функция эмоциональной поддержки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93000"/>
              </a:lnSpc>
              <a:spcBef>
                <a:spcPts val="774"/>
              </a:spcBef>
              <a:buClr>
                <a:srgbClr val="000000"/>
              </a:buClr>
              <a:buFont typeface="Comic Sans MS"/>
              <a:buChar char="•"/>
              <a:tabLst>
                <a:tab algn="l" pos="372960"/>
                <a:tab algn="l" pos="866880"/>
                <a:tab algn="l" pos="1362240"/>
                <a:tab algn="l" pos="1857240"/>
                <a:tab algn="l" pos="2352600"/>
                <a:tab algn="l" pos="2847960"/>
                <a:tab algn="l" pos="3343320"/>
                <a:tab algn="l" pos="3838680"/>
                <a:tab algn="l" pos="4334040"/>
                <a:tab algn="l" pos="4829040"/>
                <a:tab algn="l" pos="5324400"/>
                <a:tab algn="l" pos="5819760"/>
                <a:tab algn="l" pos="6315120"/>
                <a:tab algn="l" pos="6810480"/>
                <a:tab algn="l" pos="7305840"/>
                <a:tab algn="l" pos="7800840"/>
                <a:tab algn="l" pos="8296200"/>
                <a:tab algn="l" pos="8790120"/>
                <a:tab algn="l" pos="9285120"/>
                <a:tab algn="l" pos="9780480"/>
                <a:tab algn="l" pos="1027584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Palatino Linotype"/>
              </a:rPr>
              <a:t>Учитель как исследователь (исследовательская функция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93000"/>
              </a:lnSpc>
              <a:spcBef>
                <a:spcPts val="774"/>
              </a:spcBef>
              <a:buClr>
                <a:srgbClr val="000000"/>
              </a:buClr>
              <a:buFont typeface="Comic Sans MS"/>
              <a:buChar char="•"/>
              <a:tabLst>
                <a:tab algn="l" pos="372960"/>
                <a:tab algn="l" pos="866880"/>
                <a:tab algn="l" pos="1362240"/>
                <a:tab algn="l" pos="1857240"/>
                <a:tab algn="l" pos="2352600"/>
                <a:tab algn="l" pos="2847960"/>
                <a:tab algn="l" pos="3343320"/>
                <a:tab algn="l" pos="3838680"/>
                <a:tab algn="l" pos="4334040"/>
                <a:tab algn="l" pos="4829040"/>
                <a:tab algn="l" pos="5324400"/>
                <a:tab algn="l" pos="5819760"/>
                <a:tab algn="l" pos="6315120"/>
                <a:tab algn="l" pos="6810480"/>
                <a:tab algn="l" pos="7305840"/>
                <a:tab algn="l" pos="7800840"/>
                <a:tab algn="l" pos="8296200"/>
                <a:tab algn="l" pos="8790120"/>
                <a:tab algn="l" pos="9285120"/>
                <a:tab algn="l" pos="9780480"/>
                <a:tab algn="l" pos="1027584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Palatino Linotype"/>
              </a:rPr>
              <a:t>Учитель как человек, создающий условия для учения (фасилитаторская функция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93000"/>
              </a:lnSpc>
              <a:spcBef>
                <a:spcPts val="774"/>
              </a:spcBef>
              <a:buClr>
                <a:srgbClr val="000000"/>
              </a:buClr>
              <a:buFont typeface="Comic Sans MS"/>
              <a:buChar char="•"/>
              <a:tabLst>
                <a:tab algn="l" pos="372960"/>
                <a:tab algn="l" pos="866880"/>
                <a:tab algn="l" pos="1362240"/>
                <a:tab algn="l" pos="1857240"/>
                <a:tab algn="l" pos="2352600"/>
                <a:tab algn="l" pos="2847960"/>
                <a:tab algn="l" pos="3343320"/>
                <a:tab algn="l" pos="3838680"/>
                <a:tab algn="l" pos="4334040"/>
                <a:tab algn="l" pos="4829040"/>
                <a:tab algn="l" pos="5324400"/>
                <a:tab algn="l" pos="5819760"/>
                <a:tab algn="l" pos="6315120"/>
                <a:tab algn="l" pos="6810480"/>
                <a:tab algn="l" pos="7305840"/>
                <a:tab algn="l" pos="7800840"/>
                <a:tab algn="l" pos="8296200"/>
                <a:tab algn="l" pos="8790120"/>
                <a:tab algn="l" pos="9285120"/>
                <a:tab algn="l" pos="9780480"/>
                <a:tab algn="l" pos="1027584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Palatino Linotype"/>
              </a:rPr>
              <a:t>Учитель как эксперт (экспертная, консультативная функция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"/>
          <p:cNvSpPr/>
          <p:nvPr/>
        </p:nvSpPr>
        <p:spPr>
          <a:xfrm>
            <a:off x="2611440" y="208080"/>
            <a:ext cx="7072200" cy="17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Palatino Linotype"/>
              </a:rPr>
              <a:t>Главная задача учителя в личностно-ориентированном образовательном пространст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254160" y="2192400"/>
            <a:ext cx="935820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378000" indent="-373320">
              <a:lnSpc>
                <a:spcPct val="90000"/>
              </a:lnSpc>
              <a:spcBef>
                <a:spcPts val="663"/>
              </a:spcBef>
              <a:tabLst>
                <a:tab algn="l" pos="0"/>
                <a:tab algn="l" pos="378000"/>
                <a:tab algn="l" pos="870120"/>
                <a:tab algn="l" pos="1365120"/>
                <a:tab algn="l" pos="1860480"/>
                <a:tab algn="l" pos="2355840"/>
                <a:tab algn="l" pos="2851200"/>
                <a:tab algn="l" pos="3346560"/>
                <a:tab algn="l" pos="3841920"/>
                <a:tab algn="l" pos="4336920"/>
                <a:tab algn="l" pos="4832280"/>
                <a:tab algn="l" pos="5327640"/>
                <a:tab algn="l" pos="5823000"/>
                <a:tab algn="l" pos="6318360"/>
                <a:tab algn="l" pos="6813720"/>
                <a:tab algn="l" pos="7308720"/>
                <a:tab algn="l" pos="7804080"/>
                <a:tab algn="l" pos="8299440"/>
                <a:tab algn="l" pos="8794800"/>
                <a:tab algn="l" pos="9290160"/>
                <a:tab algn="l" pos="9785520"/>
                <a:tab algn="l" pos="1028052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Palatino Linotype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Palatino Linotype"/>
              </a:rPr>
              <a:t>Главное, на что работает учитель в личностно - ориентированном образова-тельном пространстве – организация «событийной  общности» с учеником, помощь ему в освоении позиции субъекта собственной жизнедеятельности. Важно, чтобы ученик сумел преодолеть пассив-ную позицию в учебном процессе и открыть себя как носителя активного преобразующего нач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02920" y="1993680"/>
            <a:ext cx="90694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2000"/>
          </a:bodyPr>
          <a:p>
            <a:pPr marL="31536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Palatino Linotype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Palatino Linotype"/>
              </a:rPr>
              <a:t>В технологии личностно -  ориенти-рованного образования деятель-ность учителя строится на внима-тельном отношении к индивиду-альным интересам и возможностям каждого ребенка и нацелена на раз-витие в каждом ученике самостоя-тельной, инициативной и творчес-кой лич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Palatino Linotype"/>
              </a:rPr>
              <a:t>          </a:t>
            </a:r>
            <a:r>
              <a:rPr b="1" lang="ru-RU" sz="3600" spc="-1" strike="noStrike">
                <a:solidFill>
                  <a:srgbClr val="ff0000"/>
                </a:solidFill>
                <a:latin typeface="Palatino Linotype"/>
              </a:rPr>
              <a:t>Личностно - ориентированное обуч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2920" y="2136240"/>
            <a:ext cx="9069480" cy="461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Palatino Linotype"/>
              </a:rPr>
              <a:t>ставит воспитанника в новые условия, трансформирующие привычный ход его жизнедеятельности, востребующие от него новую модель поведения, чему предшествует рефлексия, осмысление, переосмысление сложившейся ситуац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15640" y="4716000"/>
            <a:ext cx="907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Palatino Linotype"/>
              </a:rPr>
              <a:t>К. Д. Ушинс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4"/>
          <p:cNvSpPr txBox="1"/>
          <p:nvPr/>
        </p:nvSpPr>
        <p:spPr>
          <a:xfrm>
            <a:off x="396720" y="2293920"/>
            <a:ext cx="9358560" cy="24526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7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Palatino Linotype"/>
              </a:rPr>
              <a:t>Умение учителя занять во время урока</a:t>
            </a:r>
            <a:endParaRPr b="0" lang="en-US" sz="72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Palatino Linotype"/>
              <a:ea typeface="Palatino Linotype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7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Palatino Linotype"/>
              </a:rPr>
              <a:t>всех учащихся есть критерий достоинства</a:t>
            </a:r>
            <a:endParaRPr b="0" lang="en-US" sz="72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Palatino Linotype"/>
              <a:ea typeface="Palatino Linotype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7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Palatino Linotype"/>
              </a:rPr>
              <a:t>учителя.</a:t>
            </a:r>
            <a:endParaRPr b="0" lang="en-US" sz="72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Palatino Linotype"/>
              <a:ea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3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039760" y="336240"/>
            <a:ext cx="8040960" cy="6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Palatino Linotype"/>
              </a:rPr>
              <a:t>Особенности личностно - ориентированного обу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6720" y="1763280"/>
            <a:ext cx="9429840" cy="604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alatino Linotype"/>
              </a:rPr>
              <a:t>Ориентир на самостоятельную работу, собственные открытия учащего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alatino Linotype"/>
              </a:rPr>
              <a:t>Работа с каждым учеником, выявление и учёт его склонностей и предпочт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alatino Linotype"/>
              </a:rPr>
              <a:t>Используется дидактический материал, соответствующий успеваемости и способностям того или иного уче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alatino Linotype"/>
              </a:rPr>
              <a:t>Устанавливается объём знаний для каждого ученика с учётом его индивидуальных способностей и подбирается соответствующий 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alatino Linotype"/>
              </a:rPr>
              <a:t>Сложность учебного материала выбирается учеником и варьируется учителем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alatino Linotype"/>
              </a:rPr>
              <a:t>Стимулируется активность каждого ученика с учётом его возможностей и индивидуальных склон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alatino Linotype"/>
              </a:rPr>
              <a:t>Учитель предоставляет возможность выбора групповой или только собственной работы</a:t>
            </a:r>
            <a:r>
              <a:rPr b="1" lang="ru-RU" sz="2300" spc="-1" strike="noStrike">
                <a:solidFill>
                  <a:srgbClr val="000000"/>
                </a:solidFill>
                <a:latin typeface="Palatino Linotype"/>
              </a:rPr>
              <a:t>.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755640" y="3583440"/>
            <a:ext cx="1335708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825200" y="301320"/>
            <a:ext cx="79297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100" spc="-1" strike="noStrike">
                <a:solidFill>
                  <a:srgbClr val="ff0000"/>
                </a:solidFill>
                <a:latin typeface="Arial"/>
              </a:rPr>
              <a:t>Особенности -личностно ориентированного обучения   (продолжение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5080" y="2065320"/>
            <a:ext cx="935820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1000"/>
          </a:bodyPr>
          <a:p>
            <a:pPr marL="312120" indent="-31212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Palatino Linotype"/>
              </a:rPr>
              <a:t>Учитель предоставляет возможность выбора групповой или только собственной работы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Palatino Linotype"/>
              </a:rPr>
              <a:t>Темы согласуются с познавательными особенностями учащегос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Palatino Linotype"/>
              </a:rPr>
              <a:t>Получение новых знаний при совместной деятельности учителя и учащихс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Palatino Linotype"/>
              </a:rPr>
              <a:t>Сначала оценка ответа самим учащимся, потом учителе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Palatino Linotype"/>
              </a:rPr>
              <a:t>Использование количественных и качественных способов оценки и результатов познания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Palatino Linotype"/>
              </a:rPr>
              <a:t>Возможность выбора учащимся объёма, сложности и формы домашнего задани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Palatino Linotype"/>
              </a:rPr>
              <a:t>Учитель помогает учащимся осознать их познавательные стратегии, организует их обсуждение и “обмен” способами познани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Palatino Linotype"/>
              </a:rPr>
              <a:t>Согласование педагогом собственного обучающего стиля с познавательными предпочтениями и стилем учебной</a:t>
            </a:r>
            <a:r>
              <a:rPr b="1" lang="ru-RU" sz="19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ru-RU" sz="2300" spc="-1" strike="noStrike">
                <a:solidFill>
                  <a:srgbClr val="000000"/>
                </a:solidFill>
                <a:latin typeface="Palatino Linotype"/>
              </a:rPr>
              <a:t>работы учащихся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405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0"/>
            <a:ext cx="10080720" cy="1092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чностно-ориентированное воспит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087280" y="-360"/>
            <a:ext cx="79930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 Cyr"/>
              </a:rPr>
              <a:t>Личностно-ориентированное воспитание</a:t>
            </a:r>
            <a:br>
              <a:rPr sz="2400"/>
            </a:br>
            <a:r>
              <a:rPr b="0" lang="ru-RU" sz="2400" spc="-1" strike="noStrike">
                <a:solidFill>
                  <a:srgbClr val="ff3300"/>
                </a:solidFill>
                <a:latin typeface="Times New Roman Cyr"/>
              </a:rPr>
              <a:t>Сравнительная характеристика классической формы воспитания и ЛОВ (фрагмен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04720" y="1907640"/>
            <a:ext cx="4453200" cy="48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3000"/>
          </a:bodyPr>
          <a:p>
            <a:pPr marL="318960" indent="-3189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асс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традиционна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 форма воспит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 воспитание понимается процесс целенаправленного воздействия на личность воспитанника с целью повышения его социализации в том смысле, как это понимает воспитате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новная цель воспитательного воздействия состоит в формировании личности по определенному образцу «заказу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еник выступает в качестве средства выполнения плана учебно-воспитательной рабо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воспитательном взаимодействии существенно доминирует роль уч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идеры ученического коллектива назначаются или избираются под давлением классного руковод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121360" y="1692360"/>
            <a:ext cx="445608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b">
            <a:normAutofit fontScale="9000"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чностно-ориентированное воспи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545080" y="1907640"/>
            <a:ext cx="3743280" cy="48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спитание- процесс совместной деятельности, проходящей за рамками урока и на уроке, удовлетворяющей потребности личности школьника в саморазвитии, самосовершенствовании и интеграции в общественную сред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ль воспитательной работы – развитие потенциальных возможностей личности средствами воспит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еник- цель и субъект воспитательного взаимодейств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еник и учитель выступают в роли партнеров в организации совместной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ормальными лидерами становятся неформаль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47640" y="301320"/>
            <a:ext cx="712476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 Cyr"/>
              </a:rPr>
              <a:t>Личностно-ориентированное воспитание</a:t>
            </a: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Times New Roman Cyr"/>
              </a:rPr>
              <a:t>Базовые положения творческого подхода (фрагмент</a:t>
            </a:r>
            <a:r>
              <a:rPr b="0" lang="ru-RU" sz="4400" spc="-1" strike="noStrike">
                <a:solidFill>
                  <a:srgbClr val="ff3300"/>
                </a:solidFill>
                <a:latin typeface="Times New Roman Cyr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9000"/>
          </a:bodyPr>
          <a:p>
            <a:pPr marL="305280" indent="-30528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ффективное воспитание опирается не на слова, а на творческую деятельность, в которой проявляются и снижаются внутренние барьеры личн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спитание, так же как и обучение, должно опираться на потребности в самовыражении, которые присутствуют в личности любого человека; эта потребность может быть направлена как на процесс поисковой деятельности, так и на ее результат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ворческий процесс должен быть направлен на разрешение проблемы, декларируемой как очень сложная и трудноразрешимая (максимальная высота внешнего барьера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основе творческой деятельности должна лежать методология, как учение о принципах построения, формах и методиках научного познания; эта методология может быть представлена в доступном для учащихся виде и иметь форму самостоятельного знания, даваемого в курсе соответствующих учебных дисципли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зультаты творческой – воспитательной деятельности должны иметь социальную оценку, которая подчеркивает их значимость (выставки, семинары, конкурсы и т.п.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спитывающий творческий труд должен выстраиваться в условиях полисубъектного взаимодействия, в котором принимают участие как взрослые (желательно имеющие отношение к науке) люди, так и творческие коллективы учащихс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школьников должно последовательно формироваться представление о существенной значимости “объективного” творчества, которое опирается на предварительное глубокое изучение предмета исследования, в то время как творческие озарения возникают в форме редких и непродолжительных актов, сопровождающих творческий труд (Д.И.Менделеев: гений – это 99% труда и 1% гениальности)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Используемая  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5000"/>
          </a:bodyPr>
          <a:p>
            <a:pPr marL="325800" indent="-325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psychologos.ru/articles/view/lichnostno-orientirovannyy_podhod_v_prepodavan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psychologos.ru/articles/view/lichnostno-orientirovannyy_podhod_v_prepodavan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вгений Степан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чностно-ориентированный подход в педагогической деятельности. : М «Сфера» 2006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lyudyammilaya.moy.su/publ/statja_quot_lichnostno_orientirovannyj_podkhod_v_vospitanii_shkolnikov_quot/1-1-0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"/>
          <p:cNvSpPr/>
          <p:nvPr/>
        </p:nvSpPr>
        <p:spPr>
          <a:xfrm>
            <a:off x="755640" y="168120"/>
            <a:ext cx="7575480" cy="32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3968640" y="4724280"/>
            <a:ext cx="6112080" cy="18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4"/>
          <p:cNvSpPr/>
          <p:nvPr/>
        </p:nvSpPr>
        <p:spPr>
          <a:xfrm>
            <a:off x="254160" y="2637000"/>
            <a:ext cx="9358200" cy="24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398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Palatino Linotype"/>
              </a:rPr>
              <a:t>выступает не сумма знаний, умений, навыков, а активный запас ключевых компетенций, обеспечивающих образование на современном уровне, самореализацию и успешную адаптац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5"/>
          <p:cNvSpPr/>
          <p:nvPr/>
        </p:nvSpPr>
        <p:spPr>
          <a:xfrm>
            <a:off x="2521080" y="779400"/>
            <a:ext cx="7091280" cy="16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Palatino Linotype"/>
              </a:rPr>
              <a:t>Целью российского образования в настоящее врем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2448000" y="539640"/>
            <a:ext cx="410508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пределения понятий «личность» и «индивидуальност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"/>
          <p:cNvSpPr/>
          <p:nvPr/>
        </p:nvSpPr>
        <p:spPr>
          <a:xfrm>
            <a:off x="431640" y="2340000"/>
            <a:ext cx="6193080" cy="32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Verdana"/>
              </a:rPr>
              <a:t>Индивидуальность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– человек, характеризуемый со стороны социально значимых отличий от других людей; своеобразие психики и личности индивида, ее неповторим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Verdana"/>
              </a:rPr>
              <a:t>Личность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– определяемое включенностью в общественные отношения системное </a:t>
            </a: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качество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индивида, </a:t>
            </a: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формирующееся в совместной деятельности и общ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3" descr=""/>
          <p:cNvPicPr/>
          <p:nvPr/>
        </p:nvPicPr>
        <p:blipFill>
          <a:blip r:embed="rId1"/>
          <a:stretch/>
        </p:blipFill>
        <p:spPr>
          <a:xfrm>
            <a:off x="6804000" y="395280"/>
            <a:ext cx="3276720" cy="61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"/>
          <p:cNvSpPr/>
          <p:nvPr/>
        </p:nvSpPr>
        <p:spPr>
          <a:xfrm>
            <a:off x="216000" y="2305080"/>
            <a:ext cx="986472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чностно ориентированное обучение направлено на развитие личности ученика и позволяет на принципиально иных началах формировать познавательную деятельность учащихся; оно наиболее перспективно для модернизации и обновления образования в условиях постиндустриального ми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чностно ориентированное образование включает следующие подход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ноуровнев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фференцированн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дивидуальн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бъективно-личностны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Palatino Linotype"/>
              </a:rPr>
              <a:t>Личностно - ориентированное обуч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2"/>
          <p:cNvSpPr/>
          <p:nvPr/>
        </p:nvSpPr>
        <p:spPr>
          <a:xfrm>
            <a:off x="1224000" y="2560680"/>
            <a:ext cx="8640720" cy="366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Palatino Linotype"/>
              </a:rPr>
              <a:t>«</a:t>
            </a: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Это такое обучение, которое во главу угла ставит самобытность ребёнка, его самоценность, субъективность процесса учения. ЛОО – это не просто учет особенностей субъекта учения, это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Palatino Linotype"/>
              </a:rPr>
              <a:t>иная методология организации условий обучения</a:t>
            </a: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, которая предполагает не «учет», а «включение» его собственно личностных функций»            Н.А.Алексее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57744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Индивидуально ориентированное образование</a:t>
            </a:r>
            <a:br>
              <a:rPr sz="2000"/>
            </a:b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 в условиях внешней  дифференциации </a:t>
            </a:r>
            <a:br>
              <a:rPr sz="2000"/>
            </a:b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(на примере уровневой дифференци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60000" y="2422440"/>
            <a:ext cx="4457880" cy="5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оложительные аспек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ключаются неоправданные и нецелесообразные для общества уравниловка и усреднение дет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 учителя появляется возможность помогать слабому, уделять внимание сильном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сутствие в группе отстающих снимает необходимость снижения уровня препода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является возможность более эффективно работать с «трудными» учащими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ализуется желание «сильных» учащихся быстрее и глубже продвигаться в образован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вышается уровень «Я» концеп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вышается уровень мотивации уч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ащемуся в гомогенной группе учиться легч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113440" y="2484000"/>
            <a:ext cx="446400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Отрицательные аспек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ление  учащихся по способностям и возможностям негуман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свечивается социально-экономическое неравен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Слабые» теряют возможность тянуться за «сильным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евод в «слабые» группы воспринимается студентами как униж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совершенство диагностики приводит к тому, что в разряд «слабых» попадают неординарные  учащие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 слабых понижается «Я» концепция, у сильных возникает комплекс «элитарност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1871640" y="-1044720"/>
            <a:ext cx="820908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br>
              <a:rPr sz="4400"/>
            </a:br>
            <a:r>
              <a:rPr b="1" lang="ru-RU" sz="2400" spc="-1" strike="noStrike">
                <a:solidFill>
                  <a:srgbClr val="ff0000"/>
                </a:solidFill>
                <a:latin typeface="Palatino Linotype"/>
              </a:rPr>
              <a:t>Особенность личностно-ориентированного подхода.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1944720" y="1042920"/>
            <a:ext cx="78818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378000" indent="-373320">
              <a:lnSpc>
                <a:spcPct val="93000"/>
              </a:lnSpc>
              <a:spcBef>
                <a:spcPts val="437"/>
              </a:spcBef>
              <a:tabLst>
                <a:tab algn="l" pos="0"/>
                <a:tab algn="l" pos="378000"/>
                <a:tab algn="l" pos="870120"/>
                <a:tab algn="l" pos="1365120"/>
                <a:tab algn="l" pos="1860480"/>
                <a:tab algn="l" pos="2355840"/>
                <a:tab algn="l" pos="2851200"/>
                <a:tab algn="l" pos="3346560"/>
                <a:tab algn="l" pos="3841920"/>
                <a:tab algn="l" pos="4336920"/>
                <a:tab algn="l" pos="4832280"/>
                <a:tab algn="l" pos="5327640"/>
                <a:tab algn="l" pos="5823000"/>
                <a:tab algn="l" pos="6318360"/>
                <a:tab algn="l" pos="6813720"/>
                <a:tab algn="l" pos="7308720"/>
                <a:tab algn="l" pos="7804080"/>
                <a:tab algn="l" pos="8299440"/>
                <a:tab algn="l" pos="8794800"/>
                <a:tab algn="l" pos="9290160"/>
                <a:tab algn="l" pos="9785520"/>
                <a:tab algn="l" pos="1028052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Образовательный процесс должен  быть направлен 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000" indent="-373320">
              <a:lnSpc>
                <a:spcPct val="93000"/>
              </a:lnSpc>
              <a:spcBef>
                <a:spcPts val="437"/>
              </a:spcBef>
              <a:tabLst>
                <a:tab algn="l" pos="0"/>
                <a:tab algn="l" pos="378000"/>
                <a:tab algn="l" pos="870120"/>
                <a:tab algn="l" pos="1365120"/>
                <a:tab algn="l" pos="1860480"/>
                <a:tab algn="l" pos="2355840"/>
                <a:tab algn="l" pos="2851200"/>
                <a:tab algn="l" pos="3346560"/>
                <a:tab algn="l" pos="3841920"/>
                <a:tab algn="l" pos="4336920"/>
                <a:tab algn="l" pos="4832280"/>
                <a:tab algn="l" pos="5327640"/>
                <a:tab algn="l" pos="5823000"/>
                <a:tab algn="l" pos="6318360"/>
                <a:tab algn="l" pos="6813720"/>
                <a:tab algn="l" pos="7308720"/>
                <a:tab algn="l" pos="7804080"/>
                <a:tab algn="l" pos="8299440"/>
                <a:tab algn="l" pos="8794800"/>
                <a:tab algn="l" pos="9290160"/>
                <a:tab algn="l" pos="9785520"/>
                <a:tab algn="l" pos="1028052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alatino Linotype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Palatino Linotype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"/>
          <p:cNvSpPr/>
          <p:nvPr/>
        </p:nvSpPr>
        <p:spPr>
          <a:xfrm>
            <a:off x="2738520" y="3621240"/>
            <a:ext cx="4603680" cy="2143080"/>
          </a:xfrm>
          <a:prstGeom prst="octagon">
            <a:avLst>
              <a:gd name="adj" fmla="val 23148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51480" bIns="51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В цент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Уче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Его ц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Моти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Интере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Скло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Уровень обуч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Способ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4"/>
          <p:cNvSpPr/>
          <p:nvPr/>
        </p:nvSpPr>
        <p:spPr>
          <a:xfrm>
            <a:off x="515880" y="3859200"/>
            <a:ext cx="2222640" cy="1984320"/>
          </a:xfrm>
          <a:prstGeom prst="rightArrow">
            <a:avLst>
              <a:gd name="adj1" fmla="val 50000"/>
              <a:gd name="adj2" fmla="val 2799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51480" bIns="51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Усвоение зн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5"/>
          <p:cNvSpPr/>
          <p:nvPr/>
        </p:nvSpPr>
        <p:spPr>
          <a:xfrm>
            <a:off x="4245120" y="1779480"/>
            <a:ext cx="1906560" cy="1819440"/>
          </a:xfrm>
          <a:prstGeom prst="downArrow">
            <a:avLst>
              <a:gd name="adj1" fmla="val 49676"/>
              <a:gd name="adj2" fmla="val 24931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51480" bIns="51480" anchor="t" anchorCtr="1" vert="eaVer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Palatino Linotype"/>
              </a:rPr>
              <a:t>Развит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Palatino Linotype"/>
              </a:rPr>
              <a:t>познаватель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Palatino Linotype"/>
              </a:rPr>
              <a:t>с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6"/>
          <p:cNvSpPr/>
          <p:nvPr/>
        </p:nvSpPr>
        <p:spPr>
          <a:xfrm>
            <a:off x="7342200" y="3938760"/>
            <a:ext cx="2556000" cy="1984320"/>
          </a:xfrm>
          <a:prstGeom prst="leftArrow">
            <a:avLst>
              <a:gd name="adj1" fmla="val 50000"/>
              <a:gd name="adj2" fmla="val 2799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51480" bIns="51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Palatino Linotype"/>
              </a:rPr>
              <a:t>Способы усвоения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Palatino Linotype"/>
              </a:rPr>
              <a:t>процессы мыш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7"/>
          <p:cNvSpPr/>
          <p:nvPr/>
        </p:nvSpPr>
        <p:spPr>
          <a:xfrm>
            <a:off x="4325760" y="5764320"/>
            <a:ext cx="1984680" cy="15872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51480" bIns="51480" anchor="t" anchorCtr="1" vert="eaVert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Palatino Linotype"/>
              </a:rPr>
              <a:t>Разви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Palatino Linotype"/>
              </a:rPr>
              <a:t>творчески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Palatino Linotype"/>
              </a:rPr>
              <a:t>способнос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2"/>
          <p:cNvSpPr txBox="1"/>
          <p:nvPr/>
        </p:nvSpPr>
        <p:spPr>
          <a:xfrm>
            <a:off x="1800360" y="4859280"/>
            <a:ext cx="526068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3" name="Заголовок 3" descr=""/>
          <p:cNvPicPr/>
          <p:nvPr/>
        </p:nvPicPr>
        <p:blipFill>
          <a:blip r:embed="rId1"/>
          <a:stretch/>
        </p:blipFill>
        <p:spPr>
          <a:xfrm>
            <a:off x="3024360" y="244440"/>
            <a:ext cx="7064280" cy="12556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0"/>
          <p:cNvSpPr/>
          <p:nvPr/>
        </p:nvSpPr>
        <p:spPr>
          <a:xfrm>
            <a:off x="0" y="0"/>
            <a:ext cx="1008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3"/>
          <p:cNvGrpSpPr/>
          <p:nvPr/>
        </p:nvGrpSpPr>
        <p:grpSpPr>
          <a:xfrm>
            <a:off x="1511280" y="1258920"/>
            <a:ext cx="7345440" cy="5459400"/>
            <a:chOff x="1511280" y="1258920"/>
            <a:chExt cx="7345440" cy="5459400"/>
          </a:xfrm>
        </p:grpSpPr>
        <p:sp>
          <p:nvSpPr>
            <p:cNvPr id="76" name="AutoShape 9"/>
            <p:cNvSpPr/>
            <p:nvPr/>
          </p:nvSpPr>
          <p:spPr>
            <a:xfrm>
              <a:off x="1511280" y="2338920"/>
              <a:ext cx="7345440" cy="43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WordArt 8"/>
            <p:cNvSpPr txBox="1"/>
            <p:nvPr/>
          </p:nvSpPr>
          <p:spPr>
            <a:xfrm>
              <a:off x="2073600" y="1258920"/>
              <a:ext cx="6449760" cy="1641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Основные компоненты 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личностно-ориентированного подхода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78" name="Oval 7"/>
            <p:cNvSpPr/>
            <p:nvPr/>
          </p:nvSpPr>
          <p:spPr>
            <a:xfrm>
              <a:off x="3354480" y="2949480"/>
              <a:ext cx="4156560" cy="1207080"/>
            </a:xfrm>
            <a:prstGeom prst="ellipse">
              <a:avLst/>
            </a:prstGeom>
            <a:gradFill rotWithShape="0">
              <a:gsLst>
                <a:gs pos="0">
                  <a:srgbClr val="fcc4f5"/>
                </a:gs>
                <a:gs pos="100000">
                  <a:srgbClr val="ecf9a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200" rIns="61200" tIns="30600" bIns="306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GB" sz="1200" spc="-1" strike="noStrike">
                  <a:solidFill>
                    <a:srgbClr val="ff0066"/>
                  </a:solidFill>
                  <a:latin typeface="Arial"/>
                  <a:ea typeface="Arial"/>
                </a:rPr>
                <a:t>Личностно-ориентированны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GB" sz="1200" spc="-1" strike="noStrike">
                  <a:solidFill>
                    <a:srgbClr val="ff0066"/>
                  </a:solidFill>
                  <a:latin typeface="Arial"/>
                  <a:ea typeface="Arial"/>
                </a:rPr>
                <a:t> </a:t>
              </a:r>
              <a:r>
                <a:rPr b="1" lang="en-GB" sz="1200" spc="-1" strike="noStrike">
                  <a:solidFill>
                    <a:srgbClr val="ff0066"/>
                  </a:solidFill>
                  <a:latin typeface="Arial"/>
                  <a:ea typeface="Arial"/>
                </a:rPr>
                <a:t>подход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6"/>
            <p:cNvSpPr/>
            <p:nvPr/>
          </p:nvSpPr>
          <p:spPr>
            <a:xfrm>
              <a:off x="6695280" y="4167720"/>
              <a:ext cx="2102040" cy="1935360"/>
            </a:xfrm>
            <a:prstGeom prst="wedgeRoundRectCallout">
              <a:avLst>
                <a:gd name="adj1" fmla="val -72814"/>
                <a:gd name="adj2" fmla="val -57875"/>
                <a:gd name="adj3" fmla="val 16667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1200" rIns="61200" tIns="30600" bIns="306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GB" sz="1200" spc="-1" strike="noStrike">
                  <a:solidFill>
                    <a:srgbClr val="ff0066"/>
                  </a:solidFill>
                  <a:latin typeface="Arial"/>
                  <a:ea typeface="Arial"/>
                </a:rPr>
                <a:t>Метод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ff"/>
                </a:buClr>
                <a:buFont typeface="Arial"/>
                <a:buChar char="•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  <a:ea typeface="Arial"/>
                </a:rPr>
                <a:t>Диалог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ff"/>
                </a:buClr>
                <a:buFont typeface="Arial"/>
                <a:buChar char="•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  <a:ea typeface="Arial"/>
                </a:rPr>
                <a:t>Рефлексивны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ff"/>
                </a:buClr>
                <a:buFont typeface="Arial"/>
                <a:buChar char="•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  <a:ea typeface="Arial"/>
                </a:rPr>
                <a:t>Диагностическ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ff"/>
                </a:buClr>
                <a:buFont typeface="Arial"/>
                <a:buChar char="•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  <a:ea typeface="Arial"/>
                </a:rPr>
                <a:t>Создание ситуации выбора и успех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AutoShape 5"/>
            <p:cNvSpPr/>
            <p:nvPr/>
          </p:nvSpPr>
          <p:spPr>
            <a:xfrm>
              <a:off x="3911400" y="4510800"/>
              <a:ext cx="2693520" cy="2207520"/>
            </a:xfrm>
            <a:prstGeom prst="wedgeRoundRectCallout">
              <a:avLst>
                <a:gd name="adj1" fmla="val 305"/>
                <a:gd name="adj2" fmla="val -66916"/>
                <a:gd name="adj3" fmla="val 16667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1200" rIns="61200" tIns="30600" bIns="306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GB" sz="1200" spc="-1" strike="noStrike">
                  <a:solidFill>
                    <a:srgbClr val="ff0066"/>
                  </a:solidFill>
                  <a:latin typeface="Arial"/>
                  <a:ea typeface="Arial"/>
                </a:rPr>
                <a:t>Основные понят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ff"/>
                </a:buClr>
                <a:buFont typeface="Arial"/>
                <a:buChar char="•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GB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Индивидуальность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ff"/>
                </a:buClr>
                <a:buFont typeface="Arial"/>
                <a:buChar char="•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GB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Личность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ff"/>
                </a:buClr>
                <a:buFont typeface="Arial"/>
                <a:buChar char="•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GB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Самовыражен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ff"/>
                </a:buClr>
                <a:buFont typeface="Arial"/>
                <a:buChar char="•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GB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Выбор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ff"/>
                </a:buClr>
                <a:buFont typeface="Arial"/>
                <a:buChar char="•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GB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Педагогическая поддержк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ff"/>
                </a:buClr>
                <a:buFont typeface="Arial"/>
                <a:buChar char="•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GB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Я-концепци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AutoShape 4"/>
            <p:cNvSpPr/>
            <p:nvPr/>
          </p:nvSpPr>
          <p:spPr>
            <a:xfrm>
              <a:off x="1511280" y="4156560"/>
              <a:ext cx="2221560" cy="1981800"/>
            </a:xfrm>
            <a:prstGeom prst="wedgeRoundRectCallout">
              <a:avLst>
                <a:gd name="adj1" fmla="val 45180"/>
                <a:gd name="adj2" fmla="val -68120"/>
                <a:gd name="adj3" fmla="val 16667"/>
              </a:avLst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1200" rIns="61200" tIns="30600" bIns="306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GB" sz="1200" spc="-1" strike="noStrike">
                  <a:solidFill>
                    <a:srgbClr val="ff0066"/>
                  </a:solidFill>
                  <a:latin typeface="Arial"/>
                  <a:ea typeface="Arial"/>
                </a:rPr>
                <a:t>Принцип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ff"/>
                </a:buClr>
                <a:buFont typeface="Arial"/>
                <a:buChar char="•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  <a:ea typeface="Arial"/>
                </a:rPr>
                <a:t>Самоактуализац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ff"/>
                </a:buClr>
                <a:buFont typeface="Arial"/>
                <a:buChar char="•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  <a:ea typeface="Arial"/>
                </a:rPr>
                <a:t>Индивидуально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ff"/>
                </a:buClr>
                <a:buFont typeface="Arial"/>
                <a:buChar char="•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  <a:ea typeface="Arial"/>
                </a:rPr>
                <a:t>Субъективно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ff"/>
                </a:buClr>
                <a:buFont typeface="Arial"/>
                <a:buChar char="•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  <a:ea typeface="Arial"/>
                </a:rPr>
                <a:t>Выбор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ff"/>
                </a:buClr>
                <a:buFont typeface="Arial"/>
                <a:buChar char="•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  <a:ea typeface="Arial"/>
                </a:rPr>
                <a:t>Творчества и успех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ff"/>
                </a:buClr>
                <a:buFont typeface="Arial"/>
                <a:buChar char="•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  <a:ea typeface="Arial"/>
                </a:rPr>
                <a:t>Доверия и поддержк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WordArt 8"/>
            <p:cNvSpPr txBox="1"/>
            <p:nvPr/>
          </p:nvSpPr>
          <p:spPr>
            <a:xfrm>
              <a:off x="2015640" y="1259280"/>
              <a:ext cx="6449760" cy="1641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Основные компоненты 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личностно-ориентированного подхода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07:53:40Z</dcterms:created>
  <dc:creator>user</dc:creator>
  <dc:description/>
  <dc:language>en-US</dc:language>
  <cp:lastModifiedBy>user</cp:lastModifiedBy>
  <dcterms:modified xsi:type="dcterms:W3CDTF">2014-01-23T13:32:59Z</dcterms:modified>
  <cp:revision>73</cp:revision>
  <dc:subject/>
  <dc:title>Слайд 1</dc:title>
</cp:coreProperties>
</file>