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90C03-B083-411C-9522-2491982A8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2" name="PlaceHolder 2"/>
          <p:cNvSpPr>
            <a:spLocks noGrp="1"/>
          </p:cNvSpPr>
          <p:nvPr>
            <p:ph/>
          </p:nvPr>
        </p:nvSpPr>
        <p:spPr>
          <a:xfrm>
            <a:off x="457200" y="162864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3" name="PlaceHolder 3"/>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15EE5-181F-4AB8-84B8-CE0496EC7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5"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6"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7"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8" name="PlaceHolder 5"/>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73115-F91E-4B8A-80F8-5DB3B6CC0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40" name="PlaceHolder 2"/>
          <p:cNvSpPr>
            <a:spLocks noGrp="1"/>
          </p:cNvSpPr>
          <p:nvPr>
            <p:ph/>
          </p:nvPr>
        </p:nvSpPr>
        <p:spPr>
          <a:xfrm>
            <a:off x="45720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1" name="PlaceHolder 3"/>
          <p:cNvSpPr>
            <a:spLocks noGrp="1"/>
          </p:cNvSpPr>
          <p:nvPr>
            <p:ph/>
          </p:nvPr>
        </p:nvSpPr>
        <p:spPr>
          <a:xfrm>
            <a:off x="323964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2" name="PlaceHolder 4"/>
          <p:cNvSpPr>
            <a:spLocks noGrp="1"/>
          </p:cNvSpPr>
          <p:nvPr>
            <p:ph/>
          </p:nvPr>
        </p:nvSpPr>
        <p:spPr>
          <a:xfrm>
            <a:off x="602208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3" name="PlaceHolder 5"/>
          <p:cNvSpPr>
            <a:spLocks noGrp="1"/>
          </p:cNvSpPr>
          <p:nvPr>
            <p:ph/>
          </p:nvPr>
        </p:nvSpPr>
        <p:spPr>
          <a:xfrm>
            <a:off x="45720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4" name="PlaceHolder 6"/>
          <p:cNvSpPr>
            <a:spLocks noGrp="1"/>
          </p:cNvSpPr>
          <p:nvPr>
            <p:ph/>
          </p:nvPr>
        </p:nvSpPr>
        <p:spPr>
          <a:xfrm>
            <a:off x="323964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5" name="PlaceHolder 7"/>
          <p:cNvSpPr>
            <a:spLocks noGrp="1"/>
          </p:cNvSpPr>
          <p:nvPr>
            <p:ph/>
          </p:nvPr>
        </p:nvSpPr>
        <p:spPr>
          <a:xfrm>
            <a:off x="602208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643D7-82FD-460D-B11D-5D7990D6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D1D47-9BC8-4469-B690-5700830A9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57" name="PlaceHolder 2"/>
          <p:cNvSpPr>
            <a:spLocks noGrp="1"/>
          </p:cNvSpPr>
          <p:nvPr>
            <p:ph type="subTitle"/>
          </p:nvPr>
        </p:nvSpPr>
        <p:spPr>
          <a:xfrm>
            <a:off x="457200" y="1628640"/>
            <a:ext cx="8229600" cy="450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038CC-3C47-4848-BDB4-1C2137DBE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59"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26BC4-E4CD-4D1A-84F7-4400F74CA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61"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2"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A26D5-3781-4073-83B7-AF3F2134B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DA87B-264F-4C76-B6C4-AA828D155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259920"/>
            <a:ext cx="8229600" cy="40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93D5E-F17F-4D04-B342-558000E23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66"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7"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8"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10470-77E1-4650-BDAF-F1F04CAB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1" name="PlaceHolder 2"/>
          <p:cNvSpPr>
            <a:spLocks noGrp="1"/>
          </p:cNvSpPr>
          <p:nvPr>
            <p:ph type="subTitle"/>
          </p:nvPr>
        </p:nvSpPr>
        <p:spPr>
          <a:xfrm>
            <a:off x="457200" y="1628640"/>
            <a:ext cx="8229600" cy="450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5E86-9DA4-4A38-8DAF-9245FBF0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0"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1"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2" name="PlaceHolder 4"/>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6A0BF-3A7F-49F9-A8DD-4A87C04FA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4"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5"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6" name="PlaceHolder 4"/>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748A3-47BE-4E14-BE25-A78A7F53F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8" name="PlaceHolder 2"/>
          <p:cNvSpPr>
            <a:spLocks noGrp="1"/>
          </p:cNvSpPr>
          <p:nvPr>
            <p:ph/>
          </p:nvPr>
        </p:nvSpPr>
        <p:spPr>
          <a:xfrm>
            <a:off x="457200" y="162864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9" name="PlaceHolder 3"/>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A0430-E10A-42B8-AD73-56F73C269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81"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2"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3"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4" name="PlaceHolder 5"/>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DD1D9-4421-4249-9727-F61D73228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86" name="PlaceHolder 2"/>
          <p:cNvSpPr>
            <a:spLocks noGrp="1"/>
          </p:cNvSpPr>
          <p:nvPr>
            <p:ph/>
          </p:nvPr>
        </p:nvSpPr>
        <p:spPr>
          <a:xfrm>
            <a:off x="45720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7" name="PlaceHolder 3"/>
          <p:cNvSpPr>
            <a:spLocks noGrp="1"/>
          </p:cNvSpPr>
          <p:nvPr>
            <p:ph/>
          </p:nvPr>
        </p:nvSpPr>
        <p:spPr>
          <a:xfrm>
            <a:off x="323964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8" name="PlaceHolder 4"/>
          <p:cNvSpPr>
            <a:spLocks noGrp="1"/>
          </p:cNvSpPr>
          <p:nvPr>
            <p:ph/>
          </p:nvPr>
        </p:nvSpPr>
        <p:spPr>
          <a:xfrm>
            <a:off x="602208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9" name="PlaceHolder 5"/>
          <p:cNvSpPr>
            <a:spLocks noGrp="1"/>
          </p:cNvSpPr>
          <p:nvPr>
            <p:ph/>
          </p:nvPr>
        </p:nvSpPr>
        <p:spPr>
          <a:xfrm>
            <a:off x="45720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0" name="PlaceHolder 6"/>
          <p:cNvSpPr>
            <a:spLocks noGrp="1"/>
          </p:cNvSpPr>
          <p:nvPr>
            <p:ph/>
          </p:nvPr>
        </p:nvSpPr>
        <p:spPr>
          <a:xfrm>
            <a:off x="323964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1" name="PlaceHolder 7"/>
          <p:cNvSpPr>
            <a:spLocks noGrp="1"/>
          </p:cNvSpPr>
          <p:nvPr>
            <p:ph/>
          </p:nvPr>
        </p:nvSpPr>
        <p:spPr>
          <a:xfrm>
            <a:off x="602208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6F2FA-7C02-417C-B52E-4E0170E11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3"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BE1D3-0AF4-42D5-B02B-D884D76C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5"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16"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BD88-B52A-4939-8833-11D75CF68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2FC2-30DD-4DA7-A598-16214FB3F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5280" y="259920"/>
            <a:ext cx="8229600" cy="40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2D811-621E-47B4-910D-B2CF36A6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0"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1"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2"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DCE2-28F6-4143-9878-642EBA53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4"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5"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6" name="PlaceHolder 4"/>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EF6C-7E2D-4ACF-95FD-FB784FF7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8"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9"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0" name="PlaceHolder 4"/>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9058-0CDC-4C44-A20B-0AB9C8E67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date/time&gt;</a:t>
            </a:r>
            <a:endParaRPr b="0" lang="en-US" sz="1000" spc="-1" strike="noStrike">
              <a:solidFill>
                <a:srgbClr val="000000"/>
              </a:solidFill>
              <a:latin typeface="Garamond"/>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footer&gt;</a:t>
            </a:r>
            <a:endParaRPr b="0" lang="en-US" sz="1000" spc="-1" strike="noStrike">
              <a:solidFill>
                <a:srgbClr val="000000"/>
              </a:solidFill>
              <a:latin typeface="Garamond"/>
            </a:endParaRPr>
          </a:p>
        </p:txBody>
      </p:sp>
      <p:sp>
        <p:nvSpPr>
          <p:cNvPr id="2"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C04B-0C68-4D02-8090-97F98861916B}" type="slidenum">
              <a:rPr b="0" lang="ru-RU" sz="1000" spc="-1" strike="noStrike">
                <a:solidFill>
                  <a:srgbClr val="333399"/>
                </a:solidFill>
                <a:latin typeface="Verdana"/>
              </a:rPr>
              <a:t>&lt;number&gt;</a:t>
            </a:fld>
            <a:endParaRPr b="0" lang="en-US" sz="1000" spc="-1" strike="noStrike">
              <a:solidFill>
                <a:srgbClr val="000000"/>
              </a:solidFill>
              <a:latin typeface="Garamond"/>
            </a:endParaRPr>
          </a:p>
        </p:txBody>
      </p:sp>
      <p:sp>
        <p:nvSpPr>
          <p:cNvPr id="3" name="PlaceHolder 4"/>
          <p:cNvSpPr>
            <a:spLocks noGrp="1"/>
          </p:cNvSpPr>
          <p:nvPr>
            <p:ph type="body"/>
          </p:nvPr>
        </p:nvSpPr>
        <p:spPr>
          <a:xfrm>
            <a:off x="457200" y="1628640"/>
            <a:ext cx="8229600" cy="4502160"/>
          </a:xfrm>
          <a:prstGeom prst="rect">
            <a:avLst/>
          </a:prstGeom>
          <a:noFill/>
          <a:ln w="0">
            <a:noFill/>
          </a:ln>
        </p:spPr>
        <p:txBody>
          <a:bodyPr lIns="90000" rIns="90000" tIns="46800" bIns="46800" anchor="t">
            <a:normAutofit/>
          </a:bodyPr>
          <a:p>
            <a:pPr marL="343080" indent="-343080">
              <a:spcBef>
                <a:spcPts val="601"/>
              </a:spcBef>
              <a:buClr>
                <a:srgbClr val="66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Click to edit the outline text format</a:t>
            </a:r>
            <a:endParaRPr b="1" lang="en-US" sz="2400" spc="-1" strike="noStrike">
              <a:solidFill>
                <a:srgbClr val="003b76"/>
              </a:solidFill>
              <a:latin typeface="Garamond"/>
            </a:endParaRPr>
          </a:p>
          <a:p>
            <a:pPr lvl="1" marL="743040" indent="-285840">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econd Outline Level</a:t>
            </a:r>
            <a:endParaRPr b="1" lang="en-US" sz="2400" spc="-1" strike="noStrike">
              <a:solidFill>
                <a:srgbClr val="003b76"/>
              </a:solidFill>
              <a:latin typeface="Garamond"/>
            </a:endParaRPr>
          </a:p>
          <a:p>
            <a:pPr lvl="2" marL="11430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Third Outline Level</a:t>
            </a:r>
            <a:endParaRPr b="1" lang="en-US" sz="2400" spc="-1" strike="noStrike">
              <a:solidFill>
                <a:srgbClr val="003b76"/>
              </a:solidFill>
              <a:latin typeface="Garamond"/>
            </a:endParaRPr>
          </a:p>
          <a:p>
            <a:pPr lvl="3" marL="1600200" indent="-228600">
              <a:spcBef>
                <a:spcPts val="601"/>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Fourth Outline Level</a:t>
            </a:r>
            <a:endParaRPr b="1" lang="en-US" sz="2400" spc="-1" strike="noStrike">
              <a:solidFill>
                <a:srgbClr val="003b76"/>
              </a:solidFill>
              <a:latin typeface="Garamond"/>
            </a:endParaRPr>
          </a:p>
          <a:p>
            <a:pPr lvl="4" marL="2057400" indent="-228600">
              <a:spcBef>
                <a:spcPts val="601"/>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Fifth Outline Level</a:t>
            </a:r>
            <a:endParaRPr b="1" lang="en-US" sz="2400" spc="-1" strike="noStrike">
              <a:solidFill>
                <a:srgbClr val="003b76"/>
              </a:solidFill>
              <a:latin typeface="Garamond"/>
            </a:endParaRPr>
          </a:p>
          <a:p>
            <a:pPr lvl="5" marL="20574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ixth Outline Level</a:t>
            </a:r>
            <a:endParaRPr b="1" lang="en-US" sz="2400" spc="-1" strike="noStrike">
              <a:solidFill>
                <a:srgbClr val="003b76"/>
              </a:solidFill>
              <a:latin typeface="Garamond"/>
            </a:endParaRPr>
          </a:p>
          <a:p>
            <a:pPr lvl="6" marL="20574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eventh Outline Level</a:t>
            </a:r>
            <a:endParaRPr b="1" lang="en-US" sz="2400" spc="-1" strike="noStrike">
              <a:solidFill>
                <a:srgbClr val="003b76"/>
              </a:solidFill>
              <a:latin typeface="Garamond"/>
            </a:endParaRPr>
          </a:p>
        </p:txBody>
      </p:sp>
      <p:pic>
        <p:nvPicPr>
          <p:cNvPr id="4" name="" descr=""/>
          <p:cNvPicPr/>
          <p:nvPr/>
        </p:nvPicPr>
        <p:blipFill>
          <a:blip r:embed="rId3"/>
          <a:srcRect l="0" t="0" r="0" b="16997"/>
          <a:stretch/>
        </p:blipFill>
        <p:spPr>
          <a:xfrm>
            <a:off x="0" y="0"/>
            <a:ext cx="9144000" cy="1341360"/>
          </a:xfrm>
          <a:prstGeom prst="rect">
            <a:avLst/>
          </a:prstGeom>
          <a:ln w="0">
            <a:noFill/>
          </a:ln>
        </p:spPr>
      </p:pic>
      <p:sp>
        <p:nvSpPr>
          <p:cNvPr id="5" name=""/>
          <p:cNvSpPr/>
          <p:nvPr/>
        </p:nvSpPr>
        <p:spPr>
          <a:xfrm>
            <a:off x="0" y="1341360"/>
            <a:ext cx="9144000" cy="0"/>
          </a:xfrm>
          <a:prstGeom prst="line">
            <a:avLst/>
          </a:prstGeom>
          <a:ln w="2844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Garamond"/>
            </a:endParaRPr>
          </a:p>
        </p:txBody>
      </p:sp>
      <p:pic>
        <p:nvPicPr>
          <p:cNvPr id="6" name="" descr=""/>
          <p:cNvPicPr/>
          <p:nvPr/>
        </p:nvPicPr>
        <p:blipFill>
          <a:blip r:embed="rId4"/>
          <a:stretch/>
        </p:blipFill>
        <p:spPr>
          <a:xfrm>
            <a:off x="68400" y="115920"/>
            <a:ext cx="1301760" cy="1657440"/>
          </a:xfrm>
          <a:prstGeom prst="rect">
            <a:avLst/>
          </a:prstGeom>
          <a:ln w="0">
            <a:noFill/>
          </a:ln>
        </p:spPr>
      </p:pic>
      <p:sp>
        <p:nvSpPr>
          <p:cNvPr id="7" name="PlaceHolder 5"/>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Click to edit the title text format</a:t>
            </a:r>
            <a:endParaRPr b="1" lang="en-US" sz="3600" spc="-1" strike="noStrike">
              <a:solidFill>
                <a:srgbClr val="0033cc"/>
              </a:solidFill>
              <a:latin typeface="Garamond"/>
            </a:endParaRPr>
          </a:p>
        </p:txBody>
      </p:sp>
      <p:pic>
        <p:nvPicPr>
          <p:cNvPr id="8" name="" descr=""/>
          <p:cNvPicPr/>
          <p:nvPr/>
        </p:nvPicPr>
        <p:blipFill>
          <a:blip r:embed="rId5"/>
          <a:stretch/>
        </p:blipFill>
        <p:spPr>
          <a:xfrm rot="710400">
            <a:off x="7740720" y="5516280"/>
            <a:ext cx="1703160" cy="1577880"/>
          </a:xfrm>
          <a:prstGeom prst="rect">
            <a:avLst/>
          </a:prstGeom>
          <a:ln w="0">
            <a:noFill/>
          </a:ln>
        </p:spPr>
      </p:pic>
      <p:pic>
        <p:nvPicPr>
          <p:cNvPr id="9" name="" descr=""/>
          <p:cNvPicPr/>
          <p:nvPr/>
        </p:nvPicPr>
        <p:blipFill>
          <a:blip r:embed="rId6"/>
          <a:stretch/>
        </p:blipFill>
        <p:spPr>
          <a:xfrm rot="19723800">
            <a:off x="-108000" y="691920"/>
            <a:ext cx="1890720" cy="14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Garamond"/>
              </a:rPr>
              <a:t>Click to edit the title text format</a:t>
            </a:r>
            <a:endParaRPr b="0" lang="en-US" sz="4400" spc="-1" strike="noStrike">
              <a:solidFill>
                <a:srgbClr val="0033cc"/>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date/time&gt;</a:t>
            </a:r>
            <a:endParaRPr b="0" lang="en-US" sz="1000" spc="-1" strike="noStrike">
              <a:solidFill>
                <a:srgbClr val="000000"/>
              </a:solidFill>
              <a:latin typeface="Garamond"/>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footer&gt;</a:t>
            </a:r>
            <a:endParaRPr b="0" lang="en-US" sz="1000" spc="-1" strike="noStrike">
              <a:solidFill>
                <a:srgbClr val="000000"/>
              </a:solidFill>
              <a:latin typeface="Garamond"/>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FAE5-BF8D-41FB-9052-1230D64E39E6}" type="slidenum">
              <a:rPr b="0" lang="ru-RU" sz="1000" spc="-1" strike="noStrike">
                <a:solidFill>
                  <a:srgbClr val="333399"/>
                </a:solidFill>
                <a:latin typeface="Verdana"/>
              </a:rPr>
              <a:t>&lt;number&gt;</a:t>
            </a:fld>
            <a:endParaRPr b="0" lang="en-US" sz="1000" spc="-1" strike="noStrike">
              <a:solidFill>
                <a:srgbClr val="000000"/>
              </a:solidFill>
              <a:latin typeface="Garamond"/>
            </a:endParaRPr>
          </a:p>
        </p:txBody>
      </p:sp>
      <p:pic>
        <p:nvPicPr>
          <p:cNvPr id="50" name="" descr=""/>
          <p:cNvPicPr/>
          <p:nvPr/>
        </p:nvPicPr>
        <p:blipFill>
          <a:blip r:embed="rId3"/>
          <a:srcRect l="0" t="0" r="0" b="16997"/>
          <a:stretch/>
        </p:blipFill>
        <p:spPr>
          <a:xfrm>
            <a:off x="0" y="0"/>
            <a:ext cx="9144000" cy="1341360"/>
          </a:xfrm>
          <a:prstGeom prst="rect">
            <a:avLst/>
          </a:prstGeom>
          <a:ln w="0">
            <a:noFill/>
          </a:ln>
        </p:spPr>
      </p:pic>
      <p:sp>
        <p:nvSpPr>
          <p:cNvPr id="51" name=""/>
          <p:cNvSpPr/>
          <p:nvPr/>
        </p:nvSpPr>
        <p:spPr>
          <a:xfrm>
            <a:off x="0" y="1341360"/>
            <a:ext cx="9144000" cy="0"/>
          </a:xfrm>
          <a:prstGeom prst="line">
            <a:avLst/>
          </a:prstGeom>
          <a:ln w="2844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Garamond"/>
            </a:endParaRPr>
          </a:p>
        </p:txBody>
      </p:sp>
      <p:pic>
        <p:nvPicPr>
          <p:cNvPr id="52" name="" descr=""/>
          <p:cNvPicPr/>
          <p:nvPr/>
        </p:nvPicPr>
        <p:blipFill>
          <a:blip r:embed="rId4"/>
          <a:stretch/>
        </p:blipFill>
        <p:spPr>
          <a:xfrm>
            <a:off x="179280" y="115920"/>
            <a:ext cx="2035440" cy="2592360"/>
          </a:xfrm>
          <a:prstGeom prst="rect">
            <a:avLst/>
          </a:prstGeom>
          <a:ln w="0">
            <a:noFill/>
          </a:ln>
        </p:spPr>
      </p:pic>
      <p:sp>
        <p:nvSpPr>
          <p:cNvPr id="53" name=""/>
          <p:cNvSpPr/>
          <p:nvPr/>
        </p:nvSpPr>
        <p:spPr>
          <a:xfrm>
            <a:off x="2052720" y="320760"/>
            <a:ext cx="345600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Book Antiqua"/>
              </a:rPr>
              <a:t>Но люблю тебя, родина кроткая!</a:t>
            </a:r>
            <a:br>
              <a:rPr sz="1600"/>
            </a:br>
            <a:r>
              <a:rPr b="1" i="1" lang="en-US" sz="1600" spc="-1" strike="noStrike">
                <a:solidFill>
                  <a:srgbClr val="003366"/>
                </a:solidFill>
                <a:latin typeface="Book Antiqua"/>
              </a:rPr>
              <a:t>А за что – разгадать не могу.</a:t>
            </a:r>
            <a:endParaRPr b="0" lang="en-US" sz="1600" spc="-1" strike="noStrike">
              <a:solidFill>
                <a:srgbClr val="333399"/>
              </a:solidFill>
              <a:latin typeface="Garamond"/>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Book Antiqua"/>
              </a:rPr>
              <a:t>                                     </a:t>
            </a:r>
            <a:r>
              <a:rPr b="1" i="1" lang="en-US" sz="1600" spc="-1" strike="noStrike">
                <a:solidFill>
                  <a:srgbClr val="003366"/>
                </a:solidFill>
                <a:latin typeface="Book Antiqua"/>
              </a:rPr>
              <a:t>С. Есенин</a:t>
            </a:r>
            <a:endParaRPr b="0" lang="en-US" sz="1600" spc="-1" strike="noStrike">
              <a:solidFill>
                <a:srgbClr val="333399"/>
              </a:solidFill>
              <a:latin typeface="Garamond"/>
            </a:endParaRPr>
          </a:p>
        </p:txBody>
      </p:sp>
      <p:pic>
        <p:nvPicPr>
          <p:cNvPr id="54" name="" descr=""/>
          <p:cNvPicPr/>
          <p:nvPr/>
        </p:nvPicPr>
        <p:blipFill>
          <a:blip r:embed="rId5"/>
          <a:stretch/>
        </p:blipFill>
        <p:spPr>
          <a:xfrm rot="710400">
            <a:off x="7740720" y="5516280"/>
            <a:ext cx="1703160" cy="1577880"/>
          </a:xfrm>
          <a:prstGeom prst="rect">
            <a:avLst/>
          </a:prstGeom>
          <a:ln w="0">
            <a:noFill/>
          </a:ln>
        </p:spPr>
      </p:pic>
      <p:pic>
        <p:nvPicPr>
          <p:cNvPr id="55" name="" descr=""/>
          <p:cNvPicPr/>
          <p:nvPr/>
        </p:nvPicPr>
        <p:blipFill>
          <a:blip r:embed="rId6"/>
          <a:stretch/>
        </p:blipFill>
        <p:spPr>
          <a:xfrm rot="19723800">
            <a:off x="108000" y="1141200"/>
            <a:ext cx="2857320" cy="21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kostya-esenin.ht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nadezhda-volpin.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esenin.niv.ru/esenin/benislavskaya/benislavskaya.htm" TargetMode="External"/><Relationship Id="rId4" Type="http://schemas.openxmlformats.org/officeDocument/2006/relationships/hyperlink" Target="http://esenin.niv.ru/esenin/benislavskaya/benislavskaya.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familysearch?text=&#1055;&#1086;&#1088;&#1090;&#1088;&#1077;&#1090;%20&#1040;&#1085;&#1085;&#1099;%20&#1040;&#1083;&#1077;&#1082;&#1089;&#1077;&#1077;&#1074;&#1085;&#1099;%20&#1057;&#1072;&#1088;&#1076;&#1072;&#1085;&#1086;&#1074;&#1089;&#1082;&#1086;&#1081;.&amp;stype=imag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izryadnova.htm" TargetMode="External"/><Relationship Id="rId3" Type="http://schemas.openxmlformats.org/officeDocument/2006/relationships/hyperlink" Target="http://esenin.niv.ru/esenin/izryadnova.htm" TargetMode="External"/><Relationship Id="rId4" Type="http://schemas.openxmlformats.org/officeDocument/2006/relationships/hyperlink" Target="http://images.yandex.ru/familysearch?text=&#1055;&#1086;&#1088;&#1090;&#1088;&#1077;&#1090;%20&#1040;&#1085;&#1085;&#1099;%20&#1056;&#1086;&#1084;&#1072;&#1085;&#1086;&#1074;&#1085;&#1099;%20&#1048;&#1079;&#1088;&#1103;&#1076;&#1085;&#1086;&#1074;&#1086;&#1081;.&amp;stype=image"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georgij-esenin.htm"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images/people/raih_2.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rayh/rayh.htm" TargetMode="External"/><Relationship Id="rId3" Type="http://schemas.openxmlformats.org/officeDocument/2006/relationships/hyperlink" Target="http://esenin.niv.ru/esenin/rayh/rayh.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71640" y="1890720"/>
            <a:ext cx="7775640" cy="49672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дресаты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юбовной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ирики.</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39640" y="2133720"/>
            <a:ext cx="7920000" cy="3563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b76"/>
                </a:solidFill>
                <a:latin typeface="Garamond"/>
              </a:rPr>
              <a:t>Дети: </a:t>
            </a:r>
            <a:r>
              <a:rPr b="0" lang="ru-RU" sz="2800" spc="-1" strike="noStrike" u="sng">
                <a:solidFill>
                  <a:srgbClr val="666699"/>
                </a:solidFill>
                <a:uFillTx/>
                <a:latin typeface="Garamond"/>
                <a:hlinkClick r:id="rId2"/>
              </a:rPr>
              <a:t>Константин Сергеевич</a:t>
            </a:r>
            <a:r>
              <a:rPr b="1" lang="ru-RU" sz="2800" spc="-1" strike="noStrike">
                <a:solidFill>
                  <a:srgbClr val="003b76"/>
                </a:solidFill>
                <a:latin typeface="Garamond"/>
              </a:rPr>
              <a:t> (03.02.1920, Москва - 26.04.1986, Москва, похоронен на Ваганьковском кладбище. Был известным футбольным статистиком. Дочь Марина). Татьяна Сергеевна (1918 - 1992 год. Член Союза писателей. Жила в Ташкенте. Директор музея Сергея Есенина. Два сына: Владимир и Сергей) </a:t>
            </a:r>
            <a:endParaRPr b="0" lang="en-US" sz="2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124000" y="2852640"/>
            <a:ext cx="21607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109" name=""/>
          <p:cNvSpPr txBox="1"/>
          <p:nvPr/>
        </p:nvSpPr>
        <p:spPr>
          <a:xfrm>
            <a:off x="4788000" y="1844640"/>
            <a:ext cx="3600360" cy="31687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Надежда </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Давыдовна </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Вольпин.</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p:txBody>
      </p:sp>
      <p:pic>
        <p:nvPicPr>
          <p:cNvPr id="110" name="" descr="Надежда Вольпин с сыном Сергея Есенина Александром Вольпиным"/>
          <p:cNvPicPr/>
          <p:nvPr/>
        </p:nvPicPr>
        <p:blipFill>
          <a:blip r:embed="rId2"/>
          <a:stretch/>
        </p:blipFill>
        <p:spPr>
          <a:xfrm>
            <a:off x="611280" y="2276640"/>
            <a:ext cx="3960720" cy="2708280"/>
          </a:xfrm>
          <a:prstGeom prst="rect">
            <a:avLst/>
          </a:prstGeom>
          <a:ln w="0">
            <a:noFill/>
          </a:ln>
        </p:spPr>
      </p:pic>
      <p:sp>
        <p:nvSpPr>
          <p:cNvPr id="111" name=""/>
          <p:cNvSpPr/>
          <p:nvPr/>
        </p:nvSpPr>
        <p:spPr>
          <a:xfrm>
            <a:off x="0" y="5516640"/>
            <a:ext cx="838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95280" y="1916280"/>
            <a:ext cx="8353440" cy="471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b76"/>
                </a:solidFill>
                <a:latin typeface="Garamond"/>
              </a:rPr>
              <a:t>В 1920 году Есенин познакомился и подружился с поэтессой и переводчицей </a:t>
            </a:r>
            <a:r>
              <a:rPr b="0" lang="en-US" sz="2000" spc="-1" strike="noStrike" u="sng">
                <a:solidFill>
                  <a:srgbClr val="666699"/>
                </a:solidFill>
                <a:uFillTx/>
                <a:latin typeface="Garamond"/>
                <a:hlinkClick r:id="rId2"/>
              </a:rPr>
              <a:t>Надеждой Давыдовной Вольпин</a:t>
            </a:r>
            <a:r>
              <a:rPr b="0" lang="en-US" sz="2000" spc="-1" strike="noStrike" u="sng">
                <a:solidFill>
                  <a:srgbClr val="003b76"/>
                </a:solidFill>
                <a:uFillTx/>
                <a:latin typeface="Garamond"/>
              </a:rPr>
              <a:t>. Надежда с юности писала стихи, принимала участие в работе поэтической студии "Зеленая мастерская" под руководством Андрея Белого. Осенью 1920 года примкнула к имажинистам. Тогда началась дружба с Сергеем Есениным. Публиковала в сборниках свои стихи, читала их с эстрады в "Кафе Поэтов" и "Стойле Пегаса" - так называется "кофейный" период поэзии. 12 мая 1924 года, после разрыва с Есениным, в Ленинграде родился внебрачный сын Сергея Есенина и Надежды Давыдовны Вольпин - крупный ученый-математик, известный правозащитник, периодически он публикует стихи (только под фамилией Вольпин). А.Есенин-Вольпин - один из создателей (вместе с Сахаровым) Комитета прав человека. Ныне живет в США.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lum contrast="18000"/>
          </a:blip>
          <a:stretch/>
        </p:blipFill>
        <p:spPr>
          <a:xfrm>
            <a:off x="6804000" y="1700280"/>
            <a:ext cx="2017800" cy="4033800"/>
          </a:xfrm>
          <a:prstGeom prst="rect">
            <a:avLst/>
          </a:prstGeom>
          <a:ln w="0">
            <a:noFill/>
          </a:ln>
        </p:spPr>
      </p:pic>
      <p:sp>
        <p:nvSpPr>
          <p:cNvPr id="114" name=""/>
          <p:cNvSpPr/>
          <p:nvPr/>
        </p:nvSpPr>
        <p:spPr>
          <a:xfrm>
            <a:off x="324000" y="2133720"/>
            <a:ext cx="626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4 ноября 1920 года на литературном вечере "Суд над имажинистами" Есенин познакомился с </a:t>
            </a:r>
            <a:r>
              <a:rPr b="0" lang="ru-RU" sz="2000" spc="-1" strike="noStrike" u="sng">
                <a:solidFill>
                  <a:srgbClr val="666699"/>
                </a:solidFill>
                <a:uFillTx/>
                <a:latin typeface="Garamond"/>
                <a:hlinkClick r:id="rId3"/>
              </a:rPr>
              <a:t>Галиной Артуровной </a:t>
            </a:r>
            <a:r>
              <a:rPr b="0" lang="ru-RU" sz="2000" spc="-1" strike="noStrike" u="sng">
                <a:solidFill>
                  <a:srgbClr val="666699"/>
                </a:solidFill>
                <a:uFillTx/>
                <a:latin typeface="Garamond"/>
                <a:hlinkClick r:id="rId4"/>
              </a:rPr>
              <a:t>Бениславской</a:t>
            </a:r>
            <a:r>
              <a:rPr b="1" lang="ru-RU" sz="2000" spc="-1" strike="noStrike">
                <a:solidFill>
                  <a:srgbClr val="003b76"/>
                </a:solidFill>
                <a:latin typeface="Garamond"/>
              </a:rPr>
              <a:t> (1897-1926).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Галина была дочерью французского студента Артура Карьера и грузинки. Родители вскоре после рождения девочки расстались, мать заболела психически, и девочку удочерили родственники, семья врачей Бениславских, живших в латвийском городе Резекне. Галина Бениславская училась в женской Преображенской гимназии в Петербурге и окончила ее с золотой медалью в 1917 году. </a:t>
            </a:r>
            <a:endParaRPr b="0" lang="en-US" sz="2000" spc="-1" strike="noStrike">
              <a:solidFill>
                <a:srgbClr val="333399"/>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24000" y="1844640"/>
            <a:ext cx="8820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Их отношения с переменным успехом продлились до весны 1925 года. Вернувшись из Константинова, Есенин окончательно порвал с ней. Это было для нее трагедией. Оскорбленная и униженная Галина в своих воспоминаниях писала: "Из-за нескладности и изломанности моих отношений с Сергеем я не раз хотела уйти от него как женщина, хотела быть только другом. Но поняла, что от Сергеем мне не уйти, эту нить не порвать...". Галина Бениславская застрелилась на могиле Есенина. На его могиле она оставила две записки. Одна - простая открытка: "3 декабря 1926 года. Самоубилась здесь, хотя и знаю, после этого еще больше собак будут вешать на Есенина... Но и ему, и мне это все равно. В этой могиле для меня все самое дорогое..." Она похоронена на Ваганьковском кладбище рядом с могилой поэта.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Айседора Дункан"/>
          <p:cNvPicPr/>
          <p:nvPr/>
        </p:nvPicPr>
        <p:blipFill>
          <a:blip r:embed="rId2"/>
          <a:stretch/>
        </p:blipFill>
        <p:spPr>
          <a:xfrm>
            <a:off x="7209000" y="2205000"/>
            <a:ext cx="1935000" cy="3024360"/>
          </a:xfrm>
          <a:prstGeom prst="rect">
            <a:avLst/>
          </a:prstGeom>
          <a:ln w="0">
            <a:noFill/>
          </a:ln>
        </p:spPr>
      </p:pic>
      <p:pic>
        <p:nvPicPr>
          <p:cNvPr id="117" name="" descr=""/>
          <p:cNvPicPr/>
          <p:nvPr/>
        </p:nvPicPr>
        <p:blipFill>
          <a:blip r:embed="rId3"/>
          <a:stretch/>
        </p:blipFill>
        <p:spPr>
          <a:xfrm>
            <a:off x="0" y="0"/>
            <a:ext cx="3780000" cy="3701880"/>
          </a:xfrm>
          <a:prstGeom prst="rect">
            <a:avLst/>
          </a:prstGeom>
          <a:ln w="0">
            <a:noFill/>
          </a:ln>
        </p:spPr>
      </p:pic>
      <p:pic>
        <p:nvPicPr>
          <p:cNvPr id="118" name="" descr=""/>
          <p:cNvPicPr/>
          <p:nvPr/>
        </p:nvPicPr>
        <p:blipFill>
          <a:blip r:embed="rId4"/>
          <a:stretch/>
        </p:blipFill>
        <p:spPr>
          <a:xfrm>
            <a:off x="0" y="3956040"/>
            <a:ext cx="2011320" cy="2901960"/>
          </a:xfrm>
          <a:prstGeom prst="rect">
            <a:avLst/>
          </a:prstGeom>
          <a:ln w="0">
            <a:noFill/>
          </a:ln>
        </p:spPr>
      </p:pic>
      <p:pic>
        <p:nvPicPr>
          <p:cNvPr id="119" name="" descr=""/>
          <p:cNvPicPr/>
          <p:nvPr/>
        </p:nvPicPr>
        <p:blipFill>
          <a:blip r:embed="rId5"/>
          <a:stretch/>
        </p:blipFill>
        <p:spPr>
          <a:xfrm>
            <a:off x="3059280" y="2421000"/>
            <a:ext cx="3600360" cy="2716200"/>
          </a:xfrm>
          <a:prstGeom prst="rect">
            <a:avLst/>
          </a:prstGeom>
          <a:ln w="0">
            <a:noFill/>
          </a:ln>
        </p:spPr>
      </p:pic>
      <p:sp>
        <p:nvSpPr>
          <p:cNvPr id="120" name=""/>
          <p:cNvSpPr txBox="1"/>
          <p:nvPr/>
        </p:nvSpPr>
        <p:spPr>
          <a:xfrm>
            <a:off x="5076720" y="620640"/>
            <a:ext cx="32799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йседора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Дункан.</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21" name=""/>
          <p:cNvSpPr/>
          <p:nvPr/>
        </p:nvSpPr>
        <p:spPr>
          <a:xfrm>
            <a:off x="2124000" y="57340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Память о ней - в поэме "Черный человек".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1628640"/>
            <a:ext cx="9144000" cy="619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Осенью 1921 года произошло знакомство Есенина с "босоножкой" Айседорой Дункан (1877-1927). По воспоминаниям современников, Айседора влюбилась в Есенина с первого взгляда, да и Есенин сразу увлекся ею. 2 мая 1922 года Сергей Есенин и Айседора Дункан решили закрепить свой брак по советским законам, так как им предстояла поездка в Америку. Они расписались в загсе Хамовнического Совета. Когда их спросили, какую фамилию выбирают, оба пожелали носить двойную фамилию - "Дункан-Есенин". Так и записали в брачном свидетельстве и в их паспортах.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Мне бы только смотреть на тебя,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Видеть глаз злато-карий омут.</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И чтоб, прошлое не любя,</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Ты уйти не смогла к другому.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Эта страница жизни Сергея Есенина - самая сумбурная, с бесконечными ссорами и скандалами. Они много раз расходились и сходились вновь. О романе Есенина с Дункан написаны сотни томов. Делались многочисленные попытки разгадать тайну отношений этих двух таких не похожих друг на друга людей.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Августа Миклашевская"/>
          <p:cNvPicPr/>
          <p:nvPr/>
        </p:nvPicPr>
        <p:blipFill>
          <a:blip r:embed="rId2"/>
          <a:stretch/>
        </p:blipFill>
        <p:spPr>
          <a:xfrm>
            <a:off x="539640" y="1700280"/>
            <a:ext cx="2924280" cy="4608360"/>
          </a:xfrm>
          <a:prstGeom prst="rect">
            <a:avLst/>
          </a:prstGeom>
          <a:ln w="0">
            <a:noFill/>
          </a:ln>
        </p:spPr>
      </p:pic>
      <p:sp>
        <p:nvSpPr>
          <p:cNvPr id="124" name=""/>
          <p:cNvSpPr txBox="1"/>
          <p:nvPr/>
        </p:nvSpPr>
        <p:spPr>
          <a:xfrm>
            <a:off x="5219640" y="1413000"/>
            <a:ext cx="3314880" cy="381636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вгуст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еонидовн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Миклашевска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25" name=""/>
          <p:cNvSpPr/>
          <p:nvPr/>
        </p:nvSpPr>
        <p:spPr>
          <a:xfrm>
            <a:off x="3492360" y="5229360"/>
            <a:ext cx="46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й посвящено 7 стихотворений из цикла "Любовь хулигана". Среди них и "Заметался пожар голубой".</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124000" y="2276640"/>
            <a:ext cx="3384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127" name=""/>
          <p:cNvSpPr/>
          <p:nvPr/>
        </p:nvSpPr>
        <p:spPr>
          <a:xfrm>
            <a:off x="395280" y="1773360"/>
            <a:ext cx="8424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августе 1923 года произошла встреча Есенина с актрисой Московского Камерного театра Августой Леонидовной Миклашевской. Вскоре Августа стала счастливой соперницей Дункан. Но несмотря на страстную увлечённость молодым поэтом, она смогла подчинить сердце разуму. Именно Августе Миклашевской Есенин посвятил 7 стихотворений из знаменитого цикла "Любовь хулигана".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 Я б навеки пошёл за тобой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Хоть в свои, хоть в чужие дали...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первый раз я запел про любовь,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первый раз отрекаюсь скандалить.</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4140360" y="1844640"/>
            <a:ext cx="434628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Шаганэ</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Шагандухт)</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Нерсесовной</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Тальян.</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pic>
        <p:nvPicPr>
          <p:cNvPr id="129" name="" descr=" "/>
          <p:cNvPicPr/>
          <p:nvPr/>
        </p:nvPicPr>
        <p:blipFill>
          <a:blip r:embed="rId2"/>
          <a:stretch/>
        </p:blipFill>
        <p:spPr>
          <a:xfrm>
            <a:off x="468360" y="1989000"/>
            <a:ext cx="3273480" cy="4869000"/>
          </a:xfrm>
          <a:prstGeom prst="rect">
            <a:avLst/>
          </a:prstGeom>
          <a:ln w="0">
            <a:noFill/>
          </a:ln>
        </p:spPr>
      </p:pic>
      <p:sp>
        <p:nvSpPr>
          <p:cNvPr id="130" name=""/>
          <p:cNvSpPr/>
          <p:nvPr/>
        </p:nvSpPr>
        <p:spPr>
          <a:xfrm>
            <a:off x="3851280" y="5516640"/>
            <a:ext cx="529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оэтический образ Шагане в цикле стихотворений "Персидские мотивы".</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a:hlinkClick r:id="rId2"/>
          </p:cNvPr>
          <p:cNvPicPr/>
          <p:nvPr/>
        </p:nvPicPr>
        <p:blipFill>
          <a:blip r:embed="rId3"/>
          <a:stretch/>
        </p:blipFill>
        <p:spPr>
          <a:xfrm>
            <a:off x="1332000" y="1413000"/>
            <a:ext cx="2943000" cy="4464000"/>
          </a:xfrm>
          <a:prstGeom prst="rect">
            <a:avLst/>
          </a:prstGeom>
          <a:ln w="0">
            <a:noFill/>
          </a:ln>
        </p:spPr>
      </p:pic>
      <p:sp>
        <p:nvSpPr>
          <p:cNvPr id="94" name=""/>
          <p:cNvSpPr/>
          <p:nvPr/>
        </p:nvSpPr>
        <p:spPr>
          <a:xfrm>
            <a:off x="5148360" y="1916280"/>
            <a:ext cx="352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Сардановская </a:t>
            </a:r>
            <a:endParaRPr b="0" lang="en-US" sz="32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Анна Алексеевна.</a:t>
            </a:r>
            <a:endParaRPr b="0" lang="en-US" sz="3200" spc="-1" strike="noStrike">
              <a:solidFill>
                <a:srgbClr val="333399"/>
              </a:solidFill>
              <a:latin typeface="Garamond"/>
            </a:endParaRPr>
          </a:p>
        </p:txBody>
      </p:sp>
      <p:sp>
        <p:nvSpPr>
          <p:cNvPr id="95" name=""/>
          <p:cNvSpPr/>
          <p:nvPr/>
        </p:nvSpPr>
        <p:spPr>
          <a:xfrm>
            <a:off x="4788000" y="3284640"/>
            <a:ext cx="395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й посвящены стихотворения "Зачем зовешь" (к сожалению, до сих пор не найдено) и "За горами, за желтыми долами".</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0" y="170028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зимние месяцы 1924/25 гг., когда Есенин жил в Батуме, он познакомился там с молодой женщиной, тогда учительницей русского языка - Шаганэ (Шагандухт) Нерсесовной Тальян (в замужестве Тертерян) (1900-1976), они несколько раз встречались, Есенин подарил ей свой сборник с дарственной надписью. Но с его отъездом из Батума знакомство оборвалось, и в последующие месяцы он никаких усилий к его возобновлению не прилагал, хотя имя Шаганэ вновь возникло в стихах, написанных в марте, а потом в августе 1925 г.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Шаганэ ты моя, Шаганэ!</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отому, что я с севера, что ли,</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Я готов рассказать тебе поле,</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ро волнистую рожь при луне.</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Шаганэ ты моя, Шаганэ.</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Софья Андреевна Толстая и Есенин"/>
          <p:cNvPicPr/>
          <p:nvPr/>
        </p:nvPicPr>
        <p:blipFill>
          <a:blip r:embed="rId2"/>
          <a:stretch/>
        </p:blipFill>
        <p:spPr>
          <a:xfrm>
            <a:off x="1187280" y="1484280"/>
            <a:ext cx="3449880" cy="4824360"/>
          </a:xfrm>
          <a:prstGeom prst="rect">
            <a:avLst/>
          </a:prstGeom>
          <a:ln w="0">
            <a:noFill/>
          </a:ln>
        </p:spPr>
      </p:pic>
      <p:sp>
        <p:nvSpPr>
          <p:cNvPr id="133" name=""/>
          <p:cNvSpPr txBox="1"/>
          <p:nvPr/>
        </p:nvSpPr>
        <p:spPr>
          <a:xfrm>
            <a:off x="5651640" y="2205000"/>
            <a:ext cx="28288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Софь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ндреевн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Толста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34" name=""/>
          <p:cNvSpPr/>
          <p:nvPr/>
        </p:nvSpPr>
        <p:spPr>
          <a:xfrm>
            <a:off x="4716360" y="5445000"/>
            <a:ext cx="3456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е образ - в стихотворении "Видно, так заведено навеки."</a:t>
            </a:r>
            <a:endParaRPr b="0" lang="en-US" sz="2400" spc="-1" strike="noStrike">
              <a:solidFill>
                <a:srgbClr val="333399"/>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95280" y="1484280"/>
            <a:ext cx="83534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5 марта 1925 года - знакомство с внучкой Льва Толстого Софьей Андреевной Толстой (1900-1957). Она была младше Есенина на 5 лет, в ее жилах текла кровь величайшего писателя мира. Софья Андреевна заведовала библиотекой Союза писателей. 18 октября 1925 года состоялась регистрация брака с С.А.Толстой. Софья Толстая - еще одна не сбывшаяся надежда Есенина создать семью. Вышедшая из аристократической семьи, по воспоминаниям друзей Есенина, очень высокомерная, гордая, она требовала соблюдения этикета и беспрекословного повиновения. Эти ее качества никак не сочетались с простотой, великодушием, веселостью, озорным характером Сергея. Вскоре они разошлись.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68360" y="1700280"/>
            <a:ext cx="8280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Garamond"/>
              </a:rPr>
              <a:t>Сардановская (в замужестве Олоновская) Анна Алексеевна (1896-1921), юношеское увлечение Есенина, учительница, родственница константиновского священника отца Ивана (Смирнова). Возможно, знакомство Есенина с Сардановской относится к 1906 г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Garamond"/>
              </a:rPr>
              <a:t>Скончалась родами 7 апреля 1921 г. Не исключено, что с известием о ее смерти связан рассказ Есенина: "У меня была настоящая любовь. К простой женщине. В деревне. Я приезжал к ней. Приходил тайно. Все рассказывал ей. Об этом никто не знает. Я давно люблю ее. Горько мне. Жалко. Она умерла. Никого я так не любил. Больше я никого не люблю".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1916280"/>
            <a:ext cx="698508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b76"/>
                </a:solidFill>
                <a:latin typeface="Garamond"/>
              </a:rPr>
              <a:t>Мария Парменовна Бальзамова, подруга Анны Сардановской, трепетный, чистый образ "тургеневской девушки". Платонические чувства поэта к ней нашли воплощение в стихотворениях "Ты плакала в вечерней тишине" и "Не бродить, не мять в кустах багряных." </a:t>
            </a:r>
            <a:endParaRPr b="0" lang="en-US" sz="32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24000" y="2349360"/>
            <a:ext cx="4176720" cy="49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66699"/>
                </a:solidFill>
                <a:uFillTx/>
                <a:latin typeface="Garamond"/>
                <a:hlinkClick r:id="rId2"/>
              </a:rPr>
              <a:t>Анна Романовна </a:t>
            </a:r>
            <a:r>
              <a:rPr b="0" lang="ru-RU" sz="2400" spc="-1" strike="noStrike" u="sng">
                <a:solidFill>
                  <a:srgbClr val="666699"/>
                </a:solidFill>
                <a:uFillTx/>
                <a:latin typeface="Garamond"/>
                <a:hlinkClick r:id="rId3"/>
              </a:rPr>
              <a:t>Изряднова</a:t>
            </a:r>
            <a:r>
              <a:rPr b="1" lang="ru-RU" sz="2400" spc="-1" strike="noStrike">
                <a:solidFill>
                  <a:srgbClr val="003b76"/>
                </a:solidFill>
                <a:latin typeface="Garamond"/>
              </a:rPr>
              <a:t> (1891-1946) - Есенин вступил с ней в гражданский брак осенью 1913 года, работавшей вместе с Есениным корректором в типографии. 21 декабря 1914 года у них родился сын Юрий, но Есенин вскоре оставил семью.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pic>
        <p:nvPicPr>
          <p:cNvPr id="99" name="" descr="">
            <a:hlinkClick r:id="rId4"/>
          </p:cNvPr>
          <p:cNvPicPr/>
          <p:nvPr/>
        </p:nvPicPr>
        <p:blipFill>
          <a:blip r:embed="rId5">
            <a:lum contrast="18000"/>
          </a:blip>
          <a:stretch/>
        </p:blipFill>
        <p:spPr>
          <a:xfrm>
            <a:off x="5076720" y="1557360"/>
            <a:ext cx="3252960" cy="4176720"/>
          </a:xfrm>
          <a:prstGeom prst="rect">
            <a:avLst/>
          </a:prstGeom>
          <a:ln w="0">
            <a:noFill/>
          </a:ln>
        </p:spPr>
      </p:pic>
      <p:sp>
        <p:nvSpPr>
          <p:cNvPr id="2" name="PlaceHolder 1"/>
          <p:cNvSpPr>
            <a:spLocks noGrp="1"/>
          </p:cNvSpPr>
          <p:nvPr>
            <p:ph type="ftr" idx="2"/>
          </p:nvPr>
        </p:nvSpPr>
        <p:spPr/>
        <p:txBody>
          <a:bodyPr/>
          <a:p>
            <a:r>
              <a:t>Конахина О. А.</a:t>
            </a: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1989000"/>
            <a:ext cx="8496000" cy="489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Garamond"/>
                <a:hlinkClick r:id="rId2"/>
              </a:rPr>
              <a:t>Есенин Юрий (Георгий) Сергеевич</a:t>
            </a:r>
            <a:r>
              <a:rPr b="0" lang="en-US" sz="2400" spc="-1" strike="noStrike" u="sng">
                <a:solidFill>
                  <a:srgbClr val="003b76"/>
                </a:solidFill>
                <a:uFillTx/>
                <a:latin typeface="Garamond"/>
              </a:rPr>
              <a:t> родился в 1914 году в Москве. Закончил Московский авиатехникум. 4 апреля 1937 года Юрий Есенин был арестован на Дальнем Востоке, (где проходил воинскую службу), как "активный участник контрреволюционной фашистко - террористической группы", по приказу зам. наркома внутренних дел Я. Агранова. 18 мая Есенин был доставлен в Москву на Лубянку. Подвергся массированной психологической обработке сотрудников НКВД и подписал все обвинения в свой адрес. 13 августа 1937 года Ю. Есенин был расстрелян. В 1956 году Юрий Есенин посмертно реабилитирован.</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95280" y="1989000"/>
            <a:ext cx="4032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Лидия Ивановна Кашина, владелица Константиновского усадебного дома, с ее именем связан образ Анны Снегиной, ей посвящено одно из лучших стихотворений Есенина "Зеленая прическа".</a:t>
            </a:r>
            <a:endParaRPr b="0" lang="en-US" sz="2400" spc="-1" strike="noStrike">
              <a:solidFill>
                <a:srgbClr val="333399"/>
              </a:solidFill>
              <a:latin typeface="Garamond"/>
            </a:endParaRPr>
          </a:p>
        </p:txBody>
      </p:sp>
      <p:pic>
        <p:nvPicPr>
          <p:cNvPr id="102" name="" descr=" "/>
          <p:cNvPicPr/>
          <p:nvPr/>
        </p:nvPicPr>
        <p:blipFill>
          <a:blip r:embed="rId2"/>
          <a:stretch/>
        </p:blipFill>
        <p:spPr>
          <a:xfrm>
            <a:off x="4932360" y="1484280"/>
            <a:ext cx="2895480" cy="4753080"/>
          </a:xfrm>
          <a:prstGeom prst="rect">
            <a:avLst/>
          </a:prstGeom>
          <a:ln w="0">
            <a:noFill/>
          </a:ln>
        </p:spPr>
      </p:pic>
      <p:sp>
        <p:nvSpPr>
          <p:cNvPr id="2" name="PlaceHolder 1"/>
          <p:cNvSpPr>
            <a:spLocks noGrp="1"/>
          </p:cNvSpPr>
          <p:nvPr>
            <p:ph type="ftr" idx="2"/>
          </p:nvPr>
        </p:nvSpPr>
        <p:spPr/>
        <p:txBody>
          <a:bodyPr/>
          <a:p>
            <a:r>
              <a:t>Конахина О. А.</a:t>
            </a: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Зинаида Райх с детьми - Таней и Костей">
            <a:hlinkClick r:id="rId2"/>
          </p:cNvPr>
          <p:cNvPicPr/>
          <p:nvPr/>
        </p:nvPicPr>
        <p:blipFill>
          <a:blip r:embed="rId3">
            <a:lum contrast="18000"/>
          </a:blip>
          <a:stretch/>
        </p:blipFill>
        <p:spPr>
          <a:xfrm>
            <a:off x="1835280" y="1413000"/>
            <a:ext cx="5903640" cy="3906720"/>
          </a:xfrm>
          <a:prstGeom prst="rect">
            <a:avLst/>
          </a:prstGeom>
          <a:ln w="0">
            <a:noFill/>
          </a:ln>
        </p:spPr>
      </p:pic>
      <p:sp>
        <p:nvSpPr>
          <p:cNvPr id="104" name=""/>
          <p:cNvSpPr txBox="1"/>
          <p:nvPr/>
        </p:nvSpPr>
        <p:spPr>
          <a:xfrm>
            <a:off x="2340000" y="476280"/>
            <a:ext cx="5184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33cccc"/>
                  </a:solidFill>
                  <a:miter/>
                </a:ln>
                <a:solidFill>
                  <a:srgbClr val="ffffff"/>
                </a:solidFill>
                <a:effectLst>
                  <a:outerShdw dist="17819" dir="2700000" blurRad="0" rotWithShape="0">
                    <a:srgbClr val="808080">
                      <a:alpha val="80000"/>
                    </a:srgbClr>
                  </a:outerShdw>
                </a:effectLst>
                <a:latin typeface="Arial"/>
              </a:rPr>
              <a:t>Зинаида Райх.</a:t>
            </a:r>
            <a:endParaRPr b="0" i="1" lang="en-US" sz="1800" spc="1" strike="noStrike">
              <a:ln w="9360">
                <a:solidFill>
                  <a:srgbClr val="33cccc"/>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05" name=""/>
          <p:cNvSpPr/>
          <p:nvPr/>
        </p:nvSpPr>
        <p:spPr>
          <a:xfrm>
            <a:off x="395280" y="5589720"/>
            <a:ext cx="7561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Отношения между Есениным и Райх нашли отражение в стихотворении "Письмо к женщине".</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24000" y="1916280"/>
            <a:ext cx="8820000" cy="569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6699"/>
                </a:solidFill>
                <a:uFillTx/>
                <a:latin typeface="Garamond"/>
                <a:hlinkClick r:id="rId2"/>
              </a:rPr>
              <a:t>Зинаида Николаевна </a:t>
            </a:r>
            <a:r>
              <a:rPr b="0" lang="ru-RU" sz="2800" spc="-1" strike="noStrike" u="sng">
                <a:solidFill>
                  <a:srgbClr val="666699"/>
                </a:solidFill>
                <a:uFillTx/>
                <a:latin typeface="Garamond"/>
                <a:hlinkClick r:id="rId3"/>
              </a:rPr>
              <a:t>Райх</a:t>
            </a:r>
            <a:r>
              <a:rPr b="1" lang="ru-RU" sz="2800" spc="-1" strike="noStrike">
                <a:solidFill>
                  <a:srgbClr val="003b76"/>
                </a:solidFill>
                <a:latin typeface="Garamond"/>
              </a:rPr>
              <a:t> (1894-1939) с детьми - Таней и Костей. </a:t>
            </a:r>
            <a:endParaRPr b="0" lang="en-US" sz="28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b76"/>
                </a:solidFill>
                <a:latin typeface="Garamond"/>
              </a:rPr>
              <a:t>30 июля 1917 года Есенин обвенчался с красавицей-актрисой Зинаидой Райх в церкви Кирика и Улиты Вологодского уезда. 29 мая 1918 года у них родилась дочь Татьяна. Дочь, белокурую и голубоглазую, Есенин очень любил. 3 февраля 1920 года, уже после того, как Есенин разошелся с Зинаидой Райх, у них родился сын Константин. 2 октября 1921 года народный суд г. Орла вынес решение о расторжении брака Есенина с Райх. </a:t>
            </a:r>
            <a:endParaRPr b="0" lang="en-US" sz="2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2T12:47:20Z</dcterms:created>
  <dc:creator>_Wizard_</dc:creator>
  <dc:description/>
  <dc:language>en-US</dc:language>
  <cp:lastModifiedBy>User</cp:lastModifiedBy>
  <dcterms:modified xsi:type="dcterms:W3CDTF">2014-01-23T08:20:56Z</dcterms:modified>
  <cp:revision>65</cp:revision>
  <dc:subject/>
  <dc:title>Россия!  Сердцу милый край!</dc:title>
</cp:coreProperties>
</file>