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993-820B-4B9B-AE42-32D8A35F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074-246E-4F9B-8AD2-F6C1BD47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C11-EDE8-4BF8-923C-B8B4DE1A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57AB-A628-4F30-9714-97CBC77E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1DB9-70CF-437D-A159-C994EA3C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7163-8BA1-4A23-AE66-4F646B75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2A45-C47E-4772-A0A0-15C09A9F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1CEA-941B-44FB-9BB0-C5E6CDE9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B3AD-8E69-40BB-BC41-5BBFEDA6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872D-D927-4A1B-AF7D-74D9D851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F17B-C428-443C-8936-CE478E00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90B-342E-4690-9C38-2A36B8FC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A661-501F-4204-A473-503E94DF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FF5E-0291-4938-B575-844E398D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DD6C-8B8F-4960-94AB-C9F53871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7DBB-57D7-4C7F-88D7-970BA53F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FD95-BB8D-42E7-9943-995F3118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FD1-1E36-4BAC-9E5F-F724266C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4A82-DF35-42A9-A088-4FEA3987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19D-EFAF-4909-942C-FA874C1B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357-95E3-4348-A4C3-26C6CB95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25D-45FC-426B-B7E9-0D4C3D47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7B8D-08F5-42EF-BA56-F45A52B8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D749-CFA5-4035-A0B0-BEAC7624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9C4F-111A-4E3A-A73B-4DC5D14811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D:\клипарты\школа\01f31e9621df.png"/>
          <p:cNvPicPr/>
          <p:nvPr/>
        </p:nvPicPr>
        <p:blipFill>
          <a:blip r:embed="rId3"/>
          <a:stretch/>
        </p:blipFill>
        <p:spPr>
          <a:xfrm>
            <a:off x="7215120" y="4786200"/>
            <a:ext cx="1677960" cy="188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D:\клипарты\школа\01f31e9621df.png"/>
          <p:cNvPicPr/>
          <p:nvPr/>
        </p:nvPicPr>
        <p:blipFill>
          <a:blip r:embed="rId3"/>
          <a:stretch/>
        </p:blipFill>
        <p:spPr>
          <a:xfrm>
            <a:off x="7215120" y="4786200"/>
            <a:ext cx="1677960" cy="1889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D:\клипарты\школа\6746844630a4.jpg"/>
          <p:cNvPicPr/>
          <p:nvPr/>
        </p:nvPicPr>
        <p:blipFill>
          <a:blip r:embed="rId4"/>
          <a:stretch/>
        </p:blipFill>
        <p:spPr>
          <a:xfrm>
            <a:off x="428760" y="500040"/>
            <a:ext cx="8429400" cy="4929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D:\клипарты\школа\01f31e9621df.png"/>
          <p:cNvPicPr/>
          <p:nvPr/>
        </p:nvPicPr>
        <p:blipFill>
          <a:blip r:embed="rId5"/>
          <a:stretch/>
        </p:blipFill>
        <p:spPr>
          <a:xfrm>
            <a:off x="7000920" y="4643280"/>
            <a:ext cx="1677960" cy="1889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8199-CF3D-4202-9D47-F6FDE29F25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ематическая рег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тур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ематические шарад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1 тур. Математические 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8920" y="1557360"/>
            <a:ext cx="707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буквой «р» - с овцы стригу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нити  прочные пряд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 без «р» - нужна для счё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ифрой быть – её рабо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1 тур. Математические 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92360" y="1557360"/>
            <a:ext cx="700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исло я меньше деся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ня тебе легко най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 если букве «я» прикажеш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ядом вст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 всё: отец, и ты, и дедушка,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1 тур. Математические 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ждаюсь на мебельной фабрике 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в каждом хозяйстве нельзя без ме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бросишь последнюю букву мою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ванье большому числу я да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1 тур. Математические 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«к» - фигура без углов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«д» - с тобой дружить го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1 тур. Математические 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18920" y="1557360"/>
            <a:ext cx="707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буквой «р» - с овцы стригу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нити  прочные пряд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 без «р» - нужна для счё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ифрой быть – её рабо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ше</a:t>
            </a: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р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ть – шесть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1 тур. Математические 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92360" y="1557360"/>
            <a:ext cx="700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исло я меньше деся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ня тебе легко най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 если букве «я» прикажеш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ядом вст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 всё: отец, и ты, и дедушка,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семь – семь</a:t>
            </a: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я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1 тур. Математические 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ждаюсь на мебельной фабрике 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в каждом хозяйстве нельзя без ме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бросишь последнюю букву мою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ванье большому числу я да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сто</a:t>
            </a: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л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– сто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1 тур. Математические ша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«к» - фигура без углов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«д» - с тобой дружить го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к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руг- </a:t>
            </a:r>
            <a:r>
              <a:rPr b="1" lang="en-US" sz="5400" spc="-1" strike="noStrike">
                <a:solidFill>
                  <a:srgbClr val="c0504d"/>
                </a:solidFill>
                <a:latin typeface="Arial"/>
              </a:rPr>
              <a:t>д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руг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тур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твёртый лишн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18920" y="1412640"/>
            <a:ext cx="583236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ног всего пляс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ый день на карнавал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ьминог, жираф, свин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ещё вприсядку, 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2 тур. </a:t>
            </a:r>
            <a:br>
              <a:rPr sz="4000"/>
            </a:b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Четвёртый лишн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79640" y="1600200"/>
            <a:ext cx="194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др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кт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рр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ал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1557360"/>
            <a:ext cx="2158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юй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р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ты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2 тур. </a:t>
            </a:r>
            <a:br>
              <a:rPr sz="4000"/>
            </a:b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Четвёртый лишн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1619280" y="184464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2843280" y="184464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184464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4067280" y="184464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2843280" y="321300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4067280" y="321300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5292720" y="321300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1619280" y="321300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2 тур. </a:t>
            </a:r>
            <a:br>
              <a:rPr sz="4000"/>
            </a:b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Четвёртый лишн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79640" y="1600200"/>
            <a:ext cx="194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др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Arial"/>
              </a:rPr>
              <a:t>Гекта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рр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ал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4788000" y="1557360"/>
            <a:ext cx="2158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юй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р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Arial"/>
              </a:rPr>
              <a:t>Алты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2 тур. </a:t>
            </a:r>
            <a:br>
              <a:rPr sz="4000"/>
            </a:b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Четвёртый лишн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1619280" y="184464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184464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1557360"/>
            <a:ext cx="1224000" cy="1297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4067280" y="184464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321300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3068640"/>
            <a:ext cx="1297080" cy="1295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3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321300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1619280" y="3213000"/>
            <a:ext cx="7920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тур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олько это буде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3 тур. </a:t>
            </a:r>
            <a:br>
              <a:rPr sz="4000"/>
            </a:b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Сколько это буде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9236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ь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юж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3 тур. </a:t>
            </a:r>
            <a:br>
              <a:rPr sz="4000"/>
            </a:b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Сколько это буде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9236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ь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юж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4427640" y="1557360"/>
            <a:ext cx="3889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0 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20=1*2*3*4*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тур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больш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 тур. Что больш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коть или саж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ош или гривенн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дро или што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ктар или а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336600"/>
                </a:solidFill>
                <a:latin typeface="Arial"/>
              </a:rPr>
              <a:t> тур. Что больш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коть или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саж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ош или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гривенн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Ведр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ли што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Гекта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ли а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19280" y="126828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зялись за руки друзь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етий справа – это 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ева пятым я сто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ку держит друг мо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читай-ка поскоре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встало в строй друзе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 тур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– шут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5 тур. Задачи – шут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произойдёт, если всесокрушающее пушечное ядро попадёт в несокрушимый столб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5 тур. Задачи – шут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скетбольный матч школ закончился со счётом 75:80, но ни один баскетболист не забросил ни одного мяч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это могло бы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9236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л у Карлсона обе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ть коробки съел конф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ещё добавил шесть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ю коробку смог он съе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ешь быстро сосчит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может он лет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, съев конфету раз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 заправился на час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92000" y="134136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пал Егор картош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он коп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н ведер 7 за полч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иво набир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гор работал 5 часов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шёл он отдых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ведер он усп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ртошки накоп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18920" y="1412640"/>
            <a:ext cx="583236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ног всего пляс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ый день на карнавал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ьминог, жираф, свин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ещё вприсядку, 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4581360"/>
            <a:ext cx="3888000" cy="136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19280" y="126828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зялись за руки друзь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етий справа – это 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ева пятым я сто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ку держит друг мо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читай-ка поскоре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встало в строй друзе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268360" y="5013360"/>
            <a:ext cx="3888000" cy="1368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9236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л у Карлсона обе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ть коробки съел конф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ещё добавил шесть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ю коробку смог он съе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ешь быстро сосчит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может он лет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, съев конфету раз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 заправился на час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5661000"/>
            <a:ext cx="3024360" cy="10098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92000" y="134136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пал Егор картош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он коп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н ведер 7 за полч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иво набир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гор работал 5 часов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шёл он отдых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ведер он усп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ртошки накоп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3492360" y="5877000"/>
            <a:ext cx="2590920" cy="718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7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04:05:33Z</dcterms:created>
  <dc:creator>Helen</dc:creator>
  <dc:description/>
  <dc:language>en-US</dc:language>
  <cp:lastModifiedBy>Comp</cp:lastModifiedBy>
  <dcterms:modified xsi:type="dcterms:W3CDTF">2013-05-28T16:16:25Z</dcterms:modified>
  <cp:revision>4</cp:revision>
  <dc:subject/>
  <dc:title>Слайд 1</dc:title>
</cp:coreProperties>
</file>