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828A-574F-4240-877C-6CDEEBA8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C457-4ED7-47D3-8428-1D5F9E3E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A666-658C-4827-B3BE-3BE91CF2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9D07-E870-4A2B-B202-FBB96F3D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0276-17AE-411B-BF1A-81AC9C37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74C1-D29D-4581-8A34-8B8CC9D4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96AF-2A04-4142-A9BE-24FA8C13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8EC3-1A2A-4287-99A8-6797D436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20EC-D78E-4DDD-A198-BD1DCF59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F731-3783-4019-B445-6EA00BC8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B490-A796-4294-9126-899FF8EC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87AF-2872-4C6B-AFAC-B1CB3F8F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699D-00D8-4091-A4D8-D5947CE4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BD69-031C-40ED-A1E2-A89AD577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ACFB-86D0-49DD-88E8-E779E017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FBBA-EF56-41F6-935A-6288D8EE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CD3C-9437-425A-93D5-306BCF54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D148-548B-42FF-A121-7505E57E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1296-568C-4746-9CF9-88EC15B3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0EBA-8096-48B8-A11D-1D8FFBEC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B1CA-38BA-4D9C-8DBC-601F20A5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B856-A8BA-40B7-948B-40E64D5C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9720-757A-4F69-A5F5-D1B3D675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0DE2-3FFB-4DC5-B00F-FD51E57D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8F26-B890-4B9D-BEE4-1E8662137E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D:\клипарты\школа\01f31e9621df.png"/>
          <p:cNvPicPr/>
          <p:nvPr/>
        </p:nvPicPr>
        <p:blipFill>
          <a:blip r:embed="rId3"/>
          <a:stretch/>
        </p:blipFill>
        <p:spPr>
          <a:xfrm>
            <a:off x="7215120" y="4786200"/>
            <a:ext cx="1677960" cy="188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D:\клипарты\школа\01f31e9621df.png"/>
          <p:cNvPicPr/>
          <p:nvPr/>
        </p:nvPicPr>
        <p:blipFill>
          <a:blip r:embed="rId3"/>
          <a:stretch/>
        </p:blipFill>
        <p:spPr>
          <a:xfrm>
            <a:off x="7215120" y="4786200"/>
            <a:ext cx="1677960" cy="1889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D:\клипарты\школа\6746844630a4.jpg"/>
          <p:cNvPicPr/>
          <p:nvPr/>
        </p:nvPicPr>
        <p:blipFill>
          <a:blip r:embed="rId4"/>
          <a:stretch/>
        </p:blipFill>
        <p:spPr>
          <a:xfrm>
            <a:off x="428760" y="500040"/>
            <a:ext cx="8429400" cy="4929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D:\клипарты\школа\01f31e9621df.png"/>
          <p:cNvPicPr/>
          <p:nvPr/>
        </p:nvPicPr>
        <p:blipFill>
          <a:blip r:embed="rId5"/>
          <a:stretch/>
        </p:blipFill>
        <p:spPr>
          <a:xfrm>
            <a:off x="7000920" y="4643280"/>
            <a:ext cx="1677960" cy="1889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9933-B8A9-4DE0-84D6-77EF5D7DBA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тематическая рег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тур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тематические шарад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1 тур. Математические шара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8920" y="1557360"/>
            <a:ext cx="707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буквой «р» - с овцы стригу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нити  прочные пряд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 без «р» - нужна для счё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ифрой быть – её рабо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1 тур. Математические шара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92360" y="1557360"/>
            <a:ext cx="700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исло я меньше деся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ня тебе легко най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о если букве «я» прикажеш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ядом вст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 всё: отец, и ты, и дедушка,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1 тур. Математические шара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ждаюсь на мебельной фабрике 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в каждом хозяйстве нельзя без ме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бросишь последнюю букву мою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званье большому числу я да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1 тур. Математические шара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«к» - фигура без углов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«д» - с тобой дружить го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1 тур. Математические шара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18920" y="1557360"/>
            <a:ext cx="707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буквой «р» - с овцы стригу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нити  прочные пряд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 без «р» - нужна для счё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ифрой быть – её рабо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(ше</a:t>
            </a:r>
            <a:r>
              <a:rPr b="1" lang="en-US" sz="5400" spc="-1" strike="noStrike">
                <a:solidFill>
                  <a:srgbClr val="c0504d"/>
                </a:solidFill>
                <a:latin typeface="Arial"/>
              </a:rPr>
              <a:t>р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ть – шесть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1 тур. Математические шара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92360" y="1557360"/>
            <a:ext cx="700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исло я меньше деся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ня тебе легко най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о если букве «я» прикажеш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ядом вст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 всё: отец, и ты, и дедушка,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(семь – семь</a:t>
            </a:r>
            <a:r>
              <a:rPr b="1" lang="en-US" sz="5400" spc="-1" strike="noStrike">
                <a:solidFill>
                  <a:srgbClr val="c0504d"/>
                </a:solidFill>
                <a:latin typeface="Arial"/>
              </a:rPr>
              <a:t>я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1 тур. Математические шара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ждаюсь на мебельной фабрике 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в каждом хозяйстве нельзя без ме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бросишь последнюю букву мою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званье большому числу я да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(сто</a:t>
            </a:r>
            <a:r>
              <a:rPr b="1" lang="en-US" sz="5400" spc="-1" strike="noStrike">
                <a:solidFill>
                  <a:srgbClr val="c0504d"/>
                </a:solidFill>
                <a:latin typeface="Arial"/>
              </a:rPr>
              <a:t>л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– сто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1 тур. Математические шара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«к» - фигура без углов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«д» - с тобой дружить го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5400" spc="-1" strike="noStrike">
                <a:solidFill>
                  <a:srgbClr val="c0504d"/>
                </a:solidFill>
                <a:latin typeface="Arial"/>
              </a:rPr>
              <a:t>к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руг- </a:t>
            </a:r>
            <a:r>
              <a:rPr b="1" lang="en-US" sz="5400" spc="-1" strike="noStrike">
                <a:solidFill>
                  <a:srgbClr val="c0504d"/>
                </a:solidFill>
                <a:latin typeface="Arial"/>
              </a:rPr>
              <a:t>д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руг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тур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твёртый лишни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18920" y="1412640"/>
            <a:ext cx="583236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олько ног всего пляс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ый день на карнавал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ьминог, жираф, свин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ещё вприсядку, 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2 тур. </a:t>
            </a:r>
            <a:br>
              <a:rPr sz="4000"/>
            </a:b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Четвёртый лишн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79640" y="1600200"/>
            <a:ext cx="194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др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кт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рр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алл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4211640" y="1557360"/>
            <a:ext cx="2158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юй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р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ты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2 тур. </a:t>
            </a:r>
            <a:br>
              <a:rPr sz="4000"/>
            </a:b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Четвёртый лишн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1619280" y="1844640"/>
            <a:ext cx="79200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2843280" y="1844640"/>
            <a:ext cx="79200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1844640"/>
            <a:ext cx="79200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4067280" y="1844640"/>
            <a:ext cx="79200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2843280" y="3213000"/>
            <a:ext cx="79200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4067280" y="3213000"/>
            <a:ext cx="79200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5292720" y="3213000"/>
            <a:ext cx="79200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1619280" y="3213000"/>
            <a:ext cx="79200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2 тур. </a:t>
            </a:r>
            <a:br>
              <a:rPr sz="4000"/>
            </a:b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Четвёртый лишн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79640" y="1600200"/>
            <a:ext cx="194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др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Arial"/>
              </a:rPr>
              <a:t>Гекта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рр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алл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4788000" y="1557360"/>
            <a:ext cx="2158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юй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р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Arial"/>
              </a:rPr>
              <a:t>Алты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2 тур. </a:t>
            </a:r>
            <a:br>
              <a:rPr sz="4000"/>
            </a:b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Четвёртый лишн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1619280" y="1844640"/>
            <a:ext cx="79200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2843280" y="1844640"/>
            <a:ext cx="79200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5148360" y="1557360"/>
            <a:ext cx="1224000" cy="1297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4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4067280" y="1844640"/>
            <a:ext cx="79200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3213000"/>
            <a:ext cx="79200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3851280" y="3068640"/>
            <a:ext cx="1297080" cy="1295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3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3213000"/>
            <a:ext cx="79200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>
            <a:off x="1619280" y="3213000"/>
            <a:ext cx="79200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тур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олько это буде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3 тур. </a:t>
            </a:r>
            <a:br>
              <a:rPr sz="4000"/>
            </a:b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Сколько это буде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92360" y="1600200"/>
            <a:ext cx="244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ь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юж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3 тур. </a:t>
            </a:r>
            <a:br>
              <a:rPr sz="4000"/>
            </a:b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Сколько это буде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92360" y="1600200"/>
            <a:ext cx="244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ь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юж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4427640" y="1557360"/>
            <a:ext cx="3889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10 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120=1*2*3*4*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тур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больш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4</a:t>
            </a:r>
            <a:r>
              <a:rPr b="1" lang="ru-RU" sz="4400" spc="-1" strike="noStrike">
                <a:solidFill>
                  <a:srgbClr val="336600"/>
                </a:solidFill>
                <a:latin typeface="Arial"/>
              </a:rPr>
              <a:t> тур. Что больш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окоть или саже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рош или гривенни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дро или што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ектар или а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4</a:t>
            </a:r>
            <a:r>
              <a:rPr b="1" lang="ru-RU" sz="4400" spc="-1" strike="noStrike">
                <a:solidFill>
                  <a:srgbClr val="336600"/>
                </a:solidFill>
                <a:latin typeface="Arial"/>
              </a:rPr>
              <a:t> тур. Что больш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окоть или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саже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рош или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гривенни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Ведр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ли што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Гекта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ли а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19280" y="126828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зялись за руки друзь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ретий справа – это 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лева пятым я сто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ку держит друг мо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считай-ка поскоре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олько встало в строй друзей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 тур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– шут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5 тур. Задачи – шут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 произойдёт, если всесокрушающее пушечное ядро попадёт в несокрушимый столб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5 тур. Задачи – шут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скетбольный матч школ закончился со счётом 75:80, но ни один баскетболист не забросил ни одного мяч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это могло бы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9236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ыл у Карлсона обе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еть коробки съел конф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ещё добавил шесть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ю коробку смог он съе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ешь быстро сосчит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может он лет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, съев конфету раз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 заправился на час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92000" y="134136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пал Егор картош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ыстро он копа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н ведер 7 за полча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иво набира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гор работал 5 часов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шёл он отдых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олько ведер он успе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ртошки накопа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18920" y="1412640"/>
            <a:ext cx="583236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олько ног всего пляс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ый день на карнавал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ьминог, жираф, свин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ещё вприсядку, 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4581360"/>
            <a:ext cx="3888000" cy="136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19280" y="126828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зялись за руки друзь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ретий справа – это 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лева пятым я сто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ку держит друг мо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считай-ка поскоре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олько встало в строй друзей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268360" y="5013360"/>
            <a:ext cx="3888000" cy="1368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9236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ыл у Карлсона обе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еть коробки съел конф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ещё добавил шесть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ю коробку смог он съе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ешь быстро сосчит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может он лет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, съев конфету раз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 заправился на час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5661000"/>
            <a:ext cx="3024360" cy="10098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92000" y="134136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пал Егор картош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ыстро он копа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н ведер 7 за полча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иво набира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гор работал 5 часов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шёл он отдых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олько ведер он успе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ртошки накопа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3492360" y="5877000"/>
            <a:ext cx="2590920" cy="718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7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04:05:33Z</dcterms:created>
  <dc:creator>Helen</dc:creator>
  <dc:description/>
  <dc:language>en-US</dc:language>
  <cp:lastModifiedBy>Comp</cp:lastModifiedBy>
  <dcterms:modified xsi:type="dcterms:W3CDTF">2013-05-28T16:16:25Z</dcterms:modified>
  <cp:revision>4</cp:revision>
  <dc:subject/>
  <dc:title>Слайд 1</dc:title>
</cp:coreProperties>
</file>