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9B119-166E-4D48-B7A2-DED7A8F9E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510080"/>
            <a:ext cx="822312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1C39-4C80-44FD-8EC9-63BCFEC89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51008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0640" y="451008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618F9-B7EC-4C61-8E50-62FE123C0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510080"/>
            <a:ext cx="264744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7480" y="4510080"/>
            <a:ext cx="264744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17760" y="4510080"/>
            <a:ext cx="264744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83401-9695-49DA-8862-75AE7AC8D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643E5-491F-4D98-9024-E7651BB3FE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55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B5565-0FE3-4846-8502-44C5AC3893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8AA57-2DD5-48E6-A686-0FA8F6F30D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72E45-5D3D-4ABC-BEC0-EC08514529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221F3-C974-49C8-AD77-89B2579C69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11864-AD43-40E6-8CA2-445F7AA276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1008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5A578-BF2F-4CD4-8E9E-90D8F3A5CB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55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F2EF-DAD3-4724-887C-9D16AF4BA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0640" y="451008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B26BD-B4DE-455E-AAF7-85E92B1629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510080"/>
            <a:ext cx="822312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09053-8832-4074-BD03-A8B5718C67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510080"/>
            <a:ext cx="822312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6247F-2B30-4C09-BD60-0DF9339760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51008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0640" y="451008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E9ED5-26DD-47A5-961F-39EB3634B8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510080"/>
            <a:ext cx="264744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7480" y="4510080"/>
            <a:ext cx="264744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17760" y="4510080"/>
            <a:ext cx="264744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2446F-0A48-406A-9D7E-B654DD966A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58F4-79D5-4575-847B-7B80A644B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9D3CF-15C3-4BF1-87F4-7AB701531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28AB3-F46E-464B-B896-3A49802BD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5B39-9003-4287-A951-825D8C61A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51008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80D1-3C28-4835-AC0F-06800B356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0640" y="451008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D129B-6A38-4C79-A69C-386285B2E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510080"/>
            <a:ext cx="8223120" cy="26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F51E6-490B-4E11-9E6C-9143058C4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1160" cy="1506240"/>
            <a:chOff x="4716360" y="5345280"/>
            <a:chExt cx="4421160" cy="150624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1160" cy="150624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2600" cy="2196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3240" cy="2232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76280" cy="117000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2120" cy="121104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0200" cy="98244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1560" cy="96336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58480" cy="60300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57040" cy="46980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69720" cy="44136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04920" cy="36504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295200" cy="39348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58560" cy="20304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35000" cy="15552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34880" cy="150624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ldNum" idx="1"/>
          </p:nvPr>
        </p:nvSpPr>
        <p:spPr>
          <a:xfrm>
            <a:off x="655272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DE987-71C6-4E29-A097-E5217C412EED}" type="slidenum">
              <a:rPr b="0" lang="ru-RU" sz="18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1160" cy="1506240"/>
            <a:chOff x="4716360" y="5345280"/>
            <a:chExt cx="4421160" cy="150624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1160" cy="150624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2600" cy="2196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3240" cy="2232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76280" cy="117000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2120" cy="121104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0200" cy="98244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1560" cy="96336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58480" cy="60300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57040" cy="46980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69720" cy="44136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04920" cy="36504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295200" cy="39348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58560" cy="20304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35000" cy="15552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34880" cy="150624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2"/>
          </p:nvPr>
        </p:nvSpPr>
        <p:spPr>
          <a:xfrm>
            <a:off x="655272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F7B64EA-EABB-4189-95DB-213DC324CE11}" type="slidenum">
              <a:rPr b="0" lang="ru-RU" sz="12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-71280" y="1600200"/>
            <a:ext cx="914400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 algn="ctr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ОКРУЖАЮЩИЙ МИР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 algn="ctr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 algn="ctr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Новое время. Изобретения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 algn="ctr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 algn="r"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 algn="ctr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 algn="ctr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192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Метрополитен впервые построен в Лондоне (1863 г.)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192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Первый телефонный аппарат А.Г.Белла (США)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2296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Телеграфная связь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80880" y="1295280"/>
            <a:ext cx="2965680" cy="3422880"/>
            <a:chOff x="380880" y="1295280"/>
            <a:chExt cx="2965680" cy="342288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380880" y="1295280"/>
              <a:ext cx="296568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380880" y="1295280"/>
              <a:ext cx="2965680" cy="34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191120" y="1447920"/>
            <a:ext cx="4946400" cy="4870440"/>
            <a:chOff x="4191120" y="1447920"/>
            <a:chExt cx="4946400" cy="4870440"/>
          </a:xfrm>
        </p:grpSpPr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4191120" y="1447920"/>
              <a:ext cx="4946400" cy="48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191120" y="1447920"/>
              <a:ext cx="4946400" cy="48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619920" y="468000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.Морзе. СШ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4668480" y="6408720"/>
            <a:ext cx="39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Телеграфный аппарат С.Морзе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" y="277920"/>
            <a:ext cx="830592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                               </a:t>
            </a: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Радио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5616720" y="1295280"/>
            <a:ext cx="35272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оздателем радио  считается       итальянск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нженер Гульельм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ркон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России изобретателем радиотелеграфии традиционно считают А. С. Попов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140720" y="15228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Г.Маркон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3475800" y="64882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.С.Попо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0" y="0"/>
            <a:ext cx="4032360" cy="3044880"/>
            <a:chOff x="0" y="0"/>
            <a:chExt cx="4032360" cy="304488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032360" cy="30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0" y="0"/>
              <a:ext cx="4032360" cy="30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3429000" cy="3809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43200" y="2057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отографии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1295280"/>
            <a:ext cx="4419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Основоположниками были  изобретатели Франции (М.Дагер и Ж.-Н.Ньепс) и Великобритани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(У.-Г.-Ф.Толбот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Цветные фото впервые получил Л.Дюко дю Орон (Франция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0" y="0"/>
            <a:ext cx="2460600" cy="2965320"/>
            <a:chOff x="0" y="0"/>
            <a:chExt cx="2460600" cy="296532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460600" cy="29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2460600" cy="29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905120" y="1905120"/>
            <a:ext cx="2857320" cy="4095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0" y="3505320"/>
            <a:ext cx="2514600" cy="3352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57320" y="-4428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гер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318240" y="64324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.Дюк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023280" y="594360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бота Л.Дюк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192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Христофор Колумб открыл Америку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57200" y="1890720"/>
            <a:ext cx="3600360" cy="4732200"/>
            <a:chOff x="457200" y="1890720"/>
            <a:chExt cx="3600360" cy="473220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457200" y="1890720"/>
              <a:ext cx="3600360" cy="47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457200" y="1890720"/>
              <a:ext cx="3600360" cy="47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343400" y="1905120"/>
            <a:ext cx="4336920" cy="4641840"/>
            <a:chOff x="4343400" y="1905120"/>
            <a:chExt cx="4336920" cy="4641840"/>
          </a:xfrm>
        </p:grpSpPr>
        <p:pic>
          <p:nvPicPr>
            <p:cNvPr id="197" name="" descr=""/>
            <p:cNvPicPr/>
            <p:nvPr/>
          </p:nvPicPr>
          <p:blipFill>
            <a:blip r:embed="rId2"/>
            <a:stretch/>
          </p:blipFill>
          <p:spPr>
            <a:xfrm>
              <a:off x="4343400" y="1905120"/>
              <a:ext cx="4336920" cy="46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4343400" y="1905120"/>
              <a:ext cx="433692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254160"/>
            <a:ext cx="82296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Первая кругосветная экспедиция 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Фернана Магеллан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57200" y="2717640"/>
            <a:ext cx="4032360" cy="2289240"/>
            <a:chOff x="457200" y="2717640"/>
            <a:chExt cx="4032360" cy="228924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457200" y="2717640"/>
              <a:ext cx="4032360" cy="22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57200" y="2717640"/>
              <a:ext cx="4032360" cy="22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800600" y="1752480"/>
            <a:ext cx="4108320" cy="4794480"/>
            <a:chOff x="4800600" y="1752480"/>
            <a:chExt cx="4108320" cy="4794480"/>
          </a:xfrm>
        </p:grpSpPr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4800600" y="1752480"/>
              <a:ext cx="4108320" cy="479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800600" y="1752480"/>
              <a:ext cx="4108320" cy="47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Открытие Антарктиды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04920" y="1143000"/>
            <a:ext cx="2851200" cy="3803760"/>
            <a:chOff x="304920" y="1143000"/>
            <a:chExt cx="2851200" cy="380376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304920" y="1143000"/>
              <a:ext cx="2851200" cy="380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04920" y="1143000"/>
              <a:ext cx="2851200" cy="38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876920" y="2286000"/>
            <a:ext cx="4032000" cy="4348080"/>
            <a:chOff x="4876920" y="2286000"/>
            <a:chExt cx="4032000" cy="434808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4876920" y="2286000"/>
              <a:ext cx="4032000" cy="43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4876920" y="2286000"/>
              <a:ext cx="4032000" cy="43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8088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525600" y="4959360"/>
            <a:ext cx="26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Михаил Петрович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Л А З А Р Е 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5070240" y="1371600"/>
            <a:ext cx="320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Фаддей Фаддеевич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Б Е Л Л И Н С Г А У З Е 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Спасибо за внимание!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232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Новое время подарило миру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великих путешественников, художников, архитекторов, писателей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технические изобретения: пароход и паровоз, телеграф и фотографию, электрическое освещение, автомобиль и метро, радио и телефон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66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История Нового времени продолжалась 400 лет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-20520"/>
            <a:ext cx="8229600" cy="17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Итальянский живописец, скульптор, архитектор, учёный, инженер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6248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«Мона Лиза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724280" y="1447920"/>
            <a:ext cx="4032360" cy="4717800"/>
            <a:chOff x="4724280" y="1447920"/>
            <a:chExt cx="4032360" cy="471780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4724280" y="1447920"/>
              <a:ext cx="4032360" cy="47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724280" y="1447920"/>
              <a:ext cx="4032360" cy="47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988520" y="6197760"/>
            <a:ext cx="39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Леонардо  да Винч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04920" y="1600200"/>
            <a:ext cx="3956040" cy="4524480"/>
            <a:chOff x="304920" y="1600200"/>
            <a:chExt cx="3956040" cy="452448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304920" y="1600200"/>
              <a:ext cx="3956040" cy="45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04920" y="1600200"/>
              <a:ext cx="3956040" cy="45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192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Рафаэль Санти – итальянский  живописец и архитектор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4920" y="1600200"/>
            <a:ext cx="3956040" cy="5022720"/>
            <a:chOff x="304920" y="1600200"/>
            <a:chExt cx="3956040" cy="502272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304920" y="1600200"/>
              <a:ext cx="3956040" cy="50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04920" y="1600200"/>
              <a:ext cx="3956040" cy="50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5627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419720" y="1676520"/>
            <a:ext cx="4413240" cy="4641840"/>
            <a:chOff x="4419720" y="1676520"/>
            <a:chExt cx="4413240" cy="464184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4419720" y="1676520"/>
              <a:ext cx="4413240" cy="46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419720" y="1676520"/>
              <a:ext cx="441324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423400" y="649116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«Сикстинская мадонна»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Даниэль Дефо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Англичанин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6600" indent="-3366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исатель, автор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6600" indent="-336600"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иключенческого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6600" indent="-336600"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оман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6600" indent="-336600"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«Робинзон Крузо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8600" y="1295280"/>
            <a:ext cx="4108320" cy="5327640"/>
            <a:chOff x="228600" y="1295280"/>
            <a:chExt cx="4108320" cy="532764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228600" y="1295280"/>
              <a:ext cx="4108320" cy="53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228600" y="1295280"/>
              <a:ext cx="4108320" cy="53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Жюль Верн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Французский писатель, один из создателей жанра научной фантастики, приключенческих произведени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6600" indent="-336600"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80880" y="1600200"/>
            <a:ext cx="4032360" cy="4718160"/>
            <a:chOff x="380880" y="1600200"/>
            <a:chExt cx="4032360" cy="471816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380880" y="1600200"/>
              <a:ext cx="4032360" cy="471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80880" y="1600200"/>
              <a:ext cx="4032360" cy="47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192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хнические изобретения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Нового времен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486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123200" y="142236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5e855b"/>
                </a:solidFill>
                <a:latin typeface="Verdana"/>
              </a:rPr>
              <a:t>Паровоз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Пароход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381880" cy="4952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78960" y="6156360"/>
            <a:ext cx="639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вый пароход «Клермонт» построен в США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1807 году Р.Фултоно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9458280" y="645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223920"/>
            <a:ext cx="82296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Первый паровой автомобиль построил Ж.Кюньо (Франция)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1614600"/>
            <a:ext cx="8229600" cy="5243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на</dc:creator>
  <dc:description/>
  <dc:language>en-US</dc:language>
  <cp:lastModifiedBy>Яна</cp:lastModifiedBy>
  <dcterms:modified xsi:type="dcterms:W3CDTF">2013-04-05T06:11:3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