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78C2-B5DF-4A11-88D1-1B0FB3641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51008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30DB-0F41-433B-89C6-54B831507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064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0830-9211-4DF3-88AC-F19B01ABA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748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776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CE89-9770-447E-BCB3-AAF8DA739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044C-DF6D-44C1-B5FA-BF3BB67F22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8BBA-5FC5-4C69-9DB6-2C590E0B9D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9522-DD9F-4E02-97BE-96DEFC9A6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6E4D-59A3-4B0B-9D10-CB63850C60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F610-71CA-4752-B94A-FE78168ECB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7C74-0B9C-442C-9231-3EF609EC6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58D1-5D6D-4BA0-9FA8-55B9000AD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0088-921A-4D4D-BC34-EB34F6372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064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DBD0-BD81-42D4-9BB8-C644D8D9CE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B99D-34A7-4CDB-99D0-3BD5BBD309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51008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42B3-FFD1-463F-B28F-1476CFB9F7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064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F62C-18A7-4CF1-A24C-564C5D6865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748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776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4F1B-45F6-44E9-BAF9-94FF633A35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21AD-AC67-4739-A1C5-F6C3FABA5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603E-7412-4AE5-A607-2299D23DC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A671-730C-493F-A132-68FD2129F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AEDE-8B88-403D-A4B4-21E189C80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AD16-860B-4582-9EC5-C37AAD313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064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995A-1FF5-4904-8E45-84086E2F5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47AB-8896-42FE-A614-AD6DA85A9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1160" cy="1506240"/>
            <a:chOff x="4716360" y="5345280"/>
            <a:chExt cx="4421160" cy="150624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1160" cy="150624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2600" cy="219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3240" cy="223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76280" cy="117000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2120" cy="121104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0200" cy="98244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1560" cy="96336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58480" cy="60300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57040" cy="46980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69720" cy="44136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04920" cy="36504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295200" cy="39348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58560" cy="20304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35000" cy="15552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34880" cy="150624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4CB5-2873-4328-852C-B1B0F206DDC3}" type="slidenum">
              <a:rPr b="0" lang="ru-RU" sz="18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1160" cy="1506240"/>
            <a:chOff x="4716360" y="5345280"/>
            <a:chExt cx="4421160" cy="150624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1160" cy="150624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2600" cy="219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3240" cy="223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76280" cy="117000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2120" cy="121104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0200" cy="98244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1560" cy="96336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58480" cy="60300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57040" cy="46980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69720" cy="44136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04920" cy="36504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295200" cy="39348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58560" cy="20304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35000" cy="15552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34880" cy="150624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E926D2-4752-4441-B971-92CF4D387DAE}" type="slidenum">
              <a: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-71280" y="1600200"/>
            <a:ext cx="91440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ОКРУЖАЮЩИЙ МИР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Новое время. Изобретен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r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Метрополитен впервые построен в Лондоне (1863 г.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ервый телефонный аппарат А.Г.Белла (США)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Телеграфная связь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0880" y="1295280"/>
            <a:ext cx="2965680" cy="3422880"/>
            <a:chOff x="380880" y="1295280"/>
            <a:chExt cx="2965680" cy="342288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380880" y="1295280"/>
              <a:ext cx="296568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80880" y="1295280"/>
              <a:ext cx="2965680" cy="34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91120" y="1447920"/>
            <a:ext cx="4946400" cy="4870440"/>
            <a:chOff x="4191120" y="1447920"/>
            <a:chExt cx="4946400" cy="487044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191120" y="1447920"/>
              <a:ext cx="494640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191120" y="1447920"/>
              <a:ext cx="4946400" cy="48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19920" y="468000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.Морзе. СШ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668480" y="640872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леграфный аппарат С.Морз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77920"/>
            <a:ext cx="83059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                               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Ради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616720" y="1295280"/>
            <a:ext cx="35272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здателем радио  считается       итальян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нженер Гульельм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ркон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оссии изобретателем радиотелеграфии традиционно считают А. С. Попов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140720" y="1522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Г.Маркон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3475800" y="64882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.С.Поп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4032360" cy="3044880"/>
            <a:chOff x="0" y="0"/>
            <a:chExt cx="4032360" cy="30448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03236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0" y="0"/>
              <a:ext cx="4032360" cy="30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3429000" cy="3809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43200" y="2057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отографии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295280"/>
            <a:ext cx="4419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сновоположниками были  изобретатели Франции (М.Дагер и Ж.-Н.Ньепс) и Великобритани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(У.-Г.-Ф.Толбо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Цветные фото впервые получил Л.Дюко дю Орон (Франция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0"/>
            <a:ext cx="2460600" cy="2965320"/>
            <a:chOff x="0" y="0"/>
            <a:chExt cx="2460600" cy="296532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4606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2460600" cy="29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2857320" cy="4095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7320" y="-44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ге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318240" y="64324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23280" y="594360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ристофор Колумб открыл Америку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57200" y="1890720"/>
            <a:ext cx="3600360" cy="4732200"/>
            <a:chOff x="457200" y="1890720"/>
            <a:chExt cx="3600360" cy="47322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457200" y="1890720"/>
              <a:ext cx="3600360" cy="47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57200" y="1890720"/>
              <a:ext cx="3600360" cy="47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343400" y="1905120"/>
            <a:ext cx="4336920" cy="4641840"/>
            <a:chOff x="4343400" y="1905120"/>
            <a:chExt cx="4336920" cy="4641840"/>
          </a:xfrm>
        </p:grpSpPr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4343400" y="1905120"/>
              <a:ext cx="4336920" cy="46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343400" y="1905120"/>
              <a:ext cx="433692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254160"/>
            <a:ext cx="82296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ая кругосветная экспедиция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Фернана Магеллан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7200" y="2717640"/>
            <a:ext cx="4032360" cy="2289240"/>
            <a:chOff x="457200" y="2717640"/>
            <a:chExt cx="4032360" cy="22892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457200" y="2717640"/>
              <a:ext cx="4032360" cy="22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57200" y="2717640"/>
              <a:ext cx="4032360" cy="22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00600" y="1752480"/>
            <a:ext cx="4108320" cy="4794480"/>
            <a:chOff x="4800600" y="1752480"/>
            <a:chExt cx="4108320" cy="479448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4800600" y="1752480"/>
              <a:ext cx="4108320" cy="47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800600" y="1752480"/>
              <a:ext cx="4108320" cy="47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Открытие Антарктиды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920" y="1143000"/>
            <a:ext cx="2851200" cy="3803760"/>
            <a:chOff x="304920" y="1143000"/>
            <a:chExt cx="2851200" cy="380376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304920" y="1143000"/>
              <a:ext cx="2851200" cy="38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04920" y="1143000"/>
              <a:ext cx="2851200" cy="38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876920" y="2286000"/>
            <a:ext cx="4032000" cy="4348080"/>
            <a:chOff x="4876920" y="2286000"/>
            <a:chExt cx="4032000" cy="4348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4876920" y="2286000"/>
              <a:ext cx="4032000" cy="43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876920" y="2286000"/>
              <a:ext cx="4032000" cy="43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808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525600" y="49593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ихаил Петро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Л А З А Р Е 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5070240" y="1371600"/>
            <a:ext cx="32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Фаддей Фаддее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 Е Л Л И Н С Г А У З Е 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232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Новое время подарило миру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еликих путешественников, художников, архитекторов, писателей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ехнические изобретения: пароход и паровоз, телеграф и фотографию, электрическое освещение, автомобиль и метро, радио и телефон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История Нового времени продолжалась 400 л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-20520"/>
            <a:ext cx="82296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тальянский живописец, скульптор, архитектор, учёный, инжене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248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Мона Лиз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724280" y="1447920"/>
            <a:ext cx="4032360" cy="4717800"/>
            <a:chOff x="4724280" y="1447920"/>
            <a:chExt cx="4032360" cy="471780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724280" y="1447920"/>
              <a:ext cx="4032360" cy="47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724280" y="1447920"/>
              <a:ext cx="4032360" cy="47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988520" y="619776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Леонардо  да Вин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4920" y="1600200"/>
            <a:ext cx="3956040" cy="4524480"/>
            <a:chOff x="304920" y="1600200"/>
            <a:chExt cx="3956040" cy="45244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04920" y="1600200"/>
              <a:ext cx="395604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04920" y="1600200"/>
              <a:ext cx="395604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фаэль Санти – итальянский  живописец и архитектор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920" y="1600200"/>
            <a:ext cx="3956040" cy="5022720"/>
            <a:chOff x="304920" y="1600200"/>
            <a:chExt cx="3956040" cy="50227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304920" y="1600200"/>
              <a:ext cx="3956040" cy="50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04920" y="1600200"/>
              <a:ext cx="3956040" cy="50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562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419720" y="1676520"/>
            <a:ext cx="4413240" cy="4641840"/>
            <a:chOff x="4419720" y="1676520"/>
            <a:chExt cx="4413240" cy="464184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4419720" y="1676520"/>
              <a:ext cx="4413240" cy="46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19720" y="1676520"/>
              <a:ext cx="44132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423400" y="649116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«Сикстинская мадонн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аниэль Деф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нгличанин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атель, автор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ключенческого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ома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Робинзон Крузо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295280"/>
            <a:ext cx="4108320" cy="5327640"/>
            <a:chOff x="228600" y="1295280"/>
            <a:chExt cx="4108320" cy="53276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410832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28600" y="1295280"/>
              <a:ext cx="410832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Жюль Верн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ранцузский писатель, один из создателей жанра научной фантастики, приключенческих произвед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600200"/>
            <a:ext cx="4032360" cy="4718160"/>
            <a:chOff x="380880" y="1600200"/>
            <a:chExt cx="4032360" cy="47181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4032360" cy="47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80880" y="1600200"/>
              <a:ext cx="4032360" cy="47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ические изобретения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Нового времен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23200" y="142236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Verdana"/>
              </a:rPr>
              <a:t>Паровоз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Пароход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4952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78960" y="6156360"/>
            <a:ext cx="63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пароход «Клермонт» построен в СШ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1807 году Р.Фултон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9458280" y="645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2392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ый паровой автомобиль построил Ж.Кюньо (Франц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14600"/>
            <a:ext cx="8229600" cy="52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на</dc:creator>
  <dc:description/>
  <dc:language>en-US</dc:language>
  <cp:lastModifiedBy>Яна</cp:lastModifiedBy>
  <dcterms:modified xsi:type="dcterms:W3CDTF">2013-04-05T06:11:3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