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859-F9A4-49E1-9DFF-48556A63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C827-B501-4669-8B74-FEAA1A51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1A48-82BA-41D2-A511-55644A54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A49-D56A-44FA-A719-6E1EF67F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A7DF-D66E-4610-99D3-F2222CD1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19A6-908D-4560-8997-0A1C02C8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C139-3B01-4CFA-831D-887E52FD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9ABD-AC80-470D-B0B9-B256EA50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5EA5-4995-4882-8C5A-B511C0E3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4BF-4E25-47EF-B604-BCC5232D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5E94-014D-41FA-B32F-B22EF830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751-7E5B-4420-B67C-00502A85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F53A-D041-43B5-8DCE-04A0110B52B6}" type="slidenum">
              <a:rPr b="0" lang="ru-RU" sz="12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образовательное учрежден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детей-сирот и детей, оставшихся без попечения родителе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сноселькупский детский дом «Роднич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«От добрых слов – к добрым дела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ила:  Мельникова В.Я.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тел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.Красноселькуп, 2013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Times New Roman"/>
              </a:rPr>
              <a:t>Любовь бывает разна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 эгоистична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 дружеская, братска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жертвенна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4" descr="http://kaifolog.ru/uploads/posts/2009-12/1260328522_039.jpg"/>
          <p:cNvPicPr/>
          <p:nvPr/>
        </p:nvPicPr>
        <p:blipFill>
          <a:blip r:embed="rId2"/>
          <a:stretch/>
        </p:blipFill>
        <p:spPr>
          <a:xfrm>
            <a:off x="324000" y="1484280"/>
            <a:ext cx="4038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http://rodnik-dobra.ru/wp-content/uploads/2011/10/288a57d52001291a3d3372707f6208a7.jpg"/>
          <p:cNvPicPr/>
          <p:nvPr/>
        </p:nvPicPr>
        <p:blipFill>
          <a:blip r:embed="rId2"/>
          <a:stretch/>
        </p:blipFill>
        <p:spPr>
          <a:xfrm>
            <a:off x="785880" y="500040"/>
            <a:ext cx="8001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Доброт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000" y="537372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то добр поистине, тот добро в молчании твори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4" descr="Добро и зло конспект урока"/>
          <p:cNvPicPr/>
          <p:nvPr/>
        </p:nvPicPr>
        <p:blipFill>
          <a:blip r:embed="rId2"/>
          <a:stretch/>
        </p:blipFill>
        <p:spPr>
          <a:xfrm>
            <a:off x="2700360" y="1484280"/>
            <a:ext cx="35272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«Да» или «Нет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жно ли человека заставить быть добр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жно ли стать добрым на врем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ужно ли быть добрым к любому человек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Легко ли быть добр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Times New Roman"/>
              </a:rPr>
              <a:t>Делать добрые дел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Добро и зло конспект урока."/>
          <p:cNvPicPr/>
          <p:nvPr/>
        </p:nvPicPr>
        <p:blipFill>
          <a:blip r:embed="rId2"/>
          <a:stretch/>
        </p:blipFill>
        <p:spPr>
          <a:xfrm>
            <a:off x="755640" y="1557360"/>
            <a:ext cx="3495600" cy="372888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6" descr="Добро и зло конспект урока"/>
          <p:cNvPicPr/>
          <p:nvPr/>
        </p:nvPicPr>
        <p:blipFill>
          <a:blip r:embed="rId3"/>
          <a:stretch/>
        </p:blipFill>
        <p:spPr>
          <a:xfrm>
            <a:off x="4714920" y="1571760"/>
            <a:ext cx="345744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Пословицы и поговор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Добрые дела красят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Делать добро спеш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Без добрых дел, нет доброго им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Жизнь дана на добрые д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Злой не верит, что есть добрые лю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Скромность, каждому к лиц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Скромность, украшает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За добро, добром и платя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Times New Roman"/>
              </a:rPr>
              <a:t>Добр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435280" y="1196640"/>
            <a:ext cx="3251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нежнос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забот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внимани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вернос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радос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дружб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свет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любов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ddd.jpg"/>
          <p:cNvPicPr/>
          <p:nvPr/>
        </p:nvPicPr>
        <p:blipFill>
          <a:blip r:embed="rId2"/>
          <a:stretch/>
        </p:blipFill>
        <p:spPr>
          <a:xfrm>
            <a:off x="755640" y="1341360"/>
            <a:ext cx="3735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Зл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завис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едательство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мес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жаднос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лож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эгоиз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4" descr="Добро и зло конспект урока"/>
          <p:cNvPicPr/>
          <p:nvPr/>
        </p:nvPicPr>
        <p:blipFill>
          <a:blip r:embed="rId2"/>
          <a:stretch/>
        </p:blipFill>
        <p:spPr>
          <a:xfrm>
            <a:off x="857160" y="1643040"/>
            <a:ext cx="3429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ff"/>
                </a:solidFill>
                <a:latin typeface="Times New Roman"/>
              </a:rPr>
              <a:t>«Ребёнок учится тому, </a:t>
            </a:r>
            <a:br>
              <a:rPr sz="4800"/>
            </a:br>
            <a:r>
              <a:rPr b="0" i="1" lang="ru-RU" sz="4800" spc="-1" strike="noStrike">
                <a:solidFill>
                  <a:srgbClr val="0000ff"/>
                </a:solidFill>
                <a:latin typeface="Times New Roman"/>
              </a:rPr>
              <a:t>что видит у себя в дому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http://kaifolog.ru/uploads/posts/2009-12/1260328549_038.jpg"/>
          <p:cNvPicPr/>
          <p:nvPr/>
        </p:nvPicPr>
        <p:blipFill>
          <a:blip r:embed="rId2"/>
          <a:stretch/>
        </p:blipFill>
        <p:spPr>
          <a:xfrm>
            <a:off x="1214280" y="2000160"/>
            <a:ext cx="69296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848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овес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сть – это чувство внутри человека, которое побуждает человека стыди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сть – характер человека, она характеризует человека. Человек, у которого нет совести ведёт себя не так, как все: врёт, выражается нецензурной бран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сть – внутреннее чувство человека. Человек с совестью умеет осознавать свои поступ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сть – это чувство нравственной ответственности за своё поведение перед окружающими людьми или обществ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сть – это то, что есть у человека.  Иногда человек делает что-то плохое, его мучает совесть.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сть – это когда ты сделал что-нибудь плохое, напакостил другому, а потом тебе становится как-то плохо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5400" spc="-1" strike="noStrike">
                <a:solidFill>
                  <a:srgbClr val="0000ff"/>
                </a:solidFill>
                <a:latin typeface="Times New Roman"/>
              </a:rPr>
              <a:t>Понятия о прощен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делать доброе дело, тому кто нанёс вам обиду или причинил неприят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нять извинение того, кто осознал, что виноват, и просит его извин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писать дружеское письмо тому, кто нуждается в прощен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Times New Roman"/>
              </a:rPr>
              <a:t>Простить – это значит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0253f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не таить обиду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перестать сердитьс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перестать упрекать человека за нанесённую обиду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не ждать, пока обидчик исправит свою ошибку и первым придти мирить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Times New Roman"/>
              </a:rPr>
              <a:t>Пословиц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 Есть слёзы – есть и совес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 Упавшего не считай за пропавшег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 Кайся, да опять за старое не принимай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 Тому тяжело, кто помнит зл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7:14:49Z</dcterms:created>
  <dc:creator>Ньютон</dc:creator>
  <dc:description/>
  <cp:keywords>Шаблон оформления</cp:keywords>
  <dc:language>en-US</dc:language>
  <cp:lastModifiedBy>2</cp:lastModifiedBy>
  <dcterms:modified xsi:type="dcterms:W3CDTF">2013-09-26T10:45:26Z</dcterms:modified>
  <cp:revision>25</cp:revision>
  <dc:subject>Шаблон оформления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35001049</vt:lpwstr>
  </property>
</Properties>
</file>