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48E-DA40-437A-8A6A-56514293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F0D-EA58-4B77-8F02-01B6D0FA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8CB-EE7C-4FF0-949B-49EB7F6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803-8DBC-452B-A95E-DDF0EFBF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DCB-7395-4CD1-B4AA-72A18331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4A0-77C1-4742-80BE-7590DFC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473-A750-4875-8CAC-DDA6E80A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322-D9A9-4101-8447-997AC56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33B-80C9-45B1-B167-DAEAA614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D50-9D1E-43EF-8F5D-355B014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030-4238-42FE-9FEB-4C2911D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D90-0C1C-47CA-A61A-17A5F92C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88D-7579-4741-97CC-FD57CAFD647D}" type="slidenum">
              <a:rPr b="0" lang="ru-RU" sz="1200" spc="-1" strike="noStrike">
                <a:solidFill>
                  <a:srgbClr val="ff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етей-сирот и детей, оставшихся без попечения родител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селькупский детский дом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«От добрых слов – к добрым дела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а:  Мельникова В.Я.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Красноселькуп, 20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Любовь бывает разн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эгоистична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дружеская, братска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жертвенна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http://kaifolog.ru/uploads/posts/2009-12/1260328522_039.jpg"/>
          <p:cNvPicPr/>
          <p:nvPr/>
        </p:nvPicPr>
        <p:blipFill>
          <a:blip r:embed="rId2"/>
          <a:stretch/>
        </p:blipFill>
        <p:spPr>
          <a:xfrm>
            <a:off x="324000" y="1484280"/>
            <a:ext cx="4038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://rodnik-dobra.ru/wp-content/uploads/2011/10/288a57d52001291a3d3372707f6208a7.jpg"/>
          <p:cNvPicPr/>
          <p:nvPr/>
        </p:nvPicPr>
        <p:blipFill>
          <a:blip r:embed="rId2"/>
          <a:stretch/>
        </p:blipFill>
        <p:spPr>
          <a:xfrm>
            <a:off x="785880" y="500040"/>
            <a:ext cx="8001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Добр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537372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добр поистине, тот добро в молчании твор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Добро и зло конспект урока"/>
          <p:cNvPicPr/>
          <p:nvPr/>
        </p:nvPicPr>
        <p:blipFill>
          <a:blip r:embed="rId2"/>
          <a:stretch/>
        </p:blipFill>
        <p:spPr>
          <a:xfrm>
            <a:off x="2700360" y="1484280"/>
            <a:ext cx="35272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«Да» или «Нет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жно ли человека заставить быть добр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жно ли стать добрым на врем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ужно ли быть добрым к любому челове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гко ли быть добр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Делать добрые де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Добро и зло конспект урока."/>
          <p:cNvPicPr/>
          <p:nvPr/>
        </p:nvPicPr>
        <p:blipFill>
          <a:blip r:embed="rId2"/>
          <a:stretch/>
        </p:blipFill>
        <p:spPr>
          <a:xfrm>
            <a:off x="755640" y="1557360"/>
            <a:ext cx="3495600" cy="372888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6" descr="Добро и зло конспект урока"/>
          <p:cNvPicPr/>
          <p:nvPr/>
        </p:nvPicPr>
        <p:blipFill>
          <a:blip r:embed="rId3"/>
          <a:stretch/>
        </p:blipFill>
        <p:spPr>
          <a:xfrm>
            <a:off x="4714920" y="1571760"/>
            <a:ext cx="34574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Пословицы и поговор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обрые дела крася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лать добро спеш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Без добрых дел, нет доброго и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Жизнь дана на добрые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лой не верит, что есть добрые лю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кромность, каждому к 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кромность, украш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 добро, добром и плат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Добр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435280" y="1196640"/>
            <a:ext cx="3251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неж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забо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внимани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вер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рад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дружб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све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любов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ddd.jpg"/>
          <p:cNvPicPr/>
          <p:nvPr/>
        </p:nvPicPr>
        <p:blipFill>
          <a:blip r:embed="rId2"/>
          <a:stretch/>
        </p:blipFill>
        <p:spPr>
          <a:xfrm>
            <a:off x="755640" y="1341360"/>
            <a:ext cx="373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Зл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зави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ательств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ме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жад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лож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эгоиз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Добро и зло конспект урока"/>
          <p:cNvPicPr/>
          <p:nvPr/>
        </p:nvPicPr>
        <p:blipFill>
          <a:blip r:embed="rId2"/>
          <a:stretch/>
        </p:blipFill>
        <p:spPr>
          <a:xfrm>
            <a:off x="857160" y="164304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Times New Roman"/>
              </a:rPr>
              <a:t>«Ребёнок учится тому, </a:t>
            </a:r>
            <a:br>
              <a:rPr sz="4800"/>
            </a:br>
            <a:r>
              <a:rPr b="0" i="1" lang="ru-RU" sz="4800" spc="-1" strike="noStrike">
                <a:solidFill>
                  <a:srgbClr val="0000ff"/>
                </a:solidFill>
                <a:latin typeface="Times New Roman"/>
              </a:rPr>
              <a:t>что видит у себя в дому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http://kaifolog.ru/uploads/posts/2009-12/1260328549_038.jpg"/>
          <p:cNvPicPr/>
          <p:nvPr/>
        </p:nvPicPr>
        <p:blipFill>
          <a:blip r:embed="rId2"/>
          <a:stretch/>
        </p:blipFill>
        <p:spPr>
          <a:xfrm>
            <a:off x="1214280" y="2000160"/>
            <a:ext cx="6929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вест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чувство внутри человека, которое побуждает человека стыд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характер человека, она характеризует человека. Человек, у которого нет совести ведёт себя не так, как все: врёт, выражается нецензурной бран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внутреннее чувство человека. Человек с совестью умеет осознавать свои посту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чувство нравственной ответственности за своё поведение перед окружающими людьми или обществ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то, что есть у человека.  Иногда человек делает что-то плохое, его мучает совесть.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сть – это когда ты сделал что-нибудь плохое, напакостил другому, а потом тебе становится как-то плох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Понятия о прощен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делать доброе дело, тому кто нанёс вам обиду или причинил неприят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ять извинение того, кто осознал, что виноват, и просит его извин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писать дружеское письмо тому, кто нуждается в прощ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Простить – это значит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не таить обиду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перестать сердитьс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перестать упрекать человека за нанесённую обиду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не ждать, пока обидчик исправит свою ошибку и первым придти мир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Times New Roman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Есть слёзы – есть и сове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Упавшего не считай за пропавш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Кайся, да опять за старое не принимай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 Тому тяжело, кто помнит з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7:14:49Z</dcterms:created>
  <dc:creator>Ньютон</dc:creator>
  <dc:description/>
  <cp:keywords>Шаблон оформления</cp:keywords>
  <dc:language>en-US</dc:language>
  <cp:lastModifiedBy>2</cp:lastModifiedBy>
  <dcterms:modified xsi:type="dcterms:W3CDTF">2013-09-26T10:45:26Z</dcterms:modified>
  <cp:revision>25</cp:revision>
  <dc:subject>Шаблон оформлен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5001049</vt:lpwstr>
  </property>
</Properties>
</file>