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applause.wav" ContentType="audio/x-wav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70B-EC41-46F2-9A91-F83E570D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05C-0F1D-4BE2-BEFF-33B88DF4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B9233-DF2C-420B-BDAB-B536717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3D54A-7FD0-4B67-99E6-A5300853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70722-D5E1-41B8-B9FD-1796AA57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112AA-7003-485C-9885-B77BFE0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B811F-0243-482A-947A-8FD05DA7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73B71-1FFD-4092-AB36-19F2144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8BA5B-2A87-417E-B69F-F238ED48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181EE-44DA-4FD5-9B8F-C7A25049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91C93-E654-47F7-906D-5CF09995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C1994-A2B9-4584-B233-EA6B288D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EA0-9499-4032-A377-23B930AC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19208-2C5E-454A-88E5-A693B12A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21EF4-8014-4DCE-991C-AFC83FA5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C1120-5F92-4941-9E90-6D796318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38163-A230-4CBE-BF3D-8E2F408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F72C1-70D4-4F86-B95C-9CF838B7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BFB65-D500-4ED9-8788-87333BEE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3C37B-6795-479D-AC01-8BEA72B2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CDDA7-9925-46E0-A577-1A665CEB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21602-E763-483D-A4B2-2CE7262F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EDC3D-3898-413C-BBEC-D379DD5A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96B-FC9C-4329-8A53-48628671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69E7C-FCF3-4AF3-BC8C-41EC4110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F425A-543A-4E29-BBAD-F3233115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70275-215F-4F1F-925F-7C2699EC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2019A-DA14-4F8B-978C-FB8E82D9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AACA9-CE92-4B98-AAB2-F475404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890D3-FC5C-4A6C-B485-2C1C2D3B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91B5B-6795-4B5D-BC03-F9F48EA1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38450-5721-4AAF-9A7A-27EA771C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BB901-2B15-409A-8483-931B11F2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4DAAB-8202-4CF1-B8A5-3676A3FB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9945-333B-42AD-BD88-3130835D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BDCCB-E5C9-496A-908B-7152A440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8AE8D-94A7-4A89-889F-B7451E10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4663B-981A-4B56-9329-AADE7F20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96E80-D172-4364-80FE-FD7F53DE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67386-F899-4439-8B7E-88D58338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67B25-1798-456A-BC7C-0FA0A9ED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AEB15-4DC8-4349-A77D-466DB197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03CF5-83F1-4B1D-BCCB-DA6C1B30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09463-7B17-410A-80D9-593EA13A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C2653-1CE9-4060-A42D-6C1A6BEB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9962-2D29-4512-9C74-7293EC27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97035-9E72-4A91-A503-FB7994F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5919D-83E5-4807-8A2E-5796ED39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68CCE-5476-47F3-925F-9EB47CC6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EAA58-79FC-45C4-8AAA-80694283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62520-EBE5-4087-A4B7-B6414FEE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BD818-BA11-4C4F-8FBE-712584EA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71EB1-F7C8-41CE-914E-AA908AD5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A2B7A-49F6-482F-B690-42303AE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6F6C4-CB69-4D14-AB39-A017C087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031A8-71B9-410A-8DA2-1D9D0FA5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FC4E-EF60-464E-976A-59C75F0B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A4E43-DE8B-4097-904F-82F59210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05D40-38AA-4E75-B2C1-A733DFB4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4846F-B0A4-4951-87BF-47D1D1C0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C02C0-FDCE-4C0A-BE7D-109619B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B9B74-84D2-4CD5-B962-AAB17C51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9B324-3807-4183-8665-A45A2BB3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70D7B-4758-480D-8679-9D320AED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8F23-D708-42B2-86A5-C0623D5A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D88A-FE81-4E90-9B07-2FD345A2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DCCD-288E-4E04-A23D-E0CA1EA1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2C84-2BE8-4083-B03E-F765CC2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CAF-8F60-41B7-82C0-EAB60AA2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39A0-C53F-4E6E-AA9B-E51E8F9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10B9-F3E0-40D9-9B0E-F0A1B644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91EB-7BF4-46CA-B741-C8894423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31D1-D938-47AC-9B00-D752F8E1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535D-F74B-4EEA-9632-EE58AE1E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8F95-2ADD-4B7A-BA20-48D6C8BF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FE0A-E403-48CE-AACD-86CBEE9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330C-7C29-4806-9FFD-B527881C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935B-86B7-410C-8E8F-5359F6AC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DB64-ECFE-4393-AB4C-1ADE0790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427-421C-4F12-B46A-0CCDFA04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B85A-B43B-41A0-BCE0-7BA87ED2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3F11F-6E78-4F59-9E7A-11BD2976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DEFD-E56E-4A90-ACE9-C5EFDBD7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07C2-1CB6-4DD0-B305-F43FCDC5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494B-28B0-44BE-AA20-CCA758A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25A6-6E9A-49E0-9104-DF59DD02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25A2-8464-4440-AB15-2A160F90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5553-593B-4FB4-B3CF-8195B5D8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37DF-6C20-44EA-B7C1-2A9D9FC2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71D10-DC46-4D43-9E3D-FFA2542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35F-8ED9-49BC-A5CD-FADCEA55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B090B-C04E-4605-9EC8-B6E54242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35E4-9958-4C54-B590-410E8823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DC6A-6D35-45F7-99FB-939C9B0D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B16D1-535B-4097-8BF1-38111B80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1B53-3FA9-46EE-95D3-51A9FC9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B576-BF55-4A60-AC10-0196705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EC11-1DED-420C-8932-729DCBC2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FA8F-6BC1-4332-BD35-9D14D115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41D18-D593-4B81-9C49-DA884F1D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7A51-3E32-4026-B835-1A1A0E2C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C7D-6B9D-424E-A3A1-3F28A39F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D787-2AE5-4E64-A6B3-7411768C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6DE43-57FC-4803-9120-41296693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8CD8B-53B7-4DBB-8AE1-A6EAB882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41E3C-3656-4551-B3F8-2EA5356D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5A59-9C1B-4EDA-820B-B261C265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4ACB-17ED-418B-9A6A-DBF3481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B5C8-6851-468E-9EDE-503E419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14554-344F-4670-9E8C-251F76E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74E31-AFDB-4990-AB61-81E3BAC3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07441-89FA-4DF1-AB2C-9B222E00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DF6-2884-4813-BB06-5AC4F861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0629D-48EC-4579-B587-1DE1EC6F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9B42-B150-404A-AC35-30BE47F1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21D59-DC8D-4EAA-B85F-84FB2B81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E67D-982B-4F2C-ACB1-69910C1D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8D25E-968E-4A97-95D0-7509E357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5A9E6-098E-4E73-BE51-E89A8AA4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FF9DB-9971-458A-AF26-49A6DE69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1AF84-0EBC-4EB0-BF0D-98D3833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0C90D-5855-437A-9943-04EF0E9F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69190-18B9-4B9E-9CE9-DADDBD17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53B-76F0-4F3F-AA2B-3E440C3A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A45E9-DD6F-4625-8C50-C2798E2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AF6F4-9197-4594-BD72-3AA0EF46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13D0E-824C-4814-B763-31D67BB0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B357A-7C4D-4C8A-A776-E814FA40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D8AB-976D-4367-AA71-F8585A71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0C18F-E1D4-4D4C-8A9E-E9E487D2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C1E1-21C4-4432-948F-8875DACF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B05A8-1E8F-4B77-B8A7-0E3A25F1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59CF-D460-415B-9170-0C4818E0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79979-C7B7-47ED-AEA5-81ABCB5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CB6-53ED-4CD3-9F4D-356578E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5D141-1C72-4F66-8E1C-AE4E0BB3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D3F48-5E45-458C-B015-690849BD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A27C9-B7A1-489F-80CA-5DF6E534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DFDBD-BD08-4016-94DC-10CF6D0E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DA26-FBA0-4265-B737-7E44F353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7D139-FC4C-4E22-89A4-B0EDC8C8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58FE2-F5F5-4114-931B-214E5458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CD678-4247-4860-889F-FD4FAC1D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2176F-EEDC-4863-A88B-76CF429C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7815D-B77D-4306-9C95-32C70537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F02-1587-41E1-AA3D-E33FF2D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A2D25-5CA2-49BA-BD66-A5C32E97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287A4-9D69-4D6A-A843-FA1820BB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542F6-4286-4F78-BA2A-F3A7422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76559-6E7D-44C0-9BA7-9A138FCA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78B8A-2772-43D1-8302-2A10BF99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A07C3-3A99-4B8E-AA72-77FE2F7B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243A3-6712-4A93-9011-4EBB2331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90781-99FC-4D8F-A70B-8B6243E6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F87D7-6F30-4239-B044-52443832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2DEA6-A812-46B1-91A8-72B6599B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1178-1607-4D40-8CA5-CACEABF25BE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3F01-29EB-48A6-9442-854339F76F2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3AE6-5B9B-437C-BCCB-5A26D513CCD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06D5-B929-48E0-8C15-9A5B065742E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D6C-8B22-4E27-B537-25F55F2913E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1375-EE70-434C-9FA2-F1C1681FFBA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F27A-802D-4029-BC99-0163C749D23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3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8A9-0EDB-4C0A-A644-FFF143EAD5E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3E05-BE08-4F87-B133-8CA569D08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993B-A57A-4E9A-BA58-035A05E22B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0E74-6DDE-4170-9F65-1A926E9A459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5E24-115B-46C7-91DC-913EDBAD00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47B4-4529-412F-8D50-28886383252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Прямоугольник 4" descr=""/>
          <p:cNvPicPr/>
          <p:nvPr/>
        </p:nvPicPr>
        <p:blipFill>
          <a:blip r:embed="rId1"/>
          <a:stretch/>
        </p:blipFill>
        <p:spPr>
          <a:xfrm>
            <a:off x="49320" y="1944720"/>
            <a:ext cx="89056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357200" y="1600200"/>
            <a:ext cx="245268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3714840" y="4071960"/>
            <a:ext cx="2452680" cy="2000160"/>
          </a:xfrm>
          <a:prstGeom prst="hexagon">
            <a:avLst>
              <a:gd name="adj" fmla="val 29169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Правильный пятиугольник 7"/>
          <p:cNvSpPr/>
          <p:nvPr/>
        </p:nvSpPr>
        <p:spPr>
          <a:xfrm>
            <a:off x="5643720" y="1357200"/>
            <a:ext cx="2643120" cy="2071800"/>
          </a:xfrm>
          <a:prstGeom prst="pentag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Картинка 45 из 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3_porosenka физпауза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2998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Равнобедренный треугольник 1"/>
          <p:cNvSpPr/>
          <p:nvPr/>
        </p:nvSpPr>
        <p:spPr>
          <a:xfrm>
            <a:off x="1000080" y="642960"/>
            <a:ext cx="1214640" cy="107172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Параллелограмм 2"/>
          <p:cNvSpPr/>
          <p:nvPr/>
        </p:nvSpPr>
        <p:spPr>
          <a:xfrm>
            <a:off x="3643200" y="714240"/>
            <a:ext cx="1500480" cy="928800"/>
          </a:xfrm>
          <a:prstGeom prst="parallelogram">
            <a:avLst>
              <a:gd name="adj" fmla="val 25003"/>
            </a:avLst>
          </a:prstGeom>
          <a:solidFill>
            <a:srgbClr val="02d4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Прямоугольник 3"/>
          <p:cNvSpPr/>
          <p:nvPr/>
        </p:nvSpPr>
        <p:spPr>
          <a:xfrm>
            <a:off x="6429240" y="928800"/>
            <a:ext cx="1857600" cy="7142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Ромб 4"/>
          <p:cNvSpPr/>
          <p:nvPr/>
        </p:nvSpPr>
        <p:spPr>
          <a:xfrm rot="2708400">
            <a:off x="356760" y="3071880"/>
            <a:ext cx="1071360" cy="1071720"/>
          </a:xfrm>
          <a:prstGeom prst="diamond">
            <a:avLst/>
          </a:prstGeom>
          <a:solidFill>
            <a:srgbClr val="5ef0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Пятиугольник 5"/>
          <p:cNvSpPr/>
          <p:nvPr/>
        </p:nvSpPr>
        <p:spPr>
          <a:xfrm>
            <a:off x="2714760" y="2928960"/>
            <a:ext cx="2357280" cy="9288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45" y="0"/>
                </a:lnTo>
                <a:lnTo>
                  <a:pt x="21600" y="10800"/>
                </a:lnTo>
                <a:lnTo>
                  <a:pt x="1734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Прямоугольный треугольник 8"/>
          <p:cNvSpPr/>
          <p:nvPr/>
        </p:nvSpPr>
        <p:spPr>
          <a:xfrm>
            <a:off x="6715080" y="2500200"/>
            <a:ext cx="1785960" cy="114300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500120" y="4929120"/>
          <a:ext cx="6096240" cy="803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sp>
        <p:nvSpPr>
          <p:cNvPr id="605" name="TextBox 12"/>
          <p:cNvSpPr/>
          <p:nvPr/>
        </p:nvSpPr>
        <p:spPr>
          <a:xfrm>
            <a:off x="3214800" y="300024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1285920" y="10000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7000920" y="292896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Box 15"/>
          <p:cNvSpPr/>
          <p:nvPr/>
        </p:nvSpPr>
        <p:spPr>
          <a:xfrm>
            <a:off x="4071960" y="7858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6"/>
          <p:cNvSpPr/>
          <p:nvPr/>
        </p:nvSpPr>
        <p:spPr>
          <a:xfrm>
            <a:off x="568440" y="3224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7"/>
          <p:cNvSpPr/>
          <p:nvPr/>
        </p:nvSpPr>
        <p:spPr>
          <a:xfrm>
            <a:off x="6929280" y="928800"/>
            <a:ext cx="9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7"/>
          <p:cNvSpPr/>
          <p:nvPr/>
        </p:nvSpPr>
        <p:spPr>
          <a:xfrm>
            <a:off x="3860640" y="15717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4000680" y="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9"/>
          <p:cNvSpPr/>
          <p:nvPr/>
        </p:nvSpPr>
        <p:spPr>
          <a:xfrm>
            <a:off x="2071800" y="85716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29"/>
          <p:cNvSpPr/>
          <p:nvPr/>
        </p:nvSpPr>
        <p:spPr>
          <a:xfrm>
            <a:off x="1357200" y="15717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29"/>
          <p:cNvSpPr/>
          <p:nvPr/>
        </p:nvSpPr>
        <p:spPr>
          <a:xfrm>
            <a:off x="785880" y="92880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30"/>
          <p:cNvSpPr/>
          <p:nvPr/>
        </p:nvSpPr>
        <p:spPr>
          <a:xfrm>
            <a:off x="5932080" y="9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30"/>
          <p:cNvSpPr/>
          <p:nvPr/>
        </p:nvSpPr>
        <p:spPr>
          <a:xfrm>
            <a:off x="8289720" y="857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30"/>
          <p:cNvSpPr/>
          <p:nvPr/>
        </p:nvSpPr>
        <p:spPr>
          <a:xfrm>
            <a:off x="717120" y="2500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30"/>
          <p:cNvSpPr/>
          <p:nvPr/>
        </p:nvSpPr>
        <p:spPr>
          <a:xfrm>
            <a:off x="1285920" y="3214800"/>
            <a:ext cx="4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2880" y="3286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717120" y="4000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30"/>
          <p:cNvSpPr/>
          <p:nvPr/>
        </p:nvSpPr>
        <p:spPr>
          <a:xfrm>
            <a:off x="4717800" y="2571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30"/>
          <p:cNvSpPr/>
          <p:nvPr/>
        </p:nvSpPr>
        <p:spPr>
          <a:xfrm>
            <a:off x="4786200" y="3429000"/>
            <a:ext cx="4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2219040" y="30002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7218000" y="357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34"/>
          <p:cNvSpPr/>
          <p:nvPr/>
        </p:nvSpPr>
        <p:spPr>
          <a:xfrm>
            <a:off x="7075080" y="15717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6217920" y="2857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7146720" y="3571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3431880" y="3714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3288960" y="2357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30"/>
          <p:cNvSpPr/>
          <p:nvPr/>
        </p:nvSpPr>
        <p:spPr>
          <a:xfrm rot="161400">
            <a:off x="5090760" y="794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3288960" y="785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7503840" y="242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47"/>
          <p:cNvSpPr/>
          <p:nvPr/>
        </p:nvSpPr>
        <p:spPr>
          <a:xfrm>
            <a:off x="1500120" y="45007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ММА      ДЛИН     СТО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571760" y="571500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5500800" y="5715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2428920" y="5715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15"/>
          <p:cNvSpPr/>
          <p:nvPr/>
        </p:nvSpPr>
        <p:spPr>
          <a:xfrm>
            <a:off x="6858000" y="571500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15"/>
          <p:cNvSpPr/>
          <p:nvPr/>
        </p:nvSpPr>
        <p:spPr>
          <a:xfrm>
            <a:off x="3000240" y="5715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Box 17"/>
          <p:cNvSpPr/>
          <p:nvPr/>
        </p:nvSpPr>
        <p:spPr>
          <a:xfrm>
            <a:off x="6000840" y="571500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Box 16"/>
          <p:cNvSpPr/>
          <p:nvPr/>
        </p:nvSpPr>
        <p:spPr>
          <a:xfrm>
            <a:off x="4643280" y="57150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14"/>
          <p:cNvSpPr/>
          <p:nvPr/>
        </p:nvSpPr>
        <p:spPr>
          <a:xfrm>
            <a:off x="3857760" y="571500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1"/>
          <p:cNvSpPr/>
          <p:nvPr/>
        </p:nvSpPr>
        <p:spPr>
          <a:xfrm>
            <a:off x="428760" y="35712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b587c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1b587c"/>
                </a:solidFill>
                <a:latin typeface="Times New Roman"/>
                <a:ea typeface="Times New Roman"/>
              </a:rPr>
              <a:t>Самостоятельная работ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85840" y="1357200"/>
            <a:ext cx="8858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числи перимет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й фигур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Вычисли периметр двух фигу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числи периметр двух фигу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знай, периметр какого многоугольника больш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скольк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Рисунок 4" descr="Безымянный3.png"/>
          <p:cNvPicPr/>
          <p:nvPr/>
        </p:nvPicPr>
        <p:blipFill>
          <a:blip r:embed="rId1"/>
          <a:stretch/>
        </p:blipFill>
        <p:spPr>
          <a:xfrm>
            <a:off x="0" y="-857160"/>
            <a:ext cx="9572760" cy="8643960"/>
          </a:xfrm>
          <a:prstGeom prst="rect">
            <a:avLst/>
          </a:prstGeom>
          <a:ln w="0">
            <a:noFill/>
          </a:ln>
        </p:spPr>
      </p:pic>
      <p:sp>
        <p:nvSpPr>
          <p:cNvPr id="646" name="TextBox 3"/>
          <p:cNvSpPr/>
          <p:nvPr/>
        </p:nvSpPr>
        <p:spPr>
          <a:xfrm>
            <a:off x="857160" y="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5"/>
          <p:cNvSpPr/>
          <p:nvPr/>
        </p:nvSpPr>
        <p:spPr>
          <a:xfrm>
            <a:off x="857160" y="17859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2714760" y="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7"/>
          <p:cNvSpPr/>
          <p:nvPr/>
        </p:nvSpPr>
        <p:spPr>
          <a:xfrm>
            <a:off x="3000240" y="17859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5072040" y="2071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Box 9"/>
          <p:cNvSpPr/>
          <p:nvPr/>
        </p:nvSpPr>
        <p:spPr>
          <a:xfrm>
            <a:off x="4857840" y="-1429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10"/>
          <p:cNvSpPr/>
          <p:nvPr/>
        </p:nvSpPr>
        <p:spPr>
          <a:xfrm>
            <a:off x="6929280" y="20718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642960" y="242892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K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Box 12"/>
          <p:cNvSpPr/>
          <p:nvPr/>
        </p:nvSpPr>
        <p:spPr>
          <a:xfrm>
            <a:off x="714240" y="28576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714240" y="335772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 2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714240" y="385776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15"/>
          <p:cNvSpPr/>
          <p:nvPr/>
        </p:nvSpPr>
        <p:spPr>
          <a:xfrm>
            <a:off x="285840" y="450072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+4+2+3=11 (с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16"/>
          <p:cNvSpPr/>
          <p:nvPr/>
        </p:nvSpPr>
        <p:spPr>
          <a:xfrm>
            <a:off x="214200" y="6273720"/>
            <a:ext cx="59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P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1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17"/>
          <p:cNvSpPr/>
          <p:nvPr/>
        </p:nvSpPr>
        <p:spPr>
          <a:xfrm>
            <a:off x="4857840" y="264312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Box 18"/>
          <p:cNvSpPr/>
          <p:nvPr/>
        </p:nvSpPr>
        <p:spPr>
          <a:xfrm>
            <a:off x="4857840" y="30718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4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Box 19"/>
          <p:cNvSpPr/>
          <p:nvPr/>
        </p:nvSpPr>
        <p:spPr>
          <a:xfrm>
            <a:off x="4857840" y="357192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C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5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20"/>
          <p:cNvSpPr/>
          <p:nvPr/>
        </p:nvSpPr>
        <p:spPr>
          <a:xfrm>
            <a:off x="357120" y="514368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+4+5=12 (с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23"/>
          <p:cNvSpPr/>
          <p:nvPr/>
        </p:nvSpPr>
        <p:spPr>
          <a:xfrm>
            <a:off x="357120" y="578628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12-11=1 (с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Прямоугольный треугольник 24"/>
          <p:cNvSpPr/>
          <p:nvPr/>
        </p:nvSpPr>
        <p:spPr>
          <a:xfrm>
            <a:off x="1928880" y="6572160"/>
            <a:ext cx="71280" cy="14292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Прямоугольник с одним вырезанным углом 25"/>
          <p:cNvSpPr/>
          <p:nvPr/>
        </p:nvSpPr>
        <p:spPr>
          <a:xfrm>
            <a:off x="1143000" y="4857840"/>
            <a:ext cx="71280" cy="214200"/>
          </a:xfrm>
          <a:custGeom>
            <a:avLst/>
            <a:gdLst>
              <a:gd name="textAreaLeft" fmla="*/ 0 w 71280"/>
              <a:gd name="textAreaRight" fmla="*/ 65520 w 71280"/>
              <a:gd name="textAreaTop" fmla="*/ 5760 h 214200"/>
              <a:gd name="textAreaBottom" fmla="*/ 214560 h 214200"/>
            </a:gdLst>
            <a:ahLst/>
            <a:rect l="textAreaLeft" t="textAreaTop" r="textAreaRight" b="textAreaBottom"/>
            <a:pathLst>
              <a:path w="71438" h="214313">
                <a:moveTo>
                  <a:pt x="0" y="0"/>
                </a:moveTo>
                <a:lnTo>
                  <a:pt x="59531" y="0"/>
                </a:lnTo>
                <a:lnTo>
                  <a:pt x="71438" y="11907"/>
                </a:lnTo>
                <a:lnTo>
                  <a:pt x="71438" y="214313"/>
                </a:lnTo>
                <a:lnTo>
                  <a:pt x="0" y="21431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Прямоугольник с одним вырезанным углом 26"/>
          <p:cNvSpPr/>
          <p:nvPr/>
        </p:nvSpPr>
        <p:spPr>
          <a:xfrm>
            <a:off x="2714760" y="6572160"/>
            <a:ext cx="71280" cy="142920"/>
          </a:xfrm>
          <a:custGeom>
            <a:avLst/>
            <a:gdLst>
              <a:gd name="textAreaLeft" fmla="*/ 0 w 71280"/>
              <a:gd name="textAreaRight" fmla="*/ 65520 w 71280"/>
              <a:gd name="textAreaTop" fmla="*/ 5760 h 142920"/>
              <a:gd name="textAreaBottom" fmla="*/ 143280 h 142920"/>
            </a:gdLst>
            <a:ahLst/>
            <a:rect l="textAreaLeft" t="textAreaTop" r="textAreaRight" b="textAreaBottom"/>
            <a:pathLst>
              <a:path w="71438" h="142875">
                <a:moveTo>
                  <a:pt x="0" y="0"/>
                </a:moveTo>
                <a:lnTo>
                  <a:pt x="59531" y="0"/>
                </a:lnTo>
                <a:lnTo>
                  <a:pt x="71438" y="11907"/>
                </a:lnTo>
                <a:lnTo>
                  <a:pt x="71438" y="142875"/>
                </a:lnTo>
                <a:lnTo>
                  <a:pt x="0" y="14287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Прямоугольный треугольник 27"/>
          <p:cNvSpPr/>
          <p:nvPr/>
        </p:nvSpPr>
        <p:spPr>
          <a:xfrm>
            <a:off x="1214280" y="5572080"/>
            <a:ext cx="71640" cy="14292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1"/>
          <p:cNvSpPr/>
          <p:nvPr/>
        </p:nvSpPr>
        <p:spPr>
          <a:xfrm>
            <a:off x="357120" y="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ставь задачу по рисун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"/>
          <p:cNvSpPr/>
          <p:nvPr/>
        </p:nvSpPr>
        <p:spPr>
          <a:xfrm rot="8843400">
            <a:off x="1747080" y="2579760"/>
            <a:ext cx="5219640" cy="5627520"/>
          </a:xfrm>
          <a:prstGeom prst="rtTriangle">
            <a:avLst/>
          </a:prstGeom>
          <a:solidFill>
            <a:srgbClr val="e6e0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Box 6"/>
          <p:cNvSpPr/>
          <p:nvPr/>
        </p:nvSpPr>
        <p:spPr>
          <a:xfrm flipV="1" rot="8898600">
            <a:off x="1629360" y="2126520"/>
            <a:ext cx="24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7"/>
          <p:cNvSpPr/>
          <p:nvPr/>
        </p:nvSpPr>
        <p:spPr>
          <a:xfrm rot="851400">
            <a:off x="2552760" y="54054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8"/>
          <p:cNvSpPr/>
          <p:nvPr/>
        </p:nvSpPr>
        <p:spPr>
          <a:xfrm rot="3474000">
            <a:off x="4160520" y="3476160"/>
            <a:ext cx="53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, на 1 см длиннее, чем 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3357720" y="342900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-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142920" y="4000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12"/>
          <p:cNvSpPr/>
          <p:nvPr/>
        </p:nvSpPr>
        <p:spPr>
          <a:xfrm>
            <a:off x="4714920" y="92880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8143920" y="608796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1000080" y="214200"/>
            <a:ext cx="67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ff33"/>
                </a:solidFill>
                <a:latin typeface="comic"/>
              </a:rPr>
              <a:t>  </a:t>
            </a:r>
            <a:r>
              <a:rPr b="1" lang="ru-RU" sz="8800" spc="-1" strike="noStrike">
                <a:solidFill>
                  <a:srgbClr val="66ff33"/>
                </a:solidFill>
                <a:latin typeface="comic"/>
              </a:rPr>
              <a:t>Молодц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42920" y="1785960"/>
            <a:ext cx="650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omic"/>
              </a:rPr>
              <a:t>Спасибо</a:t>
            </a:r>
            <a:r>
              <a:rPr b="1" lang="ru-RU" sz="8000" spc="-1" strike="noStrike">
                <a:solidFill>
                  <a:srgbClr val="ffff00"/>
                </a:solidFill>
                <a:latin typeface="comic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omic"/>
              </a:rPr>
              <a:t>за урок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Picture 2" descr="Картинка 23 из 19619"/>
          <p:cNvPicPr/>
          <p:nvPr/>
        </p:nvPicPr>
        <p:blipFill>
          <a:blip r:embed="rId1"/>
          <a:stretch/>
        </p:blipFill>
        <p:spPr>
          <a:xfrm>
            <a:off x="4276800" y="3214800"/>
            <a:ext cx="4867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Прямоугольник 3" descr=""/>
          <p:cNvPicPr/>
          <p:nvPr/>
        </p:nvPicPr>
        <p:blipFill>
          <a:blip r:embed="rId1"/>
          <a:stretch/>
        </p:blipFill>
        <p:spPr>
          <a:xfrm>
            <a:off x="231840" y="1639800"/>
            <a:ext cx="8631000" cy="4011840"/>
          </a:xfrm>
          <a:prstGeom prst="rect">
            <a:avLst/>
          </a:prstGeom>
          <a:ln w="0">
            <a:noFill/>
          </a:ln>
        </p:spPr>
      </p:pic>
      <p:pic>
        <p:nvPicPr>
          <p:cNvPr id="563" name="3_porosenka 2 слайд.mp3" descr=""/>
          <p:cNvPicPr/>
          <p:nvPr/>
        </p:nvPicPr>
        <p:blipFill>
          <a:blip r:embed="rId2"/>
          <a:stretch/>
        </p:blipFill>
        <p:spPr>
          <a:xfrm>
            <a:off x="807228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68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C:\Users\Михаил\Desktop\лара\КАРТИНКИ\large_26684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Oval 6"/>
          <p:cNvSpPr/>
          <p:nvPr/>
        </p:nvSpPr>
        <p:spPr>
          <a:xfrm>
            <a:off x="5429160" y="3214800"/>
            <a:ext cx="1940040" cy="1753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3929040" y="4214880"/>
            <a:ext cx="1940040" cy="1754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Oval 4"/>
          <p:cNvSpPr/>
          <p:nvPr/>
        </p:nvSpPr>
        <p:spPr>
          <a:xfrm>
            <a:off x="2214720" y="3500280"/>
            <a:ext cx="1939680" cy="1754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7"/>
          <p:cNvSpPr/>
          <p:nvPr/>
        </p:nvSpPr>
        <p:spPr>
          <a:xfrm>
            <a:off x="5357880" y="1571760"/>
            <a:ext cx="1939680" cy="1753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3"/>
          <p:cNvSpPr/>
          <p:nvPr/>
        </p:nvSpPr>
        <p:spPr>
          <a:xfrm>
            <a:off x="2071800" y="1785960"/>
            <a:ext cx="1939680" cy="17542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8"/>
          <p:cNvSpPr/>
          <p:nvPr/>
        </p:nvSpPr>
        <p:spPr>
          <a:xfrm>
            <a:off x="3643200" y="857160"/>
            <a:ext cx="1940040" cy="1754280"/>
          </a:xfrm>
          <a:prstGeom prst="ellipse">
            <a:avLst/>
          </a:prstGeom>
          <a:solidFill>
            <a:srgbClr val="85df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9"/>
          <p:cNvSpPr/>
          <p:nvPr/>
        </p:nvSpPr>
        <p:spPr>
          <a:xfrm>
            <a:off x="3571920" y="2286000"/>
            <a:ext cx="2230560" cy="207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17"/>
          <p:cNvSpPr/>
          <p:nvPr/>
        </p:nvSpPr>
        <p:spPr>
          <a:xfrm>
            <a:off x="4143240" y="0"/>
            <a:ext cx="2571840" cy="928800"/>
          </a:xfrm>
          <a:custGeom>
            <a:avLst/>
            <a:gdLst>
              <a:gd name="textAreaLeft" fmla="*/ 369000 w 2571840"/>
              <a:gd name="textAreaRight" fmla="*/ 1985760 w 25718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201" hR="21600" stAng="10800000" swAng="5400000"/>
                <a:lnTo>
                  <a:pt x="13576" y="0"/>
                </a:lnTo>
                <a:arcTo wR="6201" hR="21600" stAng="-5400000" swAng="2344584"/>
                <a:lnTo>
                  <a:pt x="21245" y="14400"/>
                </a:lnTo>
                <a:lnTo>
                  <a:pt x="16090" y="21600"/>
                </a:lnTo>
                <a:lnTo>
                  <a:pt x="10224" y="14400"/>
                </a:lnTo>
                <a:lnTo>
                  <a:pt x="12047" y="14400"/>
                </a:lnTo>
                <a:arcTo wR="6201" hR="21600" stAng="-3055416" swAng="-1625291"/>
                <a:lnTo>
                  <a:pt x="9889" y="4234"/>
                </a:lnTo>
                <a:arcTo wR="6201" hR="21600" stAng="-6119293" swAng="-4680707"/>
                <a:close/>
              </a:path>
              <a:path fill="darkenLess" w="21600" h="21600">
                <a:moveTo>
                  <a:pt x="0" y="21600"/>
                </a:moveTo>
                <a:arcTo wR="6201" hR="21600" stAng="10800000" swAng="5400000"/>
                <a:lnTo>
                  <a:pt x="6201" y="0"/>
                </a:lnTo>
                <a:arcTo wR="6201" hR="21600" stAng="-5400000" swAng="719293"/>
                <a:lnTo>
                  <a:pt x="9889" y="4234"/>
                </a:lnTo>
                <a:arcTo wR="6201" hR="21600" stAng="-6119293" swAng="-4680707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8"/>
          <p:cNvSpPr/>
          <p:nvPr/>
        </p:nvSpPr>
        <p:spPr>
          <a:xfrm>
            <a:off x="534240" y="4856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Устный счё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4000680" y="2714760"/>
            <a:ext cx="15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+ 2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4071960" y="1428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14"/>
          <p:cNvSpPr/>
          <p:nvPr/>
        </p:nvSpPr>
        <p:spPr>
          <a:xfrm>
            <a:off x="5715000" y="2000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6072120" y="364320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4500720" y="4643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17"/>
          <p:cNvSpPr/>
          <p:nvPr/>
        </p:nvSpPr>
        <p:spPr>
          <a:xfrm>
            <a:off x="2714760" y="3857760"/>
            <a:ext cx="10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18"/>
          <p:cNvSpPr/>
          <p:nvPr/>
        </p:nvSpPr>
        <p:spPr>
          <a:xfrm>
            <a:off x="2643120" y="21430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357200" y="1600200"/>
            <a:ext cx="245268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3714840" y="4071960"/>
            <a:ext cx="2452680" cy="2000160"/>
          </a:xfrm>
          <a:prstGeom prst="hexagon">
            <a:avLst>
              <a:gd name="adj" fmla="val 29169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2592000" y="457200"/>
            <a:ext cx="41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Times New Roman"/>
              </a:rPr>
              <a:t>Что изображе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авильный пятиугольник 7"/>
          <p:cNvSpPr/>
          <p:nvPr/>
        </p:nvSpPr>
        <p:spPr>
          <a:xfrm>
            <a:off x="5643720" y="1357200"/>
            <a:ext cx="2643120" cy="2071800"/>
          </a:xfrm>
          <a:prstGeom prst="pentag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4"/>
          <p:cNvSpPr txBox="1"/>
          <p:nvPr/>
        </p:nvSpPr>
        <p:spPr>
          <a:xfrm>
            <a:off x="0" y="2500200"/>
            <a:ext cx="91440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«ПЕРИМЕТР</a:t>
            </a:r>
            <a:endParaRPr b="1" lang="en-US" sz="5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mbria"/>
              </a:rPr>
              <a:t>МНОГОУГОЛЬНИКА»</a:t>
            </a:r>
            <a:endParaRPr b="1" lang="en-US" sz="5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586" name="TextBox 2"/>
          <p:cNvSpPr/>
          <p:nvPr/>
        </p:nvSpPr>
        <p:spPr>
          <a:xfrm>
            <a:off x="214200" y="428760"/>
            <a:ext cx="85010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1" lang="ru-RU" sz="8800" spc="-1" strike="noStrike">
                <a:solidFill>
                  <a:srgbClr val="ffc000"/>
                </a:solidFill>
                <a:latin typeface="Cambria"/>
              </a:rPr>
              <a:t>Тема урока: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Картинка 38 из 19619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Равнобедренный треугольник 2"/>
          <p:cNvSpPr/>
          <p:nvPr/>
        </p:nvSpPr>
        <p:spPr>
          <a:xfrm>
            <a:off x="285840" y="2500200"/>
            <a:ext cx="8572320" cy="2357640"/>
          </a:xfrm>
          <a:prstGeom prst="triangle">
            <a:avLst>
              <a:gd name="adj" fmla="val 39653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429000" y="285768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1571760" y="4071960"/>
            <a:ext cx="571320" cy="5713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6572160" y="414324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1390680"/>
            <a:ext cx="9126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0:36:30Z</dcterms:created>
  <dc:creator>Михаил</dc:creator>
  <dc:description/>
  <dc:language>en-US</dc:language>
  <cp:lastModifiedBy>Михаил</cp:lastModifiedBy>
  <dcterms:modified xsi:type="dcterms:W3CDTF">2010-10-26T16:16:58Z</dcterms:modified>
  <cp:revision>46</cp:revision>
  <dc:subject/>
  <dc:title>Слайд 1</dc:title>
</cp:coreProperties>
</file>