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applause.wav" ContentType="audio/x-wav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0D6-B6B9-4E6E-9F22-473B80D7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116-AB31-4122-8CA4-A3849C4B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1126-23EB-4BCD-AB14-3C3A9F35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BCB9C-8D3A-4C1E-9B49-AA2DBB4C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D7060-A224-4CE0-9178-33FF31C6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48BAC-A8E7-40EA-A81C-46947AE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13B2C-AE9E-4CFB-8834-8B07D69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1EAB-A372-4D68-ACEC-74B7D21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9F42A-5EAC-40CE-9001-6B6E4D69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A3FD-E969-4152-8BA5-2790A259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35600-171C-4F14-9208-CED4EADB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281A1-A185-409C-944C-C650D44F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9CB-FFE0-4097-8ADA-79AB64A7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757D-3D02-43C6-BCE2-714B95E6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247F5-A742-4109-B7DC-2DF63AA2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3D15E-F709-4F9C-969B-3986BDEE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EB03D-9BE2-49E2-8087-6132746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5D0CF-61CF-4BC6-A3E3-CF854C5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D77D5-1DF5-43AD-AA76-A4DA0B3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11EB5-A8B5-4323-BDC4-DC293F6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BCD62-7BED-4CBE-9628-425B92C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B743C-05DA-46D5-A6C4-0F3B1B1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2190D-E7F3-4C80-8DED-634DBF53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4F0-313D-4484-9941-B759CAD1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62CFD-FA1A-451D-BB99-04BA98FC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2959D-701E-4173-9422-8B2C8FDD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362DF-D65F-46D1-AB5B-BCC5B0AE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07041-5C49-47A6-8A56-C0851C7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0CC66-5290-430C-90C2-5ACB88C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CEA27-EF88-41E1-931F-F21E913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932CA-9503-493A-BC65-8A698919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D0B68-D770-4EBC-8BA0-8D140D0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3888-39D1-4444-ACFD-5990075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B79EF-8812-42A9-B305-9EC44C2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6043-9278-4632-848A-CB51A57A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B2669-C212-47EC-A2E0-138CD01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6E458-C93B-45BF-BE0F-D810ED79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4515C-79A3-447B-A9A2-38248C80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C0BAD-D52B-43CD-8640-31DC3D48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422B7-8E67-4B64-81F7-A2CB60B0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05F98-A7D7-42FC-85BB-92E15C5D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066D7-C527-4418-82B9-9C5CC67A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72BA7-245B-4FDF-B040-FD45E30F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5F41C-39E3-4C07-94D6-2BE1C72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F1A6F-537C-4C49-B3DF-7CD6F8B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8FC8-7ED3-48CE-8078-FB0767F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B4CE5-3A49-470B-8110-069C75F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D47BC-4213-4787-8550-481AF48E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D97C7-316C-4AFC-9564-15DA2ADB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AF1C6-87A3-439B-9587-24FB96C1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839CF-6EAE-41F6-BB32-FC1C2CF8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5EFEA-736C-4DBC-BD0F-1518BC0B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B4F78-F9A9-40B5-8084-E66EA47C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5B9ED-76E0-4C6C-A02A-D96F16E8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2F4C3-9870-45F1-B483-3E175F69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4F8A2-55E0-4C46-991B-02A12990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6EC2-32F5-4DBF-9B26-43130D12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70E2B-018D-45C2-8C87-38EEFF0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F8CBD-7219-4BD9-BBEA-26A4F27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DD0D5-0852-4E06-8805-C03CED97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E912D-FCCF-468E-BEF7-8A52520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888AA-8D37-4F37-B8D7-D81A82C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AAEA4-89E2-4A5A-817D-262F163C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26B95-5EAF-4219-90C7-0CEEBD2C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290-941C-436B-8411-B7A7727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1AC1-57D8-4995-8E28-0572E1FB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7B3C-D3AF-4FEA-9C2C-088E5BC0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0549-9CB7-46F6-8737-0287E6E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A2B-00B9-41F2-99F7-F1BF06C3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D886-A34B-482B-9776-932ABCE4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263D-84CA-42C2-A8CC-9B308EC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D186-DC58-4337-988A-C33B314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7B3-E778-4122-8039-78AA8241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FC8-2808-4AFE-954F-47F2EADF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78CF-E84B-4BF3-8B00-82308894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771B-BE69-4EC8-BF49-048F7713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F86A-BE6A-4A36-B060-6A47DE69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069A-6D61-4003-A712-03C7949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19ED-56C5-4FCB-B0F1-49BA6CEA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6E3-891F-4BDA-B09A-C69FAAB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40F2-5AA0-4781-BD43-D95F874E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5D79-7C3A-4913-9B26-10E7B98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A17B-D880-45C1-9B30-1F4B5E6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B1CA-B663-4AA2-AFA6-8005EBA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AE1C-4CA9-408F-805B-F58428DD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26CD-B834-498D-A535-919EAA04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7136-9FA4-43E2-8CD8-C5AA960C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A18D-6F57-4D4B-AE01-C8556F9D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B47D-1D44-4D7F-8CD6-73860542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5165-0339-4AE8-A958-3EE55A9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862-B299-4776-9F2C-140924B5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9B3E-1551-4206-B8A9-9DBE2630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84A1-4D37-4618-AAB6-FF4E1D77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3950-A759-4B78-8280-835ABFD0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AE79-3B19-451D-B4AA-C99C4274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D566-35EA-43FF-8464-DA43345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9E705-4B01-43C8-B30A-5E6A89D1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4E9C-D324-4FD4-BFA8-8976861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90E4-9C21-442B-8E46-CABAEF19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A252-BD68-4BEB-AD72-95AB2271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41F6-AB97-4FD8-8EBE-7ABC7F29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FEE-E562-439C-B866-F3B2BE83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68C7-1E75-4C3E-BA29-0E30F23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6442-7FAE-46BF-B024-EDF3A930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3267-1F8F-4FB1-8F34-B040551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DF1F-5016-49AC-B32A-13D8CEE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40C6-8FAA-4AA4-A916-2AC7333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FC98-8C27-4597-9EA6-60F419C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6E8F-8417-4DA6-90B3-46CC7BD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7234-90BF-407A-844E-81C99EB6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0C4F-5DC7-4D6E-8432-515C08A7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1DF1B-B196-4898-A518-B6479065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B5B-A02C-4784-94AB-B1EA07C9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655C-8339-4A1C-9855-C2C44E59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6B05-6B7E-46DF-9ADB-1305FE30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250B-1AB3-4D9B-A70C-8435FA9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A330D-FA63-4F11-9D1F-D70BF2F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FAC0-9062-48AA-9434-0D40C8B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E4C6-274E-4CE9-96BC-5E04E419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CA5CB-D3D9-47CF-9397-2F2EAC04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CD0BC-54BC-49F8-9B89-CBE5FFA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BF19-BB62-4032-A805-074A3D3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06AC-B558-4369-91AD-68C70288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F08-C2A2-44E1-A9E7-66147C8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A8C06-5D01-4128-9FE3-755C4959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4E87-02F6-45C1-8F66-5AB13CC9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A805-C52B-4682-9833-2698583C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4BBD7-3A1D-4152-8970-5495CE0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8443-4E55-4C3D-B499-3371759B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E0EF-9944-4F15-AFB8-A01BE76C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B21F-6B4A-4DCB-A11A-2957961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05A2-8C12-4E99-A5B2-BAF08D14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AE08-9127-450F-9286-5A38E65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AA11-58ED-4284-81CD-99AEAEE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B33-50BC-4220-B7DC-CE98ED2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5E92-71CD-4EAD-BBDA-E86B3B6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73F4B-B2D6-4253-BE04-756A4FE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722F-AD28-4FB0-8322-2AB178E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CAF4-6643-41D0-AB03-771644A6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8548-C472-4E94-ACD1-82E971E3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C12D5-6C81-4AB5-9CA0-6DDCA92D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C307-4F51-436F-A86C-394596D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969EE-4C0D-45AB-9B39-F32C26B6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91F7-07E8-43E7-99AE-03F406EE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C8ABC-C5D9-40EB-A096-0B67BC51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C0F-8563-40C9-9F6E-9B2C5CDB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A0BF9-9CAD-4F06-8873-C01FBEF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1B86-8F05-4D3A-BE1E-C436A39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E882F-4124-4E00-B9DC-CDF1F5C4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B1FA-5891-4193-80AA-3AC093A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1A14-8F5F-4997-9732-D9F01632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B9C6-5EEE-4B3A-8AF1-F586454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67BD8-4A29-4CC9-B77D-948B8D3F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0EC17-DD81-459B-8F01-7985C6FB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5815-09B1-4973-BD99-D1704512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E393F-DBFE-4ABC-A38D-5776D8E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E82E-AA10-4515-9136-44E029CDE9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CAE-EEC1-4696-8DEB-4C3DC60B3E8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1C43-7CB6-4DAF-830A-87D9D9AA3A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FCC-8B9B-4125-98D8-14DFF1CAF2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FF01-C553-44A5-8333-0F247BC995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D749-0AC3-4CE7-8759-F886FE44571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584E-41E2-4DDD-9D4C-9CDC11E70CD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3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A78D-8B7C-4CA4-9B3B-C5F324E7EF1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906-6E7D-4611-9D4E-9B71ED9CF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D6DB-2C64-4017-BCF4-CB59DEA199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1E07-834C-4DB2-B04D-C6C274EF2E6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738-AF58-441F-800A-62BFF404DE9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F4EE-FC8E-46F7-BB8B-7B4A7718596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Прямоугольник 4" descr=""/>
          <p:cNvPicPr/>
          <p:nvPr/>
        </p:nvPicPr>
        <p:blipFill>
          <a:blip r:embed="rId1"/>
          <a:stretch/>
        </p:blipFill>
        <p:spPr>
          <a:xfrm>
            <a:off x="49320" y="1944720"/>
            <a:ext cx="89056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357200" y="1600200"/>
            <a:ext cx="245268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3714840" y="4071960"/>
            <a:ext cx="2452680" cy="2000160"/>
          </a:xfrm>
          <a:prstGeom prst="hexagon">
            <a:avLst>
              <a:gd name="adj" fmla="val 29169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Правильный пятиугольник 7"/>
          <p:cNvSpPr/>
          <p:nvPr/>
        </p:nvSpPr>
        <p:spPr>
          <a:xfrm>
            <a:off x="5643720" y="1357200"/>
            <a:ext cx="2643120" cy="2071800"/>
          </a:xfrm>
          <a:prstGeom prst="pentag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Картинка 45 из 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3_porosenka физпауза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2998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Равнобедренный треугольник 1"/>
          <p:cNvSpPr/>
          <p:nvPr/>
        </p:nvSpPr>
        <p:spPr>
          <a:xfrm>
            <a:off x="1000080" y="642960"/>
            <a:ext cx="1214640" cy="107172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Параллелограмм 2"/>
          <p:cNvSpPr/>
          <p:nvPr/>
        </p:nvSpPr>
        <p:spPr>
          <a:xfrm>
            <a:off x="3643200" y="714240"/>
            <a:ext cx="1500480" cy="928800"/>
          </a:xfrm>
          <a:prstGeom prst="parallelogram">
            <a:avLst>
              <a:gd name="adj" fmla="val 25003"/>
            </a:avLst>
          </a:prstGeom>
          <a:solidFill>
            <a:srgbClr val="02d4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оугольник 3"/>
          <p:cNvSpPr/>
          <p:nvPr/>
        </p:nvSpPr>
        <p:spPr>
          <a:xfrm>
            <a:off x="6429240" y="928800"/>
            <a:ext cx="1857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Ромб 4"/>
          <p:cNvSpPr/>
          <p:nvPr/>
        </p:nvSpPr>
        <p:spPr>
          <a:xfrm rot="2708400">
            <a:off x="356760" y="3071880"/>
            <a:ext cx="1071360" cy="1071720"/>
          </a:xfrm>
          <a:prstGeom prst="diamond">
            <a:avLst/>
          </a:prstGeom>
          <a:solidFill>
            <a:srgbClr val="5ef0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ятиугольник 5"/>
          <p:cNvSpPr/>
          <p:nvPr/>
        </p:nvSpPr>
        <p:spPr>
          <a:xfrm>
            <a:off x="2714760" y="2928960"/>
            <a:ext cx="2357280" cy="9288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45" y="0"/>
                </a:lnTo>
                <a:lnTo>
                  <a:pt x="21600" y="10800"/>
                </a:lnTo>
                <a:lnTo>
                  <a:pt x="173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оугольный треугольник 8"/>
          <p:cNvSpPr/>
          <p:nvPr/>
        </p:nvSpPr>
        <p:spPr>
          <a:xfrm>
            <a:off x="6715080" y="2500200"/>
            <a:ext cx="1785960" cy="114300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00120" y="4929120"/>
          <a:ext cx="6096240" cy="80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605" name="TextBox 12"/>
          <p:cNvSpPr/>
          <p:nvPr/>
        </p:nvSpPr>
        <p:spPr>
          <a:xfrm>
            <a:off x="3214800" y="300024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1285920" y="10000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7000920" y="29289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Box 15"/>
          <p:cNvSpPr/>
          <p:nvPr/>
        </p:nvSpPr>
        <p:spPr>
          <a:xfrm>
            <a:off x="4071960" y="7858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568440" y="3224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6929280" y="9288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7"/>
          <p:cNvSpPr/>
          <p:nvPr/>
        </p:nvSpPr>
        <p:spPr>
          <a:xfrm>
            <a:off x="3860640" y="15717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4000680" y="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9"/>
          <p:cNvSpPr/>
          <p:nvPr/>
        </p:nvSpPr>
        <p:spPr>
          <a:xfrm>
            <a:off x="2071800" y="85716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9"/>
          <p:cNvSpPr/>
          <p:nvPr/>
        </p:nvSpPr>
        <p:spPr>
          <a:xfrm>
            <a:off x="1357200" y="1571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29"/>
          <p:cNvSpPr/>
          <p:nvPr/>
        </p:nvSpPr>
        <p:spPr>
          <a:xfrm>
            <a:off x="785880" y="92880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30"/>
          <p:cNvSpPr/>
          <p:nvPr/>
        </p:nvSpPr>
        <p:spPr>
          <a:xfrm>
            <a:off x="5932080" y="9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30"/>
          <p:cNvSpPr/>
          <p:nvPr/>
        </p:nvSpPr>
        <p:spPr>
          <a:xfrm>
            <a:off x="8289720" y="857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717120" y="2500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1285920" y="3214800"/>
            <a:ext cx="4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2880" y="3286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717120" y="4000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30"/>
          <p:cNvSpPr/>
          <p:nvPr/>
        </p:nvSpPr>
        <p:spPr>
          <a:xfrm>
            <a:off x="4717800" y="2571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4786200" y="3429000"/>
            <a:ext cx="4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2219040" y="3000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7218000" y="357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7075080" y="15717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6217920" y="2857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7146720" y="3571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3431880" y="3714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3288960" y="2357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30"/>
          <p:cNvSpPr/>
          <p:nvPr/>
        </p:nvSpPr>
        <p:spPr>
          <a:xfrm rot="161400">
            <a:off x="5090760" y="794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3288960" y="785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0384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47"/>
          <p:cNvSpPr/>
          <p:nvPr/>
        </p:nvSpPr>
        <p:spPr>
          <a:xfrm>
            <a:off x="1500120" y="45007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ММА      ДЛИН     СТО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571760" y="571500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5500800" y="5715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2428920" y="5715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15"/>
          <p:cNvSpPr/>
          <p:nvPr/>
        </p:nvSpPr>
        <p:spPr>
          <a:xfrm>
            <a:off x="6858000" y="571500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15"/>
          <p:cNvSpPr/>
          <p:nvPr/>
        </p:nvSpPr>
        <p:spPr>
          <a:xfrm>
            <a:off x="3000240" y="5715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17"/>
          <p:cNvSpPr/>
          <p:nvPr/>
        </p:nvSpPr>
        <p:spPr>
          <a:xfrm>
            <a:off x="6000840" y="571500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16"/>
          <p:cNvSpPr/>
          <p:nvPr/>
        </p:nvSpPr>
        <p:spPr>
          <a:xfrm>
            <a:off x="4643280" y="57150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14"/>
          <p:cNvSpPr/>
          <p:nvPr/>
        </p:nvSpPr>
        <p:spPr>
          <a:xfrm>
            <a:off x="3857760" y="571500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1"/>
          <p:cNvSpPr/>
          <p:nvPr/>
        </p:nvSpPr>
        <p:spPr>
          <a:xfrm>
            <a:off x="428760" y="35712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b587c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1b587c"/>
                </a:solidFill>
                <a:latin typeface="Times New Roman"/>
                <a:ea typeface="Times New Roman"/>
              </a:rPr>
              <a:t>Самостоятельная работ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85840" y="1357200"/>
            <a:ext cx="8858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числи перимет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й фигур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Вычисли периметр двух фигу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числи периметр двух фигу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знай, периметр какого многоугольника больш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скольк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Рисунок 4" descr="Безымянный3.png"/>
          <p:cNvPicPr/>
          <p:nvPr/>
        </p:nvPicPr>
        <p:blipFill>
          <a:blip r:embed="rId1"/>
          <a:stretch/>
        </p:blipFill>
        <p:spPr>
          <a:xfrm>
            <a:off x="0" y="-857160"/>
            <a:ext cx="9572760" cy="86439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3"/>
          <p:cNvSpPr/>
          <p:nvPr/>
        </p:nvSpPr>
        <p:spPr>
          <a:xfrm>
            <a:off x="857160" y="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857160" y="17859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2714760" y="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7"/>
          <p:cNvSpPr/>
          <p:nvPr/>
        </p:nvSpPr>
        <p:spPr>
          <a:xfrm>
            <a:off x="3000240" y="17859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5072040" y="2071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Box 9"/>
          <p:cNvSpPr/>
          <p:nvPr/>
        </p:nvSpPr>
        <p:spPr>
          <a:xfrm>
            <a:off x="4857840" y="-1429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6929280" y="20718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642960" y="242892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K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714240" y="28576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714240" y="33577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 2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714240" y="385776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15"/>
          <p:cNvSpPr/>
          <p:nvPr/>
        </p:nvSpPr>
        <p:spPr>
          <a:xfrm>
            <a:off x="285840" y="450072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+4+2+3=11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16"/>
          <p:cNvSpPr/>
          <p:nvPr/>
        </p:nvSpPr>
        <p:spPr>
          <a:xfrm>
            <a:off x="214200" y="627372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P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1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4857840" y="2643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18"/>
          <p:cNvSpPr/>
          <p:nvPr/>
        </p:nvSpPr>
        <p:spPr>
          <a:xfrm>
            <a:off x="4857840" y="30718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Box 19"/>
          <p:cNvSpPr/>
          <p:nvPr/>
        </p:nvSpPr>
        <p:spPr>
          <a:xfrm>
            <a:off x="4857840" y="357192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C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5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20"/>
          <p:cNvSpPr/>
          <p:nvPr/>
        </p:nvSpPr>
        <p:spPr>
          <a:xfrm>
            <a:off x="357120" y="514368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+4+5=12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23"/>
          <p:cNvSpPr/>
          <p:nvPr/>
        </p:nvSpPr>
        <p:spPr>
          <a:xfrm>
            <a:off x="357120" y="578628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12-11=1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Прямоугольный треугольник 24"/>
          <p:cNvSpPr/>
          <p:nvPr/>
        </p:nvSpPr>
        <p:spPr>
          <a:xfrm>
            <a:off x="1928880" y="6572160"/>
            <a:ext cx="71280" cy="14292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Прямоугольник с одним вырезанным углом 25"/>
          <p:cNvSpPr/>
          <p:nvPr/>
        </p:nvSpPr>
        <p:spPr>
          <a:xfrm>
            <a:off x="1143000" y="4857840"/>
            <a:ext cx="71280" cy="214200"/>
          </a:xfrm>
          <a:custGeom>
            <a:avLst/>
            <a:gdLst>
              <a:gd name="textAreaLeft" fmla="*/ 0 w 71280"/>
              <a:gd name="textAreaRight" fmla="*/ 65520 w 71280"/>
              <a:gd name="textAreaTop" fmla="*/ 5760 h 214200"/>
              <a:gd name="textAreaBottom" fmla="*/ 214560 h 214200"/>
            </a:gdLst>
            <a:ahLst/>
            <a:rect l="textAreaLeft" t="textAreaTop" r="textAreaRight" b="textAreaBottom"/>
            <a:pathLst>
              <a:path w="71438" h="214313">
                <a:moveTo>
                  <a:pt x="0" y="0"/>
                </a:moveTo>
                <a:lnTo>
                  <a:pt x="59531" y="0"/>
                </a:lnTo>
                <a:lnTo>
                  <a:pt x="71438" y="11907"/>
                </a:lnTo>
                <a:lnTo>
                  <a:pt x="71438" y="214313"/>
                </a:lnTo>
                <a:lnTo>
                  <a:pt x="0" y="214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Прямоугольник с одним вырезанным углом 26"/>
          <p:cNvSpPr/>
          <p:nvPr/>
        </p:nvSpPr>
        <p:spPr>
          <a:xfrm>
            <a:off x="2714760" y="6572160"/>
            <a:ext cx="71280" cy="142920"/>
          </a:xfrm>
          <a:custGeom>
            <a:avLst/>
            <a:gdLst>
              <a:gd name="textAreaLeft" fmla="*/ 0 w 71280"/>
              <a:gd name="textAreaRight" fmla="*/ 65520 w 71280"/>
              <a:gd name="textAreaTop" fmla="*/ 5760 h 142920"/>
              <a:gd name="textAreaBottom" fmla="*/ 143280 h 142920"/>
            </a:gdLst>
            <a:ahLst/>
            <a:rect l="textAreaLeft" t="textAreaTop" r="textAreaRight" b="textAreaBottom"/>
            <a:pathLst>
              <a:path w="71438" h="142875">
                <a:moveTo>
                  <a:pt x="0" y="0"/>
                </a:moveTo>
                <a:lnTo>
                  <a:pt x="59531" y="0"/>
                </a:lnTo>
                <a:lnTo>
                  <a:pt x="71438" y="11907"/>
                </a:lnTo>
                <a:lnTo>
                  <a:pt x="71438" y="142875"/>
                </a:lnTo>
                <a:lnTo>
                  <a:pt x="0" y="1428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Прямоугольный треугольник 27"/>
          <p:cNvSpPr/>
          <p:nvPr/>
        </p:nvSpPr>
        <p:spPr>
          <a:xfrm>
            <a:off x="1214280" y="5572080"/>
            <a:ext cx="71640" cy="14292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1"/>
          <p:cNvSpPr/>
          <p:nvPr/>
        </p:nvSpPr>
        <p:spPr>
          <a:xfrm>
            <a:off x="357120" y="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ь задачу по рисун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"/>
          <p:cNvSpPr/>
          <p:nvPr/>
        </p:nvSpPr>
        <p:spPr>
          <a:xfrm rot="8843400">
            <a:off x="1747080" y="2579760"/>
            <a:ext cx="5219640" cy="5627520"/>
          </a:xfrm>
          <a:prstGeom prst="rtTriangle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6"/>
          <p:cNvSpPr/>
          <p:nvPr/>
        </p:nvSpPr>
        <p:spPr>
          <a:xfrm flipV="1" rot="8898600">
            <a:off x="1629360" y="2126520"/>
            <a:ext cx="24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7"/>
          <p:cNvSpPr/>
          <p:nvPr/>
        </p:nvSpPr>
        <p:spPr>
          <a:xfrm rot="851400">
            <a:off x="2552760" y="5405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 rot="3474000">
            <a:off x="4160520" y="3476160"/>
            <a:ext cx="53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, на 1 см длиннее, чем 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3357720" y="34290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-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142920" y="4000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4714920" y="92880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8143920" y="608796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1000080" y="21420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ff33"/>
                </a:solidFill>
                <a:latin typeface="comic"/>
              </a:rPr>
              <a:t>  </a:t>
            </a:r>
            <a:r>
              <a:rPr b="1" lang="ru-RU" sz="8800" spc="-1" strike="noStrike">
                <a:solidFill>
                  <a:srgbClr val="66ff33"/>
                </a:solidFill>
                <a:latin typeface="comic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42920" y="178596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omic"/>
              </a:rPr>
              <a:t>Спасибо</a:t>
            </a:r>
            <a:r>
              <a:rPr b="1" lang="ru-RU" sz="8000" spc="-1" strike="noStrike">
                <a:solidFill>
                  <a:srgbClr val="ffff00"/>
                </a:solidFill>
                <a:latin typeface="comic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omic"/>
              </a:rPr>
              <a:t>за урок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2" descr="Картинка 23 из 19619"/>
          <p:cNvPicPr/>
          <p:nvPr/>
        </p:nvPicPr>
        <p:blipFill>
          <a:blip r:embed="rId1"/>
          <a:stretch/>
        </p:blipFill>
        <p:spPr>
          <a:xfrm>
            <a:off x="4276800" y="3214800"/>
            <a:ext cx="4867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1639800"/>
            <a:ext cx="8631000" cy="4011840"/>
          </a:xfrm>
          <a:prstGeom prst="rect">
            <a:avLst/>
          </a:prstGeom>
          <a:ln w="0">
            <a:noFill/>
          </a:ln>
        </p:spPr>
      </p:pic>
      <p:pic>
        <p:nvPicPr>
          <p:cNvPr id="563" name="3_porosenka 2 слайд.mp3" descr=""/>
          <p:cNvPicPr/>
          <p:nvPr/>
        </p:nvPicPr>
        <p:blipFill>
          <a:blip r:embed="rId2"/>
          <a:stretch/>
        </p:blipFill>
        <p:spPr>
          <a:xfrm>
            <a:off x="807228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68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C:\Users\Михаил\Desktop\лара\КАРТИНКИ\large_2668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Oval 6"/>
          <p:cNvSpPr/>
          <p:nvPr/>
        </p:nvSpPr>
        <p:spPr>
          <a:xfrm>
            <a:off x="5429160" y="3214800"/>
            <a:ext cx="1940040" cy="1753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3929040" y="4214880"/>
            <a:ext cx="1940040" cy="1754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Oval 4"/>
          <p:cNvSpPr/>
          <p:nvPr/>
        </p:nvSpPr>
        <p:spPr>
          <a:xfrm>
            <a:off x="2214720" y="3500280"/>
            <a:ext cx="1939680" cy="1754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5357880" y="1571760"/>
            <a:ext cx="1939680" cy="1753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3"/>
          <p:cNvSpPr/>
          <p:nvPr/>
        </p:nvSpPr>
        <p:spPr>
          <a:xfrm>
            <a:off x="2071800" y="1785960"/>
            <a:ext cx="1939680" cy="17542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8"/>
          <p:cNvSpPr/>
          <p:nvPr/>
        </p:nvSpPr>
        <p:spPr>
          <a:xfrm>
            <a:off x="3643200" y="857160"/>
            <a:ext cx="1940040" cy="1754280"/>
          </a:xfrm>
          <a:prstGeom prst="ellipse">
            <a:avLst/>
          </a:prstGeom>
          <a:solidFill>
            <a:srgbClr val="85df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9"/>
          <p:cNvSpPr/>
          <p:nvPr/>
        </p:nvSpPr>
        <p:spPr>
          <a:xfrm>
            <a:off x="3571920" y="2286000"/>
            <a:ext cx="2230560" cy="207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17"/>
          <p:cNvSpPr/>
          <p:nvPr/>
        </p:nvSpPr>
        <p:spPr>
          <a:xfrm>
            <a:off x="4143240" y="0"/>
            <a:ext cx="2571840" cy="928800"/>
          </a:xfrm>
          <a:custGeom>
            <a:avLst/>
            <a:gdLst>
              <a:gd name="textAreaLeft" fmla="*/ 369000 w 2571840"/>
              <a:gd name="textAreaRight" fmla="*/ 1985760 w 25718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201" hR="21600" stAng="10800000" swAng="5400000"/>
                <a:lnTo>
                  <a:pt x="13576" y="0"/>
                </a:lnTo>
                <a:arcTo wR="6201" hR="21600" stAng="-5400000" swAng="2344584"/>
                <a:lnTo>
                  <a:pt x="21245" y="14400"/>
                </a:lnTo>
                <a:lnTo>
                  <a:pt x="16090" y="21600"/>
                </a:lnTo>
                <a:lnTo>
                  <a:pt x="10224" y="14400"/>
                </a:lnTo>
                <a:lnTo>
                  <a:pt x="12047" y="14400"/>
                </a:lnTo>
                <a:arcTo wR="6201" hR="21600" stAng="-3055416" swAng="-1625291"/>
                <a:lnTo>
                  <a:pt x="9889" y="4234"/>
                </a:lnTo>
                <a:arcTo wR="6201" hR="21600" stAng="-6119293" swAng="-4680707"/>
                <a:close/>
              </a:path>
              <a:path fill="darkenLess" w="21600" h="21600">
                <a:moveTo>
                  <a:pt x="0" y="21600"/>
                </a:moveTo>
                <a:arcTo wR="6201" hR="21600" stAng="10800000" swAng="5400000"/>
                <a:lnTo>
                  <a:pt x="6201" y="0"/>
                </a:lnTo>
                <a:arcTo wR="6201" hR="21600" stAng="-5400000" swAng="719293"/>
                <a:lnTo>
                  <a:pt x="9889" y="4234"/>
                </a:lnTo>
                <a:arcTo wR="6201" hR="21600" stAng="-6119293" swAng="-4680707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534240" y="4856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Устный с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4000680" y="27147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 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4071960" y="1428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14"/>
          <p:cNvSpPr/>
          <p:nvPr/>
        </p:nvSpPr>
        <p:spPr>
          <a:xfrm>
            <a:off x="5715000" y="2000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6072120" y="364320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4500720" y="4643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17"/>
          <p:cNvSpPr/>
          <p:nvPr/>
        </p:nvSpPr>
        <p:spPr>
          <a:xfrm>
            <a:off x="2714760" y="3857760"/>
            <a:ext cx="10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8"/>
          <p:cNvSpPr/>
          <p:nvPr/>
        </p:nvSpPr>
        <p:spPr>
          <a:xfrm>
            <a:off x="2643120" y="21430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357200" y="1600200"/>
            <a:ext cx="245268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3714840" y="4071960"/>
            <a:ext cx="2452680" cy="2000160"/>
          </a:xfrm>
          <a:prstGeom prst="hexagon">
            <a:avLst>
              <a:gd name="adj" fmla="val 29169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592000" y="457200"/>
            <a:ext cx="41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Times New Roman"/>
              </a:rPr>
              <a:t>Что изображе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авильный пятиугольник 7"/>
          <p:cNvSpPr/>
          <p:nvPr/>
        </p:nvSpPr>
        <p:spPr>
          <a:xfrm>
            <a:off x="5643720" y="1357200"/>
            <a:ext cx="2643120" cy="2071800"/>
          </a:xfrm>
          <a:prstGeom prst="pentag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4"/>
          <p:cNvSpPr txBox="1"/>
          <p:nvPr/>
        </p:nvSpPr>
        <p:spPr>
          <a:xfrm>
            <a:off x="0" y="2500200"/>
            <a:ext cx="9144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«ПЕРИМЕТР</a:t>
            </a:r>
            <a:endParaRPr b="1" lang="en-US" sz="5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МНОГОУГОЛЬНИКА»</a:t>
            </a:r>
            <a:endParaRPr b="1" lang="en-US" sz="5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586" name="TextBox 2"/>
          <p:cNvSpPr/>
          <p:nvPr/>
        </p:nvSpPr>
        <p:spPr>
          <a:xfrm>
            <a:off x="214200" y="428760"/>
            <a:ext cx="85010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1" lang="ru-RU" sz="8800" spc="-1" strike="noStrike">
                <a:solidFill>
                  <a:srgbClr val="ffc000"/>
                </a:solidFill>
                <a:latin typeface="Cambria"/>
              </a:rPr>
              <a:t>Тема урока: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Картинка 38 из 19619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Равнобедренный треугольник 2"/>
          <p:cNvSpPr/>
          <p:nvPr/>
        </p:nvSpPr>
        <p:spPr>
          <a:xfrm>
            <a:off x="285840" y="2500200"/>
            <a:ext cx="8572320" cy="2357640"/>
          </a:xfrm>
          <a:prstGeom prst="triangle">
            <a:avLst>
              <a:gd name="adj" fmla="val 39653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429000" y="285768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1571760" y="407196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6572160" y="414324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390680"/>
            <a:ext cx="9126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0:36:30Z</dcterms:created>
  <dc:creator>Михаил</dc:creator>
  <dc:description/>
  <dc:language>en-US</dc:language>
  <cp:lastModifiedBy>Михаил</cp:lastModifiedBy>
  <dcterms:modified xsi:type="dcterms:W3CDTF">2010-10-26T16:16:58Z</dcterms:modified>
  <cp:revision>46</cp:revision>
  <dc:subject/>
  <dc:title>Слайд 1</dc:title>
</cp:coreProperties>
</file>