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B62-E7C0-4C40-91F7-C8C0A820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806-ED08-423D-9475-2574EFC3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F9D-2D7A-4441-91FE-F70723F5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516-6F66-44BF-83B8-9C2B7A4E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6CC-3D9C-4C36-959C-25380ABE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28D-7C1F-4559-92AB-8678FC1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F02-E4BA-48EA-A4BA-C2E76B1C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89C-B848-4A73-8FC0-9456030C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FED-353C-4FE8-8C56-116E69FD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684-198A-4826-97E6-EBB157B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584-4E51-4CF0-A22C-C2B25B4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0AC-E81E-43D7-82FD-3078749C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D8E4-54D7-4DC4-97BE-26B5C98ACC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79640" y="333360"/>
            <a:ext cx="684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гда мы тратим время на планирование, времени становится бо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/М. Рустам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нирование .</a:t>
            </a:r>
            <a:r>
              <a:rPr b="1" lang="ru-RU" sz="2400" spc="-1" strike="noStrike">
                <a:solidFill>
                  <a:srgbClr val="777777"/>
                </a:solidFill>
                <a:latin typeface="Arial"/>
              </a:rPr>
              <a:t> -  проектирование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Arial"/>
              </a:rPr>
              <a:t>это вдохновенный прыжок от фактов настоящего к возможностям будущего. (Джон К.Джон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ект</a:t>
            </a:r>
            <a:r>
              <a:rPr b="1" lang="ru-RU" sz="2400" spc="-1" strike="noStrike">
                <a:solidFill>
                  <a:srgbClr val="777777"/>
                </a:solidFill>
                <a:latin typeface="Arial"/>
              </a:rPr>
              <a:t> (лат.) брошенный вперё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 rot="5400000">
            <a:off x="-184968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8"/>
          <p:cNvSpPr txBox="1"/>
          <p:nvPr/>
        </p:nvSpPr>
        <p:spPr>
          <a:xfrm rot="5400000">
            <a:off x="-184968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1714"/>
                </a:solidFill>
                <a:latin typeface="Arial"/>
              </a:rPr>
              <a:t>Перспективный план работы с родителями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928800"/>
          <a:ext cx="8229600" cy="3365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тодическое сопров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бщее собр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_________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Работа по проек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граммы. Технологии, программы доп.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Групповое собр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__________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Работа по проек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граммы, технологии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Круглый ст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__________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Наглядная информация, литера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</a:tbl>
          </a:graphicData>
        </a:graphic>
      </p:graphicFrame>
      <p:sp>
        <p:nvSpPr>
          <p:cNvPr id="69" name="TextBox 4"/>
          <p:cNvSpPr/>
          <p:nvPr/>
        </p:nvSpPr>
        <p:spPr>
          <a:xfrm>
            <a:off x="1285920" y="521496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План работы с родителями строится на основе годового плана и на основе комплексно-тематического планиро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93b32"/>
                </a:solidFill>
                <a:latin typeface="Arial"/>
              </a:rPr>
              <a:t>Перспективное планирование игровой деятельности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85840" y="1214280"/>
          <a:ext cx="8643960" cy="2143440"/>
        </p:xfrm>
        <a:graphic>
          <a:graphicData uri="http://schemas.openxmlformats.org/drawingml/2006/table">
            <a:tbl>
              <a:tblPr/>
              <a:tblGrid>
                <a:gridCol w="785880"/>
                <a:gridCol w="1135080"/>
                <a:gridCol w="960120"/>
                <a:gridCol w="960480"/>
                <a:gridCol w="960480"/>
                <a:gridCol w="960480"/>
                <a:gridCol w="960480"/>
                <a:gridCol w="960480"/>
                <a:gridCol w="960480"/>
              </a:tblGrid>
              <a:tr h="155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южетно-ролев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идактически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Конструктив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Развивающи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атрализован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Народ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Хороводные иг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</a:tbl>
          </a:graphicData>
        </a:graphic>
      </p:graphicFrame>
      <p:sp>
        <p:nvSpPr>
          <p:cNvPr id="72" name="TextBox 4"/>
          <p:cNvSpPr/>
          <p:nvPr/>
        </p:nvSpPr>
        <p:spPr>
          <a:xfrm>
            <a:off x="571680" y="407196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Игровая деятельность детей планируется в соответствии с комплексно-тематическим планированием и  возрастными особенностями 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4"/>
                </a:solidFill>
                <a:latin typeface="Arial"/>
              </a:rPr>
              <a:t>Перспективное планирование развивающей среды</a:t>
            </a:r>
            <a:br>
              <a:rPr sz="3200"/>
            </a:br>
            <a:endParaRPr b="0" lang="en-US" sz="24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000080"/>
          <a:ext cx="8229600" cy="2389320"/>
        </p:xfrm>
        <a:graphic>
          <a:graphicData uri="http://schemas.openxmlformats.org/drawingml/2006/table">
            <a:tbl>
              <a:tblPr/>
              <a:tblGrid>
                <a:gridCol w="1471680"/>
                <a:gridCol w="2000160"/>
                <a:gridCol w="2700360"/>
                <a:gridCol w="2057400"/>
              </a:tblGrid>
              <a:tr h="1472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 проекта или тема по плану 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снащение по образовательным областя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ивлечение родителей к оснащению развивающей сре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</a:tbl>
          </a:graphicData>
        </a:graphic>
      </p:graphicFrame>
      <p:sp>
        <p:nvSpPr>
          <p:cNvPr id="75" name="TextBox 4"/>
          <p:cNvSpPr/>
          <p:nvPr/>
        </p:nvSpPr>
        <p:spPr>
          <a:xfrm>
            <a:off x="642960" y="428616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Развивающая среда в группе планируется в соответствии с комплексно-тематическим планированием и  с учетом  возрастных и индивидуальных особенностей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Непрерывная непосредственно-образовательная деятельность</a:t>
            </a:r>
            <a:endParaRPr b="0" lang="en-US" sz="1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77" name="Содержимое 3" descr=""/>
          <p:cNvPicPr/>
          <p:nvPr/>
        </p:nvPicPr>
        <p:blipFill>
          <a:blip r:embed="rId1"/>
          <a:stretch/>
        </p:blipFill>
        <p:spPr>
          <a:xfrm>
            <a:off x="103320" y="285840"/>
            <a:ext cx="9004320" cy="668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476360" y="333360"/>
            <a:ext cx="7272360" cy="10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КАЛЕНДАРНОЕ ПЛАНИР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(На день или неделю по решению педагогического Сов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1714"/>
                </a:solidFill>
                <a:latin typeface="Arial"/>
              </a:rPr>
              <a:t>Титульный лис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План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Группы 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ГБДОУ № 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71714"/>
                </a:solidFill>
                <a:latin typeface="Arial"/>
              </a:rPr>
              <a:t>Красногвардей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Воспита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Фамилия, имя, от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Начат ________ Закончен 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1714"/>
                </a:solidFill>
                <a:latin typeface="Arial"/>
              </a:rPr>
              <a:t>Первый день написания плана -  открытие д/с после  лета по приказу Отдела образ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1714"/>
                </a:solidFill>
                <a:latin typeface="Arial"/>
              </a:rPr>
              <a:t>Идеальный вариант написания плана в «амбарной» книг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476360" y="549360"/>
            <a:ext cx="7178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бязательно написание календарного плана (учитывается работа по образовательным областям или по видам деятельно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тражают совместную образовательную деятельность, осуществляемую в процессе организации различных видов детской деятельности (игровой, коммуникативной, трудовой, познавательно-исследовательской, продуктивной, музыкально-художественной, чтения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тражают совместную образовательную деятельность, осуществляемую в ходе режимных мо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тражают самостоятельную деятельность дет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93b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3b32"/>
                </a:solidFill>
                <a:latin typeface="Arial"/>
              </a:rPr>
              <a:t>Отражают взаимодействие с семьями детей по реализации основной общеобразовательной программы дошколь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71714"/>
                </a:solidFill>
                <a:latin typeface="Arial"/>
              </a:rPr>
              <a:t>Календарный план работы (указана дата)</a:t>
            </a:r>
            <a:endParaRPr b="0" lang="en-US" sz="14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83" name="Содержимое 3" descr=""/>
          <p:cNvPicPr/>
          <p:nvPr/>
        </p:nvPicPr>
        <p:blipFill>
          <a:blip r:embed="rId1"/>
          <a:stretch/>
        </p:blipFill>
        <p:spPr>
          <a:xfrm>
            <a:off x="139680" y="566640"/>
            <a:ext cx="8864640" cy="6078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36360" y="262080"/>
            <a:ext cx="9004320" cy="674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Циклограмма деятельности воспитателя</a:t>
            </a:r>
            <a:endParaRPr b="0" lang="en-US" sz="20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0920" y="1052640"/>
          <a:ext cx="8353440" cy="4948200"/>
        </p:xfrm>
        <a:graphic>
          <a:graphicData uri="http://schemas.openxmlformats.org/drawingml/2006/table">
            <a:tbl>
              <a:tblPr/>
              <a:tblGrid>
                <a:gridCol w="1082520"/>
                <a:gridCol w="1497240"/>
                <a:gridCol w="1496880"/>
                <a:gridCol w="1492200"/>
                <a:gridCol w="1392120"/>
                <a:gridCol w="139248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Ут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Д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Веч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План работы ДОУ на месяц</a:t>
            </a:r>
            <a:endParaRPr b="0" lang="en-US" sz="20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197000"/>
          <a:ext cx="8229600" cy="1728720"/>
        </p:xfrm>
        <a:graphic>
          <a:graphicData uri="http://schemas.openxmlformats.org/drawingml/2006/table">
            <a:tbl>
              <a:tblPr/>
              <a:tblGrid>
                <a:gridCol w="442800"/>
                <a:gridCol w="935280"/>
                <a:gridCol w="2522520"/>
                <a:gridCol w="1214280"/>
                <a:gridCol w="1743120"/>
                <a:gridCol w="137160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 кем провод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 выпол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  <p:sp>
        <p:nvSpPr>
          <p:cNvPr id="89" name="TextBox 4"/>
          <p:cNvSpPr/>
          <p:nvPr/>
        </p:nvSpPr>
        <p:spPr>
          <a:xfrm>
            <a:off x="2340000" y="76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Работа с деть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556000" y="31431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Работа 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3645000"/>
          <a:ext cx="8280360" cy="1150920"/>
        </p:xfrm>
        <a:graphic>
          <a:graphicData uri="http://schemas.openxmlformats.org/drawingml/2006/table">
            <a:tbl>
              <a:tblPr/>
              <a:tblGrid>
                <a:gridCol w="446040"/>
                <a:gridCol w="941400"/>
                <a:gridCol w="2503440"/>
                <a:gridCol w="1285920"/>
                <a:gridCol w="1724040"/>
                <a:gridCol w="1379520"/>
              </a:tblGrid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 кем провод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 выпол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28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5280" y="5300640"/>
          <a:ext cx="8424720" cy="1295280"/>
        </p:xfrm>
        <a:graphic>
          <a:graphicData uri="http://schemas.openxmlformats.org/drawingml/2006/table">
            <a:tbl>
              <a:tblPr/>
              <a:tblGrid>
                <a:gridCol w="452520"/>
                <a:gridCol w="958680"/>
                <a:gridCol w="2408400"/>
                <a:gridCol w="1357200"/>
                <a:gridCol w="1844640"/>
                <a:gridCol w="1403280"/>
              </a:tblGrid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 кем провод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 выполн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40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  <p:sp>
        <p:nvSpPr>
          <p:cNvPr id="93" name="TextBox 9"/>
          <p:cNvSpPr/>
          <p:nvPr/>
        </p:nvSpPr>
        <p:spPr>
          <a:xfrm>
            <a:off x="3132000" y="47862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Работа с род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"О ДОКУМЕНТАЦИИ ДЕТСКИХ ДОШКОЛЬНЫХ УЧРЕЖДЕНИЙ«</a:t>
            </a:r>
            <a:br>
              <a:rPr sz="1800"/>
            </a:b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ПРИКАЗ Минобразования РСФСР от 20.09.1988 N 41</a:t>
            </a:r>
            <a:br>
              <a:rPr sz="1600"/>
            </a:br>
            <a:endParaRPr b="0" lang="en-US" sz="16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1600200"/>
          <a:ext cx="7772400" cy="20509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Воспитатели и музыкальные руковод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План воспитательно-образовательной работы с деть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На день или неделю по их усмотр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Воспитател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Ведение табеля посещаем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Ежедневн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Старший воспитател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План работы с воспитателя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На месяц или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55"/>
          <p:cNvSpPr/>
          <p:nvPr/>
        </p:nvSpPr>
        <p:spPr>
          <a:xfrm>
            <a:off x="642960" y="42429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4"/>
                </a:solidFill>
                <a:latin typeface="Arial"/>
              </a:rPr>
              <a:t>При этом планирование своей работы воспитатели, музыкальные руководители, старшие воспитатели ведут </a:t>
            </a:r>
            <a:r>
              <a:rPr b="1" lang="ru-RU" sz="2400" spc="-1" strike="noStrike">
                <a:solidFill>
                  <a:srgbClr val="171714"/>
                </a:solidFill>
                <a:latin typeface="Arial"/>
              </a:rPr>
              <a:t>в произвольной форме.</a:t>
            </a:r>
            <a:r>
              <a:rPr b="0" lang="ru-RU" sz="2400" spc="-1" strike="noStrike">
                <a:solidFill>
                  <a:srgbClr val="17171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2786040" y="2000160"/>
            <a:ext cx="3984480" cy="3984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1285920" y="71424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1714"/>
                </a:solidFill>
                <a:latin typeface="Arial"/>
              </a:rPr>
              <a:t>Планирование работы педагогом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1.  Перспективный план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соответствие поставленных задач программному содержанию, уровню развития и возрасту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основное содержание по реализации поставленных задач (НОД, совместная деятельность, создание условий для самостоятельной деятельности детей, работа с родителями )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2.  Календарный план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сбалансированное чередование НОД, совместной деятельности педагогов с детьми (баланс разных видов деятельности и активности детей), интеграция образовательных обл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3.  Соответствие основного содержания календарного плана перспективным задач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4. Соблюдение преемственности в работе специалис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5 Планирование индивидуальной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регуляр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обозначение зада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71714"/>
                </a:solidFill>
                <a:latin typeface="Arial"/>
              </a:rPr>
              <a:t>6. Планирование работы с родител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использование разнообразных форм работы с родител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2267280" cy="3097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827080" cy="166068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03280" y="333360"/>
            <a:ext cx="59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готовка к планиров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1. Знание основной общеобразовательной Программы дошко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2. Знание ФГ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7777"/>
                </a:solidFill>
                <a:latin typeface="Arial"/>
              </a:rPr>
              <a:t>3. Знание образовательной нагрузки на детей в условиях ДОУ (СанПи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 rot="539400">
            <a:off x="4427640" y="2133720"/>
            <a:ext cx="2808360" cy="166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6"/>
          <a:stretch/>
        </p:blipFill>
        <p:spPr>
          <a:xfrm>
            <a:off x="1187280" y="3645000"/>
            <a:ext cx="3383280" cy="253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7"/>
          <a:stretch/>
        </p:blipFill>
        <p:spPr>
          <a:xfrm>
            <a:off x="4427640" y="3800520"/>
            <a:ext cx="266544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8"/>
          <a:stretch/>
        </p:blipFill>
        <p:spPr>
          <a:xfrm rot="733800">
            <a:off x="6803640" y="3573360"/>
            <a:ext cx="188424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92360" y="333360"/>
            <a:ext cx="64818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ложения к пла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1.Мониторинг (педагогическая диагностика) интегративных качеств детей (периодичность в соответствии с программо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2.Режим пребывания детей в группе (утверждённый заведующей и врач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3.Лист здоровья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4.Режим двигательной активности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5.Инструкция по проведению оздоровительных мероприятий с деть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28840" y="357120"/>
            <a:ext cx="63752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ды план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7777"/>
                </a:solidFill>
                <a:latin typeface="Arial"/>
              </a:rPr>
              <a:t>1.Перспективн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7777"/>
                </a:solidFill>
                <a:latin typeface="Arial"/>
              </a:rPr>
              <a:t>2.Календарн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7777"/>
                </a:solidFill>
                <a:latin typeface="Arial"/>
              </a:rPr>
              <a:t>3. Система Н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7777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 rot="5400000">
            <a:off x="-2210040" y="2793960"/>
            <a:ext cx="5904000" cy="98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87280" y="333360"/>
            <a:ext cx="7488360" cy="83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Название ГБ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Перспективный план  работы с деть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на 2011-2012 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группа 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воспитатели: 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4"/>
                </a:solidFill>
                <a:latin typeface="Arial"/>
              </a:rPr>
              <a:t>-1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1717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14"/>
                </a:solidFill>
                <a:latin typeface="Arial"/>
              </a:rPr>
              <a:t>Комплексно-тематический план раб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1714"/>
                </a:solidFill>
                <a:latin typeface="Arial"/>
              </a:rPr>
              <a:t>Может быть составлен на весь детский сад  в соответствии с праздничными датами календаря или значимыми событиями в жизни детей и детского сада, а может  быть взят из примерной общеобразовательной Программы, но обязательно  администрация должна об этом зн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4"/>
                </a:solidFill>
                <a:latin typeface="Arial"/>
              </a:rPr>
              <a:t>В перспективном планировании должны найти отражение все разделы реализуемой программы и все задачи поставленные педаго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b32"/>
                </a:solidFill>
                <a:latin typeface="Arial"/>
              </a:rPr>
              <a:t>Модель организации воспитательно-образовательного процесса в ГДОУ детский сад № </a:t>
            </a:r>
            <a:endParaRPr b="0" lang="en-US" sz="18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85840" y="714240"/>
          <a:ext cx="8643960" cy="6143760"/>
        </p:xfrm>
        <a:graphic>
          <a:graphicData uri="http://schemas.openxmlformats.org/drawingml/2006/table">
            <a:tbl>
              <a:tblPr/>
              <a:tblGrid>
                <a:gridCol w="662040"/>
                <a:gridCol w="955440"/>
                <a:gridCol w="881280"/>
                <a:gridCol w="958680"/>
                <a:gridCol w="863640"/>
                <a:gridCol w="865080"/>
                <a:gridCol w="865440"/>
                <a:gridCol w="863640"/>
                <a:gridCol w="1023840"/>
                <a:gridCol w="704880"/>
              </a:tblGrid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3444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на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ониторин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узыкальная гости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Осенины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Выставка икеба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Моя сем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доров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Вернисаж «Осенние мотив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Букварь здоров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аздник на воде (бассейн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лые театральные вст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стерская Деда Мороза «Новогодний серпантин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Рождествен ская сказ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аникулярная нед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Зим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старт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ащитников Отечества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Проводы русской зим Педагогич. гостиная «Сказки о любви»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ля любимых мам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нижкина нед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театр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Весна-природы пробужденье» (экологический десан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осмический коллаж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осуг  «У Дельфи-ненка» Мониторин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Побед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о свиданья , детский сад!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горо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на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ониторин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  <a:tr h="222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на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Моя сем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ониторин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учит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доровья» «Осенин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Азбука безопасност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День матер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лые театральные вст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астерская Деда Моро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Вифлеемская зв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аникуляр ная нед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Зимние старт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Проводы русской зим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едагогическая гостиная «Сказки о любв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Книжкина неделя» (Кулинарный клас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День теат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Экологический десан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ни открытых двере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о свиданья, детский сад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горо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«День знани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Проект «Моя семь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1714"/>
                          </a:solidFill>
                          <a:latin typeface="Times New Roman"/>
                          <a:ea typeface="Times New Roman"/>
                        </a:rPr>
                        <a:t>Мониторин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eed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1714"/>
                </a:solidFill>
                <a:latin typeface="Arial"/>
              </a:rPr>
              <a:t>Перспективное планирование по образовательной области «Коммуникация»</a:t>
            </a:r>
            <a:endParaRPr b="0" lang="en-US" sz="1600" spc="-1" strike="noStrike">
              <a:solidFill>
                <a:srgbClr val="d1d1cb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5840" y="836640"/>
          <a:ext cx="8400960" cy="5334120"/>
        </p:xfrm>
        <a:graphic>
          <a:graphicData uri="http://schemas.openxmlformats.org/drawingml/2006/table">
            <a:tbl>
              <a:tblPr/>
              <a:tblGrid>
                <a:gridCol w="857160"/>
                <a:gridCol w="1714680"/>
                <a:gridCol w="3566880"/>
                <a:gridCol w="226224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правление работы (например познавательно-речевое, область «Коммуникац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ащение развивающей сре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</a:tr>
              <a:tr h="37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Развитие связной речи (и так по всем направлениям в данной област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Составление простых распространенных предложен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Обучение умению задавать вопросы и отвечать на них полным ответо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Обучение составлению описательных рассказов по темам (см. комплексно-тематическое планирование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Работа над диалогической речью (с использованием литературных произведений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171714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Обучение пересказу небольших рассказов и сказ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Иллюстрации по темам комплексно-тематического планиров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Детская литература по темам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Раздаточные картинки для составления рассказов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4"/>
                          </a:solidFill>
                          <a:latin typeface="Arial"/>
                        </a:rPr>
                        <a:t>Схемы составления рассказов и т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bd8"/>
                    </a:solidFill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4:25:40Z</dcterms:created>
  <dc:creator>86091</dc:creator>
  <dc:description/>
  <dc:language>en-US</dc:language>
  <cp:lastModifiedBy>Таня</cp:lastModifiedBy>
  <dcterms:modified xsi:type="dcterms:W3CDTF">2011-11-28T18:58:59Z</dcterms:modified>
  <cp:revision>35</cp:revision>
  <dc:subject/>
  <dc:title>Слайд 1</dc:title>
</cp:coreProperties>
</file>