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4DC2-6272-41F3-B7EA-4B2101748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722A-5F40-4793-A411-BD966E5ED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092C-E69C-42CC-8A09-CC85A59E1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67E5-EFD5-4AEA-B8F1-D732B2615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0823-CFC6-40D9-8919-204B0BD2D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1EA8-F17E-4EB5-B4A5-C9CE12DB3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4C25-6CBA-4B5F-A8CC-E0DBFB107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CD82-4D12-429D-8FE7-B325D922E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997C-0278-4904-A1E5-3BF043B39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0EFE-03F1-4BB0-A92A-D7DC346F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9973-AA51-466E-B6A6-9AB3DE93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C7D5-59E9-44B0-9B99-556D61E9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dc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65BB2-D517-411A-A450-A62183AD489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979640" y="333360"/>
            <a:ext cx="6840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Когда мы тратим время на планирование, времени становится больш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/М. Рустам 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ланирование .</a:t>
            </a:r>
            <a:r>
              <a:rPr b="1" lang="ru-RU" sz="2400" spc="-1" strike="noStrike">
                <a:solidFill>
                  <a:srgbClr val="777777"/>
                </a:solidFill>
                <a:latin typeface="Arial"/>
              </a:rPr>
              <a:t> -  проектирование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7777"/>
                </a:solidFill>
                <a:latin typeface="Arial"/>
              </a:rPr>
              <a:t>это вдохновенный прыжок от фактов настоящего к возможностям будущего. (Джон К.Джонс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оект</a:t>
            </a:r>
            <a:r>
              <a:rPr b="1" lang="ru-RU" sz="2400" spc="-1" strike="noStrike">
                <a:solidFill>
                  <a:srgbClr val="777777"/>
                </a:solidFill>
                <a:latin typeface="Arial"/>
              </a:rPr>
              <a:t> (лат.) брошенный вперё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 rot="5400000">
            <a:off x="-1849680" y="2793960"/>
            <a:ext cx="5904000" cy="982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808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Планирование</a:t>
            </a:r>
            <a:endParaRPr b="0" lang="en-US" sz="1800" spc="1" strike="noStrike">
              <a:ln w="12600">
                <a:solidFill>
                  <a:srgbClr val="80808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WordArt 8"/>
          <p:cNvSpPr txBox="1"/>
          <p:nvPr/>
        </p:nvSpPr>
        <p:spPr>
          <a:xfrm rot="5400000">
            <a:off x="-1849680" y="2793960"/>
            <a:ext cx="5904000" cy="982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808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Планирование</a:t>
            </a:r>
            <a:endParaRPr b="0" lang="en-US" sz="1800" spc="1" strike="noStrike">
              <a:ln w="12600">
                <a:solidFill>
                  <a:srgbClr val="80808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1714"/>
                </a:solidFill>
                <a:latin typeface="Arial"/>
              </a:rPr>
              <a:t>Перспективный план работы с родителями</a:t>
            </a:r>
            <a:endParaRPr b="0" lang="en-US" sz="2800" spc="-1" strike="noStrike">
              <a:solidFill>
                <a:srgbClr val="d1d1cb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57200" y="928800"/>
          <a:ext cx="8229600" cy="33652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56016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Меся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Форма работ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Тем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Методическое сопровожд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</a:tr>
              <a:tr h="112248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Сентябр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Общее собр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Проект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«_________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286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286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Работа по проект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Программы. Технологии, программы доп. Образов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Октябр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e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Групповое собр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Проект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e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«__________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286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Работа по проект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e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Программы, технологии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eed"/>
                    </a:solidFill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Ноябр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Круглый сто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«__________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Наглядная информация, литератур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</a:tr>
            </a:tbl>
          </a:graphicData>
        </a:graphic>
      </p:graphicFrame>
      <p:sp>
        <p:nvSpPr>
          <p:cNvPr id="69" name="TextBox 4"/>
          <p:cNvSpPr/>
          <p:nvPr/>
        </p:nvSpPr>
        <p:spPr>
          <a:xfrm>
            <a:off x="1285920" y="5214960"/>
            <a:ext cx="628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1714"/>
                </a:solidFill>
                <a:latin typeface="Arial"/>
              </a:rPr>
              <a:t>План работы с родителями строится на основе годового плана и на основе комплексно-тематического планирован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93b32"/>
                </a:solidFill>
                <a:latin typeface="Arial"/>
              </a:rPr>
              <a:t>Перспективное планирование игровой деятельности</a:t>
            </a:r>
            <a:endParaRPr b="0" lang="en-US" sz="2800" spc="-1" strike="noStrike">
              <a:solidFill>
                <a:srgbClr val="d1d1cb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85840" y="1214280"/>
          <a:ext cx="8643960" cy="2143440"/>
        </p:xfrm>
        <a:graphic>
          <a:graphicData uri="http://schemas.openxmlformats.org/drawingml/2006/table">
            <a:tbl>
              <a:tblPr/>
              <a:tblGrid>
                <a:gridCol w="785880"/>
                <a:gridCol w="1135080"/>
                <a:gridCol w="960120"/>
                <a:gridCol w="960480"/>
                <a:gridCol w="960480"/>
                <a:gridCol w="960480"/>
                <a:gridCol w="960480"/>
                <a:gridCol w="960480"/>
                <a:gridCol w="960480"/>
              </a:tblGrid>
              <a:tr h="1552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меся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Сюжетно-ролевые игр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Дидактические игр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Конструктивные игр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Развивающие игр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Театрализованные игр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Подвижные игр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Народные игр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Хороводные игр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</a:tr>
            </a:tbl>
          </a:graphicData>
        </a:graphic>
      </p:graphicFrame>
      <p:sp>
        <p:nvSpPr>
          <p:cNvPr id="72" name="TextBox 4"/>
          <p:cNvSpPr/>
          <p:nvPr/>
        </p:nvSpPr>
        <p:spPr>
          <a:xfrm>
            <a:off x="571680" y="4071960"/>
            <a:ext cx="814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1714"/>
                </a:solidFill>
                <a:latin typeface="Arial"/>
              </a:rPr>
              <a:t>Игровая деятельность детей планируется в соответствии с комплексно-тематическим планированием и  возрастными особенностями дете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1714"/>
                </a:solidFill>
                <a:latin typeface="Arial"/>
              </a:rPr>
              <a:t>Перспективное планирование развивающей среды</a:t>
            </a:r>
            <a:br>
              <a:rPr sz="3200"/>
            </a:br>
            <a:endParaRPr b="0" lang="en-US" sz="2400" spc="-1" strike="noStrike">
              <a:solidFill>
                <a:srgbClr val="d1d1cb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1000080"/>
          <a:ext cx="8229600" cy="2389320"/>
        </p:xfrm>
        <a:graphic>
          <a:graphicData uri="http://schemas.openxmlformats.org/drawingml/2006/table">
            <a:tbl>
              <a:tblPr/>
              <a:tblGrid>
                <a:gridCol w="1471680"/>
                <a:gridCol w="2000160"/>
                <a:gridCol w="2700360"/>
                <a:gridCol w="2057400"/>
              </a:tblGrid>
              <a:tr h="1472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меся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Тема проекта или тема по плану работ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Оснащение по образовательным областям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Привлечение родителей к оснащению развивающей сред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</a:tr>
            </a:tbl>
          </a:graphicData>
        </a:graphic>
      </p:graphicFrame>
      <p:sp>
        <p:nvSpPr>
          <p:cNvPr id="75" name="TextBox 4"/>
          <p:cNvSpPr/>
          <p:nvPr/>
        </p:nvSpPr>
        <p:spPr>
          <a:xfrm>
            <a:off x="642960" y="4286160"/>
            <a:ext cx="807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1714"/>
                </a:solidFill>
                <a:latin typeface="Arial"/>
              </a:rPr>
              <a:t>Развивающая среда в группе планируется в соответствии с комплексно-тематическим планированием и  с учетом  возрастных и индивидуальных особенностей дет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71714"/>
                </a:solidFill>
                <a:latin typeface="Arial"/>
              </a:rPr>
              <a:t>Непрерывная непосредственно-образовательная деятельность</a:t>
            </a:r>
            <a:endParaRPr b="0" lang="en-US" sz="16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77" name="Содержимое 3" descr=""/>
          <p:cNvPicPr/>
          <p:nvPr/>
        </p:nvPicPr>
        <p:blipFill>
          <a:blip r:embed="rId1"/>
          <a:stretch/>
        </p:blipFill>
        <p:spPr>
          <a:xfrm>
            <a:off x="103320" y="285840"/>
            <a:ext cx="9004320" cy="66816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WordArt 4"/>
          <p:cNvSpPr txBox="1"/>
          <p:nvPr/>
        </p:nvSpPr>
        <p:spPr>
          <a:xfrm rot="5400000">
            <a:off x="-2210040" y="2793960"/>
            <a:ext cx="5904000" cy="982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808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Планирование</a:t>
            </a:r>
            <a:endParaRPr b="0" lang="en-US" sz="1800" spc="1" strike="noStrike">
              <a:ln w="12600">
                <a:solidFill>
                  <a:srgbClr val="80808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1476360" y="333360"/>
            <a:ext cx="7272360" cy="103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1714"/>
                </a:solidFill>
                <a:latin typeface="Arial"/>
              </a:rPr>
              <a:t>КАЛЕНДАРНОЕ ПЛАНИРОВА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1714"/>
                </a:solidFill>
                <a:latin typeface="Arial"/>
              </a:rPr>
              <a:t>(На день или неделю по решению педагогического Совет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71714"/>
                </a:solidFill>
                <a:latin typeface="Arial"/>
              </a:rPr>
              <a:t>Титульный лис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1714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1714"/>
                </a:solidFill>
                <a:latin typeface="Arial"/>
              </a:rPr>
              <a:t>План рабо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1714"/>
                </a:solidFill>
                <a:latin typeface="Arial"/>
              </a:rPr>
              <a:t>Группы 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1714"/>
                </a:solidFill>
                <a:latin typeface="Arial"/>
              </a:rPr>
              <a:t>ГБДОУ № 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71714"/>
                </a:solidFill>
                <a:latin typeface="Arial"/>
              </a:rPr>
              <a:t>Красногвардейского райо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1714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1714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1714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1714"/>
                </a:solidFill>
                <a:latin typeface="Arial"/>
              </a:rPr>
              <a:t>Воспитател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1714"/>
                </a:solidFill>
                <a:latin typeface="Arial"/>
              </a:rPr>
              <a:t>Фамилия, имя, отче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1714"/>
                </a:solidFill>
                <a:latin typeface="Arial"/>
              </a:rPr>
              <a:t>Начат ________ Закончен 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71714"/>
                </a:solidFill>
                <a:latin typeface="Arial"/>
              </a:rPr>
              <a:t>Первый день написания плана -  открытие д/с после  лета по приказу Отдела образова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71714"/>
                </a:solidFill>
                <a:latin typeface="Arial"/>
              </a:rPr>
              <a:t>Идеальный вариант написания плана в «амбарной» книг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71714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WordArt 4"/>
          <p:cNvSpPr txBox="1"/>
          <p:nvPr/>
        </p:nvSpPr>
        <p:spPr>
          <a:xfrm rot="5400000">
            <a:off x="-2210040" y="2793960"/>
            <a:ext cx="5904000" cy="982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808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Планирование</a:t>
            </a:r>
            <a:endParaRPr b="0" lang="en-US" sz="1800" spc="1" strike="noStrike">
              <a:ln w="12600">
                <a:solidFill>
                  <a:srgbClr val="80808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1476360" y="549360"/>
            <a:ext cx="7178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93b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93b32"/>
                </a:solidFill>
                <a:latin typeface="Arial"/>
              </a:rPr>
              <a:t>Обязательно написание календарного плана (учитывается работа по образовательным областям или по видам деятельности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393b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93b32"/>
                </a:solidFill>
                <a:latin typeface="Arial"/>
              </a:rPr>
              <a:t>Отражают совместную образовательную деятельность, осуществляемую в процессе организации различных видов детской деятельности (игровой, коммуникативной, трудовой, познавательно-исследовательской, продуктивной, музыкально-художественной, чтения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93b32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393b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93b32"/>
                </a:solidFill>
                <a:latin typeface="Arial"/>
              </a:rPr>
              <a:t>Отражают совместную образовательную деятельность, осуществляемую в ходе режимных момент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93b32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393b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93b32"/>
                </a:solidFill>
                <a:latin typeface="Arial"/>
              </a:rPr>
              <a:t>Отражают самостоятельную деятельность детей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393b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93b32"/>
                </a:solidFill>
                <a:latin typeface="Arial"/>
              </a:rPr>
              <a:t>Отражают взаимодействие с семьями детей по реализации основной общеобразовательной программы дошкольного образов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71714"/>
                </a:solidFill>
                <a:latin typeface="Arial"/>
              </a:rPr>
              <a:t>Календарный план работы (указана дата)</a:t>
            </a:r>
            <a:endParaRPr b="0" lang="en-US" sz="14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83" name="Содержимое 3" descr=""/>
          <p:cNvPicPr/>
          <p:nvPr/>
        </p:nvPicPr>
        <p:blipFill>
          <a:blip r:embed="rId1"/>
          <a:stretch/>
        </p:blipFill>
        <p:spPr>
          <a:xfrm>
            <a:off x="139680" y="566640"/>
            <a:ext cx="8864640" cy="60786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Содержимое 3" descr=""/>
          <p:cNvPicPr/>
          <p:nvPr/>
        </p:nvPicPr>
        <p:blipFill>
          <a:blip r:embed="rId1"/>
          <a:stretch/>
        </p:blipFill>
        <p:spPr>
          <a:xfrm>
            <a:off x="36360" y="262080"/>
            <a:ext cx="9004320" cy="67420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1714"/>
                </a:solidFill>
                <a:latin typeface="Arial"/>
              </a:rPr>
              <a:t>Циклограмма деятельности воспитателя</a:t>
            </a:r>
            <a:endParaRPr b="0" lang="en-US" sz="2000" spc="-1" strike="noStrike">
              <a:solidFill>
                <a:srgbClr val="d1d1cb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50920" y="1052640"/>
          <a:ext cx="8353440" cy="4948200"/>
        </p:xfrm>
        <a:graphic>
          <a:graphicData uri="http://schemas.openxmlformats.org/drawingml/2006/table">
            <a:tbl>
              <a:tblPr/>
              <a:tblGrid>
                <a:gridCol w="1082520"/>
                <a:gridCol w="1497240"/>
                <a:gridCol w="1496880"/>
                <a:gridCol w="1492200"/>
                <a:gridCol w="1392120"/>
                <a:gridCol w="1392480"/>
              </a:tblGrid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Понедельни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Вторни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Сре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Четверг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Пятниц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</a:tr>
              <a:tr h="155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71714"/>
                          </a:solidFill>
                          <a:latin typeface="Arial"/>
                        </a:rPr>
                        <a:t>Утр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</a:tr>
              <a:tr h="155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71714"/>
                          </a:solidFill>
                          <a:latin typeface="Arial"/>
                        </a:rPr>
                        <a:t>Ден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</a:tr>
              <a:tr h="13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71714"/>
                          </a:solidFill>
                          <a:latin typeface="Arial"/>
                        </a:rPr>
                        <a:t>Вече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e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e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e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e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e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eed"/>
                    </a:solidFill>
                  </a:tcPr>
                </a:tc>
              </a:tr>
            </a:tbl>
          </a:graphicData>
        </a:graphic>
      </p:graphicFrame>
    </p:spTree>
  </p:cSld>
  <p:transition spd="med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1714"/>
                </a:solidFill>
                <a:latin typeface="Arial"/>
              </a:rPr>
              <a:t>План работы ДОУ на месяц</a:t>
            </a:r>
            <a:endParaRPr b="0" lang="en-US" sz="2000" spc="-1" strike="noStrike">
              <a:solidFill>
                <a:srgbClr val="d1d1cb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1197000"/>
          <a:ext cx="8229600" cy="1728720"/>
        </p:xfrm>
        <a:graphic>
          <a:graphicData uri="http://schemas.openxmlformats.org/drawingml/2006/table">
            <a:tbl>
              <a:tblPr/>
              <a:tblGrid>
                <a:gridCol w="442800"/>
                <a:gridCol w="935280"/>
                <a:gridCol w="2522520"/>
                <a:gridCol w="1214280"/>
                <a:gridCol w="1743120"/>
                <a:gridCol w="1371600"/>
              </a:tblGrid>
              <a:tr h="576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4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Да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Мероприят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Тема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С кем проводи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Ответственны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Отмет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о выполнен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</a:tr>
              <a:tr h="576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</a:tr>
              <a:tr h="576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e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e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e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e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e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eed"/>
                    </a:solidFill>
                  </a:tcPr>
                </a:tc>
              </a:tr>
            </a:tbl>
          </a:graphicData>
        </a:graphic>
      </p:graphicFrame>
      <p:sp>
        <p:nvSpPr>
          <p:cNvPr id="89" name="TextBox 4"/>
          <p:cNvSpPr/>
          <p:nvPr/>
        </p:nvSpPr>
        <p:spPr>
          <a:xfrm>
            <a:off x="2340000" y="76500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1714"/>
                </a:solidFill>
                <a:latin typeface="Arial"/>
              </a:rPr>
              <a:t>Работа с деть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2556000" y="314316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1714"/>
                </a:solidFill>
                <a:latin typeface="Arial"/>
              </a:rPr>
              <a:t>Работа с кадр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95280" y="3645000"/>
          <a:ext cx="8280360" cy="1150920"/>
        </p:xfrm>
        <a:graphic>
          <a:graphicData uri="http://schemas.openxmlformats.org/drawingml/2006/table">
            <a:tbl>
              <a:tblPr/>
              <a:tblGrid>
                <a:gridCol w="446040"/>
                <a:gridCol w="941400"/>
                <a:gridCol w="2503440"/>
                <a:gridCol w="1285920"/>
                <a:gridCol w="1724040"/>
                <a:gridCol w="1379520"/>
              </a:tblGrid>
              <a:tr h="576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4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Да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Мероприят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Тема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С кем проводи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Ответственны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Отмет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о выполнен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</a:tr>
              <a:tr h="287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</a:tr>
              <a:tr h="287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e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e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e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e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e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ee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395280" y="5300640"/>
          <a:ext cx="8424720" cy="1295280"/>
        </p:xfrm>
        <a:graphic>
          <a:graphicData uri="http://schemas.openxmlformats.org/drawingml/2006/table">
            <a:tbl>
              <a:tblPr/>
              <a:tblGrid>
                <a:gridCol w="452520"/>
                <a:gridCol w="958680"/>
                <a:gridCol w="2408400"/>
                <a:gridCol w="1357200"/>
                <a:gridCol w="1844640"/>
                <a:gridCol w="1403280"/>
              </a:tblGrid>
              <a:tr h="482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4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Да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Мероприят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Тема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С кем проводи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Ответственны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Отмет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о выполнен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</a:tr>
              <a:tr h="406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</a:tr>
              <a:tr h="40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e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e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e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e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e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eed"/>
                    </a:solidFill>
                  </a:tcPr>
                </a:tc>
              </a:tr>
            </a:tbl>
          </a:graphicData>
        </a:graphic>
      </p:graphicFrame>
      <p:sp>
        <p:nvSpPr>
          <p:cNvPr id="93" name="TextBox 9"/>
          <p:cNvSpPr/>
          <p:nvPr/>
        </p:nvSpPr>
        <p:spPr>
          <a:xfrm>
            <a:off x="3132000" y="4786200"/>
            <a:ext cx="28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1714"/>
                </a:solidFill>
                <a:latin typeface="Arial"/>
              </a:rPr>
              <a:t>Работа с родителя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1714"/>
                </a:solidFill>
                <a:latin typeface="Arial"/>
              </a:rPr>
              <a:t>"О ДОКУМЕНТАЦИИ ДЕТСКИХ ДОШКОЛЬНЫХ УЧРЕЖДЕНИЙ«</a:t>
            </a:r>
            <a:br>
              <a:rPr sz="1800"/>
            </a:br>
            <a:r>
              <a:rPr b="1" lang="ru-RU" sz="1600" spc="-1" strike="noStrike">
                <a:solidFill>
                  <a:srgbClr val="171714"/>
                </a:solidFill>
                <a:latin typeface="Arial"/>
              </a:rPr>
              <a:t>ПРИКАЗ Минобразования РСФСР от 20.09.1988 N 41</a:t>
            </a:r>
            <a:br>
              <a:rPr sz="1600"/>
            </a:br>
            <a:endParaRPr b="0" lang="en-US" sz="1600" spc="-1" strike="noStrike">
              <a:solidFill>
                <a:srgbClr val="d1d1cb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914400" y="1600200"/>
          <a:ext cx="7772400" cy="205092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1714"/>
                          </a:solidFill>
                          <a:latin typeface="Arial"/>
                        </a:rPr>
                        <a:t>Воспитатели и музыкальные руководител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1714"/>
                          </a:solidFill>
                          <a:latin typeface="Arial"/>
                        </a:rPr>
                        <a:t>План воспитательно-образовательной работы с детьм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1714"/>
                          </a:solidFill>
                          <a:latin typeface="Arial"/>
                        </a:rPr>
                        <a:t>На день или неделю по их усмотрени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1714"/>
                          </a:solidFill>
                          <a:latin typeface="Arial"/>
                        </a:rPr>
                        <a:t>Воспитатели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1714"/>
                          </a:solidFill>
                          <a:latin typeface="Arial"/>
                        </a:rPr>
                        <a:t>Ведение табеля посещаемо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1714"/>
                          </a:solidFill>
                          <a:latin typeface="Arial"/>
                        </a:rPr>
                        <a:t>Ежедневно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1714"/>
                          </a:solidFill>
                          <a:latin typeface="Arial"/>
                        </a:rPr>
                        <a:t>Старший воспитатель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1714"/>
                          </a:solidFill>
                          <a:latin typeface="Arial"/>
                        </a:rPr>
                        <a:t>План работы с воспитателям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1714"/>
                          </a:solidFill>
                          <a:latin typeface="Arial"/>
                        </a:rPr>
                        <a:t>На месяц или недел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Rectangle 55"/>
          <p:cNvSpPr/>
          <p:nvPr/>
        </p:nvSpPr>
        <p:spPr>
          <a:xfrm>
            <a:off x="642960" y="424296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1714"/>
                </a:solidFill>
                <a:latin typeface="Arial"/>
              </a:rPr>
              <a:t>При этом планирование своей работы воспитатели, музыкальные руководители, старшие воспитатели ведут </a:t>
            </a:r>
            <a:r>
              <a:rPr b="1" lang="ru-RU" sz="2400" spc="-1" strike="noStrike">
                <a:solidFill>
                  <a:srgbClr val="171714"/>
                </a:solidFill>
                <a:latin typeface="Arial"/>
              </a:rPr>
              <a:t>в произвольной форме.</a:t>
            </a:r>
            <a:r>
              <a:rPr b="0" lang="ru-RU" sz="2400" spc="-1" strike="noStrike">
                <a:solidFill>
                  <a:srgbClr val="17171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7" descr=""/>
          <p:cNvPicPr/>
          <p:nvPr/>
        </p:nvPicPr>
        <p:blipFill>
          <a:blip r:embed="rId1"/>
          <a:stretch/>
        </p:blipFill>
        <p:spPr>
          <a:xfrm>
            <a:off x="2786040" y="2000160"/>
            <a:ext cx="3984480" cy="3984840"/>
          </a:xfrm>
          <a:prstGeom prst="rect">
            <a:avLst/>
          </a:prstGeom>
          <a:ln w="0">
            <a:noFill/>
          </a:ln>
        </p:spPr>
      </p:pic>
      <p:sp>
        <p:nvSpPr>
          <p:cNvPr id="95" name="TextBox 7"/>
          <p:cNvSpPr/>
          <p:nvPr/>
        </p:nvSpPr>
        <p:spPr>
          <a:xfrm>
            <a:off x="1285920" y="71424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Спасибо за внимание!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1714"/>
                </a:solidFill>
                <a:latin typeface="Arial"/>
              </a:rPr>
              <a:t>Планирование работы педагогом</a:t>
            </a:r>
            <a:endParaRPr b="0" lang="en-US" sz="32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1714"/>
                </a:solidFill>
                <a:latin typeface="Arial"/>
              </a:rPr>
              <a:t>1.  Перспективный план работ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1717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71714"/>
                </a:solidFill>
                <a:latin typeface="Arial"/>
              </a:rPr>
              <a:t>соответствие поставленных задач программному содержанию, уровню развития и возрасту дете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1717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71714"/>
                </a:solidFill>
                <a:latin typeface="Arial"/>
              </a:rPr>
              <a:t>основное содержание по реализации поставленных задач (НОД, совместная деятельность, создание условий для самостоятельной деятельности детей, работа с родителями )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1714"/>
                </a:solidFill>
                <a:latin typeface="Arial"/>
              </a:rPr>
              <a:t>2.  Календарный план работ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1717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71714"/>
                </a:solidFill>
                <a:latin typeface="Arial"/>
              </a:rPr>
              <a:t>сбалансированное чередование НОД, совместной деятельности педагогов с детьми (баланс разных видов деятельности и активности детей), интеграция образовательных областе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71714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1714"/>
                </a:solidFill>
                <a:latin typeface="Arial"/>
              </a:rPr>
              <a:t>3.  Соответствие основного содержания календарного плана перспективным задача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1714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1714"/>
                </a:solidFill>
                <a:latin typeface="Arial"/>
              </a:rPr>
              <a:t>4. Соблюдение преемственности в работе специалисто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1714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1714"/>
                </a:solidFill>
                <a:latin typeface="Arial"/>
              </a:rPr>
              <a:t>5 Планирование индивидуальной работ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1717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71714"/>
                </a:solidFill>
                <a:latin typeface="Arial"/>
              </a:rPr>
              <a:t>регулярно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1717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71714"/>
                </a:solidFill>
                <a:latin typeface="Arial"/>
              </a:rPr>
              <a:t>обозначение зада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1714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171714"/>
                </a:solidFill>
                <a:latin typeface="Arial"/>
              </a:rPr>
              <a:t>6. Планирование работы с родителя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1717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71714"/>
                </a:solidFill>
                <a:latin typeface="Arial"/>
              </a:rPr>
              <a:t>использование разнообразных форм работы с родителя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1717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1" descr=""/>
          <p:cNvPicPr/>
          <p:nvPr/>
        </p:nvPicPr>
        <p:blipFill>
          <a:blip r:embed="rId1"/>
          <a:stretch/>
        </p:blipFill>
        <p:spPr>
          <a:xfrm>
            <a:off x="1547640" y="2133720"/>
            <a:ext cx="2267280" cy="3097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2"/>
          <a:stretch/>
        </p:blipFill>
        <p:spPr>
          <a:xfrm>
            <a:off x="1332000" y="2205000"/>
            <a:ext cx="2827080" cy="1660680"/>
          </a:xfrm>
          <a:prstGeom prst="rect">
            <a:avLst/>
          </a:prstGeom>
          <a:ln w="0">
            <a:noFill/>
          </a:ln>
        </p:spPr>
      </p:pic>
      <p:sp>
        <p:nvSpPr>
          <p:cNvPr id="51" name="WordArt 4"/>
          <p:cNvSpPr txBox="1"/>
          <p:nvPr/>
        </p:nvSpPr>
        <p:spPr>
          <a:xfrm rot="5400000">
            <a:off x="-2210040" y="2793960"/>
            <a:ext cx="5904000" cy="982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808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Планирование</a:t>
            </a:r>
            <a:endParaRPr b="0" lang="en-US" sz="1800" spc="1" strike="noStrike">
              <a:ln w="12600">
                <a:solidFill>
                  <a:srgbClr val="80808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403280" y="333360"/>
            <a:ext cx="597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дготовка к планировани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77777"/>
                </a:solidFill>
                <a:latin typeface="Arial"/>
              </a:rPr>
              <a:t>1. Знание основной общеобразовательной Программы дошкольного образ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77777"/>
                </a:solidFill>
                <a:latin typeface="Arial"/>
              </a:rPr>
              <a:t>2. Знание ФГ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77777"/>
                </a:solidFill>
                <a:latin typeface="Arial"/>
              </a:rPr>
              <a:t>3. Знание образовательной нагрузки на детей в условиях ДОУ (СанПиН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5"/>
          <a:stretch/>
        </p:blipFill>
        <p:spPr>
          <a:xfrm rot="539400">
            <a:off x="4427640" y="2133720"/>
            <a:ext cx="2808360" cy="1662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6"/>
          <a:stretch/>
        </p:blipFill>
        <p:spPr>
          <a:xfrm>
            <a:off x="1187280" y="3645000"/>
            <a:ext cx="3383280" cy="2539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"/>
          <p:cNvPicPr/>
          <p:nvPr/>
        </p:nvPicPr>
        <p:blipFill>
          <a:blip r:embed="rId7"/>
          <a:stretch/>
        </p:blipFill>
        <p:spPr>
          <a:xfrm>
            <a:off x="4427640" y="3800520"/>
            <a:ext cx="2665440" cy="2514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"/>
          <p:cNvPicPr/>
          <p:nvPr/>
        </p:nvPicPr>
        <p:blipFill>
          <a:blip r:embed="rId8"/>
          <a:stretch/>
        </p:blipFill>
        <p:spPr>
          <a:xfrm rot="733800">
            <a:off x="6803640" y="3573360"/>
            <a:ext cx="1884240" cy="26640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4"/>
          <p:cNvSpPr txBox="1"/>
          <p:nvPr/>
        </p:nvSpPr>
        <p:spPr>
          <a:xfrm rot="5400000">
            <a:off x="-2210040" y="2793960"/>
            <a:ext cx="5904000" cy="982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808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Планирование</a:t>
            </a:r>
            <a:endParaRPr b="0" lang="en-US" sz="1800" spc="1" strike="noStrike">
              <a:ln w="12600">
                <a:solidFill>
                  <a:srgbClr val="80808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692360" y="333360"/>
            <a:ext cx="648180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иложения к план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1714"/>
                </a:solidFill>
                <a:latin typeface="Arial"/>
              </a:rPr>
              <a:t>1.Мониторинг (педагогическая диагностика) интегративных качеств детей (периодичность в соответствии с программой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1714"/>
                </a:solidFill>
                <a:latin typeface="Arial"/>
              </a:rPr>
              <a:t>2.Режим пребывания детей в группе (утверждённый заведующей и врачом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1714"/>
                </a:solidFill>
                <a:latin typeface="Arial"/>
              </a:rPr>
              <a:t>3.Лист здоровья дет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1714"/>
                </a:solidFill>
                <a:latin typeface="Arial"/>
              </a:rPr>
              <a:t>4.Режим двигательной активности дет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1714"/>
                </a:solidFill>
                <a:latin typeface="Arial"/>
              </a:rPr>
              <a:t>5.Инструкция по проведению оздоровительных мероприятий с детьм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4"/>
          <p:cNvSpPr txBox="1"/>
          <p:nvPr/>
        </p:nvSpPr>
        <p:spPr>
          <a:xfrm rot="5400000">
            <a:off x="-2210040" y="2793960"/>
            <a:ext cx="5904000" cy="982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808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Планирование</a:t>
            </a:r>
            <a:endParaRPr b="0" lang="en-US" sz="1800" spc="1" strike="noStrike">
              <a:ln w="12600">
                <a:solidFill>
                  <a:srgbClr val="80808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1428840" y="357120"/>
            <a:ext cx="637524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иды планиров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77777"/>
                </a:solidFill>
                <a:latin typeface="Arial"/>
              </a:rPr>
              <a:t>1.Перспективное планиро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77777"/>
                </a:solidFill>
                <a:latin typeface="Arial"/>
              </a:rPr>
              <a:t>2.Календарное планиро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77777"/>
                </a:solidFill>
                <a:latin typeface="Arial"/>
              </a:rPr>
              <a:t>3. Система Н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77777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4"/>
          <p:cNvSpPr txBox="1"/>
          <p:nvPr/>
        </p:nvSpPr>
        <p:spPr>
          <a:xfrm rot="5400000">
            <a:off x="-2210040" y="2793960"/>
            <a:ext cx="5904000" cy="982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808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Планирование</a:t>
            </a:r>
            <a:endParaRPr b="0" lang="en-US" sz="1800" spc="1" strike="noStrike">
              <a:ln w="12600">
                <a:solidFill>
                  <a:srgbClr val="80808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1187280" y="333360"/>
            <a:ext cx="7488360" cy="83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1714"/>
                </a:solidFill>
                <a:latin typeface="Arial"/>
              </a:rPr>
              <a:t>Название ГБДО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1714"/>
                </a:solidFill>
                <a:latin typeface="Arial"/>
              </a:rPr>
              <a:t>Перспективный план  работы с детьм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1714"/>
                </a:solidFill>
                <a:latin typeface="Arial"/>
              </a:rPr>
              <a:t>на 2011-2012 уч.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1714"/>
                </a:solidFill>
                <a:latin typeface="Arial"/>
              </a:rPr>
              <a:t>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1714"/>
                </a:solidFill>
                <a:latin typeface="Arial"/>
              </a:rPr>
              <a:t>группа 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1714"/>
                </a:solidFill>
                <a:latin typeface="Arial"/>
              </a:rPr>
              <a:t>                                </a:t>
            </a:r>
            <a:r>
              <a:rPr b="1" lang="ru-RU" sz="1800" spc="-1" strike="noStrike">
                <a:solidFill>
                  <a:srgbClr val="171714"/>
                </a:solidFill>
                <a:latin typeface="Arial"/>
              </a:rPr>
              <a:t>воспитатели: 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1714"/>
                </a:solidFill>
                <a:latin typeface="Arial"/>
              </a:rPr>
              <a:t>-1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717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1714"/>
                </a:solidFill>
                <a:latin typeface="Arial"/>
              </a:rPr>
              <a:t>Комплексно-тематический план работ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1714"/>
                </a:solidFill>
                <a:latin typeface="Arial"/>
              </a:rPr>
              <a:t>Может быть составлен на весь детский сад  в соответствии с праздничными датами календаря или значимыми событиями в жизни детей и детского сада, а может  быть взят из примерной общеобразовательной Программы, но обязательно  администрация должна об этом зна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1714"/>
                </a:solidFill>
                <a:latin typeface="Arial"/>
              </a:rPr>
              <a:t>В перспективном планировании должны найти отражение все разделы реализуемой программы и все задачи поставленные педагог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93b32"/>
                </a:solidFill>
                <a:latin typeface="Arial"/>
              </a:rPr>
              <a:t>Модель организации воспитательно-образовательного процесса в ГДОУ детский сад № </a:t>
            </a:r>
            <a:endParaRPr b="0" lang="en-US" sz="1800" spc="-1" strike="noStrike">
              <a:solidFill>
                <a:srgbClr val="d1d1cb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85840" y="714240"/>
          <a:ext cx="8643960" cy="6143760"/>
        </p:xfrm>
        <a:graphic>
          <a:graphicData uri="http://schemas.openxmlformats.org/drawingml/2006/table">
            <a:tbl>
              <a:tblPr/>
              <a:tblGrid>
                <a:gridCol w="662040"/>
                <a:gridCol w="955440"/>
                <a:gridCol w="881280"/>
                <a:gridCol w="958680"/>
                <a:gridCol w="863640"/>
                <a:gridCol w="865080"/>
                <a:gridCol w="865440"/>
                <a:gridCol w="863640"/>
                <a:gridCol w="1023840"/>
                <a:gridCol w="704880"/>
              </a:tblGrid>
              <a:tr h="476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Сентябрь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Октябрь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Ноябрь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Декабрь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Январь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Февраль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Март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Апрель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Май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Сентябрь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</a:tr>
              <a:tr h="3444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«День знаний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Мониторинг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Музыкальная гостина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«Осенины»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Выставка икебан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Проект «Моя семья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«День здоровья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Вернисаж «Осенние мотивы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Проект «Букварь здоровья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Праздник на воде (бассейн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Малые театральные встреч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Мастерская Деда Мороза «Новогодний серпантин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Рождествен ская сказ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«Каникулярная неделя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«Зим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старты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«День защитников Отечества,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«Проводы русской зим Педагогич. гостиная «Сказки о любви»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«Для любимых мам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«Книжкина неделя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«День театра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«Весна-природы пробужденье» (экологический десант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«Космический коллаж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Досуг  «У Дельфи-ненка» Мониторин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«День Победы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«До свиданья , детский сад!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«День города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«День знаний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Мониторинг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</a:tr>
              <a:tr h="2222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«День знаний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Проект «Моя семья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Мониторин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e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«День учителя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«День здоровья» «Осенины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e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Проект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«Азбука безопасности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Проект «День матери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e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Малые театральные встреч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Мастерская Деда Мороз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e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«Вифлеемская звезда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«Каникуляр ная неделя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«Зимние старты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e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«Проводы русской зимы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Педагогическая гостиная «Сказки о любви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e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«Книжкина неделя» (Кулинарный класс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День театра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e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Экологический десан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«Дни открытых дверей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e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«До свиданья, детский сад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«День города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e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«День знаний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Проект «Моя семья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Мониторин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eed"/>
                    </a:solidFill>
                  </a:tcPr>
                </a:tc>
              </a:tr>
            </a:tbl>
          </a:graphicData>
        </a:graphic>
      </p:graphicFrame>
    </p:spTree>
  </p:cSld>
  <p:transition spd="med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71714"/>
                </a:solidFill>
                <a:latin typeface="Arial"/>
              </a:rPr>
              <a:t>Перспективное планирование по образовательной области «Коммуникация»</a:t>
            </a:r>
            <a:endParaRPr b="0" lang="en-US" sz="1600" spc="-1" strike="noStrike">
              <a:solidFill>
                <a:srgbClr val="d1d1cb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85840" y="836640"/>
          <a:ext cx="8400960" cy="5334120"/>
        </p:xfrm>
        <a:graphic>
          <a:graphicData uri="http://schemas.openxmlformats.org/drawingml/2006/table">
            <a:tbl>
              <a:tblPr/>
              <a:tblGrid>
                <a:gridCol w="857160"/>
                <a:gridCol w="1714680"/>
                <a:gridCol w="3566880"/>
                <a:gridCol w="2262240"/>
              </a:tblGrid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ся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правление работы (например познавательно-речевое, область «Коммуникация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дачи рабо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ащение развивающей сред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</a:tr>
              <a:tr h="374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71714"/>
                          </a:solidFill>
                          <a:latin typeface="Arial"/>
                        </a:rPr>
                        <a:t>I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71714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71714"/>
                          </a:solidFill>
                          <a:latin typeface="Arial"/>
                        </a:rPr>
                        <a:t>X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1714"/>
                          </a:solidFill>
                          <a:latin typeface="Arial"/>
                        </a:rPr>
                        <a:t>Развитие связной речи (и так по всем направлениям в данной области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171714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1714"/>
                          </a:solidFill>
                          <a:latin typeface="Arial"/>
                        </a:rPr>
                        <a:t>Составление простых распространенных предложений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171714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1714"/>
                          </a:solidFill>
                          <a:latin typeface="Arial"/>
                        </a:rPr>
                        <a:t>Обучение умению задавать вопросы и отвечать на них полным ответом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171714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1714"/>
                          </a:solidFill>
                          <a:latin typeface="Arial"/>
                        </a:rPr>
                        <a:t>Обучение составлению описательных рассказов по темам (см. комплексно-тематическое планирование)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171714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1714"/>
                          </a:solidFill>
                          <a:latin typeface="Arial"/>
                        </a:rPr>
                        <a:t>Работа над диалогической речью (с использованием литературных произведений)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171714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1714"/>
                          </a:solidFill>
                          <a:latin typeface="Arial"/>
                        </a:rPr>
                        <a:t>Обучение пересказу небольших рассказов и сказо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1714"/>
                          </a:solidFill>
                          <a:latin typeface="Arial"/>
                        </a:rPr>
                        <a:t>Иллюстрации по темам комплексно-тематического планирования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1714"/>
                          </a:solidFill>
                          <a:latin typeface="Arial"/>
                        </a:rPr>
                        <a:t>Детская литература по темам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1714"/>
                          </a:solidFill>
                          <a:latin typeface="Arial"/>
                        </a:rPr>
                        <a:t>Раздаточные картинки для составления рассказов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1714"/>
                          </a:solidFill>
                          <a:latin typeface="Arial"/>
                        </a:rPr>
                        <a:t>Схемы составления рассказов и т.д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</a:tr>
            </a:tbl>
          </a:graphicData>
        </a:graphic>
      </p:graphicFrame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0T04:25:40Z</dcterms:created>
  <dc:creator>86091</dc:creator>
  <dc:description/>
  <dc:language>en-US</dc:language>
  <cp:lastModifiedBy>Таня</cp:lastModifiedBy>
  <dcterms:modified xsi:type="dcterms:W3CDTF">2011-11-28T18:58:59Z</dcterms:modified>
  <cp:revision>35</cp:revision>
  <dc:subject/>
  <dc:title>Слайд 1</dc:title>
</cp:coreProperties>
</file>