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9B56-7522-4276-88D3-46001B87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9B3-473C-4C2B-801F-F49AC381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430-920D-4CED-A8F8-8FB9B935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A2D-DDFA-4C95-825C-1754FF50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A0F-5734-4DE9-945C-1B635DB1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330-62B2-45EF-80D4-C5B6EBAF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3F5-B598-4D63-9B58-5C138756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0A9-7D4E-4D14-B584-4A8B941C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C5A-894E-420C-92E9-D3B9A85C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6A0-688E-4957-ABE9-A7E4D80C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749-9B8E-4D14-B543-6DC3C806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04C-FA70-476A-956B-87EC835E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0ED28-74D6-4F9C-ADCF-9A56C4B9FE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1008000"/>
            <a:ext cx="885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33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600" spc="-1" strike="noStrike">
                <a:solidFill>
                  <a:srgbClr val="993366"/>
                </a:solidFill>
                <a:latin typeface="Arial"/>
              </a:rPr>
              <a:t>РЕШЕНИЕ ТРИГОНОМЕТРИЧЕСКИХ УРАВНЕН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76360" y="1944720"/>
            <a:ext cx="7991280" cy="37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газин. делая наценку 50%, продает канцелярские наборы по цене 90 рублей за штуку. Какое наибольшее число таких наборов может закупить хозяин этого магазина на 4300 рубл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36720" y="2232000"/>
            <a:ext cx="813600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доме, в котором живет Петя, один подъезд. На каждом этаже находится по 5 квартир. Петя живет в квартире № 37. На каком этаже живет Пет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76360" y="647640"/>
            <a:ext cx="468000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52360" y="1224000"/>
            <a:ext cx="8352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ончите основное тригонометрическое тождест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         б)           в) 0     г)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9640" y="1224000"/>
            <a:ext cx="3384720" cy="79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54280" y="3240000"/>
            <a:ext cx="982440" cy="100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00360" y="3333600"/>
            <a:ext cx="132264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08000" y="365040"/>
            <a:ext cx="856764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ончите основное тригонометрическое тожд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728720"/>
            <a:ext cx="40827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tg x * ctg 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52360" y="2879640"/>
            <a:ext cx="70567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sin x    б) cos x    в) 1    г)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8360" y="1079640"/>
            <a:ext cx="806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ислит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              б)              в)             г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124160" y="849240"/>
            <a:ext cx="2016360" cy="111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82800" y="2270160"/>
            <a:ext cx="1573200" cy="118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319640" y="22986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335640" y="2160720"/>
            <a:ext cx="136836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8423280" y="2376360"/>
            <a:ext cx="1295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36720" y="431640"/>
            <a:ext cx="3456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числит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03640" y="216000"/>
            <a:ext cx="2976480" cy="1312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92000" y="1854360"/>
            <a:ext cx="87836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           б)          в)             г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68360" y="1886040"/>
            <a:ext cx="1440000" cy="633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46360" y="1886040"/>
            <a:ext cx="1133640" cy="633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505480" y="1886040"/>
            <a:ext cx="1263600" cy="633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724880" y="1957320"/>
            <a:ext cx="1203120" cy="6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63640" y="576360"/>
            <a:ext cx="40291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числит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87640" y="287280"/>
            <a:ext cx="223200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743280" y="2557440"/>
            <a:ext cx="271800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27400" y="973080"/>
            <a:ext cx="2892240" cy="1546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700440" y="3672000"/>
            <a:ext cx="256392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08000" y="347760"/>
            <a:ext cx="33847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числит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9280" y="204840"/>
            <a:ext cx="1306440" cy="1092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00720" y="274680"/>
            <a:ext cx="1584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983280" y="181080"/>
            <a:ext cx="2016360" cy="111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28720" y="2735280"/>
            <a:ext cx="55436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числите ctg x, ес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99280" y="2521080"/>
            <a:ext cx="16556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17:29:16Z</dcterms:created>
  <dc:creator/>
  <dc:description/>
  <dc:language>en-US</dc:language>
  <cp:lastModifiedBy/>
  <cp:revision>0</cp:revision>
  <dc:subject/>
  <dc:title/>
</cp:coreProperties>
</file>