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1C1-7AA1-4D4F-9199-1C1B601C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560-9C6B-4FD1-97F3-ACB39D28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219-3DB9-4CCB-A2EA-7949CF27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62D-6F29-4CEF-85AA-48E15F6D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E517-C1EC-4703-BC01-33D4E944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D935-B109-4951-927A-F3F151B1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9E5-6E75-4EE6-99E2-F03B8EBC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8B9-4B04-4523-956B-5A780007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F29-5CC9-4FEF-AA2A-9FB5E951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814-7AE8-4D94-86C2-9A3D9520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48C-B244-4A7A-94FE-E0661D1E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EDC-5F66-40EE-A3FB-FBCA5089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26D4-0ABA-47C9-AE93-8FC574A49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Kartinochki (2)"/>
          <p:cNvPicPr/>
          <p:nvPr/>
        </p:nvPicPr>
        <p:blipFill>
          <a:blip r:embed="rId1"/>
          <a:stretch/>
        </p:blipFill>
        <p:spPr>
          <a:xfrm>
            <a:off x="135000" y="0"/>
            <a:ext cx="6535800" cy="871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" name=""/>
          <p:cNvSpPr/>
          <p:nvPr/>
        </p:nvSpPr>
        <p:spPr>
          <a:xfrm>
            <a:off x="1484280" y="611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Техника безопасности при выполнении машин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7920" y="1763640"/>
            <a:ext cx="523872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81bd"/>
                </a:solidFill>
                <a:uFillTx/>
                <a:latin typeface="Arial"/>
              </a:rPr>
              <a:t>1.Опасности в работе:</a:t>
            </a:r>
            <a:r>
              <a:rPr b="1" lang="en-US" sz="28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4f81bd"/>
                </a:solidFill>
                <a:latin typeface="Arial"/>
              </a:rPr>
              <a:t>повреждение пальцев иглой; попадание волос или концов одежды во вращающиеся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81bd"/>
                </a:solidFill>
                <a:uFillTx/>
                <a:latin typeface="Arial"/>
              </a:rPr>
              <a:t>2. Что нужно сделать до начала работы:</a:t>
            </a:r>
            <a:r>
              <a:rPr b="1" lang="en-US" sz="28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4f81bd"/>
                </a:solidFill>
                <a:latin typeface="Arial"/>
              </a:rPr>
              <a:t>застегнуть манжеты рукавов; проверить не осталось ли в ткани булавок и иго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0" descr="Kartinochki (2)"/>
          <p:cNvPicPr/>
          <p:nvPr/>
        </p:nvPicPr>
        <p:blipFill>
          <a:blip r:embed="rId1"/>
          <a:stretch/>
        </p:blipFill>
        <p:spPr>
          <a:xfrm>
            <a:off x="135000" y="0"/>
            <a:ext cx="6535800" cy="871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" name=""/>
          <p:cNvSpPr/>
          <p:nvPr/>
        </p:nvSpPr>
        <p:spPr>
          <a:xfrm>
            <a:off x="765000" y="826920"/>
            <a:ext cx="532800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f81bd"/>
                </a:solidFill>
                <a:uFillTx/>
                <a:latin typeface="Arial"/>
              </a:rPr>
              <a:t>3.Что нужно делать во время работы:</a:t>
            </a:r>
            <a:r>
              <a:rPr b="1" lang="en-US" sz="24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81bd"/>
                </a:solidFill>
                <a:latin typeface="Arial"/>
              </a:rPr>
              <a:t>установку шпульного колпачка, заправку верхней нити производить при включенной машин; не класть ножницы и другие инструменты около вращающихся частей машины; не передавать ножницы, изделие или детали при включенной маш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4f81bd"/>
                </a:solidFill>
                <a:uFillTx/>
                <a:latin typeface="Arial"/>
              </a:rPr>
              <a:t>Что нужно сделать по окончании работы:</a:t>
            </a:r>
            <a:r>
              <a:rPr b="1" lang="en-US" sz="24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81bd"/>
                </a:solidFill>
                <a:latin typeface="Arial"/>
              </a:rPr>
              <a:t>выключить машину; выключить машину, убрать рабоче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0" descr="Kartinochki (2)"/>
          <p:cNvPicPr/>
          <p:nvPr/>
        </p:nvPicPr>
        <p:blipFill>
          <a:blip r:embed="rId1"/>
          <a:stretch/>
        </p:blipFill>
        <p:spPr>
          <a:xfrm>
            <a:off x="189000" y="0"/>
            <a:ext cx="6481800" cy="889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1773360" y="611280"/>
            <a:ext cx="3514680" cy="12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Правила техники безопасности при выполнении руч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8640" y="2311920"/>
            <a:ext cx="5392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597c9"/>
                </a:solidFill>
                <a:uFillTx/>
                <a:latin typeface="Arial"/>
              </a:rPr>
              <a:t>1.Опасности в работе:</a:t>
            </a:r>
            <a:r>
              <a:rPr b="1" lang="en-US" sz="1800" spc="-1" strike="noStrike">
                <a:solidFill>
                  <a:srgbClr val="4597c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4597c9"/>
                </a:solidFill>
                <a:latin typeface="Arial"/>
              </a:rPr>
              <a:t>повреждение пальцев иглой; травма руки ножницами; травма гл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597c9"/>
                </a:solidFill>
                <a:uFillTx/>
                <a:latin typeface="Arial"/>
              </a:rPr>
              <a:t>2.Что нужно сделать до начала работы:</a:t>
            </a:r>
            <a:r>
              <a:rPr b="1" lang="en-US" sz="1800" spc="-1" strike="noStrike">
                <a:solidFill>
                  <a:srgbClr val="4597c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4597c9"/>
                </a:solidFill>
                <a:latin typeface="Arial"/>
              </a:rPr>
              <a:t>посчитать количество иголок и булавок в игольнице; положить инструменты и приспособления в отведенное для них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597c9"/>
                </a:solidFill>
                <a:uFillTx/>
                <a:latin typeface="Arial"/>
              </a:rPr>
              <a:t>3. Что нужно делать во время работы:</a:t>
            </a:r>
            <a:r>
              <a:rPr b="1" lang="en-US" sz="1800" spc="-1" strike="noStrike">
                <a:solidFill>
                  <a:srgbClr val="4597c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4597c9"/>
                </a:solidFill>
                <a:latin typeface="Arial"/>
              </a:rPr>
              <a:t>быть внимательной к работе; вкалывать иглы и булавки в игольницу; надевать наперсток на палец; класть ножницы справа, направленными от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597c9"/>
                </a:solidFill>
                <a:uFillTx/>
                <a:latin typeface="Arial"/>
              </a:rPr>
              <a:t>4. Что нужно сделать по окончании работы:</a:t>
            </a:r>
            <a:r>
              <a:rPr b="1" lang="en-US" sz="1800" spc="-1" strike="noStrike">
                <a:solidFill>
                  <a:srgbClr val="4597c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4597c9"/>
                </a:solidFill>
                <a:latin typeface="Arial"/>
              </a:rPr>
              <a:t>посчитать количество булавок и иголок в игольнице; убрать рабочее мес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" descr="Kartinochki (2)"/>
          <p:cNvPicPr/>
          <p:nvPr/>
        </p:nvPicPr>
        <p:blipFill>
          <a:blip r:embed="rId1"/>
          <a:stretch/>
        </p:blipFill>
        <p:spPr>
          <a:xfrm>
            <a:off x="260280" y="250920"/>
            <a:ext cx="6372360" cy="849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160640" y="1339920"/>
            <a:ext cx="45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5000" y="2270520"/>
            <a:ext cx="540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597c9"/>
                </a:solidFill>
                <a:uFillTx/>
                <a:latin typeface="Arial"/>
              </a:rPr>
              <a:t>1. Опасности в работе:</a:t>
            </a:r>
            <a:r>
              <a:rPr b="1" i="1" lang="en-US" sz="1800" spc="-1" strike="noStrike">
                <a:solidFill>
                  <a:srgbClr val="4597c9"/>
                </a:solidFill>
                <a:latin typeface="Arial"/>
              </a:rPr>
              <a:t> возгорание шнура; ожоги: паром, о подошву утюга, от возгорания шн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4597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597c9"/>
                </a:solidFill>
                <a:latin typeface="Arial"/>
              </a:rPr>
              <a:t>2. </a:t>
            </a:r>
            <a:r>
              <a:rPr b="1" i="1" lang="en-US" sz="1800" spc="-1" strike="noStrike" u="sng">
                <a:solidFill>
                  <a:srgbClr val="4597c9"/>
                </a:solidFill>
                <a:uFillTx/>
                <a:latin typeface="Arial"/>
              </a:rPr>
              <a:t>Что нужно сделать до начала работы:</a:t>
            </a:r>
            <a:r>
              <a:rPr b="1" i="1" lang="en-US" sz="1800" spc="-1" strike="noStrike">
                <a:solidFill>
                  <a:srgbClr val="4597c9"/>
                </a:solidFill>
                <a:latin typeface="Arial"/>
              </a:rPr>
              <a:t> проверить целостность шнура и чистоту подошвы утюга; наличие резинового ковр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597c9"/>
                </a:solidFill>
                <a:uFillTx/>
                <a:latin typeface="Arial"/>
              </a:rPr>
              <a:t>3. Что нужно делать во время работы:</a:t>
            </a:r>
            <a:r>
              <a:rPr b="1" i="1" lang="en-US" sz="1800" spc="-1" strike="noStrike">
                <a:solidFill>
                  <a:srgbClr val="4597c9"/>
                </a:solidFill>
                <a:latin typeface="Arial"/>
              </a:rPr>
              <a:t> выполнять влажно-тепловую обработку, стоя на резиновом коврике; включать и выключать утюг сухими руками, берясь за корпус вилки, а не за шнур; ставить утюг на подставку; следить за тем, чтобы шнур не касался подошвы утю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4597c9"/>
                </a:solidFill>
                <a:uFillTx/>
                <a:latin typeface="Arial"/>
              </a:rPr>
              <a:t>4.Что нужно сделать по окончании работы:</a:t>
            </a:r>
            <a:r>
              <a:rPr b="1" i="1" lang="en-US" sz="1800" spc="-1" strike="noStrike">
                <a:solidFill>
                  <a:srgbClr val="4597c9"/>
                </a:solidFill>
                <a:latin typeface="Arial"/>
              </a:rPr>
              <a:t> выключить утюг; поставить на специальную подставку</a:t>
            </a:r>
            <a:r>
              <a:rPr b="0" lang="en-US" sz="1400" spc="-1" strike="noStrike">
                <a:solidFill>
                  <a:srgbClr val="4597c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5000" y="90000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Правила техники безопасности при выполнении влажно-теплов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авила техники безопасности при выполнении кулинарных раб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и пользовании электронагревательными прибор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пасности в работ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  ожог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ажение то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Что нужно сделать до начала работ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рить исправность соединительного шну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ановить электронагревательный прибор на огнеупорную подстав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Что нужно делать во время работ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ть и выключать электроприбор сухими руками, при этом браться за корпус вил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Что нужно сделать по окончании работ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ключить электроприб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следовательность выполнения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оек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3564000"/>
            <a:ext cx="3370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Обоснование возникшей проблемы и 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Определение конкретной задачи и ее формулиров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Выявление основных параметров и ограни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Исследование, выявление традиций, истории, тенден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Составление «схемы обдумывания» (схема 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Разработка идей, вари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Анализ идей и выбор оптимального вариа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следовательность выполнения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оек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Выбор ткани, инструментов, приспособлений, оборуд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 Последовательность изготовления издел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 Экономическое обоснов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Контроль кач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Изготовление издел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Коррекц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Контроль, испыт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Разработка рекламного проспекта издел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Оформление прое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Самооц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7:11:52Z</dcterms:created>
  <dc:creator>bateskav191</dc:creator>
  <dc:description/>
  <dc:language>en-US</dc:language>
  <cp:lastModifiedBy>школа</cp:lastModifiedBy>
  <dcterms:modified xsi:type="dcterms:W3CDTF">2014-01-22T13:46:20Z</dcterms:modified>
  <cp:revision>21</cp:revision>
  <dc:subject/>
  <dc:title>Слайд 1</dc:title>
</cp:coreProperties>
</file>