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441-C000-484A-AEF7-5DDBCEB9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7B2-F212-46CA-BC51-53C6C402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CAC-E6A7-4AA2-861C-B5E3F5A0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4CA-76B6-4885-96D2-C733C07B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01F-B3E3-4AE6-89B7-ED970864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3F1-12A9-4ED1-BA5B-3CF5C4E5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42F-FE9D-48E0-A002-C4D19003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E72-71B5-4A37-A60C-1276DFD9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CF2-0783-4D04-BC97-2FCD8A2D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145-322C-4534-B682-BE9630B1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E48-93A2-4BCD-8894-4BE574B0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533-6F76-48B0-84A6-2647BE4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A61-3661-4F89-BA64-A644FFAB2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Kartinochki (2)"/>
          <p:cNvPicPr/>
          <p:nvPr/>
        </p:nvPicPr>
        <p:blipFill>
          <a:blip r:embed="rId1"/>
          <a:stretch/>
        </p:blipFill>
        <p:spPr>
          <a:xfrm>
            <a:off x="135000" y="0"/>
            <a:ext cx="6535800" cy="871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1484280" y="611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Техника безопасности при выполнении машин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7920" y="1763640"/>
            <a:ext cx="5238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Arial"/>
              </a:rPr>
              <a:t>1.Опасности в работе:</a:t>
            </a:r>
            <a:r>
              <a:rPr b="1" lang="en-US" sz="2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4f81bd"/>
                </a:solidFill>
                <a:latin typeface="Arial"/>
              </a:rPr>
              <a:t>повреждение пальцев иглой; попадание волос или концов одежды во вращаю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81bd"/>
                </a:solidFill>
                <a:uFillTx/>
                <a:latin typeface="Arial"/>
              </a:rPr>
              <a:t>2. Что нужно сделать до начала работы:</a:t>
            </a:r>
            <a:r>
              <a:rPr b="1" lang="en-US" sz="2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4f81bd"/>
                </a:solidFill>
                <a:latin typeface="Arial"/>
              </a:rPr>
              <a:t>застегнуть манжеты рукавов; проверить не осталось ли в ткани булавок и иг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0" descr="Kartinochki (2)"/>
          <p:cNvPicPr/>
          <p:nvPr/>
        </p:nvPicPr>
        <p:blipFill>
          <a:blip r:embed="rId1"/>
          <a:stretch/>
        </p:blipFill>
        <p:spPr>
          <a:xfrm>
            <a:off x="135000" y="0"/>
            <a:ext cx="6535800" cy="871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765000" y="826920"/>
            <a:ext cx="5328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Arial"/>
              </a:rPr>
              <a:t>3.Что нужно делать во время работы:</a:t>
            </a: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81bd"/>
                </a:solidFill>
                <a:latin typeface="Arial"/>
              </a:rPr>
              <a:t>установку шпульного колпачка, заправку верхней нити производить при включенной машин; не класть ножницы и другие инструменты около вращающихся частей машины; не передавать ножницы, изделие или детали при включенной маш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4f81bd"/>
                </a:solidFill>
                <a:uFillTx/>
                <a:latin typeface="Arial"/>
              </a:rPr>
              <a:t>Что нужно сделать по окончании работы:</a:t>
            </a: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81bd"/>
                </a:solidFill>
                <a:latin typeface="Arial"/>
              </a:rPr>
              <a:t>выключить машину; выключить машину, убрать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0" descr="Kartinochki (2)"/>
          <p:cNvPicPr/>
          <p:nvPr/>
        </p:nvPicPr>
        <p:blipFill>
          <a:blip r:embed="rId1"/>
          <a:stretch/>
        </p:blipFill>
        <p:spPr>
          <a:xfrm>
            <a:off x="189000" y="0"/>
            <a:ext cx="6481800" cy="889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773360" y="611280"/>
            <a:ext cx="3514680" cy="12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Правила техники безопасности при выполнении ру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8640" y="2311920"/>
            <a:ext cx="53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1.Опасности в работе:</a:t>
            </a:r>
            <a:r>
              <a:rPr b="1" lang="en-US" sz="1800" spc="-1" strike="noStrike">
                <a:solidFill>
                  <a:srgbClr val="4597c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повреждение пальцев иглой; травма руки ножницами; травма гл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2.Что нужно сделать до начала работы:</a:t>
            </a:r>
            <a:r>
              <a:rPr b="1" lang="en-US" sz="1800" spc="-1" strike="noStrike">
                <a:solidFill>
                  <a:srgbClr val="4597c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посчитать количество иголок и булавок в игольнице; положить инструменты и приспособления в отведенное для них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3. Что нужно делать во время работы:</a:t>
            </a:r>
            <a:r>
              <a:rPr b="1" lang="en-US" sz="1800" spc="-1" strike="noStrike">
                <a:solidFill>
                  <a:srgbClr val="4597c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быть внимательной к работе; вкалывать иглы и булавки в игольницу; надевать наперсток на палец; класть ножницы справа, направленными от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4. Что нужно сделать по окончании работы:</a:t>
            </a:r>
            <a:r>
              <a:rPr b="1" lang="en-US" sz="1800" spc="-1" strike="noStrike">
                <a:solidFill>
                  <a:srgbClr val="4597c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посчитать количество булавок и иголок в игольнице; убрать рабочее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Kartinochki (2)"/>
          <p:cNvPicPr/>
          <p:nvPr/>
        </p:nvPicPr>
        <p:blipFill>
          <a:blip r:embed="rId1"/>
          <a:stretch/>
        </p:blipFill>
        <p:spPr>
          <a:xfrm>
            <a:off x="260280" y="250920"/>
            <a:ext cx="6372360" cy="849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160640" y="1339920"/>
            <a:ext cx="45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5000" y="2270520"/>
            <a:ext cx="54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1. Опасности в работе: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 возгорание шнура; ожоги: паром, о подошву утюга, от возгорания шн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4597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2. </a:t>
            </a:r>
            <a:r>
              <a:rPr b="1" i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Что нужно сделать до начала работы: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 проверить целостность шнура и чистоту подошвы утюга; наличие резинового ковр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3. Что нужно делать во время работы: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 выполнять влажно-тепловую обработку, стоя на резиновом коврике; включать и выключать утюг сухими руками, берясь за корпус вилки, а не за шнур; ставить утюг на подставку; следить за тем, чтобы шнур не касался подошвы утю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4597c9"/>
                </a:solidFill>
                <a:uFillTx/>
                <a:latin typeface="Arial"/>
              </a:rPr>
              <a:t>4.Что нужно сделать по окончании работы:</a:t>
            </a:r>
            <a:r>
              <a:rPr b="1" i="1" lang="en-US" sz="1800" spc="-1" strike="noStrike">
                <a:solidFill>
                  <a:srgbClr val="4597c9"/>
                </a:solidFill>
                <a:latin typeface="Arial"/>
              </a:rPr>
              <a:t> выключить утюг; поставить на специальную подставку</a:t>
            </a:r>
            <a:r>
              <a:rPr b="0" lang="en-US" sz="1400" spc="-1" strike="noStrike">
                <a:solidFill>
                  <a:srgbClr val="4597c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5000" y="90000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Правила техники безопасности при выполнении влажно-теплов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авила техники безопасности при выполнении кулинарных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 пользовании электронагревательными прибор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асности в работ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 ожо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ажение то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то нужно сделать до начала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ить исправность соединительного шну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овить электронагревательный прибор на огнеупорную подстав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то нужно делать во время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ть и выключать электроприбор сухими руками, при этом браться за корпус вил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то нужно сделать по окончании рабо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ключить электроприб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3564000"/>
            <a:ext cx="3370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Обоснование возникшей проблемы и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Определение конкретной задачи и ее формулиро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ыявление основных параметров и ограни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Исследование, выявление традиций, истории, тенден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Составление «схемы обдумывания» (схема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Разработка идей, вари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Анализ идей и выбор оптимального вари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ек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Выбор ткани, инструментов, приспособлений, оборуд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Последовательность изготовления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 Экономическое обосн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Контроль ка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Изготовление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Коррек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Контроль, испыт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Разработка рекламного проспекта изде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Оформление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Самооц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11:52Z</dcterms:created>
  <dc:creator>bateskav191</dc:creator>
  <dc:description/>
  <dc:language>en-US</dc:language>
  <cp:lastModifiedBy>школа</cp:lastModifiedBy>
  <dcterms:modified xsi:type="dcterms:W3CDTF">2014-01-22T13:46:20Z</dcterms:modified>
  <cp:revision>21</cp:revision>
  <dc:subject/>
  <dc:title>Слайд 1</dc:title>
</cp:coreProperties>
</file>