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6F7-FA04-4460-9C8B-30058401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8B2-7CE1-4F0A-8E6C-DDE99C09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F98-FB35-4FCD-A620-2A6270F5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8A1-4679-48BE-A589-2F50EAF3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42D-0297-4E8A-953F-BE7F8BDD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C28-52C8-4794-AE7A-D01D9C43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368-4C9E-41DF-864E-4F76AE5A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EA6-7BCB-4FFF-BB72-A659FE51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07F-194F-42EF-93AD-22D2F85D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0A3-BB88-4320-B132-FB953774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85B-2FA9-4ACC-97B9-1B4BB561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59D-A566-4CE2-9F2A-07E8910B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F559-F02B-4512-9416-484E6C980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isunok1"/>
          <p:cNvPicPr/>
          <p:nvPr/>
        </p:nvPicPr>
        <p:blipFill>
          <a:blip r:embed="rId1"/>
          <a:stretch/>
        </p:blipFill>
        <p:spPr>
          <a:xfrm>
            <a:off x="0" y="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3348000" y="1628640"/>
            <a:ext cx="4248360" cy="151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РОМАШКА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43" name="Picture 6" descr="46292817"/>
          <p:cNvPicPr/>
          <p:nvPr/>
        </p:nvPicPr>
        <p:blipFill>
          <a:blip r:embed="rId2"/>
          <a:stretch/>
        </p:blipFill>
        <p:spPr>
          <a:xfrm>
            <a:off x="3708360" y="2924280"/>
            <a:ext cx="1447920" cy="1504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1773360" y="4508640"/>
            <a:ext cx="659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Times New Roman"/>
              </a:rPr>
              <a:t>Летний оздоровитель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Times New Roman"/>
              </a:rPr>
              <a:t>лагерь  МОУ Варшавская СО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1187280" y="2924280"/>
            <a:ext cx="1663920" cy="1681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5786280" y="2906640"/>
            <a:ext cx="1785960" cy="180504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ешной футб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570880" cy="64278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,кей ковбо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438280" y="226224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785440" cy="61423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скорби 22 ию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ло, мы ищем тал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ИСК КЛ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курс рисунко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МОЯ РОСС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ртивный ч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438280" y="226224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айте будем беречь прир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града ждет побед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63188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ила пожарной безопас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324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04:12:49Z</dcterms:created>
  <dc:creator>User</dc:creator>
  <dc:description/>
  <dc:language>en-US</dc:language>
  <cp:lastModifiedBy>Computer</cp:lastModifiedBy>
  <dcterms:modified xsi:type="dcterms:W3CDTF">2014-01-23T12:07:13Z</dcterms:modified>
  <cp:revision>31</cp:revision>
  <dc:subject/>
  <dc:title>Слайд 1</dc:title>
</cp:coreProperties>
</file>