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2248-77F9-47C1-A818-343FAB01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7AC-DDF6-4239-9C88-5AB8B78B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EF6-76FE-4F31-9578-70EBFE0B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902-62C7-4289-90F6-1CD3F54D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BD8-4974-4803-925F-8E6D4DAD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DC9-4AAA-42AE-A1E6-A2ED04CF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9E8-68E4-42DB-B032-9A3B904E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74E-B1C2-42E9-8901-48D17E5D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06B-1309-49B1-A87E-C568F954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2A82-3D3C-4454-B51D-DDEB4F7E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5DF-0681-4B1A-A25B-89944BC1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629-84D8-4AD1-B870-34B803A9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5352-A20A-448E-9265-20233CD28E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isunok1"/>
          <p:cNvPicPr/>
          <p:nvPr/>
        </p:nvPicPr>
        <p:blipFill>
          <a:blip r:embed="rId1"/>
          <a:stretch/>
        </p:blipFill>
        <p:spPr>
          <a:xfrm>
            <a:off x="0" y="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348000" y="1628640"/>
            <a:ext cx="4248360" cy="151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РОМАШКА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Picture 6" descr="46292817"/>
          <p:cNvPicPr/>
          <p:nvPr/>
        </p:nvPicPr>
        <p:blipFill>
          <a:blip r:embed="rId2"/>
          <a:stretch/>
        </p:blipFill>
        <p:spPr>
          <a:xfrm>
            <a:off x="3708360" y="2924280"/>
            <a:ext cx="1447920" cy="1504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1773360" y="4508640"/>
            <a:ext cx="659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Times New Roman"/>
              </a:rPr>
              <a:t>Летний оздоровитель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Times New Roman"/>
              </a:rPr>
              <a:t>лагерь  МОУ Варшавская СО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1187280" y="2924280"/>
            <a:ext cx="1663920" cy="168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5786280" y="2906640"/>
            <a:ext cx="1785960" cy="180504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ешной футб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570880" cy="64278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,кей ковбо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438280" y="226224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785440" cy="61423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нь скорби 22 ию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ло, мы ищем тал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ИСК КЛ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курс рисунко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МОЯ РОСС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ртивный ч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438280" y="226224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айте будем беречь прир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града ждет побед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63188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ила пожарной безопас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324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04:12:49Z</dcterms:created>
  <dc:creator>User</dc:creator>
  <dc:description/>
  <dc:language>en-US</dc:language>
  <cp:lastModifiedBy>Computer</cp:lastModifiedBy>
  <dcterms:modified xsi:type="dcterms:W3CDTF">2014-01-23T12:07:13Z</dcterms:modified>
  <cp:revision>31</cp:revision>
  <dc:subject/>
  <dc:title>Слайд 1</dc:title>
</cp:coreProperties>
</file>