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DCB-5248-418D-A7C0-11FB6416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99E-79DA-4C09-AA84-A708317D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08A-742D-4033-9D8C-037BDD98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BDD-3763-41CA-857C-75EA3FB1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78B2-4BEF-4378-926E-D334EF46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BB2C-D6FA-49F3-A5C8-F4337A12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08F7-8C2F-4700-AF6E-DA0EDB19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3F3D-2A60-4EA1-AB0A-411865A7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1D69-E8CA-4C58-9D67-2265B33E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0A19-A1E3-4510-B890-006F403F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B390-C53B-4625-A349-9DD02B47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B72-6DBD-49D2-8527-793777A2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2FB0-9CF1-40FB-8BEF-D8901562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407E-952C-4545-B229-B2D3C842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1349-3C24-4D5E-9A8E-1B9BF023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9060-CF10-4B21-98FC-EE642DB6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4AE4-A4BC-4C92-9401-B86E175F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F8E-ED2F-4E13-8517-FD5683D0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7F5-4EC4-4228-9332-28735FF8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463-B5E2-4400-999B-E8924D4A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1E4-1135-4DC1-B7C8-AB333002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DB4-A149-413E-B642-E11D7E2E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8D9-D23A-4268-8EAB-73F54B0A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781-F492-4A97-9F87-9063003B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6851-ED7E-4D04-B4D5-51AD21BAA2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D0AB-BBB6-432E-89FF-526DC2A0C6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276640"/>
            <a:ext cx="8064360" cy="223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ПРАЗДНИК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«Прощай, 1 класс».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3164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Учитель: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Замолотских С. 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колько рыбок здесь зеленых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309840" cy="1816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3310200" cy="1816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916360" y="4292640"/>
            <a:ext cx="33098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колько бабочек у нас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448000" cy="1512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908000" y="4508640"/>
            <a:ext cx="2159280" cy="1873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3132000" y="2133720"/>
            <a:ext cx="2446560" cy="1949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5292720" y="4365720"/>
            <a:ext cx="29512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колько здесь у нас  флажков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79640" y="2421000"/>
            <a:ext cx="6407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8709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Трудная задач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51847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айди лишнее слов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820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Берёза, малина, сосна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Воробей, стрекоза, ворона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Змея, белка, лиса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з вторых слогов составь другое слов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Стаканы, ножницы, кукуруза, малыш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Да здравствуют…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каникулы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2268360" y="260280"/>
          <a:ext cx="5112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0280"/>
                    <a:ext cx="5112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Вставить пропущенные буквы в слова. Какое правило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640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Ма__на,   пру__на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да__,      ро__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__чело,   __ка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соба__а,  но__о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акая буква лишняя и почему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84000" y="1989000"/>
            <a:ext cx="503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А   У   П   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Ш  Щ   Е   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Л   Н   Г   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БУС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32360" y="551628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ОДИН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40000" y="1125360"/>
            <a:ext cx="48988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БУС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360" y="551628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ДАРО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979640" y="1341360"/>
            <a:ext cx="48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БУС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32360" y="551628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АВГУС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35280" y="1557360"/>
            <a:ext cx="493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Буквы рассыпались. Прочитай названия животных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280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АБЛ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ОБКА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ИЛ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3280" y="2276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СОБА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ЛИ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6870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Физкультминут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612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20:09:07Z</dcterms:created>
  <dc:creator>1</dc:creator>
  <dc:description/>
  <dc:language>en-US</dc:language>
  <cp:lastModifiedBy>1</cp:lastModifiedBy>
  <dcterms:modified xsi:type="dcterms:W3CDTF">2010-05-20T21:28:22Z</dcterms:modified>
  <cp:revision>6</cp:revision>
  <dc:subject/>
  <dc:title>ПРАЗДНИК «Прощай, 1 класс».</dc:title>
</cp:coreProperties>
</file>