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1BAA-ECB0-4565-8DDF-9685025F1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5347-0A81-41A3-B87D-E11C2426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4F4D-3855-4542-8F44-DB9E849C9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71FF-7EB1-4173-B6D8-1F939E013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76C4-1C65-4254-B999-7B2EBFF0E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10AB-1399-4DA8-9F3E-9064FE04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5068-5314-41AE-A3B3-AD7283B4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D7A39-1479-4B0F-94FE-E007E0B8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4FF1-535C-45BF-AD61-C16B981A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B508-7D5A-4CDA-8695-D97C8F99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EC8A-3046-48A8-8567-1DE9172B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AB60-F3FB-461D-BA80-81B50C4D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9957-D5B1-4FCC-872D-D44E0344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743F-976A-4B7C-B5C9-C4B9DD98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87E4-E8D6-4E64-836B-35FA644A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1862-19E1-48BB-8A50-A091A58B3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C398-0F4D-44D5-A346-FE2689BB1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836B-6705-4E6A-A5F8-4C08263B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364D-D004-4829-85E4-284402BF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6614-1C01-43FE-B549-95DE6DA7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B3A4-FEDB-41AF-9812-A1A91F54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D064-384B-49F7-8ECE-56C79E1F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C3F4-5CE7-472C-B2DF-73776295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8D2C-C173-4BFF-A3A7-D57BEAA2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D278-3AB8-4376-A01B-DC99B5C2869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A094-E156-4223-A6B8-6C044CCFF60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280" y="2276640"/>
            <a:ext cx="8064360" cy="2232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ПРАЗДНИК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«Прощай, 1 класс».</a:t>
            </a:r>
            <a:endParaRPr b="0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31640" y="58543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Учитель: 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Замолотских С. 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0560" y="151920"/>
            <a:ext cx="7305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колько рыбок здесь зеленых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3309840" cy="18162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643280" y="1989000"/>
            <a:ext cx="3310200" cy="1816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2916360" y="4292640"/>
            <a:ext cx="330984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000" y="549360"/>
            <a:ext cx="6870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Сколько бабочек у нас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156360" y="2421000"/>
            <a:ext cx="2448000" cy="1512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1908000" y="4508640"/>
            <a:ext cx="2159280" cy="18730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>
            <a:lum contrast="24000"/>
          </a:blip>
          <a:stretch/>
        </p:blipFill>
        <p:spPr>
          <a:xfrm>
            <a:off x="3132000" y="2133720"/>
            <a:ext cx="2446560" cy="19494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5292720" y="4365720"/>
            <a:ext cx="295128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Сколько здесь у нас  флажков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979640" y="2421000"/>
            <a:ext cx="6407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687096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         </a:t>
            </a: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Трудная задачк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124000" y="981000"/>
            <a:ext cx="518472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687096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Найди лишнее слово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88200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dff"/>
                </a:solidFill>
                <a:latin typeface="Comic Sans MS"/>
              </a:rPr>
              <a:t>Берёза, малина, сосна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dff"/>
                </a:solidFill>
                <a:latin typeface="Comic Sans MS"/>
              </a:rPr>
              <a:t>Воробей, стрекоза, ворона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dff"/>
                </a:solidFill>
                <a:latin typeface="Comic Sans MS"/>
              </a:rPr>
              <a:t>Змея, белка, лиса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Из вторых слогов составь другое слово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9280" y="1828800"/>
            <a:ext cx="8964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Стаканы, ножницы, кукуруза, малыши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Да здравствуют…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каникулы!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2268360" y="260280"/>
          <a:ext cx="5112000" cy="659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260280"/>
                    <a:ext cx="5112000" cy="65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000" y="-316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Вставить пропущенные буквы в слова. Какое правило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58920" y="1773360"/>
            <a:ext cx="640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Ма__на,   пру__на,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да__,      ро__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__чело,   __ка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соба__а,  но__ой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Какая буква лишняя и почему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84000" y="1989000"/>
            <a:ext cx="5038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А   У   П   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Ш  Щ   Е   Ц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Л   Н   Г   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68706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РЕБУС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32360" y="5516280"/>
            <a:ext cx="3456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РОДИН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340000" y="1125360"/>
            <a:ext cx="489888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68706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РЕБУС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32360" y="5516280"/>
            <a:ext cx="3456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ПОДАРОК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979640" y="1341360"/>
            <a:ext cx="48974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68706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РЕБУС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32360" y="5516280"/>
            <a:ext cx="3456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АВГУСТ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835280" y="1557360"/>
            <a:ext cx="4933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Буквы рассыпались. Прочитай названия животных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2808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АБЛЕ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ОБКАС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ИЛС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3280" y="227664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БЕЛК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СОБАК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ЛИС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6870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Физкультминутка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124000" y="2060640"/>
            <a:ext cx="6120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20:09:07Z</dcterms:created>
  <dc:creator>1</dc:creator>
  <dc:description/>
  <dc:language>en-US</dc:language>
  <cp:lastModifiedBy>1</cp:lastModifiedBy>
  <dcterms:modified xsi:type="dcterms:W3CDTF">2010-05-20T21:28:22Z</dcterms:modified>
  <cp:revision>6</cp:revision>
  <dc:subject/>
  <dc:title>ПРАЗДНИК «Прощай, 1 класс».</dc:title>
</cp:coreProperties>
</file>