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67A38-5556-46E9-A61F-E59D8BEBFC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0C1CD-9C7C-4BF5-9A9E-8C5B72117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7A2D3-437B-4477-9A90-09218D4AF7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7EE41-713D-4BB1-8866-D9068DBF75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24B4D-2EFB-4A61-9CE9-7123683ED5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0A6C-F5F3-4B12-8DBE-8AC178BE7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1860-4B0B-4619-9854-249B2EECC4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E2457-9013-40FD-A02D-4593AF5E3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38EB4-381A-4AB8-82ED-4380FC9E7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80FA-3523-4886-9990-B502C62B3E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59223-E02F-44E5-BBC1-14934925EE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54A02-6E4B-4882-A72D-6FF88B671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A76DD-75AD-4368-868E-B8CE5EDFD9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ECA0C-4F0D-4F61-A359-EC39A0A8D9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764-C516-4E14-A095-B4E186AD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CFD-B462-4CA4-89B6-ACE15FC4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0B1-C368-4D03-B285-B39C68AC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0C8-9870-42E0-99FF-F3111AF3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883-F83E-40C0-830C-DA0DEE5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C55-935E-47D2-B07A-8F2E612B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B18-FD83-4C87-AF1C-4F6FF2C3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056-6754-4C5E-9325-6D3A9CE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8E8-BC3D-4BB0-A923-C240F2BF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44B-76E2-438C-A195-130E4B9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57A-06F9-4BD5-AEBB-7B82EB4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68D-F86E-478F-A2DA-1390E6D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AB8AF-18D2-418F-9394-E1DA8130B6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92000" y="649440"/>
            <a:ext cx="219744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b84700"/>
                </a:solidFill>
                <a:latin typeface="Arial"/>
              </a:rPr>
              <a:t>Ответы:</a:t>
            </a: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 1)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2)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3)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4)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5)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6)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7)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b84700"/>
                </a:solidFill>
                <a:latin typeface="Arial"/>
              </a:rPr>
              <a:t>8)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35640" y="766800"/>
            <a:ext cx="467964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55e00"/>
                </a:solidFill>
                <a:latin typeface="Arial"/>
              </a:rPr>
              <a:t>Критерии 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5 «+» оценк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6-7 «+» оценк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ecf00"/>
                </a:solidFill>
                <a:latin typeface="Arial"/>
              </a:rPr>
              <a:t>8 «+» оценк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008000" y="57636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7e0021"/>
                </a:solidFill>
                <a:latin typeface="Arial"/>
              </a:rPr>
              <a:t>алгоритм исследования функции f(x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найти область определения D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айти производную и критические то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найти промежутки монотон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точки экстремума и экстрему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очку пересечения с осью ОУ и несколько точек граф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построить график функции и указать множество значений функции E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952560" y="5310360"/>
            <a:ext cx="73994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66"/>
                </a:solidFill>
                <a:latin typeface="Arial"/>
              </a:rPr>
              <a:t>Исследуйте функцию и постройте график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248000" y="5688000"/>
            <a:ext cx="244800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1008000" y="57636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7e0021"/>
                </a:solidFill>
                <a:latin typeface="Arial"/>
              </a:rPr>
              <a:t>алгоритм исследования функции f(x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найти область определения D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айти производную и критические точ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найти промежутки монотон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точки экстремума и экстрему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очку пересечения с осью ОУ и несколько точек граф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построить график функции и указать множество значений функции E(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59480" y="3679920"/>
            <a:ext cx="7999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941400" y="5227560"/>
          <a:ext cx="8167680" cy="1765440"/>
        </p:xfrm>
        <a:graphic>
          <a:graphicData uri="http://schemas.openxmlformats.org/drawingml/2006/table">
            <a:tbl>
              <a:tblPr/>
              <a:tblGrid>
                <a:gridCol w="4081320"/>
                <a:gridCol w="4086360"/>
              </a:tblGrid>
              <a:tr h="1765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1368360" y="568800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5319720" y="5819760"/>
            <a:ext cx="2023920" cy="5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606920" y="3726000"/>
            <a:ext cx="4465800" cy="1096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936720" y="2502000"/>
            <a:ext cx="76309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следовать с помощью производной и построить график функ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240000" y="1563840"/>
            <a:ext cx="41036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0000" y="1511280"/>
            <a:ext cx="3672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3024360" y="1295280"/>
            <a:ext cx="3671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592360" y="1152360"/>
            <a:ext cx="44640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08360" y="1800360"/>
            <a:ext cx="424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592360" y="1224000"/>
            <a:ext cx="4680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76360" y="1152360"/>
            <a:ext cx="8567640" cy="5237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792000" y="360360"/>
            <a:ext cx="2160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792000" y="1224000"/>
            <a:ext cx="871236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647640" y="287280"/>
            <a:ext cx="1871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6:19:15Z</dcterms:created>
  <dc:creator>User</dc:creator>
  <dc:description/>
  <dc:language>en-US</dc:language>
  <cp:lastModifiedBy>User</cp:lastModifiedBy>
  <dcterms:modified xsi:type="dcterms:W3CDTF">2014-01-23T06:20:24Z</dcterms:modified>
  <cp:revision>1</cp:revision>
  <dc:subject/>
  <dc:title>Презентация PowerPoint</dc:title>
</cp:coreProperties>
</file>