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FEDC4-28B2-491E-931A-49676B2BD3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6D2C2-A649-4F7C-B4E0-0D8D5D0327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A3F84-DC65-4140-8339-2A67099487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E0985-C2E2-4A45-B455-92C710CF69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C6FCC-738C-4E12-8EC9-27049E6AEE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ACBB0-03C3-4987-8FA5-7756755AE1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4CDF9-5658-4B41-B20A-8A488BA286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AF83D-4636-4D2D-9506-A66CAC2EF5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C1E52-E7FF-4001-89A1-7335604AE6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23456-2F1F-40C2-8ED7-EFCA4A65D1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A5D1D-42E3-45D9-93F2-AB2BAC9640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B406D-CCC6-413D-9371-B610643E51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C1D59-DEB3-45A8-ADD0-EC5688A7BE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2780C-E894-4B37-BE25-FAAE33B031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3B32-A089-45FE-9DDA-7595EE25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991F-F6B8-4AD5-A04D-397CE4EA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BF52-9643-47F8-8933-6D346891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F0FC-61B8-4A0E-972E-E4748A87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911B-308B-44E4-A71C-CA2D4474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1D33-ECE2-42C0-9D95-D283A026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B436-6BD0-4D8D-AE65-280A169F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64FC-F31C-45E8-B8EA-DB84CF31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E741-FB1E-410A-9AF2-36B67F55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4AB8-D026-46C5-ABA3-C33B5B22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15F6-2CC5-4761-AE24-9163B3C4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F1FE-6056-4249-9132-9FB3C97A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CC387-A3A6-40DA-8677-17858480B3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792000" y="649440"/>
            <a:ext cx="2197440" cy="60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b84700"/>
                </a:solidFill>
                <a:latin typeface="Arial"/>
              </a:rPr>
              <a:t>Ответы:</a:t>
            </a:r>
            <a:r>
              <a:rPr b="0" lang="ru-RU" sz="3600" spc="-1" strike="noStrike">
                <a:solidFill>
                  <a:srgbClr val="b84700"/>
                </a:solidFill>
                <a:latin typeface="Arial"/>
              </a:rPr>
              <a:t> 1)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b84700"/>
                </a:solidFill>
                <a:latin typeface="Arial"/>
              </a:rPr>
              <a:t>2)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b84700"/>
                </a:solidFill>
                <a:latin typeface="Arial"/>
              </a:rPr>
              <a:t>3)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b84700"/>
                </a:solidFill>
                <a:latin typeface="Arial"/>
              </a:rPr>
              <a:t>4)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b84700"/>
                </a:solidFill>
                <a:latin typeface="Arial"/>
              </a:rPr>
              <a:t>5)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b84700"/>
                </a:solidFill>
                <a:latin typeface="Arial"/>
              </a:rPr>
              <a:t>6)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b84700"/>
                </a:solidFill>
                <a:latin typeface="Arial"/>
              </a:rPr>
              <a:t>7)7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b84700"/>
                </a:solidFill>
                <a:latin typeface="Arial"/>
              </a:rPr>
              <a:t>8)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4535640" y="766800"/>
            <a:ext cx="4679640" cy="33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55e00"/>
                </a:solidFill>
                <a:latin typeface="Arial"/>
              </a:rPr>
              <a:t>Критерии оцен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aecf00"/>
                </a:solidFill>
                <a:latin typeface="Arial"/>
              </a:rPr>
              <a:t>5 «+» оценка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aecf00"/>
                </a:solidFill>
                <a:latin typeface="Arial"/>
              </a:rPr>
              <a:t>6-7 «+» оценка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aecf00"/>
                </a:solidFill>
                <a:latin typeface="Arial"/>
              </a:rPr>
              <a:t>8 «+» оценка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1008000" y="576360"/>
            <a:ext cx="8207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7e0021"/>
                </a:solidFill>
                <a:latin typeface="Arial"/>
              </a:rPr>
              <a:t>алгоритм исследования функции f(x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найти область определения D(F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найти производную и критические точ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найти промежутки монотонност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точки экстремума и экстрему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5. точку пересечения с осью ОУ и несколько точек графи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6. построить график функции и указать множество значений функции E(f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952560" y="5310360"/>
            <a:ext cx="739944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66"/>
                </a:solidFill>
                <a:latin typeface="Arial"/>
              </a:rPr>
              <a:t>Исследуйте функцию и постройте график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4248000" y="5688000"/>
            <a:ext cx="2448000" cy="9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1008000" y="576360"/>
            <a:ext cx="8207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7e0021"/>
                </a:solidFill>
                <a:latin typeface="Arial"/>
              </a:rPr>
              <a:t>алгоритм исследования функции f(x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найти область определения D(F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найти производную и критические точ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найти промежутки монотонност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точки экстремума и экстрему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5. точку пересечения с осью ОУ и несколько точек графи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6. построить график функции и указать множество значений функции E(f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659480" y="3679920"/>
            <a:ext cx="799920" cy="2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941400" y="5227560"/>
          <a:ext cx="8167680" cy="1765440"/>
        </p:xfrm>
        <a:graphic>
          <a:graphicData uri="http://schemas.openxmlformats.org/drawingml/2006/table">
            <a:tbl>
              <a:tblPr/>
              <a:tblGrid>
                <a:gridCol w="4081320"/>
                <a:gridCol w="4086360"/>
              </a:tblGrid>
              <a:tr h="17654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  <p:pic>
        <p:nvPicPr>
          <p:cNvPr id="67" name="Picture 13" descr=""/>
          <p:cNvPicPr/>
          <p:nvPr/>
        </p:nvPicPr>
        <p:blipFill>
          <a:blip r:embed="rId2"/>
          <a:stretch/>
        </p:blipFill>
        <p:spPr>
          <a:xfrm>
            <a:off x="1368360" y="5688000"/>
            <a:ext cx="2160720" cy="720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"/>
          <p:cNvPicPr/>
          <p:nvPr/>
        </p:nvPicPr>
        <p:blipFill>
          <a:blip r:embed="rId3"/>
          <a:stretch/>
        </p:blipFill>
        <p:spPr>
          <a:xfrm>
            <a:off x="5319720" y="5819760"/>
            <a:ext cx="2023920" cy="5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606920" y="3726000"/>
            <a:ext cx="4465800" cy="10969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936720" y="2502000"/>
            <a:ext cx="763092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следовать с помощью производной и построить график функц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240000" y="1563840"/>
            <a:ext cx="4103640" cy="40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240000" y="1511280"/>
            <a:ext cx="367200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3024360" y="1295280"/>
            <a:ext cx="36716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2592360" y="1152360"/>
            <a:ext cx="4464000" cy="47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2808360" y="1800360"/>
            <a:ext cx="4248000" cy="43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2592360" y="1224000"/>
            <a:ext cx="4680000" cy="45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576360" y="1152360"/>
            <a:ext cx="8567640" cy="52372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"/>
          <p:cNvSpPr/>
          <p:nvPr/>
        </p:nvSpPr>
        <p:spPr>
          <a:xfrm>
            <a:off x="792000" y="360360"/>
            <a:ext cx="2160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792000" y="1224000"/>
            <a:ext cx="8712360" cy="3887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"/>
          <p:cNvSpPr/>
          <p:nvPr/>
        </p:nvSpPr>
        <p:spPr>
          <a:xfrm>
            <a:off x="647640" y="287280"/>
            <a:ext cx="18716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06:19:15Z</dcterms:created>
  <dc:creator>User</dc:creator>
  <dc:description/>
  <dc:language>en-US</dc:language>
  <cp:lastModifiedBy>User</cp:lastModifiedBy>
  <dcterms:modified xsi:type="dcterms:W3CDTF">2014-01-23T06:20:24Z</dcterms:modified>
  <cp:revision>1</cp:revision>
  <dc:subject/>
  <dc:title>Презентация PowerPoint</dc:title>
</cp:coreProperties>
</file>