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5D08-5E18-4724-80F8-C8EA37AE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2017-0F0D-41A3-B2CC-BAF9FAE3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7E6D-A67C-48EB-AF1C-4F529EAB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403-38E0-4AD3-AA6F-66B0C116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E520-A9A6-44A9-86CF-E48921E3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AA54-2A9C-44D6-ADB2-B471DB89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40A-7EFC-4BF2-8486-DF5AE167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028-188E-4216-94CC-A00A1BD7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C77-1B3C-4FFB-957E-0F027AB5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42B-45B1-4DE3-B688-2B16A2F5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6212-8D50-458E-B252-2D3C7AAB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894-FC0F-4C73-A846-B125FF5B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BA1B-A2B9-435C-B625-FB2DB30B80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алексей\Desktop\2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алексей\Desktop\Tan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3" descr=""/>
          <p:cNvPicPr/>
          <p:nvPr/>
        </p:nvPicPr>
        <p:blipFill>
          <a:blip r:embed="rId3"/>
          <a:stretch/>
        </p:blipFill>
        <p:spPr>
          <a:xfrm>
            <a:off x="-317520" y="-171360"/>
            <a:ext cx="55911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алексей\Desktop\1324449543-2403358-001706_www_nevseoboi_com_u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алексей\Desktop\air-missile-0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3" descr=""/>
          <p:cNvPicPr/>
          <p:nvPr/>
        </p:nvPicPr>
        <p:blipFill>
          <a:blip r:embed="rId3"/>
          <a:stretch/>
        </p:blipFill>
        <p:spPr>
          <a:xfrm>
            <a:off x="1305000" y="-171360"/>
            <a:ext cx="6053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алексей\Desktop\1219930838_1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алексей\Desktop\47473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3" descr=""/>
          <p:cNvPicPr/>
          <p:nvPr/>
        </p:nvPicPr>
        <p:blipFill>
          <a:blip r:embed="rId3"/>
          <a:stretch/>
        </p:blipFill>
        <p:spPr>
          <a:xfrm>
            <a:off x="-334800" y="-171360"/>
            <a:ext cx="35287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алексей\Desktop\1553408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3" descr=""/>
          <p:cNvPicPr/>
          <p:nvPr/>
        </p:nvPicPr>
        <p:blipFill>
          <a:blip r:embed="rId3"/>
          <a:stretch/>
        </p:blipFill>
        <p:spPr>
          <a:xfrm>
            <a:off x="1219320" y="-171360"/>
            <a:ext cx="41018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алексей\Desktop\4-1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3" descr=""/>
          <p:cNvPicPr/>
          <p:nvPr/>
        </p:nvPicPr>
        <p:blipFill>
          <a:blip r:embed="rId3"/>
          <a:stretch/>
        </p:blipFill>
        <p:spPr>
          <a:xfrm>
            <a:off x="-328680" y="-171360"/>
            <a:ext cx="580248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алексей\Desktop\1306556518_000000301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алексей\Desktop\1566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3" descr=""/>
          <p:cNvPicPr/>
          <p:nvPr/>
        </p:nvPicPr>
        <p:blipFill>
          <a:blip r:embed="rId3"/>
          <a:stretch/>
        </p:blipFill>
        <p:spPr>
          <a:xfrm>
            <a:off x="-334800" y="-171360"/>
            <a:ext cx="43574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алексей\Desktop\1333979398_0923_250x2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3" descr=""/>
          <p:cNvPicPr/>
          <p:nvPr/>
        </p:nvPicPr>
        <p:blipFill>
          <a:blip r:embed="rId3"/>
          <a:stretch/>
        </p:blipFill>
        <p:spPr>
          <a:xfrm>
            <a:off x="3224160" y="-171360"/>
            <a:ext cx="32130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алексей\Desktop\022130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3" descr=""/>
          <p:cNvPicPr/>
          <p:nvPr/>
        </p:nvPicPr>
        <p:blipFill>
          <a:blip r:embed="rId3"/>
          <a:stretch/>
        </p:blipFill>
        <p:spPr>
          <a:xfrm>
            <a:off x="1231920" y="158760"/>
            <a:ext cx="68389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алексей\Desktop\photo_10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алексей\Desktop\2566655_b24e91c3157e7225b6dad009bb3ecfb9_33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алексей\Desktop\e9efab066bf9c4df7d6656bbc41e649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алексей\Desktop\61899171_1279907371_0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3" descr=""/>
          <p:cNvPicPr/>
          <p:nvPr/>
        </p:nvPicPr>
        <p:blipFill>
          <a:blip r:embed="rId3"/>
          <a:stretch/>
        </p:blipFill>
        <p:spPr>
          <a:xfrm>
            <a:off x="950760" y="12600"/>
            <a:ext cx="703440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алексей\Desktop\jak_130_8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3" descr=""/>
          <p:cNvPicPr/>
          <p:nvPr/>
        </p:nvPicPr>
        <p:blipFill>
          <a:blip r:embed="rId3"/>
          <a:stretch/>
        </p:blipFill>
        <p:spPr>
          <a:xfrm>
            <a:off x="2451240" y="-171360"/>
            <a:ext cx="699768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алексей\Desktop\XLoivCWQ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алексей\Desktop\a400mheadon10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алексей\Desktop\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алексей\Desktop\7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3" descr=""/>
          <p:cNvPicPr/>
          <p:nvPr/>
        </p:nvPicPr>
        <p:blipFill>
          <a:blip r:embed="rId3"/>
          <a:stretch/>
        </p:blipFill>
        <p:spPr>
          <a:xfrm>
            <a:off x="1023840" y="-171360"/>
            <a:ext cx="70232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алексей\Desktop\1306334568_bubble_brushes_by_edelih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алексей\Desktop\800px-Chinook_ch-47d_d-101_rnethaf_ar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13:42:38Z</dcterms:created>
  <dc:creator>алексей</dc:creator>
  <dc:description/>
  <dc:language>en-US</dc:language>
  <cp:lastModifiedBy>алексей</cp:lastModifiedBy>
  <dcterms:modified xsi:type="dcterms:W3CDTF">2014-01-23T13:25:56Z</dcterms:modified>
  <cp:revision>10</cp:revision>
  <dc:subject/>
  <dc:title>Слайд 1</dc:title>
</cp:coreProperties>
</file>