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3CA-0648-495D-8239-10C3ADF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B2D-F1DF-4DBF-A262-BC4442F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34-9CF7-4739-98C7-2E7E41FB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063-FF0B-49D6-AC06-C4FF3CA7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7CD-E474-4E0D-91C9-23087B8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B5C-A57D-4F79-9C47-012496E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B2A-07AC-41B2-B733-D81C872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F0C-D150-4473-91E4-085FDC2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616-4B6C-43A9-8EE5-02BE8BB0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9C7-336D-4499-9D4F-0F4201C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2AE-6F2D-4ADA-BE96-FC829B3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96C-E9F7-4F65-97BB-4BFE259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D9B3-DE15-4A08-80C7-B63E44CEC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алексей\Desktop\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алексей\Desktop\Tan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-317520" y="-171360"/>
            <a:ext cx="5591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алексей\Desktop\1324449543-2403358-001706_www_nevseoboi_com_u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алексей\Desktop\air-missile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3"/>
          <a:stretch/>
        </p:blipFill>
        <p:spPr>
          <a:xfrm>
            <a:off x="1305000" y="-171360"/>
            <a:ext cx="6053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алексей\Desktop\1219930838_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алексей\Desktop\4747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3"/>
          <a:stretch/>
        </p:blipFill>
        <p:spPr>
          <a:xfrm>
            <a:off x="-334800" y="-171360"/>
            <a:ext cx="35287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алексей\Desktop\155340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3"/>
          <a:stretch/>
        </p:blipFill>
        <p:spPr>
          <a:xfrm>
            <a:off x="1219320" y="-171360"/>
            <a:ext cx="4101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алексей\Desktop\4-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" descr=""/>
          <p:cNvPicPr/>
          <p:nvPr/>
        </p:nvPicPr>
        <p:blipFill>
          <a:blip r:embed="rId3"/>
          <a:stretch/>
        </p:blipFill>
        <p:spPr>
          <a:xfrm>
            <a:off x="-328680" y="-171360"/>
            <a:ext cx="58024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алексей\Desktop\1306556518_00000030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алексей\Desktop\1566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" descr=""/>
          <p:cNvPicPr/>
          <p:nvPr/>
        </p:nvPicPr>
        <p:blipFill>
          <a:blip r:embed="rId3"/>
          <a:stretch/>
        </p:blipFill>
        <p:spPr>
          <a:xfrm>
            <a:off x="-334800" y="-171360"/>
            <a:ext cx="4357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алексей\Desktop\1333979398_0923_250x2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" descr=""/>
          <p:cNvPicPr/>
          <p:nvPr/>
        </p:nvPicPr>
        <p:blipFill>
          <a:blip r:embed="rId3"/>
          <a:stretch/>
        </p:blipFill>
        <p:spPr>
          <a:xfrm>
            <a:off x="3224160" y="-171360"/>
            <a:ext cx="3213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алексей\Desktop\022130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1231920" y="158760"/>
            <a:ext cx="68389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алексей\Desktop\photo_10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алексей\Desktop\2566655_b24e91c3157e7225b6dad009bb3ecfb9_3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алексей\Desktop\e9efab066bf9c4df7d6656bbc41e649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алексей\Desktop\61899171_1279907371_0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3"/>
          <a:stretch/>
        </p:blipFill>
        <p:spPr>
          <a:xfrm>
            <a:off x="950760" y="12600"/>
            <a:ext cx="70344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алексей\Desktop\jak_130_8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3"/>
          <a:stretch/>
        </p:blipFill>
        <p:spPr>
          <a:xfrm>
            <a:off x="2451240" y="-171360"/>
            <a:ext cx="69976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алексей\Desktop\XLoivCWQ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ей\Desktop\a400mheadon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алексей\Desktop\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алексей\Desktop\7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1023840" y="-171360"/>
            <a:ext cx="7023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алексей\Desktop\800px-Chinook_ch-47d_d-101_rnethaf_ar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3:42:38Z</dcterms:created>
  <dc:creator>алексей</dc:creator>
  <dc:description/>
  <dc:language>en-US</dc:language>
  <cp:lastModifiedBy>алексей</cp:lastModifiedBy>
  <dcterms:modified xsi:type="dcterms:W3CDTF">2014-01-23T13:25:56Z</dcterms:modified>
  <cp:revision>10</cp:revision>
  <dc:subject/>
  <dc:title>Слайд 1</dc:title>
</cp:coreProperties>
</file>