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5.png" ContentType="image/png"/>
  <Override PartName="/ppt/media/image5.jpeg" ContentType="image/jpeg"/>
  <Override PartName="/ppt/media/image10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55F0-3B44-48FD-989E-6294C85A2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41B9-78E9-40C3-B760-5BE95EC64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8D52-75A4-48C1-AD3F-A8B7524CC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E3DE-2192-46ED-9520-73D0DEAC9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F9A6-FE89-42EA-B78A-16D3DD5EF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E25D-F0D9-49F9-8E9A-9C4A1C4C8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A8E2-5CC9-4F17-9801-99B566847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FC43-FA16-4311-BBE9-936F78682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2A09-B47F-422B-A86A-67F062952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1B58-700C-488F-894D-01EC102F2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543C-57A8-41F6-80AA-46F86B2E9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A4EB-068D-4E0C-A326-B5F239916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062FB-05A8-4EA1-B33E-346704CDE9C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09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800080"/>
                </a:solidFill>
                <a:latin typeface="Comic Sans MS"/>
                <a:ea typeface="Cambria Math"/>
              </a:rPr>
              <a:t>Разнообразие веществ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395280" y="3898800"/>
            <a:ext cx="1800360" cy="27352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 rot="457200">
            <a:off x="7354440" y="2117520"/>
            <a:ext cx="1666800" cy="1493640"/>
          </a:xfrm>
          <a:prstGeom prst="rect">
            <a:avLst/>
          </a:prstGeom>
          <a:ln w="0">
            <a:noFill/>
          </a:ln>
        </p:spPr>
      </p:pic>
      <p:sp>
        <p:nvSpPr>
          <p:cNvPr id="44" name="Прямоугольник 4"/>
          <p:cNvSpPr/>
          <p:nvPr/>
        </p:nvSpPr>
        <p:spPr>
          <a:xfrm>
            <a:off x="179280" y="2862360"/>
            <a:ext cx="72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Georgia"/>
              </a:rPr>
              <a:t>Презентация к уроку окружающего мира в 3 класс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5"/>
          <p:cNvSpPr/>
          <p:nvPr/>
        </p:nvSpPr>
        <p:spPr>
          <a:xfrm>
            <a:off x="2411280" y="3716280"/>
            <a:ext cx="6264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Georgia"/>
              </a:rPr>
              <a:t>С использованием современных педагогических технологий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технология проблемного обучения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игровые технолог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Georgia"/>
              </a:rPr>
              <a:t>Подготовила: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линина Татьяна Андре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Georgia"/>
              </a:rPr>
              <a:t>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БОУ гимназия №642 "Земля и Вселенная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80"/>
                </a:solidFill>
                <a:latin typeface="Comic Sans MS"/>
              </a:rPr>
              <a:t>Тростниковый саха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4" descr="http://e-da.tv/static/receipts/ingredients/Sugar-cane.png"/>
          <p:cNvPicPr/>
          <p:nvPr/>
        </p:nvPicPr>
        <p:blipFill>
          <a:blip r:embed="rId1"/>
          <a:stretch/>
        </p:blipFill>
        <p:spPr>
          <a:xfrm>
            <a:off x="5219640" y="692280"/>
            <a:ext cx="4530960" cy="45306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" descr="http://www.nazeleno.cz/Files/FckGallery/Cukry.zip/cukr.jpg"/>
          <p:cNvPicPr/>
          <p:nvPr/>
        </p:nvPicPr>
        <p:blipFill>
          <a:blip r:embed="rId2"/>
          <a:stretch/>
        </p:blipFill>
        <p:spPr>
          <a:xfrm>
            <a:off x="179280" y="2565360"/>
            <a:ext cx="4910400" cy="3068640"/>
          </a:xfrm>
          <a:prstGeom prst="rect">
            <a:avLst/>
          </a:prstGeom>
          <a:ln w="0">
            <a:noFill/>
          </a:ln>
        </p:spPr>
      </p:pic>
    </p:spTree>
  </p:cSld>
  <p:transition spd="med">
    <p:pull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08080" y="124920"/>
            <a:ext cx="3571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80"/>
                </a:solidFill>
                <a:latin typeface="Comic Sans MS"/>
                <a:ea typeface="Arial"/>
              </a:rPr>
              <a:t>Сахарная свёкл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2" descr="http://www.altairegion22.ru/upload/import_images/gallery/general/640.SVEKLA.jpg"/>
          <p:cNvPicPr/>
          <p:nvPr/>
        </p:nvPicPr>
        <p:blipFill>
          <a:blip r:embed="rId1"/>
          <a:stretch/>
        </p:blipFill>
        <p:spPr>
          <a:xfrm>
            <a:off x="4427640" y="3284640"/>
            <a:ext cx="4589280" cy="34495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http://www.bh-froe.com/ZC/images/roe.jpeg"/>
          <p:cNvPicPr/>
          <p:nvPr/>
        </p:nvPicPr>
        <p:blipFill>
          <a:blip r:embed="rId2"/>
          <a:stretch/>
        </p:blipFill>
        <p:spPr>
          <a:xfrm>
            <a:off x="4427640" y="120600"/>
            <a:ext cx="4554360" cy="30924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http://www.nest.by/files/imagecache/image_node/images/saxarnaja_svekla_advis.ru_0.jpg"/>
          <p:cNvPicPr/>
          <p:nvPr/>
        </p:nvPicPr>
        <p:blipFill>
          <a:blip r:embed="rId3"/>
          <a:stretch/>
        </p:blipFill>
        <p:spPr>
          <a:xfrm>
            <a:off x="214200" y="1428840"/>
            <a:ext cx="3772080" cy="4714920"/>
          </a:xfrm>
          <a:prstGeom prst="rect">
            <a:avLst/>
          </a:prstGeom>
          <a:ln w="0">
            <a:noFill/>
          </a:ln>
        </p:spPr>
      </p:pic>
    </p:spTree>
  </p:cSld>
  <p:transition spd="med">
    <p:pull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80"/>
                </a:solidFill>
                <a:latin typeface="Comic Sans MS"/>
              </a:rPr>
              <a:t>Глюкоз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0" y="85716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Comic Sans MS"/>
              </a:rPr>
              <a:t>Ещё есть в природе сладкое вещество: </a:t>
            </a:r>
            <a:r>
              <a:rPr b="1" lang="ru-RU" sz="4300" spc="-1" strike="noStrike">
                <a:solidFill>
                  <a:srgbClr val="ff0000"/>
                </a:solidFill>
                <a:latin typeface="Comic Sans MS"/>
              </a:rPr>
              <a:t>глюкоза. </a:t>
            </a:r>
            <a:r>
              <a:rPr b="1" lang="ru-RU" sz="3200" spc="-1" strike="noStrike">
                <a:solidFill>
                  <a:srgbClr val="660066"/>
                </a:solidFill>
                <a:latin typeface="Comic Sans MS"/>
              </a:rPr>
              <a:t>Это разновидность сахара. В природе содержится в различных частях растений. Особенно богаты глюкозой плоды винограда и виноградный сок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4" descr="http://img1.liveinternet.ru/images/attach/c/6/91/330/91330215_4121583_E08qYq4PSu.jpg"/>
          <p:cNvPicPr/>
          <p:nvPr/>
        </p:nvPicPr>
        <p:blipFill>
          <a:blip r:embed="rId1"/>
          <a:stretch/>
        </p:blipFill>
        <p:spPr>
          <a:xfrm>
            <a:off x="5643720" y="3714840"/>
            <a:ext cx="3090600" cy="30906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7" descr="http://www.look.com.ua/download.php?file=201210/800x600/look.com.ua-49490.jpg"/>
          <p:cNvPicPr/>
          <p:nvPr/>
        </p:nvPicPr>
        <p:blipFill>
          <a:blip r:embed="rId2"/>
          <a:stretch/>
        </p:blipFill>
        <p:spPr>
          <a:xfrm>
            <a:off x="642960" y="3714840"/>
            <a:ext cx="3929040" cy="2950920"/>
          </a:xfrm>
          <a:prstGeom prst="rect">
            <a:avLst/>
          </a:prstGeom>
          <a:ln w="0">
            <a:noFill/>
          </a:ln>
        </p:spPr>
      </p:pic>
    </p:spTree>
  </p:cSld>
  <p:transition spd="med">
    <p:pull dir="l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П р о в е р ь  с е б я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0" y="764640"/>
            <a:ext cx="91440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  <a:ea typeface="Arial"/>
              </a:rPr>
              <a:t>Назовите главные свойства поваренной соли и сахара. Где эти вещества встречаются в природе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  <a:ea typeface="Arial"/>
              </a:rPr>
              <a:t>Что представляет собой крахмал?  Как обнаружить его в продуктах питания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  <a:ea typeface="Arial"/>
              </a:rPr>
              <a:t>Какие кислоты встречаются в природе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  <a:ea typeface="Arial"/>
              </a:rPr>
              <a:t>Какое общее свойство этих веществ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  <a:ea typeface="Arial"/>
              </a:rPr>
              <a:t>Почему с кислотами нужно обращаться осторожно?  Можно ли пробовать на вкус любую кислоту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  <a:ea typeface="Arial"/>
              </a:rPr>
              <a:t>Что такое кислотные дожди? В чём их опасность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pull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0" y="-360"/>
            <a:ext cx="914400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66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Arial"/>
                <a:ea typeface="Arial"/>
              </a:rPr>
              <a:t>На свете очень много различных веществ. Одни из них существуют в природа, а другие созданы искусственно (например, пластмассы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66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Arial"/>
                <a:ea typeface="Arial"/>
              </a:rPr>
              <a:t>С некоторыми из них мы встречаемся каждый день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66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66"/>
                </a:solidFill>
                <a:latin typeface="Arial"/>
                <a:ea typeface="Arial"/>
              </a:rPr>
              <a:t>Вещества изучает наука – </a:t>
            </a:r>
            <a:r>
              <a:rPr b="1" lang="ru-RU" sz="4000" spc="-1" strike="noStrike">
                <a:solidFill>
                  <a:srgbClr val="ff0000"/>
                </a:solidFill>
                <a:latin typeface="Comic Sans MS"/>
                <a:ea typeface="Arial"/>
              </a:rPr>
              <a:t>химия</a:t>
            </a:r>
            <a:r>
              <a:rPr b="1" lang="ru-RU" sz="3200" spc="-1" strike="noStrike">
                <a:solidFill>
                  <a:srgbClr val="660066"/>
                </a:solidFill>
                <a:latin typeface="Arial"/>
                <a:ea typeface="Arial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pull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66"/>
                </a:solidFill>
                <a:latin typeface="Comic Sans MS"/>
              </a:rPr>
              <a:t>Давайте отправимся на </a:t>
            </a: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кухн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6" descr="http://novye-kuhni.ru/d/703-1/novye-kuhni278.jpg"/>
          <p:cNvPicPr/>
          <p:nvPr/>
        </p:nvPicPr>
        <p:blipFill>
          <a:blip r:embed="rId1"/>
          <a:stretch/>
        </p:blipFill>
        <p:spPr>
          <a:xfrm>
            <a:off x="714240" y="981000"/>
            <a:ext cx="7602840" cy="5715000"/>
          </a:xfrm>
          <a:prstGeom prst="rect">
            <a:avLst/>
          </a:prstGeom>
          <a:ln w="0">
            <a:noFill/>
          </a:ln>
        </p:spPr>
      </p:pic>
    </p:spTree>
  </p:cSld>
  <p:transition spd="med">
    <p:pull dir="ld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Arial"/>
                <a:ea typeface="Arial"/>
              </a:rPr>
              <a:t>Меня не едят –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Arial"/>
                <a:ea typeface="Arial"/>
              </a:rPr>
              <a:t>И без меня  мало едя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Arial"/>
                <a:ea typeface="Arial"/>
              </a:rPr>
              <a:t>Я бел, как снег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Arial"/>
                <a:ea typeface="Arial"/>
              </a:rPr>
              <a:t>В чести у всех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Arial"/>
                <a:ea typeface="Arial"/>
              </a:rPr>
              <a:t>В рот попал –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Arial"/>
                <a:ea typeface="Arial"/>
              </a:rPr>
              <a:t>Там и пропал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Прямоугольник 3"/>
          <p:cNvSpPr/>
          <p:nvPr/>
        </p:nvSpPr>
        <p:spPr>
          <a:xfrm>
            <a:off x="3143160" y="2000160"/>
            <a:ext cx="242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omic Sans MS"/>
              </a:rPr>
              <a:t>сол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4"/>
          <p:cNvSpPr/>
          <p:nvPr/>
        </p:nvSpPr>
        <p:spPr>
          <a:xfrm>
            <a:off x="4929120" y="6149880"/>
            <a:ext cx="242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omic Sans MS"/>
              </a:rPr>
              <a:t>саха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http://obzhora.net/uploads/posts/2012-06/1339966458_sahar1.jpg"/>
          <p:cNvPicPr/>
          <p:nvPr/>
        </p:nvPicPr>
        <p:blipFill>
          <a:blip r:embed="rId1"/>
          <a:stretch/>
        </p:blipFill>
        <p:spPr>
          <a:xfrm>
            <a:off x="4500720" y="3214800"/>
            <a:ext cx="3233520" cy="29448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http://www.profi-forex.org/system/news/A07_11.jpg"/>
          <p:cNvPicPr/>
          <p:nvPr/>
        </p:nvPicPr>
        <p:blipFill>
          <a:blip r:embed="rId2"/>
          <a:stretch/>
        </p:blipFill>
        <p:spPr>
          <a:xfrm>
            <a:off x="5357880" y="214200"/>
            <a:ext cx="3733560" cy="2486160"/>
          </a:xfrm>
          <a:prstGeom prst="rect">
            <a:avLst/>
          </a:prstGeom>
          <a:ln w="0">
            <a:noFill/>
          </a:ln>
        </p:spPr>
      </p:pic>
    </p:spTree>
  </p:cSld>
  <p:transition spd="med">
    <p:pull dir="ld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80"/>
                </a:solidFill>
                <a:latin typeface="Comic Sans MS"/>
              </a:rPr>
              <a:t>Поваренная соль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0" y="928440"/>
            <a:ext cx="91440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Arial"/>
                <a:ea typeface="Arial"/>
              </a:rPr>
              <a:t>Поваренная</a:t>
            </a:r>
            <a:r>
              <a:rPr b="1" lang="ru-RU" sz="3200" spc="-1" strike="noStrike">
                <a:solidFill>
                  <a:srgbClr val="800080"/>
                </a:solidFill>
                <a:latin typeface="Comic Sans MS"/>
              </a:rPr>
              <a:t> </a:t>
            </a:r>
            <a:r>
              <a:rPr b="1" lang="ru-RU" sz="3200" spc="-1" strike="noStrike">
                <a:solidFill>
                  <a:srgbClr val="660066"/>
                </a:solidFill>
                <a:latin typeface="Arial"/>
                <a:ea typeface="Arial"/>
              </a:rPr>
              <a:t>соль – это одна из минеральных солей, встречающихся в природе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Arial"/>
                <a:ea typeface="Arial"/>
              </a:rPr>
              <a:t>Самое важное для человека свойство соли – то, что она солёная на вкус. Поэтому  её используют для подсаливания пищи. В природе поваренная соль встречается не только под землёй. Она содержится в морской воде, в почве, в телах живых организмов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pull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3780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80"/>
                </a:solidFill>
                <a:latin typeface="Comic Sans MS"/>
                <a:ea typeface="Arial"/>
              </a:rPr>
              <a:t>Соль в природ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Прямоугольник 4"/>
          <p:cNvSpPr/>
          <p:nvPr/>
        </p:nvSpPr>
        <p:spPr>
          <a:xfrm>
            <a:off x="5435640" y="2997360"/>
            <a:ext cx="353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mic Sans MS"/>
                <a:ea typeface="Arial"/>
              </a:rPr>
              <a:t>Морская со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http://www.cosmetika-morya.ru/_files/menu/2/6_full.jpg"/>
          <p:cNvPicPr/>
          <p:nvPr/>
        </p:nvPicPr>
        <p:blipFill>
          <a:blip r:embed="rId1"/>
          <a:stretch/>
        </p:blipFill>
        <p:spPr>
          <a:xfrm>
            <a:off x="4932360" y="3645000"/>
            <a:ext cx="4103640" cy="3078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http://ukrmap.su/program2010/g8/g8_18_files/image004.gif"/>
          <p:cNvPicPr/>
          <p:nvPr/>
        </p:nvPicPr>
        <p:blipFill>
          <a:blip r:embed="rId2"/>
          <a:stretch/>
        </p:blipFill>
        <p:spPr>
          <a:xfrm>
            <a:off x="144360" y="1268280"/>
            <a:ext cx="3996000" cy="53276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http://900igr.net/datai/khimija/Hatrij-khlor/0001-002-Povarennaja-sol.jpg"/>
          <p:cNvPicPr/>
          <p:nvPr/>
        </p:nvPicPr>
        <p:blipFill>
          <a:blip r:embed="rId3"/>
          <a:stretch/>
        </p:blipFill>
        <p:spPr>
          <a:xfrm>
            <a:off x="4932360" y="115920"/>
            <a:ext cx="4103640" cy="2736720"/>
          </a:xfrm>
          <a:prstGeom prst="rect">
            <a:avLst/>
          </a:prstGeom>
          <a:ln w="0">
            <a:noFill/>
          </a:ln>
        </p:spPr>
      </p:pic>
    </p:spTree>
  </p:cSld>
  <p:transition spd="med">
    <p:pull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80"/>
                </a:solidFill>
                <a:latin typeface="Comic Sans MS"/>
              </a:rPr>
              <a:t>Сахар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0" y="999720"/>
            <a:ext cx="91440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Arial"/>
                <a:ea typeface="Arial"/>
              </a:rPr>
              <a:t>С этим веществом вы знакомы всю свою жизнь. Главное его свойство – сладкий вкус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http://vykrutasi.ru/img.php?geturl=images/g2cdg8i20_6.jpg"/>
          <p:cNvPicPr/>
          <p:nvPr/>
        </p:nvPicPr>
        <p:blipFill>
          <a:blip r:embed="rId1"/>
          <a:stretch/>
        </p:blipFill>
        <p:spPr>
          <a:xfrm>
            <a:off x="642960" y="3429000"/>
            <a:ext cx="3643200" cy="27147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" descr="http://www.mukachevo.net/Content/img/news/p_38967_1_gallerybig.jpg"/>
          <p:cNvPicPr/>
          <p:nvPr/>
        </p:nvPicPr>
        <p:blipFill>
          <a:blip r:embed="rId2"/>
          <a:stretch/>
        </p:blipFill>
        <p:spPr>
          <a:xfrm>
            <a:off x="5000760" y="3429000"/>
            <a:ext cx="3673440" cy="2708280"/>
          </a:xfrm>
          <a:prstGeom prst="rect">
            <a:avLst/>
          </a:prstGeom>
          <a:ln w="0">
            <a:noFill/>
          </a:ln>
        </p:spPr>
      </p:pic>
    </p:spTree>
  </p:cSld>
  <p:transition spd="med">
    <p:pull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0" y="576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660066"/>
                </a:solidFill>
                <a:latin typeface="Arial"/>
                <a:ea typeface="Arial"/>
              </a:rPr>
              <a:t>В Индии чуть ли не каждая семья издавна сажает на своём участке земли сладкий тростник. И на Кубе, в Китае и в других жарких странах сажают сладкий тростник. Когда приходит время собирать урожай, его срезают длинным ножом и кладут в котёл. Выварят на огне – получаются белые сладкие кристаллики. Индийцы называют их «саркар», а мы - похожим словом «сахар»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660066"/>
                </a:solidFill>
                <a:latin typeface="Arial"/>
                <a:ea typeface="Arial"/>
              </a:rPr>
              <a:t>Правда, у нас сахар варят не из сахарного тростника, который в наших краях не растёт, а из сахарной свёклы. Это не красная, а белая и очень сладкая свёкл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pull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80"/>
                </a:solidFill>
                <a:latin typeface="Comic Sans MS"/>
                <a:ea typeface="Arial"/>
              </a:rPr>
              <a:t>Сахарный тростник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AutoShape 2"/>
          <p:cNvSpPr/>
          <p:nvPr/>
        </p:nvSpPr>
        <p:spPr>
          <a:xfrm>
            <a:off x="155520" y="-1028880"/>
            <a:ext cx="2876760" cy="21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4"/>
          <p:cNvSpPr/>
          <p:nvPr/>
        </p:nvSpPr>
        <p:spPr>
          <a:xfrm>
            <a:off x="155520" y="-1028880"/>
            <a:ext cx="2876760" cy="21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6" descr="http://www.neonett.ru/wp-content/uploads/2008/09/321.jpg"/>
          <p:cNvPicPr/>
          <p:nvPr/>
        </p:nvPicPr>
        <p:blipFill>
          <a:blip r:embed="rId1"/>
          <a:stretch/>
        </p:blipFill>
        <p:spPr>
          <a:xfrm>
            <a:off x="3995640" y="66600"/>
            <a:ext cx="5048280" cy="28576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http://kedem.ru/photo/articles/2011/04/20110523-sugar_4.jpg"/>
          <p:cNvPicPr/>
          <p:nvPr/>
        </p:nvPicPr>
        <p:blipFill>
          <a:blip r:embed="rId2"/>
          <a:stretch/>
        </p:blipFill>
        <p:spPr>
          <a:xfrm>
            <a:off x="285840" y="1857240"/>
            <a:ext cx="3600360" cy="45007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0" descr="http://d.topic.lt/Fmfir/images/picsw/052013/16/saxar/26.jpg"/>
          <p:cNvPicPr/>
          <p:nvPr/>
        </p:nvPicPr>
        <p:blipFill>
          <a:blip r:embed="rId3"/>
          <a:stretch/>
        </p:blipFill>
        <p:spPr>
          <a:xfrm>
            <a:off x="4211640" y="3645000"/>
            <a:ext cx="4818240" cy="3143160"/>
          </a:xfrm>
          <a:prstGeom prst="rect">
            <a:avLst/>
          </a:prstGeom>
          <a:ln w="0">
            <a:noFill/>
          </a:ln>
        </p:spPr>
      </p:pic>
    </p:spTree>
  </p:cSld>
  <p:transition spd="med">
    <p:pull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6T22:08:43Z</dcterms:created>
  <dc:creator>Лена</dc:creator>
  <dc:description/>
  <dc:language>en-US</dc:language>
  <cp:lastModifiedBy>Ирина</cp:lastModifiedBy>
  <dcterms:modified xsi:type="dcterms:W3CDTF">2014-01-23T15:10:42Z</dcterms:modified>
  <cp:revision>49</cp:revision>
  <dc:subject/>
  <dc:title>Разнообразие веществ</dc:title>
</cp:coreProperties>
</file>