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6153-7EE0-46C2-AC4B-2FDD9584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C19A-7B73-4EF2-B656-30AC2650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ED0A-598C-499F-8E63-71E2173F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A92E-1ADF-49DB-A3EA-011D5862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0B37-5A2A-4BFB-B973-B3CA6906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9697-5F52-4C75-9DD8-3146E1BE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B673-0031-4EFD-91F5-C490DB38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2A08-EBC5-45E0-9902-E5063ED3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5E89-DD4B-42E3-BD46-B05A28CE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F241-E0FF-43EC-8C19-E4548722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781B-63B4-4162-9D3D-08084959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6C95-9AC4-48C8-AED7-B15DCCB9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4729-AB7F-4A4B-991A-9B69EA5EDA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800080"/>
                </a:solidFill>
                <a:latin typeface="Comic Sans MS"/>
                <a:ea typeface="Cambria Math"/>
              </a:rPr>
              <a:t>Разнообразие веществ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95280" y="3898800"/>
            <a:ext cx="1800360" cy="2735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 rot="457200">
            <a:off x="7354440" y="2117520"/>
            <a:ext cx="1666800" cy="14936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179280" y="286236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Презентация к уроку окружающего мира в 3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2411280" y="3716280"/>
            <a:ext cx="62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С использованием современных педагогических технологи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технология проблемного обуч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игровые техн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Подготовила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линина Татьяна Андр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БОУ гимназия №642 "Земля и Вселенная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Comic Sans MS"/>
              </a:rPr>
              <a:t>Тростниковый саха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http://e-da.tv/static/receipts/ingredients/Sugar-cane.png"/>
          <p:cNvPicPr/>
          <p:nvPr/>
        </p:nvPicPr>
        <p:blipFill>
          <a:blip r:embed="rId1"/>
          <a:stretch/>
        </p:blipFill>
        <p:spPr>
          <a:xfrm>
            <a:off x="5219640" y="692280"/>
            <a:ext cx="4530960" cy="4530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http://www.nazeleno.cz/Files/FckGallery/Cukry.zip/cukr.jpg"/>
          <p:cNvPicPr/>
          <p:nvPr/>
        </p:nvPicPr>
        <p:blipFill>
          <a:blip r:embed="rId2"/>
          <a:stretch/>
        </p:blipFill>
        <p:spPr>
          <a:xfrm>
            <a:off x="179280" y="2565360"/>
            <a:ext cx="49104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8080" y="124920"/>
            <a:ext cx="3571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Comic Sans MS"/>
                <a:ea typeface="Arial"/>
              </a:rPr>
              <a:t>Сахарная свёкл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www.altairegion22.ru/upload/import_images/gallery/general/640.SVEKLA.jpg"/>
          <p:cNvPicPr/>
          <p:nvPr/>
        </p:nvPicPr>
        <p:blipFill>
          <a:blip r:embed="rId1"/>
          <a:stretch/>
        </p:blipFill>
        <p:spPr>
          <a:xfrm>
            <a:off x="4427640" y="3284640"/>
            <a:ext cx="4589280" cy="3449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www.bh-froe.com/ZC/images/roe.jpeg"/>
          <p:cNvPicPr/>
          <p:nvPr/>
        </p:nvPicPr>
        <p:blipFill>
          <a:blip r:embed="rId2"/>
          <a:stretch/>
        </p:blipFill>
        <p:spPr>
          <a:xfrm>
            <a:off x="4427640" y="120600"/>
            <a:ext cx="4554360" cy="309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http://www.nest.by/files/imagecache/image_node/images/saxarnaja_svekla_advis.ru_0.jpg"/>
          <p:cNvPicPr/>
          <p:nvPr/>
        </p:nvPicPr>
        <p:blipFill>
          <a:blip r:embed="rId3"/>
          <a:stretch/>
        </p:blipFill>
        <p:spPr>
          <a:xfrm>
            <a:off x="214200" y="1428840"/>
            <a:ext cx="3772080" cy="4714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Comic Sans MS"/>
              </a:rPr>
              <a:t>Глюкоз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8571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Ещё есть в природе сладкое вещество: </a:t>
            </a:r>
            <a:r>
              <a:rPr b="1" lang="ru-RU" sz="4300" spc="-1" strike="noStrike">
                <a:solidFill>
                  <a:srgbClr val="ff0000"/>
                </a:solidFill>
                <a:latin typeface="Comic Sans MS"/>
              </a:rPr>
              <a:t>глюкоза.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Это разновидность сахара. В природе содержится в различных частях растений. Особенно богаты глюкозой плоды винограда и виноградный со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http://img1.liveinternet.ru/images/attach/c/6/91/330/91330215_4121583_E08qYq4PSu.jpg"/>
          <p:cNvPicPr/>
          <p:nvPr/>
        </p:nvPicPr>
        <p:blipFill>
          <a:blip r:embed="rId1"/>
          <a:stretch/>
        </p:blipFill>
        <p:spPr>
          <a:xfrm>
            <a:off x="5643720" y="3714840"/>
            <a:ext cx="3090600" cy="3090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http://www.look.com.ua/download.php?file=201210/800x600/look.com.ua-49490.jpg"/>
          <p:cNvPicPr/>
          <p:nvPr/>
        </p:nvPicPr>
        <p:blipFill>
          <a:blip r:embed="rId2"/>
          <a:stretch/>
        </p:blipFill>
        <p:spPr>
          <a:xfrm>
            <a:off x="642960" y="3714840"/>
            <a:ext cx="3929040" cy="2950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 р о в е р ь  с е б 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76464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Назовите главные свойства поваренной соли и сахара. Где эти вещества встречаются в природ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Что представляет собой крахмал?  Как обнаружить его в продуктах пита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Какие кислоты встречаются в природ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Какое общее свойство этих вещест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Почему с кислотами нужно обращаться осторожно?  Можно ли пробовать на вкус любую кислот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Что такое кислотные дожди? В чём их опасност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Arial"/>
              </a:rPr>
              <a:t>На свете очень много различных веществ. Одни из них существуют в природа, а другие созданы искусственно (например, пластмассы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Arial"/>
              </a:rPr>
              <a:t>С некоторыми из них мы встречаемся каждый ден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Вещества изучает наука –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  <a:ea typeface="Arial"/>
              </a:rPr>
              <a:t>химия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omic Sans MS"/>
              </a:rPr>
              <a:t>Давайте отправимся на 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кухн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6" descr="http://novye-kuhni.ru/d/703-1/novye-kuhni278.jpg"/>
          <p:cNvPicPr/>
          <p:nvPr/>
        </p:nvPicPr>
        <p:blipFill>
          <a:blip r:embed="rId1"/>
          <a:stretch/>
        </p:blipFill>
        <p:spPr>
          <a:xfrm>
            <a:off x="714240" y="981000"/>
            <a:ext cx="760284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Arial"/>
              </a:rPr>
              <a:t>Меня не едят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Arial"/>
              </a:rPr>
              <a:t>И без меня  мало едя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Arial"/>
              </a:rPr>
              <a:t>Я бел, как снег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Arial"/>
              </a:rPr>
              <a:t>В чести у всех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Arial"/>
              </a:rPr>
              <a:t>В рот попал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Arial"/>
              </a:rPr>
              <a:t>Там и пропа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3143160" y="2000160"/>
            <a:ext cx="24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со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4929120" y="6149880"/>
            <a:ext cx="24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сах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obzhora.net/uploads/posts/2012-06/1339966458_sahar1.jpg"/>
          <p:cNvPicPr/>
          <p:nvPr/>
        </p:nvPicPr>
        <p:blipFill>
          <a:blip r:embed="rId1"/>
          <a:stretch/>
        </p:blipFill>
        <p:spPr>
          <a:xfrm>
            <a:off x="4500720" y="3214800"/>
            <a:ext cx="3233520" cy="2944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ww.profi-forex.org/system/news/A07_11.jpg"/>
          <p:cNvPicPr/>
          <p:nvPr/>
        </p:nvPicPr>
        <p:blipFill>
          <a:blip r:embed="rId2"/>
          <a:stretch/>
        </p:blipFill>
        <p:spPr>
          <a:xfrm>
            <a:off x="5357880" y="214200"/>
            <a:ext cx="3733560" cy="2486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Comic Sans MS"/>
              </a:rPr>
              <a:t>Поваренная сол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928440"/>
            <a:ext cx="91440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Arial"/>
              </a:rPr>
              <a:t>Поваренная</a:t>
            </a:r>
            <a:r>
              <a:rPr b="1" lang="ru-RU" sz="3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Arial"/>
              </a:rPr>
              <a:t>соль – это одна из минеральных солей, встречающихся в природ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Arial"/>
              </a:rPr>
              <a:t>Самое важное для человека свойство соли – то, что она солёная на вкус. Поэтому  её используют для подсаливания пищи. В природе поваренная соль встречается не только под землёй. Она содержится в морской воде, в почве, в телах живых организм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7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Comic Sans MS"/>
                <a:ea typeface="Arial"/>
              </a:rPr>
              <a:t>Соль в прир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5435640" y="2997360"/>
            <a:ext cx="353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Морская с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http://www.cosmetika-morya.ru/_files/menu/2/6_full.jpg"/>
          <p:cNvPicPr/>
          <p:nvPr/>
        </p:nvPicPr>
        <p:blipFill>
          <a:blip r:embed="rId1"/>
          <a:stretch/>
        </p:blipFill>
        <p:spPr>
          <a:xfrm>
            <a:off x="4932360" y="3645000"/>
            <a:ext cx="4103640" cy="307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ukrmap.su/program2010/g8/g8_18_files/image004.gif"/>
          <p:cNvPicPr/>
          <p:nvPr/>
        </p:nvPicPr>
        <p:blipFill>
          <a:blip r:embed="rId2"/>
          <a:stretch/>
        </p:blipFill>
        <p:spPr>
          <a:xfrm>
            <a:off x="144360" y="1268280"/>
            <a:ext cx="3996000" cy="532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http://900igr.net/datai/khimija/Hatrij-khlor/0001-002-Povarennaja-sol.jpg"/>
          <p:cNvPicPr/>
          <p:nvPr/>
        </p:nvPicPr>
        <p:blipFill>
          <a:blip r:embed="rId3"/>
          <a:stretch/>
        </p:blipFill>
        <p:spPr>
          <a:xfrm>
            <a:off x="4932360" y="115920"/>
            <a:ext cx="410364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Comic Sans MS"/>
              </a:rPr>
              <a:t>Саха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999720"/>
            <a:ext cx="91440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Arial"/>
              </a:rPr>
              <a:t>С этим веществом вы знакомы всю свою жизнь. Главное его свойство – сладкий вку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vykrutasi.ru/img.php?geturl=images/g2cdg8i20_6.jpg"/>
          <p:cNvPicPr/>
          <p:nvPr/>
        </p:nvPicPr>
        <p:blipFill>
          <a:blip r:embed="rId1"/>
          <a:stretch/>
        </p:blipFill>
        <p:spPr>
          <a:xfrm>
            <a:off x="642960" y="3429000"/>
            <a:ext cx="3643200" cy="2714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http://www.mukachevo.net/Content/img/news/p_38967_1_gallerybig.jpg"/>
          <p:cNvPicPr/>
          <p:nvPr/>
        </p:nvPicPr>
        <p:blipFill>
          <a:blip r:embed="rId2"/>
          <a:stretch/>
        </p:blipFill>
        <p:spPr>
          <a:xfrm>
            <a:off x="5000760" y="3429000"/>
            <a:ext cx="367344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576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66"/>
                </a:solidFill>
                <a:latin typeface="Arial"/>
                <a:ea typeface="Arial"/>
              </a:rPr>
              <a:t>В Индии чуть ли не каждая семья издавна сажает на своём участке земли сладкий тростник. И на Кубе, в Китае и в других жарких странах сажают сладкий тростник. Когда приходит время собирать урожай, его срезают длинным ножом и кладут в котёл. Выварят на огне – получаются белые сладкие кристаллики. Индийцы называют их «саркар», а мы - похожим словом «сахар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66"/>
                </a:solidFill>
                <a:latin typeface="Arial"/>
                <a:ea typeface="Arial"/>
              </a:rPr>
              <a:t>Правда, у нас сахар варят не из сахарного тростника, который в наших краях не растёт, а из сахарной свёклы. Это не красная, а белая и очень сладкая свёкл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Comic Sans MS"/>
                <a:ea typeface="Arial"/>
              </a:rPr>
              <a:t>Сахарный тростни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2"/>
          <p:cNvSpPr/>
          <p:nvPr/>
        </p:nvSpPr>
        <p:spPr>
          <a:xfrm>
            <a:off x="155520" y="-1028880"/>
            <a:ext cx="287676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155520" y="-1028880"/>
            <a:ext cx="287676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http://www.neonett.ru/wp-content/uploads/2008/09/321.jpg"/>
          <p:cNvPicPr/>
          <p:nvPr/>
        </p:nvPicPr>
        <p:blipFill>
          <a:blip r:embed="rId1"/>
          <a:stretch/>
        </p:blipFill>
        <p:spPr>
          <a:xfrm>
            <a:off x="3995640" y="66600"/>
            <a:ext cx="5048280" cy="2857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kedem.ru/photo/articles/2011/04/20110523-sugar_4.jpg"/>
          <p:cNvPicPr/>
          <p:nvPr/>
        </p:nvPicPr>
        <p:blipFill>
          <a:blip r:embed="rId2"/>
          <a:stretch/>
        </p:blipFill>
        <p:spPr>
          <a:xfrm>
            <a:off x="285840" y="1857240"/>
            <a:ext cx="3600360" cy="4500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http://d.topic.lt/Fmfir/images/picsw/052013/16/saxar/26.jpg"/>
          <p:cNvPicPr/>
          <p:nvPr/>
        </p:nvPicPr>
        <p:blipFill>
          <a:blip r:embed="rId3"/>
          <a:stretch/>
        </p:blipFill>
        <p:spPr>
          <a:xfrm>
            <a:off x="4211640" y="3645000"/>
            <a:ext cx="481824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6T22:08:43Z</dcterms:created>
  <dc:creator>Лена</dc:creator>
  <dc:description/>
  <dc:language>en-US</dc:language>
  <cp:lastModifiedBy>Ирина</cp:lastModifiedBy>
  <dcterms:modified xsi:type="dcterms:W3CDTF">2014-01-23T15:10:42Z</dcterms:modified>
  <cp:revision>49</cp:revision>
  <dc:subject/>
  <dc:title>Разнообразие веществ</dc:title>
</cp:coreProperties>
</file>