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7C3C-E90C-4D58-9923-F1516291A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8C6-B351-430F-B41E-AFE7DD12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9CC-FD1C-4F55-B60E-5A3E84F6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884-0A48-47A2-910C-D3A2E73E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190-62B9-4D91-B326-2B201531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D07-B909-4306-B08C-0D7D98A0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C7F2-5892-40EB-988D-30D81EDF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E45A-8AE2-4852-92B5-90FE11FA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460E-B7D8-4545-BA3B-B867D328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8742-6B1A-49A8-9238-B09E7E7F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A98B-C6F8-4265-ACB9-D503E5B8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2981-3E9C-4B7B-8912-98C3A351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227D-D476-4453-B1DE-10F9B870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DB7-1874-4BD5-B412-BD0EEB61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2577-AD01-48A8-8EE1-0C552800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2D06-562F-4F43-9CEB-05F611A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47A1-EF40-4706-8F82-9BB42086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7202-8313-4BC5-8D4B-B617528A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E685-2674-4976-B360-6AC47635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F4C-8220-44E4-89B0-871D05D1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C80-C85F-491D-8AA3-B24FC82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5D3-A96D-47B5-B153-1DDAEFE7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9AA-04F7-4374-A1AA-20D0438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4CC-5847-4FC1-A183-D90326C0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EF4-182F-4C45-8C5F-295F0B4C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564-9CE6-4D1B-9201-96E28A7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35AF-522B-4F41-A0B3-AA4D48154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A2E5-BEB7-4EEB-BD8B-639C9ADA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080" y="132840"/>
            <a:ext cx="767052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и второстепенные члены предложения.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22280" y="2711160"/>
            <a:ext cx="676908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в третье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современных педагогических технолог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ционно-коммуникатив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ватель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и проблем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3962520" y="5985000"/>
            <a:ext cx="49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ла: учитель начальных классо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инина Татьяна Андреев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ГЛАВНЫЕ ЧЛЕНЫ ПРЕДЛОЖЕНИЯ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Line 4"/>
          <p:cNvSpPr/>
          <p:nvPr/>
        </p:nvSpPr>
        <p:spPr>
          <a:xfrm flipH="1">
            <a:off x="2882520" y="1092240"/>
            <a:ext cx="96516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4120" y="1028880"/>
            <a:ext cx="119376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2679840" y="3429000"/>
            <a:ext cx="1260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6286680" y="3390840"/>
            <a:ext cx="37800" cy="77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1914480" y="2033640"/>
            <a:ext cx="6927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1) ПОДЛЕЖАЩЕ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2016000" y="3676680"/>
            <a:ext cx="5486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2) СКАЗУЕМО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ВТОРОСТЕПЕННЫЕ ЧЛЕНЫ ПРЕДЛОЖЕНИЯ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967040"/>
            <a:ext cx="70106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1) ОБСТОЯ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) 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3) 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1335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26920" y="82404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ступила скучная о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адают на землю жёлтые листоч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асто льют дож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асточки и соловьи улетели на ю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56080" y="12114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35520" y="1224000"/>
            <a:ext cx="2222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2082960" y="1503360"/>
            <a:ext cx="2282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21640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134120" y="11606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6730920" y="13892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V="1">
            <a:off x="2057400" y="1350720"/>
            <a:ext cx="23842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 flipV="1">
            <a:off x="2197080" y="2798640"/>
            <a:ext cx="2028960" cy="3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2184480" y="221472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2158920" y="232884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423120" y="2138400"/>
            <a:ext cx="189216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4622760" y="2278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5003640" y="364968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3441600" y="358632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3403440" y="368784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2082960" y="35733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>
            <a:off x="2197080" y="4398840"/>
            <a:ext cx="4467240" cy="5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2273400" y="502128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2222640" y="513540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076640" y="50212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74640" y="1471680"/>
            <a:ext cx="7569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 деревьев облетают последние лист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олнце светит ред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Умолкают птичьи голо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1133-2_3"/>
          <p:cNvPicPr/>
          <p:nvPr/>
        </p:nvPicPr>
        <p:blipFill>
          <a:blip r:embed="rId1"/>
          <a:stretch/>
        </p:blipFill>
        <p:spPr>
          <a:xfrm>
            <a:off x="6502320" y="5283360"/>
            <a:ext cx="1613160" cy="1320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46040" y="569520"/>
            <a:ext cx="76456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ришла _____. По небу плывет большая ___________. Часто льет ___________ дождь. Дует  сильный __________. Ребята ждут ___________ снега. Скоро наступит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одсказки: туча, осень, проливной, ветер, пушистого,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289400" y="48690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61952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959280" y="1149480"/>
            <a:ext cx="2025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сен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584680" y="1555920"/>
            <a:ext cx="1629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уч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581360" y="1949400"/>
            <a:ext cx="2425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проливн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051520" y="2292480"/>
            <a:ext cx="2079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вете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4937040" y="2776680"/>
            <a:ext cx="2729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ушистого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457960" y="3143160"/>
            <a:ext cx="1160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им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23880" y="646200"/>
            <a:ext cx="70106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) в, Берёзы, уборе, стоят, золо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ерёзы стоят в золотом уб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2) солнце, за, Низкое, скрылось,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Низкое солнце скрылось за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95280" y="140796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о  словом   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жёлты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составить и записать предложение по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огда?)  (с чего?)  (что делают?) (какие?)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ю    с деревьев    опадают     желтые     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1133-3_3"/>
          <p:cNvPicPr/>
          <p:nvPr/>
        </p:nvPicPr>
        <p:blipFill>
          <a:blip r:embed="rId1"/>
          <a:stretch/>
        </p:blipFill>
        <p:spPr>
          <a:xfrm>
            <a:off x="1727280" y="392436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150093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244840" y="2918880"/>
            <a:ext cx="345420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авь последнюю стр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нится троп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736560" y="202680"/>
            <a:ext cx="3581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ворческ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задание.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0" name="Picture 7" descr="1133-4_3"/>
          <p:cNvPicPr/>
          <p:nvPr/>
        </p:nvPicPr>
        <p:blipFill>
          <a:blip r:embed="rId3"/>
          <a:stretch/>
        </p:blipFill>
        <p:spPr>
          <a:xfrm>
            <a:off x="1854360" y="165096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Продолжи фразу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мне понрав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бы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1111-1_1"/>
          <p:cNvPicPr/>
          <p:nvPr/>
        </p:nvPicPr>
        <p:blipFill>
          <a:blip r:embed="rId1"/>
          <a:stretch/>
        </p:blipFill>
        <p:spPr>
          <a:xfrm>
            <a:off x="3835440" y="3314880"/>
            <a:ext cx="2679840" cy="267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763640" y="404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сенка знаний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7667640" y="3284640"/>
            <a:ext cx="14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796000" y="3573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1162080" y="2421000"/>
            <a:ext cx="4794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Ничего не понятно  на уроке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2400" y="3840120"/>
            <a:ext cx="51498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Всё понятно. Трудностей не испытываю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7280" y="5589720"/>
            <a:ext cx="51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Хочу знать больше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5" descr="876е"/>
          <p:cNvPicPr/>
          <p:nvPr/>
        </p:nvPicPr>
        <p:blipFill>
          <a:blip r:embed="rId1"/>
          <a:stretch/>
        </p:blipFill>
        <p:spPr>
          <a:xfrm>
            <a:off x="6443640" y="4365720"/>
            <a:ext cx="2443320" cy="175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Sun_alley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Значение слова осень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2680" y="975960"/>
            <a:ext cx="648468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Осень –  время года между летом и  зимо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utumnleaves"/>
          <p:cNvPicPr/>
          <p:nvPr/>
        </p:nvPicPr>
        <p:blipFill>
          <a:blip r:embed="rId1"/>
          <a:stretch/>
        </p:blipFill>
        <p:spPr>
          <a:xfrm>
            <a:off x="2593800" y="2776680"/>
            <a:ext cx="5241960" cy="3624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Вставьте пропущенные буквы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58440" y="1126800"/>
            <a:ext cx="779796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..рковь       ..г..род     шел...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ябл..ко        ..с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211-4_2"/>
          <p:cNvPicPr/>
          <p:nvPr/>
        </p:nvPicPr>
        <p:blipFill>
          <a:blip r:embed="rId1"/>
          <a:stretch/>
        </p:blipFill>
        <p:spPr>
          <a:xfrm>
            <a:off x="1409760" y="271764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1222-9_2"/>
          <p:cNvPicPr/>
          <p:nvPr/>
        </p:nvPicPr>
        <p:blipFill>
          <a:blip r:embed="rId2"/>
          <a:stretch/>
        </p:blipFill>
        <p:spPr>
          <a:xfrm>
            <a:off x="6959520" y="29210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122-2_1"/>
          <p:cNvPicPr/>
          <p:nvPr/>
        </p:nvPicPr>
        <p:blipFill>
          <a:blip r:embed="rId3"/>
          <a:stretch/>
        </p:blipFill>
        <p:spPr>
          <a:xfrm>
            <a:off x="4991040" y="2705040"/>
            <a:ext cx="1625760" cy="170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211-5_2"/>
          <p:cNvPicPr/>
          <p:nvPr/>
        </p:nvPicPr>
        <p:blipFill>
          <a:blip r:embed="rId4"/>
          <a:stretch/>
        </p:blipFill>
        <p:spPr>
          <a:xfrm>
            <a:off x="4216320" y="49784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22-6_2"/>
          <p:cNvPicPr/>
          <p:nvPr/>
        </p:nvPicPr>
        <p:blipFill>
          <a:blip r:embed="rId5"/>
          <a:stretch/>
        </p:blipFill>
        <p:spPr>
          <a:xfrm>
            <a:off x="6781680" y="49784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1222-7_2"/>
          <p:cNvPicPr/>
          <p:nvPr/>
        </p:nvPicPr>
        <p:blipFill>
          <a:blip r:embed="rId6"/>
          <a:stretch/>
        </p:blipFill>
        <p:spPr>
          <a:xfrm>
            <a:off x="184140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2115-0_2"/>
          <p:cNvPicPr/>
          <p:nvPr/>
        </p:nvPicPr>
        <p:blipFill>
          <a:blip r:embed="rId7"/>
          <a:stretch/>
        </p:blipFill>
        <p:spPr>
          <a:xfrm>
            <a:off x="2577960" y="3479760"/>
            <a:ext cx="2616480" cy="130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Словарные слова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87160" y="1420560"/>
            <a:ext cx="603252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рковь     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род     шел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ябл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ко        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с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76240" y="547560"/>
            <a:ext cx="6232680" cy="48974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08" name="Text Box 5"/>
          <p:cNvSpPr/>
          <p:nvPr/>
        </p:nvSpPr>
        <p:spPr>
          <a:xfrm>
            <a:off x="2057400" y="5835600"/>
            <a:ext cx="657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 Левитан «Золотая осень»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ВСТАВЬ ПРОПУЩЕННЫЕ БУКВЫ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49688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..яли  ненас?ные ..сенние дни. Тучи плотно з..крыли  со?нце. С раннего утра до поз?него вечера льёт х..лодный до….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193840" y="157788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051520" y="1628640"/>
            <a:ext cx="42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626160" y="1616040"/>
            <a:ext cx="7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664320" y="22273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308320" y="286236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л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612880" y="3484440"/>
            <a:ext cx="797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д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016000" y="400356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987800" y="409428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жд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26920" y="849240"/>
            <a:ext cx="70102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1. Уж небо осенью дыш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2. С чего начинается Род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3. Что же ты, солов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есен не по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4. Любите родную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5. В лес грибной тебя з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Тихим  утром ос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6. Берегите наши л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Sun_alley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"/>
          <p:cNvSpPr txBox="1"/>
          <p:nvPr/>
        </p:nvSpPr>
        <p:spPr>
          <a:xfrm>
            <a:off x="468360" y="4149720"/>
            <a:ext cx="84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регите наши лес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5:57:26Z</dcterms:created>
  <dc:creator>User</dc:creator>
  <dc:description/>
  <cp:keywords/>
  <dc:language>en-US</dc:language>
  <cp:lastModifiedBy>Ирина</cp:lastModifiedBy>
  <dcterms:modified xsi:type="dcterms:W3CDTF">2014-01-21T16:40:27Z</dcterms:modified>
  <cp:revision>83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