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9.gif" ContentType="image/gif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7849-2E79-4F00-8E7A-537D7B95A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3E20-347A-499A-AA4A-A0B3CF50B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E7F6-8526-489F-9231-7475234F8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7BDA-6DC7-4699-9B8A-D37A851E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563C-E056-4283-9F4F-DB7ED0DD4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702F-E020-44B8-8B50-0FB7DB204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3CFA-5397-45B9-950F-A2FC8FB7E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F15C4-48D7-42CE-8F33-C429E1E9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3F68-E006-49CA-9AD3-63DBFB19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443C-A9E5-4000-8A0C-2A712A30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B2E7-A93B-40E0-B78E-7ECA1D77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08380-54DA-4FA9-9BC4-36279293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F6A4-1ED3-45D1-AD02-3DC36E0E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D905-E5D0-4575-8D4E-FBB336BA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D554-0A33-45B0-A4E2-C81E9CBA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630E-CED0-4923-9BDA-6B936238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966F2-6A26-432F-8136-DB0E8190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4852-D73A-426A-A256-E5781D946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54A27-6FFA-4A64-8B91-F39C2459E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098F-8359-457A-B2E3-1F380781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2526-E062-453E-B73A-F1A36E56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08C4-7C6F-44B3-89F0-55B96ED1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E9AF-7285-44B2-B98D-C185643D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5A23-BAE9-4905-91AE-8EE73626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26E5-B66A-4D8B-8189-08934BE1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B978-615C-4FDD-BEA1-FCBDBFD1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6A3D-88FC-4A85-B40B-5A7B34DDE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33A0-0C9B-4E74-A5BB-CCFD4C555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2080" y="132840"/>
            <a:ext cx="7670520" cy="132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е и второстепенные члены предложения.</a:t>
            </a:r>
            <a:endParaRPr b="1" lang="en-US" sz="4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222280" y="2711160"/>
            <a:ext cx="6769080" cy="23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русского языка в третьем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использованием современных педагогических технолог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формационно-коммуникативны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знавательны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хнологии проблемного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"/>
          <p:cNvSpPr/>
          <p:nvPr/>
        </p:nvSpPr>
        <p:spPr>
          <a:xfrm>
            <a:off x="3962520" y="5985000"/>
            <a:ext cx="49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дготовила: учитель начальных классов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линина Татьяна Андреевна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ahoma"/>
              </a:rPr>
              <a:t>ГЛАВНЫЕ ЧЛЕНЫ ПРЕДЛОЖЕНИЯ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3" name="Line 4"/>
          <p:cNvSpPr/>
          <p:nvPr/>
        </p:nvSpPr>
        <p:spPr>
          <a:xfrm flipH="1">
            <a:off x="2882520" y="1092240"/>
            <a:ext cx="965160" cy="1447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5"/>
          <p:cNvSpPr/>
          <p:nvPr/>
        </p:nvSpPr>
        <p:spPr>
          <a:xfrm>
            <a:off x="5334120" y="1028880"/>
            <a:ext cx="1193760" cy="151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>
            <a:off x="2679840" y="3429000"/>
            <a:ext cx="12600" cy="749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>
            <a:off x="6286680" y="3390840"/>
            <a:ext cx="37800" cy="774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0"/>
          <p:cNvSpPr/>
          <p:nvPr/>
        </p:nvSpPr>
        <p:spPr>
          <a:xfrm>
            <a:off x="1914480" y="2033640"/>
            <a:ext cx="69278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00"/>
                </a:solidFill>
                <a:latin typeface="Arial"/>
              </a:rPr>
              <a:t>1) ПОДЛЕЖАЩЕЕ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1"/>
          <p:cNvSpPr/>
          <p:nvPr/>
        </p:nvSpPr>
        <p:spPr>
          <a:xfrm>
            <a:off x="2016000" y="3676680"/>
            <a:ext cx="5486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00"/>
                </a:solidFill>
                <a:latin typeface="Arial"/>
              </a:rPr>
              <a:t>2) СКАЗУЕМОЕ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ahoma"/>
              </a:rPr>
              <a:t>ВТОРОСТЕПЕННЫЕ ЧЛЕНЫ ПРЕДЛОЖЕНИЯ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52480" y="1967040"/>
            <a:ext cx="701064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1) ОБСТОЯТЕЛЬ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2) ОПРЕДЕ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3) ДОПОЛ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480" y="13356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26920" y="824040"/>
            <a:ext cx="7010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Наступила скучная осен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Падают на землю жёлтые листочк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Часто льют дожд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Ласточки и соловьи улетели на ю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356080" y="1211400"/>
            <a:ext cx="18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835520" y="1224000"/>
            <a:ext cx="2222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~~~~~~~~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4"/>
          <p:cNvSpPr/>
          <p:nvPr/>
        </p:nvSpPr>
        <p:spPr>
          <a:xfrm>
            <a:off x="2082960" y="1503360"/>
            <a:ext cx="2282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5216400" y="1262160"/>
            <a:ext cx="18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7134120" y="1160640"/>
            <a:ext cx="18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4"/>
          <p:cNvSpPr/>
          <p:nvPr/>
        </p:nvSpPr>
        <p:spPr>
          <a:xfrm>
            <a:off x="6730920" y="138924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4"/>
          <p:cNvSpPr/>
          <p:nvPr/>
        </p:nvSpPr>
        <p:spPr>
          <a:xfrm flipV="1">
            <a:off x="2057400" y="1350720"/>
            <a:ext cx="2384280" cy="1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4"/>
          <p:cNvSpPr/>
          <p:nvPr/>
        </p:nvSpPr>
        <p:spPr>
          <a:xfrm flipV="1">
            <a:off x="2197080" y="2798640"/>
            <a:ext cx="2028960" cy="3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4"/>
          <p:cNvSpPr/>
          <p:nvPr/>
        </p:nvSpPr>
        <p:spPr>
          <a:xfrm>
            <a:off x="2184480" y="2214720"/>
            <a:ext cx="1736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2158920" y="2328840"/>
            <a:ext cx="1736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6423120" y="2138400"/>
            <a:ext cx="1892160" cy="8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~~~~~~~~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4"/>
          <p:cNvSpPr/>
          <p:nvPr/>
        </p:nvSpPr>
        <p:spPr>
          <a:xfrm>
            <a:off x="4622760" y="227808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4"/>
          <p:cNvSpPr/>
          <p:nvPr/>
        </p:nvSpPr>
        <p:spPr>
          <a:xfrm>
            <a:off x="5003640" y="3649680"/>
            <a:ext cx="136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4"/>
          <p:cNvSpPr/>
          <p:nvPr/>
        </p:nvSpPr>
        <p:spPr>
          <a:xfrm>
            <a:off x="3441600" y="3586320"/>
            <a:ext cx="139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4"/>
          <p:cNvSpPr/>
          <p:nvPr/>
        </p:nvSpPr>
        <p:spPr>
          <a:xfrm>
            <a:off x="3403440" y="3687840"/>
            <a:ext cx="139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4"/>
          <p:cNvSpPr/>
          <p:nvPr/>
        </p:nvSpPr>
        <p:spPr>
          <a:xfrm>
            <a:off x="2082960" y="357336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4"/>
          <p:cNvSpPr/>
          <p:nvPr/>
        </p:nvSpPr>
        <p:spPr>
          <a:xfrm>
            <a:off x="2197080" y="4398840"/>
            <a:ext cx="4467240" cy="50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4"/>
          <p:cNvSpPr/>
          <p:nvPr/>
        </p:nvSpPr>
        <p:spPr>
          <a:xfrm>
            <a:off x="2273400" y="5021280"/>
            <a:ext cx="155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4"/>
          <p:cNvSpPr/>
          <p:nvPr/>
        </p:nvSpPr>
        <p:spPr>
          <a:xfrm>
            <a:off x="2222640" y="5135400"/>
            <a:ext cx="155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4"/>
          <p:cNvSpPr/>
          <p:nvPr/>
        </p:nvSpPr>
        <p:spPr>
          <a:xfrm>
            <a:off x="4076640" y="502128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574640" y="1471680"/>
            <a:ext cx="7569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Arial"/>
              </a:rPr>
              <a:t>С деревьев облетают последние листь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Arial"/>
              </a:rPr>
              <a:t>Солнце светит редк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Arial"/>
              </a:rPr>
              <a:t>Умолкают птичьи голос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1133-2_3"/>
          <p:cNvPicPr/>
          <p:nvPr/>
        </p:nvPicPr>
        <p:blipFill>
          <a:blip r:embed="rId1"/>
          <a:stretch/>
        </p:blipFill>
        <p:spPr>
          <a:xfrm>
            <a:off x="6502320" y="5283360"/>
            <a:ext cx="1613160" cy="1320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346040" y="569520"/>
            <a:ext cx="7645680" cy="53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Ос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        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Пришла _____. По небу плывет большая ___________. Часто льет ___________ дождь. Дует  сильный __________. Ребята ждут ___________ снега. Скоро наступит 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Подсказки: туча, осень, проливной, ветер, пушистого, зи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4289400" y="4869000"/>
            <a:ext cx="18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4619520" y="1262160"/>
            <a:ext cx="18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3959280" y="1149480"/>
            <a:ext cx="20257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осень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5584680" y="1555920"/>
            <a:ext cx="1629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туча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4581360" y="1949400"/>
            <a:ext cx="24256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проливной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5051520" y="2292480"/>
            <a:ext cx="2079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ветер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4937040" y="2776680"/>
            <a:ext cx="27291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пушистого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5457960" y="3143160"/>
            <a:ext cx="11606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зима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523880" y="646200"/>
            <a:ext cx="701064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1) в, Берёзы, уборе, стоят, золот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Берёзы стоят в золотом убор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2) солнце, за, Низкое, скрылось, деревья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Низкое солнце скрылось за деревья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1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295280" y="140796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Со  словом   </a:t>
            </a: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жёлтые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составить и записать предложение по схем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когда?)  (с чего?)  (что делают?) (какие?) (что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Осенью    с деревьев    опадают     желтые      лист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1133-3_3"/>
          <p:cNvPicPr/>
          <p:nvPr/>
        </p:nvPicPr>
        <p:blipFill>
          <a:blip r:embed="rId1"/>
          <a:stretch/>
        </p:blipFill>
        <p:spPr>
          <a:xfrm>
            <a:off x="1727280" y="3924360"/>
            <a:ext cx="2361960" cy="2362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150093"/>
          <p:cNvPicPr/>
          <p:nvPr/>
        </p:nvPicPr>
        <p:blipFill>
          <a:blip r:embed="rId2"/>
          <a:stretch/>
        </p:blipFill>
        <p:spPr>
          <a:xfrm>
            <a:off x="4102200" y="0"/>
            <a:ext cx="50418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244840" y="2918880"/>
            <a:ext cx="3454200" cy="33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бавь последнюю строч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стопа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стопад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нится тропин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736560" y="202680"/>
            <a:ext cx="3581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Творческо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задание.</a:t>
            </a:r>
            <a:endParaRPr b="1" lang="en-US" sz="28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70" name="Picture 7" descr="1133-4_3"/>
          <p:cNvPicPr/>
          <p:nvPr/>
        </p:nvPicPr>
        <p:blipFill>
          <a:blip r:embed="rId3"/>
          <a:stretch/>
        </p:blipFill>
        <p:spPr>
          <a:xfrm>
            <a:off x="1854360" y="165096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ahoma"/>
              </a:rPr>
              <a:t>Продолжи фразу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Arial"/>
              </a:rPr>
              <a:t>Сегодня на уроке я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Arial"/>
              </a:rPr>
              <a:t>Сегодня на уроке мне понравилос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Arial"/>
              </a:rPr>
              <a:t>Сегодня на уроке был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1111-1_1"/>
          <p:cNvPicPr/>
          <p:nvPr/>
        </p:nvPicPr>
        <p:blipFill>
          <a:blip r:embed="rId1"/>
          <a:stretch/>
        </p:blipFill>
        <p:spPr>
          <a:xfrm>
            <a:off x="3835440" y="3314880"/>
            <a:ext cx="2679840" cy="2679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2"/>
          <p:cNvSpPr txBox="1"/>
          <p:nvPr/>
        </p:nvSpPr>
        <p:spPr>
          <a:xfrm>
            <a:off x="1763640" y="404640"/>
            <a:ext cx="5472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есенка знаний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5" name="Line 3"/>
          <p:cNvSpPr/>
          <p:nvPr/>
        </p:nvSpPr>
        <p:spPr>
          <a:xfrm>
            <a:off x="5653080" y="4292640"/>
            <a:ext cx="1008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4"/>
          <p:cNvSpPr/>
          <p:nvPr/>
        </p:nvSpPr>
        <p:spPr>
          <a:xfrm>
            <a:off x="7667640" y="3284640"/>
            <a:ext cx="14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5"/>
          <p:cNvSpPr/>
          <p:nvPr/>
        </p:nvSpPr>
        <p:spPr>
          <a:xfrm>
            <a:off x="6661080" y="3789360"/>
            <a:ext cx="1008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6"/>
          <p:cNvSpPr/>
          <p:nvPr/>
        </p:nvSpPr>
        <p:spPr>
          <a:xfrm flipV="1">
            <a:off x="5653080" y="4292640"/>
            <a:ext cx="0" cy="50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7"/>
          <p:cNvSpPr/>
          <p:nvPr/>
        </p:nvSpPr>
        <p:spPr>
          <a:xfrm flipV="1">
            <a:off x="6661080" y="3789360"/>
            <a:ext cx="0" cy="50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8"/>
          <p:cNvSpPr/>
          <p:nvPr/>
        </p:nvSpPr>
        <p:spPr>
          <a:xfrm flipV="1">
            <a:off x="7669080" y="3284640"/>
            <a:ext cx="0" cy="50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5796000" y="357336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6732720" y="299736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Б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8028000" y="249228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В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1162080" y="2421000"/>
            <a:ext cx="479412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– Ничего не понятно  на уроке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1292400" y="3840120"/>
            <a:ext cx="514980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– Всё понятно. Трудностей не испытываю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1187280" y="5589720"/>
            <a:ext cx="516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– Хочу знать больше!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5" descr="876е"/>
          <p:cNvPicPr/>
          <p:nvPr/>
        </p:nvPicPr>
        <p:blipFill>
          <a:blip r:embed="rId1"/>
          <a:stretch/>
        </p:blipFill>
        <p:spPr>
          <a:xfrm>
            <a:off x="6443640" y="4365720"/>
            <a:ext cx="2443320" cy="175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Sun_alley-we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ahoma"/>
              </a:rPr>
              <a:t>Значение слова осень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12680" y="975960"/>
            <a:ext cx="6484680" cy="25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Осень –  время года между летом и  зимой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autumnleaves"/>
          <p:cNvPicPr/>
          <p:nvPr/>
        </p:nvPicPr>
        <p:blipFill>
          <a:blip r:embed="rId1"/>
          <a:stretch/>
        </p:blipFill>
        <p:spPr>
          <a:xfrm>
            <a:off x="2593800" y="2776680"/>
            <a:ext cx="5241960" cy="362412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ahoma"/>
              </a:rPr>
              <a:t>Вставьте пропущенные буквы.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58440" y="1126800"/>
            <a:ext cx="7797960" cy="20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м..рковь       ..г..род     шел...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ябл..ко        ..с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1211-4_2"/>
          <p:cNvPicPr/>
          <p:nvPr/>
        </p:nvPicPr>
        <p:blipFill>
          <a:blip r:embed="rId1"/>
          <a:stretch/>
        </p:blipFill>
        <p:spPr>
          <a:xfrm>
            <a:off x="1409760" y="271764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1222-9_2"/>
          <p:cNvPicPr/>
          <p:nvPr/>
        </p:nvPicPr>
        <p:blipFill>
          <a:blip r:embed="rId2"/>
          <a:stretch/>
        </p:blipFill>
        <p:spPr>
          <a:xfrm>
            <a:off x="6959520" y="292104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1122-2_1"/>
          <p:cNvPicPr/>
          <p:nvPr/>
        </p:nvPicPr>
        <p:blipFill>
          <a:blip r:embed="rId3"/>
          <a:stretch/>
        </p:blipFill>
        <p:spPr>
          <a:xfrm>
            <a:off x="4991040" y="2705040"/>
            <a:ext cx="1625760" cy="1701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1211-5_2"/>
          <p:cNvPicPr/>
          <p:nvPr/>
        </p:nvPicPr>
        <p:blipFill>
          <a:blip r:embed="rId4"/>
          <a:stretch/>
        </p:blipFill>
        <p:spPr>
          <a:xfrm>
            <a:off x="4216320" y="497844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1222-6_2"/>
          <p:cNvPicPr/>
          <p:nvPr/>
        </p:nvPicPr>
        <p:blipFill>
          <a:blip r:embed="rId5"/>
          <a:stretch/>
        </p:blipFill>
        <p:spPr>
          <a:xfrm>
            <a:off x="6781680" y="4978440"/>
            <a:ext cx="1625760" cy="1625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1222-7_2"/>
          <p:cNvPicPr/>
          <p:nvPr/>
        </p:nvPicPr>
        <p:blipFill>
          <a:blip r:embed="rId6"/>
          <a:stretch/>
        </p:blipFill>
        <p:spPr>
          <a:xfrm>
            <a:off x="1841400" y="4952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2115-0_2"/>
          <p:cNvPicPr/>
          <p:nvPr/>
        </p:nvPicPr>
        <p:blipFill>
          <a:blip r:embed="rId7"/>
          <a:stretch/>
        </p:blipFill>
        <p:spPr>
          <a:xfrm>
            <a:off x="2577960" y="3479760"/>
            <a:ext cx="2616480" cy="1308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ahoma"/>
              </a:rPr>
              <a:t>Словарные слова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387160" y="1420560"/>
            <a:ext cx="6032520" cy="36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м</a:t>
            </a:r>
            <a:r>
              <a:rPr b="1" lang="ru-RU" sz="4400" spc="-1" strike="noStrike">
                <a:solidFill>
                  <a:srgbClr val="ff33cc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рковь     </a:t>
            </a:r>
            <a:r>
              <a:rPr b="1" lang="ru-RU" sz="4400" spc="-1" strike="noStrike">
                <a:solidFill>
                  <a:srgbClr val="ff33cc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г</a:t>
            </a:r>
            <a:r>
              <a:rPr b="1" lang="ru-RU" sz="4400" spc="-1" strike="noStrike">
                <a:solidFill>
                  <a:srgbClr val="ff33cc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род     шел</a:t>
            </a:r>
            <a:r>
              <a:rPr b="1" lang="ru-RU" sz="4400" spc="-1" strike="noStrike">
                <a:solidFill>
                  <a:srgbClr val="ff33cc"/>
                </a:solidFill>
                <a:latin typeface="Arial"/>
              </a:rPr>
              <a:t>е</a:t>
            </a: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ябл</a:t>
            </a:r>
            <a:r>
              <a:rPr b="1" lang="ru-RU" sz="4400" spc="-1" strike="noStrike">
                <a:solidFill>
                  <a:srgbClr val="ff33cc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ко        </a:t>
            </a:r>
            <a:r>
              <a:rPr b="1" lang="ru-RU" sz="4400" spc="-1" strike="noStrike">
                <a:solidFill>
                  <a:srgbClr val="ff33cc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си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776240" y="547560"/>
            <a:ext cx="6232680" cy="4897440"/>
          </a:xfrm>
          <a:prstGeom prst="rect">
            <a:avLst/>
          </a:prstGeom>
          <a:ln w="28440">
            <a:solidFill>
              <a:srgbClr val="990000"/>
            </a:solidFill>
            <a:miter/>
          </a:ln>
        </p:spPr>
      </p:pic>
      <p:sp>
        <p:nvSpPr>
          <p:cNvPr id="108" name="Text Box 5"/>
          <p:cNvSpPr/>
          <p:nvPr/>
        </p:nvSpPr>
        <p:spPr>
          <a:xfrm>
            <a:off x="2057400" y="5835600"/>
            <a:ext cx="657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. Левитан «Золотая осень»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ahoma"/>
              </a:rPr>
              <a:t>ВСТАВЬ ПРОПУЩЕННЫЕ БУКВЫ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240" y="1496880"/>
            <a:ext cx="8255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Ст..яли  ненас?ные ..сенние дни. Тучи плотно з..крыли  со?нце. С раннего утра до поз?него вечера льёт х..лодный до….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2193840" y="1577880"/>
            <a:ext cx="50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о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5051520" y="1628640"/>
            <a:ext cx="420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Arial"/>
              </a:rPr>
              <a:t>т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6626160" y="1616040"/>
            <a:ext cx="76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о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6664320" y="222732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а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2308320" y="2862360"/>
            <a:ext cx="36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л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2612880" y="3484440"/>
            <a:ext cx="7970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Arial"/>
              </a:rPr>
              <a:t>д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2016000" y="4003560"/>
            <a:ext cx="6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о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4987800" y="4094280"/>
            <a:ext cx="11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жд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726920" y="849240"/>
            <a:ext cx="7010280" cy="53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1. Уж небо осенью дыша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2. С чего начинается Роди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3. Что же ты, соловуш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песен не поеш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4. Любите родную прир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5. В лес грибной тебя зо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Тихим  утром ос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6. Берегите наши ле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Sun_alley-we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WordArt 3"/>
          <p:cNvSpPr txBox="1"/>
          <p:nvPr/>
        </p:nvSpPr>
        <p:spPr>
          <a:xfrm>
            <a:off x="468360" y="4149720"/>
            <a:ext cx="8424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ерегите наши леса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fade thruBlk="true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15:57:26Z</dcterms:created>
  <dc:creator>User</dc:creator>
  <dc:description/>
  <cp:keywords/>
  <dc:language>en-US</dc:language>
  <cp:lastModifiedBy>Ирина</cp:lastModifiedBy>
  <dcterms:modified xsi:type="dcterms:W3CDTF">2014-01-21T16:40:27Z</dcterms:modified>
  <cp:revision>83</cp:revision>
  <dc:subject/>
  <dc:title>Classroom Expect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89511033</vt:lpwstr>
  </property>
</Properties>
</file>