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3.jpeg" ContentType="image/jpeg"/>
  <Override PartName="/ppt/media/image31.jpeg" ContentType="image/jpeg"/>
  <Override PartName="/ppt/media/image44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43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45.jpeg" ContentType="image/jpeg"/>
  <Override PartName="/ppt/media/image46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3.jpeg" ContentType="image/jpeg"/>
  <Override PartName="/ppt/media/image37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76AC-63E7-49A6-9DAE-BBA617F01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1D51-AF51-4B43-ADF2-5AB1AD20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7B2D-C2CE-48B7-9DE8-DDF280853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1E13-90CD-4CF0-8F0F-160F395BE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8C64-E7A3-4522-A2D5-FF1BC3D0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ED96-5F8A-4DEB-8963-4FA10BA3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E9D1-66B7-4DB2-BA97-C531A75B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DBCD-07B5-43FE-A7B3-BEBB21DE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02CA-8C2D-4ED6-83FF-74883542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CB18-DD67-4F0C-BEE9-4DD9A9E9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98AC-BFCC-450D-8CD1-790892D9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D609-C1A4-447B-9843-BD88368D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BF3E-CC07-47BB-807B-699D39257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527120" y="639720"/>
            <a:ext cx="477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95280" y="1341360"/>
            <a:ext cx="84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Arial"/>
              </a:rPr>
              <a:t>Тема: «Здоровый обра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i="1" lang="en-US" sz="5400" spc="-1" strike="noStrike">
                <a:solidFill>
                  <a:srgbClr val="ffffff"/>
                </a:solidFill>
                <a:latin typeface="Arial"/>
              </a:rPr>
              <a:t>жизни»       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img"/>
          <p:cNvPicPr/>
          <p:nvPr/>
        </p:nvPicPr>
        <p:blipFill>
          <a:blip r:embed="rId1"/>
          <a:stretch/>
        </p:blipFill>
        <p:spPr>
          <a:xfrm>
            <a:off x="755640" y="3068640"/>
            <a:ext cx="21146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0" y="36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ществует деление факторов повреждающих здоровье на так называемые объективные и субъективные факторы. К объективным факторам относятся: плохая экология, фактор наследственности, психо-эмоциональное напряжение (стрессы), уровень развития медицины, социально-экономический статус стра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0" y="2997360"/>
            <a:ext cx="4859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субъективным факторам относятся: вредные привычки, малоподвижный образ жизни, неправильное питание, нерациональный режим жизни (работа, отдых, сон), психо-эмоциональное напряж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1"/>
          <p:cNvPicPr/>
          <p:nvPr/>
        </p:nvPicPr>
        <p:blipFill>
          <a:blip r:embed="rId1"/>
          <a:stretch/>
        </p:blipFill>
        <p:spPr>
          <a:xfrm>
            <a:off x="4788000" y="3500280"/>
            <a:ext cx="435600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0" y="260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 сожалению, многие люди не соблюдают самых простейших, обоснованных наукой норм здорового образа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324000" y="5300640"/>
            <a:ext cx="85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которые люди, поддаваясь пагубной привычке к курению и алкоголю, активно укорачивают свою жиз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1545"/>
          <p:cNvPicPr/>
          <p:nvPr/>
        </p:nvPicPr>
        <p:blipFill>
          <a:blip r:embed="rId1"/>
          <a:stretch/>
        </p:blipFill>
        <p:spPr>
          <a:xfrm>
            <a:off x="3132000" y="1268280"/>
            <a:ext cx="417672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3132000" y="362520"/>
            <a:ext cx="622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дни становятся жертвами малоподвижности (гиподинамии), вызывающей преждевременное старение, другие излишествуют в еде с почти неизбежным в этих случаях развитием ожирения, склероза сосудов, а у некоторых - сахарного диабета, третьи не умеют отдыхать, отвлекаться от производственных и бытовых забот, вечно беспокойны, нервны, страдают бессонницей что в конечном итоге приводит к многочисленным заболеваниям внутренних орган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28"/>
          <p:cNvPicPr/>
          <p:nvPr/>
        </p:nvPicPr>
        <p:blipFill>
          <a:blip r:embed="rId1"/>
          <a:stretch/>
        </p:blipFill>
        <p:spPr>
          <a:xfrm>
            <a:off x="250920" y="836640"/>
            <a:ext cx="31161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0" y="21960"/>
            <a:ext cx="521964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храна собственного здоровь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т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посредственная обязанность каждого, он не вправе перекладывать ее на окружающих. Ведь нередко бывает и так, что человек неправильным образом жизни, вредными привычками, гиподинамией, перееданием уже к 20-30 годам доводит себя до катастрофического состояния и лишь тогда вспоминает о медицине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baner_molod"/>
          <p:cNvPicPr/>
          <p:nvPr/>
        </p:nvPicPr>
        <p:blipFill>
          <a:blip r:embed="rId1"/>
          <a:stretch/>
        </p:blipFill>
        <p:spPr>
          <a:xfrm>
            <a:off x="4889520" y="333360"/>
            <a:ext cx="42544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3995640" y="216000"/>
            <a:ext cx="5148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доровый образ жизни - это образ жизни, основанный на принципах нравственности, рационально организованный, активный, трудовой, закаливающий и, в то же время, защищающий от неблагоприятных воздействий окружающей среды, позволяющий до глубокой старости сохранять нравственное, психическое и физическое здоровь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ph00000205"/>
          <p:cNvPicPr/>
          <p:nvPr/>
        </p:nvPicPr>
        <p:blipFill>
          <a:blip r:embed="rId1"/>
          <a:stretch/>
        </p:blipFill>
        <p:spPr>
          <a:xfrm>
            <a:off x="324000" y="692280"/>
            <a:ext cx="37731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0" y="6084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каз от вредных привычек, и прежде всего отказ от курения как самой часто встречающейся пагубной привычки - это еще один важный шаг на пути к собственному здоровью. От курения стоит отказаться хотя бы потому, что это наносит вред вашим детям и самым близким люд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1-web copy"/>
          <p:cNvPicPr/>
          <p:nvPr/>
        </p:nvPicPr>
        <p:blipFill>
          <a:blip r:embed="rId1"/>
          <a:stretch/>
        </p:blipFill>
        <p:spPr>
          <a:xfrm>
            <a:off x="971640" y="2781360"/>
            <a:ext cx="54417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179280" y="189000"/>
            <a:ext cx="6516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акой бы совершенной ни была медицина, она не может избавить каждого от всех болезней. Человек - сам творец своего здоровья, за которое надо бороть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3"/>
          <p:cNvPicPr/>
          <p:nvPr/>
        </p:nvPicPr>
        <p:blipFill>
          <a:blip r:embed="rId1"/>
          <a:stretch/>
        </p:blipFill>
        <p:spPr>
          <a:xfrm>
            <a:off x="4824360" y="2349360"/>
            <a:ext cx="4319640" cy="29037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"/>
          <p:cNvSpPr/>
          <p:nvPr/>
        </p:nvSpPr>
        <p:spPr>
          <a:xfrm>
            <a:off x="0" y="2421000"/>
            <a:ext cx="49467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 раннего возраста необходимо вести активный образ жизни, закаливаться, заниматься физкультурой и спортом, соблюдать правила личной гигиены, - словом, добиваться разумными путями подлинной гармонии здоров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0" y="9000"/>
            <a:ext cx="934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офилактика болезней – путь к здоровому образу 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2236680" y="1052640"/>
            <a:ext cx="6907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олезни — бич человечества. Сколько сотен и тысяч жизней они уносят безвременно. У скольких людей отнимают радость созидательного тр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aist"/>
          <p:cNvPicPr/>
          <p:nvPr/>
        </p:nvPicPr>
        <p:blipFill>
          <a:blip r:embed="rId1"/>
          <a:stretch/>
        </p:blipFill>
        <p:spPr>
          <a:xfrm>
            <a:off x="468360" y="3068640"/>
            <a:ext cx="468000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3065400" y="981000"/>
            <a:ext cx="6078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сть два рода болезней. Одни происходят от заражения микробами и вирусами, проникающими в организм извне. Это инфекционные заболевания. А другие возникают большей частью от нарушения режима труда и отдыха, неправильного питания, от охлаждения, перегрева, плохого освещения, неправильной осанки, вредных привыч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stress"/>
          <p:cNvPicPr/>
          <p:nvPr/>
        </p:nvPicPr>
        <p:blipFill>
          <a:blip r:embed="rId1"/>
          <a:stretch/>
        </p:blipFill>
        <p:spPr>
          <a:xfrm>
            <a:off x="179280" y="1844640"/>
            <a:ext cx="26496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3924360" y="190800"/>
            <a:ext cx="4788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Если человек крепок, закален, то его организм может активно сопротивляться и тем и другим болезням. У ослабленных же людей сопротивляемость снижена, и они часто боле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так, самое верное средство борьбы с любыми болезнями —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укрепление здоровья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1106813"/>
          <p:cNvPicPr/>
          <p:nvPr/>
        </p:nvPicPr>
        <p:blipFill>
          <a:blip r:embed="rId1"/>
          <a:stretch/>
        </p:blipFill>
        <p:spPr>
          <a:xfrm>
            <a:off x="395280" y="1413000"/>
            <a:ext cx="367200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0" y="183240"/>
            <a:ext cx="4968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Здоровый образ 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доровье - это первая и важнейшая потребность человека, определяющая способность его к труду и обеспечивающая гармоническое развитие личности. Оно является важнейшей предпосылкой к познанию окружающего мира, к самоутверждению и счастью человека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ratio"/>
          <p:cNvPicPr/>
          <p:nvPr/>
        </p:nvPicPr>
        <p:blipFill>
          <a:blip r:embed="rId1"/>
          <a:stretch/>
        </p:blipFill>
        <p:spPr>
          <a:xfrm>
            <a:off x="4932360" y="1125360"/>
            <a:ext cx="396072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fruits_and_vegetables"/>
          <p:cNvPicPr/>
          <p:nvPr/>
        </p:nvPicPr>
        <p:blipFill>
          <a:blip r:embed="rId1"/>
          <a:stretch/>
        </p:blipFill>
        <p:spPr>
          <a:xfrm>
            <a:off x="4500720" y="189000"/>
            <a:ext cx="4317840" cy="38098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324000" y="260280"/>
            <a:ext cx="4103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к же его укрепить? Для этого есть немало средств: физкультура и спорт, закаливание,соблюдение правил гигиены, хорошее п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4368960"/>
            <a:ext cx="8618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аждый человек имеет большие возможности для укрепления и поддержания своего здоровья, для сохранения трудоспособности, физической активности и бодрости до глубокой старости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250920" y="195480"/>
            <a:ext cx="88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иологически активные добавки необходимо принимать систематически. Организм должен получать все необходимые для жизнедеятельности вещества каждый день и в достаточном количестве. Это необходимое условие для достижения оптимального здоровь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FDA"/>
          <p:cNvPicPr/>
          <p:nvPr/>
        </p:nvPicPr>
        <p:blipFill>
          <a:blip r:embed="rId1"/>
          <a:stretch/>
        </p:blipFill>
        <p:spPr>
          <a:xfrm>
            <a:off x="2050920" y="2708280"/>
            <a:ext cx="446580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0" y="407664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тем в течение очередного полугодия следует чередовать антиоксидантные, иммуномодулирующие, витаминно-минеральные и питающие комплексы, с учетом индивидуальных особенностей вашего организ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Konfernor3_html_m48eef155"/>
          <p:cNvPicPr/>
          <p:nvPr/>
        </p:nvPicPr>
        <p:blipFill>
          <a:blip r:embed="rId1"/>
          <a:stretch/>
        </p:blipFill>
        <p:spPr>
          <a:xfrm>
            <a:off x="250920" y="692280"/>
            <a:ext cx="4105080" cy="2916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4427640" y="260280"/>
            <a:ext cx="4321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ва раза в год, в наиболее трудные периоды (осень и весна) необходима профилактическая комплексная очистка и основательное подкрепление орган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250920" y="1882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ислород: дышать, есть, впитывать кож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0" y="284940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се клетки нашего организма непрерывно нуждаются в кислороде. Современная экология, стрессы, неправильное питание и курение приводят к тому, что организм не в состоянии получать столько кислорода, сколько ему необходимо для полноценной деятельности. А в результате – нарушение обменных процессов, преждевременное старение (снаружи и изнутри), риск сердечно-сосудистых заболеваний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bg_1_1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472680" y="188280"/>
            <a:ext cx="404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ислородный коктейл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0" y="434160"/>
            <a:ext cx="61563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ислородный коктейль полезен для нервной системы, улучшает сон, борется с синдромом хронической усталости. Особую привлекательность кислородный коктейль имеет для худеющих и людей с заболеваниями желудочно-кишечного тракта. По мнению врачей, через пищеварительную систему в кровь и ткани поступает в 10 раз больше кислорода, чем при дыхании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kisl"/>
          <p:cNvPicPr/>
          <p:nvPr/>
        </p:nvPicPr>
        <p:blipFill>
          <a:blip r:embed="rId1"/>
          <a:stretch/>
        </p:blipFill>
        <p:spPr>
          <a:xfrm>
            <a:off x="6141960" y="1341360"/>
            <a:ext cx="2700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pic_9340"/>
          <p:cNvPicPr/>
          <p:nvPr/>
        </p:nvPicPr>
        <p:blipFill>
          <a:blip r:embed="rId1"/>
          <a:stretch/>
        </p:blipFill>
        <p:spPr>
          <a:xfrm>
            <a:off x="5076720" y="1197000"/>
            <a:ext cx="3610080" cy="4572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6"/>
          <p:cNvSpPr/>
          <p:nvPr/>
        </p:nvSpPr>
        <p:spPr>
          <a:xfrm>
            <a:off x="0" y="745560"/>
            <a:ext cx="4932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ислородный коктейль насыщают экстрактами солодки и шиповника, благодаря чему он активно стимулирует иммунную систему. Кислородный коктейль безвреден, его можно принимать даже беременным, детсадовца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 пожилым людям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805680" y="158040"/>
            <a:ext cx="425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Движение – это жизн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1167120"/>
            <a:ext cx="5003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становлено, что школьники, систематически занимающиеся спортом, физически более развиты, чем их сверстники, которые не занимаются спорт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5-1"/>
          <p:cNvPicPr/>
          <p:nvPr/>
        </p:nvPicPr>
        <p:blipFill>
          <a:blip r:embed="rId1"/>
          <a:stretch/>
        </p:blipFill>
        <p:spPr>
          <a:xfrm>
            <a:off x="4822920" y="836640"/>
            <a:ext cx="43210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0" y="429264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ни выше ростом, имеют больший вес и окружность грудной клетки, мышечная сила и жизненная емкость легких у них выше. (Жизненная емкость легких — наибольший объем выдохнутого воздуха после наиболее глубокого вдоха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464674"/>
          <p:cNvPicPr/>
          <p:nvPr/>
        </p:nvPicPr>
        <p:blipFill>
          <a:blip r:embed="rId1"/>
          <a:stretch/>
        </p:blipFill>
        <p:spPr>
          <a:xfrm>
            <a:off x="1042920" y="260280"/>
            <a:ext cx="3171960" cy="4149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1"/>
          <p:cNvPicPr/>
          <p:nvPr/>
        </p:nvPicPr>
        <p:blipFill>
          <a:blip r:embed="rId2"/>
          <a:stretch/>
        </p:blipFill>
        <p:spPr>
          <a:xfrm>
            <a:off x="4427640" y="620640"/>
            <a:ext cx="442728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4356000" y="476280"/>
            <a:ext cx="50086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нятия физкультурой и спортом тренируют сердечно-сосудистую систему, делают ее выносливой к большим нагрузкам. Физическая нагрузка способствует развитию костно-мышечной систем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250920" y="4400640"/>
            <a:ext cx="8281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тренняя гимнастика, уроки физкультуры, занятия в спортивных секциях, подвижные игры и спортивные развлечения, туризм — все это укрепляет здоровье и предохраняет организм от заболева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2"/>
          <p:cNvPicPr/>
          <p:nvPr/>
        </p:nvPicPr>
        <p:blipFill>
          <a:blip r:embed="rId1"/>
          <a:stretch/>
        </p:blipFill>
        <p:spPr>
          <a:xfrm>
            <a:off x="611280" y="260280"/>
            <a:ext cx="317484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football"/>
          <p:cNvPicPr/>
          <p:nvPr/>
        </p:nvPicPr>
        <p:blipFill>
          <a:blip r:embed="rId1"/>
          <a:stretch/>
        </p:blipFill>
        <p:spPr>
          <a:xfrm>
            <a:off x="3708360" y="2060640"/>
            <a:ext cx="5168880" cy="33652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>
            <a:off x="0" y="981000"/>
            <a:ext cx="42116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Есть еще одна очень важная сторона физического воспитания – закаливание. Специальными исследованиями доказано, что закаленные дети значительно реже болеют гриппом, ангиной, чем незакаленны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0" y="-5400"/>
            <a:ext cx="5508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Здоровье - это бесценное достояние не только каждого человека, но и всего общества. При встречах, расставаниях с близкими и дорогими людьми мы желаем им доброго и крепкого здоровья, так как это - основное условие и залог полноценной и счастливой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title8bn"/>
          <p:cNvPicPr/>
          <p:nvPr/>
        </p:nvPicPr>
        <p:blipFill>
          <a:blip r:embed="rId1"/>
          <a:stretch/>
        </p:blipFill>
        <p:spPr>
          <a:xfrm>
            <a:off x="5003640" y="3213000"/>
            <a:ext cx="360072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4427640" y="1239840"/>
            <a:ext cx="471636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ежим 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режиме дня должно быть все точно распределено: продолжительность учебных занятий и дома, прогулки, регулярность питания, сон, чередование труда и отдыха. И это не случайное требова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philosophy1"/>
          <p:cNvPicPr/>
          <p:nvPr/>
        </p:nvPicPr>
        <p:blipFill>
          <a:blip r:embed="rId1"/>
          <a:stretch/>
        </p:blipFill>
        <p:spPr>
          <a:xfrm>
            <a:off x="179280" y="1125360"/>
            <a:ext cx="410544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4716360" y="360360"/>
            <a:ext cx="44276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гда человек соблюдает правильный режим, у него вырабатываются условные рефлексы и каждая предыдущая деятельность становится сигналом последующей. Это помогает организму легко и быстро переключаться с одного состояния на друго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8"/>
          <p:cNvPicPr/>
          <p:nvPr/>
        </p:nvPicPr>
        <p:blipFill>
          <a:blip r:embed="rId1"/>
          <a:stretch/>
        </p:blipFill>
        <p:spPr>
          <a:xfrm>
            <a:off x="324000" y="620640"/>
            <a:ext cx="419868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logo"/>
          <p:cNvPicPr/>
          <p:nvPr/>
        </p:nvPicPr>
        <p:blipFill>
          <a:blip r:embed="rId1"/>
          <a:stretch/>
        </p:blipFill>
        <p:spPr>
          <a:xfrm>
            <a:off x="179280" y="2708280"/>
            <a:ext cx="3961080" cy="38354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0" y="0"/>
            <a:ext cx="8675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менее важен и сон. Продолжительность сна уменьшаеться с возрастом: для 7-8 лет она составляет 11,5ч., 9-10 лет 10,5-10 ч.,11-12 лет – 10ч., 13-15лет 9,5 ч. и 16-18 лет 8,5-8 часов. Полноценный отдых во время сна наступает только в том случае, если сон достаточно глуб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4500720" y="2781360"/>
            <a:ext cx="4427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 для того, чтобы крепко спать надо ложиться в одно и то же время, перед сном избегать шумных игр, яркого света, хорошо проветривать комнату, оставлять открытой форточку на ночь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250920" y="399960"/>
            <a:ext cx="4681440" cy="39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ерегите зре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чего у некоторых развивается близорукость и можно ли ее предотвратить? Конечно, можно, если выполнять несложные правила, которые помогают сохранить зр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-324000" y="4394160"/>
            <a:ext cx="946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чтении и письме книги и тетради должны находиться на расстоянии не ближе 30 см от гл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сохранения хорошего зрения очень важна правильная посадка за партой, рабочим столом. Вредно читать лежа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main_right_1"/>
          <p:cNvPicPr/>
          <p:nvPr/>
        </p:nvPicPr>
        <p:blipFill>
          <a:blip r:embed="rId1"/>
          <a:stretch/>
        </p:blipFill>
        <p:spPr>
          <a:xfrm>
            <a:off x="4859280" y="549360"/>
            <a:ext cx="38163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179280" y="4203720"/>
            <a:ext cx="8604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этому стол для занятий нужно ставить ближе к окну и так, чтобы свет падал слева. Искусственное освещение должно быть достаточным по силе, равномерным, не давать резких теней, не создавать блеск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4572000" y="0"/>
            <a:ext cx="45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ля нормальной работы глаз — хорошее освещение. Освещенность непосредственно у окна в 6—8 раз выше, чем в простенке между окн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p04"/>
          <p:cNvPicPr/>
          <p:nvPr/>
        </p:nvPicPr>
        <p:blipFill>
          <a:blip r:embed="rId1"/>
          <a:stretch/>
        </p:blipFill>
        <p:spPr>
          <a:xfrm>
            <a:off x="179280" y="404640"/>
            <a:ext cx="4392720" cy="32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0" y="4220640"/>
            <a:ext cx="9144000" cy="26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 у человека, который ходит, ссутулившись, опустив голову и плечи, выпятив живот, на полусогнутых ногах, осанка неправильная. Это не только некрасиво, но и вредно, так как затрудняет деятельность внутренних органов и может вызвать искривление позвоноч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Безымянный"/>
          <p:cNvPicPr/>
          <p:nvPr/>
        </p:nvPicPr>
        <p:blipFill>
          <a:blip r:embed="rId1"/>
          <a:stretch/>
        </p:blipFill>
        <p:spPr>
          <a:xfrm>
            <a:off x="5003640" y="1125360"/>
            <a:ext cx="3780000" cy="28353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7"/>
          <p:cNvSpPr/>
          <p:nvPr/>
        </p:nvSpPr>
        <p:spPr>
          <a:xfrm>
            <a:off x="0" y="0"/>
            <a:ext cx="5183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санка - это важ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Осанка —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это умение человека держать свое тело в различных положениях. Правильная осанка естественна и красива: туловище выпрямлено, голова поднята, плечи расправле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3780000" y="191160"/>
            <a:ext cx="5076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асто Плохая осанка возникает у ослабленных, болезненных школьников. Они быстро утомляются и во время работы принимают неправильную позу. Затем эта поза становится привычной и приводит к неправильной осанке и искривлению позвоночника. Систематические занятия физической культурой помогают выработать правильную осан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kzf_21_02_big"/>
          <p:cNvPicPr/>
          <p:nvPr/>
        </p:nvPicPr>
        <p:blipFill>
          <a:blip r:embed="rId1"/>
          <a:stretch/>
        </p:blipFill>
        <p:spPr>
          <a:xfrm>
            <a:off x="0" y="404640"/>
            <a:ext cx="3600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0" y="1080"/>
            <a:ext cx="5292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ежим п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рачи утверждают, что полноценное рациональное питание - важное условие сохранения здоровья и высокой работоспособности взрослых, а для детей еще и необходимое условие роста и развит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fruits_and_vegetables"/>
          <p:cNvPicPr/>
          <p:nvPr/>
        </p:nvPicPr>
        <p:blipFill>
          <a:blip r:embed="rId1"/>
          <a:stretch/>
        </p:blipFill>
        <p:spPr>
          <a:xfrm>
            <a:off x="5257800" y="476280"/>
            <a:ext cx="3886200" cy="3429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7"/>
          <p:cNvSpPr/>
          <p:nvPr/>
        </p:nvSpPr>
        <p:spPr>
          <a:xfrm>
            <a:off x="0" y="377676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нормального роста, развития и поддержания жизнедеятельности организму необходимы белки, жиры, углеводы, витамины и минеральные соли в нужном ему количестве. Пища обеспечивает челове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нергией, чтобы двигаться и сохранять температуру тел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0" y="4680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чень большое значение для усвоения пищи имеет режим питания, то есть правильное распределение приемов ее в течение дн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spro"/>
          <p:cNvPicPr/>
          <p:nvPr/>
        </p:nvPicPr>
        <p:blipFill>
          <a:blip r:embed="rId1"/>
          <a:stretch/>
        </p:blipFill>
        <p:spPr>
          <a:xfrm>
            <a:off x="5219640" y="2492280"/>
            <a:ext cx="3564000" cy="3267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6"/>
          <p:cNvSpPr/>
          <p:nvPr/>
        </p:nvSpPr>
        <p:spPr>
          <a:xfrm>
            <a:off x="0" y="1773360"/>
            <a:ext cx="5724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оказано, что при правильных промежутках между кормлениями к часу приема пищи создается здоровый аппетит. При запаздывании с кормлением расстраивается налаженная работа пищеварительных желез, уменьшается выделение пищеварительных соков и постепенно пропадает аппетит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3995640" y="639720"/>
            <a:ext cx="4851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Личная гиги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ольшое значение в охране и укреплении здоровья принадлежит  гигиеническому обучению и воспитанию. Гигиеническое воспитание — это часть общего воспитания, а гигиенические навыки — это неотъемлемая часть культурного пове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vostok"/>
          <p:cNvPicPr/>
          <p:nvPr/>
        </p:nvPicPr>
        <p:blipFill>
          <a:blip r:embed="rId1"/>
          <a:stretch/>
        </p:blipFill>
        <p:spPr>
          <a:xfrm>
            <a:off x="250920" y="1197000"/>
            <a:ext cx="3376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788000" y="61560"/>
            <a:ext cx="4356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Здоровье  - это полное физическое, психическое и социальное благополучие, а не только отсутствие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болезней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или физических дефектов</a:t>
            </a:r>
            <a:r>
              <a:rPr b="0" lang="en-US" sz="2800" spc="-1" strike="noStrike">
                <a:solidFill>
                  <a:srgbClr val="010101"/>
                </a:solidFill>
                <a:latin typeface="Verdana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lip_image001"/>
          <p:cNvPicPr/>
          <p:nvPr/>
        </p:nvPicPr>
        <p:blipFill>
          <a:blip r:embed="rId1"/>
          <a:stretch/>
        </p:blipFill>
        <p:spPr>
          <a:xfrm>
            <a:off x="250920" y="333360"/>
            <a:ext cx="4392360" cy="43401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0" y="4797360"/>
            <a:ext cx="88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качестве основных составляющих здорового образа жизни можно назвать способность к рефлекции, состояние среды обитания, приемлемый режим труда и отды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0" y="-3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ичная гигиена — это уход за своим телом и содержание его в чистоте. Кожа защищает тело человека от болезн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0" y="1413000"/>
            <a:ext cx="6156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сли кожу долго не мыть, то на ней накапливается жир и пот, на которых задерживаются частицы пыли. От этого кожа становится грязной, грубой и перестает защищать тело. Грязная кожа может принести вред здоровью и, кроме того, грязные, неряшливые люди всегда неприятны всем окружающим. Поэтому кожу нужно мыть и за не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обходимо ухаживать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girlhappy"/>
          <p:cNvPicPr/>
          <p:nvPr/>
        </p:nvPicPr>
        <p:blipFill>
          <a:blip r:embed="rId1"/>
          <a:stretch/>
        </p:blipFill>
        <p:spPr>
          <a:xfrm>
            <a:off x="6012000" y="1268280"/>
            <a:ext cx="312732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0" y="720"/>
            <a:ext cx="896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чень многие люди начинают свое оздоровление с отказа от курения, которое считается одной из самых опасных привычек современного человека. Недаром медики считают, что с курением непосредственно связаны самые серьезные болезни сердца, сосудов, легких. Курение не только подтачивает здоровье, но и забирает силы в самом прямом смысл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8" descr="190"/>
          <p:cNvPicPr/>
          <p:nvPr/>
        </p:nvPicPr>
        <p:blipFill>
          <a:blip r:embed="rId1"/>
          <a:stretch/>
        </p:blipFill>
        <p:spPr>
          <a:xfrm>
            <a:off x="3708360" y="3357720"/>
            <a:ext cx="3240000" cy="30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0" y="306864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установили советские специалисты, через 5-9 минут после выкуривания одной только сигареты мускульная сила снижается на 15%, спортсмены знают это по опыту и потому, как правило, не курят.  Курильщик вдыхает не все вредные вещества, находящиеся в табачном дыме,около половины достается  тем, кто находится рядом с ни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mini_813"/>
          <p:cNvPicPr/>
          <p:nvPr/>
        </p:nvPicPr>
        <p:blipFill>
          <a:blip r:embed="rId1"/>
          <a:stretch/>
        </p:blipFill>
        <p:spPr>
          <a:xfrm>
            <a:off x="1258920" y="189000"/>
            <a:ext cx="360036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-252360" y="720"/>
            <a:ext cx="9575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ы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ыть здоровым-естественное желание каждого . Хорошее здоровье-это радостное восприятие жизни, высокая трудоспособн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поддержания здорового образа жизни надо соблюдать несколько простых правил:соблюдать режим дня; заниматься спортом;регулярно посещ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чашего врача с целью профилактики болез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006_320"/>
          <p:cNvPicPr/>
          <p:nvPr/>
        </p:nvPicPr>
        <p:blipFill>
          <a:blip r:embed="rId1"/>
          <a:stretch/>
        </p:blipFill>
        <p:spPr>
          <a:xfrm>
            <a:off x="2124000" y="3500280"/>
            <a:ext cx="4535640" cy="31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179280" y="360"/>
            <a:ext cx="8353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народе говорят: «Здоровому все здорово!» Об этой простой и мудрой истине следует помнить всегда, а не только в те моменты, когда в организме начинаются сбои и мы вынуждены обращаться к врачам, требуя от них подчас невозможн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img-ae765%5B1%5D"/>
          <p:cNvPicPr/>
          <p:nvPr/>
        </p:nvPicPr>
        <p:blipFill>
          <a:blip r:embed="rId1"/>
          <a:stretch/>
        </p:blipFill>
        <p:spPr>
          <a:xfrm>
            <a:off x="0" y="2852640"/>
            <a:ext cx="4392720" cy="32940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7"/>
          <p:cNvSpPr/>
          <p:nvPr/>
        </p:nvSpPr>
        <p:spPr>
          <a:xfrm>
            <a:off x="4500720" y="2495520"/>
            <a:ext cx="4422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ой бы совершенной ни была медицина, она не может избавить каждого от всех болезней. Сегодня каждый человек должен понимать, что его здоровье и жизнь, в первую очередь, зависят от него сам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0" y="260280"/>
            <a:ext cx="64436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жде всего, речь идет о формировании у человека здорового образа жизни, опирающийся на сознательное и ответственное отношение к своему здоровью, не сводящееся к борьбе с болезнями. Здоровый образ жизни - это знание правил санитарии, гигиены жилищ и экологии,строгое соблюдение гигиены тела, приобщение к физкультуре и спорту, гигиена физического и умственного труда, гигиена личной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post-14450-1173722846"/>
          <p:cNvPicPr/>
          <p:nvPr/>
        </p:nvPicPr>
        <p:blipFill>
          <a:blip r:embed="rId1"/>
          <a:stretch/>
        </p:blipFill>
        <p:spPr>
          <a:xfrm>
            <a:off x="6203880" y="1341360"/>
            <a:ext cx="29401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539640" y="-154080"/>
            <a:ext cx="7488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писок используемой литерат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Ю. М. Данько, «Здоровое тело»19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. М. Амосов, «Раздумья о здоровье» 198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. Г. Бернарская, «Искусство быть красивы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. П. Брязгунов, «Беседы о здоровье школьников» 1992-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. Н. Куинджи, «Валеология: пути формирования здоровья школьников»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пулярная медицинская энциклопедия (гл. ред. В.И. Покровский)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. Е. Оранский, «Будьте здоровы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image001"/>
          <p:cNvPicPr/>
          <p:nvPr/>
        </p:nvPicPr>
        <p:blipFill>
          <a:blip r:embed="rId1"/>
          <a:stretch/>
        </p:blipFill>
        <p:spPr>
          <a:xfrm>
            <a:off x="1835280" y="3357720"/>
            <a:ext cx="469584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395280" y="3191760"/>
            <a:ext cx="8329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доровье помогает нам выполнять наши планы, успешно решать жизненные основные задачи, преодолевать трудности, а если придется, то и значительные перегрузки. Доброе здоровье, разумно сохраняемое и укрепляемое самим человеком, обеспечивает ему долгую и активную жиз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Katalog"/>
          <p:cNvPicPr/>
          <p:nvPr/>
        </p:nvPicPr>
        <p:blipFill>
          <a:blip r:embed="rId1"/>
          <a:stretch/>
        </p:blipFill>
        <p:spPr>
          <a:xfrm>
            <a:off x="1187280" y="260280"/>
            <a:ext cx="64090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3203640" y="1080"/>
            <a:ext cx="6156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знаками здоровья являются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устойчивость к действию повреждающих факторов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показатели роста и развития в пределах среднестатистической норм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функциональное состояние организма в пределах среднестатистической нормы;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header_woman_running"/>
          <p:cNvPicPr/>
          <p:nvPr/>
        </p:nvPicPr>
        <p:blipFill>
          <a:blip r:embed="rId1"/>
          <a:stretch/>
        </p:blipFill>
        <p:spPr>
          <a:xfrm>
            <a:off x="179280" y="1052640"/>
            <a:ext cx="3240360" cy="2313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250920" y="3933720"/>
            <a:ext cx="820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наличие резервных возможностей организм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отсутствие какого-либо заболевания или дефектов развит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высокий уровень морально-волевых и ценностно-мотивационных установ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179280" y="874800"/>
            <a:ext cx="5400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Факторами риска для здоровья являются избыточная масса тела, гиподинамия, нерациональное питание, психическое перенапряжение, злоупотребление алкоголем, курение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um01"/>
          <p:cNvPicPr/>
          <p:nvPr/>
        </p:nvPicPr>
        <p:blipFill>
          <a:blip r:embed="rId1"/>
          <a:stretch/>
        </p:blipFill>
        <p:spPr>
          <a:xfrm>
            <a:off x="5586480" y="836640"/>
            <a:ext cx="34034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0" y="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аланс здоровья человека между организмом и окружающей средой обеспечивается комплексом факторов – биологических, социальных, политических, экономических, культурных, психологических, которые объединяются в 4 группы с различным вкладом в индивидуальное здоровь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RTEmagicC_Risunok2"/>
          <p:cNvPicPr/>
          <p:nvPr/>
        </p:nvPicPr>
        <p:blipFill>
          <a:blip r:embed="rId1"/>
          <a:stretch/>
        </p:blipFill>
        <p:spPr>
          <a:xfrm>
            <a:off x="5508720" y="3284640"/>
            <a:ext cx="3429000" cy="25714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0" y="2495520"/>
            <a:ext cx="608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х соотношение применительно к нашей стране выглядит следующим образом: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енетические факторы – 15-20%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стояние окружающей среды – 20-25%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едицинское обеспечение – 8-10%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словия и образ жизни людей – 50-55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6"/>
          <p:cNvSpPr/>
          <p:nvPr/>
        </p:nvSpPr>
        <p:spPr>
          <a:xfrm>
            <a:off x="5651640" y="1198080"/>
            <a:ext cx="3492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учные данные свидетельствуют о том, что у большинства людей при соблюдении ими гигиенических правил есть возможность жить до 100 лет и бол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7971971182435853"/>
          <p:cNvPicPr/>
          <p:nvPr/>
        </p:nvPicPr>
        <p:blipFill>
          <a:blip r:embed="rId1"/>
          <a:stretch/>
        </p:blipFill>
        <p:spPr>
          <a:xfrm>
            <a:off x="1116000" y="549360"/>
            <a:ext cx="386244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14:37:36Z</dcterms:created>
  <dc:creator>5psy.ru - первый психологический портал</dc:creator>
  <dc:description/>
  <dc:language>en-US</dc:language>
  <cp:lastModifiedBy>Trade</cp:lastModifiedBy>
  <dcterms:modified xsi:type="dcterms:W3CDTF">2002-01-20T19:54:24Z</dcterms:modified>
  <cp:revision>11</cp:revision>
  <dc:subject/>
  <dc:title>Здоровый образ жизни</dc:title>
</cp:coreProperties>
</file>