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5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C7D-F267-4EF9-A62D-446EDFE0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DE9-B6FF-4137-B0DD-A588CF3F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9E9-6BB1-47E6-AF29-7DE89DA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3AC-282C-4F24-9644-B7811930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EDD-DE89-4B06-AFAE-AB526893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0FA-1484-424A-A703-417D885C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C6D-CC84-4F80-9BFB-2DE1003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8FC-5462-42EB-A684-A27B1B2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560-54BC-4813-84AD-D6B44833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91A-6F15-4496-A595-420EF79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488-0532-4607-B0EE-A895F22D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9BF-631F-4D90-9A54-7B22AF3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FA61-4985-416A-89F4-1D894284E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7120" y="639720"/>
            <a:ext cx="477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134136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Тема: «Здоровый обр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жизни»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mg"/>
          <p:cNvPicPr/>
          <p:nvPr/>
        </p:nvPicPr>
        <p:blipFill>
          <a:blip r:embed="rId1"/>
          <a:stretch/>
        </p:blipFill>
        <p:spPr>
          <a:xfrm>
            <a:off x="755640" y="3068640"/>
            <a:ext cx="2114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3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деление факторов повреждающих здоровье на так называемые объективные и субъективные факторы. К объективным факторам относятся: плохая экология, фактор наследственности, психо-эмоциональное напряжение (стрессы), уровень развития медицины, социально-экономический статус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2997360"/>
            <a:ext cx="485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субъективным факторам относятся: вредные привычки, малоподвижный образ жизни, неправильное питание, нерациональный режим жизни (работа, отдых, сон), психо-эмоциональное напря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"/>
          <p:cNvPicPr/>
          <p:nvPr/>
        </p:nvPicPr>
        <p:blipFill>
          <a:blip r:embed="rId1"/>
          <a:stretch/>
        </p:blipFill>
        <p:spPr>
          <a:xfrm>
            <a:off x="4788000" y="3500280"/>
            <a:ext cx="435600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сожалению, многие люди не соблюдают самых простейших, обоснованных наукой норм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5300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которые люди, поддаваясь пагубной привычке к курению и алкоголю, активно укорачивают сво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1545"/>
          <p:cNvPicPr/>
          <p:nvPr/>
        </p:nvPicPr>
        <p:blipFill>
          <a:blip r:embed="rId1"/>
          <a:stretch/>
        </p:blipFill>
        <p:spPr>
          <a:xfrm>
            <a:off x="3132000" y="1268280"/>
            <a:ext cx="417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132000" y="362520"/>
            <a:ext cx="62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и становятся жертвами малоподвижности (гиподинамии), вызывающей преждевременное старение, другие излишествуют в еде с почти неизбежным в этих случаях развитием ожирения, склероза сосудов, а у некоторых - сахарного диабета, третьи не умеют отдыхать, отвлекаться от производственных и бытовых забот, вечно беспокойны, нервны, страдают бессонницей что в конечном итоге приводит к многочисленным заболеваниям внутренних орга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8"/>
          <p:cNvPicPr/>
          <p:nvPr/>
        </p:nvPicPr>
        <p:blipFill>
          <a:blip r:embed="rId1"/>
          <a:stretch/>
        </p:blipFill>
        <p:spPr>
          <a:xfrm>
            <a:off x="250920" y="836640"/>
            <a:ext cx="311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21960"/>
            <a:ext cx="52196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храна собственного здоровь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средственная обязанность каждого, он не вправе перекладывать ее на окружающих. Ведь нередко бывает и так, что человек неправильным образом жизни, вредными привычками, гиподинамией, перееданием уже к 20-30 годам доводит себя до катастрофического состояния и лишь тогда вспоминает о медицине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ner_molod"/>
          <p:cNvPicPr/>
          <p:nvPr/>
        </p:nvPicPr>
        <p:blipFill>
          <a:blip r:embed="rId1"/>
          <a:stretch/>
        </p:blipFill>
        <p:spPr>
          <a:xfrm>
            <a:off x="4889520" y="333360"/>
            <a:ext cx="4254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995640" y="216000"/>
            <a:ext cx="5148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оровый образ жизни - это образ жизни, основанный на принципах нравственности, рационально организованный, активный, трудовой, закаливающий и, в то же время, защищающий от неблагоприятных воздействий окружающей среды, позволяющий до глубокой старости сохранять нравственное, психическое и физическое здоров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h00000205"/>
          <p:cNvPicPr/>
          <p:nvPr/>
        </p:nvPicPr>
        <p:blipFill>
          <a:blip r:embed="rId1"/>
          <a:stretch/>
        </p:blipFill>
        <p:spPr>
          <a:xfrm>
            <a:off x="324000" y="692280"/>
            <a:ext cx="37731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608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аз от вредных привычек, и прежде всего отказ от курения как самой часто встречающейся пагубной привычки - это еще один важный шаг на пути к собственному здоровью. От курения стоит отказаться хотя бы потому, что это наносит вред вашим детям и самым близким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-web copy"/>
          <p:cNvPicPr/>
          <p:nvPr/>
        </p:nvPicPr>
        <p:blipFill>
          <a:blip r:embed="rId1"/>
          <a:stretch/>
        </p:blipFill>
        <p:spPr>
          <a:xfrm>
            <a:off x="971640" y="2781360"/>
            <a:ext cx="544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79280" y="189000"/>
            <a:ext cx="65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ой бы совершенной ни была медицина, она не может избавить каждого от всех болезней. Человек - сам творец своего здоровья, за которое надо боро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3"/>
          <p:cNvPicPr/>
          <p:nvPr/>
        </p:nvPicPr>
        <p:blipFill>
          <a:blip r:embed="rId1"/>
          <a:stretch/>
        </p:blipFill>
        <p:spPr>
          <a:xfrm>
            <a:off x="4824360" y="2349360"/>
            <a:ext cx="4319640" cy="2903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0" y="2421000"/>
            <a:ext cx="4946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раннего возраста необходимо вести активный образ жизни, закаливаться, заниматься физкультурой и спортом, соблюдать правила личной гигиены, - словом, добиваться разумными путями подлинной гармони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9000"/>
            <a:ext cx="934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а болезней – путь к здоровому образу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236680" y="1052640"/>
            <a:ext cx="690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зни — бич человечества. Сколько сотен и тысяч жизней они уносят безвременно. У скольких людей отнимают радость созидатель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ist"/>
          <p:cNvPicPr/>
          <p:nvPr/>
        </p:nvPicPr>
        <p:blipFill>
          <a:blip r:embed="rId1"/>
          <a:stretch/>
        </p:blipFill>
        <p:spPr>
          <a:xfrm>
            <a:off x="468360" y="3068640"/>
            <a:ext cx="46800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065400" y="981000"/>
            <a:ext cx="6078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два рода болезней. Одни происходят от заражения микробами и вирусами, проникающими в организм извне. Это инфекционные заболевания. А другие возникают большей частью от нарушения режима труда и отдыха, неправильного питания, от охлаждения, перегрева, плохого освещения, неправильной осанки, вредных привы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ress"/>
          <p:cNvPicPr/>
          <p:nvPr/>
        </p:nvPicPr>
        <p:blipFill>
          <a:blip r:embed="rId1"/>
          <a:stretch/>
        </p:blipFill>
        <p:spPr>
          <a:xfrm>
            <a:off x="179280" y="1844640"/>
            <a:ext cx="264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924360" y="190800"/>
            <a:ext cx="478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человек крепок, закален, то его организм может активно сопротивляться и тем и другим болезням. У ослабленных же людей сопротивляемость снижена, и они часто бол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так, самое верное средство борьбы с любыми болезнями —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крепление здоровь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106813"/>
          <p:cNvPicPr/>
          <p:nvPr/>
        </p:nvPicPr>
        <p:blipFill>
          <a:blip r:embed="rId1"/>
          <a:stretch/>
        </p:blipFill>
        <p:spPr>
          <a:xfrm>
            <a:off x="395280" y="1413000"/>
            <a:ext cx="3672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83240"/>
            <a:ext cx="496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доровье - это первая и важнейшая потребность человека, определяющая способность его к труду и обеспечивающая гармоническое развитие личности. Оно является важнейшей предпосылкой к познанию окружающего мира, к самоутверждению и счастью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atio"/>
          <p:cNvPicPr/>
          <p:nvPr/>
        </p:nvPicPr>
        <p:blipFill>
          <a:blip r:embed="rId1"/>
          <a:stretch/>
        </p:blipFill>
        <p:spPr>
          <a:xfrm>
            <a:off x="4932360" y="1125360"/>
            <a:ext cx="3960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fruits_and_vegetables"/>
          <p:cNvPicPr/>
          <p:nvPr/>
        </p:nvPicPr>
        <p:blipFill>
          <a:blip r:embed="rId1"/>
          <a:stretch/>
        </p:blipFill>
        <p:spPr>
          <a:xfrm>
            <a:off x="4500720" y="189000"/>
            <a:ext cx="4317840" cy="3809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24000" y="260280"/>
            <a:ext cx="410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же его укрепить? Для этого есть немало средств: физкультура и спорт, закаливание,соблюдение правил гигиены, хороше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4368960"/>
            <a:ext cx="8618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ждый человек имеет большие возможности для укрепления и поддержания своего здоровья, для сохранения трудоспособности, физической активности и бодрости до глубокой старост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50920" y="1954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чески активные добавки необходимо принимать систематически. Организм должен получать все необходимые для жизнедеятельности вещества каждый день и в достаточном количестве. Это необходимое условие для достижения оптимального здоров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DA"/>
          <p:cNvPicPr/>
          <p:nvPr/>
        </p:nvPicPr>
        <p:blipFill>
          <a:blip r:embed="rId1"/>
          <a:stretch/>
        </p:blipFill>
        <p:spPr>
          <a:xfrm>
            <a:off x="2050920" y="2708280"/>
            <a:ext cx="44658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4076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тем в течение очередного полугодия следует чередовать антиоксидантные, иммуномодулирующие, витаминно-минеральные и питающие комплексы, с учетом индивидуальных особенностей вашего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Konfernor3_html_m48eef155"/>
          <p:cNvPicPr/>
          <p:nvPr/>
        </p:nvPicPr>
        <p:blipFill>
          <a:blip r:embed="rId1"/>
          <a:stretch/>
        </p:blipFill>
        <p:spPr>
          <a:xfrm>
            <a:off x="250920" y="692280"/>
            <a:ext cx="4105080" cy="2916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427640" y="260280"/>
            <a:ext cx="432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а раза в год, в наиболее трудные периоды (осень и весна) необходима профилактическая комплексная очистка и основательное подкреп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50920" y="188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слород: дышать, есть, впитывать ко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28494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 клетки нашего организма непрерывно нуждаются в кислороде. Современная экология, стрессы, неправильное питание и курение приводят к тому, что организм не в состоянии получать столько кислорода, сколько ему необходимо для полноценной деятельности. А в результате – нарушение обменных процессов, преждевременное старение (снаружи и изнутри), риск сердечно-сосудистых заболев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bg_1_1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72680" y="18828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слородный коктей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434160"/>
            <a:ext cx="615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слородный коктейль полезен для нервной системы, улучшает сон, борется с синдромом хронической усталости. Особую привлекательность кислородный коктейль имеет для худеющих и людей с заболеваниями желудочно-кишечного тракта. По мнению врачей, через пищеварительную систему в кровь и ткани поступает в 10 раз больше кислорода, чем при дыхани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kisl"/>
          <p:cNvPicPr/>
          <p:nvPr/>
        </p:nvPicPr>
        <p:blipFill>
          <a:blip r:embed="rId1"/>
          <a:stretch/>
        </p:blipFill>
        <p:spPr>
          <a:xfrm>
            <a:off x="6141960" y="1341360"/>
            <a:ext cx="270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_9340"/>
          <p:cNvPicPr/>
          <p:nvPr/>
        </p:nvPicPr>
        <p:blipFill>
          <a:blip r:embed="rId1"/>
          <a:stretch/>
        </p:blipFill>
        <p:spPr>
          <a:xfrm>
            <a:off x="5076720" y="1197000"/>
            <a:ext cx="361008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0" y="745560"/>
            <a:ext cx="493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слородный коктейль насыщают экстрактами солодки и шиповника, благодаря чему он активно стимулирует иммунную систему. Кислородный коктейль безвреден, его можно принимать даже беременным, детсадовц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пожилым людя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05680" y="158040"/>
            <a:ext cx="42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вижение – это жиз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16712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новлено, что школьники, систематически занимающиеся спортом, физически более развиты, чем их сверстники, которые не занимаются спор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5-1"/>
          <p:cNvPicPr/>
          <p:nvPr/>
        </p:nvPicPr>
        <p:blipFill>
          <a:blip r:embed="rId1"/>
          <a:stretch/>
        </p:blipFill>
        <p:spPr>
          <a:xfrm>
            <a:off x="4822920" y="836640"/>
            <a:ext cx="43210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429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и выше ростом, имеют больший вес и окружность грудной клетки, мышечная сила и жизненная емкость легких у них выше. (Жизненная емкость легких — наибольший объем выдохнутого воздуха после наиболее глубокого вдох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64674"/>
          <p:cNvPicPr/>
          <p:nvPr/>
        </p:nvPicPr>
        <p:blipFill>
          <a:blip r:embed="rId1"/>
          <a:stretch/>
        </p:blipFill>
        <p:spPr>
          <a:xfrm>
            <a:off x="1042920" y="260280"/>
            <a:ext cx="3171960" cy="414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"/>
          <p:cNvPicPr/>
          <p:nvPr/>
        </p:nvPicPr>
        <p:blipFill>
          <a:blip r:embed="rId2"/>
          <a:stretch/>
        </p:blipFill>
        <p:spPr>
          <a:xfrm>
            <a:off x="4427640" y="620640"/>
            <a:ext cx="44272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356000" y="476280"/>
            <a:ext cx="5008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нятия физкультурой и спортом тренируют сердечно-сосудистую систему, делают ее выносливой к большим нагрузкам. Физическая нагрузка способствует развитию костно-мышеч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0920" y="4400640"/>
            <a:ext cx="82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ренняя гимнастика, уроки физкультуры, занятия в спортивных секциях, подвижные игры и спортивные развлечения, туризм — все это укрепляет здоровье и предохраняет организм от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2"/>
          <p:cNvPicPr/>
          <p:nvPr/>
        </p:nvPicPr>
        <p:blipFill>
          <a:blip r:embed="rId1"/>
          <a:stretch/>
        </p:blipFill>
        <p:spPr>
          <a:xfrm>
            <a:off x="611280" y="260280"/>
            <a:ext cx="3174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football"/>
          <p:cNvPicPr/>
          <p:nvPr/>
        </p:nvPicPr>
        <p:blipFill>
          <a:blip r:embed="rId1"/>
          <a:stretch/>
        </p:blipFill>
        <p:spPr>
          <a:xfrm>
            <a:off x="3708360" y="2060640"/>
            <a:ext cx="5168880" cy="3365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0" y="981000"/>
            <a:ext cx="421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ть еще одна очень важная сторона физического воспитания – закаливание. Специальными исследованиями доказано, что закаленные дети значительно реже болеют гриппом, ангиной, чем незакал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5400"/>
            <a:ext cx="55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доровье - это бесценное достояние не только каждого человека, но и всего общества. При встречах, расставаниях с близкими и дорогими людьми мы желаем им доброго и крепкого здоровья, так как это - основное условие и залог полноценной и счастлив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title8bn"/>
          <p:cNvPicPr/>
          <p:nvPr/>
        </p:nvPicPr>
        <p:blipFill>
          <a:blip r:embed="rId1"/>
          <a:stretch/>
        </p:blipFill>
        <p:spPr>
          <a:xfrm>
            <a:off x="5003640" y="3213000"/>
            <a:ext cx="3600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4427640" y="1239840"/>
            <a:ext cx="47163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режиме дня должно быть все точно распределено: продолжительность учебных занятий и дома, прогулки, регулярность питания, сон, чередование труда и отдыха. И это не случайное треб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hilosophy1"/>
          <p:cNvPicPr/>
          <p:nvPr/>
        </p:nvPicPr>
        <p:blipFill>
          <a:blip r:embed="rId1"/>
          <a:stretch/>
        </p:blipFill>
        <p:spPr>
          <a:xfrm>
            <a:off x="179280" y="112536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716360" y="360360"/>
            <a:ext cx="44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человек соблюдает правильный режим, у него вырабатываются условные рефлексы и каждая предыдущая деятельность становится сигналом последующей. Это помогает организму легко и быстро переключаться с одного состояния на друг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324000" y="620640"/>
            <a:ext cx="41986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logo"/>
          <p:cNvPicPr/>
          <p:nvPr/>
        </p:nvPicPr>
        <p:blipFill>
          <a:blip r:embed="rId1"/>
          <a:stretch/>
        </p:blipFill>
        <p:spPr>
          <a:xfrm>
            <a:off x="179280" y="2708280"/>
            <a:ext cx="396108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0" y="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менее важен и сон. Продолжительность сна уменьшаеться с возрастом: для 7-8 лет она составляет 11,5ч., 9-10 лет 10,5-10 ч.,11-12 лет – 10ч., 13-15лет 9,5 ч. и 16-18 лет 8,5-8 часов. Полноценный отдых во время сна наступает только в том случае, если сон достаточно глуб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500720" y="2781360"/>
            <a:ext cx="442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для того, чтобы крепко спать надо ложиться в одно и то же время, перед сном избегать шумных игр, яркого света, хорошо проветривать комнату, оставлять открытой форточку на ноч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399960"/>
            <a:ext cx="468144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чего у некоторых развивается близорукость и можно ли ее предотвратить? Конечно, можно, если выполнять несложные правила, которые помогают сохранить з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324000" y="4394160"/>
            <a:ext cx="946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чтении и письме книги и тетради должны находиться на расстоянии не ближе 30 см от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охранения хорошего зрения очень важна правильная посадка за партой, рабочим столом. Вредно читать леж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main_right_1"/>
          <p:cNvPicPr/>
          <p:nvPr/>
        </p:nvPicPr>
        <p:blipFill>
          <a:blip r:embed="rId1"/>
          <a:stretch/>
        </p:blipFill>
        <p:spPr>
          <a:xfrm>
            <a:off x="4859280" y="549360"/>
            <a:ext cx="3816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79280" y="4203720"/>
            <a:ext cx="860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этому стол для занятий нужно ставить ближе к окну и так, чтобы свет падал слева. Искусственное освещение должно быть достаточным по силе, равномерным, не давать резких теней, не создавать бле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0" y="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ля нормальной работы глаз — хорошее освещение. Освещенность непосредственно у окна в 6—8 раз выше, чем в простенке между ок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p04"/>
          <p:cNvPicPr/>
          <p:nvPr/>
        </p:nvPicPr>
        <p:blipFill>
          <a:blip r:embed="rId1"/>
          <a:stretch/>
        </p:blipFill>
        <p:spPr>
          <a:xfrm>
            <a:off x="179280" y="404640"/>
            <a:ext cx="439272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4220640"/>
            <a:ext cx="9144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у человека, который ходит, ссутулившись, опустив голову и плечи, выпятив живот, на полусогнутых ногах, осанка неправильная. Это не только некрасиво, но и вредно, так как затрудняет деятельность внутренних органов и может вызвать искривление позвоно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Безымянный"/>
          <p:cNvPicPr/>
          <p:nvPr/>
        </p:nvPicPr>
        <p:blipFill>
          <a:blip r:embed="rId1"/>
          <a:stretch/>
        </p:blipFill>
        <p:spPr>
          <a:xfrm>
            <a:off x="5003640" y="1125360"/>
            <a:ext cx="3780000" cy="2835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0" y="0"/>
            <a:ext cx="518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анка - это 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санка —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о умение человека держать свое тело в различных положениях. Правильная осанка естественна и красива: туловище выпрямлено, голова поднята, плечи расправл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780000" y="191160"/>
            <a:ext cx="50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 Плохая осанка возникает у ослабленных, болезненных школьников. Они быстро утомляются и во время работы принимают неправильную позу. Затем эта поза становится привычной и приводит к неправильной осанке и искривлению позвоночника. Систематические занятия физической культурой помогают выработать правильную ос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kzf_21_02_big"/>
          <p:cNvPicPr/>
          <p:nvPr/>
        </p:nvPicPr>
        <p:blipFill>
          <a:blip r:embed="rId1"/>
          <a:stretch/>
        </p:blipFill>
        <p:spPr>
          <a:xfrm>
            <a:off x="0" y="404640"/>
            <a:ext cx="360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1080"/>
            <a:ext cx="529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жим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ачи утверждают, что полноценное рациональное питание - важное условие сохранения здоровья и высокой работоспособности взрослых, а для детей еще и необходимое условие роста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ruits_and_vegetables"/>
          <p:cNvPicPr/>
          <p:nvPr/>
        </p:nvPicPr>
        <p:blipFill>
          <a:blip r:embed="rId1"/>
          <a:stretch/>
        </p:blipFill>
        <p:spPr>
          <a:xfrm>
            <a:off x="5257800" y="4762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0" y="37767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нормального роста, развития и поддержания жизнедеятельности организму необходимы белки, жиры, углеводы, витамины и минеральные соли в нужном ему количестве. Пища обеспечивает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нергией, чтобы двигаться и сохранять температуру тел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468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большое значение для усвоения пищи имеет режим питания, то есть правильное распределение приемов ее в течение д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spro"/>
          <p:cNvPicPr/>
          <p:nvPr/>
        </p:nvPicPr>
        <p:blipFill>
          <a:blip r:embed="rId1"/>
          <a:stretch/>
        </p:blipFill>
        <p:spPr>
          <a:xfrm>
            <a:off x="5219640" y="2492280"/>
            <a:ext cx="3564000" cy="3267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0" y="1773360"/>
            <a:ext cx="572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но, что при правильных промежутках между кормлениями к часу приема пищи создается здоровый аппетит. При запаздывании с кормлением расстраивается налаженная работа пищеварительных желез, уменьшается выделение пищеварительных соков и постепенно пропадает аппети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995640" y="639720"/>
            <a:ext cx="4851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ое значение в охране и укреплении здоровья принадлежит  гигиеническому обучению и воспитанию. Гигиеническое воспитание — это часть общего воспитания, а гигиенические навыки — это неотъемлемая часть культур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stok"/>
          <p:cNvPicPr/>
          <p:nvPr/>
        </p:nvPicPr>
        <p:blipFill>
          <a:blip r:embed="rId1"/>
          <a:stretch/>
        </p:blipFill>
        <p:spPr>
          <a:xfrm>
            <a:off x="250920" y="1197000"/>
            <a:ext cx="3376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788000" y="61560"/>
            <a:ext cx="43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Здоровье  - это полное физическое, психическое и социальное благополучие, а не только отсутстви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езне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или физических дефектов</a:t>
            </a:r>
            <a:r>
              <a:rPr b="0" lang="en-US" sz="2800" spc="-1" strike="noStrike">
                <a:solidFill>
                  <a:srgbClr val="010101"/>
                </a:solidFill>
                <a:latin typeface="Verdan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lip_image001"/>
          <p:cNvPicPr/>
          <p:nvPr/>
        </p:nvPicPr>
        <p:blipFill>
          <a:blip r:embed="rId1"/>
          <a:stretch/>
        </p:blipFill>
        <p:spPr>
          <a:xfrm>
            <a:off x="250920" y="333360"/>
            <a:ext cx="4392360" cy="4340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479736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ачестве основных составляющих здорового образа жизни можно назвать способность к рефлекции, состояние среды обитания, приемлемый режим труда 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-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чная гигиена — это уход за своим телом и содержание его в чистоте. Кожа защищает тело человека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41300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кожу долго не мыть, то на ней накапливается жир и пот, на которых задерживаются частицы пыли. От этого кожа становится грязной, грубой и перестает защищать тело. Грязная кожа может принести вред здоровью и, кроме того, грязные, неряшливые люди всегда неприятны всем окружающим. Поэтому кожу нужно мыть и за н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 ухажив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girlhappy"/>
          <p:cNvPicPr/>
          <p:nvPr/>
        </p:nvPicPr>
        <p:blipFill>
          <a:blip r:embed="rId1"/>
          <a:stretch/>
        </p:blipFill>
        <p:spPr>
          <a:xfrm>
            <a:off x="6012000" y="1268280"/>
            <a:ext cx="3127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72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чень многие люди начинают свое оздоровление с отказа от курения, которое считается одной из самых опасных привычек современного человека. Недаром медики считают, что с курением непосредственно связаны самые серьезные болезни сердца, сосудов, легких. Курение не только подтачивает здоровье, но и забирает силы в самом прямом смыс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190"/>
          <p:cNvPicPr/>
          <p:nvPr/>
        </p:nvPicPr>
        <p:blipFill>
          <a:blip r:embed="rId1"/>
          <a:stretch/>
        </p:blipFill>
        <p:spPr>
          <a:xfrm>
            <a:off x="3708360" y="3357720"/>
            <a:ext cx="324000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30686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установили советские специалисты, через 5-9 минут после выкуривания одной только сигареты мускульная сила снижается на 15%, спортсмены знают это по опыту и потому, как правило, не курят.  Курильщик вдыхает не все вредные вещества, находящиеся в табачном дыме,около половины достается  тем, кто находится рядом с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ini_813"/>
          <p:cNvPicPr/>
          <p:nvPr/>
        </p:nvPicPr>
        <p:blipFill>
          <a:blip r:embed="rId1"/>
          <a:stretch/>
        </p:blipFill>
        <p:spPr>
          <a:xfrm>
            <a:off x="1258920" y="189000"/>
            <a:ext cx="3600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-252360" y="720"/>
            <a:ext cx="95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ть здоровым-естественное желание каждого . Хорошее здоровье-это радостное восприятие жизни, высокая труд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оддержания здорового образа жизни надо соблюдать несколько простых правил:соблюдать режим дня; заниматься спортом;регулярно посещ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ашего врача с целью профилактики боле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006_320"/>
          <p:cNvPicPr/>
          <p:nvPr/>
        </p:nvPicPr>
        <p:blipFill>
          <a:blip r:embed="rId1"/>
          <a:stretch/>
        </p:blipFill>
        <p:spPr>
          <a:xfrm>
            <a:off x="2124000" y="3500280"/>
            <a:ext cx="4535640" cy="31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79280" y="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роде говорят: «Здоровому все здорово!» Об этой простой и мудрой истине следует помнить всегда, а не только в те моменты, когда в организме начинаются сбои и мы вынуждены обращаться к врачам, требуя от них подчас невозмож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img-ae765%5B1%5D"/>
          <p:cNvPicPr/>
          <p:nvPr/>
        </p:nvPicPr>
        <p:blipFill>
          <a:blip r:embed="rId1"/>
          <a:stretch/>
        </p:blipFill>
        <p:spPr>
          <a:xfrm>
            <a:off x="0" y="285264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4500720" y="2495520"/>
            <a:ext cx="4422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ой бы совершенной ни была медицина, она не может избавить каждого от всех болезней. Сегодня каждый человек должен понимать, что его здоровье и жизнь, в первую очередь, зависят от него са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0" y="260280"/>
            <a:ext cx="6443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жде всего, речь идет о формировании у человека здорового образа жизни, опирающийся на сознательное и ответственное отношение к своему здоровью, не сводящееся к борьбе с болезнями. Здоровый образ жизни - это знание правил санитарии, гигиены жилищ и экологии,строгое соблюдение гигиены тела, приобщение к физкультуре и спорту, гигиена физического и умственного труда, гигиена ли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ost-14450-1173722846"/>
          <p:cNvPicPr/>
          <p:nvPr/>
        </p:nvPicPr>
        <p:blipFill>
          <a:blip r:embed="rId1"/>
          <a:stretch/>
        </p:blipFill>
        <p:spPr>
          <a:xfrm>
            <a:off x="6203880" y="1341360"/>
            <a:ext cx="29401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539640" y="-154080"/>
            <a:ext cx="748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сок используем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 М. Данько, «Здоровое тело»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. М. Амосов, «Раздумья о здоровье» 198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 Г. Бернарская, «Искусство быть красивы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 П. Брязгунов, «Беседы о здоровье школьников» 1992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. Н. Куинджи, «Валеология: пути формирования здоровья школьников»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улярная медицинская энциклопедия (гл. ред. В.И. Покровский)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. Е. Оранский, «Будьте здоровы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image001"/>
          <p:cNvPicPr/>
          <p:nvPr/>
        </p:nvPicPr>
        <p:blipFill>
          <a:blip r:embed="rId1"/>
          <a:stretch/>
        </p:blipFill>
        <p:spPr>
          <a:xfrm>
            <a:off x="1835280" y="3357720"/>
            <a:ext cx="4695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3191760"/>
            <a:ext cx="832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доровье помогает нам выполнять наши планы, успешно решать жизненные основные задачи, преодолевать трудности, а если придется, то и значительные перегрузки. Доброе здоровье, разумно сохраняемое и укрепляемое самим человеком, обеспечивает ему долгую и актив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atalog"/>
          <p:cNvPicPr/>
          <p:nvPr/>
        </p:nvPicPr>
        <p:blipFill>
          <a:blip r:embed="rId1"/>
          <a:stretch/>
        </p:blipFill>
        <p:spPr>
          <a:xfrm>
            <a:off x="1187280" y="260280"/>
            <a:ext cx="6409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203640" y="1080"/>
            <a:ext cx="615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знаками здоровья являются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устойчивость к действию повреждающих фак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показатели роста и развития в пределах среднестатистической нор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функциональное состояние организма в пределах среднестатистической нормы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eader_woman_running"/>
          <p:cNvPicPr/>
          <p:nvPr/>
        </p:nvPicPr>
        <p:blipFill>
          <a:blip r:embed="rId1"/>
          <a:stretch/>
        </p:blipFill>
        <p:spPr>
          <a:xfrm>
            <a:off x="179280" y="1052640"/>
            <a:ext cx="3240360" cy="2313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50920" y="393372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наличие резервных возможностей организм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отсутствие какого-либо заболевания или дефектов развит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высокий уровень морально-волевых и ценностно-мотивационных устан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79280" y="874800"/>
            <a:ext cx="54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ами риска для здоровья являются избыточная масса тела, гиподинамия, нерациональное питание, психическое перенапряжение, злоупотребление алкоголем, курен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um01"/>
          <p:cNvPicPr/>
          <p:nvPr/>
        </p:nvPicPr>
        <p:blipFill>
          <a:blip r:embed="rId1"/>
          <a:stretch/>
        </p:blipFill>
        <p:spPr>
          <a:xfrm>
            <a:off x="5586480" y="836640"/>
            <a:ext cx="340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ланс здоровья человека между организмом и окружающей средой обеспечивается комплексом факторов – биологических, социальных, политических, экономических, культурных, психологических, которые объединяются в 4 группы с различным вкладом в индивидуальное здоровь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RTEmagicC_Risunok2"/>
          <p:cNvPicPr/>
          <p:nvPr/>
        </p:nvPicPr>
        <p:blipFill>
          <a:blip r:embed="rId1"/>
          <a:stretch/>
        </p:blipFill>
        <p:spPr>
          <a:xfrm>
            <a:off x="5508720" y="328464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0" y="2495520"/>
            <a:ext cx="608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х соотношение применительно к нашей стране выглядит следующим образом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нетические факторы – 15-2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ояние окружающей среды – 20-25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дицинское обеспечение – 8-10%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вия и образ жизни людей – 50-5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5651640" y="1198080"/>
            <a:ext cx="349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учные данные свидетельствуют о том, что у большинства людей при соблюдении ими гигиенических правил есть возможность жить до 100 лет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7971971182435853"/>
          <p:cNvPicPr/>
          <p:nvPr/>
        </p:nvPicPr>
        <p:blipFill>
          <a:blip r:embed="rId1"/>
          <a:stretch/>
        </p:blipFill>
        <p:spPr>
          <a:xfrm>
            <a:off x="1116000" y="549360"/>
            <a:ext cx="3862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7:36Z</dcterms:created>
  <dc:creator>5psy.ru - первый психологический портал</dc:creator>
  <dc:description/>
  <dc:language>en-US</dc:language>
  <cp:lastModifiedBy>Trade</cp:lastModifiedBy>
  <dcterms:modified xsi:type="dcterms:W3CDTF">2002-01-20T19:54:24Z</dcterms:modified>
  <cp:revision>11</cp:revision>
  <dc:subject/>
  <dc:title>Здоровый образ жизни</dc:title>
</cp:coreProperties>
</file>