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F00-EFE5-4393-9762-8CA5CC86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4B0-2569-4805-AC20-6AECC8CB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CEF-493C-4FE2-894F-31EAFD3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C3E-086B-40A7-9AC3-85EB38FC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5190-73CC-4566-AAEC-96DD3740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9028-76B6-45FC-8C36-C332D97E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5F6-3E0B-4B44-A92D-DAED1CF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D08F-6F25-434C-B005-B436838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B03-C8EE-4529-8AC3-5E93B46A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3C2F-2CF7-4C1B-B028-F94D0C94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CA1C-23DC-4065-90AD-72C984DF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FA9-C661-433D-A66D-C143055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3C43-F9F0-45CC-B737-B0A81A3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57A5-E2CF-494D-BFAA-C86689A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BE5-1042-4B3B-BD66-1C9F9706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86C-2D08-4799-8C08-A95EAB24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080-7C96-4313-B2C8-C844C0AC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0F3-F420-4809-A775-2B63509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436-9FA4-4B53-B731-89F7730B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D37-0ABC-48D6-B453-BF1BF58F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F7F-37E3-4BC2-885D-74D6DC3A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CE2-07C7-4C53-AF15-22AEE68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8E0-BDFF-48A7-9C35-1A36341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2E5-49BC-4F3D-9649-7F62489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E476-B192-46E5-A9A0-17270D9D62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8267-1DE7-40D0-A6D4-2F15BE9469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000" y="2491920"/>
            <a:ext cx="766764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 организованная дея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рисованию в младшей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тель Завьялова Н.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итанники младшей групп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БДОУ д/с №69 Выборгского района С-Пб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35280" y="98100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сто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ель зан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звивать эстетическое восприятие, формировать образные предст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ь детей правильно держать кисть, опускать ее в краску всем ворсом, снимать лишнюю каплю о край баноч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пражнять в приемах рис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ить изображать листочки способом прикладывания ворса кисти к бумаг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вторение признаков осени и закрепить знание цветов(желтый, красный, зеле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звать положительные эмо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-819360"/>
            <a:ext cx="796428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язь с другими видами деятельност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варительная раб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комство детей с осенними явлениями(листья желтеют, краснеют и падают на землю; меняется погода, становится пасмурно и дождливо, люди собирают овощи, фрук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ссматривание картины «Осень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Чтение художественной литературы об осени, заучивание  стихотворения «Осень» А.Плещее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ставление рассказа об осени по картин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прогулке наблюдения за деревьями, за листьями, сбор разноцветных листье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ы: «Листопад»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цель: закреплять знания цветов; учить соблюдать правила подвижной игры);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У кого какой листок»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цель: развивать конструктивные навыки, зрительное внимание; закреплять знание цвета, величины(большие, маленькие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.Сюрпризный мо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1773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 гости заяц к нам пришел, чтобы узнать у детей что происходит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еревьями в лесу, на них совсем нет листьев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ети рассказывают зайке о том, что наступила осень, стало холодно, листья желтеют, краснеют и опадаю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нечка: Листопад, листопад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Листья желтые летя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 ногой они шуршат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коро голый будет сад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йка предлагает детям нарисовать ему на память листопад…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рассаживаются за столы, я уточняю какими цветами будем рисовать и показываю каким способом мы будем рис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ти подходят и показывают, как они будут рисовать листоч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234040" y="3962520"/>
            <a:ext cx="2577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уем листоп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зкульт. Мину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,два, три, четыре, пять-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агать н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каждый должен знать.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ест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ето, осень и зима,    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уки поднять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потом придет весна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хлопаем в ладош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ы теперь друг друга спроси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настало нынче?  (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вести руки 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ЕНЬ!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ороны и посмотр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уг на друг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35280" y="1773360"/>
            <a:ext cx="2238480" cy="1679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932360" y="3716280"/>
            <a:ext cx="268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готовые работы выставляем на доску, рассматрива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йка хвалит детей, просит забрать работы с собой в лес, чтобы подарить другим лесным жителя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23404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2340000" y="38606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19280" y="2492280"/>
            <a:ext cx="51055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9:26:07Z</dcterms:created>
  <dc:creator>Пользователь</dc:creator>
  <dc:description/>
  <dc:language>en-US</dc:language>
  <cp:lastModifiedBy>Пользователь</cp:lastModifiedBy>
  <dcterms:modified xsi:type="dcterms:W3CDTF">2012-10-28T11:02:04Z</dcterms:modified>
  <cp:revision>4</cp:revision>
  <dc:subject/>
  <dc:title>Слайд 1</dc:title>
</cp:coreProperties>
</file>