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097-0003-4256-BFEF-C138D373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D39-A450-4C46-8C8A-12547BBD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8D6-F4C1-4212-8C23-A765477F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466-78D7-4C2D-9A1E-F0F35626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81D5-3C04-43B4-9976-EB7CCCAA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BC9A-AA5F-44B5-9432-402A4E55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A79-DF2B-4400-BB76-7ED8053D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7F0A-1195-4B91-9361-B503F50D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AF4F-0C61-4D2E-82BE-8442CDCE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B1D8-58B9-4BAD-AABA-8F771A2D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F1B1-B7AD-43AF-9430-404D2F9B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3EF-D9CF-404F-A0FD-413A03BD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2A9-1C85-4329-B8C6-EB70F3E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0A9D-3232-4D5D-A59E-D8532243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A5FD-5577-4EA6-BA65-D6A0D45F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B0F2-5541-4C30-9617-C2305F99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F54F-F09F-4698-9CA5-E41E01D3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63C-9E68-4AF0-82D3-35F5C05F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51A-99EB-4938-A110-58F520AB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6C8-479B-4566-A385-BA36811C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19E-D8F5-40AB-A917-613A8E1B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0E4-15B4-4632-95C4-92D1D93F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CD0-E00A-44C2-A087-B4560634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5E7-2F0F-4105-BDDC-314D97E4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7AE-3C35-4FDD-8375-9EF723D8F6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C8EA-CC70-42C9-AC37-8DA63D8550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000" y="2491920"/>
            <a:ext cx="766764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 организованная дея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рисованию в младшей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итатель Завьялова Н.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итанники младшей групп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БДОУ д/с №69 Выборгского района С-Пб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35280" y="981000"/>
            <a:ext cx="48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сто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Цель занят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звивать эстетическое восприятие, формировать образные предст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чить детей правильно держать кисть, опускать ее в краску всем ворсом, снимать лишнюю каплю о край баноч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пражнять в приемах рис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чить изображать листочки способом прикладывания ворса кисти к бумаг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вторение признаков осени и закрепить знание цветов(желтый, красный, зеле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звать положительные эмо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-819360"/>
            <a:ext cx="7964280" cy="21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вязь с другими видами деятельност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едварительная раб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накомство детей с осенними явлениями(листья желтеют, краснеют и падают на землю; меняется погода, становится пасмурно и дождливо, люди собирают овощи, фрук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ссматривание картины «Осень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Чтение художественной литературы об осени, заучивание  стихотворения «Осень» А.Плещее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ставление рассказа об осени по картинк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прогулке наблюдения за деревьями, за листьями, сбор разноцветных листье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ы: «Листопад»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цель: закреплять знания цветов; учить соблюдать правила подвижной игры);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У кого какой листок»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цель: развивать конструктивные навыки, зрительное внимание; закреплять знание цвета, величины(большие, маленькие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Сюрпризный мо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66640" y="241452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17733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 гости заяц к нам пришел, чтобы узнать у детей что происходит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еревьями в лесу, на них совсем нет листьев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464328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ети рассказывают зайке о том, что наступила осень, стало холодно, листья желтеют, краснеют и опадаю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нечка: Листопад, листопад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Листья желтые летят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 ногой они шуршат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коро голый будет сад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йка предлагает детям нарисовать ему на память листопад…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464328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ти рассаживаются за столы, я уточняю какими цветами будем рисовать и показываю каким способом мы будем рис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ти подходят и показывают, как они будут рисовать листоч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234040" y="1752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234040" y="3962520"/>
            <a:ext cx="2577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уем листоп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зкульт. Мину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,два, три, четыре, пять-(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агать н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каждый должен знать.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ест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ето, осень и зима,    (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уки поднять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потом придет весна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хлопаем в ладош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ы теперь друг друга спроси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настало нынче?  (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вести руки 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ЕНЬ!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ороны и посмотр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уг на друг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635280" y="1773360"/>
            <a:ext cx="2238480" cy="1679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4932360" y="3716280"/>
            <a:ext cx="2687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готовые работы выставляем на доску, рассматрива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йка хвалит детей, просит забрать работы с собой в лес, чтобы подарить другим лесным жителя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234040" y="1752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2340000" y="386064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19280" y="2492280"/>
            <a:ext cx="51055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09:26:07Z</dcterms:created>
  <dc:creator>Пользователь</dc:creator>
  <dc:description/>
  <dc:language>en-US</dc:language>
  <cp:lastModifiedBy>Пользователь</cp:lastModifiedBy>
  <dcterms:modified xsi:type="dcterms:W3CDTF">2012-10-28T11:02:04Z</dcterms:modified>
  <cp:revision>4</cp:revision>
  <dc:subject/>
  <dc:title>Слайд 1</dc:title>
</cp:coreProperties>
</file>